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65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0440" y="0"/>
            <a:ext cx="3038400" cy="4665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7560"/>
            <a:ext cx="3038400" cy="46692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ea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0440" y="8827560"/>
            <a:ext cx="3038400" cy="4669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ar-SA" sz="1200" spc="-1" strike="noStrike">
                <a:solidFill>
                  <a:srgbClr val="000000"/>
                </a:solidFill>
                <a:latin typeface="Arial"/>
                <a:ea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8B97307-1D27-4B01-85A9-21A46756186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ohchr.org/"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هداف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لإبراز:</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سياسية التي حدثت في الأمم المتحدة منذ عام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بالنسبة إ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وّر حقوق الإنسان ضمن منظومة الأمم المتحدة الأوسع (الروابط مع السلام والأمن و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تنمية، والسلام والأمن، والنوع الاجتماعي.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لتزامات وأوامر المسير على نطاق منظومة الأمم المتحدة وعلى مستوى وكالاتها (التطورات المؤسس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رسائل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عُ وقوع النزاع المسلح وإحقاقُ حقوق الإنسان موضوعان مترابطان بقوة </a:t>
            </a:r>
            <a:r>
              <a:rPr b="1" i="1" lang="ar-JO" sz="1200" spc="-1" strike="noStrike">
                <a:solidFill>
                  <a:srgbClr val="000000"/>
                </a:solidFill>
                <a:latin typeface="Arial"/>
                <a:ea typeface="Arial"/>
              </a:rPr>
              <a:t>– لكنهما لا يعتبران الشيء نف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بد من التمييز ما بين النزاع بحد ذاته والنزاع العنفي. إن النزاعات، كحالات لعدم المساواة في السلطة، هي خصائص موجودة دائماً في الحياة البشرية والمجتمعات البشر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الجميع يعيشون تجربة بعض أشكال النزاع في حياتهم اليومية، وغالباً ما تساعد هذه النزاعات بشكل إيجابي على تحوّل الأوضاع والحالات الشخصية. وتعتبر النزاعات جزءاً طبيعياً من التفاعل الإنساني، إضافة إلى كونها ضرورية للتغيير الاجتماعي. وعندما تفتقر المجتمعات إلى أدوات وآليات عمل فعّالة للإدارة البناءة للخلافات، قد يصبح النزاع عنيفاً ومدمر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نزاع العنفي يمنع إحقاق حقوق الإنسان، بشكل مباشر وغير مباشر: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ؤدي النزاعُ العنفي إلى انتهاكات </a:t>
            </a:r>
            <a:r>
              <a:rPr b="1" i="1" lang="ar-JO" sz="1200" spc="-1" strike="noStrike">
                <a:solidFill>
                  <a:srgbClr val="000000"/>
                </a:solidFill>
                <a:latin typeface="Arial"/>
                <a:cs typeface="Arial"/>
              </a:rPr>
              <a:t>مباشرة</a:t>
            </a:r>
            <a:r>
              <a:rPr b="1" lang="ar-JO" sz="1200" spc="-1" strike="noStrike">
                <a:solidFill>
                  <a:srgbClr val="000000"/>
                </a:solidFill>
                <a:latin typeface="Arial"/>
                <a:ea typeface="Arial"/>
              </a:rPr>
              <a:t> لحقوق الإنسان (مثل: الحق في الحياة، والحق في الحرية من المعاملة اللاإنسانية والمهين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نع النزاع العنفي إحقاق حقوق الإنسان بشكل غير مباشر، فعلى سبيل المثال: يُحدث النزاع العنفي آثاراً مدمرة في الاقتصادات، وبناء على ذلك، فإنه يَحُول دون إحقاق الحقوق الاقتصادية والاجتماعية.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عدم إحقاق حقوق الإنسان غالباً من الأسباب الجذرية للنزاع العنفي – فعلى سبيل المثال، غالباً ما تكون نماذج التمييز ضد الأقليات الشرارات التي تسبِّب اندلاع النزاع المسلح والأَزمة. وبالمثل، قد يؤدي فشل الدولة في الكشف عن الفساد وضمان رفاه شعبها إلى الجَيَشان والاضطراب السياسيين، الأمر الذي قد يؤدي مجدَّداً إلى تصعيد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ea typeface="Arial"/>
              </a:rPr>
              <a:t> تُعتبر حماية حقوق الإنسان وتعزيزها مكونات أساسية لأية استراتيجية لمنع النزاع المسل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مثل انتهاكات حقوق الإنسان مؤشراً لنشوء النزاعات العنفية أو لتصعيد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على سبيل المثال، وفي العديد من الأوضاع، فإن ازدياد العنف القائم على النوع الاجتماعي يشير إلى ازدياد في عسكرة (إضفاء الصبغة العسكرية على) المجتمع، ومن ثم إلى ازدياد خطر النزاع العنف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cs typeface="Arial"/>
              </a:rPr>
              <a:t>، يجب أن يكون النظر إلى حقوق الإنسان جزءاً لا يتجزأ من أنظمة الإنذار المبك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رغم من ذلك، فإن حماية حقوق الإنسان وتعزيزها، والحد من النزاع المسلح لا يُعتبران الشيء نفسه: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قد تُحْدِثُ الجهود المبذولة للحد من نشوء النزاع العنفي على المدى القصير أيضاً آثاراً سلبية على تعزيز حقوق الإنسان وحمايتها. فعلى سبيل المثال، قد تعمل اتفاقيات تشارك السلطة، التي تهدف إلى إنهاء النزاع في البيئات المباشرة التي تنشأ ما بعد النزاع، على شَرْعَنَةِ (إضفاء الصبغة الشرعية على) الجهات الفاعلة والمشاركة في النزاع، وهي جهات لها سجل سيء في مجال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تؤدي جميع انتهاكات حقوق الإنسان إلى النزاع العنفي، فمن الممكن ألاّ تلجأ المجموعات الضعيفة المعرضة للمخاطر في المجتمعات إلى العنف حتى لو انتُهكت حقوق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ثبت الأدلة أنَّ الدول الدكتاتورية، التي تُقمع فيها الحريات المدنية بشكل نظامي ممنهج، تميل إلى أن تكون أقلَّ عُرضةً للعنف مقارنةً بالدول التي تمنح فسحةً محدودةً للحرية. وقد تم اشتقاق مفهوم "السلام السلبي" للإشارة إلى تلك الأوضاع التي لا يوجد فيها عنف ظاهر للعيان، بينما لا يسودها العدل ولا السلام المستدام أيضاً. ويجب تفهُّم أنَّ منع وقوع النزاع وبناء السلام يهدفان إلى خلق "سلام إيجابي"، يتركّز، بشكل أساسي وغير قابل للانتهاء، على احترام حقوق الإنسان وتعزيز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321840" y="4311720"/>
            <a:ext cx="6289560" cy="4881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لاقة العملية بين حقوق الإنسان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ظهر الشريحةُ أعلاه المدى الذي تَجمعُ فيه الأهدافُ الإنمائية للألفية وحقوق الإنسان بين صفات ومتممات مشتركة. ولكن المسألة العملية/التشغيلية الحاسمة، للدعم المنوي تقديمه إلى عملية التقييم القطري المشترك / إطار عمل الأمم المتحدة للمساعدات الإنمائية، تكمنُ في كيفية استخدام هذين المصدرين في توجيه السياسات، وفي فهمهما وإدراكهما ضمن سياق ا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أهداف الإنمائية للألفية إطار عملي / تشغيلي جاهز لتعزيز الدعم يهدف إلى تحقيق الأهداف الإنمائية المتفق عليها عالمياً. وكما تم التأكيد على ذلك في إعلان الألفية، يعتبر إحقاق حقوق الإنسان جزءاً لا يتجزأ من تحقيق الأهداف الإنمائية ت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لا يُنظر إلى حقوق الإنسان والأهداف الإنمائية للألفية على أنها تتطلب عمليات وأطر عمل برامجية منفص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بدلاً عن ذلك، وضمن كل هدف من الأهداف الإنمائية للألفية، من المهم تحديد حقوق الإنسان التي ينبغي إحقاقها، بالإضافة إلى تحديد الخطوات التي ينبغي اتخاذها لإحقاق هذه الحقوق ضمن السياق الوطني. فمثلاً، من المهم بمقتضى الهدف الثالث من الأهداف الإنمائية للألفية، دراسة التوجيهات المتوافرة في اتفاقية القضاء على جميع أشكال التمييز ضد المرأة. (يمكن إضافة أمثلة أخرى فيما يتعلق بالأهداف الأخرى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تدابيرُ معيّنة تُلزم اتفاقيةُ القضاء على جميع أشكال التمييز ضد المرأة الدولَ باتخاذها، وذلك للتقدم بالمساواة في النوع الاجتماعي فيها (أي في تلك الدول)، بحيث تكون تلك التدابير نقاطاً مرجعيةً مركزيةً عند تحديد الخطوات التي يمكن اتباعها لتحقيق الهدف الثالث من الأهداف الإنمائية للأل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علومات التالية مقدَّمة كمرجع وكنشرة للتوزي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أو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ضاء على الفقر المدقع والجوع، </a:t>
            </a:r>
            <a:r>
              <a:rPr b="1" lang="ar-JO" sz="1200" spc="-1" strike="noStrike" u="sng">
                <a:solidFill>
                  <a:srgbClr val="000000"/>
                </a:solidFill>
                <a:uFillTx/>
                <a:latin typeface="Arial"/>
                <a:cs typeface="Arial"/>
              </a:rPr>
              <a:t>مسوّدة المبادئ التوجيهية حول نهج حقوق الإنسان لاستراتيجيات الحد من الفق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12</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اتفاقية حقوق الطفل (المادة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ميم التعليم الابتدائي، </a:t>
            </a:r>
            <a:r>
              <a:rPr b="1" lang="ar-JO" sz="1200" spc="-1" strike="noStrike" u="sng">
                <a:solidFill>
                  <a:srgbClr val="000000"/>
                </a:solidFill>
                <a:uFillTx/>
                <a:latin typeface="Arial"/>
                <a:cs typeface="Arial"/>
              </a:rPr>
              <a:t>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1</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8</a:t>
            </a:r>
            <a:r>
              <a:rPr b="1" lang="ar-JO" sz="1200" spc="-1" strike="noStrike">
                <a:solidFill>
                  <a:srgbClr val="000000"/>
                </a:solidFill>
                <a:latin typeface="Arial"/>
                <a:ea typeface="Arial"/>
              </a:rPr>
              <a:t> والمادة </a:t>
            </a:r>
            <a:r>
              <a:rPr b="1" lang="ar-JO" sz="1200" spc="-1" strike="noStrike">
                <a:solidFill>
                  <a:srgbClr val="000000"/>
                </a:solidFill>
                <a:latin typeface="Arial"/>
                <a:ea typeface="Arial"/>
              </a:rPr>
              <a:t>29</a:t>
            </a:r>
            <a:r>
              <a:rPr b="1" lang="ar-JO" sz="1200" spc="-1" strike="noStrike">
                <a:solidFill>
                  <a:srgbClr val="000000"/>
                </a:solidFill>
                <a:latin typeface="Arial"/>
                <a:ea typeface="Arial"/>
              </a:rPr>
              <a:t>) والتعليق العام رقم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اتفاقية القضاء على جميع أشكال التمييز العنصري (المادتان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لث:</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زيز المساواة في النوع الاجتماعي وتمكين المرأة، </a:t>
            </a:r>
            <a:r>
              <a:rPr b="1" lang="ar-JO" sz="1200" spc="-1" strike="noStrike" u="sng">
                <a:solidFill>
                  <a:srgbClr val="000000"/>
                </a:solidFill>
                <a:uFillTx/>
                <a:latin typeface="Arial"/>
                <a:cs typeface="Arial"/>
              </a:rPr>
              <a:t>اتفاقية القضاء على جميع أشكال التمييز ضد المرأة. 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cs typeface="Arial"/>
              </a:rPr>
              <a:t>، الفقرة أ (ط)). </a:t>
            </a:r>
            <a:r>
              <a:rPr b="1" lang="ar-JO" sz="1200" spc="-1" strike="noStrike" u="sng">
                <a:solidFill>
                  <a:srgbClr val="000000"/>
                </a:solidFill>
                <a:uFillTx/>
                <a:latin typeface="Arial"/>
                <a:cs typeface="Arial"/>
              </a:rPr>
              <a:t>العهد الدولي للحقوق المدنية والسياسية </a:t>
            </a:r>
            <a:r>
              <a:rPr b="1" lang="ar-JO" sz="1200" spc="-1" strike="noStrike">
                <a:solidFill>
                  <a:srgbClr val="000000"/>
                </a:solidFill>
                <a:latin typeface="Arial"/>
                <a:ea typeface="Arial"/>
              </a:rPr>
              <a:t>(المواد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a:t>
            </a:r>
            <a:r>
              <a:rPr b="1" lang="ar-JO" sz="1200" spc="-1" strike="noStrike">
                <a:solidFill>
                  <a:srgbClr val="000000"/>
                </a:solidFill>
                <a:latin typeface="Arial"/>
                <a:ea typeface="Arial"/>
              </a:rPr>
              <a:t> (التعليق العام </a:t>
            </a:r>
            <a:r>
              <a:rPr b="1" lang="ar-JO" sz="1200" spc="-1" strike="noStrike">
                <a:solidFill>
                  <a:srgbClr val="000000"/>
                </a:solidFill>
                <a:latin typeface="Arial"/>
                <a:ea typeface="Arial"/>
              </a:rPr>
              <a:t>25</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ر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خفض معدل وفيات الأطفال،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خام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سين صحة الأمهات، </a:t>
            </a:r>
            <a:r>
              <a:rPr b="1" lang="ar-JO" sz="1200" spc="-1" strike="noStrike" u="sng">
                <a:solidFill>
                  <a:srgbClr val="000000"/>
                </a:solidFill>
                <a:uFillTx/>
                <a:latin typeface="Arial"/>
                <a:cs typeface="Arial"/>
              </a:rPr>
              <a:t>اتفاقية القضاء على جميع أشكال التمييز ضد المرأة</a:t>
            </a:r>
            <a:r>
              <a:rPr b="1" lang="ar-JO" sz="1200" spc="-1" strike="noStrike">
                <a:solidFill>
                  <a:srgbClr val="000000"/>
                </a:solidFill>
                <a:latin typeface="Arial"/>
                <a:ea typeface="Arial"/>
              </a:rPr>
              <a:t> (المواد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ح،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ب،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2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هـ -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ميثاق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د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كافحة ڤيروس نقص المناعة البشري/متلازمة نقص المناعة المكتسب (الإيدز)، والملاريا وغيرها من الأمراض، </a:t>
            </a:r>
            <a:r>
              <a:rPr b="1" lang="ar-JO" sz="1200" spc="-1" strike="noStrike" u="sng">
                <a:solidFill>
                  <a:srgbClr val="000000"/>
                </a:solidFill>
                <a:uFillTx/>
                <a:latin typeface="Arial"/>
                <a:cs typeface="Arial"/>
              </a:rPr>
              <a:t>المبادئ التوجيهية الدولية حول متلازمة نقص المناعة البشري المكتسب / الإيدز وحقوق الإنسان، العهد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مان الاستدامة البيئية - مياه الشرب المأمونة: العهد الدولي للحقوق الاقتصادية والاجتماعية والثقافية: التعليق العام رقم </a:t>
            </a:r>
            <a:r>
              <a:rPr b="1" lang="ar-JO" sz="1200" spc="-1" strike="noStrike">
                <a:solidFill>
                  <a:srgbClr val="000000"/>
                </a:solidFill>
                <a:latin typeface="Arial"/>
                <a:ea typeface="Arial"/>
              </a:rPr>
              <a:t>15</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كان الأحياء الفقيرة: العهد الدولي للحقوق الاقتصادية والاجتماعية والثقافية: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4</a:t>
            </a:r>
            <a:r>
              <a:rPr b="1" lang="ar-JO" sz="1200" spc="-1" strike="noStrike" u="sng">
                <a:solidFill>
                  <a:srgbClr val="000000"/>
                </a:solidFill>
                <a:uFillTx/>
                <a:latin typeface="Arial"/>
                <a:cs typeface="Arial"/>
              </a:rPr>
              <a:t>، والتعليق العام رقم </a:t>
            </a:r>
            <a:r>
              <a:rPr b="1" lang="ar-JO" sz="1200" spc="-1" strike="noStrike" u="sng">
                <a:solidFill>
                  <a:srgbClr val="000000"/>
                </a:solidFill>
                <a:uFillTx/>
                <a:latin typeface="Arial"/>
                <a:ea typeface="Arial"/>
              </a:rPr>
              <a:t>7</a:t>
            </a:r>
            <a:r>
              <a:rPr b="1" lang="ar-JO" sz="1200" spc="-1" strike="noStrike">
                <a:solidFill>
                  <a:srgbClr val="000000"/>
                </a:solidFill>
                <a:latin typeface="Arial"/>
                <a:cs typeface="Arial"/>
              </a:rPr>
              <a:t>، اتفاقية حقوق الطفل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م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وير شراكة عالمية للتنمية، </a:t>
            </a:r>
            <a:r>
              <a:rPr b="1" lang="ar-JO" sz="1200" spc="-1" strike="noStrike" u="sng">
                <a:solidFill>
                  <a:srgbClr val="000000"/>
                </a:solidFill>
                <a:uFillTx/>
                <a:latin typeface="Arial"/>
                <a:cs typeface="Arial"/>
              </a:rPr>
              <a:t>ميثاق الأمم المتحد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قوق الإنسان، والمساواة في النوع الاجتماعي،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كَّدت جميع مؤتمرات الأمم المتحدة، التي عُقدت في التسعينيات من القرن الماضي المساواة، في النوع الاجتماعي، وتُوِّجت تلك المؤتمرات بانعقاد القمة الألفية التي أعادت تأكيد هذه المساواة بشكل أكبر. كما أكد إعلان الألفية الضرورة المطلقة للتقدم بالحقوق الإنسانية لجميع الناس من أجل تحقيق هذه الرؤية. وعلى وجه الخصوص، يُعتبر التقدم بالمساواة في النوع الاجتماعي عنصراً ضرورياً حاسماً في التقدم الإنمائي (أو التنموي). ويتعهد الإعلان بصراحة "بمكافحة جميع أشكال العنف ضد المرأة، وبتنفيذ اتفاقية القضاء على جميع أشكال التمييز ضد المرأة." كذلك يدرك الإعلان بشكل أوسع أهمية تعزيز المساواة في النوع الاجتماعي وتمكين المرأة بوصفه مساراً فعّالاً للقضاء على الفقر والجوع والأمراض، ولحفز التنمية المستد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حد الأهداف الإنمائية للألفية يهدف إلى تعزيز المساواة في النوع الاجتماعي – يعمل الهدف الثالث من الأهداف الإنمائية للألفية على تعزيز المساواة في النوع الاجتماعي وتمكين المرأة. وبالرغم من ذلك، يجب التذكّر أنَّ جميع الأهداف الأخرى مترابطة أيضاً مع حقوق الإنسان بطريقة تعمل على إحقاقها. ويعتبر تحقيق هدف المساواة في النوع الاجتماعي أساسياً لتحقيق جميع الأهداف الأخرى. وبالتالي فإن تحليل النوع الاجتماعي جزء لا يتجزأ من جميع عمليات التخطيط والبرامج المصممة لتحقيق كل هدف من هذه الأهداف. ويكشف تحليل بُعْدُ النوع الاجتماعي لكل من الأهداف الإنمائية للألفية، ودراسةُ كل هدف من منظور حقوق الإنسان عدداً من القضايا والأسباب المعقدة المتشابكة، ويمكن توضيح ذلك فيما يتعلق بالجوع وسوء التغذية وصحة الأمهات والأطفال. وفي هذا السياق، من المهم إدراك أن الظروف الاجتماعية غير المتساوية والممارسات الإقصائية تستمر في العمل على حرمان النساء والفتيات من فرصة الوصول المتساوية إلى الغذاء والرعاية الصحية، وبذلك يُحرمن من حقوقهن الإنسا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696960"/>
            <a:ext cx="4648320" cy="3486240"/>
          </a:xfrm>
          <a:prstGeom prst="rect">
            <a:avLst/>
          </a:prstGeom>
          <a:ln w="0">
            <a:noFill/>
          </a:ln>
        </p:spPr>
      </p:sp>
      <p:sp>
        <p:nvSpPr>
          <p:cNvPr id="59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الات الأمم المتحدة وصناديقها ومنظومة الأمم المتحدة ككل تعمل على تطبيق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وكالات الأمم المتحدة وبرامجها، وما تزال تعمل على إدماج حقوق الإنسان في جميع نشاطاتها وبرامجها منذ عام </a:t>
            </a:r>
            <a:r>
              <a:rPr b="0" lang="ar-JO" sz="1200" spc="-1" strike="noStrike">
                <a:solidFill>
                  <a:srgbClr val="000000"/>
                </a:solidFill>
                <a:latin typeface="Arial"/>
                <a:ea typeface="Arial"/>
              </a:rPr>
              <a:t>1997</a:t>
            </a:r>
            <a:r>
              <a:rPr b="0" lang="ar-JO" sz="1200" spc="-1" strike="noStrike">
                <a:solidFill>
                  <a:srgbClr val="000000"/>
                </a:solidFill>
                <a:latin typeface="Arial"/>
                <a:ea typeface="Arial"/>
              </a:rPr>
              <a:t>. وتعمل بعض الوكالات فعلياً على تحديث مبادئها التوجيهية المتعلقة بالبرامج والسياسات، لكي تبيِّن التفاهم أو الفهم المشترك للأمم المتحدة لعملية الإدماج هذه. وتستخدم مكاتب الأمم المتحدة القُطرية النهج القائم على حقوق الإنسان، بشكل متزايد، في إعدادها للتقييم القطري المشترك وإطار عمل الأمم المتحدة للمساعدات الإنمائية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بعض وكالات الأمم المتحدة وصناديقها وبرامجها، مثل </a:t>
            </a:r>
            <a:r>
              <a:rPr b="1" i="1" lang="ar-JO" sz="1200" spc="-1" strike="noStrike">
                <a:solidFill>
                  <a:srgbClr val="000000"/>
                </a:solidFill>
                <a:latin typeface="Arial"/>
                <a:cs typeface="Arial"/>
              </a:rPr>
              <a:t>برنامج الأمم المتحدة الإنمائي، ومنظمة الأمم المتحدة للطفولة (يونيسف)، وصندوق الأمم المتحدة لتنمية المرأة، وصندوق الأمم المتحدة للسكان، ومنظمة الصحة العالمية وغيرها، </a:t>
            </a:r>
            <a:r>
              <a:rPr b="0" lang="ar-JO" sz="1200" spc="-1" strike="noStrike">
                <a:solidFill>
                  <a:srgbClr val="000000"/>
                </a:solidFill>
                <a:latin typeface="Arial"/>
                <a:cs typeface="Arial"/>
              </a:rPr>
              <a:t>تقدم نماذج جيدة حول كيفية تطبيق النهج القائم على حقوق الإنسان ابتداء من مدى توجيه معايير ومبادئ حقوق الإنسان لعملها ك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إضافة إلى ذلك، تعمل اليونيسف، وصندوق الأمم المتحدة لتنمية المرأة، وصندوق الأمم المتحدة للسكان، عن كثب، مع هيئات المعاهدات الدولية التي تشرف على تنفيذ اتفاقية القضاء على جميع أشكال التمييز ضد المرأة واتفاقية حقوق الطفل، وغيرها من المعاهدات الأساسية لحقوق الإنسان. كما تعمل بعض وكالات الأمم المتحدة الأخرى (منظمة الأغذية والزراعة، ومنظمة الأمم المتحدة للتربية والعلوم والثقافة (يونسكو)، والمنظمة الدولية للهجرة، وبرنامج الأمم المتحدة للمستوطنات البشرية (الموئل)، ومنظمة الصحة العالمية)، عن كثب، مع المقرِّرين الخاصين للمحاور أو للقضايا والمواضيع الرئيسية التي يُعنى بها مجلس حقوق الإنسان. كذلك فإن بعض عمليات حفظ السلام وبعض عمليات بناء السلام تعمل عن كثب كذلك مع مقرِّرين خاصين معنيين بمناطق جغرافية بعينها، حيثما توجد هذه التفويض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ظهر عمليات إدماج حقوق الإنسان في سياسات وممارسات وكالات الأمم المتحدة، وفي برامجها ووكالاتها المتخصصة، التي تم تنفيذها في السنوات الأخيرة، نقطة التلاقي بين حقوق الإنسان والتنمية. ومع أن بعض عمليات الإدماج بلغت مستويات ومراحل مختلفة لدى تلك الوكالات والبرامج، إلا أنّ غالبيتها تسعى، بشكل متزايد، إلى الإسهام في تعزيز وحماية حقوق الإنسان من خلال عملها، بالإضافة إلى إدراك حقوق الإنسان بوصفها أداة مفيدة لتنفيذ الولايات / التفويضات الأساسية لتلك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بدأت المنظمات، التي أقرّت معاهدات معينة لحقوق الإنسان بوصفها أساساً معيارياً لعملها (مثل اليونيسف، وصندوق الأمم المتحدة لتنمية المرأة، وصندوق الأمم المتحدة للسكان) بتطبيق النهج القائم على حقوق الإنسان بشكل أكثر شمولاً في برامجها. وهذا يشمل متابعة عمل هيئات المعاهدات عن كثب واستخدام ملاحظاتها وتوصياتها الختامية بشكل مطّرد، بوصفها مرجعاً توجيهياً ل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يْدَ أنه من المهم التشديد على أنَّ إدماج حقوق الإنسان من خلال منظمة معينة يعني أكثر من وجود وحدة أو قسم/شعبة أو مشروع يتعامل مع حقوق الإنسان، إنه يعني قيام منظمة تتبنى مبادئ ومعايير حقوق الإنسان بوصفها أساساً للأطر المفاهيمية والمنهجية / الأسلوبية لعم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ات المشتركة بين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خلال السنوات الأخيرة، تبنى عدد من وكالات الأمم المتحدة </a:t>
            </a:r>
            <a:r>
              <a:rPr b="1" lang="ar-JO" sz="1200" spc="-1" strike="noStrike">
                <a:solidFill>
                  <a:srgbClr val="000000"/>
                </a:solidFill>
                <a:latin typeface="Arial"/>
                <a:cs typeface="Arial"/>
              </a:rPr>
              <a:t>النهج القائم على حقوق الإنسان</a:t>
            </a:r>
            <a:r>
              <a:rPr b="0" lang="ar-JO" sz="1200" spc="-1" strike="noStrike">
                <a:solidFill>
                  <a:srgbClr val="000000"/>
                </a:solidFill>
                <a:latin typeface="Arial"/>
                <a:ea typeface="Arial"/>
              </a:rPr>
              <a:t> في مجال التعاون التنموي فيما بينها، واكتسبت تلك الوكالات خبرة مهمة في تطبيق هذا النهج على نطاق واسع من النشاطات والبرامج. وفي الجزء الأعظم من النهج، نَزَعَت كل وكالة إلى وضع تفسير خاص بها للنهج وحول كيفية ضرورة تنفيذه. وفي ضوء الزيادة الكبيرة في التعاون المشترك بين وكالات الأمم المتحدة على المستويين العالمي والإقليمي، وعلى المستوى القُطري على وجه الخصوص فيما يتعلق بعمليتي التقييم القطري المشترك وإطار عمل الأمم المتحدة للمساعدات الإنمائية، فقد تم التوصل إلى تفاهم مشترك حول هذا النهج خلال ورشة عمل مشتركة بين الوكالات لمجموعة الأمم المتحدة الإنمائية، عقدت في ستامفورد (الولايات المتحدة الأمريكية) في مايو / أيار عام </a:t>
            </a:r>
            <a:r>
              <a:rPr b="0" lang="ar-JO" sz="1200" spc="-1" strike="noStrike">
                <a:solidFill>
                  <a:srgbClr val="000000"/>
                </a:solidFill>
                <a:latin typeface="Arial"/>
                <a:ea typeface="Arial"/>
              </a:rPr>
              <a:t>2003</a:t>
            </a:r>
            <a:r>
              <a:rPr b="0" lang="ar-JO" sz="1200" spc="-1" strike="noStrike">
                <a:solidFill>
                  <a:srgbClr val="000000"/>
                </a:solidFill>
                <a:latin typeface="Arial"/>
                <a:ea typeface="Arial"/>
              </a:rPr>
              <a:t>. وتبعاً لذلك، فقد صادقت مجموعة الأمم المتحدة الإنمائية على </a:t>
            </a:r>
            <a:r>
              <a:rPr b="1" i="1" lang="ar-JO" sz="1200" spc="-1" strike="noStrike">
                <a:solidFill>
                  <a:srgbClr val="000000"/>
                </a:solidFill>
                <a:latin typeface="Arial"/>
                <a:cs typeface="Arial"/>
              </a:rPr>
              <a:t>بيان الأمم المتحدة حول التفاهم المشترك</a:t>
            </a:r>
            <a:r>
              <a:rPr b="0" i="1" lang="ar-JO" sz="1200" spc="-1" strike="noStrike">
                <a:solidFill>
                  <a:srgbClr val="000000"/>
                </a:solidFill>
                <a:latin typeface="Arial"/>
                <a:cs typeface="Arial"/>
              </a:rPr>
              <a:t>، وتم إدراجه ضمن المبادئ التوجيهية للتقييم القطري المشترك / إطار عمل الأمم المتحدة للمساعدات الإنمائية.</a:t>
            </a:r>
            <a:r>
              <a:rPr b="0" lang="ar-JO" sz="1200" spc="-1" strike="noStrike">
                <a:solidFill>
                  <a:srgbClr val="000000"/>
                </a:solidFill>
                <a:latin typeface="Arial"/>
                <a:ea typeface="Arial"/>
              </a:rPr>
              <a:t> (للمزيد من المعلومات حول بيان الأمم المتحدة للفهم أو للتفاهم المشترك، انظر الفصل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004-2007</a:t>
            </a:r>
            <a:r>
              <a:rPr b="1" lang="ar-JO" sz="1200" spc="-1" strike="noStrike">
                <a:solidFill>
                  <a:srgbClr val="000000"/>
                </a:solidFill>
                <a:latin typeface="Arial"/>
                <a:ea typeface="Arial"/>
              </a:rPr>
              <a:t>: الإجراء الثاني - برنامج عالمي حول تقوية دعم الأمم المتحدة لتعزيز وحماية حقوق الإنسان على نطاق العال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هدف برنامج "الإجراء الثاني" إلى تقوية / تعزيز حقوق الإنسان في جميع مكوِّنات منظومة الأمم المتحدة. وهو عبارة عن برنامج عالمي مصمّم لتقوية قدرات الفرق القطرية للأمم المتحدة بهدف دعم جهود الدول الأعضاء، حسب طلبها، في تقوية أنظمة حماية وتعزيز حقوق الإنسان الوطنية لديها، أثناء تحقيقها للأهداف الإنمائية للألفية. ويضمن برنامج الإجراء الثاني أن تكون الأمم المتحدة مستعدة للاستجابة لتلك التحديات والردّ عليها، وذلك بتعزيز قدرة فرقها القُطرية وتجهيزها بالأدوات العملية، والتدريب، والمشورة، والتشارك في المعرفة، وتقديم بذرة رأس المال لبناء القدرات وتنفيذ البرامج الريادية التجري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ستوى تبنِّي مكاتب الأمم المتحدة القُطرية للنهج القائم على 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إحدى الدراسات التي قُدِّمت في ورشة عمل ستامفورد، (والتي قامت بمراجعة </a:t>
            </a:r>
            <a:r>
              <a:rPr b="0" lang="ar-JO" sz="1200" spc="-1" strike="noStrike">
                <a:solidFill>
                  <a:srgbClr val="000000"/>
                </a:solidFill>
                <a:latin typeface="Arial"/>
                <a:ea typeface="Arial"/>
              </a:rPr>
              <a:t>18</a:t>
            </a:r>
            <a:r>
              <a:rPr b="0" lang="ar-JO" sz="1200" spc="-1" strike="noStrike">
                <a:solidFill>
                  <a:srgbClr val="000000"/>
                </a:solidFill>
                <a:latin typeface="Arial"/>
                <a:ea typeface="Arial"/>
              </a:rPr>
              <a:t> تقييماً قطرياً مشتركاً ضمن إطار عمل الأمم المتحدة للمساعدات الإنمائية، وتقريراً سنوياً للمنسِّقين المقيمين، بهدف تحديد كيفية تطبيق مكاتب الأمم المتحدة القطرية للنهج القائم على حقوق الإنسان وإلى أي مدى يتم ذلك التطبيق) ... عملت على تقديم بعض الأفكار المعمَّقة المفيدة. واستنتجت الدراسة أن معظم مكاتب الأمم المتحدة القطرية تُدمج بشكل متزايد جوانب من النهج القائم على حقوق الإنسان في التقييم القطري المشترك وإطار عمل الأمم المتحدة للمساعدات الإنمائية لديها. وقد احتوت معظم التقييمات القطرية المشتركة / أطر عمل الأمم المتحدة للمساعدات الإنمائية التي تم استعراضها على إشارات مرجعية مباشرة إلى معاهدات حقوق الإنسان الدولية، واتفاقيات حقوق الإنسان الإقليمية، والغايات الإنمائية الدولية، وإلى الأهداف الإنمائية للألفية منذ عهد قريب. غير أنه وفي حالات قليلة جداً، احتوت تلك التقييمات على إشارات مرجعية إلى استنتاجات وتعليقات وتوصيات كل من هيئات معاهدات حقوق الإنسان، التابعة للأمم المتحدة، والمقررين الخاصين ومجموعات أو فرق العمل. وقد تم النظر إلى ذلك بوصفه إغفالاً مهماً وفرصةً حاسمة ضائعة لإدماج مبادئ وتدابير حقوق الإنسان في التخطيط التنموي وطريقة الإشراف ع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ع حقوق الإنسان في صُلب الأساس الذي تقوم عليه منظومة الأمم المتحدة، وتشكِّل إحدى دعاماتها.</a:t>
            </a:r>
            <a:r>
              <a:rPr b="0" lang="ar-JO" sz="1200" spc="-1" strike="noStrike" u="sng">
                <a:solidFill>
                  <a:srgbClr val="000000"/>
                </a:solidFill>
                <a:uFillTx/>
                <a:latin typeface="Arial"/>
                <a:ea typeface="Arial"/>
              </a:rPr>
              <a:t> </a:t>
            </a:r>
            <a:r>
              <a:rPr b="1" lang="ar-JO" sz="1200" spc="-1" strike="noStrike" u="sng">
                <a:solidFill>
                  <a:srgbClr val="000000"/>
                </a:solidFill>
                <a:uFillTx/>
                <a:latin typeface="Arial"/>
                <a:cs typeface="Arial"/>
              </a:rPr>
              <a:t>ولمنظومة الأمم المتحدة التزام بتعزيز</a:t>
            </a:r>
            <a:r>
              <a:rPr b="0" lang="ar-JO" sz="1200" spc="-1" strike="noStrike">
                <a:solidFill>
                  <a:srgbClr val="000000"/>
                </a:solidFill>
                <a:latin typeface="Arial"/>
                <a:ea typeface="Arial"/>
              </a:rPr>
              <a:t> تطبيق حقوق الإنسان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يئة السياسية للأمم المتحدة </a:t>
            </a:r>
            <a:r>
              <a:rPr b="1" lang="ar-JO" sz="1200" spc="-1" strike="noStrike" u="sng">
                <a:solidFill>
                  <a:srgbClr val="000000"/>
                </a:solidFill>
                <a:uFillTx/>
                <a:latin typeface="Arial"/>
                <a:cs typeface="Arial"/>
              </a:rPr>
              <a:t>تمنعنا من أن نصبح مبادِري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ن الروابط الجوهرية / الموضوعية غير قابلة للجدل</a:t>
            </a:r>
            <a:r>
              <a:rPr b="0" lang="ar-JO" sz="1200" spc="-1" strike="noStrike">
                <a:solidFill>
                  <a:srgbClr val="000000"/>
                </a:solidFill>
                <a:latin typeface="Arial"/>
                <a:cs typeface="Arial"/>
              </a:rPr>
              <a:t>، سواء أكان ذلك نظرياً أم عملياً. وبالرغم من ذلك، فإننا ما زلنا بحاجة إلى مواد أكثر دقة واستناداً إلى الأد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قدم الرد المؤسسي </a:t>
            </a:r>
            <a:r>
              <a:rPr b="1" lang="ar-JO" sz="1200" spc="-1" strike="noStrike" u="sng">
                <a:solidFill>
                  <a:srgbClr val="000000"/>
                </a:solidFill>
                <a:uFillTx/>
                <a:latin typeface="Arial"/>
                <a:cs typeface="Arial"/>
              </a:rPr>
              <a:t>أوامر مسير واضحة</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5160"/>
            <a:ext cx="4653000" cy="3489480"/>
          </a:xfrm>
          <a:prstGeom prst="rect">
            <a:avLst/>
          </a:prstGeom>
          <a:ln w="0">
            <a:noFill/>
          </a:ln>
        </p:spPr>
      </p:sp>
      <p:sp>
        <p:nvSpPr>
          <p:cNvPr id="601" name="PlaceHolder 2"/>
          <p:cNvSpPr>
            <a:spLocks noGrp="1"/>
          </p:cNvSpPr>
          <p:nvPr>
            <p:ph type="body"/>
          </p:nvPr>
        </p:nvSpPr>
        <p:spPr>
          <a:xfrm>
            <a:off x="700200" y="4443480"/>
            <a:ext cx="5610240" cy="41860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فاهيم حقوق الإنسان والالتزامات الخاصة ب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نظمة حقوق الإنسان الدولية والإقليمية والوطنية وروابط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هي بالإضافة إلى ذلك تصف آليات العمل الدولية المعنية بحقوق الإنسان (هيئات المعاهدات والإجراءات الخاصة لمجلس حقوق الإنسان)، وتشرح كيفية أدائها لعملها. كذلك فهي تؤكد القيمة المضافة لعمل مكاتب الأمم المتحدة القطرية، وتشتمل على بضع ممارسات فضل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2600" y="695160"/>
            <a:ext cx="4653000" cy="3489480"/>
          </a:xfrm>
          <a:prstGeom prst="rect">
            <a:avLst/>
          </a:prstGeom>
          <a:ln w="0">
            <a:noFill/>
          </a:ln>
        </p:spPr>
      </p:sp>
      <p:sp>
        <p:nvSpPr>
          <p:cNvPr id="603" name="PlaceHolder 2"/>
          <p:cNvSpPr>
            <a:spLocks noGrp="1"/>
          </p:cNvSpPr>
          <p:nvPr>
            <p:ph type="body"/>
          </p:nvPr>
        </p:nvSpPr>
        <p:spPr>
          <a:xfrm>
            <a:off x="474840" y="4416480"/>
            <a:ext cx="6060960" cy="47512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لي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عرض عنوان الشريحة واطلب من المشاركين مناقشة ماهية حقوق الإنسان على كل طاولة، وكتابة ما يتوصلون إليه في جملة واحدة، على بطاقة التصور الذهني للبرامج التشارك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راجع الإجابات ورتبها في مجموعات تحت أيٍّ من النقاط الست المعروضة على الشريحة. بعد ذلك اعرض الشريحة واشرح كل نقطة بالرجوع إلى الإجابات التي زوَّدك بها المشارك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a:t>
            </a:r>
            <a:r>
              <a:rPr b="0" lang="ar-JO" sz="1200" spc="-1" strike="noStrike">
                <a:solidFill>
                  <a:srgbClr val="000000"/>
                </a:solidFill>
                <a:latin typeface="Arial"/>
                <a:cs typeface="Arial"/>
              </a:rPr>
              <a:t>سيساعد هذا الأسلوب المنهجي المشاركين على تطوير ملكية أكبر حول هذا المفهوم وإضفاء الصبغة الذاتية عليه. وسيساعد المدرّب على قياس مستوى المعرفة لدى المشاركين قبل الانتقال إلى جزء ذي طابع نظري أكبر من الشرائ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هي </a:t>
            </a:r>
            <a:r>
              <a:rPr b="1" lang="ar-JO" sz="1200" spc="-1" strike="noStrike">
                <a:solidFill>
                  <a:srgbClr val="000000"/>
                </a:solidFill>
                <a:latin typeface="Arial"/>
                <a:cs typeface="Arial"/>
              </a:rPr>
              <a:t>ضمانات قانونية عامة/عالمية</a:t>
            </a:r>
            <a:r>
              <a:rPr b="0" lang="ar-JO" sz="1200" spc="-1" strike="noStrike">
                <a:solidFill>
                  <a:srgbClr val="000000"/>
                </a:solidFill>
                <a:latin typeface="Arial"/>
                <a:ea typeface="Arial"/>
              </a:rPr>
              <a:t> تحمي الأفراد والمجموعات من الأعمال والإغفالات التي تتدخل في الحريات الأساسية والاستحقاقات وكرامة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ميع حقوق الإنسان </a:t>
            </a:r>
            <a:r>
              <a:rPr b="1" lang="ar-JO" sz="1200" spc="-1" strike="noStrike">
                <a:solidFill>
                  <a:srgbClr val="000000"/>
                </a:solidFill>
                <a:latin typeface="Arial"/>
                <a:cs typeface="Arial"/>
              </a:rPr>
              <a:t>غير قابلة للتجزئة والانفصال عن بعضها بعضاً، </a:t>
            </a:r>
            <a:r>
              <a:rPr b="0" lang="ar-JO" sz="1200" spc="-1" strike="noStrike">
                <a:solidFill>
                  <a:srgbClr val="000000"/>
                </a:solidFill>
                <a:latin typeface="Arial"/>
                <a:cs typeface="Arial"/>
              </a:rPr>
              <a:t>وذلك يعني أنها </a:t>
            </a:r>
            <a:r>
              <a:rPr b="1" lang="ar-JO" sz="1200" spc="-1" strike="noStrike">
                <a:solidFill>
                  <a:srgbClr val="000000"/>
                </a:solidFill>
                <a:latin typeface="Arial"/>
                <a:cs typeface="Arial"/>
              </a:rPr>
              <a:t>سواء أكانت حقوقاً ذات طبيعة مدنية أم ثقافية أم اقتصادية أم سياسية أم اجتماعية،</a:t>
            </a:r>
            <a:r>
              <a:rPr b="0" lang="ar-JO" sz="1200" spc="-1" strike="noStrike">
                <a:solidFill>
                  <a:srgbClr val="000000"/>
                </a:solidFill>
                <a:latin typeface="Arial"/>
                <a:ea typeface="Arial"/>
              </a:rPr>
              <a:t> فإنها </a:t>
            </a:r>
            <a:r>
              <a:rPr b="1" lang="ar-JO" sz="1200" spc="-1" strike="noStrike">
                <a:solidFill>
                  <a:srgbClr val="000000"/>
                </a:solidFill>
                <a:latin typeface="Arial"/>
                <a:cs typeface="Arial"/>
              </a:rPr>
              <a:t>جمعيها</a:t>
            </a:r>
            <a:r>
              <a:rPr b="0" lang="ar-JO" sz="1200" spc="-1" strike="noStrike">
                <a:solidFill>
                  <a:srgbClr val="000000"/>
                </a:solidFill>
                <a:latin typeface="Arial"/>
                <a:ea typeface="Arial"/>
              </a:rPr>
              <a:t> ملازمة للكرامة الإنسانية لكل كائن بشري. وتبعاً لذلك، فإن جميع الحقوق لها مكانة متساوية، ولا يمكن تصنيفها أو ترتيبها وفقاً لتصنيف معين. كذلك فإن حقوق الإنسان </a:t>
            </a:r>
            <a:r>
              <a:rPr b="1" lang="ar-JO" sz="1200" spc="-1" strike="noStrike">
                <a:solidFill>
                  <a:srgbClr val="000000"/>
                </a:solidFill>
                <a:latin typeface="Arial"/>
                <a:cs typeface="Arial"/>
              </a:rPr>
              <a:t>مترابطة ومتشابكة، </a:t>
            </a:r>
            <a:r>
              <a:rPr b="0" lang="ar-JO" sz="1200" spc="-1" strike="noStrike">
                <a:solidFill>
                  <a:srgbClr val="000000"/>
                </a:solidFill>
                <a:latin typeface="Arial"/>
                <a:cs typeface="Arial"/>
              </a:rPr>
              <a:t>مما يعني أن إحقاق حق واحد منها يعتمد، كلياً أو جزئياً، على إحقاق الحقوق الأخر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a:t>
            </a:r>
            <a:r>
              <a:rPr b="1" lang="ar-JO" sz="1200" spc="-1" strike="noStrike">
                <a:solidFill>
                  <a:srgbClr val="000000"/>
                </a:solidFill>
                <a:latin typeface="Arial"/>
                <a:cs typeface="Arial"/>
              </a:rPr>
              <a:t>تحمي الأفراد </a:t>
            </a:r>
            <a:r>
              <a:rPr b="0" lang="ar-JO" sz="1200" spc="-1" strike="noStrike">
                <a:solidFill>
                  <a:srgbClr val="000000"/>
                </a:solidFill>
                <a:latin typeface="Arial"/>
                <a:ea typeface="Arial"/>
              </a:rPr>
              <a:t>– وإلى حد ما – تحمي الجماعات. ويمكن ضمان حقوق معينة فقط من خلال إدراك وحماية حقوق الأفراد بصفتهم أعضاء من المجموعة. ويشير مصطلح "الحقوق الجماعية" إلى حقوق هؤلاء الشعوب والمجموعات، بما فيها الأقليات الإثنية والدينية والسكان الأصلي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إن المعاهدات، بما فيها معاهدات حقوق الإنسان الدولية الأساسية السبع، وهي: العهد الدولي للحقوق المدنية والسياسية، والعهد الدولي للحقوق الاقتصادية والاجتماعية والثقافية، واتفاقية القضاء على جميع أشكال التمييز العنصري، واتفاقية القضاء على جميع أشكال التمييز ضد المرأة، واتفاقية مناهضة التعذيب وغيره من ضروب المعاملة أو العقوبة القاسية أو اللاإنسانية أو المهينة، واتفاقية حقوق الطفل، والاتفاقية الدولية لحماية حقوق جميع العمال وأفراد أسرهم – تقدم</a:t>
            </a:r>
            <a:r>
              <a:rPr b="1" lang="ar-JO" sz="1200" spc="-1" strike="noStrike">
                <a:solidFill>
                  <a:srgbClr val="000000"/>
                </a:solidFill>
                <a:latin typeface="Arial"/>
                <a:ea typeface="Arial"/>
              </a:rPr>
              <a:t> الإطار المعياري لمعايير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اهدات حقوق الإنسان </a:t>
            </a:r>
            <a:r>
              <a:rPr b="1" lang="ar-JO" sz="1200" spc="-1" strike="noStrike">
                <a:solidFill>
                  <a:srgbClr val="000000"/>
                </a:solidFill>
                <a:latin typeface="Arial"/>
                <a:cs typeface="Arial"/>
              </a:rPr>
              <a:t>ملزمة قانونياً للدول الأطراف،</a:t>
            </a:r>
            <a:r>
              <a:rPr b="0" lang="ar-JO" sz="1200" spc="-1" strike="noStrike">
                <a:solidFill>
                  <a:srgbClr val="000000"/>
                </a:solidFill>
                <a:latin typeface="Arial"/>
                <a:ea typeface="Arial"/>
              </a:rPr>
              <a:t> التي يتوجب عليها إبلاغ هيئة المعاهدة المُراقِبة ذات العلاقة، عن التقدم الذي يتم إحرازه في التنفيذ/التطبي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شكل عام، فإن ا</a:t>
            </a:r>
            <a:r>
              <a:rPr b="1" lang="ar-JO" sz="1200" spc="-1" strike="noStrike">
                <a:solidFill>
                  <a:srgbClr val="000000"/>
                </a:solidFill>
                <a:latin typeface="Arial"/>
                <a:cs typeface="Arial"/>
              </a:rPr>
              <a:t>لدولة هي التي تحمل الالتزام الأساسي</a:t>
            </a:r>
            <a:r>
              <a:rPr b="0" lang="ar-JO" sz="1200" spc="-1" strike="noStrike">
                <a:solidFill>
                  <a:srgbClr val="000000"/>
                </a:solidFill>
                <a:latin typeface="Arial"/>
                <a:ea typeface="Arial"/>
              </a:rPr>
              <a:t> باحترام وتأكيد وجود ضمانات حقوق الإنسان </a:t>
            </a:r>
            <a:r>
              <a:rPr b="1" lang="ar-JO" sz="1200" spc="-1" strike="noStrike">
                <a:solidFill>
                  <a:srgbClr val="000000"/>
                </a:solidFill>
                <a:latin typeface="Arial"/>
                <a:cs typeface="Arial"/>
              </a:rPr>
              <a:t>بمقتضى القانون الدولي.</a:t>
            </a:r>
            <a:r>
              <a:rPr b="0" lang="ar-JO" sz="1200" spc="-1" strike="noStrike">
                <a:solidFill>
                  <a:srgbClr val="000000"/>
                </a:solidFill>
                <a:latin typeface="Arial"/>
                <a:ea typeface="Arial"/>
              </a:rPr>
              <a:t> بَيْدَ أن الإدراك المطّرد بأن الجهات الفاعلة غير الحكومية، بما فيها الشركات الكبرى والمنظمات الدولية، قد تتحمل بطريقة مماثلة، مسؤولية بدرجات متفاوتة بمقتضى أدوات / صكوك حقوق الإنسان الدو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a:t>
            </a:r>
            <a:r>
              <a:rPr b="0" lang="ar-JO" sz="1200" spc="-1" strike="noStrike">
                <a:solidFill>
                  <a:srgbClr val="000000"/>
                </a:solidFill>
                <a:latin typeface="Arial"/>
                <a:ea typeface="Arial"/>
              </a:rPr>
              <a:t>: سيتم التطرق إلى مفهوم أصحاب الحقوق والقائمين بالواجبات ضمن سياق البرمجة بشكل أكثر تفصيلاً في الجلسة الرابعة. وفي هذه الجلسة، فإننا نركّز على العلاقة بين الأفراد والدولة بمقتضى القانون الدول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2600" y="695160"/>
            <a:ext cx="4653000" cy="3489480"/>
          </a:xfrm>
          <a:prstGeom prst="rect">
            <a:avLst/>
          </a:prstGeom>
          <a:ln w="0">
            <a:noFill/>
          </a:ln>
        </p:spPr>
      </p:sp>
      <p:sp>
        <p:nvSpPr>
          <p:cNvPr id="605" name="PlaceHolder 2"/>
          <p:cNvSpPr>
            <a:spLocks noGrp="1"/>
          </p:cNvSpPr>
          <p:nvPr>
            <p:ph type="body"/>
          </p:nvPr>
        </p:nvSpPr>
        <p:spPr>
          <a:xfrm>
            <a:off x="398160" y="4416480"/>
            <a:ext cx="6289560" cy="45482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واصلةً للفكرة المعروضة في الشريحة السابقة، والتي تنص على أن الدولة هي الجهة الأساسية القائمة بالواجبات بمقتضى القانون الدولي، فإننا نشرح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دول الأطراف لديها التزامات محددة باحترام وحماية وإحقاق الحقوق التي تقرها المعاهدة، وبالقيام بالأعمال الضرورية لتنفيذها. وتستلزم جميع الحقوق، بدرجات مختلفة، فرض التزامات </a:t>
            </a:r>
            <a:r>
              <a:rPr b="1" i="1" lang="ar-JO" sz="1200" spc="-1" strike="noStrike">
                <a:solidFill>
                  <a:srgbClr val="000000"/>
                </a:solidFill>
                <a:latin typeface="Arial"/>
                <a:cs typeface="Arial"/>
              </a:rPr>
              <a:t>آنيةً في نوعها</a:t>
            </a:r>
            <a:r>
              <a:rPr b="1" lang="ar-JO" sz="1200" spc="-1" strike="noStrike">
                <a:solidFill>
                  <a:srgbClr val="000000"/>
                </a:solidFill>
                <a:latin typeface="Arial"/>
                <a:cs typeface="Arial"/>
              </a:rPr>
              <a:t>، كالالتزام مثلاً بعدم التمييز في إحقاق الحق محلَّ النقاش. وفي حالات الحقوق الاقتصادية والاجتماعية والثقافية، على وجه الخصوص، قد تكون الالتزامات </a:t>
            </a:r>
            <a:r>
              <a:rPr b="1" i="1" lang="ar-JO" sz="1200" spc="-1" strike="noStrike">
                <a:solidFill>
                  <a:srgbClr val="000000"/>
                </a:solidFill>
                <a:latin typeface="Arial"/>
                <a:cs typeface="Arial"/>
              </a:rPr>
              <a:t>تدريجية</a:t>
            </a:r>
            <a:r>
              <a:rPr b="1" lang="ar-JO" sz="1200" spc="-1" strike="noStrike">
                <a:solidFill>
                  <a:srgbClr val="000000"/>
                </a:solidFill>
                <a:latin typeface="Arial"/>
                <a:ea typeface="Arial"/>
              </a:rPr>
              <a:t> في نوعها أيضاً، حيث يخضع الحق لقيود تتعلق بالموارد.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التزام </a:t>
            </a:r>
            <a:r>
              <a:rPr b="1" i="1" lang="ar-JO" sz="1200" spc="-1" strike="noStrike">
                <a:solidFill>
                  <a:srgbClr val="000000"/>
                </a:solidFill>
                <a:latin typeface="Arial"/>
                <a:cs typeface="Arial"/>
              </a:rPr>
              <a:t>باحترام</a:t>
            </a:r>
            <a:r>
              <a:rPr b="1" lang="ar-JO" sz="1200" spc="-1" strike="noStrike">
                <a:solidFill>
                  <a:srgbClr val="000000"/>
                </a:solidFill>
                <a:latin typeface="Arial"/>
                <a:ea typeface="Arial"/>
              </a:rPr>
              <a:t> الحقوق الإنسانية لجميع الناس ضمن الاختصاص القضائي للدولة، يعني </a:t>
            </a:r>
            <a:r>
              <a:rPr b="1" lang="ar-JO" sz="1200" spc="-1" strike="noStrike" u="sng">
                <a:solidFill>
                  <a:srgbClr val="000000"/>
                </a:solidFill>
                <a:uFillTx/>
                <a:latin typeface="Arial"/>
                <a:cs typeface="Arial"/>
              </a:rPr>
              <a:t>الامتناع عن ممارسة أي سلوك أو نشاط</a:t>
            </a:r>
            <a:r>
              <a:rPr b="1" lang="ar-JO" sz="1200" spc="-1" strike="noStrike">
                <a:solidFill>
                  <a:srgbClr val="000000"/>
                </a:solidFill>
                <a:latin typeface="Arial"/>
                <a:ea typeface="Arial"/>
              </a:rPr>
              <a:t> ينتهك حقوق الإنسان. ويتطلب هذا الالتزام من الدول ضمان احترام حقوق الإنسان بشكل تام في سياسات الدولة وقوانينها وأعمالها، بما في ذلك احترام حقوق الإنسان للموظفين العام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إن الالتزام </a:t>
            </a:r>
            <a:r>
              <a:rPr b="1" i="1" lang="ar-JO" sz="1200" spc="-1" strike="noStrike">
                <a:solidFill>
                  <a:srgbClr val="000000"/>
                </a:solidFill>
                <a:latin typeface="Arial"/>
                <a:cs typeface="Arial"/>
              </a:rPr>
              <a:t>بحماية</a:t>
            </a:r>
            <a:r>
              <a:rPr b="1" lang="ar-JO" sz="1200" spc="-1" strike="noStrike">
                <a:solidFill>
                  <a:srgbClr val="000000"/>
                </a:solidFill>
                <a:latin typeface="Arial"/>
                <a:ea typeface="Arial"/>
              </a:rPr>
              <a:t> الحقوق الإنسانية لجميع الناس من دون </a:t>
            </a:r>
            <a:r>
              <a:rPr b="1" lang="ar-JO" sz="1200" spc="-1" strike="noStrike" u="sng">
                <a:solidFill>
                  <a:srgbClr val="000000"/>
                </a:solidFill>
                <a:uFillTx/>
                <a:latin typeface="Arial"/>
                <a:cs typeface="Arial"/>
              </a:rPr>
              <a:t>تمييز في الانتهاكات التي تقترفها الجهات الفاعلة الحكومية وغير الحكومية، </a:t>
            </a:r>
            <a:r>
              <a:rPr b="1" lang="ar-JO" sz="1200" spc="-1" strike="noStrike">
                <a:solidFill>
                  <a:srgbClr val="000000"/>
                </a:solidFill>
                <a:latin typeface="Arial"/>
                <a:cs typeface="Arial"/>
              </a:rPr>
              <a:t>بمن فيها الأفراد والجماعات والمؤسسات والشركات الكبرى، يتطلب من الدول ضمان أن يتمتع الجميع بحقوقهم الإنسانية ضمن اختصاصها وسلطاتها القضائية، وذلك عن طريق حماية حقوقهم الإنسانية من أعمال الأفراد والجماعات، بمن فيهم الشركات الكبرى والمؤسسات والهيئات العامة والخاصة. ويتم تحقيق هذه الحماية، بشكل أساسي، من خلال سنِّ القوانين ووضع تدابير لردِّ الحقوق إلى نصابها، ومن خلال آليات العمل الوطنية لمراقبة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a:t>
            </a:r>
            <a:r>
              <a:rPr b="1" i="1" lang="ar-JO" sz="1200" spc="-1" strike="noStrike">
                <a:solidFill>
                  <a:srgbClr val="000000"/>
                </a:solidFill>
                <a:latin typeface="Arial"/>
                <a:cs typeface="Arial"/>
              </a:rPr>
              <a:t>بإحقاق</a:t>
            </a:r>
            <a:r>
              <a:rPr b="1" lang="ar-JO" sz="1200" spc="-1" strike="noStrike">
                <a:solidFill>
                  <a:srgbClr val="000000"/>
                </a:solidFill>
                <a:latin typeface="Arial"/>
                <a:ea typeface="Arial"/>
              </a:rPr>
              <a:t> (أو بضمان) حقوق الإنسان عن طريق خلق </a:t>
            </a:r>
            <a:r>
              <a:rPr b="1" lang="ar-JO" sz="1200" spc="-1" strike="noStrike" u="sng">
                <a:solidFill>
                  <a:srgbClr val="000000"/>
                </a:solidFill>
                <a:uFillTx/>
                <a:latin typeface="Arial"/>
                <a:cs typeface="Arial"/>
              </a:rPr>
              <a:t>بيئة تمكينية</a:t>
            </a:r>
            <a:r>
              <a:rPr b="1" lang="ar-JO" sz="1200" spc="-1" strike="noStrike">
                <a:solidFill>
                  <a:srgbClr val="000000"/>
                </a:solidFill>
                <a:latin typeface="Arial"/>
                <a:ea typeface="Arial"/>
              </a:rPr>
              <a:t> من خلال جميع الوسائل الملائمة، ولا سيّما من خلال تخصيص وتوزيع الموارد. ويتطلب هذا الالتزام من الدول وضع تدابير لضمان إحقاق حقوق الإنسان، مثل التدابير التشريعية أو الإدارية أو غيرها وذلك لجعل الحقوق المُحددة في المعاهدة ذات جدوى. إن العهد الدولي للحقوق الاقتصادية والاجتماعية والثقافية واتفاقية حقوق الطفل كلاهما ينصَّان على أن الدولة يجب "أن تتخذ الخطوات، وفق أقصى ما يتوافر لديها من الموارد، صوب الإنجاز التدريجي للإحقاق الكامل لحقوق الأطفال". وبناء على ذلك، يجب على الدولة اتخاذ خطوات، مثل وضع الأهداف والغايات والأطر الزمنية لخططها الوطنية لإحقاق الحقوق، الأمر الذي قد يشتمل أيضاً على السعي إلى الحصول على مساعدات إنمائية دولية. ويشتمل الالتزام بإحقاق الحقوق على تعزيز احترام حقوق الإنسان والحريات الأساسية من خلال التثقيف </a:t>
            </a:r>
            <a:r>
              <a:rPr b="1" lang="ar-JO" sz="1200" spc="-1" strike="noStrike" u="sng">
                <a:solidFill>
                  <a:srgbClr val="000000"/>
                </a:solidFill>
                <a:uFillTx/>
                <a:latin typeface="Arial"/>
                <a:cs typeface="Arial"/>
              </a:rPr>
              <a:t>بحقوق الإنسان والتدريب عليها</a:t>
            </a:r>
            <a:r>
              <a:rPr b="1" lang="ar-JO" sz="1200" spc="-1" strike="noStrike">
                <a:solidFill>
                  <a:srgbClr val="000000"/>
                </a:solidFill>
                <a:latin typeface="Arial"/>
                <a:ea typeface="Arial"/>
              </a:rPr>
              <a:t> مثلاً، وضمان أن تكون معايير ومبادئ حقوق الإنسان، التي أقرتها معاهدات حقوق الإنسان معروفة على نطاق واسع، إضافة إلى ضمان جميع التدابير الضرورية لمنع وقوع انتهاكات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5160"/>
            <a:ext cx="4653000" cy="3489480"/>
          </a:xfrm>
          <a:prstGeom prst="rect">
            <a:avLst/>
          </a:prstGeom>
          <a:ln w="0">
            <a:noFill/>
          </a:ln>
        </p:spPr>
      </p:sp>
      <p:sp>
        <p:nvSpPr>
          <p:cNvPr id="607" name="PlaceHolder 2"/>
          <p:cNvSpPr>
            <a:spLocks noGrp="1"/>
          </p:cNvSpPr>
          <p:nvPr>
            <p:ph type="body"/>
          </p:nvPr>
        </p:nvSpPr>
        <p:spPr>
          <a:xfrm>
            <a:off x="700200" y="4376880"/>
            <a:ext cx="5610240" cy="418608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رسائل الأساسية التي يحاول الرسم البياني إيصالها هي أن أنظمة الحماية (الدولية والإقليمية والوطنية) يجب أن ينظر إليها بوصفها جسم كلي يتكوّن من آليات العمل القانونية الواجب استخدامها لأغراض احترام وحماية وإحقاق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مقدّم العرض: اعرض الشرائح خطوة فخطوة (تدريجياً) لتوضيح كل عنصر فيها والرابط بينه وبين بقية العناصر حال ظهور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ميثاقُ الأمم المتحدة </a:t>
            </a:r>
            <a:r>
              <a:rPr b="0" lang="ar-JO" sz="1200" spc="-1" strike="noStrike">
                <a:solidFill>
                  <a:srgbClr val="000000"/>
                </a:solidFill>
                <a:latin typeface="Arial"/>
                <a:ea typeface="Arial"/>
              </a:rPr>
              <a:t>(سان فرانسيسكو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الإعلان العالمي لحقوق الإنسان</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1948</a:t>
            </a:r>
            <a:r>
              <a:rPr b="0" lang="ar-JO" sz="1200" spc="-1" strike="noStrike">
                <a:solidFill>
                  <a:srgbClr val="000000"/>
                </a:solidFill>
                <a:latin typeface="Arial"/>
                <a:ea typeface="Arial"/>
              </a:rPr>
              <a:t>) هما الأساس الذي بُني عليه الجسم الأساسي للإطار المعياري الدولي لحقوق الإنسان. كذلك فهما مصدر الإلهام لما تلاهما من </a:t>
            </a:r>
            <a:r>
              <a:rPr b="1" lang="ar-JO" sz="1200" spc="-1" strike="noStrike">
                <a:solidFill>
                  <a:srgbClr val="000000"/>
                </a:solidFill>
                <a:latin typeface="Arial"/>
                <a:cs typeface="Arial"/>
              </a:rPr>
              <a:t>أنظمة حقوق الإنسان الإقليمية</a:t>
            </a:r>
            <a:r>
              <a:rPr b="0" lang="ar-JO" sz="1200" spc="-1" strike="noStrike">
                <a:solidFill>
                  <a:srgbClr val="000000"/>
                </a:solidFill>
                <a:latin typeface="Arial"/>
                <a:ea typeface="Arial"/>
              </a:rPr>
              <a:t> والقوانين الوطنية. ويعتبر </a:t>
            </a:r>
            <a:r>
              <a:rPr b="1" lang="ar-JO" sz="1200" spc="-1" strike="noStrike">
                <a:solidFill>
                  <a:srgbClr val="000000"/>
                </a:solidFill>
                <a:latin typeface="Arial"/>
                <a:cs typeface="Arial"/>
              </a:rPr>
              <a:t>مجلس حقوق الإنسان العضو الرئيس في الأمم </a:t>
            </a:r>
            <a:r>
              <a:rPr b="0" lang="ar-JO" sz="1200" spc="-1" strike="noStrike">
                <a:solidFill>
                  <a:srgbClr val="000000"/>
                </a:solidFill>
                <a:latin typeface="Arial"/>
                <a:cs typeface="Arial"/>
              </a:rPr>
              <a:t>المتحدة المسؤول عن تعزيز حقوق الإنسان وحمايتها، كذلك فهو الخليفة التي قامت عليها المفوَّضية السابقة ل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نية: </a:t>
            </a:r>
            <a:r>
              <a:rPr b="0" lang="ar-JO" sz="1200" spc="-1" strike="noStrike" u="sng">
                <a:solidFill>
                  <a:srgbClr val="000000"/>
                </a:solidFill>
                <a:uFillTx/>
                <a:latin typeface="Arial"/>
                <a:cs typeface="Arial"/>
              </a:rPr>
              <a:t>معاهدات حقوق الإنسان الدولية الأساسية الس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مدنية والسياسية – </a:t>
            </a:r>
            <a:r>
              <a:rPr b="0" lang="ar-JO" sz="1200" spc="-1" strike="noStrike">
                <a:solidFill>
                  <a:srgbClr val="000000"/>
                </a:solidFill>
                <a:latin typeface="Arial"/>
                <a:ea typeface="Arial"/>
              </a:rPr>
              <a:t>1966</a:t>
            </a:r>
            <a:r>
              <a:rPr b="0" lang="ar-JO" sz="1200" spc="-1" strike="noStrike">
                <a:solidFill>
                  <a:srgbClr val="000000"/>
                </a:solidFill>
                <a:latin typeface="Arial"/>
                <a:cs typeface="Arial"/>
              </a:rPr>
              <a:t>، وبروتوكولاه الاختياريان المعنيان بالحقِّ في إجراء الاتصالات الفردية وعقوبة الإع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اقتصادية والاجتماعية والثقافية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العنصري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ضد المرأة - </a:t>
            </a:r>
            <a:r>
              <a:rPr b="0" lang="ar-JO" sz="1200" spc="-1" strike="noStrike">
                <a:solidFill>
                  <a:srgbClr val="000000"/>
                </a:solidFill>
                <a:latin typeface="Arial"/>
                <a:ea typeface="Arial"/>
              </a:rPr>
              <a:t>1979</a:t>
            </a:r>
            <a:r>
              <a:rPr b="0" lang="ar-JO" sz="1200" spc="-1" strike="noStrike">
                <a:solidFill>
                  <a:srgbClr val="000000"/>
                </a:solidFill>
                <a:latin typeface="Arial"/>
                <a:cs typeface="Arial"/>
              </a:rPr>
              <a:t>، وبروتوكولها الاختياري المعني بالحق في إجراء الاتصالات الفردية أو الج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مناهضة التعذيب وغيره من ضروب المعاملة أو العقوبة القاسية أو اللاإنسانية أو المهينة </a:t>
            </a:r>
            <a:r>
              <a:rPr b="0" lang="ar-JO" sz="1200" spc="-1" strike="noStrike">
                <a:solidFill>
                  <a:srgbClr val="000000"/>
                </a:solidFill>
                <a:latin typeface="Arial"/>
                <a:ea typeface="Arial"/>
              </a:rPr>
              <a:t>1984</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حقوق الطفل - </a:t>
            </a:r>
            <a:r>
              <a:rPr b="0" lang="ar-JO" sz="1200" spc="-1" strike="noStrike">
                <a:solidFill>
                  <a:srgbClr val="000000"/>
                </a:solidFill>
                <a:latin typeface="Arial"/>
                <a:ea typeface="Arial"/>
              </a:rPr>
              <a:t>1989</a:t>
            </a:r>
            <a:r>
              <a:rPr b="0" lang="ar-JO" sz="1200" spc="-1" strike="noStrike">
                <a:solidFill>
                  <a:srgbClr val="000000"/>
                </a:solidFill>
                <a:latin typeface="Arial"/>
                <a:cs typeface="Arial"/>
              </a:rPr>
              <a:t>، وبروتوكولاها الاختياريان المعنيان ببيع الأطفال ودعارة الأطفال والأعمال الإباحية بمشاركة الأطفال، وبإشراك الأطفال في النزاعات المسل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تفاقية الدولية لحماية حقوق جميع العمال المهاجرين وأفراد أسرهم - </a:t>
            </a:r>
            <a:r>
              <a:rPr b="0" lang="ar-JO" sz="1200" spc="-1" strike="noStrike">
                <a:solidFill>
                  <a:srgbClr val="000000"/>
                </a:solidFill>
                <a:latin typeface="Arial"/>
                <a:ea typeface="Arial"/>
              </a:rPr>
              <a:t>1990</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ثمة اتفاقيتان جديدتان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لاتفاقية الخاصة بحقوق الأشخاص المعوقين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الاتفاقية الدولية لحماية جميع الأشخاص من الاختفاء (القسري)، أقرتهما الجمعية العامة في عام </a:t>
            </a:r>
            <a:r>
              <a:rPr b="0" lang="ar-JO" sz="1200" spc="-1" strike="noStrike">
                <a:solidFill>
                  <a:srgbClr val="000000"/>
                </a:solidFill>
                <a:latin typeface="Arial"/>
                <a:ea typeface="Arial"/>
              </a:rPr>
              <a:t>2006</a:t>
            </a:r>
            <a:r>
              <a:rPr b="0" lang="ar-JO" sz="1200" spc="-1" strike="noStrike">
                <a:solidFill>
                  <a:srgbClr val="000000"/>
                </a:solidFill>
                <a:latin typeface="Arial"/>
                <a:cs typeface="Arial"/>
              </a:rPr>
              <a:t>، وهما في انتظار عدد من المصادقات من قبل الدول الأعضاء لتدخلا حيز التنفيذ.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لثة: </a:t>
            </a:r>
            <a:r>
              <a:rPr b="0" lang="ar-JO" sz="1200" spc="-1" strike="noStrike">
                <a:solidFill>
                  <a:srgbClr val="000000"/>
                </a:solidFill>
                <a:latin typeface="Arial"/>
                <a:cs typeface="Arial"/>
              </a:rPr>
              <a:t>قد تحتوي الأدوات / الصكوك الدولية الأخرى على معايير إضافية لحقوق الإنسان، مثل القانون الإنساني الدولي وقانون اللاجئين، بالإضافة إلى الاتفاقيات والإعلانات وغيرها من الوثائق الصادرة عن منظمة العمل الدولية، ومنظمة الأمم المتحدة للتربية والعلوم والثقافة (يونسكو)، ومنظمة الأغذية والزراعة التابعة للأمم المتحدة. ومع أن العديد من أدوات / صكوك القانون الإنساني قد صدرت قبل صدور ميثاق الأمم المتحدة والإعلان العالمي لحقوق الإنسان، إلا أنها تتشارك معهما في مبادئ وقيم الكرامة الإنسانية والحريات والاستحقاقات. ومن الأمثلة على تلك الصكوك / الأدوات اتفاقية منظمة العمل الدولية للسكان الأصليين والقَبَليين - </a:t>
            </a:r>
            <a:r>
              <a:rPr b="0" lang="ar-JO" sz="1200" spc="-1" strike="noStrike">
                <a:solidFill>
                  <a:srgbClr val="000000"/>
                </a:solidFill>
                <a:latin typeface="Arial"/>
                <a:ea typeface="Arial"/>
              </a:rPr>
              <a:t>1989</a:t>
            </a:r>
            <a:r>
              <a:rPr b="0" lang="ar-JO" sz="1200" spc="-1" strike="noStrike">
                <a:solidFill>
                  <a:srgbClr val="000000"/>
                </a:solidFill>
                <a:latin typeface="Arial"/>
                <a:ea typeface="Arial"/>
              </a:rPr>
              <a:t> (رقم </a:t>
            </a:r>
            <a:r>
              <a:rPr b="0" lang="ar-JO" sz="1200" spc="-1" strike="noStrike">
                <a:solidFill>
                  <a:srgbClr val="000000"/>
                </a:solidFill>
                <a:latin typeface="Arial"/>
                <a:ea typeface="Arial"/>
              </a:rPr>
              <a:t>169</a:t>
            </a:r>
            <a:r>
              <a:rPr b="0" lang="ar-JO" sz="1200" spc="-1" strike="noStrike">
                <a:solidFill>
                  <a:srgbClr val="000000"/>
                </a:solidFill>
                <a:latin typeface="Arial"/>
                <a:ea typeface="Arial"/>
              </a:rPr>
              <a:t>)، وهي الاتفاقية الدولية الوحيدة التي تتعامل، على أساس شمولي ومحدَّد، مع حقوق الإنسان لتلك الفئتين من السكان. وتطبق منظمة العمل الدولية نهجاً قائماً على الحقوق في عملها الخاص بهذا المجال. وبالإضافة إلى ذلك، هناك بالطبع أداة قانونية أخرى لحماية حقوق العم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رابعة: الأنظمة الإقليمية</a:t>
            </a:r>
            <a:r>
              <a:rPr b="0" lang="ar-JO" sz="1200" spc="-1" strike="noStrike">
                <a:solidFill>
                  <a:srgbClr val="000000"/>
                </a:solidFill>
                <a:latin typeface="Arial"/>
                <a:ea typeface="Arial"/>
              </a:rPr>
              <a:t>. عملت بعض المناطق/الأقاليم في العالم على إقرار أنظمة مناطقية/أقاليمية خاصة بها لحقوق الإنسان. وهذه الأنظمة لا تحل محل الأنظمة الدولية ولكنها تعززها. وبذلك تكون العلاقة بين هذين النظامين استكمالية وليست ترات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خامسة: الأنظمة الوطنية للحماية. </a:t>
            </a:r>
            <a:r>
              <a:rPr b="0" lang="ar-JO" sz="1200" spc="-1" strike="noStrike">
                <a:solidFill>
                  <a:srgbClr val="000000"/>
                </a:solidFill>
                <a:latin typeface="Arial"/>
                <a:cs typeface="Arial"/>
              </a:rPr>
              <a:t>يجب على الدول التأكد من توافق دساتيرها وقوانينها الوطنية مع أنظمة حقوق الإنسان الدولية والإقليمية التي هي طرف فيها. وقد تَمثَّلَ طلبُ المؤتمر العالمي لحقوق الإنسان في أن تعمل الحكومات "على إدماج المعايير في التشريعات المحلية كما وردت في أدوات / صكوك حقوق الإنسان الدولية، وعلى تقوية البُنى والمؤسسات والكيانات العضوية الوطنية في المجتمع، الأمر الذي يلعب دوراً في تعزيز وصون حقوق الإنسا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8320" cy="3486240"/>
          </a:xfrm>
          <a:prstGeom prst="rect">
            <a:avLst/>
          </a:prstGeom>
          <a:ln w="0">
            <a:noFill/>
          </a:ln>
        </p:spPr>
      </p:sp>
      <p:sp>
        <p:nvSpPr>
          <p:cNvPr id="60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تفاقية القضاء على جميع أشكال التمييز ضد ا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تفاقيةَ القضاء على جميع أشكال التمييز ضد المرأة معاهدةٌ "مناهضة للتمييز"، مما يعني أنّ حالات انعدام المساواة في النوع الاجتماعي، في هذه الاتفاقية، تُفهم بأنها نتاج للتمييز القائم على النوع الاجتماعي. وتعتبر التزاماتُ الدول، التي تفرضها اتفاقية القضاء على جميع أشكال التمييز ضد المرأة، بصفة أساسية، التزاماتٍ للقضاء على مختلف أشكال التمييز العديدة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تفاقية القضاء على جميع أشكال التمييز ضد المرأة تأخذ شكلها وجوهرها من فهم خاص لما يمكن اعتباره "مساواة"، وغالباً ما تسمّى بـ "المساواة الموضوعية أو الجوهرية" أو "المساواة في النتائج". وتتبنّى هذه الاتفاقيةُ نظرةً للمساواة محسوسةً وثلاثية الأبعاد. فبدلاً عن النظر في المساواة من حيث المنظور الرسمي والقانوني، والقول: إن القوانين والسياسات تكفل تحقيق المساواة بين المرأة والرجل ببساطة عن طريق الحيادية في التعامل مع النوع الاجتماعي، تطالب اتفاقية القضاء على جميع أشكال التمييز ضد المرأة بدراسة أثر وتأثير القوانين والسياسات في المساواة. وبمقتضى هذه الاتفاقية، يجب على الدولة القيام بأكثر من مجرّد التأكد من عدم وجود أية قوانين محفوظة في مدوّنات قوانين تميز ضد المرأة بشكل مباشر. بل يتعيّن عليها أيضاً التأكد من وضع جميع الترتيبات الضرورية موضع التنفيذ على نحو يسمح للمرأة بتجربة المساواة فعلياً في حي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جعل اتفاقيةُ القضاء على جميع أشكال التمييز ضد المرأة الدولَ مسؤولةً لا عن تنفيذ أعمالها الخاصة فحسب، بل عن القضاء على التمييز الذي يرتكبه الأفراد والمنظمات بصورة خاصة أيضاً. وتُقرُّ هذه الاتفاقية بأن التمييز غالباً ما يكون متجذِّراً بعمق في مختلف مجالات الحياة مثل الثقافة، والأسرة والعلاقات بين الأشخاص، وإذا لم يحدث أي تغيير على تلك المستويات، فسوف تُحبطُ الجهود المبذولة لتحقيق المساوا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جالاتُ الأساسية لحماية الحقوق الإنسانية للمرأة في 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نماذج الثقافية والممارسات العرفية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شغيل / التوظيف</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اتجار والاستغلال لأغراض الدعار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رعاية الصح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عامة والسيا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اقتصادية والاجتماع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8</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شؤون الدول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رأة الري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9</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جن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5</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ساواة أمام القان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عليم</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6</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ساواة في الزواج والحياة الأسر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صية العامة رقم </a:t>
            </a:r>
            <a:r>
              <a:rPr b="1" lang="ar-JO" sz="1200" spc="-1" strike="noStrike">
                <a:solidFill>
                  <a:srgbClr val="000000"/>
                </a:solidFill>
                <a:latin typeface="Arial"/>
                <a:ea typeface="Arial"/>
              </a:rPr>
              <a:t>19</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عنف ضد المرأ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حقوق الإنسان العالمية والمعاهدات الأخرى</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ضمن العهد الدولي للحقوق المدنية والسياسية والعهد الدولي للحقوق الاقتصادية والاجتماعية والثقافية بوضوح شديد استحقاقات حقوق الإنسان لكل من المرأة والرجل. ويشتمل كلا العهدين على مادة خاصة، وهي المادة الثالثة، التي تنص بصراحة على أن الدول الأطراف في هذين العهدين ستكفل بأن يتمتع الرجال والنساء، على قدم المساواة، بجميع الحقوق التي حدّداها. وبالإضافة إلى ذلك، يحتوي كلا العهدين على حُكْم مناهض للتمييز، الذي يُدرج "نوع الجنس" كواحد من الأسس المحظورة التي يقوم عليها التمييز. وقد أصدرت هيئات المعاهدات لكل من العهد الدولي لحقوق الإنسان المدنية والسياسية، والعهد الدولي للحقوق الاقتصادية والاجتماعية والثقافية تعليقات عامة تشرح مضامين هذه المواد بتفصيل لافت للنظر، وتُبرز بعضاً من أكثر أبعاد المساواة في النوع الاجتماعي أهميةً لكل من الحقوق الأخرى المُحدَّدة في هذين العهد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تمل أيضاً معاهدات حقوق الإنسان الأخرى على ضمانات مهمة للمرأة. فعلى سبيل المثال، تشتمل اتفاقية حقوق الطفل على حُكْم مناهض للتمييز يُطالب الدول الأطراف بضمان الحقوق المُحدَّدة في الاتفاقية للفتيات والفتيان على قدم المساواة. كذلك فإن اتفاقية حقوق الطفل تُحدِّد عدداً من الحقوق ذات الأهمية الخاصة للمرأة والفتاة، بما فيها الحقوق المتعلقة برعاية الأمهات قبل الولادة وبعدها وتنظيم النسل، والتخلّص من الممارسات التقليدية المؤذية، والقضاء على الاستغلال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عاهدات الإقلي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ثمة معايير إقليمية مهمة توفر الحماية أيضاً للحقوق الإنسانية للمرأة. فعلى سبيل المثال، في دول أمريكا اللاتينية والبحر الكاريبي، تُحدّد اتفاقية "بِلِمْ دو بارا </a:t>
            </a:r>
            <a:r>
              <a:rPr b="0" lang="en-US" sz="1200" spc="-1" strike="noStrike">
                <a:solidFill>
                  <a:srgbClr val="000000"/>
                </a:solidFill>
                <a:latin typeface="Arial"/>
                <a:ea typeface="굴림"/>
              </a:rPr>
              <a:t>Belem do Para</a:t>
            </a:r>
            <a:r>
              <a:rPr b="0" lang="ar-JO" sz="1200" spc="-1" strike="noStrike">
                <a:solidFill>
                  <a:srgbClr val="000000"/>
                </a:solidFill>
                <a:latin typeface="Arial"/>
                <a:ea typeface="Arial"/>
              </a:rPr>
              <a:t>" تدابير شاملة للقضاء على العنف ضد المرأة. وفي بروتوكول الميثاق الإفريقي لحقوق المرأة حول حقوق الإنسان والشعوب، نجد أنَّ ضمانات حقوق الإنسان الدولية للمرأة مبيَّنة فيه، إضافة إلى ادخال تعديلات وإضافات عليه، لتلائم الوقائع الإفريق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2600" y="695160"/>
            <a:ext cx="4653000" cy="3489480"/>
          </a:xfrm>
          <a:prstGeom prst="rect">
            <a:avLst/>
          </a:prstGeom>
          <a:ln w="0">
            <a:noFill/>
          </a:ln>
        </p:spPr>
      </p:sp>
      <p:sp>
        <p:nvSpPr>
          <p:cNvPr id="611"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عبارة عن مجموعة من القواعد التي تسعى، لأسباب إنسانية، </a:t>
            </a:r>
            <a:r>
              <a:rPr b="0" i="1" lang="ar-JO" sz="1200" spc="-1" strike="noStrike">
                <a:solidFill>
                  <a:srgbClr val="000000"/>
                </a:solidFill>
                <a:latin typeface="Arial"/>
                <a:cs typeface="Arial"/>
              </a:rPr>
              <a:t>إلى الحد من آثار النزاع المسلح</a:t>
            </a:r>
            <a:r>
              <a:rPr b="0" lang="ar-JO" sz="1200" spc="-1" strike="noStrike">
                <a:solidFill>
                  <a:srgbClr val="000000"/>
                </a:solidFill>
                <a:latin typeface="Arial"/>
                <a:ea typeface="Arial"/>
              </a:rPr>
              <a:t>. فهو يحمي الأشخاص الذين لا يشاركون، أو لم يعودوا يشاركون، في الأعمال العدائية، ويقيّد وسائل الحرب وطرقها. كذلك فإن القانون الإنساني الدولي معروف أيضاً "بقانون الحرب" أو "قانون النزاع المُسلح"، وهو جزء من القانون الدولي، الذي يُعتبر الجسم الذي ترتكز عليه القواعد التي تحكم العلاقات بين الدول. وهذا القانون الدولي مشمول في الاتفاقيات بين الدول – أي في المعاهدات أو الاتفاقيات - وفي القوانين العرفية المؤلفة من ممارسات الدول، التي تعتبرها مُلْزمة قانونياً، وفي المبادئ ال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طبَّقُ القانون الإنساني الدولي على النزاعات المسلحة. وهو لا يُنظِّم ما إذا كان يُسمحُ لدولة ما أن تستخدم القوة فعلياً، فذلك محكومٌ بوساطة جزء مهم - ولكنه واضح - من القانون الدولي المُحدَّد في ميثاق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في عام </a:t>
            </a:r>
            <a:r>
              <a:rPr b="0" lang="ar-JO" sz="1200" spc="-1" strike="noStrike">
                <a:solidFill>
                  <a:srgbClr val="000000"/>
                </a:solidFill>
                <a:latin typeface="Arial"/>
                <a:ea typeface="Arial"/>
              </a:rPr>
              <a:t>1949</a:t>
            </a:r>
            <a:r>
              <a:rPr b="0" lang="ar-JO" sz="1200" spc="-1" strike="noStrike">
                <a:solidFill>
                  <a:srgbClr val="000000"/>
                </a:solidFill>
                <a:latin typeface="Arial"/>
                <a:cs typeface="Arial"/>
              </a:rPr>
              <a:t>، تم إقرار اتفاقيات جنيف الأربع، التي ما زالت نافذة المفعول حتى اليوم. وتتعامل كل منها مع حماية فئة معينة من الأشخاص الذين لا يشاركون، أو لم يعودوا يشاركون، في الأعمال العدائية، وهي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أولى:</a:t>
            </a:r>
            <a:r>
              <a:rPr b="0" lang="ar-JO" sz="1200" spc="-1" strike="noStrike">
                <a:solidFill>
                  <a:srgbClr val="000000"/>
                </a:solidFill>
                <a:latin typeface="Arial"/>
                <a:ea typeface="Arial"/>
              </a:rPr>
              <a:t> لتحسين حال جرحى ومرضى القوات المسلحة في الميد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نية:</a:t>
            </a:r>
            <a:r>
              <a:rPr b="0" lang="ar-JO" sz="1200" spc="-1" strike="noStrike">
                <a:solidFill>
                  <a:srgbClr val="000000"/>
                </a:solidFill>
                <a:latin typeface="Arial"/>
                <a:ea typeface="Arial"/>
              </a:rPr>
              <a:t> لتحسين حال جرحى ومرضى وغرقى القوات المسلحة (في البح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لثة:</a:t>
            </a:r>
            <a:r>
              <a:rPr b="0" lang="ar-JO" sz="1200" spc="-1" strike="noStrike">
                <a:solidFill>
                  <a:srgbClr val="000000"/>
                </a:solidFill>
                <a:latin typeface="Arial"/>
                <a:ea typeface="Arial"/>
              </a:rPr>
              <a:t> بشأن معاملة سجناء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رابعة:</a:t>
            </a:r>
            <a:r>
              <a:rPr b="0" lang="ar-JO" sz="1200" spc="-1" strike="noStrike">
                <a:solidFill>
                  <a:srgbClr val="000000"/>
                </a:solidFill>
                <a:latin typeface="Arial"/>
                <a:ea typeface="Arial"/>
              </a:rPr>
              <a:t> بشأن حماية الأشخاص المدنيين في وقت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عتبر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ميراثاً من الحرب العالمية الثانية. وابتداءً من التجربة المأساوية التي تم اكتسابها من ذلك النزاع المسلح، فقد عملت تلك الاتفاقيات، بشكل كبير، على تحسين الحماية القانونية لضحايا الحرب، ولا سيما للمدنيين الواقعين تحت سلطة العدو. وفي الوقت الحاضر، تعتبر جميع الدول أطرافاً في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عملياً. وبما أن المجتمع الأممي كله قد قبلها كما هي، فقد أصبحت هذه الاتفاقيات، بحق، قانوناً عالمياً عا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طالب</a:t>
            </a:r>
            <a:r>
              <a:rPr b="1" lang="ar-JO" sz="1200" spc="-1" strike="noStrike">
                <a:solidFill>
                  <a:srgbClr val="000000"/>
                </a:solidFill>
                <a:latin typeface="Arial"/>
                <a:ea typeface="Arial"/>
              </a:rPr>
              <a:t> إعلان وبرنامج عمل ڤينّا </a:t>
            </a:r>
            <a:r>
              <a:rPr b="0" lang="ar-JO" sz="1200" spc="-1" strike="noStrike">
                <a:solidFill>
                  <a:srgbClr val="000000"/>
                </a:solidFill>
                <a:latin typeface="Arial"/>
                <a:cs typeface="Arial"/>
              </a:rPr>
              <a:t>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جميع الأطراف في النزاعات المسلحة بالتقيّد الصارم بالقانون الإنساني الدولي، إضافة إلى مطالبتهما بمراعاة المعايير الدنيا المطلوبة لحماية حقوق الإنسان. وبناء على ذلك، تم الإقرار بضرورة النظر إلى قانون حقوق الإنسان والقانون الإنساني بطريقة مدمجة متكاملة وشمولية، مما يعني أن قانون حقوق الإنسان يوفِّر الحماية للأفراد في جميع الأوقات، إضافة إلى ما يوفره القانون الإنساني من الحماية لهم أثناء الحروب أو غيرها من الأعمال العدائية. وقد أكد إعلان وبرنامج عمل ڤينّا أيضاً على أن "انتهاكات الحقوق الإنسانية للمرأة في أوضاع النزاع المسلح تعتبر انتهاكات للمبادئ الأساسية لحقوق الإنسان والقانون الإنساني"، وأن تلك الانتهاكات تتطلب "رداً فعالاً على وجه الخصوص".</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تشغيل فيلم الفيديو الموجود في هذه الشريحة، انقر على "</a:t>
            </a:r>
            <a:r>
              <a:rPr b="0" lang="en-US" sz="1200" spc="-1" strike="noStrike">
                <a:solidFill>
                  <a:srgbClr val="000000"/>
                </a:solidFill>
                <a:latin typeface="Arial"/>
                <a:ea typeface="굴림"/>
              </a:rPr>
              <a:t>Slide show</a:t>
            </a:r>
            <a:r>
              <a:rPr b="0" lang="ar-JO" sz="1200" spc="-1" strike="noStrike">
                <a:solidFill>
                  <a:srgbClr val="000000"/>
                </a:solidFill>
                <a:latin typeface="Arial"/>
                <a:ea typeface="Arial"/>
              </a:rPr>
              <a:t>". ينتهي عرض هذا الفيلم بالسؤال التالي: </a:t>
            </a:r>
            <a:r>
              <a:rPr b="1" lang="ar-JO" sz="1200" spc="-1" strike="noStrike">
                <a:solidFill>
                  <a:srgbClr val="000000"/>
                </a:solidFill>
                <a:latin typeface="Arial"/>
                <a:ea typeface="Arial"/>
              </a:rPr>
              <a:t>"بناء على ذلك، كيف تردّ أو تتجاوب الأمم المتحدة مع التوقّعات المشروعة لأصحاب الحقوق؟"</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لإجابة على هذا السؤال، سيكون من المهمّ والملائم لنا أن ندرس بإيجاز ما يلي: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اريخ السياسي لحقوق الإنسان في ا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أولويات الرئيسة الأخرى ل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مؤسسية داخل الأمم المتحدة نفس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5160"/>
            <a:ext cx="4653000" cy="3489480"/>
          </a:xfrm>
          <a:prstGeom prst="rect">
            <a:avLst/>
          </a:prstGeom>
          <a:ln w="0">
            <a:noFill/>
          </a:ln>
        </p:spPr>
      </p:sp>
      <p:sp>
        <p:nvSpPr>
          <p:cNvPr id="613" name="PlaceHolder 2"/>
          <p:cNvSpPr>
            <a:spLocks noGrp="1"/>
          </p:cNvSpPr>
          <p:nvPr>
            <p:ph type="body"/>
          </p:nvPr>
        </p:nvSpPr>
        <p:spPr>
          <a:xfrm>
            <a:off x="246240" y="4378320"/>
            <a:ext cx="6511680" cy="4719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داد شرائح اختيارية لكل نظام إقليم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 أيضاً وضع أنظمة إقليمية لحقوق تتفاوت في قدراتها وأثرها في إفريقيا والأمريكيتين وأوروبا، وتستكمل حقوق الإنسان الدولية. ويمكن أن تكون هيئات آليات حقوق الإنسان الإقليمية شركاء مهمِّين لتحقيق تعاون وثيق مع الأمم المتحدة حول النشاطات ذات الاهتمام المشترك والمتبادل. وتعزِّز الأنظمةُ الإقليمية لحقوق الإنسان المعاييرَ الدولية وآليات العمل، عن طريق تقديم الوسائل التي يمكن عن طريقها التصدي لبواعث القلق المتعلقة بحقوق الإنسان، ضمن السياقات الاجتماعية والتاريخية والسياسية الخاصة بالمنطقة المع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م تنجح آسيا بَعْدُ في إقامة أيّ نظام لحقوق الإنسان قابل للحياة. وفي منطقة الشرق الأوسط، قامت اللجنة العربية الدائمة لحقوق الإنسان بمراجعة الميثاق العربي لحقوق الإنسان في يناير / كانون الثاني عام </a:t>
            </a:r>
            <a:r>
              <a:rPr b="1" lang="ar-JO" sz="1200" spc="-1" strike="noStrike">
                <a:solidFill>
                  <a:srgbClr val="000000"/>
                </a:solidFill>
                <a:latin typeface="Arial"/>
                <a:ea typeface="Arial"/>
              </a:rPr>
              <a:t>2004</a:t>
            </a:r>
            <a:r>
              <a:rPr b="1" lang="ar-JO" sz="1200" spc="-1" strike="noStrike">
                <a:solidFill>
                  <a:srgbClr val="000000"/>
                </a:solidFill>
                <a:latin typeface="Arial"/>
                <a:cs typeface="Arial"/>
              </a:rPr>
              <a:t>، ولكنه ما زال يعتبر قاصراًً عن توفير الحمايات الحرج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كلاً من النظام الأوروبي لحقوق الإنسان، ومجلس أوروبا، ومنظمة التعاون والأمن في أوروبا، والاتحاد الأوروبي تشكِّل معاً العمود الفقري المؤسسي للنظام الأوروبي لحقوق الإنسان. وتضمن الاتفاقية الأوروبية لحماية حقوق الإنسان والحريات الأساسية (التي دخلت حَيِّز التطبيق في </a:t>
            </a:r>
            <a:r>
              <a:rPr b="1" lang="ar-JO" sz="1200" spc="-1" strike="noStrike">
                <a:solidFill>
                  <a:srgbClr val="000000"/>
                </a:solidFill>
                <a:latin typeface="Arial"/>
                <a:ea typeface="Arial"/>
              </a:rPr>
              <a:t>1953</a:t>
            </a:r>
            <a:r>
              <a:rPr b="1" lang="ar-JO" sz="1200" spc="-1" strike="noStrike">
                <a:solidFill>
                  <a:srgbClr val="000000"/>
                </a:solidFill>
                <a:latin typeface="Arial"/>
                <a:ea typeface="Arial"/>
              </a:rPr>
              <a:t>) وبروتوكولاتها المتعددة الحقوق المدنية والسياسية، كما أن الميثاق الاجتماعي الأوروبي (الصادر عام </a:t>
            </a:r>
            <a:r>
              <a:rPr b="1" lang="ar-JO" sz="1200" spc="-1" strike="noStrike">
                <a:solidFill>
                  <a:srgbClr val="000000"/>
                </a:solidFill>
                <a:latin typeface="Arial"/>
                <a:ea typeface="Arial"/>
              </a:rPr>
              <a:t>1961</a:t>
            </a:r>
            <a:r>
              <a:rPr b="1" lang="ar-JO" sz="1200" spc="-1" strike="noStrike">
                <a:solidFill>
                  <a:srgbClr val="000000"/>
                </a:solidFill>
                <a:latin typeface="Arial"/>
                <a:cs typeface="Arial"/>
              </a:rPr>
              <a:t>، والمعدّل عام </a:t>
            </a:r>
            <a:r>
              <a:rPr b="1" lang="ar-JO" sz="1200" spc="-1" strike="noStrike">
                <a:solidFill>
                  <a:srgbClr val="000000"/>
                </a:solidFill>
                <a:latin typeface="Arial"/>
                <a:ea typeface="Arial"/>
              </a:rPr>
              <a:t>1996</a:t>
            </a:r>
            <a:r>
              <a:rPr b="1" lang="ar-JO" sz="1200" spc="-1" strike="noStrike">
                <a:solidFill>
                  <a:srgbClr val="000000"/>
                </a:solidFill>
                <a:latin typeface="Arial"/>
                <a:ea typeface="Arial"/>
              </a:rPr>
              <a:t>) يقرُّ بالحقوق الاقتصادية والاجتماعية. وإن قائمة الحقوق المدرجة في هذه الأدوات/الصكوك مماثلة لتلك الحقوق التي يكرِّسها الإعلان العالمي لحقوق الإنسان والعهدان الدوليان. وقد أقرَّ مجلس أوروبا معاهدات خاصة في مجالات حماية البيانات، والعمال المهاجرين، والأقليات، ومنع التعذيب، والطب الأحي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حكمة الأوروبية لحقوق الإنسان – في البداية، تم إنشاء هيئتين إقليميتين لمراجعة الشكاوى الواردة من الأشخاص، والجماعات أو الأفراد، والمنظمات غير الحكومية، والدول بشأن انتهاكات حقوق الإنسان، أُطلق عليهما تحديداً اسم: المحكمة الأوروبية لحقوق الإنسان والمفوَّضية الأوروبية لحقوق الإنسان. وتمتلك المحكمة الأوروبية لحقوق الإنسان صلاحيات سُلطوية لصنع القرار، حيث يجري إنفاذ قراراتها عادةً، إضافة إلى الوزن أو الثقل المهم لتلك القرارات على القانون والممارسة في عدد من الدول الأوروبية. كذلك فقد يفرض قرار المحكمة ضغطاً على تلك الدول المتخلّفة عن الأعراف الأورو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في الأمريكيتين – يندرج النظام عَبْر الأمريكي لحقوق الإنسان ضمن منظمة الدول الأمريكية. وعلى غرار الاتفاقية الأوروبية، فإن الإعلان الأمريكي لحقوق وواجبات الإنسان (</a:t>
            </a:r>
            <a:r>
              <a:rPr b="1" lang="ar-JO" sz="1200" spc="-1" strike="noStrike">
                <a:solidFill>
                  <a:srgbClr val="000000"/>
                </a:solidFill>
                <a:latin typeface="Arial"/>
                <a:ea typeface="Arial"/>
              </a:rPr>
              <a:t>1948</a:t>
            </a:r>
            <a:r>
              <a:rPr b="1" lang="ar-JO" sz="1200" spc="-1" strike="noStrike">
                <a:solidFill>
                  <a:srgbClr val="000000"/>
                </a:solidFill>
                <a:latin typeface="Arial"/>
                <a:ea typeface="Arial"/>
              </a:rPr>
              <a:t>) يُقرُّ قائمةً من حقوق الإنسان مماثلةً لما ورد في الإعلان العالمي لحقوق الإنسان. وتُقر الاتفاقية الأمريكية لحقوق الإنسان (</a:t>
            </a:r>
            <a:r>
              <a:rPr b="1" lang="ar-JO" sz="1200" spc="-1" strike="noStrike">
                <a:solidFill>
                  <a:srgbClr val="000000"/>
                </a:solidFill>
                <a:latin typeface="Arial"/>
                <a:ea typeface="Arial"/>
              </a:rPr>
              <a:t>1969</a:t>
            </a:r>
            <a:r>
              <a:rPr b="1" lang="ar-JO" sz="1200" spc="-1" strike="noStrike">
                <a:solidFill>
                  <a:srgbClr val="000000"/>
                </a:solidFill>
                <a:latin typeface="Arial"/>
                <a:ea typeface="Arial"/>
              </a:rPr>
              <a:t>) الحقوق المدنية والسياسية والحق في التملك. وبالإضافة إلى ذلك، هناك البرتوكول الإضافي للاتفاقية الأمريكية لحقوق الإنسان في مجالات الحقوق الاقتصادية والاجتماعية والثقافية (</a:t>
            </a:r>
            <a:r>
              <a:rPr b="1" lang="ar-JO" sz="1200" spc="-1" strike="noStrike">
                <a:solidFill>
                  <a:srgbClr val="000000"/>
                </a:solidFill>
                <a:latin typeface="Arial"/>
                <a:ea typeface="Arial"/>
              </a:rPr>
              <a:t>1988</a:t>
            </a:r>
            <a:r>
              <a:rPr b="1" lang="ar-JO" sz="1200" spc="-1" strike="noStrike">
                <a:solidFill>
                  <a:srgbClr val="000000"/>
                </a:solidFill>
                <a:latin typeface="Arial"/>
                <a:ea typeface="Arial"/>
              </a:rPr>
              <a:t>)، الذي يُشار إليه عادة باتفاقية "سان خوسيه، كوستاريك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أجل صون/حماية تلك الحقوق في القارة الأمريكية، فقد عملت الاتفاقية على خلق كيانين عضويين لتعزيز عملية مراعاة حقوق الإنسان وحمايته: المفوَّضية عَبْر الأمريكية لحقوق الإنسان، والمحكمة عبر الأمريكية لحقوق الإنسان. وتعتبر المفوَّضية عبر الأمريكية لحقوق الإنسان هيئة تقنية شبه قضائية، تم إنشاؤها لتعزيز الوعي بحقوق الإنسان، ولوضع توصيات للدول، والرد على استيضاحاتها، وإعداد الدراسات والتقارير، وطلب المعلومات من الحكومات، وإجراء تحقيقات بموافقتها. وتقرُّ المفوضية القرارات، وتصدر التقارير القُطرية، وتم أيضاً تمكينها لتلقِّي الشكاوى من الأفراد أو الجماعات حول انتهاكات حقوق الإنسان. وتوصي المفوضية أيضاً الدولَ الأعضاء في منظمة الدول الأمريكية بإقرار التدابير التي يمكن أن تُسهم في حماية حقوق الإنسان. ومن إحدى وظائفها الأساسية تقديمُ القضايا إلى المحكمة عَبْر الأمريكية، وأن تَمْثُل أمام المحكمة أثناء عملية التقاضي. ولم يكن للمحكمة عبر الأمريكية لحقوق الإنسان أثرٌ قويٌ كالمحكمة الأوروبية، بالرغم من أنها قد تتخذ إجراءً إنفاذياً ملزماً، ولكنّ الولاية القضائية الخاصة بها تعتبر خياراً للدول التي تصادق عليها. وتملك المحكمة اختصاصاً قضائياً أو ولاية قضائية تؤهلها لإصدار الأحكام والفصل في القضايا المنطوية على تُهم بأن الدولة الطرف قد انتهكت الاتفاقية الأمريكية. ويجب أن يكون أصحاب الشكاوى الذين قدَّموا دعاواهم حول انتهاكات حقوق الإنسان قد استنفدوا أولاً جميع الحلول القانونية المحلية المتاحة، قبل أن يلجأ وإلى المحك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الإفريقي – يندرج النظام الإفريقي الإقليمي لحقوق الإنسان ضمن الاتحاد الإفريقي، الذي تم إنشاؤه عام </a:t>
            </a:r>
            <a:r>
              <a:rPr b="1" lang="ar-JO" sz="1200" spc="-1" strike="noStrike">
                <a:solidFill>
                  <a:srgbClr val="000000"/>
                </a:solidFill>
                <a:latin typeface="Arial"/>
                <a:ea typeface="Arial"/>
              </a:rPr>
              <a:t>2001</a:t>
            </a:r>
            <a:r>
              <a:rPr b="1" lang="ar-JO" sz="1200" spc="-1" strike="noStrike">
                <a:solidFill>
                  <a:srgbClr val="000000"/>
                </a:solidFill>
                <a:latin typeface="Arial"/>
                <a:cs typeface="Arial"/>
              </a:rPr>
              <a:t>، وقد حلّ محل منظمة الوحدة الإفريقية. وتشتمل أهدافه على تعزيز السلام والأمن والاستقرار في القارة الإفريقية، وتعزيز المؤسسات والمبادئ الديمقراطية، والمشاركة الشعبية والحكم الرشيد، وتعزيز حقوق الإنسان وحمايتها بما ينسجم مع الميثاق الإفريقي لحقوق الإنسان والشعوب وغيره من أدوات / صكوك حقوق الإنسان الأخرى. وقد أقرّت منظمة الوحدة الإفريقية الميثاق الإفريقي عام </a:t>
            </a:r>
            <a:r>
              <a:rPr b="1" lang="ar-JO" sz="1200" spc="-1" strike="noStrike">
                <a:solidFill>
                  <a:srgbClr val="000000"/>
                </a:solidFill>
                <a:latin typeface="Arial"/>
                <a:ea typeface="Arial"/>
              </a:rPr>
              <a:t>1981</a:t>
            </a:r>
            <a:r>
              <a:rPr b="1" lang="ar-JO" sz="1200" spc="-1" strike="noStrike">
                <a:solidFill>
                  <a:srgbClr val="000000"/>
                </a:solidFill>
                <a:latin typeface="Arial"/>
                <a:cs typeface="Arial"/>
              </a:rPr>
              <a:t>، ودخل حيز التطبيق والتنفيذ عام </a:t>
            </a:r>
            <a:r>
              <a:rPr b="1" lang="ar-JO" sz="1200" spc="-1" strike="noStrike">
                <a:solidFill>
                  <a:srgbClr val="000000"/>
                </a:solidFill>
                <a:latin typeface="Arial"/>
                <a:ea typeface="Arial"/>
              </a:rPr>
              <a:t>1986</a:t>
            </a:r>
            <a:r>
              <a:rPr b="1" lang="ar-JO" sz="1200" spc="-1" strike="noStrike">
                <a:solidFill>
                  <a:srgbClr val="000000"/>
                </a:solidFill>
                <a:latin typeface="Arial"/>
                <a:ea typeface="Arial"/>
              </a:rPr>
              <a:t>. وتوجد في الوقت الحاضر بروتوكولات عديدة للميثاق، بما فيها برتوكول يتناول حقوق المرأة في إفريقيا. ويشتمل الميثاق الإفريقي على سمة مميّزة مهمة، ألا وهي الإقرار بالحقوق الجماعية أو حقوق "الشعوب"، كما يشتمل على الحقوق في السلام والتنمية، وعلى أهمية الواجبات الفردية. إن الحقوق التي يضمنها الميثاق محدودة وتخضع للتقديرات الخاصة بالدولة بدرجة تفوق غيرها من الأدوات الدولية لحقوق الإنسان. وقد أنشأ الميثاق أيضاً المفوضية الإفريقية لحقوق الناس والشعوب، التي تم تمكينها لتلقّي الشكاوى الفردية والشكاوى عَبر الدولة، بالرغم من أن النقص في الموارد يعوق عملها ظاهرياً. ويمكن لأي شخص تسليم شكوى / تبليغ إلى المفوضية عن حدوث انتهاك لحقوق الإنسان، شريطة استنفاد جميع الحلول القانونية المحلية المتواف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2600" y="695160"/>
            <a:ext cx="4653000" cy="3489480"/>
          </a:xfrm>
          <a:prstGeom prst="rect">
            <a:avLst/>
          </a:prstGeom>
          <a:ln w="0">
            <a:noFill/>
          </a:ln>
        </p:spPr>
      </p:sp>
      <p:sp>
        <p:nvSpPr>
          <p:cNvPr id="615" name="PlaceHolder 2"/>
          <p:cNvSpPr>
            <a:spLocks noGrp="1"/>
          </p:cNvSpPr>
          <p:nvPr>
            <p:ph type="body"/>
          </p:nvPr>
        </p:nvSpPr>
        <p:spPr>
          <a:xfrm>
            <a:off x="474480" y="4311360"/>
            <a:ext cx="6289560" cy="44514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رض هذه الشريحة المكوِّنات الرئيسة لأي نظام وطني لحماية حقوق الإنسان يجب على الدولة إنشاؤه أو تقويته لتعزيز حقوق الإنسان وحمايتها وإحقاقها. وهي تشدِّد على أن تُمارسَ أكثرُ الأعمال أهمية فيما يتعلق بحقوق الإنسان، وخصوصاً الطريقة التي يتم من خلالها تطبيق الأعراف والمقاييس، على المستوى الوطني من خلال الأدوار الفعالة التي تلعبها المؤسسات الحكومية على اختلاف أنواعها. وسيتم التطرق إلى العناصر المحددة بتفصيل أكبر في الجلسة القاد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ألف</a:t>
            </a:r>
            <a:r>
              <a:rPr b="0" lang="ar-JO" sz="1200" spc="-1" strike="noStrike">
                <a:solidFill>
                  <a:srgbClr val="000000"/>
                </a:solidFill>
                <a:latin typeface="Arial"/>
                <a:ea typeface="Arial"/>
              </a:rPr>
              <a:t> أي نظام وطني لحماية حقوق الإنسان، </a:t>
            </a:r>
            <a:r>
              <a:rPr b="1" lang="ar-JO" sz="1200" spc="-1" strike="noStrike">
                <a:solidFill>
                  <a:srgbClr val="000000"/>
                </a:solidFill>
                <a:latin typeface="Arial"/>
                <a:cs typeface="Arial"/>
              </a:rPr>
              <a:t>بشكل أساسي، </a:t>
            </a:r>
            <a:r>
              <a:rPr b="0" lang="ar-JO" sz="1200" spc="-1" strike="noStrike">
                <a:solidFill>
                  <a:srgbClr val="000000"/>
                </a:solidFill>
                <a:latin typeface="Arial"/>
                <a:cs typeface="Arial"/>
              </a:rPr>
              <a:t>من أطر عمل ومؤسسات وسياسات وإجراءات وجهات فاعلة قانونية كلها، يتم تصميمها لضمان تعزيز أعراف ومقاييس حقوق الإنسان الدولية، واحترامها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مثَّل هدف أي نظام من الأنظمة الوطنية لحماية حقوق الإنسان </a:t>
            </a:r>
            <a:r>
              <a:rPr b="0" lang="ar-JO" sz="1200" spc="-1" strike="noStrike">
                <a:solidFill>
                  <a:srgbClr val="000000"/>
                </a:solidFill>
                <a:latin typeface="Arial"/>
                <a:cs typeface="Arial"/>
              </a:rPr>
              <a:t>في ضمان الاحترام المستدام والفعّال لحقوق الإنسان في أية دولة. ويجب إيلاء اعتبار خاص لضمان أن تكون جميع جوانب أيّ نظام وطني لحماية حقوق الإنسان متجاوبةً مع الحقوق الإنسانية للمرأة. كذلك يجب إيلاء اهتمام خاص دائماً بالجماعات المعرضة للتمييز، والجماعات التي تعاني من الحرمان/ الظروف غير المؤاتية في دولتها – وذلك يشمل الأقليات العنصرية والعرقية، والأطفال، والمعوّقين والنساء والفقر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a:t>
            </a:r>
            <a:r>
              <a:rPr b="1" lang="ar-JO" sz="1200" spc="-1" strike="noStrike">
                <a:solidFill>
                  <a:srgbClr val="000000"/>
                </a:solidFill>
                <a:latin typeface="Arial"/>
                <a:cs typeface="Arial"/>
              </a:rPr>
              <a:t>ُطر العمل الدستورية والتشريعية</a:t>
            </a:r>
            <a:r>
              <a:rPr b="0" lang="ar-JO" sz="1200" spc="-1" strike="noStrike">
                <a:solidFill>
                  <a:srgbClr val="000000"/>
                </a:solidFill>
                <a:latin typeface="Arial"/>
                <a:ea typeface="Arial"/>
              </a:rPr>
              <a:t> التي تُبين أعراف ومعايير/مقاييس حقوق الإنسان الدولية، و</a:t>
            </a:r>
            <a:r>
              <a:rPr b="1" lang="ar-JO" sz="1200" spc="-1" strike="noStrike">
                <a:solidFill>
                  <a:srgbClr val="000000"/>
                </a:solidFill>
                <a:latin typeface="Arial"/>
                <a:cs typeface="Arial"/>
              </a:rPr>
              <a:t>المؤسسات الفعالة لتعزيز وحماية حقوق الإنسان</a:t>
            </a:r>
            <a:r>
              <a:rPr b="0" lang="ar-JO" sz="1200" spc="-1" strike="noStrike">
                <a:solidFill>
                  <a:srgbClr val="000000"/>
                </a:solidFill>
                <a:latin typeface="Arial"/>
                <a:cs typeface="Arial"/>
              </a:rPr>
              <a:t>، بما فيها الحكومات على المستويين المركزي والمحلي، والبرلمانات المركزية والمحلية، والإدارات على المستويين المركزي والمحلي، وإقامة العدل، والمحاكم الدستورية، وهيئة مستقلة لحقوق الإنسان، مثل مؤسسة وطنية لحقوق الإنسان و/أو أمين المظال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اسات وإجراءات وعمليات </a:t>
            </a:r>
            <a:r>
              <a:rPr b="0" lang="ar-JO" sz="1200" spc="-1" strike="noStrike">
                <a:solidFill>
                  <a:srgbClr val="000000"/>
                </a:solidFill>
                <a:latin typeface="Arial"/>
                <a:cs typeface="Arial"/>
              </a:rPr>
              <a:t>تعزيز حقوق الإنسان وحمايتها، بما يشمل تصويب انتهاكات حقوق الإنسان والإساءة إليها، والعمليات التشاركية في صنع القرار، والتعاون مع آليات العمل الدولية والإقليمية لحقوق الإنسان، وتبني سياسة قائمة على حقوق الإنسان والتخطيط للبرامج التنموية على مستوىً أكثر 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رامج وسياسات رفع وتيرة التوعية بحقوق الإنسان، </a:t>
            </a:r>
            <a:r>
              <a:rPr b="0" lang="ar-JO" sz="1200" spc="-1" strike="noStrike">
                <a:solidFill>
                  <a:srgbClr val="000000"/>
                </a:solidFill>
                <a:latin typeface="Arial"/>
                <a:cs typeface="Arial"/>
              </a:rPr>
              <a:t>بما فيها حقوق المرأة، وذلك من خلال التثقيف بحقوق الإنسان في المدارس والجامعات ومؤسسات التعليم المهني، وتدريب موظفي الحكومة وغيرهم من المهنيين ذوي العلاقة، على حقوق الإنسان، بالإضافة إلى تنظيم وإطلاق حملات رفع وتيرة التوعية للجمهور الع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جود </a:t>
            </a:r>
            <a:r>
              <a:rPr b="1" lang="ar-JO" sz="1200" spc="-1" strike="noStrike">
                <a:solidFill>
                  <a:srgbClr val="000000"/>
                </a:solidFill>
                <a:latin typeface="Arial"/>
                <a:cs typeface="Arial"/>
              </a:rPr>
              <a:t>مجتمع مدني</a:t>
            </a:r>
            <a:r>
              <a:rPr b="0" lang="ar-JO" sz="1200" spc="-1" strike="noStrike">
                <a:solidFill>
                  <a:srgbClr val="000000"/>
                </a:solidFill>
                <a:latin typeface="Arial"/>
                <a:ea typeface="Arial"/>
              </a:rPr>
              <a:t> ديمقراطي ونابض بالحياة </a:t>
            </a:r>
            <a:r>
              <a:rPr b="1" lang="ar-JO" sz="1200" spc="-1" strike="noStrike">
                <a:solidFill>
                  <a:srgbClr val="000000"/>
                </a:solidFill>
                <a:latin typeface="Arial"/>
                <a:cs typeface="Arial"/>
              </a:rPr>
              <a:t>يتمتع فيه الرجال والنساء بالمشاركة التامة المتساوية،</a:t>
            </a:r>
            <a:r>
              <a:rPr b="0" lang="ar-JO" sz="1200" spc="-1" strike="noStrike">
                <a:solidFill>
                  <a:srgbClr val="000000"/>
                </a:solidFill>
                <a:latin typeface="Arial"/>
                <a:ea typeface="Arial"/>
              </a:rPr>
              <a:t> بما في ذلك توافر وسائل الإعلام المجانية والفعالة والمستقلة، ومجتمعات المدافعين عن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2600" y="695160"/>
            <a:ext cx="4653000" cy="3489480"/>
          </a:xfrm>
          <a:prstGeom prst="rect">
            <a:avLst/>
          </a:prstGeom>
          <a:ln w="0">
            <a:noFill/>
          </a:ln>
        </p:spPr>
      </p:sp>
      <p:sp>
        <p:nvSpPr>
          <p:cNvPr id="617" name="PlaceHolder 2"/>
          <p:cNvSpPr>
            <a:spLocks noGrp="1"/>
          </p:cNvSpPr>
          <p:nvPr>
            <p:ph type="body"/>
          </p:nvPr>
        </p:nvSpPr>
        <p:spPr>
          <a:xfrm>
            <a:off x="95400" y="4311720"/>
            <a:ext cx="6743520" cy="498456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 أنه قد يبدو أن نظام المعاهدات الدولية لحقوق الإنسان يركّز على المستوى الدولي أكثر من تركيزه على المستوى الوطني إلا أنه يتَّضح بجلاء أنّ تعزيز وحماية حقوق الإنسان على المستوى الوطني هو الأمر الأكثر أهميةً. فالمعايير المتفق عليها دولياً في المعاهدات تتطلَّب </a:t>
            </a:r>
            <a:r>
              <a:rPr b="1" lang="ar-JO" sz="1200" spc="-1" strike="noStrike">
                <a:solidFill>
                  <a:srgbClr val="000000"/>
                </a:solidFill>
                <a:latin typeface="Arial"/>
                <a:cs typeface="Arial"/>
              </a:rPr>
              <a:t>تنفيذاً فعالاً على المستوى الوطني</a:t>
            </a:r>
            <a:r>
              <a:rPr b="0" lang="ar-JO" sz="1200" spc="-1" strike="noStrike">
                <a:solidFill>
                  <a:srgbClr val="000000"/>
                </a:solidFill>
                <a:latin typeface="Arial"/>
                <a:ea typeface="Arial"/>
              </a:rPr>
              <a:t> لضمان أن يتمتع بها كل الرجال والنساء والأطفال في كل دول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عب آليات العمل الدولية والإقليمية لحقوق الإنسان دوراً مهماً في دعم الجهود المبذولة </a:t>
            </a:r>
            <a:r>
              <a:rPr b="0" lang="ar-JO" sz="1200" spc="-1" strike="noStrike">
                <a:solidFill>
                  <a:srgbClr val="000000"/>
                </a:solidFill>
                <a:latin typeface="Arial"/>
                <a:cs typeface="Arial"/>
              </a:rPr>
              <a:t>لتقوية حماية حقوق الإنسان على المستوى الوطني. فأولاً، تعتبر عملية إبلاغ هيئات المعاهدة، في حد ذاتها، جزءاً مهماً من تطوير النظام الوطني لحماية حقوق الإنسان. وثانياً، تُقدِّم مخرجات هيئات المعاهدة المشورة العملية والمساعدات للدول حول كيفية تنفيذ المعاهدات على أفضل وجه.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تطيع </a:t>
            </a:r>
            <a:r>
              <a:rPr b="1" lang="ar-JO" sz="1200" spc="-1" strike="noStrike">
                <a:solidFill>
                  <a:srgbClr val="000000"/>
                </a:solidFill>
                <a:latin typeface="Arial"/>
                <a:cs typeface="Arial"/>
              </a:rPr>
              <a:t>مخرجات هيئات المعاهدة</a:t>
            </a:r>
            <a:r>
              <a:rPr b="0" lang="ar-JO" sz="1200" spc="-1" strike="noStrike">
                <a:solidFill>
                  <a:srgbClr val="000000"/>
                </a:solidFill>
                <a:latin typeface="Arial"/>
                <a:ea typeface="Arial"/>
              </a:rPr>
              <a:t> أن تُقدِّم للدول، ولفرق الأمم المتحدة القطرية والمانحين، التوجيهات المفيدة بشأن المجالات ا</a:t>
            </a:r>
            <a:r>
              <a:rPr b="1" lang="ar-JO" sz="1200" spc="-1" strike="noStrike">
                <a:solidFill>
                  <a:srgbClr val="000000"/>
                </a:solidFill>
                <a:latin typeface="Arial"/>
                <a:cs typeface="Arial"/>
              </a:rPr>
              <a:t>لتي تحتاج إلى المزيد من العمل لتقوية أنظمة الحماية الوطنية ل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ؤدي </a:t>
            </a:r>
            <a:r>
              <a:rPr b="1" lang="ar-JO" sz="1200" spc="-1" strike="noStrike">
                <a:solidFill>
                  <a:srgbClr val="000000"/>
                </a:solidFill>
                <a:latin typeface="Arial"/>
                <a:cs typeface="Arial"/>
              </a:rPr>
              <a:t>الترتيبات الإقليمية</a:t>
            </a:r>
            <a:r>
              <a:rPr b="0" lang="ar-JO" sz="1200" spc="-1" strike="noStrike">
                <a:solidFill>
                  <a:srgbClr val="000000"/>
                </a:solidFill>
                <a:latin typeface="Arial"/>
                <a:ea typeface="Arial"/>
              </a:rPr>
              <a:t> دوراً أساسياً في تعزيز وحماية حقوق الإنسان، حيث يجب أن تعزّز المعايير العالمية لحقوق الإنسان كما وردت في المعاهدات الدولية لحقوق الإنسان وفي سبل الحماية الخاصة بها. وقد صادق المؤتمر العالمي لحقوق الإنسان 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على الجهود الجارية لتقوية هذه الترتيبات وزيادة فعاليتها، بينما أكّد أهمية التعاون مع نشاطات حقوق الإنسان التي تضطلع بها الأمم المتحدة. ويكرِّر المؤتمر العالمي لحقوق الإنسان ذكر الحاجة إلى دراسة إمكانية وضع ترتيبات إقليمية وشبه إقليمية لتعزيز وحماية حقوق الإنسان حيثما لا توجد تلك الترتيبات.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أنظمة الإقليمية والدولية لحقوق الإنسان تقديم حماية دولية لحقوق الإنسان. فعلى سبيل المثال،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اتفاقية القضاء على جميع أشكال التمييز ضد المرأة، والفقرات الاختيارية الموجود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 جميعها تنصّ على وجود مثل هذه الإجراءات. كما أنّ اللجان تدرس شكاوى كهذه وتنتهي إلى إصدار قرار نهائي بشأنها يكون غير ملزم لم يصدر بحقه، ويعلن فيما إذا كانت الشكوى غير مقبولة أم مقبولة – وفي الحالة الأخيرة (قبول الشكوى) – تصدر اللجان رأياً موضوعياً حول وقائع الحالة (يحدد فيما إذا كان قد تم (أم لم يتمّ) انتهاك الحقوق الإنسانية لأصحاب الشكاوى). وكما حدّد البروتوكول الاختياري للعهد الدولي للحقوق المدنية والسياسية، يجب على الفرد </a:t>
            </a:r>
            <a:r>
              <a:rPr b="1" lang="ar-JO" sz="1200" spc="-1" strike="noStrike">
                <a:solidFill>
                  <a:srgbClr val="000000"/>
                </a:solidFill>
                <a:latin typeface="Arial"/>
                <a:cs typeface="Arial"/>
              </a:rPr>
              <a:t>أن يكون قد استنفد جميع الحلول المحلية المتوافرة</a:t>
            </a:r>
            <a:r>
              <a:rPr b="0" lang="ar-JO" sz="1200" spc="-1" strike="noStrike">
                <a:solidFill>
                  <a:srgbClr val="000000"/>
                </a:solidFill>
                <a:latin typeface="Arial"/>
                <a:ea typeface="Arial"/>
              </a:rPr>
              <a:t> قبل اللجوء إلى اللجنة. ويجب أن لا تكون الإطالة غير المعقولة لعملية معالجة الطلبات الساعية إلى الحلول، هي القاعد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حمايات القضائية وشبه القضائية الدولية والإقليمية </a:t>
            </a:r>
            <a:r>
              <a:rPr b="1" lang="ar-JO" sz="1200" spc="-1" strike="noStrike">
                <a:solidFill>
                  <a:srgbClr val="000000"/>
                </a:solidFill>
                <a:latin typeface="Arial"/>
                <a:cs typeface="Arial"/>
              </a:rPr>
              <a:t>تُتَمِّم</a:t>
            </a:r>
            <a:r>
              <a:rPr b="0" lang="ar-JO" sz="1200" spc="-1" strike="noStrike">
                <a:solidFill>
                  <a:srgbClr val="000000"/>
                </a:solidFill>
                <a:latin typeface="Arial"/>
                <a:ea typeface="Arial"/>
              </a:rPr>
              <a:t> بعضها بعضاً، وهذا يعني عدم وجود تراتب (هرمي) بين النظامين. وعندما تستنفد الحلول (المعالجات) المحلية، يتوجب على الأفراد اختيار اللجوء إلى لجنة حقوق الإنسان أو إلى المفوَّضية عَبْر الأمريكية مثلاً، وليس إليهما مع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5160"/>
            <a:ext cx="4653000" cy="3489480"/>
          </a:xfrm>
          <a:prstGeom prst="rect">
            <a:avLst/>
          </a:prstGeom>
          <a:ln w="0">
            <a:noFill/>
          </a:ln>
        </p:spPr>
      </p:sp>
      <p:sp>
        <p:nvSpPr>
          <p:cNvPr id="619" name="PlaceHolder 2"/>
          <p:cNvSpPr>
            <a:spLocks noGrp="1"/>
          </p:cNvSpPr>
          <p:nvPr>
            <p:ph type="body"/>
          </p:nvPr>
        </p:nvSpPr>
        <p:spPr>
          <a:xfrm>
            <a:off x="321840" y="4311720"/>
            <a:ext cx="62895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آليات العمل القائمة على المعاهد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هي عبارة عن هيئات أو لجان تقليدية، حيث تكون تفويضاتها/ولاياتها وأدوارها ووظائفها محدّدة في المعاهدات الدولية ل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هيئات المعاهدة (أو المعاهدات) هي عبارة عن لجان تتألف عضويتها من خبراء مستقلين يقومون بمراقبة تنفيذ المعاهدة من كل دولة طر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a:t>
            </a:r>
            <a:r>
              <a:rPr b="1" lang="ar-JO" sz="1200" spc="-1" strike="noStrike" u="sng">
                <a:solidFill>
                  <a:srgbClr val="000000"/>
                </a:solidFill>
                <a:uFillTx/>
                <a:latin typeface="Arial"/>
                <a:ea typeface="Arial"/>
              </a:rPr>
              <a:t> دراسة تقارير الدول الأطراف</a:t>
            </a:r>
            <a:r>
              <a:rPr b="0" lang="ar-JO" sz="1200" spc="-1" strike="noStrike">
                <a:solidFill>
                  <a:srgbClr val="000000"/>
                </a:solidFill>
                <a:latin typeface="Arial"/>
                <a:ea typeface="Arial"/>
              </a:rPr>
              <a:t> جنباً إلى جنب مع المعلومات المستقاة من مصادر متنوعة، بما فيها مكاتب الأمم المتحدة القُطرية ومنظمات المجتمع المدني، تُفضي إلى إقرار التوصيات والملاحظات الختامية. ويتوقَّع من الدول الأطراف اتخاذ التدابير الضرورية لتنفيذ هذه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خِّص </a:t>
            </a:r>
            <a:r>
              <a:rPr b="1" lang="ar-JO" sz="1200" spc="-1" strike="noStrike" u="sng">
                <a:solidFill>
                  <a:srgbClr val="000000"/>
                </a:solidFill>
                <a:uFillTx/>
                <a:latin typeface="Arial"/>
                <a:cs typeface="Arial"/>
              </a:rPr>
              <a:t>التوصيات والملاحظات الختامية</a:t>
            </a:r>
            <a:r>
              <a:rPr b="0" lang="ar-JO" sz="1200" spc="-1" strike="noStrike">
                <a:solidFill>
                  <a:srgbClr val="000000"/>
                </a:solidFill>
                <a:latin typeface="Arial"/>
                <a:ea typeface="Arial"/>
              </a:rPr>
              <a:t> بواعث قلق محددة تتعلق بحقوق الإنسان للمساعدة على وضع الأولويات على المستوى الوطني، مما قد يوفّر إطاراً للعمل المشترك من قبل الحكومات، ووكالات الأمم المتحدة، والمنظمات غير الحكومية وشركاء آخرين. وتعتبر التوصيات والملاحظات الختامية مرجعاً وأدوات توجيهية للبرمجة، بما فيها عمليات التقييم القطري المشترك / إطا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a:t>
            </a:r>
            <a:r>
              <a:rPr b="1" lang="ar-JO" sz="1200" spc="-1" strike="noStrike" u="sng">
                <a:solidFill>
                  <a:srgbClr val="000000"/>
                </a:solidFill>
                <a:uFillTx/>
                <a:latin typeface="Arial"/>
                <a:cs typeface="Arial"/>
              </a:rPr>
              <a:t>التعليقات العامة</a:t>
            </a:r>
            <a:r>
              <a:rPr b="0" lang="ar-JO" sz="1200" spc="-1" strike="noStrike">
                <a:solidFill>
                  <a:srgbClr val="000000"/>
                </a:solidFill>
                <a:latin typeface="Arial"/>
                <a:ea typeface="Arial"/>
              </a:rPr>
              <a:t> المحتوى الفعلي لمعايير حقوق الإنسان الواردة في المعاهدة. وتقدم هذه التعليقات توجيهات أكثر تفصيلاً حول معنى المعايير الدولية لحقوق الإنسان في جميع مراحل البرمج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شكاوى الفردية</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لاتفاقية القضاء على جميع أشكال التمييز ضد المرأة، والفقرات الاختياري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جميعها تنص على مثل هذه الإجراءات. وتدرس اللجان شكاوى كهذه وتنتهي إلى إصدار قرار نهائي يكون غير ملزم لمن يصدر بحقه، ويعلن فيما إذا كانت الشكوى غير مقبولة أم مقبولة،– وفي الحالة الأخيرة (قبول الشكوى) - تُصدر اللجان رأياً موضوعياً حول وقائع الحالة (يحدد فيما إذا قد تم (أم لم يتم) انتهاك الحقوق الإنسانية لأصحاب الشكاو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استيضاحات (التحقيقات) السري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تنص اتفاقية مناهضة التعذيب وغيره من ضروب المعاملة أو العقوبة القاسية أو اللاإنسانية أو المهينة، والبروتوكول الاختياري لاتفاقية القضاء على جميع أشكال التمييز ضد المرأة على اتِّخاذ إجراء لاستيضاح (لتحقيق) ينطلق من مبادرة ذاتية، من قبل هيئات المعاهدة الخاصة (ويعرف هذا الإجراء أيضاً بتعبير "قائم على مبادرة ذاتية"). وإذا تلقَّت اللجنة معلومات موثوق بها ومقنعة حول ممارسة التعذيب أو التمييز ضد المرأة على التوالي، بشكل نظامي ممنهج في أي إقليم من أقاليم الدولة الطرف، فقد ترسل هيئة المعاهدة بعثةً لتقصي الحقائق في الدولة المعنية، على أن يخضع ذلك لموافقة الحكومة. وقد أجرت لجنة اتفاقية مناهضة التعذيب وغيره من ضروب المعاملة أو العقوبة القاسية أو اللاإنسانية أو المهينة حتى الآن ستة استيضاحات (تحقيقات) (في مصر، والمكسيك، وبيرو، وصربيا، والجبل الأسود، وسري لانكا، وتركيا). وقد بدأت لجنة اتفاقية القضاء على جميع أشكال التمييز ضد المرأة إجراء استيضاح/تحقيق يتعلق بالمكسي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2600" y="695160"/>
            <a:ext cx="4653000" cy="3489480"/>
          </a:xfrm>
          <a:prstGeom prst="rect">
            <a:avLst/>
          </a:prstGeom>
          <a:ln w="0">
            <a:noFill/>
          </a:ln>
        </p:spPr>
      </p:sp>
      <p:sp>
        <p:nvSpPr>
          <p:cNvPr id="621" name="PlaceHolder 2"/>
          <p:cNvSpPr>
            <a:spLocks noGrp="1"/>
          </p:cNvSpPr>
          <p:nvPr>
            <p:ph type="body"/>
          </p:nvPr>
        </p:nvSpPr>
        <p:spPr>
          <a:xfrm>
            <a:off x="236160" y="4311360"/>
            <a:ext cx="6537240" cy="45860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فرق الأمم المتحدة القُطرية وهيئات المعاه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هيئاتُ معاهدة حقوق الإنسان عدداً من </a:t>
            </a:r>
            <a:r>
              <a:rPr b="1" lang="ar-JO" sz="1200" spc="-1" strike="noStrike">
                <a:solidFill>
                  <a:srgbClr val="000000"/>
                </a:solidFill>
                <a:latin typeface="Arial"/>
                <a:cs typeface="Arial"/>
              </a:rPr>
              <a:t>المداخل (نقاط الدخول)</a:t>
            </a:r>
            <a:r>
              <a:rPr b="0" lang="ar-JO" sz="1200" spc="-1" strike="noStrike">
                <a:solidFill>
                  <a:srgbClr val="000000"/>
                </a:solidFill>
                <a:latin typeface="Arial"/>
                <a:ea typeface="Arial"/>
              </a:rPr>
              <a:t> المفيدة وفرصاً </a:t>
            </a:r>
            <a:r>
              <a:rPr b="1" lang="ar-JO" sz="1200" spc="-1" strike="noStrike">
                <a:solidFill>
                  <a:srgbClr val="000000"/>
                </a:solidFill>
                <a:latin typeface="Arial"/>
                <a:cs typeface="Arial"/>
              </a:rPr>
              <a:t>للمشاركة</a:t>
            </a:r>
            <a:r>
              <a:rPr b="0" lang="ar-JO" sz="1200" spc="-1" strike="noStrike">
                <a:solidFill>
                  <a:srgbClr val="000000"/>
                </a:solidFill>
                <a:latin typeface="Arial"/>
                <a:ea typeface="Arial"/>
              </a:rPr>
              <a:t> من قبل فرق الأمم المتحدة القُطرية. فعلى سبيل المثال، تستطيع فرق الأمم المتحدة القُطرية، بشكل منتظم، تسهيل المشاركة في عملية الإبلاغ من قبل الدول والمنظمات غير الحكومية، حيثما كان ذلك ملائماً، وتقديم بيانات دقيقة إلى اللّجان. كما تستطيع استخدام مخرجاتها كأداة للبرمجة. وتُحوِّل المشاركات من هذا القبيل نشاط الإبلاغ إلى أداة ديناميكية للتقييم والحوار مع الدول، ووكالات الأمم المتحدة والمنظمات غير الحكومية، الأمر الذي يمكن أن يوفّر إطار عمل أساسي لإخضاع الدول الأطراف للمساءلة عن التزاماتهما تجاه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أمثلة على "ممارسة فض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عم عملية الإبلاغ: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الامتثال لالتزامات عملية الإبلاغ </a:t>
            </a:r>
            <a:r>
              <a:rPr b="0" lang="ar-JO" sz="1200" spc="-1" strike="noStrike">
                <a:solidFill>
                  <a:srgbClr val="000000"/>
                </a:solidFill>
                <a:latin typeface="Arial"/>
                <a:cs typeface="Arial"/>
              </a:rPr>
              <a:t>في الوقت المناسب، وبما ينسجم مع مبادئ الإبلاغ التوجيهية لدى اللّجان المعنية، بما في ذلك الإبلاغ عن ورشات العمل وغيرها من نشاطات بناء القدرات التي ينفّذها كل من الحكومة والمجتمع المد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a:t>
            </a:r>
            <a:r>
              <a:rPr b="0" lang="ar-JO" sz="1200" spc="-1" strike="noStrike">
                <a:solidFill>
                  <a:srgbClr val="000000"/>
                </a:solidFill>
                <a:latin typeface="Arial"/>
                <a:ea typeface="Arial"/>
              </a:rPr>
              <a:t> باستخدام مواد خاصة بالمفوضية السامية لحقوق الإنسان وتتعلق بعملية إبلاغ هيئة المعاهدة، وعلى وجه التحديد، دليل الأمم المتحدة للإبلاغ عن حقوق الإنسان، فقد شارك المكتب القُطري لبرنامج الأمم المتحدة الإنمائي في كازاخستان في مساعدة الحكومة في عملية الإبلاغ عن تنفيذ المعاهدة، وخصوصاً فيما يتعلق بالتقارير المطلوبة ضمن اتفاقية مناهضة التعذيب وغيره من ضروب المعاملة أو العقوبة القاسية أو اللاإنسانية أو المهينة، واتفاقية القضاء على جميع أشكال التمييز ضد المرأة، واتفاقية حقوق الطفل، واتفاقية القضاء على جميع أشكال التمييز العنصري. وقد اشتملت النشاطات على ما يلي: إعداد مواد تحليلية ومعلوماتية ليتم نشرها باللغة المحلية، وتنظيم ورشات عمل متعددة لإبراز تلك المبادئ التوجيهية، وإجراء الاتصالات المنتظمة مع مجموعات العمل المشتركة بين الوزارات والمسؤولة عن إعداد التقارير والمناصرة وكسب التأييد لشمول ممثلي المنظمات غير الحكومية في هذه المجموعات، وضمان جودة المعلو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إنشاء إطار عمل مؤسسي </a:t>
            </a:r>
            <a:r>
              <a:rPr b="0" lang="ar-JO" sz="1200" spc="-1" strike="noStrike">
                <a:solidFill>
                  <a:srgbClr val="000000"/>
                </a:solidFill>
                <a:latin typeface="Arial"/>
                <a:cs typeface="Arial"/>
              </a:rPr>
              <a:t>لإعداد التقارير وآليات العمل، للسماح لجميع قطاعات المجتمع بالمشاركة في عملية الإبلاغ وتنفيذ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2</a:t>
            </a:r>
            <a:r>
              <a:rPr b="1" i="1" lang="ar-JO" sz="1200" spc="-1" strike="noStrike">
                <a:solidFill>
                  <a:srgbClr val="000000"/>
                </a:solidFill>
                <a:latin typeface="Arial"/>
                <a:ea typeface="Arial"/>
              </a:rPr>
              <a:t>:</a:t>
            </a:r>
            <a:r>
              <a:rPr b="0" lang="ar-JO" sz="1200" spc="-1" strike="noStrike">
                <a:solidFill>
                  <a:srgbClr val="000000"/>
                </a:solidFill>
                <a:latin typeface="Arial"/>
                <a:ea typeface="Arial"/>
              </a:rPr>
              <a:t> في ديسمبر / كانون الأ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وقَّعت منظومة الأمم المتحدة في الإكوادور على اتفاقية تعاون مشترك بين المؤسسات مع وزارة (الشؤون) الخارجية. وتهدف الاتفاقية إلى توفير المساعدة للهيئة العامة للتنسيق بشأن حقوق الإنسان المُناط بها، من جملة أمور أخرى، مهمة تنسيق عملية إعداد التقارير المرفوعة إلى هيئات المعاهدة. ورغم صغر حجم المبلغ الممنوح لهذا المشروع الصغير الذي نفّذه فريق الأمم المتحدة القطري، ومقداره (</a:t>
            </a:r>
            <a:r>
              <a:rPr b="0" lang="ar-JO" sz="1200" spc="-1" strike="noStrike">
                <a:solidFill>
                  <a:srgbClr val="000000"/>
                </a:solidFill>
                <a:latin typeface="Arial"/>
                <a:ea typeface="Arial"/>
              </a:rPr>
              <a:t>10.000</a:t>
            </a:r>
            <a:r>
              <a:rPr b="0" lang="ar-JO" sz="1200" spc="-1" strike="noStrike">
                <a:solidFill>
                  <a:srgbClr val="000000"/>
                </a:solidFill>
                <a:latin typeface="Arial"/>
                <a:ea typeface="Arial"/>
              </a:rPr>
              <a:t> دولار أمريكي)، إلا أنه أتاح الفرصة لتنفيذ سلسلة من النشاطات التي اشتملت ع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1</a:t>
            </a:r>
            <a:r>
              <a:rPr b="0" lang="ar-JO" sz="1200" spc="-1" strike="noStrike">
                <a:solidFill>
                  <a:srgbClr val="000000"/>
                </a:solidFill>
                <a:latin typeface="Arial"/>
                <a:ea typeface="Arial"/>
              </a:rPr>
              <a:t>) عقد اجتماعات منتظمة لمجموعات العمل المختلفة التي تهدف إلى إعداد مختلف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a:t>
            </a:r>
            <a:r>
              <a:rPr b="0" lang="ar-JO" sz="1200" spc="-1" strike="noStrike">
                <a:solidFill>
                  <a:srgbClr val="000000"/>
                </a:solidFill>
                <a:latin typeface="Arial"/>
                <a:ea typeface="Arial"/>
              </a:rPr>
              <a:t>) قيام بعثة من المفوضية السامية لحقوق الإنسان بتقديم التوجيه حول عملية كتابة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3</a:t>
            </a:r>
            <a:r>
              <a:rPr b="0" lang="ar-JO" sz="1200" spc="-1" strike="noStrike">
                <a:solidFill>
                  <a:srgbClr val="000000"/>
                </a:solidFill>
                <a:latin typeface="Arial"/>
                <a:ea typeface="Arial"/>
              </a:rPr>
              <a:t>) إعداد نشرة تحتوي على معلومات عملية حول كيفية تقديم التقارير.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إنشاء موقع إلكتروني للّجنة العامة للتنسيق لتوفير معلومات حول المستجدات المتعلقة بإعداد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داة للمناصرة وكسب التأييد:</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لفرق الأمم المتحدة القُطرية متابعة تنفيذ الدول الأطراف للملاحظات والتوصيات الختامية الصادرة عن هيئة المعاهدة، إضافة إلى لفت انتباه الجهات الفاعلة الأخرى إلى تلك الملاحظات والتوصيات، بما فيها المؤسسات الوطنية لحقوق الإنسان والمنظمات غير الحكومية. ويمكن لفرق الأمم المتحدة القُطرية استخدام تلك التوصيات بوصفها أداة لتشجيع ما يلزم من المراجعات أو التغييرات التشريعية والسياساتية والبرامجية وتلك المتعلقة بالموازنة، إضافة إلى التنفيذ الفعال للتشريعات أو السياسات الموجودة. كذلك يجب على تلك التوصيات أن تكون مصدر إلهام لعمل الأمم المتحدة على المستوى القُطري، وأن تُسهم في التقييمات القطرية المشتركة / أط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3</a:t>
            </a:r>
            <a:r>
              <a:rPr b="1" i="1" lang="ar-JO" sz="1200" spc="-1" strike="noStrike">
                <a:solidFill>
                  <a:srgbClr val="000000"/>
                </a:solidFill>
                <a:latin typeface="Arial"/>
                <a:ea typeface="Arial"/>
              </a:rPr>
              <a:t>: </a:t>
            </a:r>
            <a:r>
              <a:rPr b="0" lang="ar-JO" sz="1200" spc="-1" strike="noStrike">
                <a:solidFill>
                  <a:srgbClr val="000000"/>
                </a:solidFill>
                <a:latin typeface="Arial"/>
                <a:cs typeface="Arial"/>
              </a:rPr>
              <a:t>قام برنامج الأمم المتحدة الإنمائي في زامبيا بتدريب المسؤولين الحكوميين على عملية الإبلاغ من جانب الدولة، ويعمل البرنامج الآن، بالتعاون مع لجنة حقوق الإنسان ووزارة العدل، على التخطيط لعقد ورشة عمل مشتركة تهدف إلى نشر تقارير الدولة وإلى اكتشاف الخطوات التالية لتوجيه الحكومة في عملية تطوير السياسات المستقب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2600" y="695160"/>
            <a:ext cx="4653000" cy="3489480"/>
          </a:xfrm>
          <a:prstGeom prst="rect">
            <a:avLst/>
          </a:prstGeom>
          <a:ln w="0">
            <a:noFill/>
          </a:ln>
        </p:spPr>
      </p:sp>
      <p:sp>
        <p:nvSpPr>
          <p:cNvPr id="623" name="PlaceHolder 2"/>
          <p:cNvSpPr>
            <a:spLocks noGrp="1"/>
          </p:cNvSpPr>
          <p:nvPr>
            <p:ph type="body"/>
          </p:nvPr>
        </p:nvSpPr>
        <p:spPr>
          <a:xfrm>
            <a:off x="398160" y="4416480"/>
            <a:ext cx="6213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الذي يجعل مجلس حقوق الإنسان مختلفاً عن سلفه: المفوضية السامي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ف المفوض السامي للأمم المتحدة لحقوق الإنسان، لويس آربور، تأسيس مجلس الأمم المتحدة لحقوق الإنسان بأنه أكثر من مفوّضية "جديدة ومحسَّنة" تُعنى بحقوق الإنسان، وهي المفوَّضية التي يحل محلّها. فبالإضافة إلى الاحتفاظ ببعض أفضل عناصر المفوّضية، مثل نظام المحقِّقين المستقلين والمشاركة الواسعة للمجتمع المدني، ثمة خصائص جديدة عديدة تجعل من المجلس هيئة أو مفوَّضية أقوى، ومن هذه الخصائص: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جب على المرشحين للعضوية تقديم التزامات ملموسة لتعزيز حقوق الإنسان ودعمها </a:t>
            </a:r>
            <a:r>
              <a:rPr b="1" lang="ar-JO" sz="1200" spc="-1" strike="noStrike">
                <a:solidFill>
                  <a:srgbClr val="000000"/>
                </a:solidFill>
                <a:latin typeface="Arial"/>
                <a:ea typeface="Arial"/>
              </a:rPr>
              <a:t>(تعهدات الدولة لمجلس 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رشحين للعضوية التنافس على مقاعد عضوية المجلس، وهم بحاجة إلى الفوز بدعم غالبية جميع الدول الأعضاء ضمن عملية اقتراع س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كون الأعضاء المنتخبون من أوائل الخاضعين للتدقيق والفحص ضمن مراجعة دورية عامة لسجلاتهم المتعلقة ب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أعضاء الذين يرتكبون انتهاكات جسيمة ومنتظمة لحقوق الإنسان تُوقف عضوي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قع من الأعضاء الالتزام بالتعاون مع المجلس ومع مختلف آليات عم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جتمع المجلس طوال العام بما لا يقل عن جلسات لم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أسابيع بدلاً عن الجلسة الوحيدة للمفوضية لمدة ستة أسابيع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يف يُعتبر انتخاب أعضاء المجلس تحسّ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ثِّل الطريقة التي يتم من خلالها انتخاب أعضاء المجلس تحسُّناً / تطوراً كبيراً عما كان عليه الحال في المفوَّضية السابقة. ويتطلب انتخاب المجلس الحصول على غالبية مطلقة من الدول الأعضاء في الأمم المتحدة: فمن بين الدول الأعضاء في الأمم المتحدة، البالغ عددها </a:t>
            </a:r>
            <a:r>
              <a:rPr b="0" lang="ar-JO" sz="1200" spc="-1" strike="noStrike">
                <a:solidFill>
                  <a:srgbClr val="000000"/>
                </a:solidFill>
                <a:latin typeface="Arial"/>
                <a:ea typeface="Arial"/>
              </a:rPr>
              <a:t>191</a:t>
            </a:r>
            <a:r>
              <a:rPr b="0" lang="ar-JO" sz="1200" spc="-1" strike="noStrike">
                <a:solidFill>
                  <a:srgbClr val="000000"/>
                </a:solidFill>
                <a:latin typeface="Arial"/>
                <a:ea typeface="Arial"/>
              </a:rPr>
              <a:t> عضواً، يجب أن يدعم </a:t>
            </a:r>
            <a:r>
              <a:rPr b="0" lang="ar-JO" sz="1200" spc="-1" strike="noStrike">
                <a:solidFill>
                  <a:srgbClr val="000000"/>
                </a:solidFill>
                <a:latin typeface="Arial"/>
                <a:ea typeface="Arial"/>
              </a:rPr>
              <a:t>96</a:t>
            </a:r>
            <a:r>
              <a:rPr b="0" lang="ar-JO" sz="1200" spc="-1" strike="noStrike">
                <a:solidFill>
                  <a:srgbClr val="000000"/>
                </a:solidFill>
                <a:latin typeface="Arial"/>
                <a:ea typeface="Arial"/>
              </a:rPr>
              <a:t> عضواً منهم على الأقل عضوية الدولة من خلال اقتراع سري. إن هذا الحد الأدنى أكبر بكثير من الأصوات البالغ عددها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صوتاً أو أقل، التي كان يمكنها الحصول على عضوية الدولة في المفوَّضية، وسوف يسمح هذا الحد للدول بمنع انتخاب مرتكبي الانتهاكات الشائنة والفظيع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أعضاء الذين يشكلون المجلس الجدي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لغ عدد الأعضاء المنتخبين لعضوية المجلس </a:t>
            </a:r>
            <a:r>
              <a:rPr b="0" lang="ar-JO" sz="1200" spc="-1" strike="noStrike">
                <a:solidFill>
                  <a:srgbClr val="000000"/>
                </a:solidFill>
                <a:latin typeface="Arial"/>
                <a:ea typeface="Arial"/>
              </a:rPr>
              <a:t>47</a:t>
            </a:r>
            <a:r>
              <a:rPr b="0" lang="ar-JO" sz="1200" spc="-1" strike="noStrike">
                <a:solidFill>
                  <a:srgbClr val="000000"/>
                </a:solidFill>
                <a:latin typeface="Arial"/>
                <a:ea typeface="Arial"/>
              </a:rPr>
              <a:t> دولة في </a:t>
            </a:r>
            <a:r>
              <a:rPr b="0" lang="ar-JO" sz="1200" spc="-1" strike="noStrike">
                <a:solidFill>
                  <a:srgbClr val="000000"/>
                </a:solidFill>
                <a:latin typeface="Arial"/>
                <a:ea typeface="Arial"/>
              </a:rPr>
              <a:t>9</a:t>
            </a:r>
            <a:r>
              <a:rPr b="0" lang="ar-JO" sz="1200" spc="-1" strike="noStrike">
                <a:solidFill>
                  <a:srgbClr val="000000"/>
                </a:solidFill>
                <a:latin typeface="Arial"/>
                <a:ea typeface="Arial"/>
              </a:rPr>
              <a:t> مايو / أيار عام </a:t>
            </a: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وقد تم انتخابهم وفقاً للتمثيل الجغرافي: حيث تم انتخاب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إفريقية، و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آسيوية، و </a:t>
            </a:r>
            <a:r>
              <a:rPr b="0" lang="ar-JO" sz="1200" spc="-1" strike="noStrike">
                <a:solidFill>
                  <a:srgbClr val="000000"/>
                </a:solidFill>
                <a:latin typeface="Arial"/>
                <a:ea typeface="Arial"/>
              </a:rPr>
              <a:t>6</a:t>
            </a:r>
            <a:r>
              <a:rPr b="0" lang="ar-JO" sz="1200" spc="-1" strike="noStrike">
                <a:solidFill>
                  <a:srgbClr val="000000"/>
                </a:solidFill>
                <a:latin typeface="Arial"/>
                <a:ea typeface="Arial"/>
              </a:rPr>
              <a:t> دول من مجموعة أوروبا الشرقية، و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دول من مجموعة أمريكا اللاتينية والكاريبي، و </a:t>
            </a:r>
            <a:r>
              <a:rPr b="0" lang="ar-JO" sz="1200" spc="-1" strike="noStrike">
                <a:solidFill>
                  <a:srgbClr val="000000"/>
                </a:solidFill>
                <a:latin typeface="Arial"/>
                <a:ea typeface="Arial"/>
              </a:rPr>
              <a:t>7</a:t>
            </a:r>
            <a:r>
              <a:rPr b="0" lang="ar-JO" sz="1200" spc="-1" strike="noStrike">
                <a:solidFill>
                  <a:srgbClr val="000000"/>
                </a:solidFill>
                <a:latin typeface="Arial"/>
                <a:ea typeface="Arial"/>
              </a:rPr>
              <a:t> دول من مجموعة أوروبا الغربية ومن غيرها من الدول.</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5160"/>
            <a:ext cx="4653000" cy="3489480"/>
          </a:xfrm>
          <a:prstGeom prst="rect">
            <a:avLst/>
          </a:prstGeom>
          <a:ln w="0">
            <a:noFill/>
          </a:ln>
        </p:spPr>
      </p:sp>
      <p:sp>
        <p:nvSpPr>
          <p:cNvPr id="625"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الإجراءات الخاصة"</a:t>
            </a:r>
            <a:r>
              <a:rPr b="0" lang="ar-JO" sz="1200" spc="-1" strike="noStrike">
                <a:solidFill>
                  <a:srgbClr val="000000"/>
                </a:solidFill>
                <a:latin typeface="Arial"/>
                <a:ea typeface="Arial"/>
              </a:rPr>
              <a:t> هو الاسم العام لآليات العمل التي يضطلع بها مجلس حقوق الإنسان للتصدي إما لأوضاع معيَّنة في الدول وإما لقضايا محورية رئيسة (مواضيعية) في جميع أنحاء العالم. ويوجد في الوقت الحاضر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هيئة مفوّضة تفويضاً يتعلق بالقضايا المحورية أو الرئيسية و</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هيئة مفوّضةً تفويضاً يتعلق </a:t>
            </a:r>
            <a:r>
              <a:rPr b="1" lang="ar-JO" sz="1200" spc="-1" strike="noStrike" u="sng">
                <a:solidFill>
                  <a:srgbClr val="000000"/>
                </a:solidFill>
                <a:uFillTx/>
                <a:latin typeface="Arial"/>
                <a:cs typeface="Arial"/>
              </a:rPr>
              <a:t>بالدول</a:t>
            </a:r>
            <a:r>
              <a:rPr b="0" lang="ar-JO" sz="1200" spc="-1" strike="noStrike">
                <a:solidFill>
                  <a:srgbClr val="000000"/>
                </a:solidFill>
                <a:latin typeface="Arial"/>
                <a:ea typeface="Arial"/>
              </a:rPr>
              <a:t>. ويزود مكتب المفوضية السامية لحقوق الإنسان آليات العمل هذه بالكوادر وبالمساعدات اللوجستية لمساعدتهم على القيام بواجباتهم التفويض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رغم من اختلاف التفويضات الممنوحة لآليات العمل المعنية بالإجراءات الخاصة، إلاّ أنها جميعها تعمل عادة على دراسة أوضاع حقوق الإنسان ومراقبتها، وتقديم المشورة لها والإبلاغ عنها علانيةً، في دول أو أقاليم محددة، ويعرف ذلك </a:t>
            </a:r>
            <a:r>
              <a:rPr b="1" lang="ar-JO" sz="1200" spc="-1" strike="noStrike">
                <a:solidFill>
                  <a:srgbClr val="000000"/>
                </a:solidFill>
                <a:latin typeface="Arial"/>
                <a:cs typeface="Arial"/>
              </a:rPr>
              <a:t>بالتفويضات المعنية بالدول، أو بالتفويضات المواضيعية (المعنية بالمحاور أو بالقضايا الرئيسة) التي تتناول ظواهر رئيسة </a:t>
            </a:r>
            <a:r>
              <a:rPr b="0" lang="ar-JO" sz="1200" spc="-1" strike="noStrike">
                <a:solidFill>
                  <a:srgbClr val="000000"/>
                </a:solidFill>
                <a:latin typeface="Arial"/>
                <a:cs typeface="Arial"/>
              </a:rPr>
              <a:t>لانتهاكات حقوق الإنسان على مستوى العال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كون الإجراءات الخاصة إما فردية (وتسمّى "المقرر الخاص"، أو "الممثل الخاص للأمين العام"، أو "ممثل الأمين العام"، أو "الخبير المستقل")، وإما جماعية: مجموعة عمل تتألف عادةً من خمسة أعضاء. أما التفويضات المعنية بالإجراءات الخاصة فيتم تحديدها وتعريفها في القرار الذي يُنشئ تلك التفويضات. ويعمل أصحاب أو حَمَلة التفويضات المعنيين بالإجراءات الخاصة بصفتهم الشخصية، ولا يتلقون رواتب أو أية مكافآت مالية لقاء عملهم. وتعتبر الحالة المستقلة لأصحاب التفويضات أساسية ليكونوا قادرين على إنجاز وظائفهم بنزاهة ت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2600" y="695160"/>
            <a:ext cx="4653000" cy="3489480"/>
          </a:xfrm>
          <a:prstGeom prst="rect">
            <a:avLst/>
          </a:prstGeom>
          <a:ln w="0">
            <a:noFill/>
          </a:ln>
        </p:spPr>
      </p:sp>
      <p:sp>
        <p:nvSpPr>
          <p:cNvPr id="627"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وم الإجراءات الخاصة (آليات العمل) بزيارات للدول أو ببعثات لتقصّي الحقائق، </a:t>
            </a:r>
            <a:r>
              <a:rPr b="0" lang="ar-JO" sz="1200" spc="-1" strike="noStrike">
                <a:solidFill>
                  <a:srgbClr val="000000"/>
                </a:solidFill>
                <a:latin typeface="Arial"/>
                <a:cs typeface="Arial"/>
              </a:rPr>
              <a:t>وتتمخض تلك الزيارات والحملات عن إعداد تقارير عامة تحتوي على ملاحظات وتوصيات للدول ينبغي عليها متابع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تلقَّى معظم الإجراءات الخاصة معلومات حول ادعاءات أو مزاعم محددة لانتهاكات حقوق الإنسان، وترسل </a:t>
            </a:r>
            <a:r>
              <a:rPr b="1" lang="ar-JO" sz="1200" spc="-1" strike="noStrike" u="sng">
                <a:solidFill>
                  <a:srgbClr val="000000"/>
                </a:solidFill>
                <a:uFillTx/>
                <a:latin typeface="Arial"/>
                <a:cs typeface="Arial"/>
              </a:rPr>
              <a:t>نداءات عاجلة أو رسائل تتضمن ادعاءات،</a:t>
            </a:r>
            <a:r>
              <a:rPr b="0" lang="ar-JO" sz="1200" spc="-1" strike="noStrike">
                <a:solidFill>
                  <a:srgbClr val="000000"/>
                </a:solidFill>
                <a:latin typeface="Arial"/>
                <a:ea typeface="Arial"/>
              </a:rPr>
              <a:t> إلى الحكومات مطالبة بتوضيح للحالة أو القضية، وبتطبيق تدابير وقائية أو علاجية، وباحترام المعايير الدولية. ويمكن أن يكون التدخل متعلقاً بانتهاكات لحقوق الإنسان حدثت سابقاً، أو بانتهاكات مستمرة، أو بانتهاكات تُنذر بوقوع مخاطر كبيرة. ويعتبر هذا الإجراء سرياً بهدف صون سلامة الأشخاص الذين يطلبون عملاً طارئاً. ويمكن إرسال الطلبات إلى الموقع الإليكتروني &lt;</a:t>
            </a:r>
            <a:r>
              <a:rPr b="0" lang="en-US" sz="1200" spc="-1" strike="noStrike">
                <a:solidFill>
                  <a:srgbClr val="000000"/>
                </a:solidFill>
                <a:latin typeface="Arial"/>
                <a:ea typeface="굴림"/>
              </a:rPr>
              <a:t>urgent-action@ohchr.org</a:t>
            </a:r>
            <a:r>
              <a:rPr b="0" lang="ar-JO" sz="1200" spc="-1" strike="noStrike">
                <a:solidFill>
                  <a:srgbClr val="000000"/>
                </a:solidFill>
                <a:latin typeface="Arial"/>
                <a:ea typeface="Arial"/>
              </a:rPr>
              <a:t>&g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a:t>
            </a:r>
            <a:r>
              <a:rPr b="1" lang="ar-JO" sz="1200" spc="-1" strike="noStrike">
                <a:solidFill>
                  <a:srgbClr val="000000"/>
                </a:solidFill>
                <a:latin typeface="Arial"/>
                <a:cs typeface="Arial"/>
              </a:rPr>
              <a:t>الإجراءات الخاصة تقوم بتنفيذ دراسات مواضيعية</a:t>
            </a:r>
            <a:r>
              <a:rPr b="0" lang="ar-JO" sz="1200" spc="-1" strike="noStrike">
                <a:solidFill>
                  <a:srgbClr val="000000"/>
                </a:solidFill>
                <a:latin typeface="Arial"/>
                <a:ea typeface="Arial"/>
              </a:rPr>
              <a:t> (أي دراسات عن محاور أو قضايا رئيسة) تقدم التوجيه حول المحتوى المعياري وإعمال (تنفيذ وتطبيق) معايير ومبادئ حقوق الإنسان بوصفها قاعدة ل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مكاتب الأمم المتحدة القُطرية وإعداد وإرسال بعثات الإجراءات الخاصة:</a:t>
            </a:r>
            <a:r>
              <a:rPr b="0" lang="ar-JO" sz="1200" spc="-1" strike="noStrike">
                <a:solidFill>
                  <a:srgbClr val="000000"/>
                </a:solidFill>
                <a:latin typeface="Arial"/>
                <a:ea typeface="Arial"/>
              </a:rPr>
              <a:t> إن المشاركة الجوهرية لمكاتب الأمم المتحدة القُطرية في إعداد/وإرسال البعثات تمنح الفرصة لتحديث المعلومات التي تم فعلاً تلقيها من أصحاب التفويضات، ولإضفاء الصبغة السياقية عليها، إضافة إلى تعرّف الأشخاص والمواقع والمواد الواجب الرجوع إليها. ويمكن لتلك المشاركة كذلك إتاحة الفرص لمكتب الأمم المتحدة القُطري للمشاركة في حوار حول قضايا حقوق الإنسان، مع مجموعة متنوعة من أصحاب المصلحة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مارسة فضلى:</a:t>
            </a:r>
            <a:r>
              <a:rPr b="0" lang="ar-JO" sz="1200" spc="-1" strike="noStrike">
                <a:solidFill>
                  <a:srgbClr val="000000"/>
                </a:solidFill>
                <a:latin typeface="Arial"/>
                <a:ea typeface="Arial"/>
              </a:rPr>
              <a:t> فوّض فريق الأمم المتحدة القُطري في غواتيمالا مجموعة أو فرقة عمل مواضيعية تابعة للأمم المتحدة، معنية بالأمن الغذائي، بالإعداد لزيارة المقرر الخاص للحق في الحصول على الغذاء في يناير / كانون الثان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كذلك فقد أعدَّت المجموعة المواضيعية تقريراً شاملاً مشتركاً بين الوكالات عن وضع الدولة حول الحق في الحصول على الغذاء، بوصفه من المعطيات أو المدخلات التي تُعطى للمقرر الخاص. وقد اشتمل التقرير على ملخَّص للنقاط الرئيسة الواجب على المقرر الخاص طرحها، ومن بينها كسب التأييد من الحكومة والكونغرس (مجلس الشيوخ) خلال الزيارة لتبنّي القانون الوطني حول الأمن الغذائي. وقد صادق الكونغرس على القانون بعد الزيارة بأربعة شهو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ابعة البعثات والمناصرة:</a:t>
            </a:r>
            <a:r>
              <a:rPr b="0" lang="ar-JO" sz="1200" spc="-1" strike="noStrike">
                <a:solidFill>
                  <a:srgbClr val="000000"/>
                </a:solidFill>
                <a:latin typeface="Arial"/>
                <a:ea typeface="Arial"/>
              </a:rPr>
              <a:t> يُمكن لفرق الأمم المتحدة القُطرية الإفادة من الاهتمام الذي يتولّد عقب الزيارة، إضافة إلى المحافظة على الاتصال مع صاحب التفويض، وذلك للمحافظة على زَخم التصدي لقضايا حقوق الإنسان. ويمكن لفرق الأمم المتحدة القُطرية تشجيع الحكومة على التعاون مع أصحاب التفويضات بالإجراءات الخاصة، ودعوتهم إلى المشاركة وتنفيذ توصيا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ة فضلى:</a:t>
            </a:r>
            <a:r>
              <a:rPr b="0" lang="ar-JO" sz="1200" spc="-1" strike="noStrike">
                <a:solidFill>
                  <a:srgbClr val="000000"/>
                </a:solidFill>
                <a:latin typeface="Arial"/>
                <a:ea typeface="Arial"/>
              </a:rPr>
              <a:t> بعد زيارة ممثل الأمين العام حول الأشخاص النازحين داخلياً إلى الحكومة الفدرالية الروسية في سبتمبر / أيل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قررت السلطات إغلاق أحد المخيّمات المكوَّنة من الخيام في "إنغوشتيا"، والتي زارها الممثل المذكور. وقد أطلع الخبير فريق الأمم المتحدة القُطري عما لديه من بواعث قلق ومفادها أنّ النازحين داخلياً قد لا يتوافر لديهم خيار سوى العودة إلى الشيشان. وقد أثار مكتب الأمم المتحدة القُطري المسألة مع الحكومة، وأخيراً تم نقل أولئك النازحين داخلياً - الذين لا يرغبون في الرجوع – إلى أحد المخيمات المتبقية التي تعيش في ظروف أفضل قلي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a:t>
            </a:r>
            <a:r>
              <a:rPr b="0" lang="ar-JO" sz="1200" spc="-1" strike="noStrike">
                <a:solidFill>
                  <a:srgbClr val="000000"/>
                </a:solidFill>
                <a:latin typeface="Arial"/>
                <a:ea typeface="Arial"/>
              </a:rPr>
              <a:t>: تستطيع التوصيات التي تم تقديمها أن تعمل كنقطة انطلاق للبرمجة والبناء المؤسسي على مدى أط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امت حكومة أوغندة باستخدام المبادئ التوجيهية لعام </a:t>
            </a:r>
            <a:r>
              <a:rPr b="0" lang="ar-JO" sz="1200" spc="-1" strike="noStrike">
                <a:solidFill>
                  <a:srgbClr val="000000"/>
                </a:solidFill>
                <a:latin typeface="Arial"/>
                <a:ea typeface="Arial"/>
              </a:rPr>
              <a:t>1998</a:t>
            </a:r>
            <a:r>
              <a:rPr b="0" lang="ar-JO" sz="1200" spc="-1" strike="noStrike">
                <a:solidFill>
                  <a:srgbClr val="000000"/>
                </a:solidFill>
                <a:latin typeface="Arial"/>
                <a:ea typeface="Arial"/>
              </a:rPr>
              <a:t> بشأن النازحين داخلياً - التي فصَّلها الممثل الخاص للأمين العام حول الأشخاص النازحين داخلياً - كأساس لسياستها بشأن النازحين داخلياً، ويقدّم مكتب الأمم المتحدة القطري دعماً مفيداً في هذا المجال. كذلك فقد تم استخدام المبادئ التوجيهية تلك كأساس لوحدة التدريب المتكاملة التي أعدها مكتب تنسيق الشؤون الإنسانية بشأن النازحين داخلي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2600" y="695160"/>
            <a:ext cx="4653000" cy="3489480"/>
          </a:xfrm>
          <a:prstGeom prst="rect">
            <a:avLst/>
          </a:prstGeom>
          <a:ln w="0">
            <a:noFill/>
          </a:ln>
        </p:spPr>
      </p:sp>
      <p:sp>
        <p:nvSpPr>
          <p:cNvPr id="629"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 بديل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نيجريا (تم تسجيله من خلال الإعلان في البرنامج الحواري </a:t>
            </a:r>
            <a:r>
              <a:rPr b="1" lang="en-US" sz="1200" spc="-1" strike="noStrike">
                <a:solidFill>
                  <a:srgbClr val="000000"/>
                </a:solidFill>
                <a:latin typeface="Arial"/>
                <a:ea typeface="굴림"/>
              </a:rPr>
              <a:t>Huritalk</a:t>
            </a:r>
            <a:r>
              <a:rPr b="1" lang="ar-JO" sz="1200" spc="-1" strike="noStrike">
                <a:solidFill>
                  <a:srgbClr val="000000"/>
                </a:solidFill>
                <a:latin typeface="Arial"/>
                <a:ea typeface="Arial"/>
              </a:rPr>
              <a:t> في يونيو/حزير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أية طريقة أثَّرت ملاحظات وتوصيات هيئات المعاهدة والإجراءات الخاصة في أجندة وعمل منظومة الأمم المتحدة في بلدك؟ وإن لم تؤثِّر، فلماذ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ت عمليات الإصلاح التشريعي الحديثة المعنية بالنِّساء والأطفال في نيجيريا قائمة على الملاحظات والتوصيات الختامية للجنة اتفاقية حقوق الطفل ولجنة اتفاقية القضاء على جميع أشكال التمييز ضد المرأة فيما يتعلق بالتقارير الدورية التي تُعدّها نيجيريا منذ عام </a:t>
            </a:r>
            <a:r>
              <a:rPr b="1" lang="ar-JO" sz="1200" spc="-1" strike="noStrike">
                <a:solidFill>
                  <a:srgbClr val="000000"/>
                </a:solidFill>
                <a:latin typeface="Arial"/>
                <a:ea typeface="Arial"/>
              </a:rPr>
              <a:t>1995</a:t>
            </a:r>
            <a:r>
              <a:rPr b="1" lang="ar-JO" sz="1200" spc="-1" strike="noStrike">
                <a:solidFill>
                  <a:srgbClr val="000000"/>
                </a:solidFill>
                <a:latin typeface="Arial"/>
                <a:ea typeface="Arial"/>
              </a:rPr>
              <a:t>. وتركز التوصيات الصادرة عن كلتا اللجنتين على الحاجة إلى ردِّ الحكومة على مكافحة الاتّجار بالنساء والأطفال. فعلى سبيل المثا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بل تقديم التقرير الأولي والتقرير الأول الدوري عن اتفاقية حقوق الطفل والتقريرين الدوريين الرابع والخامس عن اتفاقية القضاء على جميع أشكال التمييز ضد المرأة، رفضت الحكومة الاعتراف بأن نيجيريا كانت دولة مصدراً وعبوراً ومقصداً للاتّجار بالبشر. بَيْدَ أنه عندما تمت مواجهة وفد الدولة بهذه المشكلة أثناء الدفاع عن كلا التقريرين وبتغذية راجعة لاحقة في الملاحظات الختامية، تم إدراج قضية الاتِّجار بالأشخاص ضمن الأجندة الوطنية تدريجياً. وبعد سلسلة من الجلسات التشاورية مع الحكومة، تمت مواءمة </a:t>
            </a:r>
            <a:r>
              <a:rPr b="1" i="1" lang="ar-JO" sz="1200" spc="-1" strike="noStrike">
                <a:solidFill>
                  <a:srgbClr val="000000"/>
                </a:solidFill>
                <a:latin typeface="Arial"/>
                <a:cs typeface="Arial"/>
              </a:rPr>
              <a:t>البروتوكول المعني بالاتجار الدولي واتفاقية حقوق الطفل مع السياق المحلي.</a:t>
            </a:r>
            <a:r>
              <a:rPr b="1" lang="ar-JO" sz="1200" spc="-1" strike="noStrike">
                <a:solidFill>
                  <a:srgbClr val="000000"/>
                </a:solidFill>
                <a:latin typeface="Arial"/>
                <a:ea typeface="Arial"/>
              </a:rPr>
              <a:t> وخلال مدة دامت أربع سنوات،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عملت الحكومة على سنّ ونشر قانون شامل لحقوق الطفل بالإضافة إلى قانون نموذجي لمكافحة الاتجار. وقد تم كذلك إنشاء آلية عمل مؤسسية للردِّ على هذه القضية من خلال تأسيس وكالة أو هيئة وطنية لمنع الاتِّجار بالأشخاص.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أدوات توجيهية للبرمجة المشتركة: </a:t>
            </a:r>
            <a:r>
              <a:rPr b="1" lang="ar-JO" sz="1200" spc="-1" strike="noStrike">
                <a:solidFill>
                  <a:srgbClr val="000000"/>
                </a:solidFill>
                <a:latin typeface="Arial"/>
                <a:cs typeface="Arial"/>
              </a:rPr>
              <a:t>عمل النشر الواسع للملاحظات الختامية على خلق الوعي بالفجوات القائمة والواجب التصدي لها في البرمجة. وقد تم إعداد خطة عمل وطنية والبدء بمقاضاة المخالفين/المُنتهكين ومعاقبتهم. إن نشاطات رفع وتيرة الوعي والتدريب المعنية بالهجرة، والشرطة، وصانعي السياسات والمنظمات غير الحكومية المشاركة في مكافحة الاتجار جميعها مدعومة أيضاً من قبل اليونيسف، ومنظمة العمل الدولية، والوكالة الأمريكية للتنمية الدولية، والحكومة الإيطالية والمملكة المتحدة. وقد تم تكثيف الجهود حول التعاون الدولي والإقليمي والثنائي، وبخاصة مع دول المنشأ والعبور والمقصد للاتجار على وجه الخصوص. كما تم تقديم النشاطات المدرَّة للدخل، والمنح والدعم الانمائي (القروض) بوصفها جزءاً من التدابير الهادفة إلى تحسين الوضع الاقتصادي للأس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5160"/>
            <a:ext cx="4653000" cy="3489480"/>
          </a:xfrm>
          <a:prstGeom prst="rect">
            <a:avLst/>
          </a:prstGeom>
          <a:ln w="0">
            <a:noFill/>
          </a:ln>
        </p:spPr>
      </p:sp>
      <p:sp>
        <p:nvSpPr>
          <p:cNvPr id="631"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خرجات هيئات المعاهدة والإجراءات الخاصة</a:t>
            </a:r>
            <a:r>
              <a:rPr b="0" lang="ar-JO" sz="1200" spc="-1" strike="noStrike">
                <a:solidFill>
                  <a:srgbClr val="000000"/>
                </a:solidFill>
                <a:latin typeface="Arial"/>
                <a:ea typeface="Arial"/>
              </a:rPr>
              <a:t> متوافرة في صفحة الموقع الإلكتروني لمكتب المفوضية السامية لحقوق الإنسان (</a:t>
            </a:r>
            <a:r>
              <a:rPr b="0" lang="en-US" sz="1200" spc="-1" strike="noStrike" u="sng">
                <a:solidFill>
                  <a:srgbClr val="009999"/>
                </a:solidFill>
                <a:uFillTx/>
                <a:latin typeface="Arial"/>
                <a:ea typeface="굴림"/>
                <a:hlinkClick r:id="rId1"/>
              </a:rPr>
              <a:t>www.ohchr.org</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الصفحة المعلومات التالية عن كل دولة .... (اقرأها من ال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لصفحة تقدم رابطاً </a:t>
            </a:r>
            <a:r>
              <a:rPr b="1" lang="ar-JO" sz="1200" spc="-1" strike="noStrike">
                <a:solidFill>
                  <a:srgbClr val="000000"/>
                </a:solidFill>
                <a:latin typeface="Arial"/>
                <a:cs typeface="Arial"/>
              </a:rPr>
              <a:t>لقاعدة بيانات هيئة المعاهدة</a:t>
            </a:r>
            <a:r>
              <a:rPr b="0" lang="ar-JO" sz="1200" spc="-1" strike="noStrike">
                <a:solidFill>
                  <a:srgbClr val="000000"/>
                </a:solidFill>
                <a:latin typeface="Arial"/>
                <a:ea typeface="Arial"/>
              </a:rPr>
              <a:t> حيث يمكن إيجاد</a:t>
            </a:r>
            <a:r>
              <a:rPr b="1" lang="ar-JO" sz="1200" spc="-1" strike="noStrike">
                <a:solidFill>
                  <a:srgbClr val="000000"/>
                </a:solidFill>
                <a:latin typeface="Arial"/>
                <a:ea typeface="Arial"/>
              </a:rPr>
              <a:t> تقارير كل دولة طرف</a:t>
            </a:r>
            <a:r>
              <a:rPr b="0" lang="ar-JO" sz="1200" spc="-1" strike="noStrike">
                <a:solidFill>
                  <a:srgbClr val="000000"/>
                </a:solidFill>
                <a:latin typeface="Arial"/>
                <a:ea typeface="Arial"/>
              </a:rPr>
              <a:t> وجميع الوثائق الصادرة عن هيئة المعاه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a:t>
            </a:r>
            <a:r>
              <a:rPr b="1" lang="ar-JO" sz="1200" spc="-1" strike="noStrike">
                <a:solidFill>
                  <a:srgbClr val="000000"/>
                </a:solidFill>
                <a:latin typeface="Arial"/>
                <a:cs typeface="Arial"/>
              </a:rPr>
              <a:t>روزنامةُ الأحداث</a:t>
            </a:r>
            <a:r>
              <a:rPr b="0" lang="ar-JO" sz="12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lang="ar-JO" sz="1200" spc="-1" strike="noStrike">
                <a:solidFill>
                  <a:srgbClr val="000000"/>
                </a:solidFill>
                <a:latin typeface="Arial"/>
                <a:cs typeface="Arial"/>
              </a:rPr>
              <a:t>عن الدول</a:t>
            </a:r>
            <a:r>
              <a:rPr b="0" lang="ar-JO" sz="12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الصفحة أيضاً روابط إليكترونية خاصة </a:t>
            </a:r>
            <a:r>
              <a:rPr b="1" lang="ar-JO" sz="1200" spc="-1" strike="noStrike">
                <a:solidFill>
                  <a:srgbClr val="000000"/>
                </a:solidFill>
                <a:latin typeface="Arial"/>
                <a:cs typeface="Arial"/>
              </a:rPr>
              <a:t>باتفاقيات جنيف، واتفاقيات اللاجئين</a:t>
            </a:r>
            <a:r>
              <a:rPr b="0" lang="ar-JO" sz="1200" spc="-1" strike="noStrike">
                <a:solidFill>
                  <a:srgbClr val="000000"/>
                </a:solidFill>
                <a:latin typeface="Arial"/>
                <a:ea typeface="Arial"/>
              </a:rPr>
              <a:t> (القانون الإنساني) </a:t>
            </a:r>
            <a:r>
              <a:rPr b="1" lang="ar-JO" sz="1200" spc="-1" strike="noStrike">
                <a:solidFill>
                  <a:srgbClr val="000000"/>
                </a:solidFill>
                <a:latin typeface="Arial"/>
                <a:cs typeface="Arial"/>
              </a:rPr>
              <a:t>واتفاقيات منظمة العمل الدولية</a:t>
            </a:r>
            <a:r>
              <a:rPr b="0" lang="ar-JO" sz="1200" spc="-1" strike="noStrike">
                <a:solidFill>
                  <a:srgbClr val="000000"/>
                </a:solidFill>
                <a:latin typeface="Arial"/>
                <a:ea typeface="Arial"/>
              </a:rPr>
              <a:t> التي صادقت عليها الدولة. وحيثما يكون ذلك قابلاً للتطبيق، ثمة رابط</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إليكتروني</a:t>
            </a:r>
            <a:r>
              <a:rPr b="1" lang="ar-JO" sz="1200" spc="-1" strike="noStrike">
                <a:solidFill>
                  <a:srgbClr val="000000"/>
                </a:solidFill>
                <a:latin typeface="Arial"/>
                <a:ea typeface="Arial"/>
              </a:rPr>
              <a:t> للنظام الإقليمي</a:t>
            </a:r>
            <a:r>
              <a:rPr b="0" lang="ar-JO" sz="1200" spc="-1" strike="noStrike">
                <a:solidFill>
                  <a:srgbClr val="000000"/>
                </a:solidFill>
                <a:latin typeface="Arial"/>
                <a:ea typeface="Arial"/>
              </a:rPr>
              <a:t> المناظر للدولة. وثمة رابط إليكتروني آخر - إذا كان متوافراً - </a:t>
            </a:r>
            <a:r>
              <a:rPr b="1" lang="ar-JO" sz="1200" spc="-1" strike="noStrike">
                <a:solidFill>
                  <a:srgbClr val="000000"/>
                </a:solidFill>
                <a:latin typeface="Arial"/>
                <a:cs typeface="Arial"/>
              </a:rPr>
              <a:t>للأنظمة الوطنية لحماية حقوق الإنسان، </a:t>
            </a:r>
            <a:r>
              <a:rPr b="0" lang="ar-JO" sz="1200" spc="-1" strike="noStrike">
                <a:solidFill>
                  <a:srgbClr val="000000"/>
                </a:solidFill>
                <a:latin typeface="Arial"/>
                <a:cs typeface="Arial"/>
              </a:rPr>
              <a:t>يحتوي أيضاً على</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هذا السؤال موجّه إلى البنية الهندسية للأمم المتحدة وهيئات المعاهدة، والمساعدة الفنية، وما إلى ذلك.</a:t>
            </a:r>
            <a:r>
              <a:rPr b="0" lang="ar-J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2600" y="695160"/>
            <a:ext cx="4653000" cy="3489480"/>
          </a:xfrm>
          <a:prstGeom prst="rect">
            <a:avLst/>
          </a:prstGeom>
          <a:ln w="0">
            <a:noFill/>
          </a:ln>
        </p:spPr>
      </p:sp>
      <p:sp>
        <p:nvSpPr>
          <p:cNvPr id="633"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400" spc="-1" strike="noStrike">
                <a:solidFill>
                  <a:srgbClr val="000000"/>
                </a:solidFill>
                <a:latin typeface="Arial"/>
                <a:cs typeface="Arial"/>
              </a:rPr>
              <a:t>مُخرجات هيئات المعاهدة والإجراءات الخاصة</a:t>
            </a:r>
            <a:r>
              <a:rPr b="0" i="1" lang="ar-JO" sz="1400" spc="-1" strike="noStrike">
                <a:solidFill>
                  <a:srgbClr val="000000"/>
                </a:solidFill>
                <a:latin typeface="Arial"/>
                <a:ea typeface="Arial"/>
              </a:rPr>
              <a:t> متوافرة في صفحة الموقع الإلكتروني لمكتب المفوضية السامية لحقوق الإنسان (</a:t>
            </a:r>
            <a:r>
              <a:rPr b="0" i="1" lang="en-US" sz="1400" spc="-1" strike="noStrike">
                <a:solidFill>
                  <a:srgbClr val="000000"/>
                </a:solidFill>
                <a:latin typeface="Arial"/>
                <a:ea typeface="굴림"/>
              </a:rPr>
              <a:t>www.ohchr.org</a:t>
            </a:r>
            <a:r>
              <a:rPr b="0" i="1" lang="ar-JO" sz="1400" spc="-1" strike="noStrike">
                <a:solidFill>
                  <a:srgbClr val="000000"/>
                </a:solidFill>
                <a:latin typeface="Arial"/>
                <a:ea typeface="Arial"/>
              </a:rPr>
              <a:t>).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الصفحة المعلومات التالية عن كل دولة .... (اقرأها من الشريحة).</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كذلك فإن الصفحة تقدم رابطاً </a:t>
            </a:r>
            <a:r>
              <a:rPr b="1" i="1" lang="ar-JO" sz="1400" spc="-1" strike="noStrike">
                <a:solidFill>
                  <a:srgbClr val="000000"/>
                </a:solidFill>
                <a:latin typeface="Arial"/>
                <a:cs typeface="Arial"/>
              </a:rPr>
              <a:t>لقاعدة بيانات هيئة المعاهدة</a:t>
            </a:r>
            <a:r>
              <a:rPr b="0" i="1" lang="ar-JO" sz="1400" spc="-1" strike="noStrike">
                <a:solidFill>
                  <a:srgbClr val="000000"/>
                </a:solidFill>
                <a:latin typeface="Arial"/>
                <a:ea typeface="Arial"/>
              </a:rPr>
              <a:t> حيث يمكن إيجاد</a:t>
            </a:r>
            <a:r>
              <a:rPr b="1" i="1" lang="ar-JO" sz="1400" spc="-1" strike="noStrike">
                <a:solidFill>
                  <a:srgbClr val="000000"/>
                </a:solidFill>
                <a:latin typeface="Arial"/>
                <a:ea typeface="Arial"/>
              </a:rPr>
              <a:t> تقارير كل دولة طرف</a:t>
            </a:r>
            <a:r>
              <a:rPr b="0" i="1" lang="ar-JO" sz="1400" spc="-1" strike="noStrike">
                <a:solidFill>
                  <a:srgbClr val="000000"/>
                </a:solidFill>
                <a:latin typeface="Arial"/>
                <a:ea typeface="Arial"/>
              </a:rPr>
              <a:t> وجميع الوثائق الصادرة عن هيئة المعاهد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a:t>
            </a:r>
            <a:r>
              <a:rPr b="1" i="1" lang="ar-JO" sz="1400" spc="-1" strike="noStrike">
                <a:solidFill>
                  <a:srgbClr val="000000"/>
                </a:solidFill>
                <a:latin typeface="Arial"/>
                <a:cs typeface="Arial"/>
              </a:rPr>
              <a:t>روزنامةُ الأحداث</a:t>
            </a:r>
            <a:r>
              <a:rPr b="0" i="1" lang="ar-JO" sz="14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i="1" lang="ar-JO" sz="1400" spc="-1" strike="noStrike">
                <a:solidFill>
                  <a:srgbClr val="000000"/>
                </a:solidFill>
                <a:latin typeface="Arial"/>
                <a:cs typeface="Arial"/>
              </a:rPr>
              <a:t>عن الدول</a:t>
            </a:r>
            <a:r>
              <a:rPr b="0" i="1" lang="ar-JO" sz="14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تقدم الصفحة أيضاً روابط إليكترونية خاصة </a:t>
            </a:r>
            <a:r>
              <a:rPr b="1" i="1" lang="ar-JO" sz="1400" spc="-1" strike="noStrike">
                <a:solidFill>
                  <a:srgbClr val="000000"/>
                </a:solidFill>
                <a:latin typeface="Arial"/>
                <a:cs typeface="Arial"/>
              </a:rPr>
              <a:t>باتفاقيات جنيف، واتفاقيات اللاجئين</a:t>
            </a:r>
            <a:r>
              <a:rPr b="0" i="1" lang="ar-JO" sz="1400" spc="-1" strike="noStrike">
                <a:solidFill>
                  <a:srgbClr val="000000"/>
                </a:solidFill>
                <a:latin typeface="Arial"/>
                <a:ea typeface="Arial"/>
              </a:rPr>
              <a:t> (القانون الإنساني) </a:t>
            </a:r>
            <a:r>
              <a:rPr b="1" i="1" lang="ar-JO" sz="1400" spc="-1" strike="noStrike">
                <a:solidFill>
                  <a:srgbClr val="000000"/>
                </a:solidFill>
                <a:latin typeface="Arial"/>
                <a:cs typeface="Arial"/>
              </a:rPr>
              <a:t>واتفاقيات منظمة العمل الدولية</a:t>
            </a:r>
            <a:r>
              <a:rPr b="0" i="1" lang="ar-JO" sz="1400" spc="-1" strike="noStrike">
                <a:solidFill>
                  <a:srgbClr val="000000"/>
                </a:solidFill>
                <a:latin typeface="Arial"/>
                <a:ea typeface="Arial"/>
              </a:rPr>
              <a:t> التي صادقت عليها الدولة. وحيثما يكون ذلك قابلاً للتطبيق، ثمة رابط</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إليكتروني</a:t>
            </a:r>
            <a:r>
              <a:rPr b="1" i="1" lang="ar-JO" sz="1400" spc="-1" strike="noStrike">
                <a:solidFill>
                  <a:srgbClr val="000000"/>
                </a:solidFill>
                <a:latin typeface="Arial"/>
                <a:ea typeface="Arial"/>
              </a:rPr>
              <a:t> للنظام الإقليمي</a:t>
            </a:r>
            <a:r>
              <a:rPr b="0" i="1" lang="ar-JO" sz="1400" spc="-1" strike="noStrike">
                <a:solidFill>
                  <a:srgbClr val="000000"/>
                </a:solidFill>
                <a:latin typeface="Arial"/>
                <a:ea typeface="Arial"/>
              </a:rPr>
              <a:t> المناظر للدولة. وثمة رابط إليكتروني آخر - إذا كان متوافراً - </a:t>
            </a:r>
            <a:r>
              <a:rPr b="1" i="1" lang="ar-JO" sz="1400" spc="-1" strike="noStrike">
                <a:solidFill>
                  <a:srgbClr val="000000"/>
                </a:solidFill>
                <a:latin typeface="Arial"/>
                <a:cs typeface="Arial"/>
              </a:rPr>
              <a:t>للأنظمة الوطنية لحماية حقوق الإنسان، </a:t>
            </a:r>
            <a:r>
              <a:rPr b="0" i="1" lang="ar-JO" sz="1400" spc="-1" strike="noStrike">
                <a:solidFill>
                  <a:srgbClr val="000000"/>
                </a:solidFill>
                <a:latin typeface="Arial"/>
                <a:cs typeface="Arial"/>
              </a:rPr>
              <a:t>يحتوي أيضاً على</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9360" y="696960"/>
            <a:ext cx="4651560" cy="3487680"/>
          </a:xfrm>
          <a:prstGeom prst="rect">
            <a:avLst/>
          </a:prstGeom>
          <a:ln w="0">
            <a:noFill/>
          </a:ln>
        </p:spPr>
      </p:sp>
      <p:sp>
        <p:nvSpPr>
          <p:cNvPr id="6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هيةَ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بب استخدام النهج القائم على حقوق الإنسان.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هم المشترك للأمم المتحدة حول النهج القائم على حقوق الإنسان في برمجة التنمية وعناصرها الأساسية</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9360" y="696960"/>
            <a:ext cx="4651560" cy="3487680"/>
          </a:xfrm>
          <a:prstGeom prst="rect">
            <a:avLst/>
          </a:prstGeom>
          <a:ln w="0">
            <a:noFill/>
          </a:ln>
        </p:spPr>
      </p:sp>
      <p:sp>
        <p:nvSpPr>
          <p:cNvPr id="637"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cs typeface="Arial"/>
              </a:rPr>
              <a:t>فكرة لمقدم العرض: يأتي هذا العرض بعد الانتهاء من عمل المجموعات حول النهج القائم على حقوق الإنسان، الذي يكون قد تعامل مسبقاً مع الكثير من المسائل ذات العلاقة بالمحتوى والتي تمت تغطيتها في الجلسة الحالية. وأثناء تقديم العرض، ارجع إلى المسائل التي ظهرت ونوقشت ضمن عمل المجموع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توي الشريحة على صور متحركة. </a:t>
            </a:r>
            <a:r>
              <a:rPr b="0" lang="ar-JO" sz="1200" spc="-1" strike="noStrike">
                <a:solidFill>
                  <a:srgbClr val="000000"/>
                </a:solidFill>
                <a:latin typeface="Arial"/>
                <a:cs typeface="Arial"/>
              </a:rPr>
              <a:t>ابدأ بعرض العنوان وحده أولاً، ثم اطلب من المشاركين تحديد التعريفات أدناه التي تنطبق على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شكل مستمر ومتوافق، بالإشارة إلى مصطلحات حقوق الإنسان واستخدامها في التقارير والخطابات ووثائق المشروع وغير ذلك من الأمور التي تتولاها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كييف دعم الأمم المتحدة للدولة فيما يتعلق ب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صميم التدخلات المحددة التي تستهدف حماية حقوق الإنسان وبتنفيذيها.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تنطبق أي من هذه التعريفات على النهج القائم على حقوق الإنسان</a:t>
            </a:r>
            <a:r>
              <a:rPr b="0" i="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رض ما تبقى من الشريحة لإبراز جوهر ا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النهج القائم على حقوق الإنسان؟ </a:t>
            </a:r>
            <a:r>
              <a:rPr b="1"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هو إطار عمل مفاهيمي لعملية التنمية البشرية، التي تقوم معيارياً على مقاييس حقوق الإنسان الدولية، والموجّهة عملياً نحو تعزيز حقوق الإنسان وحمايتها. ويركّز النهج القائم على حقوق الإنسان </a:t>
            </a:r>
            <a:r>
              <a:rPr b="0" i="1" lang="ar-JO" sz="1200" spc="-1" strike="noStrike">
                <a:solidFill>
                  <a:srgbClr val="000000"/>
                </a:solidFill>
                <a:latin typeface="Arial"/>
                <a:cs typeface="Arial"/>
              </a:rPr>
              <a:t>صراحةً على التمييز والتهميش ضمن عملية التنمية</a:t>
            </a:r>
            <a:r>
              <a:rPr b="1" i="1" lang="ar-JO" sz="1200" spc="-1" strike="noStrike">
                <a:solidFill>
                  <a:srgbClr val="000000"/>
                </a:solidFill>
                <a:latin typeface="Arial"/>
                <a:ea typeface="Arial"/>
              </a:rPr>
              <a:t>.</a:t>
            </a: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خترقُ النهج القائم على حقوق الإنسان جميع الممارسات التنموية إلى درجة تتلاشى فيها الحدود بين حقوق الإنسان والتنمية، حيث يصبح كلاهما جزأين من عمليات التغيير الاجتماعي ذاتها لا ينفصلان عن بعضهما بعضاً من الناحيتين المفاهيمية والعملية. ويطبق النهج القائم على حقوق الإنسان على التنمية بأسلوب يُغيّر الطريقة التي تُصمم بوساطتها البرامج، وتُنفَّذ ويتم الإشراف عليها، ابتداء من التقييم وتحليل الوضع، اللذين يعتبران نقطة الانطلاق من الناحية المث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مستوى الالتزام بتطبيق النهج القائم على حقوق الإنسان أعلى من مستويات الالتزام الأخرى، ويتطلب التصدي للتحديات بطريقة أكثر شمولاً. ويعني ذلك مواجهة النماذج الدؤوبة من عدم المساواة والتمييز، وصياغة ردود ستأخذ بعين الاعتبار الأسباب الهيكلية التي مكّنت البيئة السياسية والمجتمعية من تعزيز الإقصاء والتهميش وإنكار حقوق الإنسان في نهاية المطا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النهج القائم على الاحتياجات مقارنة بالنهج القائم على الحقوق في التغذ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يكمن جوهر الاختلاف في أن "المستفيدين" في النهج الأول (أي القائم على الاحتياجات) ليست لديهم مطالبات فعَّالة تكفل تلبية احتياجاتهم، ولا يُوجد التزام مُلزمٌ أو واجب ملزم لأيّ شخص لتلبية هذه الاحتياجات. وفي المقابل، فإن النهج القائم على الحقوق يعترف بالمستفيدين بوصفهم "رعايا نشيطين" أو "أصحاب مطالبات"، وهو يُنشئ واجبات أو التزامات على أولئك الذين تُوجه المطالبات ضدهم". إيربان جونس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كيز ينصبُّ في كلّ منهما على النتيجة والعمل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النهج القائم على حقوق الإنسان، يجب إيلاء الاهتمام بالنتائج نظراً لأنَّ النتيجة والأثر المرغوب فيهما لأيّ نشاط برامجي هو الإسهام في تعزيز عملية إحقاق حقوق الإنسان. وفي الوقت ذاته، يجب إيلاء الاهتمام إلى ضمان أن لا تعمل عملية التنمية على تعميق عدم المساواة والتمييز، والنزاع المسلح في نهاية المطاف. وتقدم مقاييس ومبادئ حقوق الإنسان معايير موضوعية للعمليات التنموية المقبولة، وبذلك تكون تلك العمليات عمليات تشاركية وشاملة وخاضعة للمساءَلة، وتعطي الأولوية لأكثر الجماعات تهميشاً وإقصاءً. فعلى سبيل المثال، يجب أن تشكل مبادئ حقوق الإنسان جوهر </a:t>
            </a:r>
            <a:r>
              <a:rPr b="0" i="1" lang="ar-JO" sz="1200" spc="-1" strike="noStrike">
                <a:solidFill>
                  <a:srgbClr val="000000"/>
                </a:solidFill>
                <a:latin typeface="Arial"/>
                <a:cs typeface="Arial"/>
              </a:rPr>
              <a:t>عملية</a:t>
            </a:r>
            <a:r>
              <a:rPr b="0" lang="ar-JO" sz="1200" spc="-1" strike="noStrike">
                <a:solidFill>
                  <a:srgbClr val="000000"/>
                </a:solidFill>
                <a:latin typeface="Arial"/>
                <a:ea typeface="Arial"/>
              </a:rPr>
              <a:t> صياغة استراتيجية الحد من الفقر وتنفيذها ومراقبتها/متابعت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9360" y="696960"/>
            <a:ext cx="4651560" cy="3487680"/>
          </a:xfrm>
          <a:prstGeom prst="rect">
            <a:avLst/>
          </a:prstGeom>
          <a:ln w="0">
            <a:noFill/>
          </a:ln>
        </p:spPr>
      </p:sp>
      <p:sp>
        <p:nvSpPr>
          <p:cNvPr id="639"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ضامين النهج القائم على حقوق الإنسان وقيمته المضاف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الانتقال من النظرية إلى التطبيق، دارت مداولات لافتة للنظر فيما يتعلق بمعنى النهج القائم على حقوق الإنسان، والقيمة التي يُضيفها إلى التنمية، وعلى وجه الخصوص، بكيفية تطبيق ذلك النهج على البرمجة التنموية لكي تتمكّن هذه البرمجة من تحقيق أثر أكبر. وثمة ثلاثة أسباب منطقية مُوجبة لاعتماد النهج القائم على حقوق الإنسان: (أ) قيمته الجوهرية، (ب) فائدته لاستراتيجيات التنمية، (جـ) الأسباب المؤس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أ) الأسباب الموجبة المعنية بالقيمة الجوهرية للنهج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قرار بأن النهج القائم على حقوق الإنسان هو ما يصح فعله من الناحيتين الأخلاقية والقانون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مبني على </a:t>
            </a:r>
            <a:r>
              <a:rPr b="1" lang="ar-JO" sz="1200" spc="-1" strike="noStrike">
                <a:solidFill>
                  <a:srgbClr val="000000"/>
                </a:solidFill>
                <a:latin typeface="Arial"/>
                <a:cs typeface="Arial"/>
              </a:rPr>
              <a:t>قيم عالمية</a:t>
            </a:r>
            <a:r>
              <a:rPr b="0" lang="ar-JO" sz="1200" spc="-1" strike="noStrike">
                <a:solidFill>
                  <a:srgbClr val="000000"/>
                </a:solidFill>
                <a:latin typeface="Arial"/>
                <a:ea typeface="Arial"/>
              </a:rPr>
              <a:t>/</a:t>
            </a:r>
            <a:r>
              <a:rPr b="1" lang="ar-JO" sz="1200" spc="-1" strike="noStrike">
                <a:solidFill>
                  <a:srgbClr val="000000"/>
                </a:solidFill>
                <a:latin typeface="Arial"/>
                <a:cs typeface="Arial"/>
              </a:rPr>
              <a:t>عامة</a:t>
            </a:r>
            <a:r>
              <a:rPr b="0" lang="ar-JO" sz="1200" spc="-1" strike="noStrike">
                <a:solidFill>
                  <a:srgbClr val="000000"/>
                </a:solidFill>
                <a:latin typeface="Arial"/>
                <a:ea typeface="Arial"/>
              </a:rPr>
              <a:t> (الحرية، والمساواة، والتكافل وغيرها..) مبيَّنة في </a:t>
            </a:r>
            <a:r>
              <a:rPr b="1" lang="ar-JO" sz="1200" spc="-1" strike="noStrike">
                <a:solidFill>
                  <a:srgbClr val="000000"/>
                </a:solidFill>
                <a:latin typeface="Arial"/>
                <a:cs typeface="Arial"/>
              </a:rPr>
              <a:t>معايير ومبادئ حقوق الإنسان</a:t>
            </a:r>
            <a:r>
              <a:rPr b="0" lang="ar-JO" sz="1200" spc="-1" strike="noStrike">
                <a:solidFill>
                  <a:srgbClr val="000000"/>
                </a:solidFill>
                <a:latin typeface="Arial"/>
                <a:ea typeface="Arial"/>
              </a:rPr>
              <a:t> التي تقدم مقياساً مشتركاً للإنجاز لكل من الرجال والنساء والأطفال والأمم جمعاء.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ينقل العمل التنموي من عالم الصدقات الاختياري (أو البرّ والإحسان) إلى </a:t>
            </a:r>
            <a:r>
              <a:rPr b="1" lang="ar-JO" sz="1200" spc="-1" strike="noStrike">
                <a:solidFill>
                  <a:srgbClr val="000000"/>
                </a:solidFill>
                <a:latin typeface="Arial"/>
                <a:cs typeface="Arial"/>
              </a:rPr>
              <a:t>العالم الإلزامي للقانو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فرض النهج القائم على الحقوق </a:t>
            </a:r>
            <a:r>
              <a:rPr b="1" lang="ar-JO" sz="1200" spc="-1" strike="noStrike">
                <a:solidFill>
                  <a:srgbClr val="000000"/>
                </a:solidFill>
                <a:latin typeface="Arial"/>
                <a:cs typeface="Arial"/>
              </a:rPr>
              <a:t>واجبات والتزامات ومطالبات مناظرة لها،</a:t>
            </a:r>
            <a:r>
              <a:rPr b="0" lang="ar-JO" sz="1200" spc="-1" strike="noStrike">
                <a:solidFill>
                  <a:srgbClr val="000000"/>
                </a:solidFill>
                <a:latin typeface="Arial"/>
                <a:ea typeface="Arial"/>
              </a:rPr>
              <a:t> ويؤكد أهمية وضع آليات عمل للمساءلة على جميع المستويات </a:t>
            </a:r>
            <a:r>
              <a:rPr b="1" lang="ar-JO" sz="1200" spc="-1" strike="noStrike">
                <a:solidFill>
                  <a:srgbClr val="000000"/>
                </a:solidFill>
                <a:latin typeface="Arial"/>
                <a:cs typeface="Arial"/>
              </a:rPr>
              <a:t>بالنسبة إلى القائمين بالواجبات</a:t>
            </a:r>
            <a:r>
              <a:rPr b="0" lang="ar-JO" sz="1200" spc="-1" strike="noStrike">
                <a:solidFill>
                  <a:srgbClr val="000000"/>
                </a:solidFill>
                <a:latin typeface="Arial"/>
                <a:ea typeface="Arial"/>
              </a:rPr>
              <a:t> لتلبية التزاماتهم.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غيِّر النهج القائم على حقوق الإنسان المفهوم من اعتبار الناس مستفيدين سلبيين من سياسات الدولة، إلى اعتبارهم </a:t>
            </a:r>
            <a:r>
              <a:rPr b="1" lang="ar-JO" sz="1200" spc="-1" strike="noStrike">
                <a:solidFill>
                  <a:srgbClr val="000000"/>
                </a:solidFill>
                <a:latin typeface="Arial"/>
                <a:cs typeface="Arial"/>
              </a:rPr>
              <a:t>مشاركين نشيطين في التنمية الخاصة بهم،</a:t>
            </a:r>
            <a:r>
              <a:rPr b="0" lang="ar-JO" sz="1200" spc="-1" strike="noStrike">
                <a:solidFill>
                  <a:srgbClr val="000000"/>
                </a:solidFill>
                <a:latin typeface="Arial"/>
                <a:ea typeface="Arial"/>
              </a:rPr>
              <a:t> والاعتراف بهم أيضاً بوصفهم </a:t>
            </a:r>
            <a:r>
              <a:rPr b="1" lang="ar-JO" sz="1200" spc="-1" strike="noStrike">
                <a:solidFill>
                  <a:srgbClr val="000000"/>
                </a:solidFill>
                <a:latin typeface="Arial"/>
                <a:cs typeface="Arial"/>
              </a:rPr>
              <a:t>أصحاب حقوق</a:t>
            </a:r>
            <a:r>
              <a:rPr b="0" lang="ar-JO" sz="1200" spc="-1" strike="noStrike">
                <a:solidFill>
                  <a:srgbClr val="000000"/>
                </a:solidFill>
                <a:latin typeface="Arial"/>
                <a:cs typeface="Arial"/>
              </a:rPr>
              <a:t>، الأمر الذي يضعهم في قلب عملية التنم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ب) الأسباب المنفع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ترافاً بأن النهج القائم على حقوق الإنسان يؤدي إلى نتائج أفضل وأكثر استدامة للتنمية البشرية، فإن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على تحليل حالات عدم المساواة، </a:t>
            </a:r>
            <a:r>
              <a:rPr b="1" lang="ar-JO" sz="1200" spc="-1" strike="noStrike">
                <a:solidFill>
                  <a:srgbClr val="000000"/>
                </a:solidFill>
                <a:latin typeface="Arial"/>
                <a:cs typeface="Arial"/>
              </a:rPr>
              <a:t>والممارسات التمييزية، والعلاقات السلطوية غير العادلة</a:t>
            </a:r>
            <a:r>
              <a:rPr b="0" lang="ar-JO" sz="1200" spc="-1" strike="noStrike">
                <a:solidFill>
                  <a:srgbClr val="000000"/>
                </a:solidFill>
                <a:latin typeface="Arial"/>
                <a:ea typeface="Arial"/>
              </a:rPr>
              <a:t> التي تُعتَبر الأسباب الجذرية لتحديات وعمليات حقوق الإنسان والتنمية التي </a:t>
            </a:r>
            <a:r>
              <a:rPr b="1" lang="ar-JO" sz="1200" spc="-1" strike="noStrike">
                <a:solidFill>
                  <a:srgbClr val="000000"/>
                </a:solidFill>
                <a:latin typeface="Arial"/>
                <a:cs typeface="Arial"/>
              </a:rPr>
              <a:t>تفاقم النزاع المسلح.</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بشكل خاص على </a:t>
            </a:r>
            <a:r>
              <a:rPr b="1" lang="ar-JO" sz="1200" spc="-1" strike="noStrike">
                <a:solidFill>
                  <a:srgbClr val="000000"/>
                </a:solidFill>
                <a:latin typeface="Arial"/>
                <a:cs typeface="Arial"/>
              </a:rPr>
              <a:t>المجموعات المُعرَّضة للتمييز</a:t>
            </a:r>
            <a:r>
              <a:rPr b="0" lang="ar-JO" sz="1200" spc="-1" strike="noStrike">
                <a:solidFill>
                  <a:srgbClr val="000000"/>
                </a:solidFill>
                <a:latin typeface="Arial"/>
                <a:ea typeface="Arial"/>
              </a:rPr>
              <a:t> والتي تعاني من </a:t>
            </a:r>
            <a:r>
              <a:rPr b="1" lang="ar-JO" sz="1200" spc="-1" strike="noStrike">
                <a:solidFill>
                  <a:srgbClr val="000000"/>
                </a:solidFill>
                <a:latin typeface="Arial"/>
                <a:cs typeface="Arial"/>
              </a:rPr>
              <a:t>الحرمان والإقصاء</a:t>
            </a:r>
            <a:r>
              <a:rPr b="0" lang="ar-JO" sz="1200" spc="-1" strike="noStrike">
                <a:solidFill>
                  <a:srgbClr val="000000"/>
                </a:solidFill>
                <a:latin typeface="Arial"/>
                <a:cs typeface="Arial"/>
              </a:rPr>
              <a:t>، بمن فيهم الأطفال والأقليات والنساء. ويدعو المبدءان التوأمان: عدم التمييز والمساواة إلى إيلاء اهتمام بالمساواة في النوع الاجتماعي وإشراك الحقوق الإنسانية للمرأة في جميع برامج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ؤكد على </a:t>
            </a:r>
            <a:r>
              <a:rPr b="1" lang="ar-JO" sz="1200" spc="-1" strike="noStrike">
                <a:solidFill>
                  <a:srgbClr val="000000"/>
                </a:solidFill>
                <a:latin typeface="Arial"/>
                <a:cs typeface="Arial"/>
              </a:rPr>
              <a:t>المشاركة</a:t>
            </a:r>
            <a:r>
              <a:rPr b="0" lang="ar-JO" sz="1200" spc="-1" strike="noStrike">
                <a:solidFill>
                  <a:srgbClr val="000000"/>
                </a:solidFill>
                <a:latin typeface="Arial"/>
                <a:cs typeface="Arial"/>
              </a:rPr>
              <a:t>، وعلى وجه الخصوص، مشاركة الجماعات المقصاة والمميَّز ضدها في جميع مراحل عملي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وِّل على </a:t>
            </a:r>
            <a:r>
              <a:rPr b="1" lang="ar-JO" sz="1200" spc="-1" strike="noStrike">
                <a:solidFill>
                  <a:srgbClr val="000000"/>
                </a:solidFill>
                <a:latin typeface="Arial"/>
                <a:cs typeface="Arial"/>
              </a:rPr>
              <a:t>مساء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دو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مؤسساتها</a:t>
            </a:r>
            <a:r>
              <a:rPr b="0" lang="ar-JO" sz="1200" spc="-1" strike="noStrike">
                <a:solidFill>
                  <a:srgbClr val="000000"/>
                </a:solidFill>
                <a:latin typeface="Arial"/>
                <a:ea typeface="Arial"/>
              </a:rPr>
              <a:t> فيما يتعلق باحترام وحماية وإحقاق جميع حقوق الإنسان لجميع الناس الواقعين ضمن سلطاتها القضائية (بالرغم من أن واجب الدولة في بعض المراحل قد يمتد إلى ما هو أبعد من سلطتها القضائية، مثل سجناء الحرب).</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طي أهمية متساوية </a:t>
            </a:r>
            <a:r>
              <a:rPr b="1" lang="ar-JO" sz="1200" spc="-1" strike="noStrike">
                <a:solidFill>
                  <a:srgbClr val="000000"/>
                </a:solidFill>
                <a:latin typeface="Arial"/>
                <a:cs typeface="Arial"/>
              </a:rPr>
              <a:t>لعمليات التنمية ونتائجها</a:t>
            </a:r>
            <a:r>
              <a:rPr b="0" lang="ar-JO" sz="1200" spc="-1" strike="noStrike">
                <a:solidFill>
                  <a:srgbClr val="000000"/>
                </a:solidFill>
                <a:latin typeface="Arial"/>
                <a:cs typeface="Arial"/>
              </a:rPr>
              <a:t>، حيث تؤثر جودة العملية في تحقيق النتائج واستدام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جـ) الأسباب المؤسس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لك الأمم المتحدة ميزة تنافسية في تفويضها الأساسي (ولايتها الأساسية) بشأن السلام والأمن وحقوق الإنسان والتنمية، وقيم ميثاق الأمم المتحدة. وفي هذا الشأن، تجعل الحياديةُ واحترامُ الاعتماد على الذات الأممَ المتحدة شريكاً ذا امتياز للتعامل مع القضايا الحسَّاسة بطريقة شمولية، مما يعني أ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ديات التنمية تخضع للفحص من </a:t>
            </a:r>
            <a:r>
              <a:rPr b="1" lang="ar-JO" sz="1200" spc="-1" strike="noStrike">
                <a:solidFill>
                  <a:srgbClr val="000000"/>
                </a:solidFill>
                <a:latin typeface="Arial"/>
                <a:cs typeface="Arial"/>
              </a:rPr>
              <a:t>منظور شمولي مسترشداً بمبادئ حقوق الإنسان، وآخذاً بعين الاعتبار النواحي المدنية والسياسية والاقتصادية والاجتماعية والثقافية لأية مشكلة </a:t>
            </a:r>
            <a:r>
              <a:rPr b="0" lang="ar-JO" sz="1200" spc="-1" strike="noStrike">
                <a:solidFill>
                  <a:srgbClr val="000000"/>
                </a:solidFill>
                <a:latin typeface="Arial"/>
                <a:ea typeface="Arial"/>
              </a:rPr>
              <a:t>(مثال: إن استراتيجية الحد من الفقر تسترشد بالحق في التعليم والحق في الصحة، بالإضافة إلى الحق في حرية التعبير والاجتماع، والحق في الحصول على المعلومات وغيرها).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فع النهج القائم على الحقوق الأضواء الوامضة القطاعية التحذيرية، ويسهِّل إعداد </a:t>
            </a:r>
            <a:r>
              <a:rPr b="1" lang="ar-JO" sz="1200" spc="-1" strike="noStrike">
                <a:solidFill>
                  <a:srgbClr val="000000"/>
                </a:solidFill>
                <a:latin typeface="Arial"/>
                <a:cs typeface="Arial"/>
              </a:rPr>
              <a:t>استجابة متكاملة متعدِّدة الأوجه لمشاكل التنمية، </a:t>
            </a:r>
            <a:r>
              <a:rPr b="0" lang="ar-JO" sz="1200" spc="-1" strike="noStrike">
                <a:solidFill>
                  <a:srgbClr val="000000"/>
                </a:solidFill>
                <a:latin typeface="Arial"/>
                <a:cs typeface="Arial"/>
              </a:rPr>
              <a:t>بما في ذلك التصدِّي لأطر العمل الاجتماعية والسياسية والقانونية والسياساتية التي تحدِّد العلاقة والفجوات في قدرات أصحاب الحقوق والقائمين بالواجبات.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تطلب النهج القائم على حقوق الإنسان استخدام توصيات</a:t>
            </a:r>
            <a:r>
              <a:rPr b="1" lang="ar-JO" sz="1200" spc="-1" strike="noStrike">
                <a:solidFill>
                  <a:srgbClr val="000000"/>
                </a:solidFill>
                <a:latin typeface="Arial"/>
                <a:ea typeface="Arial"/>
              </a:rPr>
              <a:t> آليات عمل حقوق الإنسان الدولية</a:t>
            </a:r>
            <a:r>
              <a:rPr b="0" lang="ar-JO" sz="1200" spc="-1" strike="noStrike">
                <a:solidFill>
                  <a:srgbClr val="000000"/>
                </a:solidFill>
                <a:latin typeface="Arial"/>
                <a:ea typeface="Arial"/>
              </a:rPr>
              <a:t> في التحليل والاستجابة الاستراتيجية لمشكلات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ستطيع النهج القائم على حقوق الإنسان أيضاً أن يشكّل العلاقات مع الشركاء، بما أن الشركات يجب أن تكون تشاركية وشاملة ومبنية على الاحترام المتبادل بما يتفق مع مبادئ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9360" y="696960"/>
            <a:ext cx="4651560" cy="3487680"/>
          </a:xfrm>
          <a:prstGeom prst="rect">
            <a:avLst/>
          </a:prstGeom>
          <a:ln w="0">
            <a:noFill/>
          </a:ln>
        </p:spPr>
      </p:sp>
      <p:sp>
        <p:nvSpPr>
          <p:cNvPr id="64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سنوات الأخيرة، انتقلت وكالات الأمم المتحدة إلى مرحلة إدماج حقوق الإنسان بدرجات مختلفة. وقد عملت بعض الوكالات على تبني النهج القائم على حقوق الإنسان بشكل كلي، مما يتطلب تغييراً مؤسسياً، وأن تكون طريقة تنفيذ العمل التنموي من خلال تصميم البرامج القُطرية وغيرها من النشاط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أدت المستويات المختلفة من تبنِّي وممارسة النهج القائم على حقوق الإنسان إلى الحاجة إلى إيجاد فهم مشترك لهذا النهج في أوساط وكالات الأمم المتحدة، وإلى وضوح مفاهيمي حول حقوق الإنسان فيما يتعلق بالبرمجة. ويُبرزُ الفهمُ الذي تم التوصل إليه ثلاثةَ مضامين للنهج القائم على حقوق الإنسان في التعاون التنموي والبرمجة التنموية، ك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يكون </a:t>
            </a:r>
            <a:r>
              <a:rPr b="1" i="1" lang="ar-JO" sz="1200" spc="-1" strike="noStrike" u="sng">
                <a:solidFill>
                  <a:srgbClr val="000000"/>
                </a:solidFill>
                <a:uFillTx/>
                <a:latin typeface="Arial"/>
                <a:cs typeface="Arial"/>
              </a:rPr>
              <a:t>الهدف النهائي</a:t>
            </a:r>
            <a:r>
              <a:rPr b="1" lang="ar-JO" sz="1200" spc="-1" strike="noStrike">
                <a:solidFill>
                  <a:srgbClr val="000000"/>
                </a:solidFill>
                <a:latin typeface="Arial"/>
                <a:ea typeface="Arial"/>
              </a:rPr>
              <a:t> هو إحقاق الحقوق بدرجة أكبر.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تكون </a:t>
            </a:r>
            <a:r>
              <a:rPr b="1" i="1" lang="ar-JO" sz="1200" spc="-1" strike="noStrike" u="sng">
                <a:solidFill>
                  <a:srgbClr val="000000"/>
                </a:solidFill>
                <a:uFillTx/>
                <a:latin typeface="Arial"/>
                <a:cs typeface="Arial"/>
              </a:rPr>
              <a:t>عملية</a:t>
            </a:r>
            <a:r>
              <a:rPr b="1" lang="ar-JO" sz="1200" spc="-1" strike="noStrike">
                <a:solidFill>
                  <a:srgbClr val="000000"/>
                </a:solidFill>
                <a:latin typeface="Arial"/>
                <a:ea typeface="Arial"/>
              </a:rPr>
              <a:t> التنمية من نوع معيّن، حيث يجب أن تسترشد العمليات بمعايير ومبادئ حقوق الإنسان، ويجب أن يحدث ذلك لجميع استراتيجيات التنمية، وفي جميع القطاعات ومراحل دور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بؤرة</a:t>
            </a:r>
            <a:r>
              <a:rPr b="1" lang="ar-JO" sz="1200" spc="-1" strike="noStrike">
                <a:solidFill>
                  <a:srgbClr val="000000"/>
                </a:solidFill>
                <a:latin typeface="Arial"/>
                <a:ea typeface="Arial"/>
              </a:rPr>
              <a:t> الاستراتيجيات هي تنمية قدرات أصحاب الحقوق على المطالبة بحقوقهم، وقدرات القائمين بالواجبات على الوفاء بالتزامات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كم هي العناصر الثلاثة الأساسية للفهم المشترك للأمم المتحدة للنهج القائم على حقوق الإنسان، الذي تم تفصيله بدقة في اجتماع ستامفورد عام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سيتم شرح كل منها بتفصيل أكبر في الشرائح التا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9360" y="696960"/>
            <a:ext cx="4651560" cy="3487680"/>
          </a:xfrm>
          <a:prstGeom prst="rect">
            <a:avLst/>
          </a:prstGeom>
          <a:ln w="0">
            <a:noFill/>
          </a:ln>
        </p:spPr>
      </p:sp>
      <p:sp>
        <p:nvSpPr>
          <p:cNvPr id="64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جيب هذه الفقرة عن "سبب" تقديم المساعدات الإنمائية في الأمم المتحد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دف التنمية هو تعزيز عملية إحقاق حقوق الإنسان:</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يس بالضرورة أن تعمل مجموعة من نشاطات البرمجة، التي تُسهم إسهاماً عَرَضياً فقط في إحقاق حقوق الإنسان، على تشكيل نهج قائم على حقوق الإنسان في البرمجة. ففي أي نهج يقوم على حقوق الإنسان، يتمثَّل هدف جميع النشاطات في إحراز المزيد من التقدُّم في مجال إحقاق حقوق الإنسان. فكلما ازدادت درجة إحقاق حقوق الإنسان، ازداد الأثر الإيجابي للتنمية. وفي الوقت ذاته، فإن تدهور حقوق الإنسان يشير إلى فشل سياسات التنمي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ما المضامين العملية في البرمجة فهي كما يلي: </a:t>
            </a:r>
            <a:endParaRPr b="0" lang="en-US" sz="1200" spc="-1" strike="noStrike">
              <a:solidFill>
                <a:srgbClr val="000000"/>
              </a:solidFill>
              <a:latin typeface="Arial"/>
            </a:endParaRPr>
          </a:p>
          <a:p>
            <a:pPr marL="228600" indent="-2286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تأطير وصياغة تحديات التنمية وأهدافها باعتبارها حقوقاً للإنسان يجب احترامها وحمايتها واستيفاؤها. على سبيل المثال، فإن هدف أي برنامج للتعليم هو "ضمان تعميم التعليم الابتدائي المجاني" بدلاً عن "ضمان وجود بنى تحتية تعليمية كافية ووافية بالغرض" وبناء على ذلك، ثمة اهتمام خاص مطلوب بالجماعات التي يتعرض حق أفرادها في التعليم إلى أشدّ حالات الخطر – بمن فيهم الفتيات، والأطفال في المناطق القروية، والأقليات العرقية والعنصر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اعد معايير حقوق الإنسان على تحديد العناصر الدقيقة للأهداف التنموية/الإنمائية، التي ستكون خلافاً لذلك عامة جداً وذات نهايات مفتوحة إن لم يتم تحديدها. فعلى سبيل المثال، يتطلب هدف ضمان الأمن الغذائي أن يكون الغذاء سهلَ المنال، ويمكن تحمل تكلفته الشرائية، ومقبولاً من الناحيتين البيولوجية والثقاف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قد غَدَت توصيات وملاحظات آليات عمل حقوق الإنسان الدولية اليومَ مقبولةً ومعترفاً بها بوصفها أدوات ضرورية للتحليل والبرمجة، بما في ذلك وضع الأهداف.</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9360" y="696960"/>
            <a:ext cx="4651560" cy="3487680"/>
          </a:xfrm>
          <a:prstGeom prst="rect">
            <a:avLst/>
          </a:prstGeom>
          <a:ln w="0">
            <a:noFill/>
          </a:ln>
        </p:spPr>
      </p:sp>
      <p:sp>
        <p:nvSpPr>
          <p:cNvPr id="64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رتبط هذه الشريحة بالعنصر الأول من الفهم/التفاهم المشترك للأمم المتحدة، وتهدف إلى توضيح العلاقة بين النهج القائم على حقوق الإنسان واستخدام القانون الإنساني الدولي وأنظمة الحماية ذات العلاق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دّم توصياتُ وملاحظات هيئات المعاهدة والإجراءات الخاصة مراجعَ وأدوات قيّمة لبرامج الأمم المتحدة المتوافقة مع أحكام المعاهدات ذات الصلة، والتي يجب أن تشكّل جوهر عملية التقييم القطري المشترك / إطار عمل الأمم المتحدة للمساعدات الإنمائية، وأن تبثّ الروح فيها،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تحليل القُطري:</a:t>
            </a:r>
            <a:r>
              <a:rPr b="1" lang="ar-JO" sz="1200" spc="-1" strike="noStrike">
                <a:solidFill>
                  <a:srgbClr val="000000"/>
                </a:solidFill>
                <a:latin typeface="Arial"/>
                <a:ea typeface="Arial"/>
              </a:rPr>
              <a:t> تشخيص قضايا التنمية الأساسية من منظور قائم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برمجة:</a:t>
            </a:r>
            <a:r>
              <a:rPr b="1" lang="ar-JO" sz="1200" spc="-1" strike="noStrike">
                <a:solidFill>
                  <a:srgbClr val="000000"/>
                </a:solidFill>
                <a:latin typeface="Arial"/>
                <a:ea typeface="Arial"/>
              </a:rPr>
              <a:t> تحدد هيئات المعاهدة والإجراءات الخاصة في توصياتها الخطوط العريضة للأعمال الأساسية التي يتوجب على الحكومة تنفيذها من منظور الحقوق، وذلك للتغلب على أية مشكلة من مشكلات التنمية. ويمكن للأمم المتحدة أن تلعب دوراً أساسياً في مساعدة الحكومة على متابعة التوصيات. ففي غياب المعرفة أو الإدارة السياسية، تستطيع التوصيات والملاحظات أن تصبح أداة مهمة للمناصرة وكسب التأييد في الحوار مع شركاء الحكو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غواتيما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ملاحظاتها الختامية، أعربت لجنة الحقوق الاقتصادية والاجتماعية والثقافية عن قلقها حول معدل وفيات الأمهات المرتفع في غواتيمالا. وفي المقابل، فقد أوصت اللجنة باتخاذ عدد من الإجراءات الواجب تنفيذها، ومن بينها إدماج الصحة الإنجابية في المناهج المدر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وضح لجنة الحقوق الاقتصادية والاجتماعية والثقافية في تعليقها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ea typeface="Arial"/>
              </a:rPr>
              <a:t> حول الحق في الصحة أنَّ</a:t>
            </a:r>
            <a:r>
              <a:rPr b="1" lang="ar-JO" sz="1200" spc="-1" strike="noStrike">
                <a:solidFill>
                  <a:srgbClr val="000000"/>
                </a:solidFill>
                <a:latin typeface="Arial"/>
                <a:ea typeface="Arial"/>
              </a:rPr>
              <a:t> الحصول على التثقيف والمعلومات المرتبطة بالصحة، بما في ذلك الصحة الإنجابية والصحة الجنسية، هو جزء من الحق في الصحة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إن هذا التوضيح لا يقدم توجيهات لوكالات الأمم المتحدة التي تُعِدُّ وتنفّذ برامج الصحة الإنجابية والجنسية فحسب، بل يمكن كذلك استخدام التوضيح كأداة مهمة للمناصرة مع الحكومات المحلية وأصحاب المصلحة على المستوى الوطني، في المضي قُدُماً بالأجندة الإنمائية أو التنموية و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ح التوصيات العامة لهيئات المعاهدة معاني الحقوق والمحتويات المعيارية الدنيا لها. وفي حالة عدم تلبية المحتويات المعيارية الدنيا هذه. تعتبر الحقوق بأنها لم تلقَ الاحترام والإحقاق الكامل. وفي المثال الذي تم تقديمه، "تُفسر اللجنة (لجنة الحقوق الاقتصادية والاجتماعية والثقافية) الحق في الصحة، كما هو محدد في 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بوصفه حقاً شاملاً لا يمتد إلى توفير الرعاية الصحة الملائمة في الوقت المناسب فحسب، بل إلى المُحدِّدات (القيود) التحتية التي تحول دون توفير الصحة، مثل توفير الإمكانية للوصول إلى المياه المأمونة الصالحة للشرب والصرف الصحي الملائم، وإلى تموين ملائم من الغذاء الآمن، والتغذية والسكن، وإلى ظروف مهنية وبيئية صحية، إضافة إلى الحصول على المعلومات والتعليم المرتبط بالصحة، بما في ذلك الصحة الإنجابية والصحة الجنسية." وبناء على ذلك، إذا نتج عن النقص في الحصول على المعلومات حول الصحة الإنجابية ارتفاع معدل وفيات الأمهات، فإن الدولة بذلك تكون قد انتهكت الحق في توفير الصح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9360" y="696960"/>
            <a:ext cx="4651560" cy="3487680"/>
          </a:xfrm>
          <a:prstGeom prst="rect">
            <a:avLst/>
          </a:prstGeom>
          <a:ln w="0">
            <a:noFill/>
          </a:ln>
        </p:spPr>
      </p:sp>
      <p:sp>
        <p:nvSpPr>
          <p:cNvPr id="64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صف حقوق الإنسان بأنها قطاعية وتوفّر وسائل مفيدة. ويُحسِّن كل من المبادئ والمعايير جودة النتائج والعم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ضمن مبادئ حقوق الإنسان بأن تخلق عمليةُ التنمية بيئةً مؤاتيةً لا تلحق الضرب بعملية إحقاق حقوق الإنسا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شرح المعايير والمبادئ بتفصيل أكبر في الشرائح الت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تتساوى أهمية مبادئ حقوق الإنسان التي توجِّه عملية التنمية بينما تعمل معايير حقوق الإنسان على تعريف محتوى الأهداف الإنمائية. ويحدد نوعُ العملية النتيجةَ النهائية وقابليتها للاستدامة. ويملك النهج القائم على حقوق الإنسان بُعداً إجرائياً أيضاً. وتضمن المبادئ الأساسية، مثل المشاركة والمساواة وعدم التمييز والمساءلة، أن تخلق </a:t>
            </a:r>
            <a:r>
              <a:rPr b="1" lang="ar-JO" sz="1200" spc="-1" strike="noStrike" u="sng">
                <a:solidFill>
                  <a:srgbClr val="000000"/>
                </a:solidFill>
                <a:uFillTx/>
                <a:latin typeface="Arial"/>
                <a:cs typeface="Arial"/>
              </a:rPr>
              <a:t>عمليات البرمجة والتنمية</a:t>
            </a:r>
            <a:r>
              <a:rPr b="1" lang="ar-JO" sz="1200" spc="-1" strike="noStrike">
                <a:solidFill>
                  <a:srgbClr val="000000"/>
                </a:solidFill>
                <a:latin typeface="Arial"/>
                <a:ea typeface="Arial"/>
              </a:rPr>
              <a:t> بيئةً مؤاتية لإحقاق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9360" y="696960"/>
            <a:ext cx="4651560" cy="3487680"/>
          </a:xfrm>
          <a:prstGeom prst="rect">
            <a:avLst/>
          </a:prstGeom>
          <a:ln w="0">
            <a:noFill/>
          </a:ln>
        </p:spPr>
      </p:sp>
      <p:sp>
        <p:nvSpPr>
          <p:cNvPr id="64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طي عنوان هذه الشريحة أهمية للعنصر الثاني من التفاهم المشترك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 بالنسبة إلى ممارسي التنمية هي العملية التي تُنْتِجُ تدخلات التنمية من خلالها التغييرَ الضروري لتحقيق الأهداف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مانُ احترام المعايير والمبادئ، بشكل متوافق، مستمرٌ في كل مراحل دورة البرمجة وعلى جميع مستويات سلسلة النتائج والنواتج (المُخرجات، والنواتج والآث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صفات عدم التمييز والمشاركة والملكية المحلية وتنمية القدرات والمساءلة خصائص أساسية لأية عملية ذات جودة عال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ص المبادئ التوجيهية للتقييم القُطري المشترك / إطار عمل الأمم المتحدة للمساعدات الإنمائية على أن عملية البرمجة لدى الأمم المتحدة تشتمل على الخطوات الأساسية التال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يي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حليل</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سُلَّم أولويات لتحديات التنم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يح النتائج المتوقعة ودور مختلف الجهات الفاعلة في العمل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صميم البرامج والمشاريع القُطر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تابعة والتقييم</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9360" y="696960"/>
            <a:ext cx="4651560" cy="3487680"/>
          </a:xfrm>
          <a:prstGeom prst="rect">
            <a:avLst/>
          </a:prstGeom>
          <a:ln w="0">
            <a:noFill/>
          </a:ln>
        </p:spPr>
      </p:sp>
      <p:sp>
        <p:nvSpPr>
          <p:cNvPr id="65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توي الأدوات الدولية لحقوق الإنسان على معايير حقوق الإنسان التي تشكّل </a:t>
            </a:r>
            <a:r>
              <a:rPr b="1" lang="ar-JO" sz="1200" spc="-1" strike="noStrike">
                <a:solidFill>
                  <a:srgbClr val="000000"/>
                </a:solidFill>
                <a:latin typeface="Arial"/>
                <a:cs typeface="Arial"/>
              </a:rPr>
              <a:t>المحتوى أو المستوى المعياري الأدنى</a:t>
            </a:r>
            <a:r>
              <a:rPr b="0" lang="ar-JO" sz="1200" spc="-1" strike="noStrike">
                <a:solidFill>
                  <a:srgbClr val="000000"/>
                </a:solidFill>
                <a:latin typeface="Arial"/>
                <a:ea typeface="Arial"/>
              </a:rPr>
              <a:t> للاستحقاقات والالتزامات التي يمكن أن يخضع للمساءَلة بمقتضاها، القائمون بالواجبات على جميع مستويات المجتمع، وخصوصاً الكيانات العضوية للدول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واد المنصوص عليها في المعاهدات (مثال: يمكن العثور على الحقوق ذات العلاقة بالصحة في العهد الدولي للحقوق الاقتصادية والاجتماعية والثقافية، وفي اتفاقية القضاء على جميع أشكال التمييز ضد المرأة، وفي اتفاقية حقوق الطف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عليقات العامة لهيئات المعاهدة التابعة للأمم المتحدة (مثال: إمكانية التوافر، إمكانية الوصول / الحصول أو النفاذ، ومدى كفاية وملاءمة الخدمات الصحية، والتعليقات العامة للحقوق الاقتصادية والاجتماعية والثقافية، والمساواة في النوع الاجتماعي، وحقوق المرأة في الصحة، والتوصيات العامة ل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طلب من المشاركين إعطاء مثالٍ على الغذاء الذي لا يعتبرونه مقبولاً من الناحية الثقا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تشريعات الوطنية (الدستور الوطني، والقوانين والتشريعات الوطنية والفقه القضائي الوطني ...) وضع معايير أعلى مستوى من تلك المحددة في القانون الدو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المعيار الأدنى هو المستوى أو المحتوى الأدنى الضروري لنكون قادرين على التأكيد بأن الحق في طور الإحقاق. مثال على المحتوى الأدنى: يمكن أن يكون الغذاء متوافراً ويمكن الوصول إليه وتحمل تكلفته الشرائية، بكميات ونوعيات كافية لإشباع الحاجات الغذائية للأفراد. بَيْدَ أنه إن لم يكن الغذاء المتوافر مقبولاً من الناحية الثقافية (مثل لحم الخنزير في المجتمعات ذات الثقافة الإسلامية)، فإن الحق في الغذاء سيكون قد تعرض للانتها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إطار الأي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شخيص أو حصر تحديات التنمية بوصفها قضايا لحقوق الإنسان: </a:t>
            </a:r>
            <a:r>
              <a:rPr b="0" lang="ar-JO" sz="1200" spc="-1" strike="noStrike">
                <a:solidFill>
                  <a:srgbClr val="000000"/>
                </a:solidFill>
                <a:latin typeface="Arial"/>
                <a:cs typeface="Arial"/>
              </a:rPr>
              <a:t>في بلد يعاني فيه ما نسبته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من الأطفال من سوء التغذية، ينص معيار حقوق الإنسان حول الحق في الحصول على الغذاء (المادة </a:t>
            </a:r>
            <a:r>
              <a:rPr b="0" lang="ar-JO" sz="1200" spc="-1" strike="noStrike">
                <a:solidFill>
                  <a:srgbClr val="000000"/>
                </a:solidFill>
                <a:latin typeface="Arial"/>
                <a:ea typeface="Arial"/>
              </a:rPr>
              <a:t>11</a:t>
            </a:r>
            <a:r>
              <a:rPr b="0" lang="ar-JO" sz="1200" spc="-1" strike="noStrike">
                <a:solidFill>
                  <a:srgbClr val="000000"/>
                </a:solidFill>
                <a:latin typeface="Arial"/>
                <a:ea typeface="Arial"/>
              </a:rPr>
              <a:t> من اتفاقية الحقوق الاقتصادية والاجتماعية والثقافية والتعليق العام رقم </a:t>
            </a:r>
            <a:r>
              <a:rPr b="0" lang="ar-JO" sz="1200" spc="-1" strike="noStrike">
                <a:solidFill>
                  <a:srgbClr val="000000"/>
                </a:solidFill>
                <a:latin typeface="Arial"/>
                <a:ea typeface="Arial"/>
              </a:rPr>
              <a:t>12</a:t>
            </a:r>
            <a:r>
              <a:rPr b="0" lang="ar-JO" sz="1200" spc="-1" strike="noStrike">
                <a:solidFill>
                  <a:srgbClr val="000000"/>
                </a:solidFill>
                <a:latin typeface="Arial"/>
                <a:ea typeface="Arial"/>
              </a:rPr>
              <a:t>) على أن الغذاء يجب أن يكون متوافراً ويُمكن الحصول عليه. وفي الحقيقة، ثمة دول تواجه ذلك المستوى من سوء التغذية المزمن، حيث يكون الغذاء متوافراً لكن نصف عدد السكان لا يستطيعون الحصول عليه بسبب التفاوتات الاجتماعية والاقتصادية.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أدوار والقدرات: </a:t>
            </a:r>
            <a:r>
              <a:rPr b="0" lang="ar-JO" sz="1200" spc="-1" strike="noStrike">
                <a:solidFill>
                  <a:srgbClr val="000000"/>
                </a:solidFill>
                <a:latin typeface="Arial"/>
                <a:cs typeface="Arial"/>
              </a:rPr>
              <a:t>وزارة العمل مسؤولة عن تنفيذ حقوق العمال، ولكنها غالباً ما تفشل في إنفاذ سياسة الحد الأدنى للأجور، إذا ما أخذنا في الاعتبار المقاومة القوية من شركات الأعمال الكبرى. وغالباً ما يخشى العمال من الانتقام إن هم طالبوا بحقوقهم، عندما نأخذ في الحسبان أنهم يفتقرون إلى حماية الحكومة لهم من الإساءات التي يتعرّضون لها من مالكي الأراضي. وما تزال النساء القرويات، على وجه الخصوص، يواجهن التمييز فيما يتعلق بالأجور وملكية الأراضي، ولا يملكن وثائق هوية في أغلب الأحيان. (اقتباس من تقرير المقرر الخاص حول الحق في الغذاء من زيارة قُطرية 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 الروابط بين السلام والأمن، والتنمية وحقوق الإنسان ليست أمراً جديداً، وإنما هي، في واقع الحال، تقع في صميم الأمم المتحدة. فالمادة الأولى من ميثاق الأمم المتحدة تصف مقاصد منظمة الأمم المتحدة وأهدافها على النحو التالي، ومقاصد الأمم المتحدة ه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حفظ السلام والأمن على المستوى الدولي، وتحقيقاً لهذه الغاية تتَّخذ المنظمة التدابير المشتركة الفعالة لمنع الأسباب التي تُهدِّد السلم ولإزالتها، وتقمع أعمال العدوان وغيرها من وجوه الإخلال بالسلم، وتتذرَّع بالوسائل السلمية، وفقاً لمبادئ العدل والقانون الدولي، لحل المنازعات أو الحالات الدولية المتنازع فيها، والتي قد تؤدي إلى الإخلال بالسلم، أو لتسويتها.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ماء العلاقات الودية بين الأمم على أساس احترام المبدأ الذي يقضي بالمساواة في الحقوق بين الشعوب وبأن يكون لكل منها حق تقرير مصيرها، وكذلك اتخاذ التدابير الأخرى الملائمة لتعزيز السلم العام.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تحقيق التعاون الدولي على حل المسائل الدولية ذات الصبغة الاقتصادية والاجتماعية والثقافية والإنسانية، وعلى تعزيز احترام حقوق الإنسان والحريات الأساسية للناس جميعاً والتشجيع على ذلك إطلاقاً بلا تمييز بسبب العرق أو اللغة أو الدين أو الجنس (أي لا تفريق بين الرجال والنساء).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جعل هذه المنظمة مرجعاً لتنسيق أعمال الأمم وتوجيهها نحو إدراك هذه الغايات المشتركة.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ورغم وجود هذه الرؤية التقدُّمية للأمم المتحدة لكي تعمل بطريقة منسَّقة ومتناغمة، فإن الوقائع التاريخية عصفت بهذه الرؤية عن طريق خلق متاهة، تولَّت فيها أوجه التفضيل السياسية قيادة الطريق صوب خلق سياسة موازية ومسارات برامجية لا تلتقي إلا في أحيان نادرة. ولم تتلاقَ هذه الأشياء معاً إلا في عقد التسعينيات من العام الماض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لقد بدأت المؤتمرات العالمية للأمم المتحدة (التي عقدت في كوبنهاغن، وڤينّا، وبكين والقاهرة وغيرها)، بالتشديد على الروابط بين التنمية البشرية وحقوق الإنسان، وأكَّدت بشكل خاص أنَّ الحقوق الإنسانية للمرأة تعتبر (جزءاً محورياً) من حقوق الإنسان. وبعد انعقاد هذه المؤتمرات العالمية المهمة، فإن أمين عام الأمم المتحدة كوفي أنان هو الذي نقل هذه التطورات إلى المستوى التالي من العمل، عندما أعلن أجندته (برنامج عمله) لعملية إصلاح الأمم المتحدة في عام </a:t>
            </a:r>
            <a:r>
              <a:rPr b="0" lang="ar-JO" sz="1000" spc="-1" strike="noStrike">
                <a:solidFill>
                  <a:srgbClr val="000000"/>
                </a:solidFill>
                <a:latin typeface="Arial"/>
                <a:ea typeface="Arial"/>
              </a:rPr>
              <a:t>1997</a:t>
            </a:r>
            <a:r>
              <a:rPr b="0" lang="ar-JO" sz="1000" spc="-1" strike="noStrike">
                <a:solidFill>
                  <a:srgbClr val="000000"/>
                </a:solidFill>
                <a:latin typeface="Arial"/>
                <a:ea typeface="Arial"/>
              </a:rPr>
              <a:t>.</a:t>
            </a:r>
            <a:r>
              <a:rPr b="0" lang="ar-JO"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9360" y="696960"/>
            <a:ext cx="4651560" cy="3487680"/>
          </a:xfrm>
          <a:prstGeom prst="rect">
            <a:avLst/>
          </a:prstGeom>
          <a:ln w="0">
            <a:noFill/>
          </a:ln>
        </p:spPr>
      </p:sp>
      <p:sp>
        <p:nvSpPr>
          <p:cNvPr id="653" name="PlaceHolder 2"/>
          <p:cNvSpPr>
            <a:spLocks noGrp="1"/>
          </p:cNvSpPr>
          <p:nvPr>
            <p:ph type="body"/>
          </p:nvPr>
        </p:nvSpPr>
        <p:spPr>
          <a:xfrm>
            <a:off x="398160" y="4241880"/>
            <a:ext cx="6062760" cy="491976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ظهر اللون اختلافاً بين مجموعتَي المبادئ. المبادئ باللون الأخضر تستهدف المحتوى، بينما المبادئ باللون الأبيض تستهدف العم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سيتم التعامل مع مبادئ حقوق الإنسان بشكل أكثر تفصيلاً من خلال عرض معلوماتي منفصل. أما هذا العرض فغرضه تقديم فهم سريع لتعريف "عالمية الحقوق" وعدم تعريف "قابلية التصرف فيها": </a:t>
            </a:r>
            <a:r>
              <a:rPr b="0" lang="ar-JO" sz="1200" spc="-1" strike="noStrike">
                <a:solidFill>
                  <a:srgbClr val="000000"/>
                </a:solidFill>
                <a:latin typeface="Arial"/>
                <a:cs typeface="Arial"/>
              </a:rPr>
              <a:t>حقوق الإنسان عالمية وغير قابلة للتصرف. فكل رجل وامرأة وطفل في كل مكان من العالم هم أصحاب للحقوق الإنسانية استناداً إلى كونهم بشراً. فالكائن البشري الذي تتأصل فيه تلك الحقوق، كجزء لا يتجزأ منه، لا يمكنه التخلي عن تلك الحقوق طوعاً، ولا يمكن للآخرين انتزاع تلك الحقوق منه. وتنص الماد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من الإعلان العالمي لحقوق الإنسان على أن "يولد جميع الناس أحرار متساوين في الكرامة". كذلك فإن الصفة العالمية للحقوق تشير إلى التزام جميع الدول باحترام حقوق الإنسان وحمايتها في الأدوات/الصكوك الدولية. وتشكل هذه الحقوق معياراً أساسياً أدنى يجب على كل دولة التقيد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a:t>
            </a:r>
            <a:r>
              <a:rPr b="1" lang="ar-JO" sz="1200" spc="-1" strike="noStrike">
                <a:solidFill>
                  <a:srgbClr val="000000"/>
                </a:solidFill>
                <a:latin typeface="Arial"/>
                <a:cs typeface="Arial"/>
              </a:rPr>
              <a:t>فجميعها</a:t>
            </a:r>
            <a:r>
              <a:rPr b="0" lang="ar-JO" sz="1200" spc="-1" strike="noStrike">
                <a:solidFill>
                  <a:srgbClr val="000000"/>
                </a:solidFill>
                <a:latin typeface="Arial"/>
                <a:ea typeface="Arial"/>
              </a:rPr>
              <a:t> متأصلة في كرامة كل شخص وملازمة لها. ونتيجة لذلك، تتمتع جميع الحقوق بوضع متساوٍ بوصفها حقوقاً، ولا يمكن تحديد مراتب 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ابطية والتشابكية</a:t>
            </a:r>
            <a:r>
              <a:rPr b="0" lang="ar-JO" sz="1200" spc="-1" strike="noStrike">
                <a:solidFill>
                  <a:srgbClr val="000000"/>
                </a:solidFill>
                <a:latin typeface="Arial"/>
                <a:ea typeface="Arial"/>
              </a:rPr>
              <a:t>: يعتمد إحقاق حق واحد غالباً على إحقاق الحقوق الأخرى، سواء أكان اعتماداً كلياً أم جزئياً. فعلى سبيل المثال، قد يعتمد إحقاق الحق في الصحة، في ظروف معينة، على إحقاق الحق في التعليم، والحق في الحصول على المعلومات، والحق في الغذاء والتغذية، والحق في الحصول على مياه مأمونة وصرف صحي وغيرها من الحقوق. فالفتاة التي تعاني من سوء التغذية تكون غير قادرة على الأداء في المدرسة والاستفادة من أي نوع من التعليم يمكّنها من المشاركة في المجتمع المدني والعملية الديمقراط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واة وعدم التمييز:</a:t>
            </a:r>
            <a:r>
              <a:rPr b="0" lang="ar-JO" sz="1200" spc="-1" strike="noStrike">
                <a:solidFill>
                  <a:srgbClr val="000000"/>
                </a:solidFill>
                <a:latin typeface="Arial"/>
                <a:ea typeface="Arial"/>
              </a:rPr>
              <a:t> جميع الأفراد متساوون بوصفهم كائنات بشرية واستناداً إلى الكرامة المتأصلة في كل شخص بشري والمُلازمة له. وجميع الكائنات البشرية تستحق التمتع بحقوقها الإنسانية من دون أي نوع من التمييز، مثل التمييز بسبب العرق، أو اللون، أو الجنس، أو العمر، أو اللغة، أو الدين، أو الرأي السياسي أو غيره، أو الأصل القومي أو الاجتماعي، والإعاقة، والملكية، والولادة، أو بسبب أي وضع كما تنصّ عليه معاهدات حقوق الإنسان، وكما تفسّره أيضاً هيئات المعاهدة المعنية ب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شاركة والشمول: </a:t>
            </a:r>
            <a:r>
              <a:rPr b="0" lang="ar-JO" sz="1200" spc="-1" strike="noStrike">
                <a:solidFill>
                  <a:srgbClr val="000000"/>
                </a:solidFill>
                <a:latin typeface="Arial"/>
                <a:cs typeface="Arial"/>
              </a:rPr>
              <a:t>جميع الأشخاص والشعوب يستحقون المشاركة الفعالة والحرة والمفيدة، والإسهام في عملية التنمية المدنية والاقتصادية والاجتماعية والثقافية والسياسية والتمتع بها، حيث يمكن في هذه العملية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ءلة وحكم القانون: </a:t>
            </a:r>
            <a:r>
              <a:rPr b="0" lang="ar-JO" sz="1200" spc="-1" strike="noStrike">
                <a:solidFill>
                  <a:srgbClr val="000000"/>
                </a:solidFill>
                <a:latin typeface="Arial"/>
                <a:cs typeface="Arial"/>
              </a:rPr>
              <a:t>إن الدول وغيرها من القائمين بالواجبات يخضعون كلهم للمساءَلة عن مراعاة حقوق الإنسان. وفي هذا الشأن، يجب عليهم الالتزام بالمعايير والأعراف القانونية التي تكرّسها أدوات / صكوك حقوق الإنسان. وحيثما تفشل هذه الأطراف في القيام بذلك، يحق لأصحاب الحقوق المتضرِّرين إقامة الدعاوى سعياً وراء الإنصاف ووضع الحقوق في نصا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51200" cy="3487680"/>
          </a:xfrm>
          <a:prstGeom prst="rect">
            <a:avLst/>
          </a:prstGeom>
          <a:ln w="0">
            <a:noFill/>
          </a:ln>
        </p:spPr>
      </p:sp>
      <p:sp>
        <p:nvSpPr>
          <p:cNvPr id="65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ڤينّا عام </a:t>
            </a:r>
            <a:r>
              <a:rPr b="1" lang="ar-JO" sz="1200" spc="-1" strike="noStrike">
                <a:solidFill>
                  <a:srgbClr val="000000"/>
                </a:solidFill>
                <a:latin typeface="Arial"/>
                <a:ea typeface="Arial"/>
              </a:rPr>
              <a:t>199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معاملة حقوق الإنسان، على المستوى العالمي، بطريقة متكافئة وعادلة، وعلى قدم المساواة وبالمستوى نفسه من الاهتمام. وبينما يجب أن نأخذ بعين الاعتبار أهمية الخصوصيات، الوطنية والإقليمية، ومختلف الخلفيات التاريخية والثقافية والدينية، فإن واجب الدول يقتضي تعزيز جميع حقوق الإنسان والحريات الأساسية وحمايتها، بصرف النظر عن الأنظمة السياسية والاقتصادية والثقافية لتلك الد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ستكون الخطوات الملموسة التي يتم اتخاذها لتنفيذ كل من اتفاقية القضاء على جميع أشكال التمييز ضد المرأة، والمعاهدات الدولية الأخرى لحقوق الإنسان مختلفة في مختلف الدول. ويجب أن تكون ملائمة لها من الناحية الثقافية، غير أن اتفاقيةَ القضاء على جميع أشكال التمييز ضد المرأة واضحةٌ من حيث إن المطالبات القائمة على الثقافة لا تتفوّق أو تتغلَّب "</a:t>
            </a:r>
            <a:r>
              <a:rPr b="1" lang="en-US" sz="1200" spc="-1" strike="noStrike">
                <a:solidFill>
                  <a:srgbClr val="000000"/>
                </a:solidFill>
                <a:latin typeface="Arial"/>
                <a:ea typeface="굴림"/>
              </a:rPr>
              <a:t>trump</a:t>
            </a:r>
            <a:r>
              <a:rPr b="1" lang="ar-JO" sz="1200" spc="-1" strike="noStrike">
                <a:solidFill>
                  <a:srgbClr val="000000"/>
                </a:solidFill>
                <a:latin typeface="Arial"/>
                <a:ea typeface="Arial"/>
              </a:rPr>
              <a:t>" على حقوق الإنسان، إذا كانت الجوانب الثقافية أو التقاليدية تمييزية في طابعها. ويجب العمل نحو القضاء على التمييز ضد المرأة في هذا المستوى، تماماً كما يجب العمل على مستوى القوانين والسياس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سهِّلُ فهمُ معتقدات الناس وقيمهم تنفيذ النهج القائم على حقوق الإنسان: على سبيل المثال، فإن إطلاق الحملات لوضع حد لختان الإناث لا يعتبر قراراً ذا قيمة في أيّ من الثقافات الإفريقية التي يتم فيها ممارسة ذلك، بل إنّه قرار مفاده أنَّ هذه الممارسة تنتهك الحق في سلامة الجسم وتكامله، والحق في التحرّر من التمييز القائم على النوع الاجتماعي، والحق في الصحة من بين غيرها من الحقوق. ويُؤكد المنظور القائم على حقوق الإنسان أن حقوق المرأة والفتاة في سلامة الجسم وتكامله، والتحرر من التمييز والحق في الحصول على مستويات الصحة، هي حقوق عالمية. ولا يمكن الاستشهاد بالمطالب الثقافية لتبرير الانتهاك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بعض الممارسات الثقافية مطالبات تنادي بها حقوق الإنسان: فعلى سبيل المثال، الحقوق في الهوية للسكان الأصليين (اتفاقية منظمة العمل الدولية رقم </a:t>
            </a:r>
            <a:r>
              <a:rPr b="1" lang="ar-JO" sz="1200" spc="-1" strike="noStrike">
                <a:solidFill>
                  <a:srgbClr val="000000"/>
                </a:solidFill>
                <a:latin typeface="Arial"/>
                <a:ea typeface="Arial"/>
              </a:rPr>
              <a:t>169</a:t>
            </a:r>
            <a:r>
              <a:rPr b="1" lang="ar-JO" sz="1200" spc="-1" strike="noStrike">
                <a:solidFill>
                  <a:srgbClr val="000000"/>
                </a:solidFill>
                <a:latin typeface="Arial"/>
                <a:ea typeface="Arial"/>
              </a:rPr>
              <a:t>) أو حق الطفل الذي ينتمي إلى أقلية في التمتع بثقافته ودينه ولغته الخاصة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حق في الصحة في بيرو – عندما استمرت مستويات وفيات الأمهات في المجتمعات "الأنديزية" في بلوغ ثلاثة أضعاف معدلها القومي، تم الاكتشاف أنَّ من بين العوامل التي أسهمت في ذلك تشمل حقيقة مفادها أن الأمهات "الأنديزيات" يرفضن مراجعة عيادات الأمومة، حيث اعتبرن أنها لا تراعي حساسية ثقافتهن وتقاليدهن، حيث كانت تلك العيادات قائمةً على ممارسات طبية حديثة. وقد ساعدت الجلسات التشاورية مع النساء "الأنديزيات" اليونيسفَ في تقديم العون لمقدمي الخدمات الصحية لجعل الممارسات الصحية تشتمل على ما تفضله النساء من أنواع الشاي بنكهات الأعشاب المختلفة، ووضعيات الولادة، ومعالجة المشيمة، والألوان المقبولة في غرف الولادة، والخصوصية في التعامل مع الطاقم الطبي الذكوري، وغيرها من الجوانب التي تنسجم مع الثقافة "الأنديزية". ونتيجة لذلك التدخل، كان الانخفاض في وفيات الأمهات والأطفال ملحوظ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جزء من الاستراتيجية الوطنية لبرنامج الإكوادور القُطري، الذي ينفذه صندوق الأمم المتحدة للسكان، التي تهدف إلى تلبية احتياجات المجتمعات الأشد فقراً والتي لا تتلقى خدمات كافية، فقد عمل البرنامج على تمويل مشروع ابتكاري في "أوتاڤالو </a:t>
            </a:r>
            <a:r>
              <a:rPr b="1" lang="en-US" sz="1200" spc="-1" strike="noStrike">
                <a:solidFill>
                  <a:srgbClr val="000000"/>
                </a:solidFill>
                <a:latin typeface="Arial"/>
                <a:ea typeface="굴림"/>
              </a:rPr>
              <a:t>Otavalo</a:t>
            </a:r>
            <a:r>
              <a:rPr b="1" lang="ar-JO" sz="1200" spc="-1" strike="noStrike">
                <a:solidFill>
                  <a:srgbClr val="000000"/>
                </a:solidFill>
                <a:latin typeface="Arial"/>
                <a:ea typeface="Arial"/>
              </a:rPr>
              <a:t>" لتحسين نوعية ومدى الرعاية الصحية الإنجابية المقدمة للمجتمعات المتحدثة بلغة "كويتشوا </a:t>
            </a:r>
            <a:r>
              <a:rPr b="1" lang="en-US" sz="1200" spc="-1" strike="noStrike">
                <a:solidFill>
                  <a:srgbClr val="000000"/>
                </a:solidFill>
                <a:latin typeface="Arial"/>
                <a:ea typeface="굴림"/>
              </a:rPr>
              <a:t>Quechua</a:t>
            </a:r>
            <a:r>
              <a:rPr b="1" lang="ar-JO" sz="1200" spc="-1" strike="noStrike">
                <a:solidFill>
                  <a:srgbClr val="000000"/>
                </a:solidFill>
                <a:latin typeface="Arial"/>
                <a:ea typeface="Arial"/>
              </a:rPr>
              <a:t>" على وجه الخصوص. وقد سمح هذا الدعم لعيادة "جامبي هواسي" الصحية، التي تم تأسيسها عام </a:t>
            </a:r>
            <a:r>
              <a:rPr b="1" lang="ar-JO" sz="1200" spc="-1" strike="noStrike">
                <a:solidFill>
                  <a:srgbClr val="000000"/>
                </a:solidFill>
                <a:latin typeface="Arial"/>
                <a:ea typeface="Arial"/>
              </a:rPr>
              <a:t>1994</a:t>
            </a:r>
            <a:r>
              <a:rPr b="1" lang="ar-JO" sz="1200" spc="-1" strike="noStrike">
                <a:solidFill>
                  <a:srgbClr val="000000"/>
                </a:solidFill>
                <a:latin typeface="Arial"/>
                <a:cs typeface="Arial"/>
              </a:rPr>
              <a:t>، بتوسيع خدماتها ورفع كفاءتها، والبدء ببرنامج للتواصل الميداني، وتقديم البرامج التثقيفية والمعلوماتية عن الصحة الإنجابية للنساء والرجال واليافعين وإدخال نظام إحالة لحالات التوليد المعقدة. وتُقدِّم هذه العيادة "جامبي هواسي" كلاً من العلاجات الطبية الحديثة والتقليدية، بالإضافة إلى تقديم المشورة والخدمات الخاصة بتنظيم الأسرة. ويسحب ممارسو الطب الشعبي (التقليدي) من إحدى الصيدليات ما يزيد على </a:t>
            </a:r>
            <a:r>
              <a:rPr b="1" lang="ar-JO" sz="1200" spc="-1" strike="noStrike">
                <a:solidFill>
                  <a:srgbClr val="000000"/>
                </a:solidFill>
                <a:latin typeface="Arial"/>
                <a:ea typeface="Arial"/>
              </a:rPr>
              <a:t>3.600</a:t>
            </a:r>
            <a:r>
              <a:rPr b="1" lang="ar-JO" sz="1200" spc="-1" strike="noStrike">
                <a:solidFill>
                  <a:srgbClr val="000000"/>
                </a:solidFill>
                <a:latin typeface="Arial"/>
                <a:ea typeface="Arial"/>
              </a:rPr>
              <a:t> نبتة محلية تُستخدم للأغراض الطبية. وقد أدت مجموعة الخدمات الفريدة التي توفرها هذه العيادة إلى جعلها مشهورةً جداً. وبالرغم من أنها أُنشأت في بادئ الأمر لتقديم الخدمة إلى حوالي </a:t>
            </a:r>
            <a:r>
              <a:rPr b="1" lang="ar-JO" sz="1200" spc="-1" strike="noStrike">
                <a:solidFill>
                  <a:srgbClr val="000000"/>
                </a:solidFill>
                <a:latin typeface="Arial"/>
                <a:ea typeface="Arial"/>
              </a:rPr>
              <a:t>4.000</a:t>
            </a:r>
            <a:r>
              <a:rPr b="1" lang="ar-JO" sz="1200" spc="-1" strike="noStrike">
                <a:solidFill>
                  <a:srgbClr val="000000"/>
                </a:solidFill>
                <a:latin typeface="Arial"/>
                <a:ea typeface="Arial"/>
              </a:rPr>
              <a:t> شخص في السنة، إلا أنها ومع حلول عام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كانت تقدم الخدمات إلى ما يقارب </a:t>
            </a:r>
            <a:r>
              <a:rPr b="1" lang="ar-JO" sz="1200" spc="-1" strike="noStrike">
                <a:solidFill>
                  <a:srgbClr val="000000"/>
                </a:solidFill>
                <a:latin typeface="Arial"/>
                <a:ea typeface="Arial"/>
              </a:rPr>
              <a:t>1.000</a:t>
            </a:r>
            <a:r>
              <a:rPr b="1" lang="ar-JO" sz="1200" spc="-1" strike="noStrike">
                <a:solidFill>
                  <a:srgbClr val="000000"/>
                </a:solidFill>
                <a:latin typeface="Arial"/>
                <a:ea typeface="Arial"/>
              </a:rPr>
              <a:t> شخص شهرياً، بعضهم يأتي من مسافة تبعد </a:t>
            </a:r>
            <a:r>
              <a:rPr b="1" lang="ar-JO" sz="1200" spc="-1" strike="noStrike">
                <a:solidFill>
                  <a:srgbClr val="000000"/>
                </a:solidFill>
                <a:latin typeface="Arial"/>
                <a:ea typeface="Arial"/>
              </a:rPr>
              <a:t>50</a:t>
            </a:r>
            <a:r>
              <a:rPr b="1" lang="ar-JO" sz="1200" spc="-1" strike="noStrike">
                <a:solidFill>
                  <a:srgbClr val="000000"/>
                </a:solidFill>
                <a:latin typeface="Arial"/>
                <a:ea typeface="Arial"/>
              </a:rPr>
              <a:t> كليومتراً عن العيا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حاول عيادة "جامبي هواسي" الجمع بين نظامَي الرعاية الولادية، فإنها تبحث من جهة في موضوع الثقة التي تضعها النساء المنحدرات من السكان الأصليين في القابلات التقليديات بسبب الدور الذي يلعبنه في المجتمع، وتقدّم من جهة أخرى خدمة مؤسسية قادرة فنياً على حل التعقيدات، إضافة إلى تقديم نظام الإحالة في حالات الولادة الطارئ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 تركيز عمل صندوق الأمم المتحدة للسكان، منذ البداية، مراعياً للرؤية الكونية "</a:t>
            </a:r>
            <a:r>
              <a:rPr b="1" lang="en-US" sz="1200" spc="-1" strike="noStrike">
                <a:solidFill>
                  <a:srgbClr val="000000"/>
                </a:solidFill>
                <a:latin typeface="Arial"/>
                <a:ea typeface="굴림"/>
              </a:rPr>
              <a:t>cosmo-vision</a:t>
            </a:r>
            <a:r>
              <a:rPr b="1" lang="ar-JO" sz="1200" spc="-1" strike="noStrike">
                <a:solidFill>
                  <a:srgbClr val="000000"/>
                </a:solidFill>
                <a:latin typeface="Arial"/>
                <a:ea typeface="Arial"/>
              </a:rPr>
              <a:t>" التي تدرك بأن المرء ليس بوسعه أن يُفاتِح السكان الأصليين بالطريقة نفسها التي يستطيع بوساطتها مفاتحة السكان الهجين "</a:t>
            </a:r>
            <a:r>
              <a:rPr b="1" lang="en-US" sz="1200" spc="-1" strike="noStrike">
                <a:solidFill>
                  <a:srgbClr val="000000"/>
                </a:solidFill>
                <a:latin typeface="Arial"/>
                <a:ea typeface="굴림"/>
              </a:rPr>
              <a:t>mestizo</a:t>
            </a:r>
            <a:r>
              <a:rPr b="1" lang="ar-JO" sz="1200" spc="-1" strike="noStrike">
                <a:solidFill>
                  <a:srgbClr val="000000"/>
                </a:solidFill>
                <a:latin typeface="Arial"/>
                <a:ea typeface="Arial"/>
              </a:rPr>
              <a:t>". إذ هَدَفَ الدعم الذي يقدمه صندوق الأمم المتحدة للسكان إلى تقوية القدرات على إعداد مقترح للصحة متداخل الثقافات وقيادة ذلك المقتر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علَّمت المجتمعاتُ الناطقة بلغة "كويتشوا" قدراً أكبر من المعرفة عن قضايا الصحة الإنجابية وكيفية رعاية أطفالها وحديثي الولادة لديها بشكل أفضل، ارتفعت معدلات انتشار وسائل منع الحمل من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إلى </a:t>
            </a:r>
            <a:r>
              <a:rPr b="1" lang="ar-JO" sz="1200" spc="-1" strike="noStrike">
                <a:solidFill>
                  <a:srgbClr val="000000"/>
                </a:solidFill>
                <a:latin typeface="Arial"/>
                <a:ea typeface="Arial"/>
              </a:rPr>
              <a:t>40</a:t>
            </a:r>
            <a:r>
              <a:rPr b="1" lang="ar-JO" sz="1200" spc="-1" strike="noStrike">
                <a:solidFill>
                  <a:srgbClr val="000000"/>
                </a:solidFill>
                <a:latin typeface="Arial"/>
                <a:ea typeface="Arial"/>
              </a:rPr>
              <a:t>% في المناطق التي تقدم عيادة "جامبي هواسي" الخدمات لها. وقد غيَّرت هذه العيادة المنظور الصحي لمزيج متآلف من الطب التقليدي والغربي. وفي الوقت الحالي، يستخدم السكان الهجين والأصليون خدمات عيادة "جامبي هواسي". وتنتقل هذه العيادة في الوقت الحاضر من كونها مشروعاً "تجريبياً" إلى "سياسات عامة" مما يؤثر في توجه وزارة الصحة لإدخال المنظور الثقافي في عمل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9360" y="696960"/>
            <a:ext cx="4651560" cy="3487680"/>
          </a:xfrm>
          <a:prstGeom prst="rect">
            <a:avLst/>
          </a:prstGeom>
          <a:ln w="0">
            <a:noFill/>
          </a:ln>
        </p:spPr>
      </p:sp>
      <p:sp>
        <p:nvSpPr>
          <p:cNvPr id="65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عامل الشرائح التالية مع قضايا مثل تعريف "القائمين بالواجبات" و"أصحاب المطالبات"، والعلاقة بينهما بالإضافة إلى تنمية القدر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نصبُّ مركز اهتمام العلاقات بين  الدولة والأفراد على الحاجة إلى العمل صوبَ تحقيق توازن في الصلاحيات يكون فعَّالاً وعادِلاً بين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2600" y="695160"/>
            <a:ext cx="4653000" cy="3489480"/>
          </a:xfrm>
          <a:prstGeom prst="rect">
            <a:avLst/>
          </a:prstGeom>
          <a:ln w="0">
            <a:noFill/>
          </a:ln>
        </p:spPr>
      </p:sp>
      <p:sp>
        <p:nvSpPr>
          <p:cNvPr id="659" name="PlaceHolder 2"/>
          <p:cNvSpPr>
            <a:spLocks noGrp="1"/>
          </p:cNvSpPr>
          <p:nvPr>
            <p:ph type="body"/>
          </p:nvPr>
        </p:nvSpPr>
        <p:spPr>
          <a:xfrm>
            <a:off x="701280" y="4416480"/>
            <a:ext cx="560700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التزامات حقوق الإنسان متعلقة أيضاً بأفراد القطاع الخاص، والمنظمات الدولية، وغيرهم من الجهات الفاعلة غير الحكومية. وثمة التزامات واضحة منوطة بالآباء، على سبيل المثال، بمقتضى اتفاقية حقوق الطفل، وتُلْزَم الدول بالتعاون مع بعضها بعضاً للقضاء على العقبات التي تواجه التنمية. وإضافة إلى ذلك، هناك مسؤوليات عامة ملقاة على كاهل الأفراد تجاه المجتمع كله، ويجب عليهم، على أقل تقدير، احترام الحقوق الإنسانية للآخر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ير أن الدولة تظلّ القائم الرئيس بالواجبات بمقتضى القانون الدولي، ولا يمكنها إلغاء واجبها المتمثل في تهيئة بيئة تنظيمية ملائمة لنشاطات ومسؤوليات القطاع الخاص ووضعها موضع التنفيذ. ويجب أن توضح السياسات والتشريعات الوطنية بالتفصيل كيفية أداء الدولة التزاماتها تجاه حقوق الإنسان على المستويات الوطنية والأقاليمية/المناطقية والمحلية، ومدى تحمل الأفراد والشركاء ووحدات الحكومات المحلية، والمنظمات غير الحكومية وغيرها من كيانات المجتمع العضوية المسؤولة عن التنفيذ بشكل مباش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صحاب الحقو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سهم البرامج في تنمية قدرات أصحاب الحقوق على المطالبة بحقوقهم. ويعتبر كل فرد صاحب حقوق ويستحق الحصول على الحقوق ذاتها من دون تمييز. وإلى حد ما، فإن الجماعات السكانية كذلك تستحق التمتع بحقوق الإنسان. ويطالب النهج القائم على حقوق الإنسان بإيلاء اهتمام خاص لدعم أعضاء الجماعات المعرضة للتمييز، أو تلك التي تعاني من الحرمان أو الإقصاء، للمطالبة بحقوق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9360" y="696960"/>
            <a:ext cx="4651560" cy="3487680"/>
          </a:xfrm>
          <a:prstGeom prst="rect">
            <a:avLst/>
          </a:prstGeom>
          <a:ln w="0">
            <a:noFill/>
          </a:ln>
        </p:spPr>
      </p:sp>
      <p:sp>
        <p:nvSpPr>
          <p:cNvPr id="66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درة</a:t>
            </a:r>
            <a:r>
              <a:rPr b="0" lang="ar-JO" sz="1200" spc="-1" strike="noStrike">
                <a:solidFill>
                  <a:srgbClr val="000000"/>
                </a:solidFill>
                <a:latin typeface="Arial"/>
                <a:ea typeface="Arial"/>
              </a:rPr>
              <a:t>: قدرة الأفراد والمنظمات والمجتمعات على أداء وظائفها، وحل المشكلات، ووضع الأهداف الفردية وتحقي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مية القدرات: </a:t>
            </a:r>
            <a:r>
              <a:rPr b="0" lang="ar-JO" sz="1200" spc="-1" strike="noStrike">
                <a:solidFill>
                  <a:srgbClr val="000000"/>
                </a:solidFill>
                <a:latin typeface="Arial"/>
                <a:cs typeface="Arial"/>
              </a:rPr>
              <a:t>الخلق المستمر والمستدام للقدرات واستخدامها والاحتفاظ ب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درات أصحاب الحقوق على: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فهم حقوقهم.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صياغة المطالب الملقاة على عاتق الدولة للوفاء بهذه الحقوق.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السعي إلى تصويب الأوضاع والإنصاف إن تم انتهاك حقوق أصحاب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قيامنا بتنمية قدرات أصحاب الحقوق فإننا نعمل على تمكينهم من المطالبة بحقوق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 </a:t>
            </a:r>
            <a:r>
              <a:rPr b="0" lang="ar-JO" sz="1200" spc="-1" strike="noStrike">
                <a:solidFill>
                  <a:srgbClr val="000000"/>
                </a:solidFill>
                <a:latin typeface="Arial"/>
                <a:cs typeface="Arial"/>
              </a:rPr>
              <a:t>قدرة الدولة على جميع المستويات (جميع سُلطات الدولة، وجميع قطاعات الحكومة، على المستويات الوطنية والأقاليمية/المناطقية والبلدية) على الوفاء بالتزاماتها تجاه احترام الحقوق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حترام / الواجب نحو احترام الحقوق: </a:t>
            </a:r>
            <a:r>
              <a:rPr b="0" lang="ar-JO" sz="1200" spc="-1" strike="noStrike">
                <a:solidFill>
                  <a:srgbClr val="000000"/>
                </a:solidFill>
                <a:latin typeface="Arial"/>
                <a:cs typeface="Arial"/>
              </a:rPr>
              <a:t>يتطلب من القائمين بالواجبات الامتناع عن التدخل بشكل مباشر أو غير مباشر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حماية الحقوق: </a:t>
            </a:r>
            <a:r>
              <a:rPr b="0" lang="ar-JO" sz="1200" spc="-1" strike="noStrike">
                <a:solidFill>
                  <a:srgbClr val="000000"/>
                </a:solidFill>
                <a:latin typeface="Arial"/>
                <a:cs typeface="Arial"/>
              </a:rPr>
              <a:t>يتطلب من القائمين بالواجبات اتخاذ التدابير التي تمنع الأطراف الثالثة من التدخل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بالحقوق (التسهيل أو التيسير):</a:t>
            </a:r>
            <a:r>
              <a:rPr b="0" lang="ar-JO" sz="1200" spc="-1" strike="noStrike">
                <a:solidFill>
                  <a:srgbClr val="000000"/>
                </a:solidFill>
                <a:latin typeface="Arial"/>
                <a:ea typeface="Arial"/>
              </a:rPr>
              <a:t> يتطلب من القائمين بالواجبات إقرار التدابير التشريعية والإدارية والقضائية والتعزيزية وتدابير المَيْزَنة الملائمة كلها وغيرها من التدابير الأخرى تجاه الإحقاق التام ل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الحقوق (التقديم): </a:t>
            </a:r>
            <a:r>
              <a:rPr b="0" lang="ar-JO" sz="1200" spc="-1" strike="noStrike">
                <a:solidFill>
                  <a:srgbClr val="000000"/>
                </a:solidFill>
                <a:latin typeface="Arial"/>
                <a:cs typeface="Arial"/>
              </a:rPr>
              <a:t>يتطلب من القائمين بالواجبات تقديم المساعدة أو الخدمات بشكل مباشر لإحقاق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تنمية قدرات الدولة على احترام الحقوق وحمايتها وإحقاقها (أو الوفاء بها)، فإن مؤسسات الدولة وموظفيها سيصبحون أكثر عرضة للمساء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رادة السياسية (الالتزام) والقدرة.</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A07D46A-E56C-47F0-9335-43FC5B80B87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3"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64"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65"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79360" y="696960"/>
            <a:ext cx="4651560" cy="3487680"/>
          </a:xfrm>
          <a:prstGeom prst="rect">
            <a:avLst/>
          </a:prstGeom>
          <a:ln w="0">
            <a:noFill/>
          </a:ln>
        </p:spPr>
      </p:sp>
      <p:sp>
        <p:nvSpPr>
          <p:cNvPr id="667"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هذه الشريحة عملية البرمجة المشتركة لدى الأمم المتحدة، ويجب استخدامها لتوضيح بعض العناصر المعنية بالفهم المشترك لدى الأمم المتحدة للنهج القائم على حقوق الإنسان، التي تم شرحها خلال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هذه الشريحة مرتبطة بالجلسات التالية، التي تشرح القيمة التي يضيفها النهج القائم على حقوق الإنسان لكل مرحلة من مراحل عملية البرمج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51560" cy="3487680"/>
          </a:xfrm>
          <a:prstGeom prst="rect">
            <a:avLst/>
          </a:prstGeom>
          <a:ln w="0">
            <a:noFill/>
          </a:ln>
        </p:spPr>
      </p:sp>
      <p:sp>
        <p:nvSpPr>
          <p:cNvPr id="66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فسِّر الشرائح التالية معنى مبادئ حقوق الإنسان والمضامين العملية لها، في تقوية الأنظمة الوطنية لحماية حقوق الإنسان، من خلال ا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إذا قرر الشخص المرجعي (الخبير) إدارة عملية لعب الأدوار، يمكن استخدام هذه الشرائح كقائمة تحقَّق لاستخلاص النتائج من عملية لعب الأدو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صرف النظر عن القيام أم لا بلعب الأدوار، من الممكن استخدام هذه الشرائح دائماً لتسهيل نقاش جلسات مجموعات العمل أو الجلسات الع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51200" cy="3487680"/>
          </a:xfrm>
          <a:prstGeom prst="rect">
            <a:avLst/>
          </a:prstGeom>
          <a:ln w="0">
            <a:noFill/>
          </a:ln>
        </p:spPr>
      </p:sp>
      <p:sp>
        <p:nvSpPr>
          <p:cNvPr id="6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a:t>
            </a:r>
            <a:r>
              <a:rPr b="0" lang="ar-JO" sz="1200" spc="-1" strike="noStrike">
                <a:solidFill>
                  <a:srgbClr val="000000"/>
                </a:solidFill>
                <a:latin typeface="Arial"/>
                <a:ea typeface="Arial"/>
              </a:rPr>
              <a:t>: هل يعتبر مبدأ "عالمية" حقوق الإنسان مشابهاً لمبدئي المساواة وعدم التمييز؟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جواب</a:t>
            </a:r>
            <a:r>
              <a:rPr b="0" lang="ar-JO" sz="1200" spc="-1" strike="noStrike">
                <a:solidFill>
                  <a:srgbClr val="000000"/>
                </a:solidFill>
                <a:latin typeface="Arial"/>
                <a:ea typeface="Arial"/>
              </a:rPr>
              <a:t>: يهتم مبدأ "عالمية" حقوق الإنسان وعدم قابلية التصرف بها، من حيث الجوهر، بعدم إغفال أو إقصاء أي إنسان من التمتُّع بحقوق الإنسان، بينما يهتم مبدأ المساواة ومبدأ عدم التمييز، في جوهرهما، بعدم ممارسة أنماط التمييز المحدّدة التي تم حصرها في معاهدات حقوق الإنسان، وذلك لتحقيق المساواة للجماعات المعرّضة للتمييز في الوقت الراه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عالمية ومبدأ عدم القابلية للتصرف</a:t>
            </a:r>
            <a:r>
              <a:rPr b="0" lang="ar-JO" sz="1200" spc="-1" strike="noStrike">
                <a:solidFill>
                  <a:srgbClr val="000000"/>
                </a:solidFill>
                <a:latin typeface="Arial"/>
                <a:ea typeface="Arial"/>
              </a:rPr>
              <a:t>: إنّ حقوقَ الإنسان عالميةٌ وغير قابلة للتصرف. فكل رجل وامرأة وطفل في كل مكان في العالم يستحقون التمتّع بهذه الحقوق. والكائن البشري الذي تتأصل فيه هذه الحقوق لا يمكنه التخلي عنها طوعاً. ولا يستطيع الآخرون أن ينتزعوا هذه الحقوق منه.  وحسبما تنص عليه المادة الأولى من الإعلان العالمي لحقوق الإنسان، فإن "جميع الناس يولدون أحراراً ومتساوين في الكرامة و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راد طرحه هو: هل </a:t>
            </a:r>
            <a:r>
              <a:rPr b="0" lang="ar-JO" sz="1200" spc="-1" strike="noStrike" u="sng">
                <a:solidFill>
                  <a:srgbClr val="000000"/>
                </a:solidFill>
                <a:uFillTx/>
                <a:latin typeface="Arial"/>
                <a:cs typeface="Arial"/>
              </a:rPr>
              <a:t>جميع</a:t>
            </a:r>
            <a:r>
              <a:rPr b="0" lang="ar-JO" sz="1200" spc="-1" strike="noStrike">
                <a:solidFill>
                  <a:srgbClr val="000000"/>
                </a:solidFill>
                <a:latin typeface="Arial"/>
                <a:cs typeface="Arial"/>
              </a:rPr>
              <a:t>ُ الناس في بلد معيّن قادرون على التمتع </a:t>
            </a:r>
            <a:r>
              <a:rPr b="0" lang="ar-JO" sz="1200" spc="-1" strike="noStrike" u="sng">
                <a:solidFill>
                  <a:srgbClr val="000000"/>
                </a:solidFill>
                <a:uFillTx/>
                <a:latin typeface="Arial"/>
                <a:cs typeface="Arial"/>
              </a:rPr>
              <a:t>بجميع</a:t>
            </a:r>
            <a:r>
              <a:rPr b="0" lang="ar-JO" sz="1200" spc="-1" strike="noStrike">
                <a:solidFill>
                  <a:srgbClr val="000000"/>
                </a:solidFill>
                <a:latin typeface="Arial"/>
                <a:ea typeface="Arial"/>
              </a:rPr>
              <a:t> حقوقهم الإنسانية؟ فعلى سبيل المثال، هل يستطيعُ الرجال والنساء التمتع بحقوقهم الإنسان على قدم المساواة؟ هل يستطيع الأطفال واليافعون والأقليات وغيرهم من الجماعات السكانية التمتع بحقوقهم؟ ونشير بقولنا </a:t>
            </a:r>
            <a:r>
              <a:rPr b="0" lang="ar-JO" sz="1200" spc="-1" strike="noStrike" u="sng">
                <a:solidFill>
                  <a:srgbClr val="000000"/>
                </a:solidFill>
                <a:uFillTx/>
                <a:latin typeface="Arial"/>
                <a:ea typeface="Arial"/>
              </a:rPr>
              <a:t>"جميع</a:t>
            </a:r>
            <a:r>
              <a:rPr b="0" lang="ar-JO" sz="1200" spc="-1" strike="noStrike">
                <a:solidFill>
                  <a:srgbClr val="000000"/>
                </a:solidFill>
                <a:latin typeface="Arial"/>
                <a:ea typeface="Arial"/>
              </a:rPr>
              <a:t> حقوقهم الإنسانية" إلى تلك الحقوق التي تم الاعتراف بها في المعاهدات الدولية لحقوق الإنسان، بما فيها الإعلان العالم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ينما تستحق جميع الكائنات البشرية التمتّع بحقوقها الإنسانية، توجد جماعات من الناس من المحتمل، على الأغلب، أن يتم إغفالها أو تهميشها، وتعتبر حقوقها معرَّضة على الأغلب لخطر الانتهاك أو البقاء من دون إحقاق. ويُطالب النهج القائم على حقوق الإنسان بأن نأخذ هذه النتيجة السلبية الكامنة في الحسبان. وبناء على ذلك، نحتاج إلى ضمان أن يُولي القائمون بالواجبات الاهتمام – ليس فقط بغالبية الناس – بل بأكثر الجماعات السكانية تهميشاً وإقصاءً أيضاً. وبالمثل، يجب على برامج الأمم المتحدة ضمان هذا الوصول الميداني إلى تلك الجماعات وشمولها في الاهتمام. ويعتبر أولئك الذين يعانون من أشكال متعددة من الحرمان، مثل أشد الفقراء فقراً، أو الأقليات الإثنية القروية، من بين الجماعات الأكثر عرضة لخطر البقاء مُغْفَلين مستبعدين من إطار حماية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51200" cy="3487680"/>
          </a:xfrm>
          <a:prstGeom prst="rect">
            <a:avLst/>
          </a:prstGeom>
          <a:ln w="0">
            <a:noFill/>
          </a:ln>
        </p:spPr>
      </p:sp>
      <p:sp>
        <p:nvSpPr>
          <p:cNvPr id="67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فجميعها متأصلة في كرامة كل شخص وملازمة لها. ونتيجة لذلك، تتمتع جميع الحقوق بوضع متساوٍ بوصفها حقوقاً، حيث لا يمكن تصنيفها في مرتبات، أو وضعها في سُلَّم للأولويات/وفق ترتيب هرمي (ترات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في تطبيقنا لهذا المبدأ، فإن السؤال الذي يطرح نفسه هو: هل تعتبر بعض الحقوق في بلد معين أكثر أهمية من غيرها إلى الحد الذي يُلحق الضرر بالتمتع ببعض الحقوق الإنسانية؟ فعلى سبيل المثال، هل يتم احترام وحماية الحقوق المدنية والسياسية بشكل متساوٍ، وهل يتم احترام وحماية الحقوق الاقتصادية والاجتماعية والثقافية بشكل متساو أيضاً؟ هل تعطى الحقوق الأخرى للمعاهدات – مثل الحقوق في المساواة بمقتضى اتفاقية القضاء على جميع أشكال التمييز ضد المرأة واتفاقية القضاء على التمييز العنصري – الأولوية نفسها التي تُعطى للحقوق التي يضمنها العهد الدولي للحقوق المدنية السياسية والعهد الدولي ل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ترابطية والتشابكية: </a:t>
            </a:r>
            <a:r>
              <a:rPr b="0" lang="ar-JO" sz="1200" spc="-1" strike="noStrike">
                <a:solidFill>
                  <a:srgbClr val="000000"/>
                </a:solidFill>
                <a:latin typeface="Arial"/>
                <a:cs typeface="Arial"/>
              </a:rPr>
              <a:t>يعتمد إحقاق حق واحد في أغلب الأحيان على إحقاق الحقوق الأخرى، سواء أكان ذلك الاعتماد اعتماداً كلياً أم جزئياً. فعلى سبيل المثال، قد يعتمد إحقاق الحق في الحصول على الرعاية الصحية، في ظل ظروف معينة، على إحقاق الحق في التعليم، والحق في الحصول على المعلومات، والحق في الغذاء، والحق في المشاركة، وغيرها من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لا يتم التصدي لقضايا التنمية بمعزل عن بعضها بعضاً، بل يتم عن طريق إدراك ترابطية حقوق الإنسان، حيث يُصبح تحليلُ أي وضع والاستجابة الاستراتيجية له أكثر كليةً وشمول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51200" cy="3487680"/>
          </a:xfrm>
          <a:prstGeom prst="rect">
            <a:avLst/>
          </a:prstGeom>
          <a:ln w="0">
            <a:noFill/>
          </a:ln>
        </p:spPr>
      </p:sp>
      <p:sp>
        <p:nvSpPr>
          <p:cNvPr id="6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واة ومبدأ عدم التمييز: </a:t>
            </a:r>
            <a:r>
              <a:rPr b="0" lang="ar-JO" sz="1200" spc="-1" strike="noStrike">
                <a:solidFill>
                  <a:srgbClr val="000000"/>
                </a:solidFill>
                <a:latin typeface="Arial"/>
                <a:cs typeface="Arial"/>
              </a:rPr>
              <a:t>جميع الأفراد متساوون بوصفهم كائنات بشرية واستناداً إلى الكرامة المتأصلة في كل كائن بشري والملازمة له. وجميع الكائنات البشرية تستحق (تستأهل) التمتع بحقوقها الإنسانية من دون أي نوع من التمييز، مثل التمييز القائم على العرق أو اللون أو الجنس أو العمر أو اللغة أو الدين أو الرأي السياسي أو غيره من الآراء، أو الأصل الوطني أو الاجتماعي، أو الإعاقة أو الملكية أو الميلاد أو أي وضع كما أقرَّته معاهدات حقوق الإنسان، وفسّرته أيضاً هيئات المعاهدة التابعة ل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طلوب طرحه هو: ما هي قطاعات المجتمع المُقصاة أو التي لا تتمتع بوضع متساوٍ، وبالتالي تكون محرومة من ممارسة حقوقها الإنسانية؟ هل توجد قوانين تمييزية في الدولة؟ هل توجد ممارسات مؤسسية وإدارية وتنظيمية تمييزية بحق مجموعة معيَّنة من السكان؟ هل توجد ثقافة منتشرة من التمييز في المجتمع </a:t>
            </a:r>
            <a:r>
              <a:rPr b="0" i="1" lang="ar-JO" sz="1200" spc="-1" strike="noStrike">
                <a:solidFill>
                  <a:srgbClr val="000000"/>
                </a:solidFill>
                <a:latin typeface="Arial"/>
                <a:ea typeface="Arial"/>
              </a:rPr>
              <a:t>"بحكم الأمر الواقع"</a:t>
            </a:r>
            <a:r>
              <a:rPr b="0" lang="ar-JO" sz="1200" spc="-1" strike="noStrike">
                <a:solidFill>
                  <a:srgbClr val="000000"/>
                </a:solidFill>
                <a:latin typeface="Arial"/>
                <a:cs typeface="Arial"/>
              </a:rPr>
              <a:t>؟ هل توجد معايير وطنية للتمييز الإيجابي أو العمل التأكيدي معترف بها ومطبقة؟ من المهم الأخذ في الحسبان أنّ معاهدات حقوق الإنسان قد حدَّدت جماعات معيّنة تتعرَّض للتمييز والحرمان لكي تُوليها اهتماماً مركزاً وهي: المرأة وتتناول شؤونها (اتفاقية القضاء على جميع أشكال التمييز ضد المرأة)، والأطفال وتتناول شؤونهم (اتفاقية حقوق الطفل)، والأقليات العرقية والإثنية وتتناول شؤونها (اتفاقية القضاء على جميع أشكال التمييز العنصري) والعمال المهاجرون وتتناول شؤونهم (الاتفاقية الدولية لحماية حقوق جميع العمال وأفراد أس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مييز الهيكلي:</a:t>
            </a:r>
            <a:r>
              <a:rPr b="0" lang="ar-JO" sz="1200" spc="-1" strike="noStrike">
                <a:solidFill>
                  <a:srgbClr val="000000"/>
                </a:solidFill>
                <a:latin typeface="Arial"/>
                <a:ea typeface="Arial"/>
              </a:rPr>
              <a:t> وهو مستمدٌّ من عمليات الإقصاء التاريخية، من الوصول إلى الموارد الاقتصادية والسياسية والمؤسسية التي تدعو الحاجة إليها، لكي تعيش تلك الجماعات على قدم المساواة مع باقي السك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قِدَ </a:t>
            </a:r>
            <a:r>
              <a:rPr b="1" lang="ar-JO" sz="1200" spc="-1" strike="noStrike">
                <a:solidFill>
                  <a:srgbClr val="000000"/>
                </a:solidFill>
                <a:latin typeface="Arial"/>
                <a:cs typeface="Arial"/>
              </a:rPr>
              <a:t>المؤتمر الدولي لحقوق الإنسان</a:t>
            </a:r>
            <a:r>
              <a:rPr b="0" lang="ar-JO" sz="1200" spc="-1" strike="noStrike">
                <a:solidFill>
                  <a:srgbClr val="000000"/>
                </a:solidFill>
                <a:latin typeface="Arial"/>
                <a:ea typeface="Arial"/>
              </a:rPr>
              <a:t> خلال الفترة </a:t>
            </a:r>
            <a:r>
              <a:rPr b="0" lang="ar-JO" sz="1200" spc="-1" strike="noStrike">
                <a:solidFill>
                  <a:srgbClr val="000000"/>
                </a:solidFill>
                <a:latin typeface="Arial"/>
                <a:ea typeface="Arial"/>
              </a:rPr>
              <a:t>14</a:t>
            </a:r>
            <a:r>
              <a:rPr b="0" lang="ar-JO" sz="1200" spc="-1" strike="noStrike">
                <a:solidFill>
                  <a:srgbClr val="000000"/>
                </a:solidFill>
                <a:latin typeface="Arial"/>
                <a:ea typeface="Arial"/>
              </a:rPr>
              <a:t>-</a:t>
            </a:r>
            <a:r>
              <a:rPr b="0" lang="ar-JO" sz="1200" spc="-1" strike="noStrike">
                <a:solidFill>
                  <a:srgbClr val="000000"/>
                </a:solidFill>
                <a:latin typeface="Arial"/>
                <a:ea typeface="Arial"/>
              </a:rPr>
              <a:t>25</a:t>
            </a:r>
            <a:r>
              <a:rPr b="0" lang="ar-JO" sz="1200" spc="-1" strike="noStrike">
                <a:solidFill>
                  <a:srgbClr val="000000"/>
                </a:solidFill>
                <a:latin typeface="Arial"/>
                <a:ea typeface="Arial"/>
              </a:rPr>
              <a:t> يونيو/حزيران </a:t>
            </a:r>
            <a:r>
              <a:rPr b="0" lang="ar-JO" sz="1200" spc="-1" strike="noStrike">
                <a:solidFill>
                  <a:srgbClr val="000000"/>
                </a:solidFill>
                <a:latin typeface="Arial"/>
                <a:ea typeface="Arial"/>
              </a:rPr>
              <a:t>1993</a:t>
            </a:r>
            <a:r>
              <a:rPr b="0" lang="ar-JO" sz="1200" spc="-1" strike="noStrike">
                <a:solidFill>
                  <a:srgbClr val="000000"/>
                </a:solidFill>
                <a:latin typeface="Arial"/>
                <a:cs typeface="Arial"/>
              </a:rPr>
              <a:t>، في ڤينّا – النمسا. وتم فيه تقديم العديد من الرسائل المهمة، ومن بينها: إعادة التأكيد بأن حقوقَ الإنسان هدفٌ يحظى بالأولوية لدى الأمم المتحدة، والاهتمام بحقوق الإنسان كأحد بواعث القلق المشروعة لدى المجتمع الدولي، والإقرار بعالمية جميع حقوق الإنسان وعدم قابليتها للتجزئة وبترابطها وتشابكها. ومن هذه الرسائل أيضاً: "مع أن التنمية تُيسِّر التمتُّع بجميع حقوق الإنسان، إلا أن الافتقار إلى التنمية لا يمكن أن يُستشهدَ به لتبرير اختزال حقوق الإنسان المُعترف بها دولياً". ومن النتائج البالغة الأهمية لإعلان ڤينّا، بطبيعة الحال، قرار مناشدة الجمعية العامة النظر في إنشاء منصب "مفوَّض لحقوق الإنسان". وقد قرَّرت الجمعية العامة في جلستها التالية القيام بذلك، فعيَّنت السيد "خوسيه أيالا لاسو" من الإكوادور، كأول مفوِّض سامٍ لحقوق الإنسان، ثم تلاه في هذا المنصب كل من "ماري روبنسن"، و "سيرجيو فييرا دي ميلّو"، والمفوّض السامي الحالي "لويس آربُ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عام </a:t>
            </a:r>
            <a:r>
              <a:rPr b="1" lang="ar-JO" sz="1200" spc="-1" strike="noStrike">
                <a:solidFill>
                  <a:srgbClr val="000000"/>
                </a:solidFill>
                <a:latin typeface="Arial"/>
                <a:ea typeface="Arial"/>
              </a:rPr>
              <a:t>1997</a:t>
            </a:r>
            <a:r>
              <a:rPr b="1" lang="ar-JO" sz="1200" spc="-1" strike="noStrike">
                <a:solidFill>
                  <a:srgbClr val="000000"/>
                </a:solidFill>
                <a:latin typeface="Arial"/>
                <a:cs typeface="Arial"/>
              </a:rPr>
              <a:t>، قدّم الأمين العام خططه لإصلاح الأمم المتحدة في تقريره إلى الجمعية العامة بعنوان: "تجديد الأمم المتحدة: برنامج للإصلاح". </a:t>
            </a:r>
            <a:r>
              <a:rPr b="0" lang="ar-JO" sz="1200" spc="-1" strike="noStrike">
                <a:solidFill>
                  <a:srgbClr val="000000"/>
                </a:solidFill>
                <a:latin typeface="Arial"/>
                <a:cs typeface="Arial"/>
              </a:rPr>
              <a:t>وقد أكد التقرير من جديد أنَّ حقوق الإنسان مهمة لجميع الأهداف المحددة، في ميثاق الأمم المتحدة وهي تقع في صلب عملية إصلاح الأمم المتحدة. ودعا التقرير إلى إدماج حقوق الإنسان في كل نشاطات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0</a:t>
            </a:r>
            <a:r>
              <a:rPr b="0" lang="ar-JO" sz="1200" spc="-1" strike="noStrike">
                <a:solidFill>
                  <a:srgbClr val="000000"/>
                </a:solidFill>
                <a:latin typeface="Arial"/>
                <a:ea typeface="Arial"/>
              </a:rPr>
              <a:t> : عَقد </a:t>
            </a:r>
            <a:r>
              <a:rPr b="1" lang="ar-JO" sz="1200" spc="-1" strike="noStrike">
                <a:solidFill>
                  <a:srgbClr val="000000"/>
                </a:solidFill>
                <a:latin typeface="Arial"/>
                <a:cs typeface="Arial"/>
              </a:rPr>
              <a:t>قمة الألفية وصدور إعلان الألف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الأمين العام: حقوق الإنسان هي المتطلب الأساسي الوطيد لتحقيق التنمية، وهدف رئيس للمنظمة. ويجب أن تُكافح الأمم المتحدة من أجل تقوية الأنظمة الوطنية لحماية وتعزيز حقوق الإنسان ووضعها موضع التنفيذ.</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 </a:t>
            </a:r>
            <a:r>
              <a:rPr b="1" lang="ar-JO" sz="1200" spc="-1" strike="noStrike">
                <a:solidFill>
                  <a:srgbClr val="000000"/>
                </a:solidFill>
                <a:latin typeface="Arial"/>
                <a:cs typeface="Arial"/>
              </a:rPr>
              <a:t>أكد الأمين العام أن التنمية والسلام والأمن وحقوق الإنسان مرتبطة ومتضافرة معاً، وحاجج بوجوب إدماج حقوق الإنسان في عملية صنع القرار وفي النقاشات طوال عمل المنظم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وثيقة نتائج القمة العالمية ل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1" lang="ar-JO" sz="1200" spc="-1" strike="noStrike">
                <a:solidFill>
                  <a:srgbClr val="000000"/>
                </a:solidFill>
                <a:latin typeface="Arial"/>
                <a:ea typeface="Arial"/>
              </a:rPr>
              <a:t> تمّ دعم إدماج حقوق الإنسان بدرجة أكبر في كل مكوِّنات منظومة الأمم المتحدة.</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حقوق ملكية المساكن والأراضي المعنية بالتماسك على نطاق الأمم المتحدة:</a:t>
            </a:r>
            <a:r>
              <a:rPr b="1" lang="ar-JO" sz="1200" spc="-1" strike="noStrike">
                <a:solidFill>
                  <a:srgbClr val="000000"/>
                </a:solidFill>
                <a:latin typeface="Arial"/>
                <a:ea typeface="Arial"/>
              </a:rPr>
              <a:t> "يجب على جميع الوكالات التابعة للأمم المتحدة وبرامجها توفير دعم أكبر لإعداد السياسات والإرشادات والمبادئ التوجيهية، وذلك لإدماج حقوق الإنسان في جميع جوانب عمل الأمم المتح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نَسِّقين المقيمين ومكاتب الأمم المتحدة القطرية أن يخضعوا للمساءلة، وأن يُجهَّزوا بشكل أفضل لدعم الدول في جهودها الهادفة إلى حماية حقوق الإنسان وتعزيز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برنامج عمل ڤينّ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يجب اعتبار تعزيزُ وحماية جميع حقوق الإنسان والحريات الأساسية هدفاً ذا أولوية للأمم المتحدة وفقاً لمقاصدها ومبادئها، ولا سيما مقصد التعاون الدولي. وفي إطار هذه المقاصد والمبادئ، يعتبر تعزيزُ وحماية جميع حقوق الإنسان باعثَ قلقٍ مشروعاً للمجتمع الدولي. ولذلك ينبغي للأجهزة والوكالات المتخصصة المعنية بحقوق الإنسان أن تعزز تنسيق أنشطتها استناداً إلى التطبيق المتسق والموضوعي للأدوات/للصكوك الدولية لحقوق الإنسان.</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5</a:t>
            </a:r>
            <a:r>
              <a:rPr b="0"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أن يعامل حقوق الإنسان على نحو شامل بطريقة منصفة ومتكافئة، وعلى قدم المساواة، وبالقدر نفسه من التركيز. وفي حين أنه يجب أن توضع في الاعتبار أهمية الخصوصيات الوطنية والإقليمية ومختلف الخلفيات التاريخية والثقافية والدينية، فإن من واجب الدول، بصرف النظر عن نظمها السياسية والاقتصادية والثقافية، تعزيز وحماية جميع حقوق الإنسان والحريات الأساس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 مع أن التنمية تيسِّر التمتّع بجميع حقوق الإنسان، إلا أن الافتقار إلى التنمية لا يمكن أن يُستشهد به لتبرير اختزال حقوق الإنسان المعترف بها دولي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إن حقوق الإنسان للمرأة وللطفلة هي جزء غير قابل للتصرف من حقوق الإنسان العالمية وجزء لا يتجزأ من هذه الحقوق ولا ينفصل عنها. وإن مشاركة المرأة مشاركة كاملة، على قدم المساواة، في الحياة السياسية والمدنية والاقتصادية والاجتماعية والثقافية على الصُعِد الوطنية والإقليمية والدولية، واستئصال جميع أشكال التمييز على أساس الجنس، من أهداف المجتمع الدولي ذات الأولو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جزء الثاني من إعلان برنامج عمل ڤينّ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يوصي المؤتمرُ العالمي لحقوق الإنسان الجمعيةَ العامةَ، أثناء دراستها لتقرير المؤتمر في جلستها الثامنة والأربعين، بأن تبدأ بدراسة مسألة إنشاء منصب مفوض الأمم المتحدة لحقوق الإنسان، لتعزيز جميع حقوق الإنسان وحمايتها، باعتبارها مسألة تحتل أولوية كبر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51200" cy="3487680"/>
          </a:xfrm>
          <a:prstGeom prst="rect">
            <a:avLst/>
          </a:prstGeom>
          <a:ln w="0">
            <a:noFill/>
          </a:ln>
        </p:spPr>
      </p:sp>
      <p:sp>
        <p:nvSpPr>
          <p:cNvPr id="6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شاركة والشمول: </a:t>
            </a:r>
            <a:r>
              <a:rPr b="0" lang="ar-JO" sz="1200" spc="-1" strike="noStrike">
                <a:solidFill>
                  <a:srgbClr val="000000"/>
                </a:solidFill>
                <a:latin typeface="Arial"/>
                <a:cs typeface="Arial"/>
              </a:rPr>
              <a:t>جميع الأشخاص والشعوب مؤهلون ويستحقون المشاركة الفعالة والحرة وذات المعنى، والإسهام والتمتع في عملية التنمية المدنية والاقتصادية والاجتماعية والثقافية والسياسية، التي يمكن فيها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 </a:t>
            </a:r>
            <a:r>
              <a:rPr b="0" lang="ar-JO" sz="1200" spc="-1" strike="noStrike">
                <a:solidFill>
                  <a:srgbClr val="000000"/>
                </a:solidFill>
                <a:latin typeface="Arial"/>
                <a:cs typeface="Arial"/>
              </a:rPr>
              <a:t>السؤال المطلوب طرحه هو: هل يستطيع الأشخاص المقصون والمهمشون المشاركة بحرية في عملية التنمية الخاصة بهم؟ وهل تُوجد فرص للمشاركة؟ هل تملك الجماعات المهمشة فرصة الوصول إلى المعلومات والقدرات على المشاركة بطريقة ذات معنىً، وعلى تقديم مقترحات محددة؟ وهل هناك متّسعٌ لمشاركة عامة الناس في عملية صنع القرار؟ هل توجد آليات عمل موازية تعطّل المشاركة؟ هل يوجد مجتمع مدني فعّال ومستقل في الدولة يملك القدرة على المشاركة في عمليات كهذه؟ هل تمثِّل منظمات المجتمع المدني صوت الجماعات السكانية الأكثر تهميشاً وإقصاء؟ وفي سياق التعاون الإنمائي أو التنموي، من الضروري السؤال عما إذا كانت الجماعة المستهدفة المستفيدة مشاركة في عملية إعداد برامج التنمية وتنفيذها ومتابعتها وتقييم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نى المشاركة هو التمك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لزم النهجُ القائم على حقوق الإنسان المشاركةَ والانخراط الحر والفعال والمفيد للأفراد والجماعات الاجتماعية في عملية التنمية. ومعنى المشاركة هنا يندرج ضمن مفهوم "تمكين" الأفراد والجماعات، الذي يتضمن تحكماً مهماً في عمليات صنع القرار، بدلاً عن مجرد التشاور والمشاركة في المعلومات. ووفقاً لذلك، وفي سياق وضع البرامج الإنمائية، قد تؤدي المشاركة الواسعة، التي ينخرط فيها الأطفال والنساء والأقليات والمجتمعات القروية ومنظمات المجتمع المدني مثلاً خلال عملية التقييم وعملية جمع المعلومات، ليس فقط إلى استنتاجات قيِّمة بل إلى الفهم المتزايد، من قبل جميع أعضاء المجتمع، لأدوارهم في المطالبة بحقوقهم الإنسانية وإحقاقها. وعلاوة على ذلك، عندما تُفسَحُ المجالات للناس لتدارس المشكلات معاً والاتفاق على أسبابها، يُصبح من المحتمل بدرجة أكبر أن يدعموا تنفيذ الأعمال الهادفة إلى حل تلك المشك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إدارة المشاركة الفعا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غرق عملية إدارة المشاركة الفعالة وقتاً وصبراً. وسواء أكانت المشاركة على مستوى المشروع المحلي أم على مستوى السياسة الوطنية، فمن المهم تأكيد ضرورة أن تكون آلية العمل الرئيسة للمشاركة، بالقدر الممكن، قائمة وموجودة كبنىً ديمقراطية. وفي بعض الظروف، قد يعمل إنشاء إطار عمل بديل للمشاركة على تقويض البنى الديمقراطية الآخذة في النمو، وخلق أنظمة موازية غير مرحّب بها، فضلاً عن أنَّ إنشاء ذلك الإطار يثبت، على المدى البعيد، أنه غير قابل للاستدامة. وبالرغم من ذلك، قد تدعو الحاجة الشديدة، في كثير من الحالات، إلى وضع ترتيبات مبتكرة لتسهيل مشاركة الجماعات المُهمَّش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ستراتيجيات حقوق الإنسان، والصحة والحد من الفقر، مطبوعة صادرة عن منظمة الصحة العالمية، </a:t>
            </a:r>
            <a:r>
              <a:rPr b="0" lang="ar-JO" sz="1200" spc="-1" strike="noStrike">
                <a:solidFill>
                  <a:srgbClr val="000000"/>
                </a:solidFill>
                <a:latin typeface="Arial"/>
                <a:ea typeface="Arial"/>
              </a:rPr>
              <a:t>2005</a:t>
            </a:r>
            <a:r>
              <a:rPr b="0" lang="ar-JO" sz="1200" spc="-1" strike="noStrike">
                <a:solidFill>
                  <a:srgbClr val="000000"/>
                </a:solidFill>
                <a:latin typeface="Arial"/>
                <a:cs typeface="Arial"/>
              </a:rPr>
              <a:t>، الصفحة رقم </a:t>
            </a:r>
            <a:r>
              <a:rPr b="0" lang="ar-JO" sz="1200" spc="-1" strike="noStrike">
                <a:solidFill>
                  <a:srgbClr val="000000"/>
                </a:solidFill>
                <a:latin typeface="Arial"/>
                <a:ea typeface="Arial"/>
              </a:rPr>
              <a:t>29</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51200" cy="3487680"/>
          </a:xfrm>
          <a:prstGeom prst="rect">
            <a:avLst/>
          </a:prstGeom>
          <a:ln w="0">
            <a:noFill/>
          </a:ln>
        </p:spPr>
      </p:sp>
      <p:sp>
        <p:nvSpPr>
          <p:cNvPr id="6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ءلة ومبدأ حكم القانون:</a:t>
            </a:r>
            <a:r>
              <a:rPr b="0" lang="ar-JO" sz="1200" spc="-1" strike="noStrike">
                <a:solidFill>
                  <a:srgbClr val="000000"/>
                </a:solidFill>
                <a:latin typeface="Arial"/>
                <a:ea typeface="Arial"/>
              </a:rPr>
              <a:t> إن الدول وغيرها من القائمين بالواجبات مسؤولون عن مراعاة حقوق الإنسان. وفي هذا الشأن، يجب عليهم الالتزام بالمعايير والأعراف القانونية التي تكرّسها أدوات حقوق الإنسان. وحيثما تفشل الدول والقائمون بالواجبات في القيام بذلك، يصبح أصحاب الحقوق المتضررون مؤهلين لإقامة دعاوى لتصويب الأوضاع والإنصاف الملائم أمام محكمة مختصة، أو أمام غيرها من الجهات القضائية التي تحكم بين الناس، بما ينسجم مع القواعد والإجراءات التي ينصّ عليها القانو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 </a:t>
            </a:r>
            <a:r>
              <a:rPr b="0" lang="ar-JO" sz="1200" spc="-1" strike="noStrike">
                <a:solidFill>
                  <a:srgbClr val="000000"/>
                </a:solidFill>
                <a:latin typeface="Arial"/>
                <a:cs typeface="Arial"/>
              </a:rPr>
              <a:t>بالقبول الطوعي للالتزامات الواردة في المعاهدات الدولية لحقوق الإنسان، وفي القوانين المحلية المناظرة لها، تنهض الدولة وجميع الجهات الفاعلة لديها بواجب </a:t>
            </a:r>
            <a:r>
              <a:rPr b="0" i="1" lang="ar-JO" sz="1200" spc="-1" strike="noStrike">
                <a:solidFill>
                  <a:srgbClr val="000000"/>
                </a:solidFill>
                <a:latin typeface="Arial"/>
                <a:cs typeface="Arial"/>
              </a:rPr>
              <a:t>احترام وحماية وإحقاق </a:t>
            </a:r>
            <a:r>
              <a:rPr b="0" lang="ar-JO" sz="1200" spc="-1" strike="noStrike">
                <a:solidFill>
                  <a:srgbClr val="000000"/>
                </a:solidFill>
                <a:latin typeface="Arial"/>
                <a:cs typeface="Arial"/>
              </a:rPr>
              <a:t>حقوق الإنسان. وبناء عليه، فإن السؤال المطلوب طرحه هو: هل تلتزم السلطات ذات الصلة على مستوى الدولة والمستوى المحلي والمجتمعي بواجباتها؟ وإذا كانت الإجابة بالنفي، فما هي العقبات الرئيسة التي تواجهها في ذلك؟ هل توجد آليات عمل موضوعة موضع التنفيذ لأولئك المحرومين من حقوقهم واستحقاقاتهم للسعي إلى تصويب الأوضاع والإنصاف بطريقة ملائمة؟ هل يتم احترام حكم القانون وإنفاذه في الدولة؟ هل تملك منظمات المجتمع المدني القدرة على حشد المجتمع لمتابعة أداء المؤسسات والسياسات العامة وتقييم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51200" cy="3487680"/>
          </a:xfrm>
          <a:prstGeom prst="rect">
            <a:avLst/>
          </a:prstGeom>
          <a:ln w="0">
            <a:noFill/>
          </a:ln>
        </p:spPr>
      </p:sp>
      <p:sp>
        <p:nvSpPr>
          <p:cNvPr id="6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المحكمة الدستورية أو المؤسسة المماثلة لها:</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وجود أو تأسيس مؤسسة مستقلة تُناط بها مهمة مراقبة القوانين التي يقرها البرلمان، والحكمُ استناداً إلى دستوريتها و / أو توافقها مع المعايير والأعراف الدولية لحقوق الإنسان، أمرٌ مهم في سياق الأنظمة الوطنية لحماية حقوق الإنسان. ومن الناحية المثالية، تقوم هذه المحاكم أو المؤسسات، بصورة تلقائية، بمراجعة جميع التشريعات التي يتم إقرارها. بَيدَ أن تلك المحاكم أو المؤسسات تراجع، في العديد من الحالات، القوانين التي يتم الاعتراض عليها – سواء من قبل الحكومة، أو البرلمان، أم من قبل القاضي أو أعضاء المجتمع المحلي في بعض الحالات. ويمكن تفويض الامتيازات التي تتمتع بها المحكمة الدستورية إلى المحكمة العلي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على أطر العمل الدستورية والقانونية أ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وافق مع مبادئ ومعايير وأعراف حقوق الإنسان الدولي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نشئ أطر عمل للسياسات من أجل حماية حقوق الإنسا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مح باستخدام علاجات / حلول فعّالة للانتهاكات والإساء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زز المشاركة وعمليات صنع القرار والتعاون مع الأنظمة الدولية والإقليمية للحماية.</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51200" cy="3487680"/>
          </a:xfrm>
          <a:prstGeom prst="rect">
            <a:avLst/>
          </a:prstGeom>
          <a:ln w="0">
            <a:noFill/>
          </a:ln>
        </p:spPr>
      </p:sp>
      <p:sp>
        <p:nvSpPr>
          <p:cNvPr id="6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بق المحاكم في مجموعة كبيرة من الدول والأنظمة القانونية معايير ومبادئ حقوق الإنسان الدولية. فعلى سبيل المثال، أعلنت المحكمة الدستورية لجنوب إفريقيا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أن الحكومة قد أخلَّت بالتزاماتها تجاه إحقاق حقوق الإنسان، حيث فشلت في اتخاذ التدابير المعقولة (بكلفة يُمكن تحمّلها) لتوفير قدر أكبر من العلاجات المضادة للڤيروس القهقري بهدف منع انتقال ڤيروس نقص المناعة البشري من الأم المصابة إلى طفلها. وقد ساعد هذا القرار والحملة الجماهيرية التي أحاطت به على إنقاذ حياة العديد من الناس. إن النتائج الناجحة في هذه الحالات تُعزى، إلى حد كبير، إلى حقيقة مفادها أن استراتيجيات التقاضي قد تم إدماجها ضمن عمليات أوسع للحشد الاجتماع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51200" cy="3487680"/>
          </a:xfrm>
          <a:prstGeom prst="rect">
            <a:avLst/>
          </a:prstGeom>
          <a:ln w="0">
            <a:noFill/>
          </a:ln>
        </p:spPr>
      </p:sp>
      <p:sp>
        <p:nvSpPr>
          <p:cNvPr id="6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ث حالات الطوارئ والأزمات آثاراً مختلفة جداً في الرجال والنساء والأطفال. ومن المهم أن نأخذ في الحسبان بُعْدَ العمر والنوع الاجتماعي من أجل الاستعداد والاستجابة/الر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ى الأساسي لقضية بُعْدِ العمر والنوع الاجتماع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تعطل عملية تزويد الإمدادات الغذائية، وتدمير المحاصيل والبنى التحتية الزراعية، وانفصال الأسر والمجتمعات عن بعضها بعضاً، ونزوح الجماعات السكانية وتدمير الخدمات التعليمية والصحية، وشبكات المياه والصرف الصحي، جميعها تُلحق الخسائر في أرواح الأطفال [والنساء]. </a:t>
            </a:r>
            <a:r>
              <a:rPr b="1" i="1" lang="ar-JO" sz="1200" spc="-1" strike="noStrike">
                <a:solidFill>
                  <a:srgbClr val="000000"/>
                </a:solidFill>
                <a:latin typeface="Arial"/>
                <a:cs typeface="Arial"/>
              </a:rPr>
              <a:t>تقرير "جراسا ماشيل".</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لحالات الطوارئ والأزمات أن تُحدث آثاراً مختلفة جداً في الرجال والنساء والأطفال. وتُشكل النساء والأطفال في أغلب الأحيان أكثرية كبيرة من السكان النازحين واللاجئين. وفي حالات كهذه، قد تتغير أدوار النساء وأعباء عملهن على نحو مفاجئ، وقد تتعرض حقوقهن للتهديد بسبب العنف والافتقار إلى الأمن. وبسبب ضعف الأطفال، يعتبر أثر النزاع المسلح فيهم جوهرياً وكبيراً. ويمكن للاهتمام الحذر بمنظوري النوع الاجتماعي والعمر، وللاستجابة الإنسانية للأزمة أن يخفِّف هذه الآثار المتفاوتة والسلبية. ويُمكن أيضاً للمساعدة الإنسانية والدعم في المرحلة الانتقالية أن يقدّما فرصة لتعزيز التغييرات الإيجابية في أدوار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الاغتصاب غالباً من سمات النزاعات المسلحة، ويتم استخدامه بصورة منهجية منتظمة لإهانة الروابط الاجتماعية "للعدو" والسيطرة عليها وتعطيلها. ويُولى اهتمام أقل بالنساء والفتيات، اللاتي قد يُجبرن أثناء الهروب وفي بيئات اللجوء على عرض ممارسة الجنس لقاء حصولهنّ على الطعام أو المأوى أو الحماية. وترتفع وتيرة العنف المنزلي بشكل خطير أيضاً في أوساط السكان النازحين. ويمكن أن يكون أثر العنف، وخصوصاً الاغتصاب، مدمِّراً. ولن يقوم العديد من الناجين بالإبلاغ عن الاغتصاب، بينما سيشعر الآخرون بعدم القدرة على ذلك. (اقتباس من سياسة الاستعداد للطوارئ المتبعة لدى صندوق الأمم المتحدة للسك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ضمان مشاركة النساء والأطفال في عمليات الإفصاح عن الحقيقة والمصالحة. وتكشف دراسة لمشاركة النساء والأطفال في أنظمة العدالة الانتقالية عن أنّه بينما كانت النساء والأطفال ضحايا عانت وتعاني من أثر العنف، وانتهاكات حقوق الإنسان، والنزاعات المسلحة، فإن مشاركتهنَّ لم تكن مهمة. ويدعو قرار مجلس الأمن رقم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إلى التمثيل المتزايد للنساء على جميع مستويات صنع القرار في منع النزاعات المسلحة، والإدارة والقرار، وإلى زيادة مستوى الانتباه إلى احتياجات الحماية المحددة الخاصة بالنساء اللاتي يعشن في أوضاع النزاعات المسلحة، بمن فيهن اللاجئات. ويعتبر القرار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القرار الأول على الإطلاق الذي أجازه مجلس الأمن، والذي يتصدى لأثر الحرب في النساء، وإسهامات المرأة في فضّ النزاعات المسلحة وإشاعة السلام المست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قضي قرار مجلس الأمن، رقم </a:t>
            </a:r>
            <a:r>
              <a:rPr b="1" lang="ar-JO" sz="1200" spc="-1" strike="noStrike">
                <a:solidFill>
                  <a:srgbClr val="000000"/>
                </a:solidFill>
                <a:latin typeface="Arial"/>
                <a:ea typeface="Arial"/>
              </a:rPr>
              <a:t>1612</a:t>
            </a:r>
            <a:r>
              <a:rPr b="1" lang="ar-JO" sz="1200" spc="-1" strike="noStrike">
                <a:solidFill>
                  <a:srgbClr val="000000"/>
                </a:solidFill>
                <a:latin typeface="Arial"/>
                <a:cs typeface="Arial"/>
              </a:rPr>
              <a:t>، بإنشاء آلية عمل للمتابعة والإبلاغ فيما يتعلق باستخدام الأطفال الجنود، ويعيد التأكيد من جديد على رغبته في دراسة فرض تدابير موجهة ومتدرجة، من خلال قرارات قُطرية محددة، مثل حظر تصدير وتزويد الأسلحة الصغيرة والأسلحة الخفيفة، ويدعو جميع الأطراف المعنية إلى ضمان إدماج حماية الأطفال المتأثرين من النزاعات المسلحة، وضمان حقوقهم ورفاههم، على وجه التحديد، في جميع عمليات السلام، واتفاقيات السلام، وبرامج الإعمار والتعافي بعد انتهاء النزاع المسل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جابة: أمثلة</a:t>
            </a:r>
            <a:r>
              <a:rPr b="1" lang="ar-JO" sz="1200" spc="-1" strike="noStrike">
                <a:solidFill>
                  <a:srgbClr val="000000"/>
                </a:solidFill>
                <a:latin typeface="Arial"/>
                <a:ea typeface="Arial"/>
              </a:rPr>
              <a:t>: إن النساء ضعيفات معرَّضات بشكل فريد لنقص الفيتامينات والحديد، وخصوصاً للأنيميا (فقر الدم الحاد)، والتي قد تكون كلها مهلكةً مميتةً للنساء الحوامل وأطفالهن. وتعاني النساء من مجموعة من المشكلات المتعلقة بالصحة الإنجابية، ابتداءً من عدم الحصول على الإمدادات الصحية اللازمة للحيض، وانتهاء بالتعقيدات المتعلقة بالحمل والتي تهدِّد الحياة، والعنف الجنسي والعنف القائم على النوع الاجتماعي، والنّاسور الناجم عن الصدمات. كذلك فإن النساء مسؤولات بشكل أساسي عن رعاية أولئك الذين جعلتهم الحرب ضعفاء ومعرضين للمخاطر – بمن فيهم الأطفال والمرضى وكبار السن. إن الأطفال معرضين لخطر الإساءة الجنسية والاستغلال الجنسي، ولمتلازمة الضغط النفسي وغيره ما بعد حدوث الصدمة، وفقدان الوالدين، والتجنيد، والاستخدام من قبل الجيوش النظامية وغير النظامية، والاتجار، والألغام الأرضية، وسوء التغذية والمرض.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لحصول على المزيد من المعلومات عن الأطفال، زوروا الموقع الإليكتروني على شبكة الإنترنت:</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http://www.un.org/children/conflict/english/home6.htm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79360" y="696960"/>
            <a:ext cx="4651560" cy="3487680"/>
          </a:xfrm>
          <a:prstGeom prst="rect">
            <a:avLst/>
          </a:prstGeom>
          <a:ln w="0">
            <a:noFill/>
          </a:ln>
        </p:spPr>
      </p:sp>
      <p:sp>
        <p:nvSpPr>
          <p:cNvPr id="6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فكار مفيدة للمقدم:</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تم تصميم هذا الجزء من التدريب لتقديمه في اليوم الثاني من ورشة العمل. وقد يكون من المفيد بدء العرض المعلوماتي حيثما انتهيت من التقديم في اليوم السابق، بمعنى أن تبدأ من الشريحة رقم </a:t>
            </a:r>
            <a:r>
              <a:rPr b="1" lang="ar-JO" sz="1200" spc="-1" strike="noStrike">
                <a:solidFill>
                  <a:srgbClr val="000000"/>
                </a:solidFill>
                <a:latin typeface="Arial"/>
                <a:ea typeface="Arial"/>
              </a:rPr>
              <a:t>4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سيكون من المفيد عرض المعلومات الأساسية التي قُدِّمت في اليوم السابق عن النهج القائم على حقوق الإنسان، على سبّورة أو لوحة قلابة، وذلك للرجوع إلى عناصرها المختلفة وكيفية استخدامها في جميع مراحل عملية البرمجة. ويجب أن تكون المعلومات المعروضة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أ)</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بيان عن الفهم المشترك ل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ب)</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القيمة المضافة في برمجة مخرجات هيئات المعاهدة والإجراءات الخاصة التابعة للأمم المتح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فترض من مجموعة الشرائح هذه أن تشرح الأسباب الموجبة وانسياب عملية الربط مع النتائج، وكيفية تطبيق النهج القائم على حقوق الإنسان على جميع مراحل دورة البرمجة، بما في ذلك جمع المعلومات، والتقييم والتحليل، ووضع الأهداف، والاستراتيجيات والشراكات، وتنفيذ البرامج، ومتابعتها وتقييمها. ويعتبر فهم هذا الجزء أمراً ضرورياً لتطبيق النهج القائم على حقوق الإنسان على التقييم القطري المشترك وإطار عمل الأمم المتحدة للمساعدات الإنمائية. ويُوصى بقراءة الفصل الثالث مسبقاً، لفهم محتوى هذا الجزء فهماً تام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طاء تعليمات محددة ومنفصلة لمجموعات العمل حول كل خطوة من عمل المجموعات (كما هو مشار إليه في وثيقة أسلوب انسياب الجلسة)</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83162FE-4464-4BAE-8FB3-58B724BFD67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89"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0"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1"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2" name="PlaceHolder 1"/>
          <p:cNvSpPr>
            <a:spLocks noGrp="1"/>
          </p:cNvSpPr>
          <p:nvPr>
            <p:ph type="sldImg"/>
          </p:nvPr>
        </p:nvSpPr>
        <p:spPr>
          <a:xfrm>
            <a:off x="1179360" y="696960"/>
            <a:ext cx="4651560" cy="3487680"/>
          </a:xfrm>
          <a:prstGeom prst="rect">
            <a:avLst/>
          </a:prstGeom>
          <a:ln w="0">
            <a:noFill/>
          </a:ln>
        </p:spPr>
      </p:sp>
      <p:sp>
        <p:nvSpPr>
          <p:cNvPr id="693"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ستخدم هذه الشريحة التي استُخدمت في الجلسة السابقة للتذكير بمضامين وتبعات النهج القائم على حقوق الإنسان في عمليات البرمجة لدى الأمم المتحد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47B1345-93F7-43CD-99B1-2F351F84227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6"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7"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8" name="PlaceHolder 1"/>
          <p:cNvSpPr>
            <a:spLocks noGrp="1"/>
          </p:cNvSpPr>
          <p:nvPr>
            <p:ph type="sldImg"/>
          </p:nvPr>
        </p:nvSpPr>
        <p:spPr>
          <a:xfrm>
            <a:off x="1179360" y="696960"/>
            <a:ext cx="4651560" cy="3487680"/>
          </a:xfrm>
          <a:prstGeom prst="rect">
            <a:avLst/>
          </a:prstGeom>
          <a:ln w="0">
            <a:noFill/>
          </a:ln>
        </p:spPr>
      </p:sp>
      <p:sp>
        <p:nvSpPr>
          <p:cNvPr id="699"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ى يجب البدء في تطبيق النهج القائم على حقوق الإنسان على البرنامج القط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الأخذ بعين الاعتبار أن النهج القائم على حقوق الإنسان يجب أن يطبق في جميع مراحل عملية البرمجة، فإن نقطة الانطلاق لإعداد التقييم القُطري المشترك من المرحلة الأولى، تبدأ بجمع المعلومات لأغراض التقييم والتحل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تطبيق معايير ومبادئ حقوق الإنسان في مرحلتَي التقييم والتحليل، وذلك لأنهما تؤثران في طريقة </a:t>
            </a:r>
            <a:r>
              <a:rPr b="1" i="1" lang="ar-JO" sz="1200" spc="-1" strike="noStrike">
                <a:solidFill>
                  <a:srgbClr val="000000"/>
                </a:solidFill>
                <a:latin typeface="Arial"/>
                <a:cs typeface="Arial"/>
              </a:rPr>
              <a:t>تصميم وتنفيذ</a:t>
            </a:r>
            <a:r>
              <a:rPr b="1" lang="ar-JO" sz="1200" spc="-1" strike="noStrike">
                <a:solidFill>
                  <a:srgbClr val="000000"/>
                </a:solidFill>
                <a:latin typeface="Arial"/>
                <a:ea typeface="Arial"/>
              </a:rPr>
              <a:t> التدخلات. فعلى سبيل المثال، بينما سيحفز معدلُ الالتحاق المنخفض وغير المتكافئ (بين الذكور والإناث وبين المناطق الجغرافية) بالمدرسة الشركاءَ المتعاونين على الاستثمار في برنامج تعليمي، فإن مبدأ عدم التمييز سيساعد في التركيز على مدى التفاوتات الجغرافية وفي النوع الاجتماعي في الالتحاق وأسبابهما، وفي كيفية خفض هذه التفاوت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قرّ المبادئ التوجيهية للتقييم القطري المشترك وإطار عمل الأمم المتحدة للمساعدات الإنمائية بأن التحليلات عالية الجودة لتحديات التنمية الوطنية موجودة أصلاً في العديد من الدول. وحيثما توجد هذه التحليلات أساساً، فإن الفرق القطرية للأمم المتحدة يجب أن تقرر فيما إذا كانت تلك التحليلات كافية أم لا. إن أحد المتطلبات الأساسية الدنيا هو أن تحتوي التحليلات الوطنية الموجودة على النهج القائم على حقوق الإنسان، وذلك بالكشف عن الأسباب التحتية والجذرية لتحديات التنمية وللحقوق التي لم يتم إحقاقها. وعلاوة على ذلك، يجب على التحاليل المتوافرة في هذه التقارير تبيان الجماعات المهمشة أو المقصاة، بما في ذلك تبيان حالات عدم المساواة القائمة على النوع الاجتماعي، وتلك السلطات والجهات الفاعلة الأخرى التي تقع على كاهلها بعض المسؤوليات أو الواجبات التي تُملي عليها اتخاذ ما يلزم من الإجراءات والعمل بشأن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79360" y="696960"/>
            <a:ext cx="4651560" cy="3487680"/>
          </a:xfrm>
          <a:prstGeom prst="rect">
            <a:avLst/>
          </a:prstGeom>
          <a:ln w="0">
            <a:noFill/>
          </a:ln>
        </p:spPr>
      </p:sp>
      <p:sp>
        <p:nvSpPr>
          <p:cNvPr id="70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مكن تناول محتوى هذه الشريحة أثناء تفسير الهرم المقلوب، مما يؤدي إلى تجنب عرض هذه الشر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 جمع المعلومات الصح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نوعية ومصداقية المعلومات التي يُبنى عليها التقييم والتحليل الجيدين مسألة حاسمة لإدارة ذلك التقييم والتحليل. أما الغرض من ذلك فهو الحصول على جميع المعلومات التي تدعو الحاجة إليها لتشخيص وحصر تحديات التنمية الأساسية في الدولة (أي تقييمها وتقديرها)، ولنكون قادرين على تحليل الأسباب الآنية والتحتية والجذرية لتحديات التنمية هذه بعمق أكب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نوع المعلومات المطلوب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سياق المدني والثقافي والاقتصادي والسياسي والاجتماعي الذي سيؤدي إلى تشخيصُ وحصر التحديات الرئيسة التي تواجه حقوق الإنسان والتنمية في الدولة، ومدى شدتها، والجهات الأكثر تأثراً بها، ومكان وجود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جّهات والنماذج الأساسية على مدى السنوات الأخير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آليات العمل والأعمال التي تم تنفيذها للتصدي لها، ومدى فعاليت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كمية والنوع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مصنّفة قدر المستطاع، حسب الجنس والعمر والمنطقة الجغرافية، والعرقية، والإثنية وما إلى ذلك. </a:t>
            </a:r>
            <a:endParaRPr b="0" lang="en-US" sz="1200" spc="-1" strike="noStrike">
              <a:solidFill>
                <a:srgbClr val="000000"/>
              </a:solidFill>
              <a:latin typeface="Arial"/>
            </a:endParaRPr>
          </a:p>
          <a:p>
            <a:pPr lvl="1" marL="68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مصادر المعلومات الأساس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حكومية والإحصاءات الرس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يئات المعاهدة والإجراءات الخاصة، وآليات العمل الإقليمية والوطنية لحقوق الإنسان، بما فيها المؤسسات الوطنية ل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وطنية التي تعدها المنظمات غير الحكومية المحلية والمنظمات غير الحكومية الدول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يئات الاقتصادية التابعة للأمم المتحدة والمؤسسات المالية (البنك الدولي، وصندوق النقد الدول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ارير الأمم المتحدة وتقارير وكالاتها، بما فيها التقارير الصادرة عن بعثات السلام.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مقدمة من دول أخرى (وزارة خارجية الولايات المتحدة، الاتحاد الأوروبي وغيرها).</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حوث الأكاديمية ووسائل الإعلام الوطنية والعال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لومات مباشرة من ضحايا انتهاكات 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ادر أُخرى موثوق ب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إيلاء اهتمام خاص بالحصول على البيانات المُصنَّفة وبأية أبحاث موجودة وقائمة على جلسات الاستماع المعنية بالفقر، وتقييمات الفقر، وتشخيصات الفقر، والتقارير غير المنشورة من قبل أمين المظالم، التي تعكس وضع الجماعات السكانية المحرومة والمهمشة ووجهات نظرها، بمن فيهم النساء والأطفال والأشخاص النازحون، والأقليات والسكان الأصليون. وقد توجد بعض الأوضاع التي تتعرض فيها أقلية صغيرة جداً للإقصاء من معظم الدراسات والتقارير، وذلك لأن تلك الجماعات لا تعتبر ذات أهمية بالنسبة إلى صانعي السياسات، بالرغم من أن حقوقها الإنسانية تنتهك بشكل كبي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6960"/>
            <a:ext cx="4651560" cy="3487680"/>
          </a:xfrm>
          <a:prstGeom prst="rect">
            <a:avLst/>
          </a:prstGeom>
          <a:ln w="0">
            <a:noFill/>
          </a:ln>
        </p:spPr>
      </p:sp>
      <p:sp>
        <p:nvSpPr>
          <p:cNvPr id="70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2</a:t>
            </a:r>
            <a:r>
              <a:rPr b="1" lang="ar-JO" sz="1200" spc="-1" strike="noStrike" u="sng">
                <a:solidFill>
                  <a:srgbClr val="000000"/>
                </a:solidFill>
                <a:uFillTx/>
                <a:latin typeface="Arial"/>
                <a:ea typeface="Arial"/>
              </a:rPr>
              <a:t>- إجراء التقييم على نحو صحيح:</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إجراءَ تقييم للوضع الكلي لدولة ما من منظور النهج القائم على حقوق الإنسان أمرٌ ضروري لتحديد وجود أو عدم وجود تحدٍّ للتنمية، ومدى شدّة هذا التحدي، ومن هي الجهة المتأثرة منه، وأين مكانه. ويعتبر إعلان الألفية، والأهداف الإنمائية للألفية، والتزامات وأهداف وغايات المؤتمرات والقمم والاتفاقيات الدولية، وأدوات / صكوك حقوق الإنسان لدى منظومة الأمم المتحدة جميعها نقاط قياس مرجعية يتم استخدامها في تحديد وجود أو عدم وجود التحديات في تلك الدولة، ومكان وجودها وشدَّ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إيلاء اهتمام ما بتشخيص وحصر أ</a:t>
            </a:r>
            <a:r>
              <a:rPr b="1" lang="ar-JO" sz="1200" spc="-1" strike="noStrike">
                <a:solidFill>
                  <a:srgbClr val="000000"/>
                </a:solidFill>
                <a:latin typeface="Arial"/>
                <a:cs typeface="Arial"/>
              </a:rPr>
              <a:t>كثر الجماعات حرماناً وإقصاءً.</a:t>
            </a:r>
            <a:r>
              <a:rPr b="0" lang="ar-JO" sz="1200" spc="-1" strike="noStrike">
                <a:solidFill>
                  <a:srgbClr val="000000"/>
                </a:solidFill>
                <a:latin typeface="Arial"/>
                <a:ea typeface="Arial"/>
              </a:rPr>
              <a:t> فعلى سبيل المثال، إذا أظهرت مؤشرات الأمية أن معدلها مرتفع بشكل معتدل على المستوى الوطني، بينما كان هذا المعدل مرتفعاً بنسبة أكبر في أوساط النساء المنتميات إلى السكان الأصليين، اللاتي يعشن في مناطق نائية، فستكون مشكلة الأمية في أوساط تلك النساء في المناطق النائية قضية ذات أولوية ليتم التصدي لها بعمق أكبر في التحلي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أثناء إجراء التقييم، قد يكون طرح الأسئلة التالية مفيد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نوع تحديات التنمية الموجودة في الدول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 هي الجهات الأكثر تأثراً من 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ين تحدث هذه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مدى انتشار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ي الإجراءات التي يتم اتخاذها للتصدي ل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التقدُّم الذي يتم إحرازه وما هي العوائق الباق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اختيار أحد تحديات التنمية / حقوق الإنسان التي لم يتم إحقاق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حدد جودة التقييم تحديات التنمية ذات الأولوية التي يجب تحليلها بعمق أكبر. ويجب التوصل إلى توافق في الآراء بين جميع شركاء الأمم المتحدة (من خلال عملية تشاورية واسعة) حول التحديات ذات الأولو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 خلال النهج القائم على حقوق الإنسان، من المهم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عتراف بكل تحدٍّ من تحديات التنمية بوصفه حقاً من حقوق الإنسان</a:t>
            </a:r>
            <a:r>
              <a:rPr b="0" lang="ar-JO" sz="1200" spc="-1" strike="noStrike">
                <a:solidFill>
                  <a:srgbClr val="000000"/>
                </a:solidFill>
                <a:latin typeface="Arial"/>
                <a:ea typeface="Arial"/>
              </a:rPr>
              <a:t> أو باعتباره مجموعة متعددة من حقوق الإنسان المنتهكة أو التي لم يتم إحقاقها. وتساعد هذه الخطوة الأولى في تشخيص وحصر معايير حقوق الإنسان ومعاهدات حقوق الإنسان ذات الصلة بها، التي ستساعد في توجيه التحليل وتشكيل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صياغة تحدِّي التنمية ليكون تركيزه منصبَّاً على الناس. </a:t>
            </a:r>
            <a:r>
              <a:rPr b="0" lang="ar-JO" sz="1200" spc="-1" strike="noStrike">
                <a:solidFill>
                  <a:srgbClr val="000000"/>
                </a:solidFill>
                <a:latin typeface="Arial"/>
                <a:cs typeface="Arial"/>
              </a:rPr>
              <a:t>والسؤال هو: مَنْ هم المتأثرون من التحدِّ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رُّف على تحدي التنمية استناداً إلى أحد أسبابه الممكنة. </a:t>
            </a:r>
            <a:r>
              <a:rPr b="0" lang="ar-JO" sz="1200" spc="-1" strike="noStrike">
                <a:solidFill>
                  <a:srgbClr val="000000"/>
                </a:solidFill>
                <a:latin typeface="Arial"/>
                <a:cs typeface="Arial"/>
              </a:rPr>
              <a:t>تتمثَّل القضية المركزية هنا في كيفية تأثر حياة الناس من التحدي ووجوب تمييز ذلك عن القدرات المؤسسية، والاتجاهات الاقتصادية والسياسية، أو الإجراءات القانونية الوقائية، التي يمكن أن تكون أسباباً مهمة للمشكل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مثل، فقد يعمل تحديد تحدِّي التنمية بوصفه "</a:t>
            </a:r>
            <a:r>
              <a:rPr b="0" i="1" lang="ar-JO" sz="1200" spc="-1" strike="noStrike">
                <a:solidFill>
                  <a:srgbClr val="000000"/>
                </a:solidFill>
                <a:latin typeface="Arial"/>
                <a:cs typeface="Arial"/>
              </a:rPr>
              <a:t>افتقاراً إلى</a:t>
            </a:r>
            <a:r>
              <a:rPr b="0" lang="ar-JO" sz="1200" spc="-1" strike="noStrike">
                <a:solidFill>
                  <a:srgbClr val="000000"/>
                </a:solidFill>
                <a:latin typeface="Arial"/>
                <a:ea typeface="Arial"/>
              </a:rPr>
              <a:t> شيء </a:t>
            </a:r>
            <a:r>
              <a:rPr b="0" i="1" lang="ar-JO" sz="1200" spc="-1" strike="noStrike">
                <a:solidFill>
                  <a:srgbClr val="000000"/>
                </a:solidFill>
                <a:latin typeface="Arial"/>
                <a:cs typeface="Arial"/>
              </a:rPr>
              <a:t>ما</a:t>
            </a:r>
            <a:r>
              <a:rPr b="0" lang="ar-JO" sz="1200" spc="-1" strike="noStrike">
                <a:solidFill>
                  <a:srgbClr val="000000"/>
                </a:solidFill>
                <a:latin typeface="Arial"/>
                <a:ea typeface="Arial"/>
              </a:rPr>
              <a:t>" على حفز الحلول البسيطة للغاية، ومنع تحليل العوامل الإضافية التي تؤثر في حياة الناس ورفاههم. وإذا تم، على سبيل المثال، اختيار "الافتقار إلى إمكانية الوصول إلى خدمات صحة الأمهات" باعتباره تحدياً للتنمية (بدلاً عن معدل وفيات الأمهات المرتفع)، فقد لا تتم دراسة عوامل مساهمة أخرى في وجود هذا التحدِّي أثناء التحليل، مثل "السياسات غير الفعالة لتنظيم الأس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نشاط المشي السريع! (إشارة إلى الشرح المتوافر في المجموعة المرجعية. يجب أن تستغرق مدة التمرين </a:t>
            </a:r>
            <a:r>
              <a:rPr b="0" lang="ar-JO" sz="1200" spc="-1" strike="noStrike">
                <a:solidFill>
                  <a:srgbClr val="000000"/>
                </a:solidFill>
                <a:latin typeface="Arial"/>
                <a:ea typeface="Arial"/>
              </a:rPr>
              <a:t>30</a:t>
            </a:r>
            <a:r>
              <a:rPr b="0" lang="ar-JO" sz="1200" spc="-1" strike="noStrike">
                <a:solidFill>
                  <a:srgbClr val="000000"/>
                </a:solidFill>
                <a:latin typeface="Arial"/>
                <a:ea typeface="Arial"/>
              </a:rPr>
              <a:t> -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دقيقة بما في ذلك جلسة استخلاص المعلوم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علم ما يلي من خلال تطبيق نشاط المشي السريع كأدا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نمية ليست محايدة من حيث السلطة، إذ يعتبر كلٌ من التمييز ورصد ومعرفة النخبة والتركيز عليها وقائعَ تنموية معروف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علاقات السلطة أثر كبير في هويتنا الحالية وما يمكننا أن نكون عل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حيل على الأشخاص الذين تخلَّفوا عن الرّكب اللحاق به من دون الحصول على مساعدة محدَّدة وموجَّه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جز الموارد والقدرات وحدها عن تحقيق الأثر الضروري أو المرغوب فيه، حيث تعتبر البيئة الممكَّنة محدِّداً أساسياً.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تقديم الحقائق السياسية المحيطة بالسلطة، تدعو الحاجة إلى وجود مقياس موضوعي ومحايد ومعياري، وذلك لتوجيه النقاش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تبرُ حالةُ النساء عادةً الأسوأَ والأشد فقر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9360" y="696960"/>
            <a:ext cx="4651560" cy="3487680"/>
          </a:xfrm>
          <a:prstGeom prst="rect">
            <a:avLst/>
          </a:prstGeom>
          <a:ln w="0">
            <a:noFill/>
          </a:ln>
        </p:spPr>
      </p:sp>
      <p:sp>
        <p:nvSpPr>
          <p:cNvPr id="70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ل هذه الخطوة الأسباب الآنية والتحتية والجذرية أو البنيوية / الهيكلية لتحديات التنمية، التي يتم تشخيصها وحصرها. ويُبرز التحليل السببي العوامل المتشابكة التي تؤثر في التحدي التنموي. ويساعد هذا التحليل في فهم مستويات السَّببية والروابط بين مختلف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قاعدة عامة، فإ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أسباب الآنية تُحدِّد الوضع الحالي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تحتية تُعتبر غالباً تبعات أو عواقب للسياسي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جذرية / البنيوية أو الهيكلية تكشف الظروف التي تتطلب تدخلات طويلة الأمد، وذلك لتغيير التوجهات والسلوكات المجتمعية على مستويات مختلفة، بما في ذلك على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تُقرِّر بعض فرق الأمم المتحدة القطرية استخدام أدوات إضافية لتنفيذ تحليل سببي أكثر شمولاً، بهدف الكشف عن الفجوات في </a:t>
            </a:r>
            <a:r>
              <a:rPr b="1" i="1" lang="ar-JO" sz="1200" spc="-1" strike="noStrike">
                <a:solidFill>
                  <a:srgbClr val="000000"/>
                </a:solidFill>
                <a:latin typeface="Arial"/>
                <a:cs typeface="Arial"/>
              </a:rPr>
              <a:t>المؤسسات، وأُطر العمل القانونية والسياساتية، والبيئات التمكينية. </a:t>
            </a:r>
            <a:r>
              <a:rPr b="1" lang="ar-JO" sz="1200" spc="-1" strike="noStrike">
                <a:solidFill>
                  <a:srgbClr val="000000"/>
                </a:solidFill>
                <a:latin typeface="Arial"/>
                <a:cs typeface="Arial"/>
              </a:rPr>
              <a:t>ويتضمن النهج القائم على حقوق الإنسان فهم كيفية تأثير القوانين والأعراف الاجتماعية والممارسات التقليدية والردود المؤسسية، بشكل إيجابي أو سلبي، في التمتع بالحقوق الإنسانية. وكما تمت الإشارة إلى ذلك في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فإن "كل دولة تحتاج إلى تقوية/تعزيز ترتيباتها الاجتماعية لتأمين الحريات الإنسانية – بما يتفق مع الأعراف، والمؤسسات، وأُطر العمل القانونية، والبيئة التمكينية".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الذي نشره برنامج الأمم المتحدة الإنمائي، الصفحة </a:t>
            </a:r>
            <a:r>
              <a:rPr b="1" lang="ar-JO" sz="1200" spc="-1" strike="noStrike">
                <a:solidFill>
                  <a:srgbClr val="000000"/>
                </a:solidFill>
                <a:latin typeface="Arial"/>
                <a:ea typeface="Arial"/>
              </a:rPr>
              <a:t>21</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2EAD59C-588F-48EC-9B59-E01CB1D0706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708"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709"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79360" y="696960"/>
            <a:ext cx="4651560" cy="3487680"/>
          </a:xfrm>
          <a:prstGeom prst="rect">
            <a:avLst/>
          </a:prstGeom>
          <a:ln w="0">
            <a:noFill/>
          </a:ln>
        </p:spPr>
      </p:sp>
      <p:sp>
        <p:nvSpPr>
          <p:cNvPr id="711"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قاعدة 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د الأسباب الآنية الوضع الراهن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الأسباب التحتية غالباً تبعات أو عواقب للسياس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كشف الأسباب الجذرية / البنيوية أو الهيكلية الظروف التي تتطلب تدخلات طويلة الأمد، وذلك لتغيير التوجهات والسلوكات المجتمعية على مستويات مختلفة، بما في ذلك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 أساسي في التحليل السببي: لماذ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الما يتم تشخيص أيِّ تحدٍ للتنمية، فإن </a:t>
            </a:r>
            <a:r>
              <a:rPr b="1" i="1" lang="ar-JO" sz="1200" spc="-1" strike="noStrike">
                <a:solidFill>
                  <a:srgbClr val="000000"/>
                </a:solidFill>
                <a:latin typeface="Arial"/>
                <a:cs typeface="Arial"/>
              </a:rPr>
              <a:t>السؤال الأساسي</a:t>
            </a:r>
            <a:r>
              <a:rPr b="1" lang="ar-JO" sz="1200" spc="-1" strike="noStrike">
                <a:solidFill>
                  <a:srgbClr val="000000"/>
                </a:solidFill>
                <a:latin typeface="Arial"/>
                <a:ea typeface="Arial"/>
              </a:rPr>
              <a:t> في التحليل السببي هو: </a:t>
            </a:r>
            <a:r>
              <a:rPr b="1" i="1" lang="ar-JO" sz="1200" spc="-1" strike="noStrike">
                <a:solidFill>
                  <a:srgbClr val="000000"/>
                </a:solidFill>
                <a:latin typeface="Arial"/>
                <a:cs typeface="Arial"/>
              </a:rPr>
              <a:t>لماذا</a:t>
            </a:r>
            <a:r>
              <a:rPr b="1" lang="ar-JO" sz="1200" spc="-1" strike="noStrike">
                <a:solidFill>
                  <a:srgbClr val="000000"/>
                </a:solidFill>
                <a:latin typeface="Arial"/>
                <a:ea typeface="Arial"/>
              </a:rPr>
              <a:t> يحدث ذلك لقطاع معيِّن من السكان؟ فعلى سبيل المثال، لماذا تُحرم الفتيات في المناطق القروية من حقِّهنَّ في التعلي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يمة المضافة التي يُحدثها النهج القائم على حقوق الإنسان في التحليل السب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هم أخذ السياق القطري (سياق الدولة) بعين الاعتبار، والحصول على معرفة عميقة عن أعرافه، ومؤسساته، وأطر عمله القانونية، وبيئته التمكي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ايير حقوق الإنسان تُعزّز وضع التحليل على مستويات ثلاث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ونها مرجعاً لتشخيص وحصر تحديات التنمية والفجوات بين الالتزامات الدولية والممارسات الفع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عتبار خصائص المعايير خارطة طريق (خطة رئيسة) لتحليل الأسباب الآنية والتحتية والجذرية للتحدي الذي يواجه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مستحقات والمطالبات الفعلية لأصحاب الحقوق، وحجم التزامات القائمين ب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مبادئ حقوق الإنسان في التحليل السببي: يعتبر استخدام المبادئ طريقة فعَّالة لبناء التحليل والتبيان الواضح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ملية التحليلية تضمن مشاركة الجهات المعنية الوطنية (صاحبة المصالح)، بمن فيها الجهات الأكثر تهميشاً وإقصاءً. وتقدم المعلومات الضرورية للجهات المعنية حول عملية التقييم القطري المشترك ومحتوى التمرين، بما في ذلك المعلومات الصادرة عن آليات العمل الدولية المعنية بحقوق الإنسان، لكي تتمكَّن من اتخاذ قرارات مبنية على المعلومات. وإذا دعت الحاجة إلى ذلك، فإن العملية التحليلية تعمل على تقوية بعض القدرات لحفز المشاركة المفيدة ذات المعنى، بما في ذلك الحوافز الممكنة لأولئك الذين لا يملكون الموارد التي تمكّنهم من المشاركة. وتسعى العملية أيضاً إلى التوصل إلى توافق الجهات المعنية جميعها في الرأي حول تحديات التنمية والأسباب الجذرية التي يتم تشخيصها وحصرها. وتُطلع عملية التحليل الجهات المعنية كلها على الاستنتاجات التي تتوصل إ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79360" y="696960"/>
            <a:ext cx="4651560" cy="3487680"/>
          </a:xfrm>
          <a:prstGeom prst="rect">
            <a:avLst/>
          </a:prstGeom>
          <a:ln w="0">
            <a:noFill/>
          </a:ln>
        </p:spPr>
      </p:sp>
      <p:sp>
        <p:nvSpPr>
          <p:cNvPr id="71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ظهر هذه الشريحة أن العوامل المشتركة بين الأسباب التحتية والجذرية تمثّل مشكلات جوهرية. وفي هذا المثال، يوحي التحليل السببي لڤيروس نقص المناعة البشري المكتسب / الإيدز بأن التمييز في النوع الاجتماعي قضية أساسية. كذلك فإن تحليلاً لظاهرة عدم التحاق الفتيات بالمدرسة يجد أن التمييز في النوع الاجتماعي يعتبر قضية في حد ذاتها. وهذا يوحي لمكتب الأمم المتحدة القطري بأن التمييز في النوع الاجتماعي قضية تؤثر في تحقيق أهداف متعددة من الأهداف الإنمائية للألفية والحقوق المرتبطة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79360" y="696960"/>
            <a:ext cx="4651560" cy="3487680"/>
          </a:xfrm>
          <a:prstGeom prst="rect">
            <a:avLst/>
          </a:prstGeom>
          <a:ln w="0">
            <a:noFill/>
          </a:ln>
        </p:spPr>
      </p:sp>
      <p:sp>
        <p:nvSpPr>
          <p:cNvPr id="71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جِّه هذه الشريحة المشاركين في عملية تشخيص وحصر المستويات العامة للتحليل السببي: الأسباب الآنية، والتحتية والجذرية. وتشير الأسباب الآنية إلى الوضع الراهن وإلى التأثيرات المباشرة. على سبيل المثال، قد تكون المعدلات المنخفضة لالتحاق الفتيات بالمدرسة ناتجة عن الرسوم المدرسية، والمسافة بين بيوتهم والمدرسة، والأعمال المنزلية، والزواج المبكر وغير ذ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ير الأسباب التحتية إلى الخدمات وفرص الوصول والممارسات، كأن تكون سياسات التعليم، على سبيل المثال، متحيزةً للطلاب الأكثر غنى، وأن تمارس السلوكات التمييزية تجاه الفتيات والفقراء، وأن يولى اهتمام قليل بتحفيز الأطفال في سنوات الطفولة المبكرة، وأن لا يُعتبر التعليم قيِّ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تشتمل الأسباب الجذرية على قيم النوع الاجتماعي، والتمييز القائم على الإثنية، والتنظيم الضعيف للخدمة المدنية، والتحصيصات غير الكافية في الموازنة وغير ذل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79360" y="696960"/>
            <a:ext cx="4651560" cy="3487680"/>
          </a:xfrm>
          <a:prstGeom prst="rect">
            <a:avLst/>
          </a:prstGeom>
          <a:ln w="0">
            <a:noFill/>
          </a:ln>
        </p:spPr>
      </p:sp>
      <p:sp>
        <p:nvSpPr>
          <p:cNvPr id="71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ليمات جماعية: ستحتاج المجموعات إلى بطاقات، وأقلام تخطيط، وشريط لاصق، ومساحة على الجدار، وسبورة بيضاء أو لوحة أوراق قلاب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ختار كل مجموعة هدفاً واحداً من الأهداف الإنمائية للألفية لتعمل عليه، ولتحدد الوضع الراهن لأحد المؤشرات ذات الصلة بذلك الهدف (مثل تسرّب الفتيات من المدارس) إذا كان ذلك ممك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بني / ترسم كل مجموعة شجرة مشكلات، وبالنسبة إلى أولئك الذين لم يسبق لهم الاطلاع على التمرين، سيكون من الأسهل كثيراً عليهم القيام بعصف ذهني أولي ومن ثم تدوين النتائج على بطاقات. مثال: إذا كان السؤال "لماذا تترك الفتيات المدرسة؟"، فيمكن لأعضاء المجموعة تدوين أي سبب محتمل بصرف النظر عن كونه سبباً آنياً أو تحتياً أو أساسياً. وحالما يتم تشخيص وحصر عدد معقول من الأسباب، يمكن بناء هذه الأسباب وتنظيمها في السلسلة المنطق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ديل عن ذلك هو محاولة بناء السلسلة من الأعلى إلى الأسفل، لكن ذلك سيكون أقل تشاركية وإبداع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عني اختيار سلسلة واحدة وجود علاقة سببية رأسية واحدة بين مختلف العلاقات الرأسية الممكن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79360" y="696960"/>
            <a:ext cx="4651560" cy="3487680"/>
          </a:xfrm>
          <a:prstGeom prst="rect">
            <a:avLst/>
          </a:prstGeom>
          <a:ln w="0">
            <a:noFill/>
          </a:ln>
        </p:spPr>
      </p:sp>
      <p:sp>
        <p:nvSpPr>
          <p:cNvPr id="719"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موذج الأدوا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ذين تتأثر حقوقهم؟ من هو المسؤول عن عدم احترام الحقوق أو حمايتها أو إحقاقها؟ من هم أصحاب الحقوق وهل يمتلكون القدرة على المطالبة بحقوقهم بما في ذلك القدرة على الوصول إلى المعلومات، والتنظيم والمشاركة، ومناصرة المطالبات وتغيير السياسات إضافة إلى الحصول على الإنصاف/التعويض؟ ما هي مستحقات أصحاب الحقوق على وجه التحديد؟ ما هي آليات العمل الموجودة والمعنية بإيصال الخدمات والمساءلة وتصويب الأوضاع والإنصاف؟ وما هي آليات العمل الواجب إنشاؤها؟ من هم القائمون بالواجبات وما هي الواجبات التي يُفترض فيهم تلبيتها؟ من هي الجهات الفاعلة المحدَّدة أو المؤسسات المسؤولة عن الأداء، وهل تملك القدرة على الوفاء بتلك الالتزامات (بما في ذلك تحمل المسؤولية، وامتلاك السلطة، والبيانات، والموارد)؟ هل يُعتبر هؤلاء القائمون بالواجبات أصحاب حقوق أيضاً؟ وبعبارة أخرى، هل يعتمدون على جهات أخرى تؤدي واجباتها لتكون قادرة، بدورها، على الوفاء بما يستحق عليها من واجبات؟ هل تمتلك الجهات الأخرى القدرة على أداء واجباتها؟ ما هي العلاقة بين أصحاب الحقوق والقائمين بالواجبات فيما يتعلق بقضية التنمية التي تتم دراستها، وعلى أي مستوى تعتبر التدخلات في بناء القدرات أكثر فعّالية (على مستوى المجتمع المحلي، أم على المستوى الإقليمي، أم المستوى الوط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بينة الاتصال (الإطارات المرجعية </a:t>
            </a:r>
            <a:r>
              <a:rPr b="1" lang="en-US" sz="1200" spc="-1" strike="noStrike">
                <a:solidFill>
                  <a:srgbClr val="000000"/>
                </a:solidFill>
                <a:latin typeface="Arial"/>
                <a:ea typeface="굴림"/>
              </a:rPr>
              <a:t>call box</a:t>
            </a:r>
            <a:r>
              <a:rPr b="1" lang="ar-JO" sz="1200" spc="-1" strike="noStrike">
                <a:solidFill>
                  <a:srgbClr val="000000"/>
                </a:solidFill>
                <a:latin typeface="Arial"/>
                <a:ea typeface="Arial"/>
              </a:rPr>
              <a:t>): يجب ألاّ يكون تحديدُ الأدوار مجرَّد تمرينٍ عشوائي، بل يجب أن يكون موجّهاً بالمطالبات والواجبات التي يتم تحديدها في معايير حقوق الإنسان الدولية، وكذلك بالأدوار المحددة والمعايير المعرَّفة في القوانين والإجراءات والسياسات 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79360" y="696960"/>
            <a:ext cx="4651560" cy="3487680"/>
          </a:xfrm>
          <a:prstGeom prst="rect">
            <a:avLst/>
          </a:prstGeom>
          <a:ln w="0">
            <a:noFill/>
          </a:ln>
        </p:spPr>
      </p:sp>
      <p:sp>
        <p:nvSpPr>
          <p:cNvPr id="721"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فجوات في القدر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يفتقر إليها أصحاب الحقوق للمطالبة بحقوق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تفتقر إليها تلك المؤسسات أو الأفراد لتنفيذ واجباتهم بوصفهم قائمين بالواجب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قدرات المتأثر بأطر العمل القانونية والسياساتية والمؤسس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مكونات التالية جزءاً لا يتجزأ من تنمية القدرات بمقتضى النهج القائم على حقوق الإنسان:  الفجوة في </a:t>
            </a:r>
            <a:r>
              <a:rPr b="1" i="1" lang="ar-JO" sz="1200" spc="-1" strike="noStrike">
                <a:solidFill>
                  <a:srgbClr val="000000"/>
                </a:solidFill>
                <a:latin typeface="Arial"/>
                <a:cs typeface="Arial"/>
              </a:rPr>
              <a:t>المسؤولية / الدافعية / الالتزام / القيادة:</a:t>
            </a:r>
            <a:r>
              <a:rPr b="1" lang="ar-JO" sz="1200" spc="-1" strike="noStrike">
                <a:solidFill>
                  <a:srgbClr val="000000"/>
                </a:solidFill>
                <a:latin typeface="Arial"/>
                <a:ea typeface="Arial"/>
              </a:rPr>
              <a:t> تشير هذه الفجوة إلى الصفات </a:t>
            </a:r>
            <a:r>
              <a:rPr b="1" i="1" lang="ar-JO" sz="1200" spc="-1" strike="noStrike">
                <a:solidFill>
                  <a:srgbClr val="000000"/>
                </a:solidFill>
                <a:latin typeface="Arial"/>
                <a:cs typeface="Arial"/>
              </a:rPr>
              <a:t>الواجب</a:t>
            </a:r>
            <a:r>
              <a:rPr b="1" lang="ar-JO" sz="1200" spc="-1" strike="noStrike">
                <a:solidFill>
                  <a:srgbClr val="000000"/>
                </a:solidFill>
                <a:latin typeface="Arial"/>
                <a:ea typeface="Arial"/>
              </a:rPr>
              <a:t> على القائمين بالواجبات إدراكها فيما يتعلق بأدوارهم لكي ينفّذو التزاماتهم. وتساعد استراتيجيات المعلومات والتعليم والتواصل على تعزيز حسٍّ من المسؤولية لإحقاق حقوق الإنسان. ولضمان توفير تعدّدية وسائل إعلام وحريتها، يُعتبر المجتمع المدني النابض بالحياة، وآليات العمل الفعّالة للمراقبة، وفرص الوصول إلى علاجات والحلول الخاصة بالانتهاكات (على المستوى القضائي والإداري والسياسي) ... تعتبر جميعها عوامل حيوية مهمة على حد سواء.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فجوة في السلطة</a:t>
            </a:r>
            <a:r>
              <a:rPr b="1" lang="ar-JO" sz="1200" spc="-1" strike="noStrike">
                <a:solidFill>
                  <a:srgbClr val="000000"/>
                </a:solidFill>
                <a:latin typeface="Arial"/>
                <a:ea typeface="Arial"/>
              </a:rPr>
              <a:t> تشير إلى شرعية أي عمل، عندما يشعر الأفراد أو الجماعات أو يعرفون بأنهم </a:t>
            </a:r>
            <a:r>
              <a:rPr b="1" lang="ar-JO" sz="1200" spc="-1" strike="noStrike" u="sng">
                <a:solidFill>
                  <a:srgbClr val="000000"/>
                </a:solidFill>
                <a:uFillTx/>
                <a:latin typeface="Arial"/>
                <a:cs typeface="Arial"/>
              </a:rPr>
              <a:t>يستطيعون</a:t>
            </a:r>
            <a:r>
              <a:rPr b="1" lang="ar-JO" sz="1200" spc="-1" strike="noStrike">
                <a:solidFill>
                  <a:srgbClr val="000000"/>
                </a:solidFill>
                <a:latin typeface="Arial"/>
                <a:ea typeface="Arial"/>
              </a:rPr>
              <a:t> تنفيذ العمل. وتُحدِّد القوانين، والأعراف والقواعد الرسمية وغير الرسمية، والتقاليد والثقافة، بشكل كبير، والأمور المسموح بها وغير المسموح بها. ووفقاً لذلك، يجب أن تكون السياسات والقوانين الوطنية منسجمة مع الالتزامات الواردة في معاهدات حقوق الإنسان الدولية، وأن تُحدد الواجبات المعن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فجوة في إمكانية الوصول إلى الموارد والسيطرة علي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تكون المعرفة بوجوب فعل شيء ما أو بجواز فعله أمراً غير كافٍ. وعلاوة على ذلك، نادراً ما يكون الناس الأشد فقراً قادرين على المطالبة بحقوقهم كأفراد، ولكنهم يحتاجون إلى أن يكونوا قادرين على التنظيم. وبناء على ذلك يجب على مفهوم "القدرات" أن يشتمل على بناء القدرات وبناء الموارد البشرية أيضاً (المهارات، والمعرفة، والوقت، والالتزام وغيرها)، والموارد الاقتصادية والموارد التنظيمية التي تؤثر في قدرة صاحب الحق أو القائم بالواجب على اتخاذ الإجراء أو القيام بالعمل المناسب.</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9360" y="696960"/>
            <a:ext cx="4651560" cy="3487680"/>
          </a:xfrm>
          <a:prstGeom prst="rect">
            <a:avLst/>
          </a:prstGeom>
          <a:ln w="0">
            <a:noFill/>
          </a:ln>
        </p:spPr>
      </p:sp>
      <p:sp>
        <p:nvSpPr>
          <p:cNvPr id="723" name="PlaceHolder 2"/>
          <p:cNvSpPr>
            <a:spLocks noGrp="1"/>
          </p:cNvSpPr>
          <p:nvPr>
            <p:ph type="body"/>
          </p:nvPr>
        </p:nvSpPr>
        <p:spPr>
          <a:xfrm>
            <a:off x="474480" y="4311360"/>
            <a:ext cx="5986440" cy="4786200"/>
          </a:xfrm>
          <a:prstGeom prst="rect">
            <a:avLst/>
          </a:prstGeom>
          <a:noFill/>
          <a:ln w="0">
            <a:noFill/>
          </a:ln>
        </p:spPr>
        <p:txBody>
          <a:bodyPr lIns="92160" rIns="92160" tIns="46080" bIns="46080" anchor="t">
            <a:noAutofit/>
          </a:bodyPr>
          <a:p>
            <a:pPr indent="0" algn="r" rtl="1">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شتمل بعض المعايير القائمة على الحقوق لاختيار مجالات التدخل على وجود: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جوات أساسية بين معايير حقوق الإنسان وممارسته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هيئات المعاهدة أو الإجراءات الخاص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ولويات وطنية متناظمة ومتوافقة مع معايير حقوق الإنسان والأهداف الإنمائية للألف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ستمرار دؤوب في ارتكاب انتهاكات حقوق الإنسان وشدة تلك الانتهاكات ومجالها (مثال: العنف المنزلي، وسَجن الأحداث مع الكبار الراشدين، والاتِّجار بالبشر، وإقصاء النساء من عملية صنع القرار السياسي).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الهيئات الوطنية لحقوق الإنسان أو أمناء المظال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جاهات سلبية تؤدي إلى انتهاكات حقوق الإنسان، مثل الأنماط المستمرة والمتنامية للإقصاء الاجتماعي والتمييز بحق إحدى الأقل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فاوتات تشير إلى المعاملة غير المتساوية والتمييز، والإقصاء المستمر من الفرص والمشارك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مناصرة والتعاون البرامجي والسياساتي من قبل شركاء التنم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آثار المتعددة التي تقع على تحديات التنمية وحقوق الإنسا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العمل مع شركاء ومناصري حقوق الإنسان الوطنيين في الدولة والمجتمع المدني.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رورة تشخيص وحصر التدخلات الاستراتيجية اللازمة لسد الفجوات بين أصحاب الحقوق والقائمين بالواجبات: تُظهر التجربة والخبرة أن جميع أنواع الأعمال القائمة على الحقوق والتي يتم تشخيصها عادة، تقع ضمن أنواع التدخلات العامة التالية (مطوَّرة من نموذج أعده "إيربان جونس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يصال المباشر للخدمات: المناصرة والحشد الاجتماعي، المعلومات ورفع وتيرة الوعي، والتدريب والتعليم، والمراقبة والملاحظة، والمشورة المعنية بالسياسات والأمور السي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اختيار التدخلات، من المهم الأخذ بعين الاعتبار أيّ استراتيجيات الأمم المتحدة هي الأكثر فعّالية لتحقيق النتائج وعلى أي مستوى. ومن الناحية التقليدية، كانت بعض وكالات الأمم المتحدة أكثر فعّالية على المستوى الآني، وبذلك فهي تتعامل مع أعراض المشكلة بدلاً عن الأسباب التحتية أو الجذرية لها. وبينما قد تركز بعض وكالات الأمم المتحدة على تقوية القدرات على المستوى المجتمعي، تركز وكالات أخرى عملها نموذجياً على المستوى الوطني والسياساتي لمواكبة ما تنص عليه تفويض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إضافة إلى هذه التدخلات، يضمن النهج القائم على حقوق الإنسان تطبيق نهجٍ شمولي على نطاق منظومة الأمم المتحدة للتحديات التي تواجه التنمية، حيث يتم بمقتضاه دراسة تدخلات أخرى أطول أمداً، مثل رفع وتيرة الوعي والمشورة السياساتية. وفي نهاية المطاف، توحي مركزية العلاقة بين أصحاب الحقوق والقائمين بالواجبات في النهج القائم على حقوق الإنسان بوجود دور سياسي ناشئ للأمم المتحدة يعمل كجسر بين المطالبات و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ختيار الشرك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الذي يركّز على بناء قدرات أصحاب الحقوق، الذين قد يكون من الصعب الوصول إليهم، مثل النساء القرويات، يُعَدُّ اختيار الشركاء لتحقيق النتائج من الاعتبارات المهمة. وأثناء وضع الأهداف والاستراتيجيات، يجب الأخذ في الحسبان أن النهج القائم على حقوق الإنسان يدعو إلى اعتماد نظرة شمولية، والسعي إلى الشراكات التي تدعم التغيير الذي قد يتم تحقيقه على المدى البعيد فقط.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ذلك فإن مستوى المشكلات (الآني، والتحتي، الجذري/البنيوي) واختيار التدخلات الاستراتيجية (في مجال السياسات، والوعي، والإيصال المباشر وغيرها) سيُحددان أيضاً نوع وطبيعة الشراكة الواجب بناؤها. فعلى سبيل المثال، سيكون من المهم في أية استراتيجية للحماية، العمل مع المنظمات غير الحكومية المحلية والمؤسسات الوطنية لحقوق الإنسان، التي تعمل على متابعة حقوق الإنسان في هذا المجال، وتقوية قدرات تلك المنظمات والمؤسسات. وإذا كانت الاستراتيجية تركز على تقديم المشورة المعنية بالسياسات، فسيكون من المهم إشراك المؤسسات الأكاديمية التي لديها إلمام واطلاع على تحليل الموازنات والقضايا الاقتصادية الك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ختاماً، فإن عدد وطبيعة الشركاء قد توسّعا بشكل مهول في البرمجة القائمة على الحقوق، وذلك ليشملا أصحاب الحقوق الذين تُعتبر فرص الوصول إليهم أقل من فرص غيرهم، إضافة إلى شمول مجموعة أوسع من القائمين بالواجبات الذين لديهم التزامات تقتضي منهم احترام تلك المطالبات وحمايتها والوفاء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79360" y="696960"/>
            <a:ext cx="4651560" cy="3487680"/>
          </a:xfrm>
          <a:prstGeom prst="rect">
            <a:avLst/>
          </a:prstGeom>
          <a:ln w="0">
            <a:noFill/>
          </a:ln>
        </p:spPr>
      </p:sp>
      <p:sp>
        <p:nvSpPr>
          <p:cNvPr id="72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الأهداف: استخدام النهج القائم على حقوق الإنسان في التخطيط للبرامج القائمة على النتائ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حقيق النتائج على مستوى البرامج القطرية ومكونات البرامج والنشاطات، وصياغة سلسلة النتائج. وسيتنوّع ويتفاوت مجال النتائج المتوقعة وفقاً لوضع الدولة وحجم البرنامج. ويضمن التخطيط للبرامج القائمة على النتائج ألاّ يكون مجموع التدخلات ضرورياً فقط، بل </a:t>
            </a:r>
            <a:r>
              <a:rPr b="0" lang="ar-JO" sz="1200" spc="-1" strike="noStrike" u="sng">
                <a:solidFill>
                  <a:srgbClr val="000000"/>
                </a:solidFill>
                <a:uFillTx/>
                <a:latin typeface="Arial"/>
                <a:cs typeface="Arial"/>
              </a:rPr>
              <a:t>وكافياً</a:t>
            </a:r>
            <a:r>
              <a:rPr b="0" lang="ar-JO" sz="1200" spc="-1" strike="noStrike">
                <a:solidFill>
                  <a:srgbClr val="000000"/>
                </a:solidFill>
                <a:latin typeface="Arial"/>
                <a:ea typeface="Arial"/>
              </a:rPr>
              <a:t> لإحراز النتائج المتوقعة. فالنهج القائم على حقوق الإنسان يتوافق مع عناصر الإدارة القائمة على النتائج، ليقدما إطار عمل منطقي لوضع الأهداف والتخطيط، وذلك بهدف النتائج.</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قاسم حقوقُ الإنسان والتنمية البشرية رؤيةً مشتركةً وهدفاً مشتركاً – ألا وهو تأمين الحرية للناس إلى جانب تأمين رفاههم وكرامتهم في كل مك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ندما تتقدم التنمية البشرية وحقوق الإنسان معاً، يُعزِّز كلٌ منهما الآخر، مما يعمل على زيادة قدرات الناس وحماية حقوقهم وحرياتهم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معلومات المذكورة آنفاً هي، في جوهرها، تمثِّل المقصود من نهج التنمية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9360" y="696960"/>
            <a:ext cx="4651560" cy="3487680"/>
          </a:xfrm>
          <a:prstGeom prst="rect">
            <a:avLst/>
          </a:prstGeom>
          <a:ln w="0">
            <a:noFill/>
          </a:ln>
        </p:spPr>
      </p:sp>
      <p:sp>
        <p:nvSpPr>
          <p:cNvPr id="72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فوفة نتائج إطار عمل الأمم المتحدة للمساعدات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ناء على الفكرة القائلة بأن نتائج البرنامج القُطري تُسهم في تحقيق نتائج إطار عمل الأمم المتحدة للمساعدات الإنمائية، فإن تغيير النتائج في مصفوفة إطار عمل الأمم المتحدة للمساعدات الإنمائية سيكون كالتا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الأولويات</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وطنية</a:t>
            </a:r>
            <a:r>
              <a:rPr b="0" lang="ar-JO" sz="1200" spc="-1" strike="noStrike">
                <a:solidFill>
                  <a:srgbClr val="000000"/>
                </a:solidFill>
                <a:latin typeface="Arial"/>
                <a:ea typeface="Arial"/>
              </a:rPr>
              <a:t> تغييراً إيجابياً ومستداماً في البشر (إحقاق حقوق الإنسان) وفق الأهداف الإنمائية للألفية ومعايير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نتائج إطار عمل الأمم المتحدة للمساعدات الإنمائية</a:t>
            </a:r>
            <a:r>
              <a:rPr b="0" lang="ar-JO" sz="1200" spc="-1" strike="noStrike">
                <a:solidFill>
                  <a:srgbClr val="000000"/>
                </a:solidFill>
                <a:latin typeface="Arial"/>
                <a:ea typeface="Arial"/>
              </a:rPr>
              <a:t> التغيير السياساتي أو المؤسسي الذي يؤدي إلى التغييرات السلوكية المتوقعة لأصحاب الحقوق والقائمين بالواجبات لكي يُؤدوا أدوارهم كل فيما يخص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نتائج البرنامج القطري</a:t>
            </a:r>
            <a:r>
              <a:rPr b="0" lang="ar-JO" sz="1200" spc="-1" strike="noStrike">
                <a:solidFill>
                  <a:srgbClr val="000000"/>
                </a:solidFill>
                <a:latin typeface="Arial"/>
                <a:ea typeface="Arial"/>
              </a:rPr>
              <a:t> سدّ الفجوات القانونية والمؤسساتية والسياساتية والفجوات في القدرات، التي تمنع أصحاب الحقوق والقائمين بالواجبات من أداء أدوا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مخرجات البرنامج القطري</a:t>
            </a:r>
            <a:r>
              <a:rPr b="0" lang="ar-JO" sz="1200" spc="-1" strike="noStrike">
                <a:solidFill>
                  <a:srgbClr val="000000"/>
                </a:solidFill>
                <a:latin typeface="Arial"/>
                <a:ea typeface="Arial"/>
              </a:rPr>
              <a:t> المنتجات والخدمات والمهمات المنجزة التي قدمها البرنامج إلى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79360" y="696960"/>
            <a:ext cx="4651560" cy="3487680"/>
          </a:xfrm>
          <a:prstGeom prst="rect">
            <a:avLst/>
          </a:prstGeom>
          <a:ln w="0">
            <a:noFill/>
          </a:ln>
        </p:spPr>
      </p:sp>
      <p:sp>
        <p:nvSpPr>
          <p:cNvPr id="729" name="PlaceHolder 2"/>
          <p:cNvSpPr>
            <a:spLocks noGrp="1"/>
          </p:cNvSpPr>
          <p:nvPr>
            <p:ph type="body"/>
          </p:nvPr>
        </p:nvSpPr>
        <p:spPr>
          <a:xfrm>
            <a:off x="700200" y="4416480"/>
            <a:ext cx="5610240" cy="468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ا الذي يفترض قيا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يُعطي النهج القائم على حقوق الإنسان الأهمية </a:t>
            </a:r>
            <a:r>
              <a:rPr b="0" lang="ar-JO" sz="1200" spc="-1" strike="noStrike" u="sng">
                <a:solidFill>
                  <a:srgbClr val="000000"/>
                </a:solidFill>
                <a:uFillTx/>
                <a:latin typeface="Arial"/>
                <a:cs typeface="Arial"/>
              </a:rPr>
              <a:t>لنتائج</a:t>
            </a:r>
            <a:r>
              <a:rPr b="0" lang="ar-JO" sz="1200" spc="-1" strike="noStrike">
                <a:solidFill>
                  <a:srgbClr val="000000"/>
                </a:solidFill>
                <a:latin typeface="Arial"/>
                <a:ea typeface="Arial"/>
              </a:rPr>
              <a:t> البرنامج المقصودة فحسب، بل يعطيها إلى </a:t>
            </a:r>
            <a:r>
              <a:rPr b="0" lang="ar-JO" sz="1200" spc="-1" strike="noStrike" u="sng">
                <a:solidFill>
                  <a:srgbClr val="000000"/>
                </a:solidFill>
                <a:uFillTx/>
                <a:latin typeface="Arial"/>
                <a:cs typeface="Arial"/>
              </a:rPr>
              <a:t>العملية</a:t>
            </a:r>
            <a:r>
              <a:rPr b="0" lang="ar-JO" sz="1200" spc="-1" strike="noStrike">
                <a:solidFill>
                  <a:srgbClr val="000000"/>
                </a:solidFill>
                <a:latin typeface="Arial"/>
                <a:ea typeface="Arial"/>
              </a:rPr>
              <a:t> التي يُنفَّذ بوساطتها البرنامج أيضاً. وبناء على ذلك، فإن النهج القائم على حقوق الإنسان والإدارة القائمة على النتائج يدعوان إلى متابعة </a:t>
            </a:r>
            <a:r>
              <a:rPr b="1" lang="ar-JO" sz="1200" spc="-1" strike="noStrike">
                <a:solidFill>
                  <a:srgbClr val="000000"/>
                </a:solidFill>
                <a:latin typeface="Arial"/>
                <a:cs typeface="Arial"/>
              </a:rPr>
              <a:t>الأثر والنتائج والمخرجات وعملية التنفيذ.</a:t>
            </a:r>
            <a:r>
              <a:rPr b="0" lang="ar-JO" sz="1200" spc="-1" strike="noStrike">
                <a:solidFill>
                  <a:srgbClr val="000000"/>
                </a:solidFill>
                <a:latin typeface="Arial"/>
                <a:ea typeface="Arial"/>
              </a:rPr>
              <a:t> وحتى إن كانت مستويات الأثر والنتائج جزءاً من استراتيجية طويلة الأمد، فإن الوضع المتعلق بهذه المستويات يجب أن يتم متابعته للتأكد من أنَّ المخرجات المتوقعة ما تزال ملائمة للغرض الذي صممت من أجله. وبناء عليه، فإن </a:t>
            </a:r>
            <a:r>
              <a:rPr b="1" lang="ar-JO" sz="1200" spc="-1" strike="noStrike">
                <a:solidFill>
                  <a:srgbClr val="000000"/>
                </a:solidFill>
                <a:latin typeface="Arial"/>
                <a:cs typeface="Arial"/>
              </a:rPr>
              <a:t>مراقبة الوضع </a:t>
            </a:r>
            <a:r>
              <a:rPr b="0" lang="ar-JO" sz="1200" spc="-1" strike="noStrike">
                <a:solidFill>
                  <a:srgbClr val="000000"/>
                </a:solidFill>
                <a:latin typeface="Arial"/>
                <a:cs typeface="Arial"/>
              </a:rPr>
              <a:t>في النهج القائم على حقوق الإنسان تتساوى في الأهمية مع مراقبة أداء البرنامج.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كيف نقيس؟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معايير القياس: </a:t>
            </a:r>
            <a:r>
              <a:rPr b="0" lang="ar-JO" sz="1200" spc="-1" strike="noStrike">
                <a:solidFill>
                  <a:srgbClr val="000000"/>
                </a:solidFill>
                <a:latin typeface="Arial"/>
                <a:cs typeface="Arial"/>
              </a:rPr>
              <a:t>إن الخطوة الأولى فيما يتعلق بإنشاء نظام للمتابعة والتقييم هي تحديد معايير قياس أو العوامل القابلة للقياس في كل مجال من المجالات الأربعة أعلاه (الأثر، والنتائج، والمخرجات، والعملية) التي سيتم قياسها. وعندما يتم تحديد النتيجة المتوقعة في كل مجال (النتيجة، والعملية وغير ذلك) بتعابير ملموسة (وهذه ليست الحالة الموجودة دائماً)، ستكون معايير قياس تلك النتيجة قليلة وبسيط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إذا كان الهدف هو </a:t>
            </a:r>
            <a:r>
              <a:rPr b="0" i="1" lang="ar-JO" sz="1200" spc="-1" strike="noStrike">
                <a:solidFill>
                  <a:srgbClr val="000000"/>
                </a:solidFill>
                <a:latin typeface="Arial"/>
                <a:cs typeface="Arial"/>
              </a:rPr>
              <a:t>خفض التفاوتات بين النوع الاجتماعي من حيث الالتحاق بالمدرسة والتسرُّب منها، ومن حيث زيادة عدد الأطفال الذين يحصلون على تعليم أساسي،</a:t>
            </a:r>
            <a:r>
              <a:rPr b="0" lang="ar-JO" sz="1200" spc="-1" strike="noStrike">
                <a:solidFill>
                  <a:srgbClr val="000000"/>
                </a:solidFill>
                <a:latin typeface="Arial"/>
                <a:ea typeface="Arial"/>
              </a:rPr>
              <a:t> فإن معايير القياس الثلاثة الآنية القائمة على حقوق الإنسان فيما يتعلق بالتعليم ه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وتات بين النوع الاجتماعي في الالتحاق بالمدرس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تمام التعليم الأساس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ودة التعليم.</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9360" y="696960"/>
            <a:ext cx="4651560" cy="3487680"/>
          </a:xfrm>
          <a:prstGeom prst="rect">
            <a:avLst/>
          </a:prstGeom>
          <a:ln w="0">
            <a:noFill/>
          </a:ln>
        </p:spPr>
      </p:sp>
      <p:sp>
        <p:nvSpPr>
          <p:cNvPr id="73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rPr>
              <a:t>وضع النظام موضع التنفيذ</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أحضر أدوات معينة فريدة لإطار العمل هذا: مراقبة الجهد المبذول، والجهد الموجّه صوب التزامات القائمين بالواجبات وأصحاب الحقوق. كيف تتم عملية إدماج هذه الجهود في النتائج؟ وضع المؤشرات المحددة والمعلومات في نموذج محد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يجب أن توجِّه معايير ومبادئ حقوق الإنسان عملية اختيار المؤشرات. ويجب وضع مؤشرات كمية ونوعية لمتابعة ومراقبة عملية إحقاق حقوق الإنسان من خلال برامج التنمية. ويجب أن يتم اختيار المؤشرات ومتابعتها من خلال عملية تشاركيةٍ، تسمح للجهات المعنية بتقييم الت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مثال: يجب أن يضمن أي مشروع للمياه والصرف الصحي القيام بمتابعة ومراقبة مختلف عناصر الحق في المياه، بما في ذلك توافر المياه وجودتها، وإمكانية الوصول المادي إليها، والقدرة على تحمل تكلفتها، وتوافر فرص الوصول إلى المعلومات، وعدم التمييز. [</a:t>
            </a:r>
            <a:r>
              <a:rPr b="0" lang="ar-JO" sz="1200" spc="-1" strike="noStrike">
                <a:solidFill>
                  <a:srgbClr val="000000"/>
                </a:solidFill>
                <a:latin typeface="Arial"/>
              </a:rPr>
              <a:t>1</a:t>
            </a:r>
            <a:r>
              <a:rPr b="0" lang="ar-JO" sz="1200" spc="-1" strike="noStrike">
                <a:solidFill>
                  <a:srgbClr val="000000"/>
                </a:solidFill>
                <a:latin typeface="Arial"/>
              </a:rPr>
              <a:t>] إن المؤشرات الاجتماعية الاقتصادية الموضحة في الأهداف الإنمائية للألفية يمكنها المساعدة في عملية التحقيق التدريجي للعديد من الحقوق الاقتصادية والاجت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a:t>
            </a:r>
            <a:r>
              <a:rPr b="0" lang="ar-JO" sz="1200" spc="-1" strike="noStrike">
                <a:solidFill>
                  <a:srgbClr val="000000"/>
                </a:solidFill>
                <a:latin typeface="Arial"/>
              </a:rPr>
              <a:t>1</a:t>
            </a:r>
            <a:r>
              <a:rPr b="0" lang="ar-JO" sz="1200" spc="-1" strike="noStrike">
                <a:solidFill>
                  <a:srgbClr val="000000"/>
                </a:solidFill>
                <a:latin typeface="Arial"/>
              </a:rPr>
              <a:t>] انظر التعليق العام رقم </a:t>
            </a:r>
            <a:r>
              <a:rPr b="0" lang="ar-JO" sz="1200" spc="-1" strike="noStrike">
                <a:solidFill>
                  <a:srgbClr val="000000"/>
                </a:solidFill>
                <a:latin typeface="Arial"/>
              </a:rPr>
              <a:t>15</a:t>
            </a:r>
            <a:r>
              <a:rPr b="0" lang="ar-JO" sz="1200" spc="-1" strike="noStrike">
                <a:solidFill>
                  <a:srgbClr val="000000"/>
                </a:solidFill>
                <a:latin typeface="Arial"/>
              </a:rPr>
              <a:t> للجنة ا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http://www.ohchr.org/english/bodies/cescr/comments.htm</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51200" cy="3487680"/>
          </a:xfrm>
          <a:prstGeom prst="rect">
            <a:avLst/>
          </a:prstGeom>
          <a:ln w="0">
            <a:noFill/>
          </a:ln>
        </p:spPr>
      </p:sp>
      <p:sp>
        <p:nvSpPr>
          <p:cNvPr id="73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آليات عمل تساعد في تنسيق الرد الإنساني وضمان تطبيق مبادئ حقوق الإنسان و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أوضاع الطارئة المعقدة أو الكبيرة على وجه الخصوص، يُعَدُّ إعداد خطة عمل مشتركة للأعمال الإنسانية فرصة للعمل مع الشركاء الآخرين، ويسمح بتزامن برامج المساعدات المقدَّمة من الأمم المتحدة، وباتخاذ القرارات المتعلقة بتوزيع الأدوار والمسؤوليات من أجل تحقيق استجابة منسّقة ومترابطة. وقد أسهمت خطة العمل المشتركة للأعمال الإنسانية إسهاماً كبيراً ومهماً في تطوير نهج أكثر استراتيجية لتقديم المساعدات الإنسانية. وترسم خطة العمل المشتركة للأعمال الإنسانية الخطوط العريضة لهذه الأعمال في أية دولة أو منطقة، وذلك يتض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سياق الذي تقع فيه الأزمة الإنسان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سيناريوهات الفضلى، والأسوأ والأكثر احتمال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احتياجات وبيان الأولو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للجهات المعنية (صاحبة المصلحة)؛ بمعنى تحديد مَن يقوم بماذا وأين يقوم به.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رابط لأهداف وغايات ذات أمد أطو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إطار عمل لمتابعة الاستراتيجية وتعديلها إن لزم الأم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خطة المشتركة للأعمال الإنسانية أساساً لإعداد نداء موح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ملية النداء الموحد</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عملية إعداد النداءات الموحدة أداة تستخدمها منظمات الإغاثة المتعددة الأطراف وغيرها من منظمات الإغاثة (منظمات الأمم المتحدة، والمنظمات غير الحكومية الدولية والوطنية من بين جملة المنظمات الأخرى) في الاستجابة إلى الحالات الطارئة والردّ عليها بطريقة مشتركة، وفي تقديم خططها ومتطلباتها إلى المجتمع الدولي والمانحين. وتشتمل الخطط والمتطلبات على ملخص للأوضاع، وخطط للرد والاستجابة، ومتطلبات الموارد، واستراتيجيات المتابعة / المراقبة. وتبني عملية النداء الموحد – وهي العملية السنوية المشتركة بين الوكالات – على ما تحتوي عليه خطة العمل المشتركة للأعمال الإنسانية، وتُعزّز التعاون الوثيق بين الحكومات والمانحين والمنظمات غير الحكومية ومجموعة أخرى متنوعة من المنظمات الحكو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هذه العملية الأداة الأساسية للتنسيق والتخطيط الاستراتيجي وتنفيذ البرامج في القطاع الإنساني. وتُعدُّ المدة الاعتيادية لعملية النداء الموحّد سنة واحدة، ويمكن إصدار نسخة استكمالية محدّثة في السنة التالية إذا قرر الفريق القطري للّجنة الدائمة المشتركة بين الوكالات أن الأزمة الإنسانية ما تزال مستمرة. ويُصدر مكتب تنسيق الشؤون الإنسانية، ووكالات الأمم المتحدة المشاركة، والمنظمات الدولية، والمنظمات غير الحكومية عمليات النداء الموحّد لجميع الدول التي تشهد أزمات إنسانية، وقت الإطلاق السنوي للنداء الموحد، الذي يحدث عادة في نوڤمبر / تشرين الثاني. وتساعد عملية النداء الموحد في التركيز على أشدِّ الحاجات الطارئة إلحاحاً ضمن المجالات المختلفة للبرامج، بما في ذلك المجالات ذات الأولوية ضمن إطار عمل الأمم المتحدة للمساعدات الإنمائية. ومن خلال عملية النداء الموحَّد، تتفق وكالات الأمم المتحدة المشاركة على المسؤوليات المطلوبة لمتابعة تنفيذ البرنامج والقطاع. وبالتحدث بصوت مشترك، تستطيع الوكالاتُ المطالبةَ بقدْر من الحماية أكبر لأولئك الأشخاص المتأثرين بحالات الطوارئ المعقدة، وبتحقيق فرص وصول أفضل للسكان الضعفاء المعرضين للمخاطر، وبالعمل بفعالية أكبر مع الحكومات والجهات الفاعلة الأخرى. ويعتبر هذا التنسيق مهماً على وجه الخصوص في البيئات المحفوفة بالمخاطر، والتي تتطلب موارد أكبر لضمان سلامة الكوادر العاملة في المجال الإنس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تطبيق معايير ومبادئ حقوق الإنسان في جميع مراحل العمل، ابتداءً من التحليل والتقييم، اللذين يعتبران عمليتين متواصلتين. ويُمكن أن تساعد مبادئ حقوق الإنسان على ضمان أن ينصبَّ تركيز الأعمال ذات الأولوية على ذوي الحاجة الأشد إلى المساعدات الإنسانية. ويقدم إطار عمل تحليل الاحتياجات قائمة بالقضايا التي يجب أخذها في الحسب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تدرك الوكالات المشاركة وأية أطراف متحاربة المبادئ الإنسانية وتفهمها وتلتزم بها؟ هل الوكالات المتعاونة ملتزمة بالمبادئ الأساسية الستة لمدونة السلوك التي تهدف إلى حماية متلقِّي المعونات الطارئة وإغاثتهم من الاستغلال الجنسي والإساءة الجنسية؟ وفي حالة الجماعات المسلحة، وحيثما يكون ذلك ممكناً، هل تم التوقيع على شروط الاشتباك في القتال، التي تحدد التزام تلك الجماعات التي تنص عليها حقوق الإنسان والقانون الإنساني والمبادئ الإنسانية؟ هل توجد أنظمة، أم هل ستضع الوكالات المشاركة أنظمة لمتابعة عملية تقديم المساعدات الإنسانية والامتثال إلى المبادئ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مساواة في النوع الاجتماعي:</a:t>
            </a:r>
            <a:r>
              <a:rPr b="1" lang="ar-JO" sz="1200" spc="-1" strike="noStrike">
                <a:solidFill>
                  <a:srgbClr val="000000"/>
                </a:solidFill>
                <a:latin typeface="Arial"/>
                <a:ea typeface="Arial"/>
              </a:rPr>
              <a:t> هل تحصل النساء والفتيات على الأولوية في الاهتمام، وهل تشتمل الاستجابة على الحماية من العنف القائم على النوع الاجتماعي؟ هل تتم استشارة النساء والفتيات في عملية تصميم الاستجابة الطارئة؟ هل يتم الأخذ في الحسبان، الاختلافات في فرص الوصول إلى الموارد والسيطرة عليها، وفي الأدوار والمسؤوليات، والقدرة على التأقلم والتعامل مع الأوضاع، ونهوج بناء السلام بين الرجال والنساء، بشكل ممنهج ومنتظم، في التدخلات المقترحة؟ هل تم إجراء تحليلات للنوع الاجتماعي أو تحليلات للقدرات وحالات الضعف والتعرض للمخاط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لاجئون، والنازحون داخلياً:</a:t>
            </a:r>
            <a:r>
              <a:rPr b="1" lang="ar-JO" sz="1200" spc="-1" strike="noStrike">
                <a:solidFill>
                  <a:srgbClr val="000000"/>
                </a:solidFill>
                <a:latin typeface="Arial"/>
                <a:ea typeface="Arial"/>
              </a:rPr>
              <a:t> هل تُدْرِك الوكالات المشاركة المبادئ التوجيهية للنزوح الداخلي؟ هل اشتمل التقييم الأولي للوضع الطارئ على وضع اللاجئين والنازحين داخلياً؟ هل تم وصف حالات خاصة من الضعف والتعرض للمخاطر؟ هل تم شمول البرامج والاستراتيجيات اللازمة لمنع النزوح المتكرر أو المطول، أو للاستعداد له؟</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9360" y="696960"/>
            <a:ext cx="4651560" cy="3487680"/>
          </a:xfrm>
          <a:prstGeom prst="rect">
            <a:avLst/>
          </a:prstGeom>
          <a:ln w="0">
            <a:noFill/>
          </a:ln>
        </p:spPr>
      </p:sp>
      <p:sp>
        <p:nvSpPr>
          <p:cNvPr id="7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يمكننا جعل القائمين بالواجبات أكثر سعادة بالنسبة إلى الامتث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ت مواءمة هذه الشريحة بعد اقتباسها من مكتب اليونيسف في ڤيتنام.</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9360" y="696960"/>
            <a:ext cx="4651560" cy="3487680"/>
          </a:xfrm>
          <a:prstGeom prst="rect">
            <a:avLst/>
          </a:prstGeom>
          <a:ln w="0">
            <a:noFill/>
          </a:ln>
        </p:spPr>
      </p:sp>
      <p:sp>
        <p:nvSpPr>
          <p:cNvPr id="73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ركِّز ورشة العمل هذه وحزمة التعلم على التفاهم أو الفهم المشترك من قبل وكالات الأمم المتحدة والأدوات المشتركة فيما بينها للنهج القائم على حقوق الإنسان. وبناء على ذلك، يُقترح الرجوع باختصار إلى بعض الوكالات التي أعدَّت وطورت سلسلة كاملة من المواد، مع الاقتراح بقيام المشاركين بالاتصال بتلك الوكالات مباشرة، في حالة وجود الرغبة والاهتمام بتعلّم المزيد. وهذه الوكالات ه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ظمة الأمم المتحدة للطفولة (يونيسف)،</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لسك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إنم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تنمية المرأة، ومنظمة العمل الدو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مشترك لمكافحة ڤيروس نقص المناعة البشري المكتسب / الإيدز،</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كتب المفوَّضية السامية لحقوق الإنسان التابع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كتب تنسيق الشؤون الإنس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ركز الأمم المتحدة للمستوطنات البشرية (الموئ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زراعة والغذ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ظمة الأمم المتحدة للتربية والعلوم والثقافة (يونسكو)،</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صحة ال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النداء الخاص بحالات الطوارئ المتصلة بالجفاف في منطقة جنوب إفريقيا، وقسم عمليات حفظ السلام.</a:t>
            </a:r>
            <a:r>
              <a:rPr b="0" lang="ar-JO"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CEF, UNFPA, UNDP, UNIFEM, ILO, UNAIDS, UNHCR, OCHA, UN Habitat, FAO, UNESCO, WHO, DESA, DPKO</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9360" y="696960"/>
            <a:ext cx="4651560" cy="3487680"/>
          </a:xfrm>
          <a:prstGeom prst="rect">
            <a:avLst/>
          </a:prstGeom>
          <a:ln w="0">
            <a:noFill/>
          </a:ln>
        </p:spPr>
      </p:sp>
      <p:sp>
        <p:nvSpPr>
          <p:cNvPr id="73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يوجد محتوى يمكن تقديمه باستخدام برنامج "البوربوينت" في هذه الجلسة وسوف يُيسِّر فريق التدريب نقاشاً مفتوحاً ضمن مكتب الأمم المتحدة القُطري، حول كيفية البناء على ما هو موجود من المعلومات والمعرفة المكتسبة في ورشة العمل، لحصر نقاط الدخول الاستراتيجية لتبني النهج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دماج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دد تعريفُ المجلس الاقتصادي والاجتماعي للأمم المتحدة - </a:t>
            </a:r>
            <a:r>
              <a:rPr b="0" lang="ar-JO" sz="1200" spc="-1" strike="noStrike" u="sng">
                <a:solidFill>
                  <a:srgbClr val="000000"/>
                </a:solidFill>
                <a:uFillTx/>
                <a:latin typeface="Arial"/>
                <a:ea typeface="Arial"/>
              </a:rPr>
              <a:t>1997</a:t>
            </a:r>
            <a:r>
              <a:rPr b="0" lang="ar-JO" sz="1200" spc="-1" strike="noStrike" u="sng">
                <a:solidFill>
                  <a:srgbClr val="000000"/>
                </a:solidFill>
                <a:uFillTx/>
                <a:latin typeface="Arial"/>
                <a:ea typeface="Arial"/>
              </a:rPr>
              <a:t> لإدماج النوع الاجتماعي المبادئ التالية لإدماج منظور النوع الاجتماعي في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يجب تحديد القضايا الموجودة في جميع مجالات نشاط الأمم المتحدة، بطريقة من شأنها أن تُمكّن من تشخيص الاختلافات في النوع الاجتماعي، مما يعني وجوب عدم افتراض الحيادي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تعتبر مسؤوليةُ ترجمة إدماج النوع الاجتماعي إلى ممارسة عملية، مسؤوليةً عامة على نطاق منظومة الأمم المتحدة، وهي تقع على أعلى المستويات فيها. وتحتاج المساءَلة حول النواتج إلى المتابعة والمراقبة بشكل دائم. كذلك فإن إدماج النوع الاجتماعي يتطلب بذل جميع الجهود لتوسيع نطاق مشاركة المرأة في جميع مستويات صنع القرار. ويجب إضفاء الصبغة المؤسسية (المأسسة) على عملية إدماج النوع الاجتماعي من خلال وضع خطوات وآليات عمل وتنفيذ عمليات ملموسة، في جميع أجزاء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في عام </a:t>
            </a:r>
            <a:r>
              <a:rPr b="0" lang="ar-JO" sz="1200" spc="-1" strike="noStrike" u="sng">
                <a:solidFill>
                  <a:srgbClr val="000000"/>
                </a:solidFill>
                <a:uFillTx/>
                <a:latin typeface="Arial"/>
                <a:ea typeface="Arial"/>
              </a:rPr>
              <a:t>2005</a:t>
            </a:r>
            <a:r>
              <a:rPr b="0" lang="ar-JO" sz="1200" spc="-1" strike="noStrike" u="sng">
                <a:solidFill>
                  <a:srgbClr val="000000"/>
                </a:solidFill>
                <a:uFillTx/>
                <a:latin typeface="Arial"/>
                <a:cs typeface="Arial"/>
              </a:rPr>
              <a:t>، طالبت هيئةُ المراجعة الشاملة للسياسات، التي تُجرى كل ثلاث سنوات، الأممَ المتحدة بإدماج منظور النوع الاجتماعي، والسعي إلى تحقيق المساواة في النوع الاجتماعي في برامجها القُطرية، وفي أدوات التخطيط، وفي البرامج التي تنفّذ على نطاق القطاع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حقوق الإنسانية ل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تل القضاء على جميع أشكال التمييز ضد المرأة مكانة مركزية في قانون الحقوق الإنسانية الدولية. ولا تُطبَّق جميع الحقوق المضمونة بمقتضى معاهدات حقوق الإنسان الدولية الأساسية السبع، على قدم المساواة، بين الرجال والنساء، والفتيان والفتيات فحسب، بل شدَّدت باهتمام ورقة المعاهدتين اللتين تشكلان "الشرعة الدولية لحقوق الإنسان" على تأكيد هذه النقطة أيضاً. ويحتوي كل من العهد الدولي للحقوق المدنية والسياسية، والعهد الدولي للحقوق الاقتصادية والاجتماعية والثقافية على مادة خاصة، وهي المادة الثالثة، التي تطالب الدول "بضمان تساوي المرأة والرجل"، في التمتع بالحقوق المحدَّدة في هذه المعاهد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بالإضافة إلى ذلك، فإن واحدة من معاهدات حقوق الإنسان الدولية الأساسية السبع – ألا وهي اتفاقية القضاء على جميع أشكال التمييز ضد المرأة – مُكرَّسة بشكل حصري للقضاء على التمييز في نوع الجنس (من منظور بيولوجي)، وذلك سعياً وراء تحقيق المساواة في نوع الجنس من منظور اجتماعي (النوع الاجتماعي). وتطالب اتفاقية القضاء على جميع أشكال التمييز ضد المرأة الدول الأطراف بالقضاء على التمييز القائم على النوع الاجتماعي، وذلك لتحقيق المساواة في النوع الاجتماعي (أي بين الجنسين) في جميع جوانب حياة المرأة. كذلك فإن الاتفاقية تُورد بالتفصيل الأعمال المُحدَّدة الواجب تنفيذها لمحاربة التمييز في نطاق واسع من المجالات، بما فيها التعليم، والتشغيل/التوظيف، والحياة العامة والسياسية، والعلاقات القانونية، والحياة الاقتصادية والاجتماعية، والعلاقات الأسرية، وتنمية الريف، والاتِّجار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كانت قضية المساواة في النوع الاجتماعي بؤرة اهتمام رئيس في النقاشات التي دارت في المؤتمر العالمي لحقوق الإنسان الذي عقد في ڤينّا عام </a:t>
            </a:r>
            <a:r>
              <a:rPr b="0" lang="ar-JO" sz="1200" spc="-1" strike="noStrike" u="sng">
                <a:solidFill>
                  <a:srgbClr val="000000"/>
                </a:solidFill>
                <a:uFillTx/>
                <a:latin typeface="Arial"/>
                <a:ea typeface="Arial"/>
              </a:rPr>
              <a:t>1993</a:t>
            </a:r>
            <a:r>
              <a:rPr b="0" lang="ar-JO" sz="1200" spc="-1" strike="noStrike" u="sng">
                <a:solidFill>
                  <a:srgbClr val="000000"/>
                </a:solidFill>
                <a:uFillTx/>
                <a:latin typeface="Arial"/>
                <a:cs typeface="Arial"/>
              </a:rPr>
              <a:t>، وكذلك فقد شدَّد إعلان وبرنامج عمل ڤينا على تأكيد أهمية الحقوق الإنسانية للمرأة، قائلاً: </a:t>
            </a:r>
            <a:r>
              <a:rPr b="0" i="1" lang="ar-JO" sz="1200" spc="-1" strike="noStrike" u="sng">
                <a:solidFill>
                  <a:srgbClr val="000000"/>
                </a:solidFill>
                <a:uFillTx/>
                <a:latin typeface="Arial"/>
                <a:ea typeface="Arial"/>
              </a:rPr>
              <a:t>"إن الحقوقَ الإنسانية للمرأة وللطفلة حقوقٌ غير قابلة للتصرف، وجزء لا ينفصل عن حقوق الإنسان"</a:t>
            </a:r>
            <a:r>
              <a:rPr b="0" lang="ar-JO" sz="1200" spc="-1" strike="noStrike" u="sng">
                <a:solidFill>
                  <a:srgbClr val="000000"/>
                </a:solidFill>
                <a:uFillTx/>
                <a:latin typeface="Arial"/>
                <a:ea typeface="Arial"/>
              </a:rPr>
              <a:t> (الجزء الأول، الفقرة </a:t>
            </a:r>
            <a:r>
              <a:rPr b="0" lang="ar-JO" sz="1200" spc="-1" strike="noStrike" u="sng">
                <a:solidFill>
                  <a:srgbClr val="000000"/>
                </a:solidFill>
                <a:uFillTx/>
                <a:latin typeface="Arial"/>
                <a:ea typeface="Arial"/>
              </a:rPr>
              <a:t>18</a:t>
            </a:r>
            <a:r>
              <a:rPr b="0" lang="ar-JO" sz="1200" spc="-1" strike="noStrike" u="sng">
                <a:solidFill>
                  <a:srgbClr val="000000"/>
                </a:solidFill>
                <a:uFillTx/>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قد خاطب الإعلانُ وبرنامج العمل أيضاً منظومةَ الأمم المتحدة مباشرةً حول هذه النقطة، قائلاً:</a:t>
            </a:r>
            <a:r>
              <a:rPr b="0" i="1" lang="ar-JO" sz="1200" spc="-1" strike="noStrike" u="sng">
                <a:solidFill>
                  <a:srgbClr val="000000"/>
                </a:solidFill>
                <a:uFillTx/>
                <a:latin typeface="Arial"/>
                <a:ea typeface="Arial"/>
              </a:rPr>
              <a:t> "يجب دمج الوضع المتساوي للمرأة والحقوق الإنسانية للمرأة ضمن النشاط العام لمنظومة الأمم المتحدة. ويجب تناول هذه القضايا بطريقة منتظمة ومنهجية في كل هيئات الأمم المتحدة وآليات عملها ذات الصلة."</a:t>
            </a:r>
            <a:r>
              <a:rPr b="0" lang="ar-JO" sz="1200" spc="-1" strike="noStrike" u="sng">
                <a:solidFill>
                  <a:srgbClr val="000000"/>
                </a:solidFill>
                <a:uFillTx/>
                <a:latin typeface="Arial"/>
                <a:ea typeface="Arial"/>
              </a:rPr>
              <a:t> (الجزء الثاني، الفقرة </a:t>
            </a:r>
            <a:r>
              <a:rPr b="0" lang="ar-JO" sz="1200" spc="-1" strike="noStrike" u="sng">
                <a:solidFill>
                  <a:srgbClr val="000000"/>
                </a:solidFill>
                <a:uFillTx/>
                <a:latin typeface="Arial"/>
                <a:ea typeface="Arial"/>
              </a:rPr>
              <a:t>37</a:t>
            </a:r>
            <a:r>
              <a:rPr b="0" lang="ar-JO" sz="1200" spc="-1" strike="noStrike" u="sng">
                <a:solidFill>
                  <a:srgbClr val="000000"/>
                </a:solidFill>
                <a:uFillTx/>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696960"/>
            <a:ext cx="4648320" cy="3486240"/>
          </a:xfrm>
          <a:prstGeom prst="rect">
            <a:avLst/>
          </a:prstGeom>
          <a:ln w="0">
            <a:noFill/>
          </a:ln>
        </p:spPr>
      </p:sp>
      <p:sp>
        <p:nvSpPr>
          <p:cNvPr id="59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المعروف أيضاً بقانون الحرب، أو قانون النزاع المسلح) وحقوق الإنسان هما فرعان منفصلان من فروع القانون الدولي، يربطهما معاً قصد مشترك. والقصد الأساسي لكل منهما هو حماية كرامة الإنسان في جميع الظروف.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م تطبيق القانون الإنساني الدولي حالما ينشب نزاع مسلح، كذلك فإنه قانونٌ ملزم لجميع الدول الأطراف بشكل متساوٍ، بصرف النظر عن الطرف الذي بدأ النزاع. وتتمثل الرسائل الأساسية للقانون الإنساني الدولي في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مهاجمة الأشخاص غير المشاركين في القتال أو الذين لم يعودوا يشاركون ف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استخدام الأسلحة التي لا تُميّز بين المقاتلين والمدنيين، أو أسلحة وأساليب الحرب التي تسبب معاناة و / أو أضرار لا ضرورة لها.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على كل من الدول والأفراد احترام القانون الإنساني الدولي، حيث يجب على الجميع احترام هذا القانون، بمن فيهم المقاتلون والسكان ككل. إن الالتزام بالامتثال للقانون الإنساني الدولي يعني أن عدم الامتثال يمكن أن يعرض الأفراد، في بعض الحالات، للمسؤولية القانونية بمقتضى قانون العقوبات، كما أقرت بذلك العديد من المحاكم الدولية و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EF68E-820E-49BB-8678-28D546C4E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D3AAE-98D0-4374-B96C-04838F28E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D6735-03B4-43B7-8A3E-79F2E2ED9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CD155-9FE5-435E-A0DC-CCD605484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8813-0A23-4ECC-BFDE-3EA01194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67199-E616-433F-857A-45D777171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D0E23-2142-4947-891C-D187BABD1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61D8B-4805-47AB-9C67-8E9A8C71B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CAC71-3D79-483C-9020-8D035C3CC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EEDD-64B7-4FEF-8592-01E5DF04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1255C-DA54-4463-853E-243F62CC9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1B1F-1F05-4BCD-A098-5AEFEFB2C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2"/>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4B47-CD57-400E-B4D6-CA8C6474D776}"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34920" y="-27000"/>
            <a:ext cx="1527120" cy="1527120"/>
          </a:xfrm>
          <a:prstGeom prst="rect">
            <a:avLst/>
          </a:prstGeom>
          <a:ln w="0">
            <a:noFill/>
          </a:ln>
        </p:spPr>
      </p:pic>
      <p:sp>
        <p:nvSpPr>
          <p:cNvPr id="7" name=""/>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66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769760"/>
            <a:ext cx="7772400" cy="129852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حقوق الإنسان ضمن سياق عملية إصلاح </a:t>
            </a:r>
            <a:br>
              <a:rPr sz="4000"/>
            </a:br>
            <a:r>
              <a:rPr b="1" lang="ar-JO" sz="4000" spc="-1" strike="noStrike">
                <a:solidFill>
                  <a:srgbClr val="ffff00"/>
                </a:solidFill>
                <a:latin typeface="Arial"/>
                <a:cs typeface="Arial"/>
              </a:rPr>
              <a:t>الأمم المتحدة </a:t>
            </a:r>
            <a:endParaRPr b="0" lang="en-US" sz="4000" spc="-1" strike="noStrike">
              <a:solidFill>
                <a:srgbClr val="000000"/>
              </a:solidFill>
              <a:latin typeface="Arial"/>
            </a:endParaRPr>
          </a:p>
        </p:txBody>
      </p:sp>
      <p:sp>
        <p:nvSpPr>
          <p:cNvPr id="54" name=""/>
          <p:cNvSpPr/>
          <p:nvPr/>
        </p:nvSpPr>
        <p:spPr>
          <a:xfrm>
            <a:off x="2627280" y="4292640"/>
            <a:ext cx="2664000" cy="10688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أولى</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4005360"/>
            <a:ext cx="2309760" cy="2755800"/>
          </a:xfrm>
          <a:prstGeom prst="rect">
            <a:avLst/>
          </a:prstGeom>
          <a:ln w="0">
            <a:noFill/>
          </a:ln>
        </p:spPr>
      </p:pic>
      <p:sp>
        <p:nvSpPr>
          <p:cNvPr id="56" name=""/>
          <p:cNvSpPr/>
          <p:nvPr/>
        </p:nvSpPr>
        <p:spPr>
          <a:xfrm>
            <a:off x="7149960" y="5300640"/>
            <a:ext cx="1584360" cy="1017720"/>
          </a:xfrm>
          <a:prstGeom prst="rect">
            <a:avLst/>
          </a:prstGeom>
          <a:noFill/>
          <a:ln w="0">
            <a:noFill/>
          </a:ln>
        </p:spPr>
        <p:style>
          <a:lnRef idx="0"/>
          <a:fillRef idx="0"/>
          <a:effectRef idx="0"/>
          <a:fontRef idx="minor"/>
        </p:style>
        <p:txBody>
          <a:bodyPr lIns="90000" rIns="90000" tIns="46800" bIns="46800" anchor="t">
            <a:spAutoFit/>
          </a:bodyPr>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a:t>
            </a:r>
            <a:endParaRPr b="0" lang="en-US" sz="1800" spc="-1" strike="noStrike">
              <a:solidFill>
                <a:srgbClr val="000000"/>
              </a:solidFill>
              <a:latin typeface="Arial"/>
            </a:endParaRPr>
          </a:p>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932000" y="1700280"/>
            <a:ext cx="3745080" cy="439272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نزاع العنفي يمنع إحقاق حقوق الإنسان.</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قد يؤدي عدم إحقاق حقوق الإنسان إلى حدوث النزاع العُنفي. </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مثّل انتهاكات حقوق الإنسان، في أغلب الأحيان، ظواهر لنشوء النزاعات أو لتصعيدها.</a:t>
            </a:r>
            <a:endParaRPr b="0" lang="en-US" sz="2000" spc="-1" strike="noStrike">
              <a:solidFill>
                <a:srgbClr val="000000"/>
              </a:solidFill>
              <a:latin typeface="Times New Roman"/>
            </a:endParaRPr>
          </a:p>
        </p:txBody>
      </p:sp>
      <p:sp>
        <p:nvSpPr>
          <p:cNvPr id="92" name="PlaceHolder 2"/>
          <p:cNvSpPr>
            <a:spLocks noGrp="1"/>
          </p:cNvSpPr>
          <p:nvPr>
            <p:ph/>
          </p:nvPr>
        </p:nvSpPr>
        <p:spPr>
          <a:xfrm>
            <a:off x="622440" y="2636640"/>
            <a:ext cx="4038480" cy="338436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ثمة علاقة متبادلة بين حقوق الإنسان ومنع حدوث النزاع. وتعتبر انتهاكات حقوق الإنسان سبباً جذرياً للنزاع، وتعتبر أيضاً إحدى عواقبه المألوفة. </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تقرير الأمين العام للأمم المتحدة عن التقدم المتحقق بشأن النزاعات المسلحة (</a:t>
            </a:r>
            <a:r>
              <a:rPr b="0" i="1" lang="ar-JO" sz="2000" spc="-1" strike="noStrike">
                <a:solidFill>
                  <a:srgbClr val="000000"/>
                </a:solidFill>
                <a:latin typeface="Arial"/>
                <a:ea typeface="Simplified Arabic"/>
              </a:rPr>
              <a:t>2006</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JO" sz="4000" spc="-1" strike="noStrike">
                <a:solidFill>
                  <a:srgbClr val="000000"/>
                </a:solidFill>
                <a:latin typeface="Arial"/>
                <a:cs typeface="Simplified Arabic"/>
              </a:rPr>
              <a:t>حقوق الإنسان والنزاع العنفي</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7640" y="188640"/>
            <a:ext cx="6409080" cy="12826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العلاقة المتبادلة بين حقوق الإنسان </a:t>
            </a:r>
            <a:br>
              <a:rPr sz="3200"/>
            </a:br>
            <a:r>
              <a:rPr b="0" lang="ar-JO" sz="3200" spc="-1" strike="noStrike">
                <a:solidFill>
                  <a:srgbClr val="000000"/>
                </a:solidFill>
                <a:latin typeface="Arial"/>
                <a:cs typeface="Simplified Arabic"/>
              </a:rPr>
              <a:t>والأهداف الإنمائية للألفية</a:t>
            </a:r>
            <a:endParaRPr b="0" lang="en-US" sz="3200" spc="-1" strike="noStrike">
              <a:solidFill>
                <a:srgbClr val="000000"/>
              </a:solidFill>
              <a:latin typeface="Arial"/>
            </a:endParaRPr>
          </a:p>
        </p:txBody>
      </p:sp>
      <p:sp>
        <p:nvSpPr>
          <p:cNvPr id="95" name="PlaceHolder 2"/>
          <p:cNvSpPr>
            <a:spLocks noGrp="1"/>
          </p:cNvSpPr>
          <p:nvPr>
            <p:ph/>
          </p:nvPr>
        </p:nvSpPr>
        <p:spPr>
          <a:xfrm>
            <a:off x="5578200" y="1988640"/>
            <a:ext cx="3025800" cy="3816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7000"/>
          </a:bodyPr>
          <a:p>
            <a:pPr marL="248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أوجه الشبه</a:t>
            </a:r>
            <a:endParaRPr b="0" lang="en-US" sz="2400" spc="-1" strike="noStrike">
              <a:solidFill>
                <a:srgbClr val="000000"/>
              </a:solidFill>
              <a:latin typeface="Times New Roman"/>
            </a:endParaRPr>
          </a:p>
          <a:p>
            <a:pPr marL="2484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أهدافها مشترك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وفّران أدوات للمساءَ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تحقَّق تدريجياً</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لديهما مبادئ توجيهية متماث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مساواة في النوع الاجتماعي جزء لا يتجزأ من حقوق الإنسان والأهداف الإنمائية للألفية</a:t>
            </a:r>
            <a:endParaRPr b="0" lang="en-US" sz="2000" spc="-1" strike="noStrike">
              <a:solidFill>
                <a:srgbClr val="000000"/>
              </a:solidFill>
              <a:latin typeface="Times New Roman"/>
            </a:endParaRPr>
          </a:p>
        </p:txBody>
      </p:sp>
      <p:sp>
        <p:nvSpPr>
          <p:cNvPr id="96" name="PlaceHolder 3"/>
          <p:cNvSpPr>
            <a:spLocks noGrp="1"/>
          </p:cNvSpPr>
          <p:nvPr>
            <p:ph/>
          </p:nvPr>
        </p:nvSpPr>
        <p:spPr>
          <a:xfrm>
            <a:off x="250560" y="2349360"/>
            <a:ext cx="5040360" cy="3456000"/>
          </a:xfrm>
          <a:prstGeom prst="rect">
            <a:avLst/>
          </a:prstGeom>
          <a:solidFill>
            <a:srgbClr val="ffffff"/>
          </a:solidFill>
          <a:ln w="0">
            <a:noFill/>
          </a:ln>
        </p:spPr>
        <p:txBody>
          <a:bodyPr lIns="90000" rIns="90000" tIns="46800" bIns="46800" anchor="t">
            <a:normAutofit fontScale="91000"/>
          </a:bodyPr>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مُتَمِّمات البرمجة:</a:t>
            </a:r>
            <a:endParaRPr b="0" lang="en-US" sz="24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حدَّدُ لكل هدف من الأهداف الإنمائية للألفية حقوقُ الإنسان المترابطة معه، والخطوات الواجب اتخاذها لإحقاق تلك الحقوق ضمن السياق القومي/الوطني.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معايير حقوق الإنسان تضيف عنصر الجودة إلى الغايات الرَّقمية ل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ضيف عنصر الجودة إلى عملية تحقيق ا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ساعد على تقليل التفاوتات في التنمية البشرية.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280" y="274320"/>
            <a:ext cx="7272360" cy="1282680"/>
          </a:xfrm>
          <a:prstGeom prst="rect">
            <a:avLst/>
          </a:prstGeom>
          <a:solidFill>
            <a:srgbClr val="ffffff"/>
          </a:solidFill>
          <a:ln w="0">
            <a:noFill/>
          </a:ln>
          <a:effectLst>
            <a:outerShdw dist="40186" dir="1096358"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زامات وكالات الأمم المتحدة والالتزامات المشتركة بين وكالات الأمم المتحدة تجاه حقوق الإنسان</a:t>
            </a:r>
            <a:endParaRPr b="0" lang="en-US" sz="3200" spc="-1" strike="noStrike">
              <a:solidFill>
                <a:srgbClr val="000000"/>
              </a:solidFill>
              <a:latin typeface="Arial"/>
            </a:endParaRPr>
          </a:p>
        </p:txBody>
      </p:sp>
      <p:sp>
        <p:nvSpPr>
          <p:cNvPr id="98" name="PlaceHolder 2"/>
          <p:cNvSpPr>
            <a:spLocks noGrp="1"/>
          </p:cNvSpPr>
          <p:nvPr>
            <p:ph/>
          </p:nvPr>
        </p:nvSpPr>
        <p:spPr>
          <a:xfrm>
            <a:off x="826920" y="1844640"/>
            <a:ext cx="7632720" cy="460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تزامات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أُدمجت حقوق الإنسان ضمن تفويضات/ولايات وسياسات وكالات الأمم المتحدة، وصناديقها وبرامجها ووكالاتها المتخصصة. </a:t>
            </a:r>
            <a:endParaRPr b="0" lang="en-US" sz="1800" spc="-1" strike="noStrike">
              <a:solidFill>
                <a:srgbClr val="000000"/>
              </a:solidFill>
              <a:latin typeface="Times New Roman"/>
            </a:endParaRPr>
          </a:p>
          <a:p>
            <a:pPr marL="318960" indent="0" algn="just" rtl="1">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التزامات المشتركة بين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فهم الأمم المتحدة المشترك لنهج التنمية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خطة العمل الخاصة ”بالإجراء الثاني“ (مجموعة الأمم المتحدة الإنمائية، اللجنة التنفيذية للشؤون الإنسانية، مكتب المفوض السامي ل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زدياد عدد فرق الأمم المتحدة القطرية التي تبنَّت النهج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لمبادئ التوجيهية المعدَّلة للتقييم القطري المشترك/إطار عمل الأمم المتحدة للمساعدات الإنمائية. </a:t>
            </a:r>
            <a:endParaRPr b="0" lang="en-US" sz="1800" spc="-1" strike="noStrike">
              <a:solidFill>
                <a:srgbClr val="000000"/>
              </a:solidFill>
              <a:latin typeface="Times New Roman"/>
            </a:endParaRPr>
          </a:p>
          <a:p>
            <a:pPr marL="318960" indent="0" algn="just" rtl="1">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5280" y="274320"/>
            <a:ext cx="6851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استنتاجات</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قيمة المعيار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بيئة السياس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وابط الجوهرية/الموضوعية</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دود (أو ”الاستجابات“) المؤسسية</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00280"/>
            <a:ext cx="8353440" cy="151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3600" spc="-1" strike="noStrike">
                <a:solidFill>
                  <a:srgbClr val="000000"/>
                </a:solidFill>
                <a:latin typeface="Arial"/>
                <a:cs typeface="Arial"/>
              </a:rPr>
              <a:t>الأنظمة الدولية والإقليمية والوطنية لحقوق الإنسان</a:t>
            </a:r>
            <a:br>
              <a:rPr sz="4000"/>
            </a:br>
            <a:endParaRPr b="0" lang="en-US" sz="3600" spc="-1" strike="noStrike">
              <a:solidFill>
                <a:srgbClr val="000000"/>
              </a:solidFill>
              <a:latin typeface="Arial"/>
            </a:endParaRPr>
          </a:p>
        </p:txBody>
      </p:sp>
      <p:sp>
        <p:nvSpPr>
          <p:cNvPr id="102" name=""/>
          <p:cNvSpPr/>
          <p:nvPr/>
        </p:nvSpPr>
        <p:spPr>
          <a:xfrm>
            <a:off x="2843280" y="4437000"/>
            <a:ext cx="2233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لجلسة الثانية</a:t>
            </a:r>
            <a:endParaRPr b="0" lang="en-US" sz="3200" spc="-1" strike="noStrike">
              <a:solidFill>
                <a:srgbClr val="000000"/>
              </a:solidFill>
              <a:latin typeface="Arial"/>
            </a:endParaRPr>
          </a:p>
        </p:txBody>
      </p:sp>
      <p:pic>
        <p:nvPicPr>
          <p:cNvPr id="103" name="" descr=""/>
          <p:cNvPicPr/>
          <p:nvPr/>
        </p:nvPicPr>
        <p:blipFill>
          <a:blip r:embed="rId1"/>
          <a:stretch/>
        </p:blipFill>
        <p:spPr>
          <a:xfrm>
            <a:off x="6877080" y="4005360"/>
            <a:ext cx="2309760" cy="2755800"/>
          </a:xfrm>
          <a:prstGeom prst="rect">
            <a:avLst/>
          </a:prstGeom>
          <a:ln w="0">
            <a:noFill/>
          </a:ln>
        </p:spPr>
      </p:pic>
      <p:sp>
        <p:nvSpPr>
          <p:cNvPr id="104" name=""/>
          <p:cNvSpPr/>
          <p:nvPr/>
        </p:nvSpPr>
        <p:spPr>
          <a:xfrm>
            <a:off x="7016760" y="5324400"/>
            <a:ext cx="158436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6600"/>
                </a:solidFill>
                <a:latin typeface="Comic Sans MS"/>
                <a:cs typeface="Simplified Arabic"/>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5" name=""/>
          <p:cNvSpPr/>
          <p:nvPr/>
        </p:nvSpPr>
        <p:spPr>
          <a:xfrm>
            <a:off x="1619280" y="404640"/>
            <a:ext cx="738036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ما هي حقوق الإنسان؟ </a:t>
            </a:r>
            <a:endParaRPr b="0" lang="en-US" sz="3600" spc="-1" strike="noStrike">
              <a:solidFill>
                <a:srgbClr val="000000"/>
              </a:solidFill>
              <a:latin typeface="Arial"/>
            </a:endParaRPr>
          </a:p>
        </p:txBody>
      </p:sp>
      <p:sp>
        <p:nvSpPr>
          <p:cNvPr id="106" name=""/>
          <p:cNvSpPr/>
          <p:nvPr/>
        </p:nvSpPr>
        <p:spPr>
          <a:xfrm>
            <a:off x="324000" y="1989000"/>
            <a:ext cx="8208720" cy="446436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Simplified Arabic"/>
              </a:rPr>
              <a:t>... هي ضمانات قانونية عالمية. </a:t>
            </a:r>
            <a:br>
              <a:rPr sz="2400"/>
            </a:br>
            <a:r>
              <a:rPr b="0" lang="ar-JO" sz="2400" spc="-1" strike="noStrike">
                <a:solidFill>
                  <a:srgbClr val="000000"/>
                </a:solidFill>
                <a:latin typeface="Arial"/>
                <a:ea typeface="Simplified Arabic"/>
              </a:rPr>
              <a:t>... هي حقوق مدنية وسياسية واقتصادية واجتماعية وثقافية. </a:t>
            </a:r>
            <a:br>
              <a:rPr sz="2400"/>
            </a:br>
            <a:r>
              <a:rPr b="0" lang="ar-JO" sz="2400" spc="-1" strike="noStrike">
                <a:solidFill>
                  <a:srgbClr val="000000"/>
                </a:solidFill>
                <a:latin typeface="Arial"/>
                <a:ea typeface="Simplified Arabic"/>
              </a:rPr>
              <a:t>... هي حقوق تحمي القيم الإنسانية (الحرية والمساواة والكرامة). </a:t>
            </a:r>
            <a:br>
              <a:rPr sz="2400"/>
            </a:br>
            <a:r>
              <a:rPr b="0" lang="ar-JO" sz="2400" spc="-1" strike="noStrike">
                <a:solidFill>
                  <a:srgbClr val="000000"/>
                </a:solidFill>
                <a:latin typeface="Arial"/>
                <a:ea typeface="Simplified Arabic"/>
              </a:rPr>
              <a:t>... هي حقوق أصيلة وملازمة للأفراد - وإلى حد ما - للجماعات. </a:t>
            </a:r>
            <a:br>
              <a:rPr sz="2400"/>
            </a:br>
            <a:r>
              <a:rPr b="0" lang="ar-JO" sz="2400" spc="-1" strike="noStrike">
                <a:solidFill>
                  <a:srgbClr val="000000"/>
                </a:solidFill>
                <a:latin typeface="Arial"/>
                <a:ea typeface="Simplified Arabic"/>
              </a:rPr>
              <a:t>... هي حقوق موضَّحة في الأعراف والمعايير الدولية. </a:t>
            </a:r>
            <a:br>
              <a:rPr sz="2400"/>
            </a:br>
            <a:r>
              <a:rPr b="0" lang="ar-JO" sz="2400" spc="-1" strike="noStrike">
                <a:solidFill>
                  <a:srgbClr val="000000"/>
                </a:solidFill>
                <a:latin typeface="Arial"/>
                <a:ea typeface="Simplified Arabic"/>
              </a:rPr>
              <a:t>... هي حقوق مُلزمة قانونياً للدو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7" name=""/>
          <p:cNvSpPr/>
          <p:nvPr/>
        </p:nvSpPr>
        <p:spPr>
          <a:xfrm>
            <a:off x="1763640" y="404640"/>
            <a:ext cx="6553440" cy="6426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9900"/>
                </a:solidFill>
                <a:latin typeface="Arial"/>
                <a:cs typeface="Arial"/>
              </a:rPr>
              <a:t>التزامات حقوق الإنسان</a:t>
            </a:r>
            <a:endParaRPr b="0" lang="en-US" sz="3600" spc="-1" strike="noStrike">
              <a:solidFill>
                <a:srgbClr val="000000"/>
              </a:solidFill>
              <a:latin typeface="Arial"/>
            </a:endParaRPr>
          </a:p>
        </p:txBody>
      </p:sp>
      <p:sp>
        <p:nvSpPr>
          <p:cNvPr id="108" name=""/>
          <p:cNvSpPr/>
          <p:nvPr/>
        </p:nvSpPr>
        <p:spPr>
          <a:xfrm>
            <a:off x="1979640" y="1268280"/>
            <a:ext cx="52563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التزام القائمين بالواجبات:</a:t>
            </a:r>
            <a:endParaRPr b="0" lang="en-US" sz="2800" spc="-1" strike="noStrike">
              <a:solidFill>
                <a:srgbClr val="000000"/>
              </a:solidFill>
              <a:latin typeface="Arial"/>
            </a:endParaRPr>
          </a:p>
        </p:txBody>
      </p:sp>
      <p:sp>
        <p:nvSpPr>
          <p:cNvPr id="109" name=""/>
          <p:cNvSpPr/>
          <p:nvPr/>
        </p:nvSpPr>
        <p:spPr>
          <a:xfrm>
            <a:off x="4211640" y="206064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125892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4140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948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1128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إحقاق الحقوق</a:t>
            </a:r>
            <a:endParaRPr b="0" lang="en-US" sz="2800" spc="-1" strike="noStrike">
              <a:solidFill>
                <a:srgbClr val="000000"/>
              </a:solidFill>
              <a:latin typeface="Arial"/>
            </a:endParaRPr>
          </a:p>
        </p:txBody>
      </p:sp>
      <p:sp>
        <p:nvSpPr>
          <p:cNvPr id="114" name=""/>
          <p:cNvSpPr/>
          <p:nvPr/>
        </p:nvSpPr>
        <p:spPr>
          <a:xfrm>
            <a:off x="3419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حماية الحقوق</a:t>
            </a:r>
            <a:endParaRPr b="0" lang="en-US" sz="2800" spc="-1" strike="noStrike">
              <a:solidFill>
                <a:srgbClr val="000000"/>
              </a:solidFill>
              <a:latin typeface="Arial"/>
            </a:endParaRPr>
          </a:p>
        </p:txBody>
      </p:sp>
      <p:sp>
        <p:nvSpPr>
          <p:cNvPr id="115" name=""/>
          <p:cNvSpPr/>
          <p:nvPr/>
        </p:nvSpPr>
        <p:spPr>
          <a:xfrm>
            <a:off x="6227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احترام الحقوق</a:t>
            </a:r>
            <a:endParaRPr b="0" lang="en-US" sz="2800" spc="-1" strike="noStrike">
              <a:solidFill>
                <a:srgbClr val="000000"/>
              </a:solidFill>
              <a:latin typeface="Arial"/>
            </a:endParaRPr>
          </a:p>
        </p:txBody>
      </p:sp>
      <p:sp>
        <p:nvSpPr>
          <p:cNvPr id="116" name=""/>
          <p:cNvSpPr/>
          <p:nvPr/>
        </p:nvSpPr>
        <p:spPr>
          <a:xfrm>
            <a:off x="3419640" y="4724280"/>
            <a:ext cx="230472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نع الآخرين من التدخل في التمتُّع بالحقوق</a:t>
            </a:r>
            <a:endParaRPr b="0" lang="en-US" sz="3200" spc="-1" strike="noStrike">
              <a:solidFill>
                <a:srgbClr val="000000"/>
              </a:solidFill>
              <a:latin typeface="Arial"/>
            </a:endParaRPr>
          </a:p>
        </p:txBody>
      </p:sp>
      <p:sp>
        <p:nvSpPr>
          <p:cNvPr id="117" name=""/>
          <p:cNvSpPr/>
          <p:nvPr/>
        </p:nvSpPr>
        <p:spPr>
          <a:xfrm>
            <a:off x="539640" y="4724280"/>
            <a:ext cx="2303640" cy="22269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تبنِّي تدابير ملائمة تجاه الإحقاق التام للحقوق</a:t>
            </a:r>
            <a:endParaRPr b="0" lang="en-US" sz="2800" spc="-1" strike="noStrike">
              <a:solidFill>
                <a:srgbClr val="000000"/>
              </a:solidFill>
              <a:latin typeface="Arial"/>
            </a:endParaRPr>
          </a:p>
        </p:txBody>
      </p:sp>
      <p:sp>
        <p:nvSpPr>
          <p:cNvPr id="118" name=""/>
          <p:cNvSpPr/>
          <p:nvPr/>
        </p:nvSpPr>
        <p:spPr>
          <a:xfrm>
            <a:off x="6156360" y="4724280"/>
            <a:ext cx="221760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Arial"/>
                <a:cs typeface="Arial"/>
              </a:rPr>
              <a:t>الامتناع عن التدخل في التمتع بالحقو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أنظمة حقوق الإنسان</a:t>
            </a:r>
            <a:endParaRPr b="0" lang="en-US" sz="4400" spc="-1" strike="noStrike">
              <a:solidFill>
                <a:srgbClr val="000000"/>
              </a:solidFill>
              <a:latin typeface="Arial"/>
            </a:endParaRPr>
          </a:p>
        </p:txBody>
      </p:sp>
      <p:sp>
        <p:nvSpPr>
          <p:cNvPr id="120" name=""/>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851280" y="2565360"/>
            <a:ext cx="1871640" cy="11602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يثاق الأمم المتحدة</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علان العالمي لحقوق الإنسان </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فاقية حقوق الإنسان</a:t>
            </a:r>
            <a:endParaRPr b="0" lang="en-US" sz="1200" spc="-1" strike="noStrike">
              <a:solidFill>
                <a:srgbClr val="000000"/>
              </a:solidFill>
              <a:latin typeface="Arial"/>
            </a:endParaRPr>
          </a:p>
        </p:txBody>
      </p:sp>
      <p:sp>
        <p:nvSpPr>
          <p:cNvPr id="123" name=""/>
          <p:cNvSpPr/>
          <p:nvPr/>
        </p:nvSpPr>
        <p:spPr>
          <a:xfrm>
            <a:off x="3059280" y="1125360"/>
            <a:ext cx="1441440" cy="860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مدنية والسياسية</a:t>
            </a:r>
            <a:endParaRPr b="0" lang="en-US" sz="1400" spc="-1" strike="noStrike">
              <a:solidFill>
                <a:srgbClr val="000000"/>
              </a:solidFill>
              <a:latin typeface="Arial"/>
            </a:endParaRPr>
          </a:p>
        </p:txBody>
      </p:sp>
      <p:sp>
        <p:nvSpPr>
          <p:cNvPr id="124" name=""/>
          <p:cNvSpPr/>
          <p:nvPr/>
        </p:nvSpPr>
        <p:spPr>
          <a:xfrm>
            <a:off x="4788000" y="1125360"/>
            <a:ext cx="1439640" cy="124308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اقتصادية والاجتماعية والثقافية</a:t>
            </a:r>
            <a:endParaRPr b="0" lang="en-US" sz="1400" spc="-1" strike="noStrike">
              <a:solidFill>
                <a:srgbClr val="000000"/>
              </a:solidFill>
              <a:latin typeface="Arial"/>
            </a:endParaRPr>
          </a:p>
        </p:txBody>
      </p:sp>
      <p:sp>
        <p:nvSpPr>
          <p:cNvPr id="125" name=""/>
          <p:cNvSpPr/>
          <p:nvPr/>
        </p:nvSpPr>
        <p:spPr>
          <a:xfrm>
            <a:off x="2627280" y="1844640"/>
            <a:ext cx="1366920" cy="824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Arial"/>
                <a:cs typeface="Arial"/>
              </a:rPr>
              <a:t>اتفاقية القضاء على جميع أشكال التمييز العنصري</a:t>
            </a:r>
            <a:endParaRPr b="0" lang="en-US" sz="1200" spc="-1" strike="noStrike">
              <a:solidFill>
                <a:srgbClr val="000000"/>
              </a:solidFill>
              <a:latin typeface="Arial"/>
            </a:endParaRPr>
          </a:p>
        </p:txBody>
      </p:sp>
      <p:sp>
        <p:nvSpPr>
          <p:cNvPr id="126" name=""/>
          <p:cNvSpPr/>
          <p:nvPr/>
        </p:nvSpPr>
        <p:spPr>
          <a:xfrm>
            <a:off x="5653080" y="1844640"/>
            <a:ext cx="1440000" cy="1051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القضاء على جميع أشكال التمييز ضد المرأة</a:t>
            </a:r>
            <a:endParaRPr b="0" lang="en-US" sz="1400" spc="-1" strike="noStrike">
              <a:solidFill>
                <a:srgbClr val="000000"/>
              </a:solidFill>
              <a:latin typeface="Arial"/>
            </a:endParaRPr>
          </a:p>
        </p:txBody>
      </p:sp>
      <p:sp>
        <p:nvSpPr>
          <p:cNvPr id="127" name=""/>
          <p:cNvSpPr/>
          <p:nvPr/>
        </p:nvSpPr>
        <p:spPr>
          <a:xfrm>
            <a:off x="6012000" y="2637000"/>
            <a:ext cx="1584360" cy="8553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Arial"/>
                <a:cs typeface="Arial"/>
              </a:rPr>
              <a:t>اتفاقية مناهضة التعذيب (وغيره من ضروب المعاملة أو العقوبة القاسية أو اللاإنسانية أو المُهينة)</a:t>
            </a:r>
            <a:endParaRPr b="0" lang="en-US" sz="1000" spc="-1" strike="noStrike">
              <a:solidFill>
                <a:srgbClr val="000000"/>
              </a:solidFill>
              <a:latin typeface="Arial"/>
            </a:endParaRPr>
          </a:p>
        </p:txBody>
      </p:sp>
      <p:sp>
        <p:nvSpPr>
          <p:cNvPr id="128" name=""/>
          <p:cNvSpPr/>
          <p:nvPr/>
        </p:nvSpPr>
        <p:spPr>
          <a:xfrm>
            <a:off x="2195640" y="2637000"/>
            <a:ext cx="1079280" cy="988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حقوق الطفل</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9" name=""/>
          <p:cNvGrpSpPr/>
          <p:nvPr/>
        </p:nvGrpSpPr>
        <p:grpSpPr>
          <a:xfrm>
            <a:off x="2997720" y="3718080"/>
            <a:ext cx="3508560" cy="3042360"/>
            <a:chOff x="2997720" y="3718080"/>
            <a:chExt cx="3508560" cy="3042360"/>
          </a:xfrm>
        </p:grpSpPr>
        <p:sp>
          <p:nvSpPr>
            <p:cNvPr id="130" name="_s59495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59495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أنظمة </a:t>
              </a:r>
              <a:endParaRPr b="0" lang="en-US" sz="32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وطنية للحماية</a:t>
              </a:r>
              <a:endParaRPr b="0" lang="en-US" sz="3200" spc="-1" strike="noStrike">
                <a:solidFill>
                  <a:srgbClr val="000000"/>
                </a:solidFill>
                <a:latin typeface="Arial"/>
              </a:endParaRPr>
            </a:p>
          </p:txBody>
        </p:sp>
      </p:grpSp>
      <p:sp>
        <p:nvSpPr>
          <p:cNvPr id="132" name=""/>
          <p:cNvSpPr/>
          <p:nvPr/>
        </p:nvSpPr>
        <p:spPr>
          <a:xfrm>
            <a:off x="6012000" y="3429000"/>
            <a:ext cx="2520720" cy="8607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اتفاقية الدولية لحماية حقوق جميع العمال المهاجرين وأفراد أسرهم</a:t>
            </a:r>
            <a:endParaRPr b="0" lang="en-US" sz="1400" spc="-1" strike="noStrike">
              <a:solidFill>
                <a:srgbClr val="000000"/>
              </a:solidFill>
              <a:latin typeface="Arial"/>
            </a:endParaRPr>
          </a:p>
        </p:txBody>
      </p:sp>
      <p:sp>
        <p:nvSpPr>
          <p:cNvPr id="133" name=""/>
          <p:cNvSpPr/>
          <p:nvPr/>
        </p:nvSpPr>
        <p:spPr>
          <a:xfrm>
            <a:off x="1619280" y="3429000"/>
            <a:ext cx="2303280" cy="898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أدوات الدولية الأخرى</a:t>
            </a:r>
            <a:endParaRPr b="0" lang="en-US" sz="2400" spc="-1" strike="noStrike">
              <a:solidFill>
                <a:srgbClr val="000000"/>
              </a:solidFill>
              <a:latin typeface="Arial"/>
            </a:endParaRPr>
          </a:p>
        </p:txBody>
      </p:sp>
      <p:sp>
        <p:nvSpPr>
          <p:cNvPr id="134" name=""/>
          <p:cNvSpPr/>
          <p:nvPr/>
        </p:nvSpPr>
        <p:spPr>
          <a:xfrm>
            <a:off x="5508720" y="4149720"/>
            <a:ext cx="2735280" cy="730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rtl="1">
              <a:lnSpc>
                <a:spcPct val="1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Arial"/>
                <a:cs typeface="Arial"/>
              </a:rPr>
              <a:t>الأنظمة الإقليم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8"/>
                                        </p:tgtEl>
                                        <p:attrNameLst>
                                          <p:attrName>style.visibility</p:attrName>
                                        </p:attrNameLst>
                                      </p:cBhvr>
                                      <p:to>
                                        <p:strVal val="visible"/>
                                      </p:to>
                                    </p:set>
                                    <p:animEffect filter="box(in)" transition="in">
                                      <p:cBhvr additive="repl">
                                        <p:cTn id="23" dur="500"/>
                                        <p:tgtEl>
                                          <p:spTgt spid="128"/>
                                        </p:tgtEl>
                                      </p:cBhvr>
                                    </p:animEffect>
                                  </p:childTnLst>
                                </p:cTn>
                              </p:par>
                              <p:par>
                                <p:cTn id="24" nodeType="withEffect" fill="hold" presetClass="entr" presetID="4" presetSubtype="16">
                                  <p:stCondLst>
                                    <p:cond delay="0"/>
                                  </p:stCondLst>
                                  <p:childTnLst>
                                    <p:set>
                                      <p:cBhvr>
                                        <p:cTn id="25" dur="1" fill="hold">
                                          <p:stCondLst>
                                            <p:cond delay="0"/>
                                          </p:stCondLst>
                                        </p:cTn>
                                        <p:tgtEl>
                                          <p:spTgt spid="125"/>
                                        </p:tgtEl>
                                        <p:attrNameLst>
                                          <p:attrName>style.visibility</p:attrName>
                                        </p:attrNameLst>
                                      </p:cBhvr>
                                      <p:to>
                                        <p:strVal val="visible"/>
                                      </p:to>
                                    </p:set>
                                    <p:animEffect filter="box(in)" transition="in">
                                      <p:cBhvr additive="repl">
                                        <p:cTn id="26" dur="500"/>
                                        <p:tgtEl>
                                          <p:spTgt spid="125"/>
                                        </p:tgtEl>
                                      </p:cBhvr>
                                    </p:animEffect>
                                  </p:childTnLst>
                                </p:cTn>
                              </p:par>
                              <p:par>
                                <p:cTn id="27" nodeType="withEffect" fill="hold" presetClass="entr" presetID="4" presetSubtype="16">
                                  <p:stCondLst>
                                    <p:cond delay="0"/>
                                  </p:stCondLst>
                                  <p:childTnLst>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gtEl>
                                        <p:attrNameLst>
                                          <p:attrName>style.visibility</p:attrName>
                                        </p:attrNameLst>
                                      </p:cBhvr>
                                      <p:to>
                                        <p:strVal val="visible"/>
                                      </p:to>
                                    </p:set>
                                    <p:animEffect filter="box(in)" transition="in">
                                      <p:cBhvr additive="repl">
                                        <p:cTn id="32" dur="500"/>
                                        <p:tgtEl>
                                          <p:spTgt spid="124"/>
                                        </p:tgtEl>
                                      </p:cBhvr>
                                    </p:animEffect>
                                  </p:childTnLst>
                                </p:cTn>
                              </p:par>
                              <p:par>
                                <p:cTn id="33" nodeType="withEffect" fill="hold" presetClass="entr" presetID="4" presetSubtype="16">
                                  <p:stCondLst>
                                    <p:cond delay="0"/>
                                  </p:stCondLst>
                                  <p:childTnLst>
                                    <p:set>
                                      <p:cBhvr>
                                        <p:cTn id="34" dur="1" fill="hold">
                                          <p:stCondLst>
                                            <p:cond delay="0"/>
                                          </p:stCondLst>
                                        </p:cTn>
                                        <p:tgtEl>
                                          <p:spTgt spid="126"/>
                                        </p:tgtEl>
                                        <p:attrNameLst>
                                          <p:attrName>style.visibility</p:attrName>
                                        </p:attrNameLst>
                                      </p:cBhvr>
                                      <p:to>
                                        <p:strVal val="visible"/>
                                      </p:to>
                                    </p:set>
                                    <p:animEffect filter="box(in)" transition="in">
                                      <p:cBhvr additive="repl">
                                        <p:cTn id="35" dur="500"/>
                                        <p:tgtEl>
                                          <p:spTgt spid="126"/>
                                        </p:tgtEl>
                                      </p:cBhvr>
                                    </p:animEffect>
                                  </p:childTnLst>
                                </p:cTn>
                              </p:par>
                              <p:par>
                                <p:cTn id="36" nodeType="withEffect" fill="hold" presetClass="entr" presetID="4"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box(in)" transition="in">
                                      <p:cBhvr additive="repl">
                                        <p:cTn id="38" dur="500"/>
                                        <p:tgtEl>
                                          <p:spTgt spid="127"/>
                                        </p:tgtEl>
                                      </p:cBhvr>
                                    </p:animEffect>
                                  </p:childTnLst>
                                </p:cTn>
                              </p:par>
                              <p:par>
                                <p:cTn id="39" nodeType="withEffect" fill="hold" presetClass="entr" presetID="4" presetSubtype="16">
                                  <p:stCondLst>
                                    <p:cond delay="0"/>
                                  </p:stCondLst>
                                  <p:childTnLst>
                                    <p:set>
                                      <p:cBhvr>
                                        <p:cTn id="40" dur="1" fill="hold">
                                          <p:stCondLst>
                                            <p:cond delay="0"/>
                                          </p:stCondLst>
                                        </p:cTn>
                                        <p:tgtEl>
                                          <p:spTgt spid="132"/>
                                        </p:tgtEl>
                                        <p:attrNameLst>
                                          <p:attrName>style.visibility</p:attrName>
                                        </p:attrNameLst>
                                      </p:cBhvr>
                                      <p:to>
                                        <p:strVal val="visible"/>
                                      </p:to>
                                    </p:set>
                                    <p:animEffect filter="box(in)" transition="in">
                                      <p:cBhvr additive="repl">
                                        <p:cTn id="41" dur="500"/>
                                        <p:tgtEl>
                                          <p:spTgt spid="13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33"/>
                                        </p:tgtEl>
                                        <p:attrNameLst>
                                          <p:attrName>style.visibility</p:attrName>
                                        </p:attrNameLst>
                                      </p:cBhvr>
                                      <p:to>
                                        <p:strVal val="visible"/>
                                      </p:to>
                                    </p:set>
                                    <p:animEffect filter="box(in)"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43280" y="1915920"/>
            <a:ext cx="4034160" cy="4392360"/>
          </a:xfrm>
          <a:prstGeom prst="rect">
            <a:avLst/>
          </a:prstGeom>
          <a:solidFill>
            <a:srgbClr val="ffffff"/>
          </a:solidFill>
          <a:ln w="0">
            <a:noFill/>
          </a:ln>
        </p:spPr>
        <p:txBody>
          <a:bodyPr lIns="90000" rIns="90000" tIns="46800" bIns="46800" anchor="t">
            <a:normAutofit fontScale="87000"/>
          </a:bodyPr>
          <a:p>
            <a:pPr marL="2984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قوق الواردة في جميع المعاهدات  الدولية لحقوق الإنسان.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دابير شاملة للقضاء على التمييز ضد المرأة في جميع مجالات حياتها.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أكثرُ من </a:t>
            </a:r>
            <a:r>
              <a:rPr b="0" lang="ar-JO" sz="2400" spc="-1" strike="noStrike">
                <a:solidFill>
                  <a:srgbClr val="000000"/>
                </a:solidFill>
                <a:latin typeface="Times New Roman"/>
                <a:ea typeface="Simplified Arabic"/>
              </a:rPr>
              <a:t>90</a:t>
            </a:r>
            <a:r>
              <a:rPr b="0" lang="ar-JO" sz="2400" spc="-1" strike="noStrike">
                <a:solidFill>
                  <a:srgbClr val="000000"/>
                </a:solidFill>
                <a:latin typeface="Times New Roman"/>
                <a:ea typeface="Simplified Arabic"/>
              </a:rPr>
              <a:t>% من الدول الأعضاء في الأمم المتحدة هي دولٌ أطرافٌ في اتفاقية القضاء على جميع أشكال التمييز ضد المرأة. </a:t>
            </a:r>
            <a:endParaRPr b="0" lang="en-US" sz="2400" spc="-1" strike="noStrike">
              <a:solidFill>
                <a:srgbClr val="000000"/>
              </a:solidFill>
              <a:latin typeface="Times New Roman"/>
            </a:endParaRPr>
          </a:p>
        </p:txBody>
      </p:sp>
      <p:sp>
        <p:nvSpPr>
          <p:cNvPr id="136" name="PlaceHolder 2"/>
          <p:cNvSpPr>
            <a:spLocks noGrp="1"/>
          </p:cNvSpPr>
          <p:nvPr>
            <p:ph/>
          </p:nvPr>
        </p:nvSpPr>
        <p:spPr>
          <a:xfrm>
            <a:off x="395280" y="2349000"/>
            <a:ext cx="4038480" cy="3816360"/>
          </a:xfrm>
          <a:prstGeom prst="rect">
            <a:avLst/>
          </a:prstGeom>
          <a:solidFill>
            <a:srgbClr val="ffffff"/>
          </a:solidFill>
          <a:ln w="0">
            <a:noFill/>
          </a:ln>
        </p:spPr>
        <p:txBody>
          <a:bodyPr lIns="90000" rIns="90000" tIns="46800" bIns="46800" anchor="t">
            <a:normAutofit/>
          </a:bodyPr>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المعايير موجودة في:</a:t>
            </a:r>
            <a:endParaRPr b="0" lang="en-US" sz="2000" spc="-1" strike="noStrike">
              <a:solidFill>
                <a:srgbClr val="000000"/>
              </a:solidFill>
              <a:latin typeface="Times New Roman"/>
            </a:endParaRPr>
          </a:p>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تفاقية القضاء على جميع أشكال التمييز ضد المرأ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يثاق الدولي للحقوق المدنية والسياسية والميثاق الدولي للحقوق الاقتصادية والاجتماعية والثقافي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دولية الأخرى، مثل اتفاقية حقوق الطفل.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إقليمية، مثل بروتوكول الميثاق الإفريقي لحقوق المرأة.</a:t>
            </a:r>
            <a:endParaRPr b="0" lang="en-US" sz="1800" spc="-1" strike="noStrike">
              <a:solidFill>
                <a:srgbClr val="000000"/>
              </a:solidFill>
              <a:latin typeface="Times New Roman"/>
            </a:endParaRPr>
          </a:p>
          <a:p>
            <a:pPr marL="34308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4000" spc="-1" strike="noStrike">
                <a:solidFill>
                  <a:srgbClr val="000000"/>
                </a:solidFill>
                <a:latin typeface="Arial"/>
                <a:cs typeface="Arial"/>
              </a:rPr>
              <a:t>الحقوق الإنسانية للمرأ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76280"/>
            <a:ext cx="7524720" cy="719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ea typeface="Arial"/>
              </a:rPr>
              <a:t>   القانون الإنساني الدولي...</a:t>
            </a:r>
            <a:endParaRPr b="0" lang="en-US" sz="4000" spc="-1" strike="noStrike">
              <a:solidFill>
                <a:srgbClr val="000000"/>
              </a:solidFill>
              <a:latin typeface="Arial"/>
            </a:endParaRPr>
          </a:p>
        </p:txBody>
      </p:sp>
      <p:sp>
        <p:nvSpPr>
          <p:cNvPr id="139" name=""/>
          <p:cNvSpPr/>
          <p:nvPr/>
        </p:nvSpPr>
        <p:spPr>
          <a:xfrm>
            <a:off x="468360" y="1771560"/>
            <a:ext cx="4390920" cy="4610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2858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تفاقيات </a:t>
            </a:r>
            <a:r>
              <a:rPr b="1" lang="ar-JO" sz="2400" spc="-1" strike="noStrike">
                <a:solidFill>
                  <a:srgbClr val="000000"/>
                </a:solidFill>
                <a:latin typeface="Arial"/>
                <a:cs typeface="Arial"/>
              </a:rPr>
              <a:t>جنيڤ</a:t>
            </a:r>
            <a:r>
              <a:rPr b="1" lang="ar-JO" sz="2400" spc="-1" strike="noStrike">
                <a:solidFill>
                  <a:srgbClr val="000000"/>
                </a:solidFill>
                <a:latin typeface="Arial"/>
                <a:ea typeface="Simplified Arabic"/>
              </a:rPr>
              <a:t> الأربع</a:t>
            </a:r>
            <a:endParaRPr b="0" lang="en-US" sz="2400" spc="-1" strike="noStrike">
              <a:solidFill>
                <a:srgbClr val="000000"/>
              </a:solidFill>
              <a:latin typeface="Arial"/>
            </a:endParaRPr>
          </a:p>
          <a:p>
            <a:pPr marL="343080" indent="-2858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 </a:t>
            </a:r>
            <a:r>
              <a:rPr b="0" lang="ar-JO" sz="2400" spc="-1" strike="noStrike">
                <a:solidFill>
                  <a:srgbClr val="000000"/>
                </a:solidFill>
                <a:latin typeface="Arial"/>
                <a:cs typeface="Simplified Arabic"/>
              </a:rPr>
              <a:t>الأولى لتحسين حال الجرحى والمرضى بالقوات المسلحة في الميدان. </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نية لتحسين حال جرحى ومرضى وغرقى القوات المسلحة (في البحر).</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لثة بشأن معاملة سجناء الحرب.</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رابعة بشأن حماية الأشخاص المدنيين في وقت الحرب. </a:t>
            </a:r>
            <a:endParaRPr b="0" lang="en-US" sz="2400" spc="-1" strike="noStrike">
              <a:solidFill>
                <a:srgbClr val="000000"/>
              </a:solidFill>
              <a:latin typeface="Arial"/>
            </a:endParaRPr>
          </a:p>
        </p:txBody>
      </p:sp>
      <p:sp>
        <p:nvSpPr>
          <p:cNvPr id="140" name=""/>
          <p:cNvSpPr/>
          <p:nvPr/>
        </p:nvSpPr>
        <p:spPr>
          <a:xfrm>
            <a:off x="5003640" y="1989000"/>
            <a:ext cx="3816360" cy="4319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هو عبارة عن مجموعة من القواعد التي تسعى </a:t>
            </a:r>
            <a:r>
              <a:rPr b="1" i="1" lang="ar-JO" sz="2400" spc="-1" strike="noStrike">
                <a:solidFill>
                  <a:srgbClr val="000000"/>
                </a:solidFill>
                <a:latin typeface="Arial"/>
                <a:cs typeface="Simplified Arabic"/>
              </a:rPr>
              <a:t>إلى الحد من آثار النزاع المسلح. </a:t>
            </a:r>
            <a:endParaRPr b="0" lang="en-US" sz="2400" spc="-1" strike="noStrike">
              <a:solidFill>
                <a:srgbClr val="000000"/>
              </a:solidFill>
              <a:latin typeface="Arial"/>
            </a:endParaRPr>
          </a:p>
          <a:p>
            <a:pPr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حمي الأشخاص الذين لا يشاركون، أو لم يعودوا يشاركون، في الأعمال العدائية.</a:t>
            </a:r>
            <a:endParaRPr b="0" lang="en-US" sz="2400" spc="-1" strike="noStrike">
              <a:solidFill>
                <a:srgbClr val="000000"/>
              </a:solidFill>
              <a:latin typeface="Arial"/>
            </a:endParaRPr>
          </a:p>
          <a:p>
            <a:pPr algn="just" rtl="1">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قيِّد وسائل الحرب وطرق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259920"/>
            <a:ext cx="72723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الأمم المتحدة وحقوق الإنسان</a:t>
            </a:r>
            <a:endParaRPr b="0" lang="en-US" sz="4400" spc="-1" strike="noStrike">
              <a:solidFill>
                <a:srgbClr val="000000"/>
              </a:solidFill>
              <a:latin typeface="Arial"/>
            </a:endParaRPr>
          </a:p>
        </p:txBody>
      </p:sp>
      <p:pic>
        <p:nvPicPr>
          <p:cNvPr id="58" name="" descr=""/>
          <p:cNvPicPr/>
          <p:nvPr/>
        </p:nvPicPr>
        <p:blipFill>
          <a:blip r:embed="rId1"/>
          <a:stretch/>
        </p:blipFill>
        <p:spPr>
          <a:xfrm>
            <a:off x="0" y="1557360"/>
            <a:ext cx="8964720" cy="501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742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95640" y="260280"/>
            <a:ext cx="6121440" cy="936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أنظمة الإقليمية لحقوق الإنسان</a:t>
            </a:r>
            <a:endParaRPr b="0" lang="en-US" sz="4000" spc="-1" strike="noStrike">
              <a:solidFill>
                <a:srgbClr val="000000"/>
              </a:solidFill>
              <a:latin typeface="Arial"/>
            </a:endParaRPr>
          </a:p>
        </p:txBody>
      </p:sp>
      <p:sp>
        <p:nvSpPr>
          <p:cNvPr id="142" name="PlaceHolder 2"/>
          <p:cNvSpPr>
            <a:spLocks noGrp="1"/>
          </p:cNvSpPr>
          <p:nvPr>
            <p:ph/>
          </p:nvPr>
        </p:nvSpPr>
        <p:spPr>
          <a:xfrm>
            <a:off x="4498560" y="1412640"/>
            <a:ext cx="4321080" cy="5040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دوات</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أوروب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وروبية لحماية حقوق الإنسان والحريات الأساس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أمريكيتان:</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مريكية لحقوق الإنسان واتفاقية ”سان خوسيه“ بشأن الحقوق الاقتصادية والاجتماعية والثقاف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إفريقي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إفريقي لحقوق الإنسان والشعوب. </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دول العرب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عربي لحقوق الإنسان.</a:t>
            </a:r>
            <a:endParaRPr b="0" lang="en-US" sz="2000" spc="-1" strike="noStrike">
              <a:solidFill>
                <a:srgbClr val="000000"/>
              </a:solidFill>
              <a:latin typeface="Times New Roman"/>
            </a:endParaRPr>
          </a:p>
        </p:txBody>
      </p:sp>
      <p:sp>
        <p:nvSpPr>
          <p:cNvPr id="143" name="PlaceHolder 3"/>
          <p:cNvSpPr>
            <a:spLocks noGrp="1"/>
          </p:cNvSpPr>
          <p:nvPr>
            <p:ph/>
          </p:nvPr>
        </p:nvSpPr>
        <p:spPr>
          <a:xfrm>
            <a:off x="396720" y="1773360"/>
            <a:ext cx="3888000" cy="4680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marL="57240" indent="0" algn="ct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آليات العمل</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أوروب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الإفريقية لحقوق الإنسان والشعوب.</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إفريقية لحقوق الإنسان والشعو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549360"/>
            <a:ext cx="590580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أنظمة الوطنية لحماية حقوق الإنسان</a:t>
            </a:r>
            <a:endParaRPr b="0" lang="en-US" sz="3600" spc="-1" strike="noStrike">
              <a:solidFill>
                <a:srgbClr val="000000"/>
              </a:solidFill>
              <a:latin typeface="Arial"/>
            </a:endParaRPr>
          </a:p>
        </p:txBody>
      </p:sp>
      <p:sp>
        <p:nvSpPr>
          <p:cNvPr id="145" name=""/>
          <p:cNvSpPr/>
          <p:nvPr/>
        </p:nvSpPr>
        <p:spPr>
          <a:xfrm>
            <a:off x="1547640" y="2492280"/>
            <a:ext cx="619308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gn="just" rtl="1">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أُطر العمل الدستورية والتشريعية.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ؤسسات العاملة (البرلمانات، الحكومات، الجهاز القضائي، الإدارة العامة، مؤسسات حقوق الإنسان).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سياسات والإجراءات والعمليات.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جتمع المدني النابض ب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33156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بين الأنظمة الدولية والإقليمية والوطنية</a:t>
            </a:r>
            <a:endParaRPr b="0" lang="en-US" sz="3600" spc="-1" strike="noStrike">
              <a:solidFill>
                <a:srgbClr val="000000"/>
              </a:solidFill>
              <a:latin typeface="Arial"/>
            </a:endParaRPr>
          </a:p>
        </p:txBody>
      </p:sp>
      <p:sp>
        <p:nvSpPr>
          <p:cNvPr id="147" name="PlaceHolder 2"/>
          <p:cNvSpPr>
            <a:spLocks noGrp="1"/>
          </p:cNvSpPr>
          <p:nvPr>
            <p:ph type="subTitle"/>
          </p:nvPr>
        </p:nvSpPr>
        <p:spPr>
          <a:xfrm>
            <a:off x="323640" y="1413000"/>
            <a:ext cx="8569080" cy="4968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تطلب الأعراف الدولية والإقليمية أن يكون تنفيذ </a:t>
            </a:r>
            <a:r>
              <a:rPr b="1" lang="ar-JO" sz="3000" spc="-1" strike="noStrike">
                <a:solidFill>
                  <a:srgbClr val="000000"/>
                </a:solidFill>
                <a:latin typeface="Arial"/>
                <a:cs typeface="Simplified Arabic"/>
              </a:rPr>
              <a:t>الأنظمة الوطنية</a:t>
            </a:r>
            <a:r>
              <a:rPr b="0" lang="ar-JO" sz="3000" spc="-1" strike="noStrike">
                <a:solidFill>
                  <a:srgbClr val="000000"/>
                </a:solidFill>
                <a:latin typeface="Arial"/>
                <a:ea typeface="Simplified Arabic"/>
              </a:rPr>
              <a:t> فعَّالاً.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جب أن </a:t>
            </a:r>
            <a:r>
              <a:rPr b="1" lang="ar-JO" sz="3000" spc="-1" strike="noStrike">
                <a:solidFill>
                  <a:srgbClr val="000000"/>
                </a:solidFill>
                <a:latin typeface="Arial"/>
                <a:cs typeface="Simplified Arabic"/>
              </a:rPr>
              <a:t>تتوافق</a:t>
            </a:r>
            <a:r>
              <a:rPr b="0" lang="ar-JO" sz="3000" spc="-1" strike="noStrike">
                <a:solidFill>
                  <a:srgbClr val="000000"/>
                </a:solidFill>
                <a:latin typeface="Arial"/>
                <a:ea typeface="Simplified Arabic"/>
              </a:rPr>
              <a:t> الأعراف الوطنية مع المعايير الدولية والإقليم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وفير الحماية القضائية الدولية والإقليمية عندما </a:t>
            </a:r>
            <a:r>
              <a:rPr b="1" lang="ar-JO" sz="3000" spc="-1" strike="noStrike">
                <a:solidFill>
                  <a:srgbClr val="000000"/>
                </a:solidFill>
                <a:latin typeface="Arial"/>
                <a:cs typeface="Simplified Arabic"/>
              </a:rPr>
              <a:t>تُستنفد الحلول الوطن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الحمايتان الدولية والإقليمية </a:t>
            </a:r>
            <a:r>
              <a:rPr b="1" lang="ar-JO" sz="3000" spc="-1" strike="noStrike">
                <a:solidFill>
                  <a:srgbClr val="000000"/>
                </a:solidFill>
                <a:latin typeface="Arial"/>
                <a:cs typeface="Simplified Arabic"/>
              </a:rPr>
              <a:t>تُتَمِّمان</a:t>
            </a:r>
            <a:r>
              <a:rPr b="0" lang="ar-JO" sz="3000" spc="-1" strike="noStrike">
                <a:solidFill>
                  <a:srgbClr val="000000"/>
                </a:solidFill>
                <a:latin typeface="Arial"/>
                <a:ea typeface="Simplified Arabic"/>
              </a:rPr>
              <a:t> بعضهما بعضاً.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7592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آليات العمل الدولية: </a:t>
            </a:r>
            <a:br>
              <a:rPr sz="4000"/>
            </a:br>
            <a:r>
              <a:rPr b="0" lang="ar-JO" sz="3200" spc="-1" strike="noStrike">
                <a:solidFill>
                  <a:srgbClr val="000000"/>
                </a:solidFill>
                <a:latin typeface="Arial"/>
                <a:cs typeface="Simplified Arabic"/>
              </a:rPr>
              <a:t>دور هيئات (مراقبة) المعاهدة</a:t>
            </a:r>
            <a:endParaRPr b="0" lang="en-US" sz="3200" spc="-1" strike="noStrike">
              <a:solidFill>
                <a:srgbClr val="000000"/>
              </a:solidFill>
              <a:latin typeface="Arial"/>
            </a:endParaRPr>
          </a:p>
        </p:txBody>
      </p:sp>
      <p:sp>
        <p:nvSpPr>
          <p:cNvPr id="149" name="PlaceHolder 2"/>
          <p:cNvSpPr>
            <a:spLocks noGrp="1"/>
          </p:cNvSpPr>
          <p:nvPr>
            <p:ph type="subTitle"/>
          </p:nvPr>
        </p:nvSpPr>
        <p:spPr>
          <a:xfrm>
            <a:off x="250560" y="2204640"/>
            <a:ext cx="8426520" cy="403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متابعة وتسهيل </a:t>
            </a:r>
            <a:r>
              <a:rPr b="0" lang="ar-JO" sz="2400" spc="-1" strike="noStrike" u="sng">
                <a:solidFill>
                  <a:srgbClr val="000000"/>
                </a:solidFill>
                <a:uFillTx/>
                <a:latin typeface="Arial"/>
                <a:cs typeface="Simplified Arabic"/>
              </a:rPr>
              <a:t>تنفيذ المعاهدة من خلال: </a:t>
            </a:r>
            <a:endParaRPr b="0" lang="en-US" sz="24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دراسة تقارير الدول الأطراف</a:t>
            </a:r>
            <a:r>
              <a:rPr b="0" lang="ar-JO" sz="2000" spc="-1" strike="noStrike">
                <a:solidFill>
                  <a:srgbClr val="000000"/>
                </a:solidFill>
                <a:latin typeface="Arial"/>
                <a:ea typeface="Simplified Arabic"/>
              </a:rPr>
              <a:t> ومصادر المعلومات الإضافي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ملاحظات والتوصيات</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تعليقات العامة</a:t>
            </a:r>
            <a:r>
              <a:rPr b="0" lang="ar-JO" sz="2000" spc="-1" strike="noStrike">
                <a:solidFill>
                  <a:srgbClr val="000000"/>
                </a:solidFill>
                <a:latin typeface="Arial"/>
                <a:ea typeface="Simplified Arabic"/>
              </a:rPr>
              <a:t> على معايير حقوق الإنسان التي تحتويها المعاهد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دراسة </a:t>
            </a:r>
            <a:r>
              <a:rPr b="1" lang="ar-JO" sz="2000" spc="-1" strike="noStrike">
                <a:solidFill>
                  <a:srgbClr val="000000"/>
                </a:solidFill>
                <a:latin typeface="Arial"/>
                <a:cs typeface="Simplified Arabic"/>
              </a:rPr>
              <a:t>الشكاوى الفرد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استيضاحات السرِّ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50" name=""/>
          <p:cNvSpPr/>
          <p:nvPr/>
        </p:nvSpPr>
        <p:spPr>
          <a:xfrm>
            <a:off x="4140360" y="263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1374120" y="1074240"/>
            <a:ext cx="7477560" cy="5749920"/>
            <a:chOff x="1374120" y="1074240"/>
            <a:chExt cx="7477560" cy="5749920"/>
          </a:xfrm>
        </p:grpSpPr>
        <p:sp>
          <p:nvSpPr>
            <p:cNvPr id="152" name="_s607237"/>
            <p:cNvSpPr/>
            <p:nvPr/>
          </p:nvSpPr>
          <p:spPr>
            <a:xfrm>
              <a:off x="2670480" y="1134720"/>
              <a:ext cx="4885200" cy="3817800"/>
            </a:xfrm>
            <a:custGeom>
              <a:avLst/>
              <a:gdLst>
                <a:gd name="textAreaLeft" fmla="*/ 0 w 4885200"/>
                <a:gd name="textAreaRight" fmla="*/ 4885560 w 4885200"/>
                <a:gd name="textAreaTop" fmla="*/ 0 h 3817800"/>
                <a:gd name="textAreaBottom" fmla="*/ 3818160 h 3817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607238"/>
            <p:cNvSpPr/>
            <p:nvPr/>
          </p:nvSpPr>
          <p:spPr>
            <a:xfrm rot="7200000">
              <a:off x="3872160" y="150660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_s607239"/>
            <p:cNvSpPr/>
            <p:nvPr/>
          </p:nvSpPr>
          <p:spPr>
            <a:xfrm rot="14400000">
              <a:off x="2534400" y="150624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607240"/>
            <p:cNvSpPr/>
            <p:nvPr/>
          </p:nvSpPr>
          <p:spPr>
            <a:xfrm>
              <a:off x="6450120" y="18331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ملاحظات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ختامية</a:t>
              </a:r>
              <a:endParaRPr b="0" lang="en-US" sz="2500" spc="-1" strike="noStrike">
                <a:solidFill>
                  <a:srgbClr val="000000"/>
                </a:solidFill>
                <a:latin typeface="Arial"/>
              </a:endParaRPr>
            </a:p>
          </p:txBody>
        </p:sp>
        <p:sp>
          <p:nvSpPr>
            <p:cNvPr id="156" name="_s607241"/>
            <p:cNvSpPr/>
            <p:nvPr/>
          </p:nvSpPr>
          <p:spPr>
            <a:xfrm>
              <a:off x="4136040" y="4973400"/>
              <a:ext cx="1959480" cy="1531800"/>
            </a:xfrm>
            <a:prstGeom prst="rect">
              <a:avLst/>
            </a:prstGeom>
            <a:solidFill>
              <a:srgbClr val="6699ff"/>
            </a:solidFill>
            <a:ln w="0">
              <a:noFill/>
            </a:ln>
          </p:spPr>
          <p:style>
            <a:lnRef idx="0"/>
            <a:fillRef idx="0"/>
            <a:effectRef idx="0"/>
            <a:fontRef idx="minor"/>
          </p:style>
          <p:txBody>
            <a:bodyPr wrap="none" lIns="0" rIns="0" tIns="0" bIns="0" anchor="ctr">
              <a:noAutofit/>
            </a:bodyPr>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مجتمع المدني</a:t>
              </a:r>
              <a:endParaRPr b="0" lang="en-US" sz="2600" spc="-1" strike="noStrike">
                <a:solidFill>
                  <a:srgbClr val="000000"/>
                </a:solidFill>
                <a:latin typeface="Arial"/>
              </a:endParaRPr>
            </a:p>
          </p:txBody>
        </p:sp>
        <p:sp>
          <p:nvSpPr>
            <p:cNvPr id="157" name="_s607242"/>
            <p:cNvSpPr/>
            <p:nvPr/>
          </p:nvSpPr>
          <p:spPr>
            <a:xfrm>
              <a:off x="1813320" y="18349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دولة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ظل</a:t>
              </a:r>
              <a:endParaRPr b="0" lang="en-US" sz="2500" spc="-1" strike="noStrike">
                <a:solidFill>
                  <a:srgbClr val="000000"/>
                </a:solidFill>
                <a:latin typeface="Arial"/>
              </a:endParaRPr>
            </a:p>
          </p:txBody>
        </p:sp>
      </p:grpSp>
      <p:sp>
        <p:nvSpPr>
          <p:cNvPr id="158" name=""/>
          <p:cNvSpPr/>
          <p:nvPr/>
        </p:nvSpPr>
        <p:spPr>
          <a:xfrm>
            <a:off x="3203640" y="189000"/>
            <a:ext cx="3095640" cy="489960"/>
          </a:xfrm>
          <a:prstGeom prst="rect">
            <a:avLst/>
          </a:prstGeom>
          <a:solidFill>
            <a:srgbClr val="6699ff"/>
          </a:solidFill>
          <a:ln w="0">
            <a:noFill/>
          </a:ln>
        </p:spPr>
        <p:style>
          <a:lnRef idx="0"/>
          <a:fillRef idx="0"/>
          <a:effectRef idx="0"/>
          <a:fontRef idx="minor"/>
        </p:style>
        <p:txBody>
          <a:bodyPr lIns="90000" rIns="90000" tIns="46800" bIns="46800" anchor="t">
            <a:spAutoFit/>
          </a:bodyPr>
          <a:p>
            <a:pPr marL="343080" indent="-343080" algn="ct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Arial"/>
              </a:rPr>
              <a:t>هيئات المعاهدة</a:t>
            </a:r>
            <a:endParaRPr b="0" lang="en-US" sz="2600" spc="-1" strike="noStrike">
              <a:solidFill>
                <a:srgbClr val="000000"/>
              </a:solidFill>
              <a:latin typeface="Arial"/>
            </a:endParaRPr>
          </a:p>
        </p:txBody>
      </p:sp>
      <p:grpSp>
        <p:nvGrpSpPr>
          <p:cNvPr id="159" name=""/>
          <p:cNvGrpSpPr/>
          <p:nvPr/>
        </p:nvGrpSpPr>
        <p:grpSpPr>
          <a:xfrm>
            <a:off x="1793880" y="848880"/>
            <a:ext cx="6278400" cy="4870800"/>
            <a:chOff x="1793880" y="848880"/>
            <a:chExt cx="6278400" cy="4870800"/>
          </a:xfrm>
        </p:grpSpPr>
        <p:sp>
          <p:nvSpPr>
            <p:cNvPr id="160" name="_s607246"/>
            <p:cNvSpPr/>
            <p:nvPr/>
          </p:nvSpPr>
          <p:spPr>
            <a:xfrm flipH="1">
              <a:off x="3418200" y="4219560"/>
              <a:ext cx="760320" cy="37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607247"/>
            <p:cNvSpPr/>
            <p:nvPr/>
          </p:nvSpPr>
          <p:spPr>
            <a:xfrm>
              <a:off x="1793880" y="422136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يدعم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عملية إعداد التقارير</a:t>
              </a:r>
              <a:endParaRPr b="0" lang="en-US" sz="1900" spc="-1" strike="noStrike">
                <a:solidFill>
                  <a:srgbClr val="000000"/>
                </a:solidFill>
                <a:latin typeface="Arial"/>
              </a:endParaRPr>
            </a:p>
          </p:txBody>
        </p:sp>
        <p:sp>
          <p:nvSpPr>
            <p:cNvPr id="162" name="_s607248"/>
            <p:cNvSpPr/>
            <p:nvPr/>
          </p:nvSpPr>
          <p:spPr>
            <a:xfrm>
              <a:off x="5684760" y="4219560"/>
              <a:ext cx="75816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607249"/>
            <p:cNvSpPr/>
            <p:nvPr/>
          </p:nvSpPr>
          <p:spPr>
            <a:xfrm>
              <a:off x="6327000" y="4221360"/>
              <a:ext cx="174528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   يقدّم البرامج التي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دعم تنفيذ الدولة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للمعاهدة</a:t>
              </a:r>
              <a:endParaRPr b="0" lang="en-US" sz="1900" spc="-1" strike="noStrike">
                <a:solidFill>
                  <a:srgbClr val="000000"/>
                </a:solidFill>
                <a:latin typeface="Arial"/>
              </a:endParaRPr>
            </a:p>
          </p:txBody>
        </p:sp>
        <p:sp>
          <p:nvSpPr>
            <p:cNvPr id="164" name="_s607250"/>
            <p:cNvSpPr/>
            <p:nvPr/>
          </p:nvSpPr>
          <p:spPr>
            <a:xfrm flipV="1">
              <a:off x="4931640" y="2345040"/>
              <a:ext cx="0" cy="75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607251"/>
            <p:cNvSpPr/>
            <p:nvPr/>
          </p:nvSpPr>
          <p:spPr>
            <a:xfrm>
              <a:off x="4060440" y="84888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قدِّم مُدخلاتها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آراءَها) الخاصة</a:t>
              </a:r>
              <a:endParaRPr b="0" lang="en-US" sz="1900" spc="-1" strike="noStrike">
                <a:solidFill>
                  <a:srgbClr val="000000"/>
                </a:solidFill>
                <a:latin typeface="Arial"/>
              </a:endParaRPr>
            </a:p>
          </p:txBody>
        </p:sp>
        <p:sp>
          <p:nvSpPr>
            <p:cNvPr id="166" name="_s607252"/>
            <p:cNvSpPr/>
            <p:nvPr/>
          </p:nvSpPr>
          <p:spPr>
            <a:xfrm>
              <a:off x="4060440" y="3097800"/>
              <a:ext cx="1744920" cy="14990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فريق الأمم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المتحدة القُطري</a:t>
              </a:r>
              <a:endParaRPr b="0" lang="en-US" sz="1900" spc="-1" strike="noStrike">
                <a:solidFill>
                  <a:srgbClr val="000000"/>
                </a:solidFill>
                <a:latin typeface="Arial"/>
              </a:endParaRPr>
            </a:p>
          </p:txBody>
        </p:sp>
      </p:grpSp>
      <p:sp>
        <p:nvSpPr>
          <p:cNvPr id="167" name=""/>
          <p:cNvSpPr/>
          <p:nvPr/>
        </p:nvSpPr>
        <p:spPr>
          <a:xfrm>
            <a:off x="3348000" y="3500280"/>
            <a:ext cx="914400" cy="457200"/>
          </a:xfrm>
          <a:prstGeom prst="flowChartManualInpu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1"/>
                                        </p:tgtEl>
                                        <p:attrNameLst>
                                          <p:attrName>style.visibility</p:attrName>
                                        </p:attrNameLst>
                                      </p:cBhvr>
                                      <p:to>
                                        <p:strVal val="visible"/>
                                      </p:to>
                                    </p:set>
                                    <p:animEffect filter="box(in)"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9"/>
                                        </p:tgtEl>
                                        <p:attrNameLst>
                                          <p:attrName>style.visibility</p:attrName>
                                        </p:attrNameLst>
                                      </p:cBhvr>
                                      <p:to>
                                        <p:strVal val="visible"/>
                                      </p:to>
                                    </p:set>
                                    <p:animEffect filter="box(in)" transition="in">
                                      <p:cBhvr additive="repl">
                                        <p:cTn id="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280" y="260280"/>
            <a:ext cx="6983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جلس حقوق الإنسان</a:t>
            </a:r>
            <a:endParaRPr b="0" lang="en-US" sz="4000" spc="-1" strike="noStrike">
              <a:solidFill>
                <a:srgbClr val="000000"/>
              </a:solidFill>
              <a:latin typeface="Arial"/>
            </a:endParaRPr>
          </a:p>
        </p:txBody>
      </p:sp>
      <p:sp>
        <p:nvSpPr>
          <p:cNvPr id="169" name="PlaceHolder 2"/>
          <p:cNvSpPr>
            <a:spLocks noGrp="1"/>
          </p:cNvSpPr>
          <p:nvPr>
            <p:ph type="subTitle"/>
          </p:nvPr>
        </p:nvSpPr>
        <p:spPr>
          <a:xfrm>
            <a:off x="324000" y="1915920"/>
            <a:ext cx="5184720" cy="4537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79848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ما هو عمله؟ </a:t>
            </a:r>
            <a:endParaRPr b="0" lang="en-US" sz="26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عزز الحماية العالمي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صدي للانتهاكات ويمنعها.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طوّر القانون الدولي.</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راجع مدى امتثال الدول الأطراف.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جاوب مع الحالات الطارئ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شكِّل منتدى عالمي للحوار. </a:t>
            </a:r>
            <a:endParaRPr b="0" lang="en-US" sz="2200" spc="-1" strike="noStrike">
              <a:solidFill>
                <a:srgbClr val="000000"/>
              </a:solidFill>
              <a:latin typeface="Times New Roman"/>
            </a:endParaRPr>
          </a:p>
        </p:txBody>
      </p:sp>
      <p:sp>
        <p:nvSpPr>
          <p:cNvPr id="170" name=""/>
          <p:cNvSpPr/>
          <p:nvPr/>
        </p:nvSpPr>
        <p:spPr>
          <a:xfrm>
            <a:off x="6012000" y="1989000"/>
            <a:ext cx="266544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649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Simplified Arabic"/>
              </a:rPr>
              <a:t>ما هو؟</a:t>
            </a:r>
            <a:endParaRPr b="0" lang="en-US" sz="2200" spc="-1" strike="noStrike">
              <a:solidFill>
                <a:srgbClr val="000000"/>
              </a:solidFill>
              <a:latin typeface="Arial"/>
            </a:endParaRPr>
          </a:p>
          <a:p>
            <a:pPr marL="2649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u="sng">
                <a:solidFill>
                  <a:srgbClr val="000000"/>
                </a:solidFill>
                <a:uFillTx/>
                <a:latin typeface="Arial"/>
                <a:cs typeface="Simplified Arabic"/>
              </a:rPr>
              <a:t>هيئة فرعية تابعة للجمعية العامة،</a:t>
            </a:r>
            <a:r>
              <a:rPr b="0" lang="ar-JO" sz="2200" spc="-1" strike="noStrike">
                <a:solidFill>
                  <a:srgbClr val="000000"/>
                </a:solidFill>
                <a:latin typeface="Arial"/>
                <a:ea typeface="Simplified Arabic"/>
              </a:rPr>
              <a:t> تتألف عضويتها من الدول الأعضاء. وهي تحل محل مفوضية الأمم المتحدة لحقوق الإنسا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JO" sz="3600" spc="-1" strike="noStrike">
                <a:solidFill>
                  <a:srgbClr val="000000"/>
                </a:solidFill>
                <a:latin typeface="Arial"/>
                <a:cs typeface="Simplified Arabic"/>
              </a:rPr>
              <a:t>آليات العمل الدولية: الإجراءات الخاصة </a:t>
            </a:r>
            <a:endParaRPr b="0" lang="en-US" sz="3600" spc="-1" strike="noStrike">
              <a:solidFill>
                <a:srgbClr val="000000"/>
              </a:solidFill>
              <a:latin typeface="Arial"/>
            </a:endParaRPr>
          </a:p>
        </p:txBody>
      </p:sp>
      <p:sp>
        <p:nvSpPr>
          <p:cNvPr id="172" name=""/>
          <p:cNvSpPr/>
          <p:nvPr/>
        </p:nvSpPr>
        <p:spPr>
          <a:xfrm>
            <a:off x="5940360" y="1989000"/>
            <a:ext cx="266400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لدول:</a:t>
            </a:r>
            <a:endParaRPr b="0" lang="en-US" sz="2400" spc="-1" strike="noStrike">
              <a:solidFill>
                <a:srgbClr val="000000"/>
              </a:solidFill>
              <a:latin typeface="Arial"/>
            </a:endParaRPr>
          </a:p>
          <a:p>
            <a:pPr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بيلاروسيا (روسيا البيضاء)، بورندي، كمبوديا، كوبا، جمهورية كوريا الديمقراطية الشعبية، جمهورية الكونغو الديمقراطية، هاييتي، ليبيريا، ماينمار، الأراضي الفلسطينية المحتلة، الصومال، السودان، أوزباكستان.</a:t>
            </a:r>
            <a:endParaRPr b="0" lang="en-US" sz="2000" spc="-1" strike="noStrike">
              <a:solidFill>
                <a:srgbClr val="000000"/>
              </a:solidFill>
              <a:latin typeface="Arial"/>
            </a:endParaRPr>
          </a:p>
        </p:txBody>
      </p:sp>
      <p:sp>
        <p:nvSpPr>
          <p:cNvPr id="173" name=""/>
          <p:cNvSpPr/>
          <p:nvPr/>
        </p:nvSpPr>
        <p:spPr>
          <a:xfrm>
            <a:off x="1042920" y="2421000"/>
            <a:ext cx="460872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28</a:t>
            </a:r>
            <a:r>
              <a:rPr b="0" lang="ar-JO" sz="2200" spc="-1" strike="noStrike">
                <a:solidFill>
                  <a:srgbClr val="000000"/>
                </a:solidFill>
                <a:latin typeface="Arial"/>
                <a:ea typeface="Simplified Arabic"/>
              </a:rPr>
              <a:t> </a:t>
            </a:r>
            <a:r>
              <a:rPr b="1" lang="ar-JO" sz="2200" spc="-1" strike="noStrike">
                <a:solidFill>
                  <a:srgbClr val="000000"/>
                </a:solidFill>
                <a:latin typeface="Arial"/>
                <a:cs typeface="Simplified Arabic"/>
              </a:rPr>
              <a:t>محوراً رئيسياً (أو ”قضيةً“)،</a:t>
            </a:r>
            <a:r>
              <a:rPr b="0" lang="ar-JO" sz="2200" spc="-1" strike="noStrike">
                <a:solidFill>
                  <a:srgbClr val="000000"/>
                </a:solidFill>
                <a:latin typeface="Arial"/>
                <a:ea typeface="Simplified Arabic"/>
              </a:rPr>
              <a:t> تشمل ما يلي:</a:t>
            </a:r>
            <a:endParaRPr b="0" lang="en-US" sz="2200" spc="-1" strike="noStrike">
              <a:solidFill>
                <a:srgbClr val="000000"/>
              </a:solidFill>
              <a:latin typeface="Arial"/>
            </a:endParaRPr>
          </a:p>
          <a:p>
            <a:pPr>
              <a:lnSpc>
                <a:spcPct val="1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الحجز العشوائي، بيع الأطفال، الحق في التعليم، الفقر المدقع، الحق في الغذاء، حرية الرأي، حرية اعتناق الدين، النازحون/المشرَّدون داخل بلدانهم، المهاجرون، السكان الأصليون، العنف ضد المرأ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793080" y="1631160"/>
            <a:ext cx="7344720" cy="5519520"/>
            <a:chOff x="793080" y="1631160"/>
            <a:chExt cx="7344720" cy="5519520"/>
          </a:xfrm>
        </p:grpSpPr>
        <p:sp>
          <p:nvSpPr>
            <p:cNvPr id="175" name="_s613380"/>
            <p:cNvSpPr/>
            <p:nvPr/>
          </p:nvSpPr>
          <p:spPr>
            <a:xfrm>
              <a:off x="2022480" y="1771560"/>
              <a:ext cx="4886280" cy="3552840"/>
            </a:xfrm>
            <a:custGeom>
              <a:avLst/>
              <a:gdLst>
                <a:gd name="textAreaLeft" fmla="*/ 0 w 4886280"/>
                <a:gd name="textAreaRight" fmla="*/ 4886640 w 4886280"/>
                <a:gd name="textAreaTop" fmla="*/ 0 h 3552840"/>
                <a:gd name="textAreaBottom" fmla="*/ 3553200 h 355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613381"/>
            <p:cNvSpPr/>
            <p:nvPr/>
          </p:nvSpPr>
          <p:spPr>
            <a:xfrm rot="7200000">
              <a:off x="3357720" y="194832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613382"/>
            <p:cNvSpPr/>
            <p:nvPr/>
          </p:nvSpPr>
          <p:spPr>
            <a:xfrm rot="14400000">
              <a:off x="2019600" y="194796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613383"/>
            <p:cNvSpPr/>
            <p:nvPr/>
          </p:nvSpPr>
          <p:spPr>
            <a:xfrm>
              <a:off x="5802480" y="24224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قديم التقارير إلى لجنة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حقوق الإنسان: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ملاحظات والتوصيات</a:t>
              </a:r>
              <a:endParaRPr b="0" lang="en-US" sz="2300" spc="-1" strike="noStrike">
                <a:solidFill>
                  <a:srgbClr val="000000"/>
                </a:solidFill>
                <a:latin typeface="Arial"/>
              </a:endParaRPr>
            </a:p>
          </p:txBody>
        </p:sp>
        <p:sp>
          <p:nvSpPr>
            <p:cNvPr id="179" name="_s613384"/>
            <p:cNvSpPr/>
            <p:nvPr/>
          </p:nvSpPr>
          <p:spPr>
            <a:xfrm>
              <a:off x="3494160" y="4735440"/>
              <a:ext cx="1958760" cy="1425600"/>
            </a:xfrm>
            <a:prstGeom prst="rect">
              <a:avLst/>
            </a:prstGeom>
            <a:solidFill>
              <a:srgbClr val="6699ff"/>
            </a:solidFill>
            <a:ln w="0">
              <a:noFill/>
            </a:ln>
          </p:spPr>
          <p:style>
            <a:lnRef idx="0"/>
            <a:fillRef idx="0"/>
            <a:effectRef idx="0"/>
            <a:fontRef idx="minor"/>
          </p:style>
          <p:txBody>
            <a:bodyPr wrap="none" lIns="0" rIns="0" tIns="0" bIns="0" anchor="t">
              <a:noAutofit/>
            </a:bodyPr>
            <a:p>
              <a:pPr marL="343080" indent="-343080" algn="ctr" rtl="1">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مجتمع المدني </a:t>
              </a:r>
              <a:endParaRPr b="0" lang="en-US" sz="2600" spc="-1" strike="noStrike">
                <a:solidFill>
                  <a:srgbClr val="000000"/>
                </a:solidFill>
                <a:latin typeface="Arial"/>
              </a:endParaRPr>
            </a:p>
          </p:txBody>
        </p:sp>
        <p:sp>
          <p:nvSpPr>
            <p:cNvPr id="180" name="_s613385"/>
            <p:cNvSpPr/>
            <p:nvPr/>
          </p:nvSpPr>
          <p:spPr>
            <a:xfrm>
              <a:off x="1165320" y="24242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زويد المعلومات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وتقديم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دعوات للزيارات</a:t>
              </a:r>
              <a:endParaRPr b="0" lang="en-US" sz="2300" spc="-1" strike="noStrike">
                <a:solidFill>
                  <a:srgbClr val="000000"/>
                </a:solidFill>
                <a:latin typeface="Arial"/>
              </a:endParaRPr>
            </a:p>
          </p:txBody>
        </p:sp>
      </p:grpSp>
      <p:sp>
        <p:nvSpPr>
          <p:cNvPr id="181" name=""/>
          <p:cNvSpPr/>
          <p:nvPr/>
        </p:nvSpPr>
        <p:spPr>
          <a:xfrm>
            <a:off x="2843280" y="503280"/>
            <a:ext cx="3816360" cy="1197000"/>
          </a:xfrm>
          <a:prstGeom prst="roundRect">
            <a:avLst>
              <a:gd name="adj" fmla="val 16667"/>
            </a:avLst>
          </a:prstGeom>
          <a:solidFill>
            <a:srgbClr val="6699ff"/>
          </a:solidFill>
          <a:ln w="0">
            <a:noFill/>
          </a:ln>
        </p:spPr>
        <p:style>
          <a:lnRef idx="0"/>
          <a:fillRef idx="0"/>
          <a:effectRef idx="0"/>
          <a:fontRef idx="minor"/>
        </p:style>
        <p:txBody>
          <a:bodyPr wrap="none" lIns="90000" rIns="90000" tIns="46800" bIns="46800" anchor="ctr">
            <a:no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c3300"/>
                </a:solidFill>
                <a:latin typeface="Arial"/>
                <a:cs typeface="Simplified Arabic"/>
              </a:rPr>
              <a:t>الإجراءات الخاصة:</a:t>
            </a:r>
            <a:endParaRPr b="0" lang="en-US" sz="20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زيارات الدول، التواصل، البيانات،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دراسات المواضيعية</a:t>
            </a:r>
            <a:endParaRPr b="0" lang="en-US" sz="1800" spc="-1" strike="noStrike">
              <a:solidFill>
                <a:srgbClr val="000000"/>
              </a:solidFill>
              <a:latin typeface="Arial"/>
            </a:endParaRPr>
          </a:p>
        </p:txBody>
      </p:sp>
      <p:grpSp>
        <p:nvGrpSpPr>
          <p:cNvPr id="182" name=""/>
          <p:cNvGrpSpPr/>
          <p:nvPr/>
        </p:nvGrpSpPr>
        <p:grpSpPr>
          <a:xfrm>
            <a:off x="611280" y="1713960"/>
            <a:ext cx="7445160" cy="4754880"/>
            <a:chOff x="611280" y="1713960"/>
            <a:chExt cx="7445160" cy="4754880"/>
          </a:xfrm>
        </p:grpSpPr>
        <p:sp>
          <p:nvSpPr>
            <p:cNvPr id="183" name="_s613389"/>
            <p:cNvSpPr/>
            <p:nvPr/>
          </p:nvSpPr>
          <p:spPr>
            <a:xfrm flipH="1">
              <a:off x="261108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613390"/>
            <p:cNvSpPr/>
            <p:nvPr/>
          </p:nvSpPr>
          <p:spPr>
            <a:xfrm>
              <a:off x="611280" y="3666240"/>
              <a:ext cx="236052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يرفع مستوى الوعي، </a:t>
              </a:r>
              <a:endParaRPr b="0" lang="en-US" sz="2300" spc="-1" strike="noStrike">
                <a:solidFill>
                  <a:srgbClr val="000000"/>
                </a:solidFill>
                <a:latin typeface="Arial"/>
              </a:endParaRPr>
            </a:p>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بالأعمال الطارئة مثلاً</a:t>
              </a:r>
              <a:endParaRPr b="0" lang="en-US" sz="2300" spc="-1" strike="noStrike">
                <a:solidFill>
                  <a:srgbClr val="000000"/>
                </a:solidFill>
                <a:latin typeface="Arial"/>
              </a:endParaRPr>
            </a:p>
          </p:txBody>
        </p:sp>
        <p:sp>
          <p:nvSpPr>
            <p:cNvPr id="185" name="_s613391"/>
            <p:cNvSpPr/>
            <p:nvPr/>
          </p:nvSpPr>
          <p:spPr>
            <a:xfrm>
              <a:off x="4427640" y="4620240"/>
              <a:ext cx="3240" cy="885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613392"/>
            <p:cNvSpPr/>
            <p:nvPr/>
          </p:nvSpPr>
          <p:spPr>
            <a:xfrm>
              <a:off x="3206880" y="5505480"/>
              <a:ext cx="2676240" cy="963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cs typeface="Simplified Arabic"/>
                </a:rPr>
                <a:t>المناصرة والمتابعة</a:t>
              </a:r>
              <a:endParaRPr b="0" lang="en-US" sz="2600" spc="-1" strike="noStrike">
                <a:solidFill>
                  <a:srgbClr val="000000"/>
                </a:solidFill>
                <a:latin typeface="Arial"/>
              </a:endParaRPr>
            </a:p>
          </p:txBody>
        </p:sp>
        <p:sp>
          <p:nvSpPr>
            <p:cNvPr id="187" name="_s613393"/>
            <p:cNvSpPr/>
            <p:nvPr/>
          </p:nvSpPr>
          <p:spPr>
            <a:xfrm>
              <a:off x="533232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613394"/>
            <p:cNvSpPr/>
            <p:nvPr/>
          </p:nvSpPr>
          <p:spPr>
            <a:xfrm>
              <a:off x="6243480" y="3666240"/>
              <a:ext cx="181296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يقدم البرامج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تي تدعم تنفيذ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دولة للمعاهدة</a:t>
              </a:r>
              <a:endParaRPr b="0" lang="en-US" sz="2300" spc="-1" strike="noStrike">
                <a:solidFill>
                  <a:srgbClr val="000000"/>
                </a:solidFill>
                <a:latin typeface="Arial"/>
              </a:endParaRPr>
            </a:p>
          </p:txBody>
        </p:sp>
        <p:sp>
          <p:nvSpPr>
            <p:cNvPr id="189" name="_s613395"/>
            <p:cNvSpPr/>
            <p:nvPr/>
          </p:nvSpPr>
          <p:spPr>
            <a:xfrm flipV="1">
              <a:off x="4427640" y="305244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613396"/>
            <p:cNvSpPr/>
            <p:nvPr/>
          </p:nvSpPr>
          <p:spPr>
            <a:xfrm>
              <a:off x="3522600" y="1713960"/>
              <a:ext cx="1812960" cy="1224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دعم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زيارات الدول</a:t>
              </a:r>
              <a:endParaRPr b="0" lang="en-US" sz="2600" spc="-1" strike="noStrike">
                <a:solidFill>
                  <a:srgbClr val="000000"/>
                </a:solidFill>
                <a:latin typeface="Arial"/>
              </a:endParaRPr>
            </a:p>
          </p:txBody>
        </p:sp>
        <p:sp>
          <p:nvSpPr>
            <p:cNvPr id="191" name="_s613397"/>
            <p:cNvSpPr/>
            <p:nvPr/>
          </p:nvSpPr>
          <p:spPr>
            <a:xfrm>
              <a:off x="3522600" y="3628800"/>
              <a:ext cx="1812960" cy="95688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فريق الأمم </a:t>
              </a:r>
              <a:endParaRPr b="0" lang="en-US" sz="2300" spc="-1" strike="noStrike">
                <a:solidFill>
                  <a:srgbClr val="000000"/>
                </a:solidFill>
                <a:latin typeface="Arial"/>
              </a:endParaRPr>
            </a:p>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متحدة القُطري</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box(in)" transition="in">
                                      <p:cBhvr additive="repl">
                                        <p:cTn id="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500" spc="-1" strike="noStrike">
                <a:solidFill>
                  <a:srgbClr val="000000"/>
                </a:solidFill>
                <a:latin typeface="Arial"/>
                <a:cs typeface="Simplified Arabic"/>
              </a:rPr>
              <a:t>تلخيص: القيمة المفيدة لآليات العمل الدولية في عمل الأمم المتحدة.</a:t>
            </a:r>
            <a:endParaRPr b="0" lang="en-US" sz="3500" spc="-1" strike="noStrike">
              <a:solidFill>
                <a:srgbClr val="000000"/>
              </a:solidFill>
              <a:latin typeface="Arial"/>
            </a:endParaRPr>
          </a:p>
        </p:txBody>
      </p:sp>
      <p:sp>
        <p:nvSpPr>
          <p:cNvPr id="193" name=""/>
          <p:cNvSpPr/>
          <p:nvPr/>
        </p:nvSpPr>
        <p:spPr>
          <a:xfrm>
            <a:off x="6084720" y="2205000"/>
            <a:ext cx="26640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ملاحظات والتوصيات القائمة على الدول</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تعليقات العامة لهيئات المعاهدة العالمية</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دراسات المواضيعية للإجراءات الخاصة</a:t>
            </a:r>
            <a:endParaRPr b="0" lang="en-US" sz="2300" spc="-1" strike="noStrike">
              <a:solidFill>
                <a:srgbClr val="000000"/>
              </a:solidFill>
              <a:latin typeface="Arial"/>
            </a:endParaRPr>
          </a:p>
        </p:txBody>
      </p:sp>
      <p:sp>
        <p:nvSpPr>
          <p:cNvPr id="194" name=""/>
          <p:cNvSpPr/>
          <p:nvPr/>
        </p:nvSpPr>
        <p:spPr>
          <a:xfrm>
            <a:off x="395280" y="1989000"/>
            <a:ext cx="5329080" cy="4104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قييم: </a:t>
            </a:r>
            <a:r>
              <a:rPr b="0" lang="ar-JO" sz="2400" spc="-1" strike="noStrike">
                <a:solidFill>
                  <a:srgbClr val="000000"/>
                </a:solidFill>
                <a:latin typeface="Times New Roman"/>
                <a:cs typeface="Simplified Arabic"/>
              </a:rPr>
              <a:t>تُحدِّد المشكلات الأساسية التي تواجه التنمية وحقوق الإنسان</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حليل: </a:t>
            </a:r>
            <a:r>
              <a:rPr b="0" lang="ar-JO" sz="2400" spc="-1" strike="noStrike">
                <a:solidFill>
                  <a:srgbClr val="000000"/>
                </a:solidFill>
                <a:latin typeface="Times New Roman"/>
                <a:cs typeface="Simplified Arabic"/>
              </a:rPr>
              <a:t>تساعد على فهم الأسباب التحتية والجذرية لمشكلات التنمية</a:t>
            </a:r>
            <a:r>
              <a:rPr b="1" lang="ar-JO"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برمجة: </a:t>
            </a:r>
            <a:r>
              <a:rPr b="0" lang="ar-JO" sz="2400" spc="-1" strike="noStrike">
                <a:solidFill>
                  <a:srgbClr val="000000"/>
                </a:solidFill>
                <a:latin typeface="Times New Roman"/>
                <a:cs typeface="Simplified Arabic"/>
              </a:rPr>
              <a:t>تُحدِّد الأعمال المعيَّنة (التي سيتم تنفيذها)</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مناصرة وكسب التأييد: </a:t>
            </a:r>
            <a:r>
              <a:rPr b="0" lang="ar-JO" sz="2400" spc="-1" strike="noStrike">
                <a:solidFill>
                  <a:srgbClr val="000000"/>
                </a:solidFill>
                <a:latin typeface="Times New Roman"/>
                <a:cs typeface="Simplified Arabic"/>
              </a:rPr>
              <a:t>تجذب الانتباه إلى القضايا الحسَّاسة على المستوى القانوني، ومستوى السياسات والموازنة والممار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sp>
        <p:nvSpPr>
          <p:cNvPr id="196" name="PlaceHolder 2"/>
          <p:cNvSpPr>
            <a:spLocks noGrp="1"/>
          </p:cNvSpPr>
          <p:nvPr>
            <p:ph/>
          </p:nvPr>
        </p:nvSpPr>
        <p:spPr>
          <a:xfrm>
            <a:off x="361800" y="1600200"/>
            <a:ext cx="8686800" cy="4997520"/>
          </a:xfrm>
          <a:prstGeom prst="rect">
            <a:avLst/>
          </a:prstGeom>
          <a:noFill/>
          <a:ln w="0">
            <a:noFill/>
          </a:ln>
        </p:spPr>
        <p:txBody>
          <a:bodyPr lIns="90000" rIns="90000" tIns="46800" bIns="46800" anchor="t">
            <a:normAutofit/>
          </a:bodyPr>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ضع الدولة بالنسبة إلى المصادقة على المعاهد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ما إذا كان تعهُّد الدولة تجاه لجنة حقوق الإنسان موجوداً.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جود الملاحظات الختامية الأخيرة ل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تقديم التقارير الأخيرة للدولة إلى 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إجراء الزيارات الأخيرة للمقرِّرين الخاصّين أو وجود البيانات والمراسلات المتعلقة بالدول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الجدول الزمني للأحداث القادمة والزيارات المعنية بالإجراءات الخاصة للدول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لمحة عن الدولة، إذا توافر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95"/>
                                        </p:tgtEl>
                                        <p:attrNameLst>
                                          <p:attrName>style.visibility</p:attrName>
                                        </p:attrNameLst>
                                      </p:cBhvr>
                                      <p:to>
                                        <p:strVal val="visible"/>
                                      </p:to>
                                    </p:set>
                                    <p:animEffect filter="fade" transition="in">
                                      <p:cBhvr additive="repl">
                                        <p:cTn id="88" dur="2000"/>
                                        <p:tgtEl>
                                          <p:spTgt spid="1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93" dur="2000"/>
                                        <p:tgtEl>
                                          <p:spTgt spid="19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98" dur="2000"/>
                                        <p:tgtEl>
                                          <p:spTgt spid="19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03" dur="2000"/>
                                        <p:tgtEl>
                                          <p:spTgt spid="19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108" dur="2000"/>
                                        <p:tgtEl>
                                          <p:spTgt spid="1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113" dur="2000"/>
                                        <p:tgtEl>
                                          <p:spTgt spid="19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6">
                                            <p:txEl>
                                              <p:pRg st="5" end="5"/>
                                            </p:txEl>
                                          </p:spTgt>
                                        </p:tgtEl>
                                        <p:attrNameLst>
                                          <p:attrName>style.visibility</p:attrName>
                                        </p:attrNameLst>
                                      </p:cBhvr>
                                      <p:to>
                                        <p:strVal val="visible"/>
                                      </p:to>
                                    </p:set>
                                    <p:animEffect filter="fade" transition="in">
                                      <p:cBhvr additive="repl">
                                        <p:cTn id="118" dur="2000"/>
                                        <p:tgtEl>
                                          <p:spTgt spid="19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96">
                                            <p:txEl>
                                              <p:pRg st="6" end="6"/>
                                            </p:txEl>
                                          </p:spTgt>
                                        </p:tgtEl>
                                        <p:attrNameLst>
                                          <p:attrName>style.visibility</p:attrName>
                                        </p:attrNameLst>
                                      </p:cBhvr>
                                      <p:to>
                                        <p:strVal val="visible"/>
                                      </p:to>
                                    </p:set>
                                    <p:animEffect filter="fade" transition="in">
                                      <p:cBhvr additive="repl">
                                        <p:cTn id="123" dur="20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تمرين جماعي</a:t>
            </a:r>
            <a:endParaRPr b="0" lang="en-US" sz="44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solidFill>
            <a:srgbClr val="ffffff"/>
          </a:solid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ناقش وتعرّف مع أفراد مجموعتك على طاولة المجموعة، السؤال التالي:</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ما هي الاستجابة التي كانت الأمم المتحدة، وما تزال ترَدُّ بها على التوقُّعات المشروعة لأصحاب الحقوق؟</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بطاقتان لكل طاولة</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grpSp>
        <p:nvGrpSpPr>
          <p:cNvPr id="198" name=""/>
          <p:cNvGrpSpPr/>
          <p:nvPr/>
        </p:nvGrpSpPr>
        <p:grpSpPr>
          <a:xfrm>
            <a:off x="-612720" y="1052640"/>
            <a:ext cx="10225080" cy="5327640"/>
            <a:chOff x="-612720" y="1052640"/>
            <a:chExt cx="10225080" cy="5327640"/>
          </a:xfrm>
        </p:grpSpPr>
        <p:sp>
          <p:nvSpPr>
            <p:cNvPr id="199" name="laptop"/>
            <p:cNvSpPr/>
            <p:nvPr/>
          </p:nvSpPr>
          <p:spPr>
            <a:xfrm>
              <a:off x="-612720" y="1052640"/>
              <a:ext cx="10225080" cy="532764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ohchr.org/english/countries</a:t>
              </a:r>
              <a:endParaRPr b="0" lang="en-US" sz="2400" spc="-1" strike="noStrike">
                <a:solidFill>
                  <a:srgbClr val="000000"/>
                </a:solidFill>
                <a:latin typeface="Arial"/>
              </a:endParaRPr>
            </a:p>
          </p:txBody>
        </p:sp>
        <p:grpSp>
          <p:nvGrpSpPr>
            <p:cNvPr id="200" name=""/>
            <p:cNvGrpSpPr/>
            <p:nvPr/>
          </p:nvGrpSpPr>
          <p:grpSpPr>
            <a:xfrm>
              <a:off x="1403280" y="1916280"/>
              <a:ext cx="6265800" cy="2591640"/>
              <a:chOff x="1403280" y="1916280"/>
              <a:chExt cx="6265800" cy="2591640"/>
            </a:xfrm>
          </p:grpSpPr>
          <p:pic>
            <p:nvPicPr>
              <p:cNvPr id="201" name="" descr=""/>
              <p:cNvPicPr/>
              <p:nvPr/>
            </p:nvPicPr>
            <p:blipFill>
              <a:blip r:embed="rId1"/>
              <a:stretch/>
            </p:blipFill>
            <p:spPr>
              <a:xfrm>
                <a:off x="1403280" y="1916280"/>
                <a:ext cx="6265800" cy="2376360"/>
              </a:xfrm>
              <a:prstGeom prst="rect">
                <a:avLst/>
              </a:prstGeom>
              <a:ln w="0">
                <a:noFill/>
              </a:ln>
            </p:spPr>
          </p:pic>
          <p:sp>
            <p:nvSpPr>
              <p:cNvPr id="202" name=""/>
              <p:cNvSpPr/>
              <p:nvPr/>
            </p:nvSpPr>
            <p:spPr>
              <a:xfrm>
                <a:off x="2340000" y="2492280"/>
                <a:ext cx="3024000" cy="348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وروبا وأمريكا الشمالية وآسيا الوسطى</a:t>
                </a:r>
                <a:endParaRPr b="0" lang="en-US" sz="1200" spc="-1" strike="noStrike">
                  <a:solidFill>
                    <a:srgbClr val="000000"/>
                  </a:solidFill>
                  <a:latin typeface="Arial"/>
                </a:endParaRPr>
              </a:p>
            </p:txBody>
          </p:sp>
          <p:sp>
            <p:nvSpPr>
              <p:cNvPr id="203" name=""/>
              <p:cNvSpPr/>
              <p:nvPr/>
            </p:nvSpPr>
            <p:spPr>
              <a:xfrm>
                <a:off x="1547640" y="3429000"/>
                <a:ext cx="1008360" cy="1078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مريكا اللاتينية ودول البحر الكاريبي</a:t>
                </a:r>
                <a:endParaRPr b="0" lang="en-US" sz="1200" spc="-1" strike="noStrike">
                  <a:solidFill>
                    <a:srgbClr val="000000"/>
                  </a:solidFill>
                  <a:latin typeface="Arial"/>
                </a:endParaRPr>
              </a:p>
            </p:txBody>
          </p:sp>
          <p:sp>
            <p:nvSpPr>
              <p:cNvPr id="204" name=""/>
              <p:cNvSpPr/>
              <p:nvPr/>
            </p:nvSpPr>
            <p:spPr>
              <a:xfrm>
                <a:off x="6516720" y="2646360"/>
                <a:ext cx="1008000" cy="750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آسيا والمحيط الهادئ</a:t>
                </a:r>
                <a:endParaRPr b="0" lang="en-US" sz="1200" spc="-1" strike="noStrike">
                  <a:solidFill>
                    <a:srgbClr val="000000"/>
                  </a:solidFill>
                  <a:latin typeface="Arial"/>
                </a:endParaRPr>
              </a:p>
            </p:txBody>
          </p:sp>
          <p:sp>
            <p:nvSpPr>
              <p:cNvPr id="205" name=""/>
              <p:cNvSpPr/>
              <p:nvPr/>
            </p:nvSpPr>
            <p:spPr>
              <a:xfrm>
                <a:off x="3995640" y="335772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إفريقيا</a:t>
                </a:r>
                <a:endParaRPr b="0" lang="en-US" sz="1200" spc="-1" strike="noStrike">
                  <a:solidFill>
                    <a:srgbClr val="000000"/>
                  </a:solidFill>
                  <a:latin typeface="Arial"/>
                </a:endParaRPr>
              </a:p>
            </p:txBody>
          </p:sp>
          <p:sp>
            <p:nvSpPr>
              <p:cNvPr id="206" name=""/>
              <p:cNvSpPr/>
              <p:nvPr/>
            </p:nvSpPr>
            <p:spPr>
              <a:xfrm>
                <a:off x="3995640" y="296856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المنطقة العربية</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773000"/>
            <a:ext cx="813780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نهج القائم على حقوق الإنسان </a:t>
            </a:r>
            <a:br>
              <a:rPr sz="4000"/>
            </a:br>
            <a:r>
              <a:rPr b="1" lang="ar-JO" sz="4000" spc="-1" strike="noStrike">
                <a:solidFill>
                  <a:srgbClr val="ffff00"/>
                </a:solidFill>
                <a:latin typeface="Arial"/>
                <a:cs typeface="Simplified Arabic"/>
              </a:rPr>
              <a:t>في عملية البرمجة</a:t>
            </a:r>
            <a:endParaRPr b="0" lang="en-US" sz="4000" spc="-1" strike="noStrike">
              <a:solidFill>
                <a:srgbClr val="000000"/>
              </a:solidFill>
              <a:latin typeface="Arial"/>
            </a:endParaRPr>
          </a:p>
        </p:txBody>
      </p:sp>
      <p:sp>
        <p:nvSpPr>
          <p:cNvPr id="208" name=""/>
          <p:cNvSpPr/>
          <p:nvPr/>
        </p:nvSpPr>
        <p:spPr>
          <a:xfrm>
            <a:off x="2916360" y="4292640"/>
            <a:ext cx="20872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ثالثة</a:t>
            </a:r>
            <a:endParaRPr b="0" lang="en-US" sz="3200" spc="-1" strike="noStrike">
              <a:solidFill>
                <a:srgbClr val="000000"/>
              </a:solidFill>
              <a:latin typeface="Arial"/>
            </a:endParaRPr>
          </a:p>
        </p:txBody>
      </p:sp>
      <p:pic>
        <p:nvPicPr>
          <p:cNvPr id="209" name="" descr=""/>
          <p:cNvPicPr/>
          <p:nvPr/>
        </p:nvPicPr>
        <p:blipFill>
          <a:blip r:embed="rId1"/>
          <a:stretch/>
        </p:blipFill>
        <p:spPr>
          <a:xfrm>
            <a:off x="6877080" y="4005360"/>
            <a:ext cx="2309760" cy="2755800"/>
          </a:xfrm>
          <a:prstGeom prst="rect">
            <a:avLst/>
          </a:prstGeom>
          <a:ln w="0">
            <a:noFill/>
          </a:ln>
        </p:spPr>
      </p:pic>
      <p:sp>
        <p:nvSpPr>
          <p:cNvPr id="210" name=""/>
          <p:cNvSpPr/>
          <p:nvPr/>
        </p:nvSpPr>
        <p:spPr>
          <a:xfrm>
            <a:off x="7156440" y="5362560"/>
            <a:ext cx="1584360" cy="8125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 </a:t>
            </a:r>
            <a:endParaRPr b="0" lang="en-US" sz="1800" spc="-1" strike="noStrike">
              <a:solidFill>
                <a:srgbClr val="000000"/>
              </a:solidFill>
              <a:latin typeface="Arial"/>
            </a:endParaRPr>
          </a:p>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280" y="1915920"/>
            <a:ext cx="7775640" cy="4608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عمليةُ التنميةُ تستندُ معيارياً على المعايير والمبادئ الدولية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ترفُ النهجُ بالكائنات البشرية كأصحاب حقوق، ويُحدِّد الالتزامات على القائمين بالواجبات.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ركّز على المجموعات المهمَّشة والتي تتعرَّض للتمييز.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سعى إلى الإحقاق التدريجي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طي أهمية متساوية لنتائج التنمية وعمليتها. </a:t>
            </a:r>
            <a:endParaRPr b="0" lang="en-US" sz="3000" spc="-1" strike="noStrike">
              <a:solidFill>
                <a:srgbClr val="000000"/>
              </a:solidFill>
              <a:latin typeface="Times New Roman"/>
            </a:endParaRPr>
          </a:p>
        </p:txBody>
      </p:sp>
      <p:sp>
        <p:nvSpPr>
          <p:cNvPr id="212" name=""/>
          <p:cNvSpPr/>
          <p:nvPr/>
        </p:nvSpPr>
        <p:spPr>
          <a:xfrm>
            <a:off x="1619280" y="333360"/>
            <a:ext cx="7129440" cy="129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ا هو النهج القائم على حقوق الإنسا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1916280"/>
            <a:ext cx="8136000" cy="46814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8000"/>
          </a:bodyPr>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سبب قيمته الجوهرية الواقع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بنية على القيم العالمي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ذات المعايير القانونية العالمية لحياة كريمة.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لأنه مفيدٌ لاستراتيجيات التنم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فهو يعالج انعدام المساواة (اللاَّمساواة) والتمييز في السلطة /الصلاحيات.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تعامل مع نقاط الضعف في أنظمة المساءَل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ضع إطارَ عملٍ موضوعياً لإدارة النزاعات ويسعي إلى تصويب الأوضاع والإنصاف.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سباب المؤسسية (الميزة النسبية للأُم المتحد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عدم الانحياز في التعامل مع القضايا الحسَّاس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تحليل الشمولي والردود التكميلية للمشكلات. </a:t>
            </a:r>
            <a:endParaRPr b="0" lang="en-US" sz="2000" spc="-1" strike="noStrike">
              <a:solidFill>
                <a:srgbClr val="000000"/>
              </a:solidFill>
              <a:latin typeface="Times New Roman"/>
            </a:endParaRPr>
          </a:p>
        </p:txBody>
      </p:sp>
      <p:sp>
        <p:nvSpPr>
          <p:cNvPr id="214" name=""/>
          <p:cNvSpPr/>
          <p:nvPr/>
        </p:nvSpPr>
        <p:spPr>
          <a:xfrm>
            <a:off x="1619280" y="333360"/>
            <a:ext cx="7308720" cy="1152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000000"/>
                </a:solidFill>
                <a:latin typeface="Arial"/>
                <a:cs typeface="Simplified Arabic"/>
              </a:rPr>
              <a:t>ما هي أسباب اعتماد نهج للتنمية </a:t>
            </a:r>
            <a:br>
              <a:rPr sz="3000"/>
            </a:br>
            <a:r>
              <a:rPr b="1" lang="ar-JO" sz="3000" spc="-1" strike="noStrike">
                <a:solidFill>
                  <a:srgbClr val="000000"/>
                </a:solidFill>
                <a:latin typeface="Arial"/>
                <a:cs typeface="Simplified Arabic"/>
              </a:rPr>
              <a:t>قائم على حقوق الإنس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404640"/>
            <a:ext cx="7200720" cy="1224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فهم الأمم المتحدة المشترك للنهج </a:t>
            </a:r>
            <a:br>
              <a:rPr sz="3600"/>
            </a:br>
            <a:r>
              <a:rPr b="0" lang="ar-JO" sz="3600" spc="-1" strike="noStrike">
                <a:solidFill>
                  <a:srgbClr val="000000"/>
                </a:solidFill>
                <a:latin typeface="Arial"/>
                <a:cs typeface="Simplified Arabic"/>
              </a:rPr>
              <a:t>القائم على حقوق الإنسان</a:t>
            </a:r>
            <a:endParaRPr b="0" lang="en-US" sz="3600" spc="-1" strike="noStrike">
              <a:solidFill>
                <a:srgbClr val="000000"/>
              </a:solidFill>
              <a:latin typeface="Arial"/>
            </a:endParaRPr>
          </a:p>
        </p:txBody>
      </p:sp>
      <p:sp>
        <p:nvSpPr>
          <p:cNvPr id="216" name=""/>
          <p:cNvSpPr/>
          <p:nvPr/>
        </p:nvSpPr>
        <p:spPr>
          <a:xfrm>
            <a:off x="324000" y="2060640"/>
            <a:ext cx="7127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تُوَجِّهُ معاييرُ ومبادئُ حقوق الإنسان جميع أوجه التعاون الإنمائي والبرمجة الإنمائية في جميع القطاعات وفي كل مراحل عملية البرمجة.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سهم التعاون الإنمائي في تنمية قدرات القائمين بالواجبات على الوفاء بالتزاماتهم و/أو قدرات أصحاب الحقوق على المطالبة بحقوقهم. </a:t>
            </a:r>
            <a:endParaRPr b="0" lang="en-US" sz="2400" spc="-1" strike="noStrike">
              <a:solidFill>
                <a:srgbClr val="000000"/>
              </a:solidFill>
              <a:latin typeface="Arial"/>
            </a:endParaRPr>
          </a:p>
        </p:txBody>
      </p:sp>
      <p:sp>
        <p:nvSpPr>
          <p:cNvPr id="217" name="PubRRectCallout"/>
          <p:cNvSpPr/>
          <p:nvPr/>
        </p:nvSpPr>
        <p:spPr>
          <a:xfrm>
            <a:off x="7416720" y="2276640"/>
            <a:ext cx="1417680" cy="936360"/>
          </a:xfrm>
          <a:custGeom>
            <a:avLst/>
            <a:gdLst>
              <a:gd name="textAreaLeft" fmla="*/ 9360 w 1417680"/>
              <a:gd name="textAreaRight" fmla="*/ 1405440 w 1417680"/>
              <a:gd name="textAreaTop" fmla="*/ 6120 h 936360"/>
              <a:gd name="textAreaBottom" fmla="*/ 741600 h 9363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6600ff"/>
                </a:solidFill>
                <a:latin typeface="Arial"/>
                <a:cs typeface="Simplified Arabic"/>
              </a:rPr>
              <a:t>الهدف:</a:t>
            </a:r>
            <a:endParaRPr b="0" lang="en-US" sz="2600" spc="-1" strike="noStrike">
              <a:solidFill>
                <a:srgbClr val="000000"/>
              </a:solidFill>
              <a:latin typeface="Arial"/>
            </a:endParaRPr>
          </a:p>
        </p:txBody>
      </p:sp>
      <p:sp>
        <p:nvSpPr>
          <p:cNvPr id="218" name="PubRRectCallout"/>
          <p:cNvSpPr/>
          <p:nvPr/>
        </p:nvSpPr>
        <p:spPr>
          <a:xfrm>
            <a:off x="7416720" y="3573360"/>
            <a:ext cx="1476360" cy="1008000"/>
          </a:xfrm>
          <a:custGeom>
            <a:avLst/>
            <a:gdLst>
              <a:gd name="textAreaLeft" fmla="*/ 9720 w 1476360"/>
              <a:gd name="textAreaRight" fmla="*/ 1463400 w 1476360"/>
              <a:gd name="textAreaTop" fmla="*/ 6480 h 1008000"/>
              <a:gd name="textAreaBottom" fmla="*/ 798480 h 1008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عملية:</a:t>
            </a:r>
            <a:endParaRPr b="0" lang="en-US" sz="2400" spc="-1" strike="noStrike">
              <a:solidFill>
                <a:srgbClr val="000000"/>
              </a:solidFill>
              <a:latin typeface="Arial"/>
            </a:endParaRPr>
          </a:p>
        </p:txBody>
      </p:sp>
      <p:sp>
        <p:nvSpPr>
          <p:cNvPr id="219" name="PubRRectCallout"/>
          <p:cNvSpPr/>
          <p:nvPr/>
        </p:nvSpPr>
        <p:spPr>
          <a:xfrm>
            <a:off x="7416720" y="5084640"/>
            <a:ext cx="1506600" cy="1081080"/>
          </a:xfrm>
          <a:custGeom>
            <a:avLst/>
            <a:gdLst>
              <a:gd name="textAreaLeft" fmla="*/ 10080 w 1506600"/>
              <a:gd name="textAreaRight" fmla="*/ 1493280 w 1506600"/>
              <a:gd name="textAreaTop" fmla="*/ 7200 h 1081080"/>
              <a:gd name="textAreaBottom" fmla="*/ 856440 h 1081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نتيج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17"/>
                                        </p:tgtEl>
                                        <p:attrNameLst>
                                          <p:attrName>style.visibility</p:attrName>
                                        </p:attrNameLst>
                                      </p:cBhvr>
                                      <p:to>
                                        <p:strVal val="visible"/>
                                      </p:to>
                                    </p:set>
                                    <p:animEffect filter="box(in)" transition="in">
                                      <p:cBhvr additive="repl">
                                        <p:cTn id="141" dur="500"/>
                                        <p:tgtEl>
                                          <p:spTgt spid="2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18"/>
                                        </p:tgtEl>
                                        <p:attrNameLst>
                                          <p:attrName>style.visibility</p:attrName>
                                        </p:attrNameLst>
                                      </p:cBhvr>
                                      <p:to>
                                        <p:strVal val="visible"/>
                                      </p:to>
                                    </p:set>
                                    <p:animEffect filter="box(in)" transition="in">
                                      <p:cBhvr additive="repl">
                                        <p:cTn id="146" dur="500"/>
                                        <p:tgtEl>
                                          <p:spTgt spid="21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19"/>
                                        </p:tgtEl>
                                        <p:attrNameLst>
                                          <p:attrName>style.visibility</p:attrName>
                                        </p:attrNameLst>
                                      </p:cBhvr>
                                      <p:to>
                                        <p:strVal val="visible"/>
                                      </p:to>
                                    </p:set>
                                    <p:animEffect filter="box(in)" transition="in">
                                      <p:cBhvr additive="repl">
                                        <p:cTn id="15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1835280" y="333360"/>
            <a:ext cx="5329080" cy="18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399960" indent="-399960" algn="just" rtl="1">
              <a:lnSpc>
                <a:spcPct val="100000"/>
              </a:lnSpc>
              <a:spcBef>
                <a:spcPts val="601"/>
              </a:spcBef>
              <a:buClr>
                <a:srgbClr val="ff993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a:t>
            </a:r>
            <a:endParaRPr b="0" lang="en-US" sz="2400" spc="-1" strike="noStrike">
              <a:solidFill>
                <a:srgbClr val="000000"/>
              </a:solidFill>
              <a:latin typeface="Arial"/>
            </a:endParaRPr>
          </a:p>
        </p:txBody>
      </p:sp>
      <p:sp>
        <p:nvSpPr>
          <p:cNvPr id="221" name=""/>
          <p:cNvSpPr/>
          <p:nvPr/>
        </p:nvSpPr>
        <p:spPr>
          <a:xfrm>
            <a:off x="539640" y="2565360"/>
            <a:ext cx="81378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عتبر إحقاق حقوق الإنسان الهدف النهائي لجميع البرامج الإنمائي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ؤثر النهج القائم على حقوق الإنسان في تحديد الأولويات الاستراتيجية للأمم المتحد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عمل توصيات الهيئات وآليات العمل الدولية لحقوق الإنسان على بثّ الرّوح في البرمجة وتغذيتها بالمعلومات.</a:t>
            </a:r>
            <a:endParaRPr b="0" lang="en-US" sz="2800" spc="-1" strike="noStrike">
              <a:solidFill>
                <a:srgbClr val="000000"/>
              </a:solidFill>
              <a:latin typeface="Arial"/>
            </a:endParaRPr>
          </a:p>
        </p:txBody>
      </p:sp>
      <p:sp>
        <p:nvSpPr>
          <p:cNvPr id="222" name="PubRRectCallout"/>
          <p:cNvSpPr/>
          <p:nvPr/>
        </p:nvSpPr>
        <p:spPr>
          <a:xfrm>
            <a:off x="7315200" y="981000"/>
            <a:ext cx="1577880" cy="1224000"/>
          </a:xfrm>
          <a:custGeom>
            <a:avLst/>
            <a:gdLst>
              <a:gd name="textAreaLeft" fmla="*/ 10440 w 1577880"/>
              <a:gd name="textAreaRight" fmla="*/ 1564200 w 1577880"/>
              <a:gd name="textAreaTop" fmla="*/ 7920 h 1224000"/>
              <a:gd name="textAreaBottom" fmla="*/ 969480 h 1224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00ff"/>
                </a:solidFill>
                <a:latin typeface="Arial"/>
                <a:cs typeface="Arial"/>
              </a:rPr>
              <a:t>الهد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7280" y="404280"/>
            <a:ext cx="7272360" cy="1295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آليات عمل حقوق الإنسان</a:t>
            </a:r>
            <a:br>
              <a:rPr sz="3600"/>
            </a:br>
            <a:r>
              <a:rPr b="1" lang="ar-JO" sz="3600" spc="-1" strike="noStrike">
                <a:solidFill>
                  <a:srgbClr val="000000"/>
                </a:solidFill>
                <a:latin typeface="Arial"/>
                <a:cs typeface="Simplified Arabic"/>
              </a:rPr>
              <a:t>تبثُّ الرُّوح في البرمجة وتُغذِّيها بالمعلومات</a:t>
            </a:r>
            <a:endParaRPr b="0" lang="en-US" sz="3600" spc="-1" strike="noStrike">
              <a:solidFill>
                <a:srgbClr val="000000"/>
              </a:solidFill>
              <a:latin typeface="Arial"/>
            </a:endParaRPr>
          </a:p>
        </p:txBody>
      </p:sp>
      <p:sp>
        <p:nvSpPr>
          <p:cNvPr id="224" name=""/>
          <p:cNvSpPr/>
          <p:nvPr/>
        </p:nvSpPr>
        <p:spPr>
          <a:xfrm>
            <a:off x="900000" y="2349360"/>
            <a:ext cx="7561440" cy="417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ملاحظات هيئات المعاهدة والإجراءات الخاص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ليل القضايا الإنمائية من منظور حقوق الإنسان.</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Simplified Arabic"/>
              </a:rPr>
              <a:t>	</a:t>
            </a: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توصيات هيئات المعاهدة والإجراءات الخاصة: </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هل تمّ تحديد الأدوات اللازمة لبرمجة أعمال الأمم المتحدة بهدف التصدِّي للمشكلات؟ </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التعليقات العامة لهيئات المعاهد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دِّد المحتوى الدقيق للأهداف الإنمائية عن طريق توضيح معنى الحقوق.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765000"/>
            <a:ext cx="5977080" cy="165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9960" indent="0" algn="r" rtl="1">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ar-JO" sz="2800" spc="-1" strike="noStrike">
                <a:solidFill>
                  <a:srgbClr val="ff9933"/>
                </a:solidFill>
                <a:latin typeface="Arial"/>
                <a:ea typeface="Simplified Arabic"/>
              </a:rPr>
              <a:t>2</a:t>
            </a:r>
            <a:r>
              <a:rPr b="0" lang="ar-JO" sz="2800" spc="-1" strike="noStrike">
                <a:solidFill>
                  <a:srgbClr val="ff9933"/>
                </a:solidFill>
                <a:latin typeface="Arial"/>
                <a:ea typeface="Simplified Arabic"/>
              </a:rPr>
              <a:t>) تُوَجِّهُ معاييرُ ومبادئُ حقوق الإنسان جميع أوجه التعاون الإنمائي والبرمجة الإنمائية في جميع القطاعات وفي كل مراحل عملية البرمجة.</a:t>
            </a:r>
            <a:endParaRPr b="0" lang="en-US" sz="2800" spc="-1" strike="noStrike">
              <a:solidFill>
                <a:srgbClr val="000000"/>
              </a:solidFill>
              <a:latin typeface="Arial"/>
            </a:endParaRPr>
          </a:p>
        </p:txBody>
      </p:sp>
      <p:sp>
        <p:nvSpPr>
          <p:cNvPr id="226" name=""/>
          <p:cNvSpPr/>
          <p:nvPr/>
        </p:nvSpPr>
        <p:spPr>
          <a:xfrm>
            <a:off x="826920" y="2637000"/>
            <a:ext cx="7490160" cy="36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سِّن معايير ومبادئ حقوق الإنسان جودة النتائج والعمل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دِّد معاييرُ حقوق الإنسان ”ميدانَ اللعب“ الذي تحدث فيه عملية التنم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وفِّر مبادئ حقوق الإنسان ”قواعدَ اللّعب“ لعملية التنمية. </a:t>
            </a:r>
            <a:endParaRPr b="0" lang="en-US" sz="2800" spc="-1" strike="noStrike">
              <a:solidFill>
                <a:srgbClr val="000000"/>
              </a:solidFill>
              <a:latin typeface="Arial"/>
            </a:endParaRPr>
          </a:p>
        </p:txBody>
      </p:sp>
      <p:sp>
        <p:nvSpPr>
          <p:cNvPr id="227" name="PubRRectCallout"/>
          <p:cNvSpPr/>
          <p:nvPr/>
        </p:nvSpPr>
        <p:spPr>
          <a:xfrm>
            <a:off x="7740720" y="981000"/>
            <a:ext cx="1224000" cy="1019160"/>
          </a:xfrm>
          <a:custGeom>
            <a:avLst/>
            <a:gdLst>
              <a:gd name="textAreaLeft" fmla="*/ 7920 w 1224000"/>
              <a:gd name="textAreaRight" fmla="*/ 1213200 w 1224000"/>
              <a:gd name="textAreaTop" fmla="*/ 6840 h 1019160"/>
              <a:gd name="textAreaBottom" fmla="*/ 807120 h 1019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53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عم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8" name=""/>
          <p:cNvSpPr/>
          <p:nvPr/>
        </p:nvSpPr>
        <p:spPr>
          <a:xfrm>
            <a:off x="2916360" y="3200400"/>
            <a:ext cx="3671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Arial"/>
              </a:rPr>
              <a:t>التقييم والتحليل</a:t>
            </a:r>
            <a:endParaRPr b="0" lang="en-US" sz="2800" spc="-1" strike="noStrike">
              <a:solidFill>
                <a:srgbClr val="000000"/>
              </a:solidFill>
              <a:latin typeface="Arial"/>
            </a:endParaRPr>
          </a:p>
        </p:txBody>
      </p:sp>
      <p:sp>
        <p:nvSpPr>
          <p:cNvPr id="229" name=""/>
          <p:cNvSpPr/>
          <p:nvPr/>
        </p:nvSpPr>
        <p:spPr>
          <a:xfrm>
            <a:off x="5651640" y="4149720"/>
            <a:ext cx="3122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ial"/>
                <a:cs typeface="Arial"/>
              </a:rPr>
              <a:t>تحديد الأولويات</a:t>
            </a:r>
            <a:endParaRPr b="0" lang="en-US" sz="2800" spc="-1" strike="noStrike">
              <a:solidFill>
                <a:srgbClr val="000000"/>
              </a:solidFill>
              <a:latin typeface="Arial"/>
            </a:endParaRPr>
          </a:p>
        </p:txBody>
      </p:sp>
      <p:sp>
        <p:nvSpPr>
          <p:cNvPr id="230" name=""/>
          <p:cNvSpPr/>
          <p:nvPr/>
        </p:nvSpPr>
        <p:spPr>
          <a:xfrm>
            <a:off x="4500720" y="5516640"/>
            <a:ext cx="331308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cs typeface="Arial"/>
              </a:rPr>
              <a:t>التخطيط للبرامج وتصميمها</a:t>
            </a:r>
            <a:endParaRPr b="0" lang="en-US" sz="2800" spc="-1" strike="noStrike">
              <a:solidFill>
                <a:srgbClr val="000000"/>
              </a:solidFill>
              <a:latin typeface="Arial"/>
            </a:endParaRPr>
          </a:p>
        </p:txBody>
      </p:sp>
      <p:sp>
        <p:nvSpPr>
          <p:cNvPr id="231" name=""/>
          <p:cNvSpPr/>
          <p:nvPr/>
        </p:nvSpPr>
        <p:spPr>
          <a:xfrm>
            <a:off x="826920" y="5661000"/>
            <a:ext cx="256572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66ff33"/>
                </a:solidFill>
                <a:latin typeface="Arial"/>
                <a:cs typeface="Arial"/>
              </a:rPr>
              <a:t>التنفيذ</a:t>
            </a:r>
            <a:endParaRPr b="0" lang="en-US" sz="2800" spc="-1" strike="noStrike">
              <a:solidFill>
                <a:srgbClr val="000000"/>
              </a:solidFill>
              <a:latin typeface="Arial"/>
            </a:endParaRPr>
          </a:p>
        </p:txBody>
      </p:sp>
      <p:sp>
        <p:nvSpPr>
          <p:cNvPr id="232" name=""/>
          <p:cNvSpPr/>
          <p:nvPr/>
        </p:nvSpPr>
        <p:spPr>
          <a:xfrm>
            <a:off x="684360" y="4149720"/>
            <a:ext cx="256860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ff00"/>
                </a:solidFill>
                <a:latin typeface="Arial"/>
                <a:cs typeface="Arial"/>
              </a:rPr>
              <a:t>المتابعة والتقييم</a:t>
            </a:r>
            <a:endParaRPr b="0" lang="en-US" sz="2800" spc="-1" strike="noStrike">
              <a:solidFill>
                <a:srgbClr val="000000"/>
              </a:solidFill>
              <a:latin typeface="Arial"/>
            </a:endParaRPr>
          </a:p>
        </p:txBody>
      </p:sp>
      <p:sp>
        <p:nvSpPr>
          <p:cNvPr id="233" name=""/>
          <p:cNvSpPr/>
          <p:nvPr/>
        </p:nvSpPr>
        <p:spPr>
          <a:xfrm flipV="1">
            <a:off x="6781680" y="3429000"/>
            <a:ext cx="1219320" cy="457200"/>
          </a:xfrm>
          <a:custGeom>
            <a:avLst/>
            <a:gdLst>
              <a:gd name="textAreaLeft" fmla="*/ 406440 w 1219320"/>
              <a:gd name="textAreaRight" fmla="*/ 1044360 w 121932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7956000" y="5157000"/>
            <a:ext cx="533160" cy="762120"/>
          </a:xfrm>
          <a:custGeom>
            <a:avLst/>
            <a:gdLst>
              <a:gd name="textAreaLeft" fmla="*/ -360 w 533160"/>
              <a:gd name="textAreaRight" fmla="*/ 533160 w 53316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08360" y="5661000"/>
            <a:ext cx="685800" cy="304920"/>
          </a:xfrm>
          <a:prstGeom prst="leftArrow">
            <a:avLst>
              <a:gd name="adj1" fmla="val 50000"/>
              <a:gd name="adj2" fmla="val 562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752480" y="4876920"/>
            <a:ext cx="304920" cy="609480"/>
          </a:xfrm>
          <a:prstGeom prst="upArrow">
            <a:avLst>
              <a:gd name="adj1" fmla="val 50000"/>
              <a:gd name="adj2" fmla="val 4997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0200" y="3352680"/>
            <a:ext cx="1066680" cy="609840"/>
          </a:xfrm>
          <a:custGeom>
            <a:avLst/>
            <a:gdLst>
              <a:gd name="textAreaLeft" fmla="*/ 0 w 1066680"/>
              <a:gd name="textAreaRight" fmla="*/ 1067040 w 106668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47640" y="907920"/>
            <a:ext cx="7288560" cy="199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ea typeface="Simplified Arabic"/>
              </a:rPr>
              <a:t>... إدماج معايير ومبادئ حقوق الإنسان </a:t>
            </a:r>
            <a:r>
              <a:rPr b="1" lang="ar-JO" sz="3200" spc="-1" strike="noStrike" u="sng">
                <a:solidFill>
                  <a:srgbClr val="000000"/>
                </a:solidFill>
                <a:uFillTx/>
                <a:latin typeface="Arial"/>
                <a:cs typeface="Simplified Arabic"/>
              </a:rPr>
              <a:t>في</a:t>
            </a:r>
            <a:r>
              <a:rPr b="1" lang="ar-JO" sz="3200" spc="-1" strike="noStrike">
                <a:solidFill>
                  <a:srgbClr val="000000"/>
                </a:solidFill>
                <a:latin typeface="Arial"/>
                <a:ea typeface="Simplified Arabic"/>
              </a:rPr>
              <a:t> جميع مراحل عملية البرم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0" y="620640"/>
            <a:ext cx="5761080" cy="71928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معايير حقوق الإنسان</a:t>
            </a:r>
            <a:endParaRPr b="0" lang="en-US" sz="4000" spc="-1" strike="noStrike">
              <a:solidFill>
                <a:srgbClr val="000000"/>
              </a:solidFill>
              <a:latin typeface="Arial"/>
            </a:endParaRPr>
          </a:p>
        </p:txBody>
      </p:sp>
      <p:sp>
        <p:nvSpPr>
          <p:cNvPr id="240" name=""/>
          <p:cNvSpPr/>
          <p:nvPr/>
        </p:nvSpPr>
        <p:spPr>
          <a:xfrm>
            <a:off x="6084720" y="1773360"/>
            <a:ext cx="288000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35080" indent="-235080" algn="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JO" sz="2800" spc="-1" strike="noStrike" u="sng">
                <a:solidFill>
                  <a:srgbClr val="000000"/>
                </a:solidFill>
                <a:uFillTx/>
                <a:latin typeface="Arial"/>
                <a:cs typeface="Simplified Arabic"/>
              </a:rPr>
              <a:t>المحتوى المعياري الأدنى للحق</a:t>
            </a:r>
            <a:r>
              <a:rPr b="0" lang="ar-JO" sz="2800" spc="-1" strike="noStrike" u="sng">
                <a:solidFill>
                  <a:srgbClr val="000000"/>
                </a:solidFill>
                <a:uFillTx/>
                <a:latin typeface="Arial"/>
                <a:ea typeface="Simplified Arabic"/>
              </a:rPr>
              <a:t>:</a:t>
            </a:r>
            <a:r>
              <a:rPr b="0" lang="ar-JO" sz="2800" spc="-1" strike="noStrike">
                <a:solidFill>
                  <a:srgbClr val="000000"/>
                </a:solidFill>
                <a:latin typeface="Arial"/>
                <a:ea typeface="Simplified Arabic"/>
              </a:rPr>
              <a:t> هو نوع المطالبات والالتزامات، الذي يتضمنه الحق </a:t>
            </a:r>
            <a:r>
              <a:rPr b="0" i="1" lang="ar-JO" sz="2800" spc="-1" strike="noStrike">
                <a:solidFill>
                  <a:srgbClr val="000000"/>
                </a:solidFill>
                <a:latin typeface="Arial"/>
                <a:cs typeface="Simplified Arabic"/>
              </a:rPr>
              <a:t>كحد أدنى في الممارسة</a:t>
            </a:r>
            <a:r>
              <a:rPr b="0" lang="ar-JO"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241" name=""/>
          <p:cNvSpPr/>
          <p:nvPr/>
        </p:nvSpPr>
        <p:spPr>
          <a:xfrm>
            <a:off x="324000" y="2060640"/>
            <a:ext cx="5494320" cy="4103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في عملية البرمجة، تُوَجِّه المعاييرُ العملياتِ التالية:</a:t>
            </a:r>
            <a:endParaRPr b="0" lang="en-US" sz="2400" spc="-1" strike="noStrike">
              <a:solidFill>
                <a:srgbClr val="000000"/>
              </a:solidFill>
              <a:latin typeface="Arial"/>
            </a:endParaRPr>
          </a:p>
          <a:p>
            <a:pPr marL="539640" indent="-376200" algn="r" rt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شخيص التحديات التي تواجه التنمية بوصفها قضايا حقوق الإنسان (التقييم).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حليل الأدوار والقدرات لدى أصحاب الحقوق والقائمين بالواجبات.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التعريف بالأهداف الإنمائية.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صياغة نقاط القياس المرجعية المناظرة والمؤشر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61" name=""/>
          <p:cNvSpPr/>
          <p:nvPr/>
        </p:nvSpPr>
        <p:spPr>
          <a:xfrm>
            <a:off x="3733920" y="304920"/>
            <a:ext cx="1523880" cy="990360"/>
          </a:xfrm>
          <a:prstGeom prst="downArrowCallout">
            <a:avLst>
              <a:gd name="adj1" fmla="val 38471"/>
              <a:gd name="adj2" fmla="val 38468"/>
              <a:gd name="adj3" fmla="val 16667"/>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8120" y="1295280"/>
            <a:ext cx="2895480" cy="685800"/>
          </a:xfrm>
          <a:custGeom>
            <a:avLst/>
            <a:gdLst>
              <a:gd name="textAreaLeft" fmla="*/ 723960 w 2895480"/>
              <a:gd name="textAreaRight" fmla="*/ 2171880 w 2895480"/>
              <a:gd name="textAreaTop" fmla="*/ 0 h 685800"/>
              <a:gd name="textAreaBottom" fmla="*/ 686160 h 6858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91320" y="1371600"/>
            <a:ext cx="838080" cy="2590920"/>
          </a:xfrm>
          <a:prstGeom prst="downArrow">
            <a:avLst>
              <a:gd name="adj1" fmla="val 50000"/>
              <a:gd name="adj2" fmla="val 7728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62320" y="1371600"/>
            <a:ext cx="838080" cy="2666880"/>
          </a:xfrm>
          <a:prstGeom prst="downArrow">
            <a:avLst>
              <a:gd name="adj1" fmla="val 50000"/>
              <a:gd name="adj2" fmla="val 7955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79640" y="3886200"/>
            <a:ext cx="1677960" cy="1127160"/>
          </a:xfrm>
          <a:prstGeom prst="rightArrow">
            <a:avLst>
              <a:gd name="adj1" fmla="val 50000"/>
              <a:gd name="adj2" fmla="val 3721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3886200"/>
            <a:ext cx="1614240" cy="1127160"/>
          </a:xfrm>
          <a:prstGeom prst="leftArrow">
            <a:avLst>
              <a:gd name="adj1" fmla="val 50000"/>
              <a:gd name="adj2" fmla="val 3580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733920" y="4191120"/>
            <a:ext cx="1523880" cy="1600200"/>
          </a:xfrm>
          <a:prstGeom prst="downArrowCallout">
            <a:avLst>
              <a:gd name="adj1" fmla="val 25002"/>
              <a:gd name="adj2" fmla="val 25000"/>
              <a:gd name="adj3" fmla="val 17501"/>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809880" y="266760"/>
            <a:ext cx="1371600" cy="137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ميثاق الأمم المتحدة الإعلان العالمي لحقوق الإنسان</a:t>
            </a:r>
            <a:endParaRPr b="0" lang="en-US" sz="1400" spc="-1" strike="noStrike">
              <a:solidFill>
                <a:srgbClr val="000000"/>
              </a:solidFill>
              <a:latin typeface="Arial"/>
            </a:endParaRPr>
          </a:p>
        </p:txBody>
      </p:sp>
      <p:sp>
        <p:nvSpPr>
          <p:cNvPr id="69" name=""/>
          <p:cNvSpPr/>
          <p:nvPr/>
        </p:nvSpPr>
        <p:spPr>
          <a:xfrm>
            <a:off x="3962520" y="1447920"/>
            <a:ext cx="12189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الحرب الباردة</a:t>
            </a:r>
            <a:endParaRPr b="0" lang="en-US" sz="1600" spc="-1" strike="noStrike">
              <a:solidFill>
                <a:srgbClr val="000000"/>
              </a:solidFill>
              <a:latin typeface="Arial"/>
            </a:endParaRPr>
          </a:p>
        </p:txBody>
      </p:sp>
      <p:sp>
        <p:nvSpPr>
          <p:cNvPr id="70" name=""/>
          <p:cNvSpPr/>
          <p:nvPr/>
        </p:nvSpPr>
        <p:spPr>
          <a:xfrm>
            <a:off x="1619280" y="2349360"/>
            <a:ext cx="2286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التنمية</a:t>
            </a:r>
            <a:endParaRPr b="0" lang="en-US" sz="2800" spc="-1" strike="noStrike">
              <a:solidFill>
                <a:srgbClr val="000000"/>
              </a:solidFill>
              <a:latin typeface="Arial"/>
            </a:endParaRPr>
          </a:p>
        </p:txBody>
      </p:sp>
      <p:sp>
        <p:nvSpPr>
          <p:cNvPr id="71" name=""/>
          <p:cNvSpPr/>
          <p:nvPr/>
        </p:nvSpPr>
        <p:spPr>
          <a:xfrm>
            <a:off x="5095800" y="2362320"/>
            <a:ext cx="2286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حقوق الإنسان</a:t>
            </a:r>
            <a:endParaRPr b="0" lang="en-US" sz="2800" spc="-1" strike="noStrike">
              <a:solidFill>
                <a:srgbClr val="000000"/>
              </a:solidFill>
              <a:latin typeface="Arial"/>
            </a:endParaRPr>
          </a:p>
        </p:txBody>
      </p:sp>
      <p:sp>
        <p:nvSpPr>
          <p:cNvPr id="72" name=""/>
          <p:cNvSpPr/>
          <p:nvPr/>
        </p:nvSpPr>
        <p:spPr>
          <a:xfrm>
            <a:off x="1797120" y="4149720"/>
            <a:ext cx="1406520" cy="63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كوبنهاغن </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القاهرة</a:t>
            </a:r>
            <a:endParaRPr b="0" lang="en-US" sz="1400" spc="-1" strike="noStrike">
              <a:solidFill>
                <a:srgbClr val="000000"/>
              </a:solidFill>
              <a:latin typeface="Arial"/>
            </a:endParaRPr>
          </a:p>
        </p:txBody>
      </p:sp>
      <p:sp>
        <p:nvSpPr>
          <p:cNvPr id="73" name=""/>
          <p:cNvSpPr/>
          <p:nvPr/>
        </p:nvSpPr>
        <p:spPr>
          <a:xfrm>
            <a:off x="5562720" y="4218120"/>
            <a:ext cx="1218960" cy="512640"/>
          </a:xfrm>
          <a:prstGeom prst="rect">
            <a:avLst/>
          </a:prstGeom>
          <a:noFill/>
          <a:ln w="0">
            <a:noFill/>
          </a:ln>
        </p:spPr>
        <p:style>
          <a:lnRef idx="0"/>
          <a:fillRef idx="0"/>
          <a:effectRef idx="0"/>
          <a:fontRef idx="minor"/>
        </p:style>
        <p:txBody>
          <a:bodyPr lIns="90000" rIns="90000" tIns="46800" bIns="46800" anchor="t">
            <a:spAutoFit/>
          </a:bodyPr>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فينَّا</a:t>
            </a:r>
            <a:endParaRPr b="0" lang="en-US" sz="1600" spc="-1" strike="noStrike">
              <a:solidFill>
                <a:srgbClr val="000000"/>
              </a:solidFill>
              <a:latin typeface="Arial"/>
            </a:endParaRPr>
          </a:p>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بكين</a:t>
            </a:r>
            <a:endParaRPr b="0" lang="en-US" sz="1600" spc="-1" strike="noStrike">
              <a:solidFill>
                <a:srgbClr val="000000"/>
              </a:solidFill>
              <a:latin typeface="Arial"/>
            </a:endParaRPr>
          </a:p>
        </p:txBody>
      </p:sp>
      <p:sp>
        <p:nvSpPr>
          <p:cNvPr id="74" name=""/>
          <p:cNvSpPr/>
          <p:nvPr/>
        </p:nvSpPr>
        <p:spPr>
          <a:xfrm>
            <a:off x="3751200" y="4192560"/>
            <a:ext cx="152424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800000"/>
                </a:solidFill>
                <a:latin typeface="Arial Narrow"/>
                <a:cs typeface="Arial"/>
              </a:rPr>
              <a:t>أجندة (برنامج) عملية إصلاح الأمم المتحدة </a:t>
            </a:r>
            <a:endParaRPr b="0" lang="en-US" sz="2000" spc="-1" strike="noStrike">
              <a:solidFill>
                <a:srgbClr val="000000"/>
              </a:solidFill>
              <a:latin typeface="Arial"/>
            </a:endParaRPr>
          </a:p>
        </p:txBody>
      </p:sp>
      <p:sp>
        <p:nvSpPr>
          <p:cNvPr id="75" name=""/>
          <p:cNvSpPr/>
          <p:nvPr/>
        </p:nvSpPr>
        <p:spPr>
          <a:xfrm>
            <a:off x="5292720" y="4941720"/>
            <a:ext cx="16765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Arial Narrow"/>
                <a:ea typeface="Arial"/>
              </a:rPr>
              <a:t>1997/2005</a:t>
            </a:r>
            <a:endParaRPr b="0" lang="en-US" sz="2800" spc="-1" strike="noStrike">
              <a:solidFill>
                <a:srgbClr val="000000"/>
              </a:solidFill>
              <a:latin typeface="Arial"/>
            </a:endParaRPr>
          </a:p>
        </p:txBody>
      </p:sp>
      <p:sp>
        <p:nvSpPr>
          <p:cNvPr id="76" name=""/>
          <p:cNvSpPr/>
          <p:nvPr/>
        </p:nvSpPr>
        <p:spPr>
          <a:xfrm>
            <a:off x="4067280" y="1989000"/>
            <a:ext cx="865080" cy="2160720"/>
          </a:xfrm>
          <a:prstGeom prst="downArrow">
            <a:avLst>
              <a:gd name="adj1" fmla="val 50000"/>
              <a:gd name="adj2" fmla="val 624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2766960"/>
            <a:ext cx="2592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6600"/>
                </a:solidFill>
                <a:latin typeface="Arial"/>
                <a:cs typeface="Arial"/>
              </a:rPr>
              <a:t>السلام والأمن والأعمال الإنساني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33360"/>
            <a:ext cx="6480360" cy="792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بادئ حقوق الإنسان</a:t>
            </a:r>
            <a:endParaRPr b="0" lang="en-US" sz="4000" spc="-1" strike="noStrike">
              <a:solidFill>
                <a:srgbClr val="000000"/>
              </a:solidFill>
              <a:latin typeface="Arial"/>
            </a:endParaRPr>
          </a:p>
        </p:txBody>
      </p:sp>
      <p:sp>
        <p:nvSpPr>
          <p:cNvPr id="243" name=""/>
          <p:cNvSpPr/>
          <p:nvPr/>
        </p:nvSpPr>
        <p:spPr>
          <a:xfrm>
            <a:off x="684360" y="1700280"/>
            <a:ext cx="5111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عالمية وعدم القابلية للتصرف.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عدم القابلية للتجزئة.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ترابطية والتشابكية</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واة وعدم التمييز.</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شاركة والشمول.</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ءَلة وحُكم القانون. </a:t>
            </a:r>
            <a:endParaRPr b="0" lang="en-US" sz="2800" spc="-1" strike="noStrike">
              <a:solidFill>
                <a:srgbClr val="000000"/>
              </a:solidFill>
              <a:latin typeface="Arial"/>
            </a:endParaRPr>
          </a:p>
        </p:txBody>
      </p:sp>
      <p:pic>
        <p:nvPicPr>
          <p:cNvPr id="244" name="" descr=""/>
          <p:cNvPicPr/>
          <p:nvPr/>
        </p:nvPicPr>
        <p:blipFill>
          <a:blip r:embed="rId1"/>
          <a:stretch/>
        </p:blipFill>
        <p:spPr>
          <a:xfrm>
            <a:off x="6877080" y="3135240"/>
            <a:ext cx="1871640" cy="15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000" y="259920"/>
            <a:ext cx="6769080" cy="1584360"/>
          </a:xfrm>
          <a:prstGeom prst="rect">
            <a:avLst/>
          </a:prstGeom>
          <a:solidFill>
            <a:srgbClr val="ffffff"/>
          </a:solidFill>
          <a:ln w="0">
            <a:noFill/>
          </a:ln>
        </p:spPr>
        <p:txBody>
          <a:bodyPr lIns="90000" rIns="90000" tIns="46800" bIns="46800" anchor="t">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لنهج القائم على </a:t>
            </a:r>
            <a:br>
              <a:rPr sz="3200"/>
            </a:br>
            <a:r>
              <a:rPr b="1" lang="ar-JO" sz="3200" spc="-1" strike="noStrike">
                <a:solidFill>
                  <a:srgbClr val="000000"/>
                </a:solidFill>
                <a:latin typeface="Arial"/>
                <a:cs typeface="Simplified Arabic"/>
              </a:rPr>
              <a:t>حقوق الإنسان يتطلَّب حساسية ثقافية أكبر</a:t>
            </a:r>
            <a:endParaRPr b="0" lang="en-US" sz="3200" spc="-1" strike="noStrike">
              <a:solidFill>
                <a:srgbClr val="000000"/>
              </a:solidFill>
              <a:latin typeface="Arial"/>
            </a:endParaRPr>
          </a:p>
        </p:txBody>
      </p:sp>
      <p:sp>
        <p:nvSpPr>
          <p:cNvPr id="246" name="PlaceHolder 2"/>
          <p:cNvSpPr>
            <a:spLocks noGrp="1"/>
          </p:cNvSpPr>
          <p:nvPr>
            <p:ph type="subTitle"/>
          </p:nvPr>
        </p:nvSpPr>
        <p:spPr>
          <a:xfrm>
            <a:off x="684360" y="2060640"/>
            <a:ext cx="7704000" cy="4464000"/>
          </a:xfrm>
          <a:prstGeom prst="rect">
            <a:avLst/>
          </a:prstGeom>
          <a:solidFill>
            <a:srgbClr val="ffffff"/>
          </a:solidFill>
          <a:ln w="0">
            <a:noFill/>
          </a:ln>
        </p:spPr>
        <p:txBody>
          <a:bodyPr lIns="90000" rIns="90000" tIns="46800" bIns="46800" anchor="t">
            <a:noAutofit/>
          </a:bodyPr>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هم المعتقدات والقيم يُسهِّل تطبيق النهج القائم على حقوق الإنسان. </a:t>
            </a:r>
            <a:endParaRPr b="0" lang="en-US" sz="24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ساسية الثقافية تسمح للمجتمعات المحلية بامتلاك قَدْر أكبر من البرامج.</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غير أنَّ الإدعاءات الثقافية لا يُمكن أن توضع موضع التنفيذ لتبرير انتهاكات 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قد تكون بعضُ الممارسات الثقافية مطالبَ ل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عديل النماذج الثقافية والممارسات العرفية، حيثما تُسهم تلك النماذج في اللاَّمساواة في النوع الاجتماع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404280"/>
            <a:ext cx="5616720" cy="151164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8520" indent="0" algn="just"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9900"/>
                </a:solidFill>
                <a:latin typeface="Arial"/>
                <a:ea typeface="Simplified Arabic"/>
              </a:rPr>
              <a:t>3</a:t>
            </a:r>
            <a:r>
              <a:rPr b="1" lang="ar-JO" sz="2400" spc="-1" strike="noStrike">
                <a:solidFill>
                  <a:srgbClr val="ff9900"/>
                </a:solidFill>
                <a:latin typeface="Arial"/>
                <a:ea typeface="Simplified Arabic"/>
              </a:rPr>
              <a:t>) يُسهم التعاون الإنمائي في تنمية قدرات ”القائمين بالواجبات“ على الوفاء بالتزاماتهم، و/أو في تنمية قدرات ”أصحاب الحقوق“ على المطالبة بحقوقهم. </a:t>
            </a:r>
            <a:endParaRPr b="0" lang="en-US" sz="2400" spc="-1" strike="noStrike">
              <a:solidFill>
                <a:srgbClr val="000000"/>
              </a:solidFill>
              <a:latin typeface="Arial"/>
            </a:endParaRPr>
          </a:p>
        </p:txBody>
      </p:sp>
      <p:sp>
        <p:nvSpPr>
          <p:cNvPr id="248" name=""/>
          <p:cNvSpPr/>
          <p:nvPr/>
        </p:nvSpPr>
        <p:spPr>
          <a:xfrm>
            <a:off x="611280" y="2492280"/>
            <a:ext cx="828180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تركيز على العلاقة بين الأفراد والدولة (المُطالبات والالتزامات).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نقل عملية التنمية من عملية تقديم / إيصال الخدمات بوصفها بؤرة الاهتمام الأساسي، إلى بناء القدرات على المطالبة بحقوق الإنسان وإحقاقها.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تاج الدول إلى القدرات لتقوية الأنظمة الوطنية للحماية وللوفاء بالتزاماتها.</a:t>
            </a:r>
            <a:endParaRPr b="0" lang="en-US" sz="2800" spc="-1" strike="noStrike">
              <a:solidFill>
                <a:srgbClr val="000000"/>
              </a:solidFill>
              <a:latin typeface="Arial"/>
            </a:endParaRPr>
          </a:p>
        </p:txBody>
      </p:sp>
      <p:sp>
        <p:nvSpPr>
          <p:cNvPr id="249" name="PubRRectCallout"/>
          <p:cNvSpPr/>
          <p:nvPr/>
        </p:nvSpPr>
        <p:spPr>
          <a:xfrm>
            <a:off x="7451640" y="549360"/>
            <a:ext cx="1224000" cy="1079280"/>
          </a:xfrm>
          <a:custGeom>
            <a:avLst/>
            <a:gdLst>
              <a:gd name="textAreaLeft" fmla="*/ 7920 w 1224000"/>
              <a:gd name="textAreaRight" fmla="*/ 1213200 w 1224000"/>
              <a:gd name="textAreaTop" fmla="*/ 7200 h 1079280"/>
              <a:gd name="textAreaBottom" fmla="*/ 855000 h 1079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92360" y="404280"/>
            <a:ext cx="7294320" cy="79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أصحاب الحقوق والقائمون بالواجبات</a:t>
            </a:r>
            <a:endParaRPr b="0" lang="en-US" sz="4000" spc="-1" strike="noStrike">
              <a:solidFill>
                <a:srgbClr val="000000"/>
              </a:solidFill>
              <a:latin typeface="Arial"/>
            </a:endParaRPr>
          </a:p>
        </p:txBody>
      </p:sp>
      <p:sp>
        <p:nvSpPr>
          <p:cNvPr id="251" name="PlaceHolder 2"/>
          <p:cNvSpPr>
            <a:spLocks noGrp="1"/>
          </p:cNvSpPr>
          <p:nvPr>
            <p:ph/>
          </p:nvPr>
        </p:nvSpPr>
        <p:spPr>
          <a:xfrm>
            <a:off x="4859280" y="1699920"/>
            <a:ext cx="3827520" cy="43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4000"/>
          </a:bodyPr>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أصحاب الحقوق: </a:t>
            </a:r>
            <a:endParaRPr b="0" lang="en-US" sz="2400" spc="-1" strike="noStrike">
              <a:solidFill>
                <a:srgbClr val="000000"/>
              </a:solidFill>
              <a:latin typeface="Times New Roman"/>
            </a:endParaRPr>
          </a:p>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000000"/>
                </a:solidFill>
                <a:latin typeface="Arial"/>
                <a:ea typeface="Simplified Arabic"/>
              </a:rPr>
              <a:t>567</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595</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52</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a:t>
            </a:r>
            <a:r>
              <a:rPr b="1" i="1" lang="ar-JO" sz="2400" spc="-1" strike="noStrike">
                <a:solidFill>
                  <a:srgbClr val="000000"/>
                </a:solidFill>
                <a:latin typeface="Arial"/>
                <a:ea typeface="Simplified Arabic"/>
              </a:rPr>
              <a:t> شخصاً</a:t>
            </a:r>
            <a:endParaRPr b="0" lang="en-US" sz="2400" spc="-1" strike="noStrike">
              <a:solidFill>
                <a:srgbClr val="000000"/>
              </a:solidFill>
              <a:latin typeface="Times New Roman"/>
            </a:endParaRPr>
          </a:p>
          <a:p>
            <a:pPr marL="32220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gn="just" rtl="1">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كل فرد، سواءٌ أكان رجلاً أم امرأةً أم طفلاً، ينتمي إلى أيّ عِرْق أو إلى جماعة إثنية أو إلى حالة اجتماعية.</a:t>
            </a:r>
            <a:endParaRPr b="0" lang="en-US" sz="2400" spc="-1" strike="noStrike">
              <a:solidFill>
                <a:srgbClr val="000000"/>
              </a:solidFill>
              <a:latin typeface="Times New Roman"/>
            </a:endParaRPr>
          </a:p>
          <a:p>
            <a:pPr marL="322200" indent="-322200" algn="just" rtl="1">
              <a:lnSpc>
                <a:spcPct val="15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u="sng">
                <a:solidFill>
                  <a:srgbClr val="000000"/>
                </a:solidFill>
                <a:uFillTx/>
                <a:latin typeface="Arial"/>
                <a:cs typeface="Simplified Arabic"/>
              </a:rPr>
              <a:t>الجماعات إلى حد ما</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p:txBody>
      </p:sp>
      <p:sp>
        <p:nvSpPr>
          <p:cNvPr id="252" name="PlaceHolder 3"/>
          <p:cNvSpPr>
            <a:spLocks noGrp="1"/>
          </p:cNvSpPr>
          <p:nvPr>
            <p:ph/>
          </p:nvPr>
        </p:nvSpPr>
        <p:spPr>
          <a:xfrm>
            <a:off x="473040" y="2060640"/>
            <a:ext cx="3811680" cy="41371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7000"/>
          </a:bodyPr>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قائمون بالواجبات: </a:t>
            </a:r>
            <a:endParaRPr b="0" lang="en-US" sz="2000" spc="-1" strike="noStrike">
              <a:solidFill>
                <a:srgbClr val="000000"/>
              </a:solidFill>
              <a:latin typeface="Times New Roman"/>
            </a:endParaRPr>
          </a:p>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قل من ذلك بكثير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دول في المقام الأول.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في بعض الحالات، توجد التزامات محددة على عاتق الأفراد.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يتحمَّل الأفراد والكيانات الخاصة مسؤوليات عمومية تجاه المجتمع المحلي لاحترام حقوق الآخري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63280" y="476280"/>
            <a:ext cx="7201080" cy="792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دور تنمية القدرات</a:t>
            </a:r>
            <a:endParaRPr b="0" lang="en-US" sz="4000" spc="-1" strike="noStrike">
              <a:solidFill>
                <a:srgbClr val="000000"/>
              </a:solidFill>
              <a:latin typeface="Arial"/>
            </a:endParaRPr>
          </a:p>
        </p:txBody>
      </p:sp>
      <p:sp>
        <p:nvSpPr>
          <p:cNvPr id="254" name=""/>
          <p:cNvSpPr/>
          <p:nvPr/>
        </p:nvSpPr>
        <p:spPr>
          <a:xfrm>
            <a:off x="1546200" y="1698480"/>
            <a:ext cx="6553080" cy="489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49440" y="3006720"/>
            <a:ext cx="5108760" cy="3355920"/>
            <a:chOff x="2449440" y="3006720"/>
            <a:chExt cx="5108760" cy="3355920"/>
          </a:xfrm>
        </p:grpSpPr>
        <p:sp>
          <p:nvSpPr>
            <p:cNvPr id="256"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655720" y="4048200"/>
            <a:ext cx="412920" cy="404640"/>
            <a:chOff x="2655720" y="4048200"/>
            <a:chExt cx="412920" cy="404640"/>
          </a:xfrm>
        </p:grpSpPr>
        <p:sp>
          <p:nvSpPr>
            <p:cNvPr id="259"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2036880" y="3238560"/>
            <a:ext cx="1446120" cy="743040"/>
            <a:chOff x="2036880" y="3238560"/>
            <a:chExt cx="1446120" cy="743040"/>
          </a:xfrm>
        </p:grpSpPr>
        <p:sp>
          <p:nvSpPr>
            <p:cNvPr id="262" name=""/>
            <p:cNvSpPr/>
            <p:nvPr/>
          </p:nvSpPr>
          <p:spPr>
            <a:xfrm>
              <a:off x="2036880" y="3238560"/>
              <a:ext cx="144612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036880" y="3238560"/>
              <a:ext cx="144612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2124000" y="3357720"/>
            <a:ext cx="1224000" cy="855720"/>
          </a:xfrm>
          <a:prstGeom prst="rect">
            <a:avLst/>
          </a:prstGeom>
          <a:noFill/>
          <a:ln w="0">
            <a:noFill/>
          </a:ln>
        </p:spPr>
        <p:style>
          <a:lnRef idx="0"/>
          <a:fillRef idx="0"/>
          <a:effectRef idx="0"/>
          <a:fontRef idx="minor"/>
        </p:style>
        <p:txBody>
          <a:bodyPr lIns="0" rIns="0" tIns="0" bIns="0" anchor="t">
            <a:spAutoFit/>
          </a:bodyPr>
          <a:p>
            <a:pPr marL="63360" indent="-63360" algn="ctr" rtl="1">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مطالبة بالحقوق وممارستها</a:t>
            </a:r>
            <a:endParaRPr b="0" lang="en-US" sz="1700" spc="-1" strike="noStrike">
              <a:solidFill>
                <a:srgbClr val="000000"/>
              </a:solidFill>
              <a:latin typeface="Arial"/>
            </a:endParaRPr>
          </a:p>
        </p:txBody>
      </p:sp>
      <p:grpSp>
        <p:nvGrpSpPr>
          <p:cNvPr id="265" name=""/>
          <p:cNvGrpSpPr/>
          <p:nvPr/>
        </p:nvGrpSpPr>
        <p:grpSpPr>
          <a:xfrm>
            <a:off x="6526080" y="3238560"/>
            <a:ext cx="1290600" cy="743040"/>
            <a:chOff x="6526080" y="3238560"/>
            <a:chExt cx="1290600" cy="743040"/>
          </a:xfrm>
        </p:grpSpPr>
        <p:sp>
          <p:nvSpPr>
            <p:cNvPr id="266" name=""/>
            <p:cNvSpPr/>
            <p:nvPr/>
          </p:nvSpPr>
          <p:spPr>
            <a:xfrm>
              <a:off x="6526080" y="3238560"/>
              <a:ext cx="129060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26080" y="3238560"/>
              <a:ext cx="129060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6253560" y="3446640"/>
            <a:ext cx="1947240" cy="3823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الوفاء</a:t>
            </a:r>
            <a:endParaRPr b="0" lang="en-US" sz="1900" spc="-1" strike="noStrike">
              <a:solidFill>
                <a:srgbClr val="000000"/>
              </a:solidFill>
              <a:latin typeface="Arial"/>
            </a:endParaRPr>
          </a:p>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بالالتزامات</a:t>
            </a:r>
            <a:endParaRPr b="0" lang="en-US" sz="1900" spc="-1" strike="noStrike">
              <a:solidFill>
                <a:srgbClr val="000000"/>
              </a:solidFill>
              <a:latin typeface="Arial"/>
            </a:endParaRPr>
          </a:p>
        </p:txBody>
      </p:sp>
      <p:grpSp>
        <p:nvGrpSpPr>
          <p:cNvPr id="269" name=""/>
          <p:cNvGrpSpPr/>
          <p:nvPr/>
        </p:nvGrpSpPr>
        <p:grpSpPr>
          <a:xfrm>
            <a:off x="3533760" y="3470400"/>
            <a:ext cx="2889360" cy="288720"/>
            <a:chOff x="3533760" y="3470400"/>
            <a:chExt cx="2889360" cy="288720"/>
          </a:xfrm>
        </p:grpSpPr>
        <p:sp>
          <p:nvSpPr>
            <p:cNvPr id="270"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3584520" y="2081160"/>
            <a:ext cx="2631960" cy="744480"/>
            <a:chOff x="3584520" y="2081160"/>
            <a:chExt cx="2631960" cy="744480"/>
          </a:xfrm>
        </p:grpSpPr>
        <p:sp>
          <p:nvSpPr>
            <p:cNvPr id="273" name=""/>
            <p:cNvSpPr/>
            <p:nvPr/>
          </p:nvSpPr>
          <p:spPr>
            <a:xfrm>
              <a:off x="3584520" y="2081160"/>
              <a:ext cx="2631960" cy="744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84520" y="2081160"/>
              <a:ext cx="2631960" cy="74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780000" y="2216160"/>
            <a:ext cx="2304720" cy="960480"/>
          </a:xfrm>
          <a:prstGeom prst="rect">
            <a:avLst/>
          </a:prstGeom>
          <a:noFill/>
          <a:ln w="0">
            <a:noFill/>
          </a:ln>
        </p:spPr>
        <p:style>
          <a:lnRef idx="0"/>
          <a:fillRef idx="0"/>
          <a:effectRef idx="0"/>
          <a:fontRef idx="minor"/>
        </p:style>
        <p:txBody>
          <a:bodyPr lIns="0" rIns="0" tIns="0" bIns="0" anchor="t">
            <a:spAutoFit/>
          </a:bodyPr>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إحقاق حقوق الإنسان </a:t>
            </a:r>
            <a:endParaRPr b="0" lang="en-US" sz="1900" spc="-1" strike="noStrike">
              <a:solidFill>
                <a:srgbClr val="000000"/>
              </a:solidFill>
              <a:latin typeface="Arial"/>
            </a:endParaRPr>
          </a:p>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وأهداف التنمية البشرية</a:t>
            </a:r>
            <a:endParaRPr b="0" lang="en-US" sz="1900" spc="-1" strike="noStrike">
              <a:solidFill>
                <a:srgbClr val="000000"/>
              </a:solidFill>
              <a:latin typeface="Arial"/>
            </a:endParaRPr>
          </a:p>
        </p:txBody>
      </p:sp>
      <p:grpSp>
        <p:nvGrpSpPr>
          <p:cNvPr id="276" name=""/>
          <p:cNvGrpSpPr/>
          <p:nvPr/>
        </p:nvGrpSpPr>
        <p:grpSpPr>
          <a:xfrm>
            <a:off x="2868480" y="2600280"/>
            <a:ext cx="509760" cy="488880"/>
            <a:chOff x="2868480" y="2600280"/>
            <a:chExt cx="509760" cy="488880"/>
          </a:xfrm>
        </p:grpSpPr>
        <p:sp>
          <p:nvSpPr>
            <p:cNvPr id="277"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6372360" y="2657520"/>
            <a:ext cx="507960" cy="488880"/>
            <a:chOff x="6372360" y="2657520"/>
            <a:chExt cx="507960" cy="488880"/>
          </a:xfrm>
        </p:grpSpPr>
        <p:sp>
          <p:nvSpPr>
            <p:cNvPr id="280"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2264760" y="4616280"/>
            <a:ext cx="5592600" cy="31860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تنمية القدرات القائمة على حقوق الإنسان</a:t>
            </a:r>
            <a:endParaRPr b="0" lang="en-US" sz="1900" spc="-1" strike="noStrike">
              <a:solidFill>
                <a:srgbClr val="000000"/>
              </a:solidFill>
              <a:latin typeface="Arial"/>
            </a:endParaRPr>
          </a:p>
        </p:txBody>
      </p:sp>
      <p:grpSp>
        <p:nvGrpSpPr>
          <p:cNvPr id="283" name=""/>
          <p:cNvGrpSpPr/>
          <p:nvPr/>
        </p:nvGrpSpPr>
        <p:grpSpPr>
          <a:xfrm>
            <a:off x="6991200" y="4048200"/>
            <a:ext cx="412920" cy="404640"/>
            <a:chOff x="6991200" y="4048200"/>
            <a:chExt cx="412920" cy="404640"/>
          </a:xfrm>
        </p:grpSpPr>
        <p:sp>
          <p:nvSpPr>
            <p:cNvPr id="284"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4255920" y="5783400"/>
            <a:ext cx="1341720" cy="290520"/>
            <a:chOff x="4255920" y="5783400"/>
            <a:chExt cx="1341720" cy="290520"/>
          </a:xfrm>
        </p:grpSpPr>
        <p:sp>
          <p:nvSpPr>
            <p:cNvPr id="287"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9" name="" descr=""/>
          <p:cNvPicPr/>
          <p:nvPr/>
        </p:nvPicPr>
        <p:blipFill>
          <a:blip r:embed="rId1"/>
          <a:stretch/>
        </p:blipFill>
        <p:spPr>
          <a:xfrm>
            <a:off x="4719600" y="4976640"/>
            <a:ext cx="517680" cy="806760"/>
          </a:xfrm>
          <a:prstGeom prst="rect">
            <a:avLst/>
          </a:prstGeom>
          <a:ln w="0">
            <a:noFill/>
          </a:ln>
        </p:spPr>
      </p:pic>
      <p:sp>
        <p:nvSpPr>
          <p:cNvPr id="290" name=""/>
          <p:cNvSpPr/>
          <p:nvPr/>
        </p:nvSpPr>
        <p:spPr>
          <a:xfrm>
            <a:off x="5751360" y="5726160"/>
            <a:ext cx="14446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99560" y="5856120"/>
            <a:ext cx="2399760" cy="3427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القُدرات اللازمة </a:t>
            </a:r>
            <a:endParaRPr b="0" lang="en-US" sz="1700" spc="-1" strike="noStrike">
              <a:solidFill>
                <a:srgbClr val="000000"/>
              </a:solidFill>
              <a:latin typeface="Arial"/>
            </a:endParaRPr>
          </a:p>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للمساءَلة</a:t>
            </a:r>
            <a:endParaRPr b="0" lang="en-US" sz="1700" spc="-1" strike="noStrike">
              <a:solidFill>
                <a:srgbClr val="000000"/>
              </a:solidFill>
              <a:latin typeface="Arial"/>
            </a:endParaRPr>
          </a:p>
        </p:txBody>
      </p:sp>
      <p:sp>
        <p:nvSpPr>
          <p:cNvPr id="292" name=""/>
          <p:cNvSpPr/>
          <p:nvPr/>
        </p:nvSpPr>
        <p:spPr>
          <a:xfrm>
            <a:off x="2706840" y="5726160"/>
            <a:ext cx="14968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71640" y="5811840"/>
            <a:ext cx="1162080" cy="622440"/>
          </a:xfrm>
          <a:prstGeom prst="rect">
            <a:avLst/>
          </a:prstGeom>
          <a:noFill/>
          <a:ln w="0">
            <a:noFill/>
          </a:ln>
        </p:spPr>
        <p:style>
          <a:lnRef idx="0"/>
          <a:fillRef idx="0"/>
          <a:effectRef idx="0"/>
          <a:fontRef idx="minor"/>
        </p:style>
        <p:txBody>
          <a:bodyPr lIns="0" rIns="0" tIns="0" bIns="0" anchor="t">
            <a:spAutoFit/>
          </a:bodyPr>
          <a:p>
            <a:pPr algn="ctr" rtl="1">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قدرات اللازمة للتمكين</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295"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296"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297"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298"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299"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00"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01"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02"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3"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04"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05"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06"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1413000"/>
            <a:ext cx="6983280" cy="1295280"/>
          </a:xfrm>
          <a:prstGeom prst="rect">
            <a:avLst/>
          </a:prstGeom>
          <a:solidFill>
            <a:srgbClr val="00007a"/>
          </a:solidFill>
          <a:ln w="0">
            <a:noFill/>
          </a:ln>
          <a:effectLst>
            <a:outerShdw dist="107932" dir="2700000" blurRad="0" rotWithShape="0">
              <a:srgbClr val="808080">
                <a:alpha val="50000"/>
              </a:srgbClr>
            </a:outerShdw>
          </a:effectLst>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ممارسة  تعليمات العمل الجماعي للنهج القائم على حقوق الإنسان</a:t>
            </a:r>
            <a:endParaRPr b="0" lang="en-US" sz="4000" spc="-1" strike="noStrike">
              <a:solidFill>
                <a:srgbClr val="000000"/>
              </a:solidFill>
              <a:latin typeface="Arial"/>
            </a:endParaRPr>
          </a:p>
        </p:txBody>
      </p:sp>
      <p:sp>
        <p:nvSpPr>
          <p:cNvPr id="308" name=""/>
          <p:cNvSpPr/>
          <p:nvPr/>
        </p:nvSpPr>
        <p:spPr>
          <a:xfrm>
            <a:off x="3203640" y="3789360"/>
            <a:ext cx="208764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رابعة</a:t>
            </a:r>
            <a:endParaRPr b="0" lang="en-US" sz="3200" spc="-1" strike="noStrike">
              <a:solidFill>
                <a:srgbClr val="000000"/>
              </a:solidFill>
              <a:latin typeface="Arial"/>
            </a:endParaRPr>
          </a:p>
        </p:txBody>
      </p:sp>
      <p:pic>
        <p:nvPicPr>
          <p:cNvPr id="309" name="" descr=""/>
          <p:cNvPicPr/>
          <p:nvPr/>
        </p:nvPicPr>
        <p:blipFill>
          <a:blip r:embed="rId1"/>
          <a:stretch/>
        </p:blipFill>
        <p:spPr>
          <a:xfrm>
            <a:off x="6877080" y="4005360"/>
            <a:ext cx="2309760" cy="2755800"/>
          </a:xfrm>
          <a:prstGeom prst="rect">
            <a:avLst/>
          </a:prstGeom>
          <a:ln w="0">
            <a:noFill/>
          </a:ln>
        </p:spPr>
      </p:pic>
      <p:sp>
        <p:nvSpPr>
          <p:cNvPr id="310" name=""/>
          <p:cNvSpPr/>
          <p:nvPr/>
        </p:nvSpPr>
        <p:spPr>
          <a:xfrm>
            <a:off x="7093080" y="5362560"/>
            <a:ext cx="158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7640" y="475920"/>
            <a:ext cx="7056720" cy="108108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العالمية ومبدأ عدم القابلية للتصرف</a:t>
            </a:r>
            <a:endParaRPr b="0" lang="en-US" sz="3600" spc="-1" strike="noStrike">
              <a:solidFill>
                <a:srgbClr val="000000"/>
              </a:solidFill>
              <a:latin typeface="Arial"/>
            </a:endParaRPr>
          </a:p>
        </p:txBody>
      </p:sp>
      <p:sp>
        <p:nvSpPr>
          <p:cNvPr id="312" name="PlaceHolder 2"/>
          <p:cNvSpPr>
            <a:spLocks noGrp="1"/>
          </p:cNvSpPr>
          <p:nvPr>
            <p:ph/>
          </p:nvPr>
        </p:nvSpPr>
        <p:spPr>
          <a:xfrm>
            <a:off x="1042560" y="3357720"/>
            <a:ext cx="7489800" cy="3024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تبعات الأنظمة الوطنية لحماية حقوق الإنسان</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شتمل البرامج والسياسات العامة على ما يلي: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بيانات المُصنَّفة اللازمة لتحديد حالات الإقصاء والتهميش الصعبة. </a:t>
            </a:r>
            <a:endParaRPr b="0" lang="en-US" sz="2000" spc="-1" strike="noStrike">
              <a:solidFill>
                <a:srgbClr val="000000"/>
              </a:solidFill>
              <a:latin typeface="Times New Roman"/>
            </a:endParaRPr>
          </a:p>
          <a:p>
            <a:pPr marL="609480" indent="-609480" algn="r" rtl="1">
              <a:lnSpc>
                <a:spcPct val="80000"/>
              </a:lnSpc>
              <a:spcBef>
                <a:spcPts val="60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ستراتيجيات مُعيَّنة استجابة لهذا العدد من الحالات</a:t>
            </a:r>
            <a:r>
              <a:rPr b="1" lang="ar-JO" sz="2400" spc="-1" strike="noStrike">
                <a:solidFill>
                  <a:srgbClr val="000000"/>
                </a:solidFill>
                <a:latin typeface="Arial"/>
                <a:ea typeface="Simplified Arabic"/>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ثال: حملات لقاح شلل الأطفال.</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900000" y="177336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مبدأ عالمية حقوق الإنسان يتطلب ما يلي: </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ar-JO" sz="2400" spc="-1" strike="noStrike">
                <a:solidFill>
                  <a:srgbClr val="000000"/>
                </a:solidFill>
                <a:latin typeface="Arial"/>
                <a:cs typeface="Arial"/>
              </a:rPr>
              <a:t>عدم إهمال أيّ شخص أو إقصائه من التمتُّع ب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280" y="274680"/>
            <a:ext cx="7056360" cy="14256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عدم القابلية للتجزئة ومبدأ التشابكية </a:t>
            </a:r>
            <a:r>
              <a:rPr b="0" lang="en-US" sz="3600" spc="-1" strike="noStrike">
                <a:solidFill>
                  <a:srgbClr val="ff9900"/>
                </a:solidFill>
                <a:latin typeface="Arial"/>
              </a:rPr>
              <a:t> </a:t>
            </a:r>
            <a:endParaRPr b="0" lang="en-US" sz="3600" spc="-1" strike="noStrike">
              <a:solidFill>
                <a:srgbClr val="000000"/>
              </a:solidFill>
              <a:latin typeface="Arial"/>
            </a:endParaRPr>
          </a:p>
        </p:txBody>
      </p:sp>
      <p:sp>
        <p:nvSpPr>
          <p:cNvPr id="316" name="PlaceHolder 2"/>
          <p:cNvSpPr>
            <a:spLocks noGrp="1"/>
          </p:cNvSpPr>
          <p:nvPr>
            <p:ph/>
          </p:nvPr>
        </p:nvSpPr>
        <p:spPr>
          <a:xfrm>
            <a:off x="539280" y="3500280"/>
            <a:ext cx="8209080" cy="316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9000"/>
          </a:bodyPr>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Arial"/>
                <a:cs typeface="Simplified Arabic"/>
              </a:rPr>
              <a:t>تبعات الأنظمة الوطنية للحماية</a:t>
            </a:r>
            <a:endParaRPr b="0" lang="en-US" sz="2000" spc="-1" strike="noStrike">
              <a:solidFill>
                <a:srgbClr val="000000"/>
              </a:solidFill>
              <a:latin typeface="Times New Roman"/>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طرُ العمل القانوني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لا تُعطي امتيازاً لحماية حقوق معيّنة بطريقة تُلحق الضرر بحقوق أخرى.</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كون السياساتُ العام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بنيةًِ على التحليل الشمولي لمشكلات التنمية، وأن تُقدِّم استجابات أو ردوداً متكاملةً ومتعددة القطاعات.</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على مؤسسات الدول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ضمان التنسيق المشترك بين المؤسسات والتنسيق المتعدِّد القطاعات. </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شمول تلك المؤسسات المسؤولة عن الحماية والمتابعة والمساءَلة.</a:t>
            </a:r>
            <a:endParaRPr b="0" lang="en-US" sz="2000" spc="-1" strike="noStrike">
              <a:solidFill>
                <a:srgbClr val="000000"/>
              </a:solidFill>
              <a:latin typeface="Times New Roman"/>
            </a:endParaRPr>
          </a:p>
        </p:txBody>
      </p:sp>
      <p:sp>
        <p:nvSpPr>
          <p:cNvPr id="31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95280" y="2060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3000"/>
          </a:bodyPr>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Arial"/>
              </a:rPr>
              <a:t>تتطلب مبادئ حقوق الإنسان: مبدأ عدم القابلية للتجزئة ومبدأ التشابكية، ما يلي: </a:t>
            </a:r>
            <a:endParaRPr b="0" lang="en-US" sz="2400" spc="-1" strike="noStrike">
              <a:solidFill>
                <a:srgbClr val="000000"/>
              </a:solidFill>
              <a:latin typeface="Arial"/>
            </a:endParaRPr>
          </a:p>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Arial"/>
              </a:rPr>
              <a:t>	</a:t>
            </a:r>
            <a:r>
              <a:rPr b="0" lang="ar-JO" sz="2400" spc="-1" strike="noStrike">
                <a:solidFill>
                  <a:srgbClr val="000000"/>
                </a:solidFill>
                <a:latin typeface="Arial"/>
                <a:cs typeface="Arial"/>
              </a:rPr>
              <a:t>الاعتراف المتساوي بالحقوق والحماية المتساوية ل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بدأ المساواة ومبدأ عدم التمييز</a:t>
            </a:r>
            <a:endParaRPr b="0" lang="en-US" sz="3200" spc="-1" strike="noStrike">
              <a:solidFill>
                <a:srgbClr val="000000"/>
              </a:solidFill>
              <a:latin typeface="Arial"/>
            </a:endParaRPr>
          </a:p>
        </p:txBody>
      </p:sp>
      <p:sp>
        <p:nvSpPr>
          <p:cNvPr id="320" name="PlaceHolder 2"/>
          <p:cNvSpPr>
            <a:spLocks noGrp="1"/>
          </p:cNvSpPr>
          <p:nvPr>
            <p:ph/>
          </p:nvPr>
        </p:nvSpPr>
        <p:spPr>
          <a:xfrm>
            <a:off x="395280" y="2565360"/>
            <a:ext cx="8353440" cy="4076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أُطر القانوني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لغي التشريعات التمييزي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فضي إلى تمتّع الجميع بحقوق الإنسان</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ضمن المؤسسات العام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مثيل الجماعات المهمَّشة أو المُقصاة من الإدارة العامة ومن هيئات صنع القرار.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وافر إمكانية الوصول إلى الخدمات العامة، وأن تكون تلك الخدمات مراعية للنوع الاجتماعي والعمر والاختلافات الثقاف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وجود آليات تصويب أوضاع وإنصاف إدارية وقضائية ملائم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سياسات العام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حدَّى نماذج تخصيص الملكيات وتَركُّز الموارد، مما يؤدي إلى التمييز الهيكلي والإقصاء.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خذ خطوات إيجابية لتقليص التفاوتات الاقتصادية والاجتماع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نهض بالتعليم وترفع وتيرة الوعي العام. </a:t>
            </a:r>
            <a:endParaRPr b="0" lang="en-US" sz="1800" spc="-1" strike="noStrike">
              <a:solidFill>
                <a:srgbClr val="000000"/>
              </a:solidFill>
              <a:latin typeface="Times New Roman"/>
            </a:endParaRPr>
          </a:p>
        </p:txBody>
      </p:sp>
      <p:sp>
        <p:nvSpPr>
          <p:cNvPr id="321" name=""/>
          <p:cNvSpPr/>
          <p:nvPr/>
        </p:nvSpPr>
        <p:spPr>
          <a:xfrm>
            <a:off x="1547640" y="1197000"/>
            <a:ext cx="7128000" cy="115236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تُجبرُ المساواةُ وعدم التمييز الدولَ على القيام بما يل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استئصال التمييز القانوني والمؤسس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والبُنْيوي (الهيكلي) وذلك الخاص بالعلاقات بين الأشخا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محطات تاريخية بارزة في عملية إصلاح الأمم المتحدة</a:t>
            </a:r>
            <a:endParaRPr b="0" lang="en-US" sz="3600" spc="-1" strike="noStrike">
              <a:solidFill>
                <a:srgbClr val="000000"/>
              </a:solidFill>
              <a:latin typeface="Arial"/>
            </a:endParaRPr>
          </a:p>
        </p:txBody>
      </p:sp>
      <p:sp>
        <p:nvSpPr>
          <p:cNvPr id="79" name="PlaceHolder 2"/>
          <p:cNvSpPr>
            <a:spLocks noGrp="1"/>
          </p:cNvSpPr>
          <p:nvPr>
            <p:ph/>
          </p:nvPr>
        </p:nvSpPr>
        <p:spPr>
          <a:xfrm>
            <a:off x="250920" y="1699920"/>
            <a:ext cx="8447040" cy="4753080"/>
          </a:xfrm>
          <a:prstGeom prst="rect">
            <a:avLst/>
          </a:prstGeom>
          <a:solidFill>
            <a:srgbClr val="ffffff"/>
          </a:solidFill>
          <a:ln w="0">
            <a:noFill/>
          </a:ln>
        </p:spPr>
        <p:txBody>
          <a:bodyPr lIns="90000" rIns="90000" tIns="46800" bIns="46800" anchor="t">
            <a:normAutofit fontScale="85000"/>
          </a:bodyPr>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3</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مؤتمر العالمي للأمم المتحدة حول حقوق الإنسان</a:t>
            </a:r>
            <a:r>
              <a:rPr b="0" lang="ar-JO" sz="2000" spc="-1" strike="noStrike">
                <a:solidFill>
                  <a:srgbClr val="000000"/>
                </a:solidFill>
                <a:latin typeface="Times New Roman"/>
                <a:ea typeface="Simplified Arabic"/>
              </a:rPr>
              <a:t> - تم إنشاء منصب </a:t>
            </a:r>
            <a:r>
              <a:rPr b="1" lang="ar-JO" sz="2000" spc="-1" strike="noStrike">
                <a:solidFill>
                  <a:srgbClr val="000000"/>
                </a:solidFill>
                <a:latin typeface="Times New Roman"/>
                <a:cs typeface="Simplified Arabic"/>
              </a:rPr>
              <a:t>مفوّض الأمم المتحدة السامي لحقوق الإنسان</a:t>
            </a:r>
            <a:r>
              <a:rPr b="0" lang="ar-JO" sz="2000" spc="-1" strike="noStrike">
                <a:solidFill>
                  <a:srgbClr val="000000"/>
                </a:solidFill>
                <a:latin typeface="Times New Roman"/>
                <a:ea typeface="Simplified Arabic"/>
              </a:rPr>
              <a:t> في ڤينَّا (قرار الجمعية العامة رقم </a:t>
            </a:r>
            <a:r>
              <a:rPr b="0" lang="ar-JO" sz="2000" spc="-1" strike="noStrike">
                <a:solidFill>
                  <a:srgbClr val="000000"/>
                </a:solidFill>
                <a:latin typeface="Times New Roman"/>
                <a:ea typeface="Simplified Arabic"/>
              </a:rPr>
              <a:t>48/141</a:t>
            </a:r>
            <a:r>
              <a:rPr b="0" lang="ar-JO"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7</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برنامج الأمين العام لعملية إصلاح الأمم المتحدة</a:t>
            </a:r>
            <a:r>
              <a:rPr b="0" lang="ar-JO" sz="2000" spc="-1" strike="noStrike">
                <a:solidFill>
                  <a:srgbClr val="000000"/>
                </a:solidFill>
                <a:latin typeface="Times New Roman"/>
                <a:ea typeface="Simplified Arabic"/>
              </a:rPr>
              <a:t>: حقوق الإنسان تقع في صُلب عملية تعزيز السلام والأمن والازدهار الاقتصادي والعدالة الاجتماع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0</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قمة الألفية وإعلان الألفية.</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2</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أجندة (برنامج) الأمين العام لمزيد من التغيير</a:t>
            </a:r>
            <a:r>
              <a:rPr b="0" lang="ar-JO" sz="2000" spc="-1" strike="noStrike">
                <a:solidFill>
                  <a:srgbClr val="000000"/>
                </a:solidFill>
                <a:latin typeface="Times New Roman"/>
                <a:ea typeface="Simplified Arabic"/>
              </a:rPr>
              <a:t>: حقوق الإنسان متطلب أساسي وطيد للتنم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5</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تقرير الأمين العام عن عملية إصلاح الأمم المتحدة بعنوان ”في جوٍّ من الحرية أفسح“ وثيقة نتائج القمة العالمية:</a:t>
            </a:r>
            <a:r>
              <a:rPr b="0" lang="ar-JO" sz="2000" spc="-1" strike="noStrike">
                <a:solidFill>
                  <a:srgbClr val="000000"/>
                </a:solidFill>
                <a:latin typeface="Times New Roman"/>
                <a:ea typeface="Simplified Arabic"/>
              </a:rPr>
              <a:t> دعم الإدماج الإضافي لحقوق الإنسان على نطاق منظومة الأمم المتحد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6</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تماسك على نطاق منظومة الأمم المتحدة فيما يتعلَّق بحقوق ملكية المساكن والأراضي (</a:t>
            </a:r>
            <a:r>
              <a:rPr b="1" lang="en-US" sz="1600" spc="-1" strike="noStrike">
                <a:solidFill>
                  <a:srgbClr val="000000"/>
                </a:solidFill>
                <a:latin typeface="Times New Roman"/>
                <a:ea typeface="Simplified Arabic"/>
              </a:rPr>
              <a:t>HLPR</a:t>
            </a:r>
            <a:r>
              <a:rPr b="1"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marL="678600" indent="0" algn="r" rtl="1">
              <a:lnSpc>
                <a:spcPct val="70000"/>
              </a:lnSpc>
              <a:spcBef>
                <a:spcPts val="499"/>
              </a:spcBef>
              <a:buNone/>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مبدأ المشاركة</a:t>
            </a:r>
            <a:endParaRPr b="0" lang="en-US" sz="3200" spc="-1" strike="noStrike">
              <a:solidFill>
                <a:srgbClr val="000000"/>
              </a:solidFill>
              <a:latin typeface="Arial"/>
            </a:endParaRPr>
          </a:p>
        </p:txBody>
      </p:sp>
      <p:sp>
        <p:nvSpPr>
          <p:cNvPr id="323" name="PlaceHolder 2"/>
          <p:cNvSpPr>
            <a:spLocks noGrp="1"/>
          </p:cNvSpPr>
          <p:nvPr>
            <p:ph/>
          </p:nvPr>
        </p:nvSpPr>
        <p:spPr>
          <a:xfrm>
            <a:off x="1403280" y="2565360"/>
            <a:ext cx="6840720" cy="3960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وفِّر السياسات والعمليات والإجراءات ما يلي: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فرص المشاركة في التخطيط والتنم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وصول إلى المعلومات ذات الصل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قدرات للمجموعات المهمشة على صياغة المقترحات. </a:t>
            </a:r>
            <a:endParaRPr b="0" lang="en-US" sz="1800" spc="-1" strike="noStrike">
              <a:solidFill>
                <a:srgbClr val="000000"/>
              </a:solidFill>
              <a:latin typeface="Times New Roman"/>
            </a:endParaRPr>
          </a:p>
          <a:p>
            <a:pPr marL="6094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آليات العمل المؤسس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تكون مستندة إلى المبادئ الديمقراط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لا تُعطِّل البُنى الديمقراطية أو التقليدية القائمة.</a:t>
            </a:r>
            <a:endParaRPr b="0" lang="en-US" sz="1800" spc="-1" strike="noStrike">
              <a:solidFill>
                <a:srgbClr val="000000"/>
              </a:solidFill>
              <a:latin typeface="Times New Roman"/>
            </a:endParaRPr>
          </a:p>
          <a:p>
            <a:pPr marL="609480" indent="0" algn="r" rtl="1">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مجتمع المدني أن: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كون نشيطاًً ومستقلاً وممتلكاً للقدرات .</a:t>
            </a:r>
            <a:endParaRPr b="0" lang="en-US" sz="1800" spc="-1" strike="noStrike">
              <a:solidFill>
                <a:srgbClr val="000000"/>
              </a:solidFill>
              <a:latin typeface="Times New Roman"/>
            </a:endParaRPr>
          </a:p>
          <a:p>
            <a:pPr marL="609480" indent="-609480" algn="r" rtl="1">
              <a:lnSpc>
                <a:spcPct val="12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مثِّل أصوات المجموعات المُهمَّشة والمُقصاة .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سيطر على عمليات صنع القرار. </a:t>
            </a:r>
            <a:endParaRPr b="0" lang="en-US" sz="1800" spc="-1" strike="noStrike">
              <a:solidFill>
                <a:srgbClr val="000000"/>
              </a:solidFill>
              <a:latin typeface="Times New Roman"/>
            </a:endParaRPr>
          </a:p>
        </p:txBody>
      </p:sp>
      <p:sp>
        <p:nvSpPr>
          <p:cNvPr id="324" name=""/>
          <p:cNvSpPr/>
          <p:nvPr/>
        </p:nvSpPr>
        <p:spPr>
          <a:xfrm>
            <a:off x="1403280" y="1341360"/>
            <a:ext cx="5689800" cy="100800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86000"/>
          </a:bodyPr>
          <a:p>
            <a:pPr marL="523800" indent="-523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تطلب مبدأ المشاركة في حقوق الإنسان: </a:t>
            </a:r>
            <a:endParaRPr b="0" lang="en-US" sz="2400" spc="-1" strike="noStrike">
              <a:solidFill>
                <a:srgbClr val="000000"/>
              </a:solidFill>
              <a:latin typeface="Arial"/>
            </a:endParaRPr>
          </a:p>
          <a:p>
            <a:pPr marL="523800" indent="-52380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SimSun"/>
              </a:rPr>
              <a:t>	</a:t>
            </a:r>
            <a:r>
              <a:rPr b="0" lang="ar-JO" sz="2200" spc="-1" strike="noStrike">
                <a:solidFill>
                  <a:srgbClr val="000000"/>
                </a:solidFill>
                <a:latin typeface="Arial"/>
                <a:cs typeface="Simplified Arabic"/>
              </a:rPr>
              <a:t>المشاركة الحرة والنشيطة والشمولية وذات المعن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endParaRPr b="0" lang="en-US" sz="4400" spc="-1" strike="noStrike">
              <a:solidFill>
                <a:srgbClr val="000000"/>
              </a:solidFill>
              <a:latin typeface="Arial"/>
            </a:endParaRPr>
          </a:p>
        </p:txBody>
      </p:sp>
      <p:sp>
        <p:nvSpPr>
          <p:cNvPr id="326" name="PlaceHolder 2"/>
          <p:cNvSpPr>
            <a:spLocks noGrp="1"/>
          </p:cNvSpPr>
          <p:nvPr>
            <p:ph/>
          </p:nvPr>
        </p:nvSpPr>
        <p:spPr>
          <a:xfrm>
            <a:off x="1115640" y="3141720"/>
            <a:ext cx="7559640" cy="3527280"/>
          </a:xfrm>
          <a:prstGeom prst="rect">
            <a:avLst/>
          </a:prstGeom>
          <a:solidFill>
            <a:srgbClr val="ffffff"/>
          </a:solidFill>
          <a:ln w="0">
            <a:noFill/>
          </a:ln>
          <a:effectLst>
            <a:outerShdw dist="40186" dir="4303641" blurRad="0" rotWithShape="0">
              <a:srgbClr val="808080"/>
            </a:outerShdw>
          </a:effectLst>
        </p:spPr>
        <p:txBody>
          <a:bodyPr lIns="90000" rIns="90000" tIns="137160" bIns="46800" anchor="t">
            <a:normAutofit fontScale="86000"/>
          </a:bodyPr>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23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جب أن يتم تزويد مؤسسات الدولة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الموارد الكافية والمسؤوليات والسلطة المستقلة لمراقبة الحكومة بطريقة مُجدية. </a:t>
            </a:r>
            <a:endParaRPr b="0" lang="en-US" sz="20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ea typeface="Simplified Arabic"/>
              </a:rPr>
              <a:t>	</a:t>
            </a:r>
            <a:r>
              <a:rPr b="0" lang="ar-JO" sz="2000" spc="-1" strike="noStrike">
                <a:solidFill>
                  <a:srgbClr val="000000"/>
                </a:solidFill>
                <a:latin typeface="Times New Roman"/>
                <a:cs typeface="Simplified Arabic"/>
              </a:rPr>
              <a:t>مثال : وجود هيئات برلمانية مستقلة لحقوق الإنسان، ومؤسسات وطنية لحقوق الإنسان، وقضاة، ومحاكم، ومستشارين قانونيين. </a:t>
            </a:r>
            <a:endParaRPr b="0" lang="en-US" sz="2000" spc="-1" strike="noStrike">
              <a:solidFill>
                <a:srgbClr val="000000"/>
              </a:solidFill>
              <a:latin typeface="Times New Roman"/>
            </a:endParaRPr>
          </a:p>
          <a:p>
            <a:pPr marL="523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على الدولة أن تتعامل مع الأنظمة الوطنية لحقوق الإنسان عن طريق: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وفاء في الوقت المطلوب بالالتزامات الدولية للإبلاغ (إعداد التقارير).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دعوة إلى تطبيق الإجراءات الخاصة وتقديم المعلومات.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تنفيذ توصيات هيئات المعاهدة والإجراءات الخاصة.</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p:txBody>
      </p:sp>
      <p:sp>
        <p:nvSpPr>
          <p:cNvPr id="32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11280" y="1628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طالب مبدأُ المساءَلة ...</a:t>
            </a:r>
            <a:br>
              <a:rPr sz="2400"/>
            </a:br>
            <a:r>
              <a:rPr b="0" lang="ar-JO" sz="2400" spc="-1" strike="noStrike">
                <a:solidFill>
                  <a:srgbClr val="000000"/>
                </a:solidFill>
                <a:latin typeface="Times New Roman"/>
                <a:cs typeface="Simplified Arabic"/>
              </a:rPr>
              <a:t>الدولَ والقائمين بالواجبات الآخرين بأن يكونوا مسؤولين عن مراعاة إحقاق 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330" name="PlaceHolder 2"/>
          <p:cNvSpPr>
            <a:spLocks noGrp="1"/>
          </p:cNvSpPr>
          <p:nvPr>
            <p:ph/>
          </p:nvPr>
        </p:nvSpPr>
        <p:spPr>
          <a:xfrm>
            <a:off x="611280" y="3141360"/>
            <a:ext cx="7634160" cy="31669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تبعات أنظمة حماية حقوق الإنسان:</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أُطر العمل القانوني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كون متوافقة مع أعراف حقوق الإنسا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وجِدَ شروطاً وإجراءات وآليات عمل لأصحاب الحقوق للمطالبة بحقوقهم، وللقائمين بالواجبات للوفاء بالتزاماتهم.</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سياسات العام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تّخذ خطوات تدريجية للتصدي إلى مواطن الضعف في أنظمة المُساءَلة.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نفِّذ التزامات الدولة تجاه حقوق الإنسان على المستويات المركزية والإقليمية والمحلية.</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31" name=""/>
          <p:cNvSpPr/>
          <p:nvPr/>
        </p:nvSpPr>
        <p:spPr>
          <a:xfrm>
            <a:off x="539640" y="141300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ما يلي: </a:t>
            </a:r>
            <a:endParaRPr b="0" lang="en-US" sz="2400" spc="-1" strike="noStrike">
              <a:solidFill>
                <a:srgbClr val="000000"/>
              </a:solidFill>
              <a:latin typeface="Arial"/>
            </a:endParaRPr>
          </a:p>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وجود آليات عمل وإجراءات تصويب أوضاع وإنصاف مستقلة وفعَّالة ويمكن الوصول إ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 </a:t>
            </a:r>
            <a:endParaRPr b="0" lang="en-US" sz="4400" spc="-1" strike="noStrike">
              <a:solidFill>
                <a:srgbClr val="000000"/>
              </a:solidFill>
              <a:latin typeface="Arial"/>
            </a:endParaRPr>
          </a:p>
        </p:txBody>
      </p:sp>
      <p:sp>
        <p:nvSpPr>
          <p:cNvPr id="333" name="PlaceHolder 2"/>
          <p:cNvSpPr>
            <a:spLocks noGrp="1"/>
          </p:cNvSpPr>
          <p:nvPr>
            <p:ph/>
          </p:nvPr>
        </p:nvSpPr>
        <p:spPr>
          <a:xfrm>
            <a:off x="1258560" y="3213000"/>
            <a:ext cx="7489800" cy="295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5000"/>
          </a:bodyPr>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جتمعُ المدني الفعَّال المراعي لحساسية الحقوق يجب أن: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رصد ويراقب التزام الدولة بالتزامات حقوق الإنسان فيها.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عبّر بالتفصيل عن هموم المجتمع وأن يُناصر التغيير الإيجابي في المجتمع.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قدم إلى الآليات الدولية لحقوق الإنسان المعلومات وتقارير الظل.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مثال: حملة الحصول على العلاجات المضادة </a:t>
            </a:r>
            <a:r>
              <a:rPr b="0" lang="ar-JO" sz="2000" spc="-1" strike="noStrike">
                <a:solidFill>
                  <a:srgbClr val="000000"/>
                </a:solidFill>
                <a:latin typeface="Times New Roman"/>
                <a:cs typeface="Times New Roman"/>
              </a:rPr>
              <a:t>للڤيروس</a:t>
            </a:r>
            <a:r>
              <a:rPr b="0" lang="ar-JO" sz="2000" spc="-1" strike="noStrike">
                <a:solidFill>
                  <a:srgbClr val="000000"/>
                </a:solidFill>
                <a:latin typeface="Times New Roman"/>
                <a:ea typeface="Simplified Arabic"/>
              </a:rPr>
              <a:t> القهقري في جنوب إفريقيا. </a:t>
            </a:r>
            <a:endParaRPr b="0" lang="en-US" sz="2000" spc="-1" strike="noStrike">
              <a:solidFill>
                <a:srgbClr val="000000"/>
              </a:solidFill>
              <a:latin typeface="Times New Roman"/>
            </a:endParaRPr>
          </a:p>
        </p:txBody>
      </p:sp>
      <p:sp>
        <p:nvSpPr>
          <p:cNvPr id="334"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684360" y="1484280"/>
            <a:ext cx="684180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6000"/>
          </a:bodyPr>
          <a:p>
            <a:pPr marL="585000" indent="-585000"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وجود ما يلي: </a:t>
            </a:r>
            <a:br>
              <a:rPr sz="2400"/>
            </a:br>
            <a:r>
              <a:rPr b="0" lang="ar-JO" sz="2400" spc="-1" strike="noStrike">
                <a:solidFill>
                  <a:srgbClr val="000000"/>
                </a:solidFill>
                <a:latin typeface="Times New Roman"/>
                <a:cs typeface="Simplified Arabic"/>
              </a:rPr>
              <a:t>وسائل إعلام حرة مستقلة ومجانية، وجماعات مدافعة عن حقوق الإنسان تكون تمثيلية في طابعها للرجال والنساء والجماعات المُهمَّشة والمُقص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7640" y="476280"/>
            <a:ext cx="6985080" cy="131904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بُعْدُ النوع الاجتماعي والعُمُر في الأَزَمات</a:t>
            </a:r>
            <a:r>
              <a:rPr b="0" lang="en-US" sz="3600" spc="-1" strike="noStrike">
                <a:solidFill>
                  <a:srgbClr val="000000"/>
                </a:solidFill>
                <a:latin typeface="Arial"/>
                <a:ea typeface="Simplified Arabic"/>
              </a:rPr>
              <a:t> </a:t>
            </a:r>
            <a:r>
              <a:rPr b="0" lang="ar-JO" sz="3600" spc="-1" strike="noStrike">
                <a:solidFill>
                  <a:srgbClr val="000000"/>
                </a:solidFill>
                <a:latin typeface="Arial"/>
                <a:cs typeface="Simplified Arabic"/>
              </a:rPr>
              <a:t>والأوضاع الطارئة</a:t>
            </a:r>
            <a:endParaRPr b="0" lang="en-US" sz="3600" spc="-1" strike="noStrike">
              <a:solidFill>
                <a:srgbClr val="000000"/>
              </a:solidFill>
              <a:latin typeface="Arial"/>
            </a:endParaRPr>
          </a:p>
        </p:txBody>
      </p:sp>
      <p:sp>
        <p:nvSpPr>
          <p:cNvPr id="337" name="PlaceHolder 2"/>
          <p:cNvSpPr>
            <a:spLocks noGrp="1"/>
          </p:cNvSpPr>
          <p:nvPr>
            <p:ph type="subTitle"/>
          </p:nvPr>
        </p:nvSpPr>
        <p:spPr>
          <a:xfrm>
            <a:off x="838080" y="2349000"/>
            <a:ext cx="7391520" cy="4203720"/>
          </a:xfrm>
          <a:prstGeom prst="rect">
            <a:avLst/>
          </a:prstGeom>
          <a:solidFill>
            <a:srgbClr val="ffffff"/>
          </a:solid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يُمكن أن تُحدث الأَزَماتُ والأوضاع الطارئة آثاراً مختلفة جداً على كل من الرجال والنساء والأطفال. </a:t>
            </a: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وتُشكِّل النساءُ والأطفال دائماً تقريباً أغلبية كبرى من المجموعات السكانية النازحة داخل بلدانها واللاَّجئ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1412640"/>
            <a:ext cx="777708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cs typeface="Arial"/>
              </a:rPr>
              <a:t>ربط الحقوق بالنتائج: </a:t>
            </a:r>
            <a:br>
              <a:rPr sz="4400"/>
            </a:br>
            <a:r>
              <a:rPr b="1" lang="ar-JO" sz="4400" spc="-1" strike="noStrike">
                <a:solidFill>
                  <a:srgbClr val="ffffff"/>
                </a:solidFill>
                <a:latin typeface="Arial"/>
                <a:cs typeface="Arial"/>
              </a:rPr>
              <a:t>نهج ”الخطوة تلو الخطوة“ </a:t>
            </a:r>
            <a:endParaRPr b="0" lang="en-US" sz="4400" spc="-1" strike="noStrike">
              <a:solidFill>
                <a:srgbClr val="000000"/>
              </a:solidFill>
              <a:latin typeface="Arial"/>
            </a:endParaRPr>
          </a:p>
        </p:txBody>
      </p:sp>
      <p:sp>
        <p:nvSpPr>
          <p:cNvPr id="339" name=""/>
          <p:cNvSpPr/>
          <p:nvPr/>
        </p:nvSpPr>
        <p:spPr>
          <a:xfrm>
            <a:off x="2556000" y="4292640"/>
            <a:ext cx="2376360" cy="19227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جلسات الخامسة والسادسة والسابعة والثامنة</a:t>
            </a:r>
            <a:endParaRPr b="0" lang="en-US" sz="2400" spc="-1" strike="noStrike">
              <a:solidFill>
                <a:srgbClr val="000000"/>
              </a:solidFill>
              <a:latin typeface="Arial"/>
            </a:endParaRPr>
          </a:p>
        </p:txBody>
      </p:sp>
      <p:pic>
        <p:nvPicPr>
          <p:cNvPr id="340" name="" descr=""/>
          <p:cNvPicPr/>
          <p:nvPr/>
        </p:nvPicPr>
        <p:blipFill>
          <a:blip r:embed="rId1"/>
          <a:stretch/>
        </p:blipFill>
        <p:spPr>
          <a:xfrm>
            <a:off x="6877080" y="4005360"/>
            <a:ext cx="2309760" cy="2755800"/>
          </a:xfrm>
          <a:prstGeom prst="rect">
            <a:avLst/>
          </a:prstGeom>
          <a:ln w="0">
            <a:noFill/>
          </a:ln>
        </p:spPr>
      </p:pic>
      <p:sp>
        <p:nvSpPr>
          <p:cNvPr id="341" name=""/>
          <p:cNvSpPr/>
          <p:nvPr/>
        </p:nvSpPr>
        <p:spPr>
          <a:xfrm>
            <a:off x="7093080" y="5362560"/>
            <a:ext cx="158436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33"/>
                </a:solidFill>
                <a:latin typeface="Arial"/>
                <a:cs typeface="Arial"/>
              </a:rPr>
              <a:t>الإجراء الثاني: تعلّم حقوق الإن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343"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344"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345"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346"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347"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48"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49"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50"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52"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53"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54"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55" name=""/>
          <p:cNvSpPr/>
          <p:nvPr/>
        </p:nvSpPr>
        <p:spPr>
          <a:xfrm rot="10800000">
            <a:off x="1763280" y="2060280"/>
            <a:ext cx="5450040" cy="424800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10800000">
            <a:off x="2411280" y="3141360"/>
            <a:ext cx="4105440" cy="31208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3132000" y="4220640"/>
            <a:ext cx="2735280" cy="2087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411280" y="2092320"/>
            <a:ext cx="4032360" cy="10072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جمع المعلومات</a:t>
            </a:r>
            <a:r>
              <a:rPr b="0" lang="ar-JO" sz="2000" spc="-1" strike="noStrike">
                <a:solidFill>
                  <a:srgbClr val="000000"/>
                </a:solidFill>
                <a:latin typeface="Arial"/>
                <a:ea typeface="Simplified Arabic"/>
              </a:rPr>
              <a:t> </a:t>
            </a:r>
            <a:br>
              <a:rPr sz="2000"/>
            </a:br>
            <a:r>
              <a:rPr b="0" lang="ar-JO" sz="1600" spc="-1" strike="noStrike">
                <a:solidFill>
                  <a:srgbClr val="000000"/>
                </a:solidFill>
                <a:latin typeface="Arial"/>
                <a:cs typeface="Simplified Arabic"/>
              </a:rPr>
              <a:t>حول المؤشرات، والسياسات والخطط الناتجة عن المسوح، ووثائق الأبحاث والتقارير</a:t>
            </a:r>
            <a:endParaRPr b="0" lang="en-US" sz="1600" spc="-1" strike="noStrike">
              <a:solidFill>
                <a:srgbClr val="000000"/>
              </a:solidFill>
              <a:latin typeface="Arial"/>
            </a:endParaRPr>
          </a:p>
        </p:txBody>
      </p:sp>
      <p:sp>
        <p:nvSpPr>
          <p:cNvPr id="359" name=""/>
          <p:cNvSpPr/>
          <p:nvPr/>
        </p:nvSpPr>
        <p:spPr>
          <a:xfrm>
            <a:off x="3419640" y="3141720"/>
            <a:ext cx="2234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تقييم والتحليل </a:t>
            </a:r>
            <a:endParaRPr b="0" lang="en-US" sz="2400" spc="-1" strike="noStrike">
              <a:solidFill>
                <a:srgbClr val="000000"/>
              </a:solidFill>
              <a:latin typeface="Arial"/>
            </a:endParaRPr>
          </a:p>
        </p:txBody>
      </p:sp>
      <p:sp>
        <p:nvSpPr>
          <p:cNvPr id="360" name=""/>
          <p:cNvSpPr/>
          <p:nvPr/>
        </p:nvSpPr>
        <p:spPr>
          <a:xfrm>
            <a:off x="3492360" y="4437000"/>
            <a:ext cx="1930680" cy="764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ختيار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Arial"/>
              </a:rPr>
              <a:t>مجالات التعاون</a:t>
            </a:r>
            <a:r>
              <a:rPr b="0"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361" name=""/>
          <p:cNvSpPr/>
          <p:nvPr/>
        </p:nvSpPr>
        <p:spPr>
          <a:xfrm>
            <a:off x="4284720" y="3052800"/>
            <a:ext cx="43164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56000" y="4149720"/>
            <a:ext cx="381240" cy="3268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619280" y="620640"/>
            <a:ext cx="7345440" cy="720720"/>
          </a:xfrm>
          <a:prstGeom prst="rect">
            <a:avLst/>
          </a:prstGeom>
          <a:solidFill>
            <a:srgbClr val="ffffff"/>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rial"/>
              </a:rPr>
              <a:t>متى ينبغي البدء في تطبيق النهج القائم على  حقوق الإنس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27280" y="333360"/>
            <a:ext cx="7237440" cy="936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جمع المعلومات</a:t>
            </a:r>
            <a:endParaRPr b="0" lang="en-US" sz="3200" spc="-1" strike="noStrike">
              <a:solidFill>
                <a:srgbClr val="000000"/>
              </a:solidFill>
              <a:latin typeface="Arial"/>
            </a:endParaRPr>
          </a:p>
        </p:txBody>
      </p:sp>
      <p:sp>
        <p:nvSpPr>
          <p:cNvPr id="365" name="PlaceHolder 2"/>
          <p:cNvSpPr>
            <a:spLocks noGrp="1"/>
          </p:cNvSpPr>
          <p:nvPr>
            <p:ph/>
          </p:nvPr>
        </p:nvSpPr>
        <p:spPr>
          <a:xfrm>
            <a:off x="684000" y="1557000"/>
            <a:ext cx="7993080" cy="4869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ا هي المعلومات المطلوبة: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ي السياقات المدنية والثقافية والاقتصادية والسياسية والاجتماعية. </a:t>
            </a:r>
            <a:endParaRPr b="0" lang="en-US" sz="2400" spc="-1" strike="noStrike">
              <a:solidFill>
                <a:srgbClr val="000000"/>
              </a:solidFill>
              <a:latin typeface="Times New Roman"/>
            </a:endParaRPr>
          </a:p>
          <a:p>
            <a:pPr marL="312120" indent="-312120" algn="r" rtl="1">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a:t>
            </a:r>
            <a:r>
              <a:rPr b="1" lang="ar-JO" sz="2400" spc="-1" strike="noStrike">
                <a:solidFill>
                  <a:srgbClr val="000000"/>
                </a:solidFill>
                <a:latin typeface="Times New Roman"/>
                <a:cs typeface="Simplified Arabic"/>
              </a:rPr>
              <a:t>المصنَّفة</a:t>
            </a:r>
            <a:r>
              <a:rPr b="0" lang="ar-JO" sz="2400" spc="-1" strike="noStrike">
                <a:solidFill>
                  <a:srgbClr val="000000"/>
                </a:solidFill>
                <a:latin typeface="Times New Roman"/>
                <a:ea typeface="Simplified Arabic"/>
              </a:rPr>
              <a:t> وفقاً للأُسس المعيارية لعدم التمييز. </a:t>
            </a:r>
            <a:endParaRPr b="0" lang="en-US" sz="2400" spc="-1" strike="noStrike">
              <a:solidFill>
                <a:srgbClr val="000000"/>
              </a:solidFill>
              <a:latin typeface="Times New Roman"/>
            </a:endParaRPr>
          </a:p>
          <a:p>
            <a:pPr marL="3121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مثال: معلومات عن الجنس، والعمر، ومعلومات عن المناطق الإثنية، والريفية والحضرية.</a:t>
            </a:r>
            <a:endParaRPr b="0" lang="en-US" sz="2400" spc="-1" strike="noStrike">
              <a:solidFill>
                <a:srgbClr val="000000"/>
              </a:solidFill>
              <a:latin typeface="Times New Roman"/>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صادر المعلومات: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اعتماد على المعلومات والتقييمات والتحاليل </a:t>
            </a:r>
            <a:r>
              <a:rPr b="1" lang="ar-JO" sz="2400" spc="-1" strike="noStrike">
                <a:solidFill>
                  <a:srgbClr val="000000"/>
                </a:solidFill>
                <a:latin typeface="Times New Roman"/>
                <a:cs typeface="Simplified Arabic"/>
              </a:rPr>
              <a:t>الوطنية. </a:t>
            </a:r>
            <a:endParaRPr b="0" lang="en-US" sz="2400" spc="-1" strike="noStrike">
              <a:solidFill>
                <a:srgbClr val="000000"/>
              </a:solidFill>
              <a:latin typeface="Times New Roman"/>
            </a:endParaRPr>
          </a:p>
          <a:p>
            <a:pPr marL="312120" indent="-312120" algn="r"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وّع المصادر بما في ذلك المعلومات المستقاة من الآليات الدولية، والإقليمية والوطنية لحقوق الإنسان.</a:t>
            </a:r>
            <a:endParaRPr b="0" lang="en-US" sz="2400" spc="-1" strike="noStrike">
              <a:solidFill>
                <a:srgbClr val="000000"/>
              </a:solidFill>
              <a:latin typeface="Times New Roman"/>
            </a:endParaRPr>
          </a:p>
          <a:p>
            <a:pPr marL="31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المعلومات وعملية تحليلها:</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عملية تشاركية وشمولية وتتَّصف بالمساءَلة ومراعاتها للحساسيَّات الثقاف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60280"/>
            <a:ext cx="7272360" cy="1008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قييم</a:t>
            </a:r>
            <a:endParaRPr b="0" lang="en-US" sz="3200" spc="-1" strike="noStrike">
              <a:solidFill>
                <a:srgbClr val="000000"/>
              </a:solidFill>
              <a:latin typeface="Arial"/>
            </a:endParaRPr>
          </a:p>
        </p:txBody>
      </p:sp>
      <p:sp>
        <p:nvSpPr>
          <p:cNvPr id="367" name="PlaceHolder 2"/>
          <p:cNvSpPr>
            <a:spLocks noGrp="1"/>
          </p:cNvSpPr>
          <p:nvPr>
            <p:ph/>
          </p:nvPr>
        </p:nvSpPr>
        <p:spPr>
          <a:xfrm>
            <a:off x="755640" y="1700280"/>
            <a:ext cx="5472000" cy="439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3000"/>
          </a:bodyPr>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غاية من التقييم:</a:t>
            </a:r>
            <a:endParaRPr b="0" lang="en-US" sz="1800" spc="-1" strike="noStrike">
              <a:solidFill>
                <a:srgbClr val="000000"/>
              </a:solidFill>
              <a:latin typeface="Times New Roman"/>
            </a:endParaRPr>
          </a:p>
          <a:p>
            <a:pPr marL="284400" indent="-284400" algn="r" rtl="1">
              <a:lnSpc>
                <a:spcPct val="1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شخيص التحدِّيات الأساسية التي تواجه حقوق الإنسان والتنمية </a:t>
            </a:r>
            <a:r>
              <a:rPr b="1" i="1" lang="ar-JO" sz="1800" spc="-1" strike="noStrike">
                <a:solidFill>
                  <a:srgbClr val="000000"/>
                </a:solidFill>
                <a:latin typeface="Times New Roman"/>
                <a:cs typeface="Simplified Arabic"/>
              </a:rPr>
              <a:t>ماذا يحدث؟ مع من يحدث؟ وأين يحدث؟ </a:t>
            </a:r>
            <a:br>
              <a:rPr sz="1800"/>
            </a:br>
            <a:r>
              <a:rPr b="0" lang="en-GB" sz="1800" spc="-1" strike="noStrike">
                <a:solidFill>
                  <a:srgbClr val="000000"/>
                </a:solidFill>
                <a:latin typeface="Arial"/>
                <a:ea typeface="Simplified Arabic"/>
              </a:rPr>
              <a:t> </a:t>
            </a:r>
            <a:r>
              <a:rPr b="0" lang="ar-JO" sz="1800" spc="-1" strike="noStrike">
                <a:solidFill>
                  <a:srgbClr val="000000"/>
                </a:solidFill>
                <a:latin typeface="Times New Roman"/>
                <a:cs typeface="Simplified Arabic"/>
              </a:rPr>
              <a:t>مثال: تتسرَّبُ فتاتان من كل ثلاث فتيات من السكان الريفيين الأصليين، من المدارس الابتدائية بعد السنة الثانية من التحاقهنّ بها.</a:t>
            </a:r>
            <a:endParaRPr b="0" lang="en-US" sz="1800" spc="-1" strike="noStrike">
              <a:solidFill>
                <a:srgbClr val="000000"/>
              </a:solidFill>
              <a:latin typeface="Times New Roman"/>
            </a:endParaRPr>
          </a:p>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خصائص المميِّزة لأي تحدٍّ من تحديات التنمية: </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التعبير عن التَّحدي كأحد قضايا حقوق الإنسان.</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أن يُصاغ التحدِّي بأسلوب مُركَّز على الناس.</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68" name=""/>
          <p:cNvSpPr/>
          <p:nvPr/>
        </p:nvSpPr>
        <p:spPr>
          <a:xfrm>
            <a:off x="6732720" y="4797360"/>
            <a:ext cx="2087280" cy="1511280"/>
          </a:xfrm>
          <a:prstGeom prst="wedgeRectCallout">
            <a:avLst>
              <a:gd name="adj1" fmla="val -64828"/>
              <a:gd name="adj2" fmla="val -1659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حدِّد معايير حقوق الإنسان الواجبة التطبيق (المطالبات والواجبات)</a:t>
            </a:r>
            <a:endParaRPr b="0" lang="en-US" sz="2000" spc="-1" strike="noStrike">
              <a:solidFill>
                <a:srgbClr val="000000"/>
              </a:solidFill>
              <a:latin typeface="Arial"/>
            </a:endParaRPr>
          </a:p>
        </p:txBody>
      </p:sp>
      <p:sp>
        <p:nvSpPr>
          <p:cNvPr id="369" name=""/>
          <p:cNvSpPr/>
          <p:nvPr/>
        </p:nvSpPr>
        <p:spPr>
          <a:xfrm>
            <a:off x="6443640" y="1916280"/>
            <a:ext cx="2449440" cy="1657080"/>
          </a:xfrm>
          <a:prstGeom prst="wedgeRectCallout">
            <a:avLst>
              <a:gd name="adj1" fmla="val -50324"/>
              <a:gd name="adj2" fmla="val 936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قدِّم الآليات الدولية لحقوق الإنسان قراءةً لتحديات التنمية من منظور حقوق الإنسا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69"/>
                                        </p:tgtEl>
                                        <p:attrNameLst>
                                          <p:attrName>style.visibility</p:attrName>
                                        </p:attrNameLst>
                                      </p:cBhvr>
                                      <p:to>
                                        <p:strVal val="visible"/>
                                      </p:to>
                                    </p:set>
                                    <p:animEffect filter="box(in)" transition="in">
                                      <p:cBhvr additive="repl">
                                        <p:cTn id="158" dur="500"/>
                                        <p:tgtEl>
                                          <p:spTgt spid="3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368"/>
                                        </p:tgtEl>
                                        <p:attrNameLst>
                                          <p:attrName>style.visibility</p:attrName>
                                        </p:attrNameLst>
                                      </p:cBhvr>
                                      <p:to>
                                        <p:strVal val="visible"/>
                                      </p:to>
                                    </p:set>
                                    <p:animEffect filter="box(in)" transition="in">
                                      <p:cBhvr additive="repl">
                                        <p:cTn id="16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320"/>
            <a:ext cx="663588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الجوهرية/الموضوعية</a:t>
            </a:r>
            <a:endParaRPr b="0" lang="en-US" sz="3600" spc="-1" strike="noStrike">
              <a:solidFill>
                <a:srgbClr val="000000"/>
              </a:solidFill>
              <a:latin typeface="Arial"/>
            </a:endParaRPr>
          </a:p>
        </p:txBody>
      </p:sp>
      <p:sp>
        <p:nvSpPr>
          <p:cNvPr id="81" name="PlaceHolder 2"/>
          <p:cNvSpPr>
            <a:spLocks noGrp="1"/>
          </p:cNvSpPr>
          <p:nvPr>
            <p:ph/>
          </p:nvPr>
        </p:nvSpPr>
        <p:spPr>
          <a:xfrm>
            <a:off x="468360" y="1773000"/>
            <a:ext cx="8229600" cy="4824360"/>
          </a:xfrm>
          <a:prstGeom prst="rect">
            <a:avLst/>
          </a:prstGeom>
          <a:solidFill>
            <a:srgbClr val="ffffff"/>
          </a:solidFill>
          <a:ln w="0">
            <a:noFill/>
          </a:ln>
        </p:spPr>
        <p:txBody>
          <a:bodyPr lIns="90000" rIns="90000" tIns="46800" bIns="46800" anchor="t">
            <a:normAutofit fontScale="94000"/>
          </a:bodyPr>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ea typeface="Simplified Arabic"/>
              </a:rPr>
              <a:t>”حتى إن تمتّع اليافع أو الشابُّ المصاب بمتلازمة نقص المناعة المكتسبة (الإيدز) – الذي لا يستطيع القراءة أو الكتابة، والذي يعيش على شفير الموت جوعاً - بالحق في التصويت لاختيار حكّامه، فهو ليس حُراً بالفعل. وعلى قدم المساواة مع ذلك، فإنه حتى وإن كانت المرأة التي تعيش تحت ظل العنف اليومي – والتي لا تتمتع بحق التعبير عن رأيها في كيفية إدارة دولتها – تكسب من الرزق ما يكفي لإعالتها، فهي ليست حرة بالفعل.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في جوّ من الحرية أفسح“</a:t>
            </a:r>
            <a:r>
              <a:rPr b="0" lang="ar-JO" sz="1900" spc="-1" strike="noStrike">
                <a:solidFill>
                  <a:srgbClr val="000000"/>
                </a:solidFill>
                <a:latin typeface="Times New Roman"/>
                <a:ea typeface="Simplified Arabic"/>
              </a:rPr>
              <a:t> يعني ضمناً أن يتمتع الرجال والنساء في كل مكان بالحق في الخضوع تحت السيطرة بموافقتهم الشخصية، وبمقتضى القانون، في مجتمع يستطيع فيه جميع الأفراد، بحُرِّيَّة ومن دون تمييز أو عقوبة، التعبير عن أنفسهم، وممارسة طقوس العبادة، والانتماء إلى الجمعيات والمنظمات.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Simplified Arabic"/>
              </a:rPr>
              <a:t>ويجب كذلك أن يتمتعوا </a:t>
            </a:r>
            <a:r>
              <a:rPr b="1" lang="ar-JO" sz="1900" spc="-1" strike="noStrike">
                <a:solidFill>
                  <a:srgbClr val="000000"/>
                </a:solidFill>
                <a:latin typeface="Times New Roman"/>
                <a:cs typeface="Simplified Arabic"/>
              </a:rPr>
              <a:t>بالحرية من العَوَز والحاجة</a:t>
            </a:r>
            <a:r>
              <a:rPr b="0" lang="ar-JO" sz="1900" spc="-1" strike="noStrike">
                <a:solidFill>
                  <a:srgbClr val="000000"/>
                </a:solidFill>
                <a:latin typeface="Times New Roman"/>
                <a:cs typeface="Simplified Arabic"/>
              </a:rPr>
              <a:t>، لكي تُرْفَع الأحكام بالإعدام بسبب الفقر المُدقع والأمراض المعدية من حياتهم، وأن يتمتعوا </a:t>
            </a:r>
            <a:r>
              <a:rPr b="1" lang="ar-JO" sz="1900" spc="-1" strike="noStrike">
                <a:solidFill>
                  <a:srgbClr val="000000"/>
                </a:solidFill>
                <a:latin typeface="Times New Roman"/>
                <a:cs typeface="Simplified Arabic"/>
              </a:rPr>
              <a:t>بالتحرّر من الخوف</a:t>
            </a:r>
            <a:r>
              <a:rPr b="0" lang="ar-JO" sz="1900" spc="-1" strike="noStrike">
                <a:solidFill>
                  <a:srgbClr val="000000"/>
                </a:solidFill>
                <a:latin typeface="Times New Roman"/>
                <a:cs typeface="Simplified Arabic"/>
              </a:rPr>
              <a:t>، لكي لا يُمزِّق العنف والحرب حياتهم وأسباب عيشهم.“</a:t>
            </a:r>
            <a:endParaRPr b="0" lang="en-US" sz="1900" spc="-1" strike="noStrike">
              <a:solidFill>
                <a:srgbClr val="000000"/>
              </a:solidFill>
              <a:latin typeface="Times New Roman"/>
            </a:endParaRPr>
          </a:p>
          <a:p>
            <a:pPr indent="0" algn="ctr"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الإصلاح ”في جوٍّ من الحرية أفسح“، </a:t>
            </a:r>
            <a:r>
              <a:rPr b="1" lang="ar-JO" sz="1900" spc="-1" strike="noStrike">
                <a:solidFill>
                  <a:srgbClr val="000000"/>
                </a:solidFill>
                <a:latin typeface="Times New Roman"/>
                <a:ea typeface="Simplified Arabic"/>
              </a:rPr>
              <a:t>2005</a:t>
            </a:r>
            <a:endParaRPr b="0" lang="en-US" sz="19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549360"/>
            <a:ext cx="7273800" cy="90792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تحليل: </a:t>
            </a:r>
            <a:br>
              <a:rPr sz="2400"/>
            </a:br>
            <a:r>
              <a:rPr b="1" lang="ar-JO" sz="2400" spc="-1" strike="noStrike">
                <a:solidFill>
                  <a:srgbClr val="000000"/>
                </a:solidFill>
                <a:latin typeface="Arial"/>
                <a:cs typeface="Simplified Arabic"/>
              </a:rPr>
              <a:t>التحليل السَّببي (</a:t>
            </a:r>
            <a:r>
              <a:rPr b="1" lang="ar-JO" sz="2400" spc="-1" strike="noStrike">
                <a:solidFill>
                  <a:srgbClr val="000000"/>
                </a:solidFill>
                <a:latin typeface="Arial"/>
                <a:ea typeface="Simplified Arabic"/>
              </a:rPr>
              <a:t>1</a:t>
            </a:r>
            <a:r>
              <a:rPr b="1" lang="ar-JO"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371" name=""/>
          <p:cNvSpPr/>
          <p:nvPr/>
        </p:nvSpPr>
        <p:spPr>
          <a:xfrm>
            <a:off x="755640" y="1916280"/>
            <a:ext cx="7991640" cy="4176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7240" indent="586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6600ff"/>
                </a:solidFill>
                <a:latin typeface="Arial"/>
                <a:cs typeface="Arial"/>
              </a:rPr>
              <a:t>تشخيص عملية تحليل القضايا الآنية والتحتية والهيكلية لتحديات التنمية</a:t>
            </a:r>
            <a:endParaRPr b="0" lang="en-US" sz="2400" spc="-1" strike="noStrike">
              <a:solidFill>
                <a:srgbClr val="000000"/>
              </a:solidFill>
              <a:latin typeface="Arial"/>
            </a:endParaRPr>
          </a:p>
          <a:p>
            <a:pPr marL="57240" indent="58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0" lang="en-US" sz="2000" spc="-1" strike="noStrike">
              <a:solidFill>
                <a:srgbClr val="000000"/>
              </a:solidFill>
              <a:latin typeface="Arial"/>
            </a:endParaRPr>
          </a:p>
          <a:p>
            <a:pPr marL="57240" indent="5868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000000"/>
                </a:solidFill>
                <a:latin typeface="Arial"/>
                <a:cs typeface="Arial"/>
              </a:rPr>
              <a:t>الأدوات</a:t>
            </a:r>
            <a:r>
              <a:rPr b="1" i="1" lang="en-GB" sz="2000" spc="-1" strike="noStrike">
                <a:solidFill>
                  <a:srgbClr val="000000"/>
                </a:solidFill>
                <a:latin typeface="Arial"/>
              </a:rPr>
              <a:t>:</a:t>
            </a:r>
            <a:endParaRPr b="0" lang="en-US" sz="20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تحليلُ شجرة المشكلات</a:t>
            </a:r>
            <a:r>
              <a:rPr b="0" i="1" lang="ar-JO" sz="2400" spc="-1" strike="noStrike">
                <a:solidFill>
                  <a:srgbClr val="6600ff"/>
                </a:solidFill>
                <a:latin typeface="Arial"/>
                <a:ea typeface="Arial"/>
              </a:rPr>
              <a:t> يكشف الأسباب الجذرية لمشكلات حقوق الإنسان (رأسياً)،</a:t>
            </a:r>
            <a:r>
              <a:rPr b="0" lang="ar-JO" sz="2400" spc="-1" strike="noStrike">
                <a:solidFill>
                  <a:srgbClr val="6600ff"/>
                </a:solidFill>
                <a:latin typeface="Arial"/>
                <a:ea typeface="Arial"/>
              </a:rPr>
              <a:t> ويكشف تشابكية الحقوق </a:t>
            </a:r>
            <a:r>
              <a:rPr b="0" i="1" lang="ar-JO" sz="2400" spc="-1" strike="noStrike">
                <a:solidFill>
                  <a:srgbClr val="6600ff"/>
                </a:solidFill>
                <a:latin typeface="Arial"/>
                <a:ea typeface="Arial"/>
              </a:rPr>
              <a:t>(أفقياً ورأسياً)</a:t>
            </a:r>
            <a:r>
              <a:rPr b="0" lang="ar-JO" sz="2400" spc="-1" strike="noStrike">
                <a:solidFill>
                  <a:srgbClr val="6600ff"/>
                </a:solidFill>
                <a:latin typeface="Arial"/>
                <a:ea typeface="Arial"/>
              </a:rPr>
              <a:t>. </a:t>
            </a:r>
            <a:endParaRPr b="0" lang="en-US" sz="24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الأدوات الاختيارية الإضافية </a:t>
            </a:r>
            <a:r>
              <a:rPr b="0" lang="ar-JO" sz="2400" spc="-1" strike="noStrike">
                <a:solidFill>
                  <a:srgbClr val="6600ff"/>
                </a:solidFill>
                <a:latin typeface="Arial"/>
                <a:cs typeface="Arial"/>
              </a:rPr>
              <a:t>لإجراء تحليل</a:t>
            </a:r>
            <a:r>
              <a:rPr b="1" lang="ar-JO" sz="2400" spc="-1" strike="noStrike">
                <a:solidFill>
                  <a:srgbClr val="6600ff"/>
                </a:solidFill>
                <a:latin typeface="Arial"/>
                <a:ea typeface="Arial"/>
              </a:rPr>
              <a:t> </a:t>
            </a:r>
            <a:r>
              <a:rPr b="0" lang="ar-JO" sz="2400" spc="-1" strike="noStrike">
                <a:solidFill>
                  <a:srgbClr val="6600ff"/>
                </a:solidFill>
                <a:latin typeface="Arial"/>
                <a:cs typeface="Arial"/>
              </a:rPr>
              <a:t>عميق في المجالات القانونية والمؤسسية وفي مجالات السياسات والموازنة. </a:t>
            </a:r>
            <a:endParaRPr b="0" lang="en-US" sz="2400" spc="-1" strike="noStrike">
              <a:solidFill>
                <a:srgbClr val="000000"/>
              </a:solidFill>
              <a:latin typeface="Arial"/>
            </a:endParaRPr>
          </a:p>
        </p:txBody>
      </p:sp>
      <p:sp>
        <p:nvSpPr>
          <p:cNvPr id="372" name=""/>
          <p:cNvSpPr/>
          <p:nvPr/>
        </p:nvSpPr>
        <p:spPr>
          <a:xfrm>
            <a:off x="324000" y="5418000"/>
            <a:ext cx="5256000" cy="1106640"/>
          </a:xfrm>
          <a:prstGeom prst="wedgeRectCallout">
            <a:avLst>
              <a:gd name="adj1" fmla="val -1162"/>
              <a:gd name="adj2" fmla="val -81708"/>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46800" anchor="t">
            <a:no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لم تنشأ شجرة المشكلات أصلاًً كأداة للنهج القائم على حقوق الإنسان، ولكنها قد تساعد في تحديد النماذج الأساسية للتمييز والإقصاء وغيرها من الأسباب الجذرية للمشكل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372"/>
                                        </p:tgtEl>
                                        <p:attrNameLst>
                                          <p:attrName>style.visibility</p:attrName>
                                        </p:attrNameLst>
                                      </p:cBhvr>
                                      <p:to>
                                        <p:strVal val="visible"/>
                                      </p:to>
                                    </p:set>
                                    <p:animEffect filter="box(in)" transition="in">
                                      <p:cBhvr additive="repl">
                                        <p:cTn id="1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373" name=""/>
          <p:cNvGrpSpPr/>
          <p:nvPr/>
        </p:nvGrpSpPr>
        <p:grpSpPr>
          <a:xfrm>
            <a:off x="762120" y="1752480"/>
            <a:ext cx="7772400" cy="4114800"/>
            <a:chOff x="762120" y="1752480"/>
            <a:chExt cx="7772400" cy="4114800"/>
          </a:xfrm>
        </p:grpSpPr>
        <p:cxnSp>
          <p:nvCxnSpPr>
            <p:cNvPr id="374" name="_s799748"/>
            <p:cNvCxnSpPr>
              <a:stCxn id="375" idx="1"/>
              <a:endCxn id="376" idx="2"/>
            </p:cNvCxnSpPr>
            <p:nvPr/>
          </p:nvCxnSpPr>
          <p:spPr>
            <a:xfrm rot="10800000">
              <a:off x="6935040" y="3690360"/>
              <a:ext cx="227880" cy="1935720"/>
            </a:xfrm>
            <a:prstGeom prst="bentConnector2">
              <a:avLst/>
            </a:prstGeom>
            <a:ln w="28440">
              <a:solidFill>
                <a:srgbClr val="000000"/>
              </a:solidFill>
              <a:miter/>
            </a:ln>
          </p:spPr>
        </p:cxnSp>
        <p:cxnSp>
          <p:nvCxnSpPr>
            <p:cNvPr id="377" name="_s799749"/>
            <p:cNvCxnSpPr>
              <a:stCxn id="378" idx="1"/>
              <a:endCxn id="376" idx="2"/>
            </p:cNvCxnSpPr>
            <p:nvPr/>
          </p:nvCxnSpPr>
          <p:spPr>
            <a:xfrm rot="10800000">
              <a:off x="6935040" y="3690360"/>
              <a:ext cx="227880" cy="1210320"/>
            </a:xfrm>
            <a:prstGeom prst="bentConnector2">
              <a:avLst/>
            </a:prstGeom>
            <a:ln w="28440">
              <a:solidFill>
                <a:srgbClr val="000000"/>
              </a:solidFill>
              <a:miter/>
            </a:ln>
          </p:spPr>
        </p:cxnSp>
        <p:cxnSp>
          <p:nvCxnSpPr>
            <p:cNvPr id="379" name="_s799750"/>
            <p:cNvCxnSpPr>
              <a:stCxn id="380" idx="1"/>
              <a:endCxn id="376" idx="2"/>
            </p:cNvCxnSpPr>
            <p:nvPr/>
          </p:nvCxnSpPr>
          <p:spPr>
            <a:xfrm rot="10800000">
              <a:off x="6935040" y="3690360"/>
              <a:ext cx="227880" cy="484920"/>
            </a:xfrm>
            <a:prstGeom prst="bentConnector2">
              <a:avLst/>
            </a:prstGeom>
            <a:ln w="28440">
              <a:solidFill>
                <a:srgbClr val="000000"/>
              </a:solidFill>
              <a:miter/>
            </a:ln>
          </p:spPr>
        </p:cxnSp>
        <p:cxnSp>
          <p:nvCxnSpPr>
            <p:cNvPr id="381" name="_s799751"/>
            <p:cNvCxnSpPr>
              <a:stCxn id="382" idx="1"/>
              <a:endCxn id="383" idx="2"/>
            </p:cNvCxnSpPr>
            <p:nvPr/>
          </p:nvCxnSpPr>
          <p:spPr>
            <a:xfrm rot="10800000">
              <a:off x="5106240" y="3690360"/>
              <a:ext cx="227880" cy="1210320"/>
            </a:xfrm>
            <a:prstGeom prst="bentConnector2">
              <a:avLst/>
            </a:prstGeom>
            <a:ln w="28440">
              <a:solidFill>
                <a:srgbClr val="000000"/>
              </a:solidFill>
              <a:miter/>
            </a:ln>
          </p:spPr>
        </p:cxnSp>
        <p:cxnSp>
          <p:nvCxnSpPr>
            <p:cNvPr id="384" name="_s799752"/>
            <p:cNvCxnSpPr>
              <a:stCxn id="385" idx="1"/>
              <a:endCxn id="383" idx="2"/>
            </p:cNvCxnSpPr>
            <p:nvPr/>
          </p:nvCxnSpPr>
          <p:spPr>
            <a:xfrm rot="10800000">
              <a:off x="5106240" y="3690360"/>
              <a:ext cx="227880" cy="484920"/>
            </a:xfrm>
            <a:prstGeom prst="bentConnector2">
              <a:avLst/>
            </a:prstGeom>
            <a:ln w="28440">
              <a:solidFill>
                <a:srgbClr val="000000"/>
              </a:solidFill>
              <a:miter/>
            </a:ln>
          </p:spPr>
        </p:cxnSp>
        <p:cxnSp>
          <p:nvCxnSpPr>
            <p:cNvPr id="386" name="_s799753"/>
            <p:cNvCxnSpPr>
              <a:stCxn id="387" idx="1"/>
              <a:endCxn id="388" idx="2"/>
            </p:cNvCxnSpPr>
            <p:nvPr/>
          </p:nvCxnSpPr>
          <p:spPr>
            <a:xfrm rot="10800000">
              <a:off x="3277440" y="3690360"/>
              <a:ext cx="227880" cy="1210320"/>
            </a:xfrm>
            <a:prstGeom prst="bentConnector2">
              <a:avLst/>
            </a:prstGeom>
            <a:ln w="28440">
              <a:solidFill>
                <a:srgbClr val="000000"/>
              </a:solidFill>
              <a:miter/>
            </a:ln>
          </p:spPr>
        </p:cxnSp>
        <p:cxnSp>
          <p:nvCxnSpPr>
            <p:cNvPr id="389" name="_s799754"/>
            <p:cNvCxnSpPr>
              <a:stCxn id="390" idx="1"/>
              <a:endCxn id="388" idx="2"/>
            </p:cNvCxnSpPr>
            <p:nvPr/>
          </p:nvCxnSpPr>
          <p:spPr>
            <a:xfrm rot="10800000">
              <a:off x="3277440" y="3690360"/>
              <a:ext cx="227880" cy="484920"/>
            </a:xfrm>
            <a:prstGeom prst="bentConnector2">
              <a:avLst/>
            </a:prstGeom>
            <a:ln w="28440">
              <a:solidFill>
                <a:srgbClr val="000000"/>
              </a:solidFill>
              <a:miter/>
            </a:ln>
          </p:spPr>
        </p:cxnSp>
        <p:cxnSp>
          <p:nvCxnSpPr>
            <p:cNvPr id="391" name="_s799755"/>
            <p:cNvCxnSpPr>
              <a:stCxn id="392" idx="1"/>
              <a:endCxn id="393" idx="2"/>
            </p:cNvCxnSpPr>
            <p:nvPr/>
          </p:nvCxnSpPr>
          <p:spPr>
            <a:xfrm rot="10800000">
              <a:off x="1448640" y="3690360"/>
              <a:ext cx="227880" cy="1210320"/>
            </a:xfrm>
            <a:prstGeom prst="bentConnector2">
              <a:avLst/>
            </a:prstGeom>
            <a:ln w="28440">
              <a:solidFill>
                <a:srgbClr val="000000"/>
              </a:solidFill>
              <a:miter/>
            </a:ln>
          </p:spPr>
        </p:cxnSp>
        <p:cxnSp>
          <p:nvCxnSpPr>
            <p:cNvPr id="394" name="_s799756"/>
            <p:cNvCxnSpPr>
              <a:stCxn id="395" idx="1"/>
              <a:endCxn id="393" idx="2"/>
            </p:cNvCxnSpPr>
            <p:nvPr/>
          </p:nvCxnSpPr>
          <p:spPr>
            <a:xfrm rot="10800000">
              <a:off x="1448640" y="3690360"/>
              <a:ext cx="227880" cy="484920"/>
            </a:xfrm>
            <a:prstGeom prst="bentConnector2">
              <a:avLst/>
            </a:prstGeom>
            <a:ln w="28440">
              <a:solidFill>
                <a:srgbClr val="000000"/>
              </a:solidFill>
              <a:miter/>
            </a:ln>
          </p:spPr>
        </p:cxnSp>
        <p:cxnSp>
          <p:nvCxnSpPr>
            <p:cNvPr id="396" name="_s799757"/>
            <p:cNvCxnSpPr>
              <a:stCxn id="376" idx="0"/>
              <a:endCxn id="397" idx="2"/>
            </p:cNvCxnSpPr>
            <p:nvPr/>
          </p:nvCxnSpPr>
          <p:spPr>
            <a:xfrm flipV="1" rot="16200000">
              <a:off x="6356520" y="2627280"/>
              <a:ext cx="243720" cy="915120"/>
            </a:xfrm>
            <a:prstGeom prst="bentConnector3">
              <a:avLst>
                <a:gd name="adj1" fmla="val 47041"/>
              </a:avLst>
            </a:prstGeom>
            <a:ln w="28440">
              <a:solidFill>
                <a:srgbClr val="000000"/>
              </a:solidFill>
              <a:miter/>
            </a:ln>
          </p:spPr>
        </p:cxnSp>
        <p:cxnSp>
          <p:nvCxnSpPr>
            <p:cNvPr id="398" name="_s799758"/>
            <p:cNvCxnSpPr>
              <a:stCxn id="383" idx="0"/>
              <a:endCxn id="397" idx="2"/>
            </p:cNvCxnSpPr>
            <p:nvPr/>
          </p:nvCxnSpPr>
          <p:spPr>
            <a:xfrm flipH="1" flipV="1" rot="5400000">
              <a:off x="5442480" y="2627640"/>
              <a:ext cx="243720" cy="915120"/>
            </a:xfrm>
            <a:prstGeom prst="bentConnector3">
              <a:avLst>
                <a:gd name="adj1" fmla="val 47041"/>
              </a:avLst>
            </a:prstGeom>
            <a:ln w="28440">
              <a:solidFill>
                <a:srgbClr val="000000"/>
              </a:solidFill>
              <a:miter/>
            </a:ln>
          </p:spPr>
        </p:cxnSp>
        <p:cxnSp>
          <p:nvCxnSpPr>
            <p:cNvPr id="399" name="_s799759"/>
            <p:cNvCxnSpPr>
              <a:stCxn id="388" idx="0"/>
              <a:endCxn id="400" idx="2"/>
            </p:cNvCxnSpPr>
            <p:nvPr/>
          </p:nvCxnSpPr>
          <p:spPr>
            <a:xfrm flipV="1" rot="16200000">
              <a:off x="2698920" y="2627280"/>
              <a:ext cx="243720" cy="915120"/>
            </a:xfrm>
            <a:prstGeom prst="bentConnector3">
              <a:avLst>
                <a:gd name="adj1" fmla="val 47041"/>
              </a:avLst>
            </a:prstGeom>
            <a:ln w="28440">
              <a:solidFill>
                <a:srgbClr val="000000"/>
              </a:solidFill>
              <a:miter/>
            </a:ln>
          </p:spPr>
        </p:cxnSp>
        <p:cxnSp>
          <p:nvCxnSpPr>
            <p:cNvPr id="401" name="_s799760"/>
            <p:cNvCxnSpPr>
              <a:stCxn id="393" idx="0"/>
              <a:endCxn id="400" idx="2"/>
            </p:cNvCxnSpPr>
            <p:nvPr/>
          </p:nvCxnSpPr>
          <p:spPr>
            <a:xfrm flipH="1" flipV="1" rot="5400000">
              <a:off x="1784880" y="2627640"/>
              <a:ext cx="243720" cy="915120"/>
            </a:xfrm>
            <a:prstGeom prst="bentConnector3">
              <a:avLst>
                <a:gd name="adj1" fmla="val 47041"/>
              </a:avLst>
            </a:prstGeom>
            <a:ln w="28440">
              <a:solidFill>
                <a:srgbClr val="000000"/>
              </a:solidFill>
              <a:miter/>
            </a:ln>
          </p:spPr>
        </p:cxnSp>
        <p:cxnSp>
          <p:nvCxnSpPr>
            <p:cNvPr id="402" name="_s799761"/>
            <p:cNvCxnSpPr>
              <a:stCxn id="397" idx="0"/>
              <a:endCxn id="403" idx="2"/>
            </p:cNvCxnSpPr>
            <p:nvPr/>
          </p:nvCxnSpPr>
          <p:spPr>
            <a:xfrm flipV="1" rot="16200000">
              <a:off x="4984920" y="1442880"/>
              <a:ext cx="243720" cy="1829520"/>
            </a:xfrm>
            <a:prstGeom prst="bentConnector3">
              <a:avLst>
                <a:gd name="adj1" fmla="val 47041"/>
              </a:avLst>
            </a:prstGeom>
            <a:ln w="28440">
              <a:solidFill>
                <a:srgbClr val="000000"/>
              </a:solidFill>
              <a:miter/>
            </a:ln>
          </p:spPr>
        </p:cxnSp>
        <p:cxnSp>
          <p:nvCxnSpPr>
            <p:cNvPr id="404" name="_s799762"/>
            <p:cNvCxnSpPr>
              <a:stCxn id="400" idx="0"/>
              <a:endCxn id="403" idx="2"/>
            </p:cNvCxnSpPr>
            <p:nvPr/>
          </p:nvCxnSpPr>
          <p:spPr>
            <a:xfrm flipH="1" flipV="1" rot="5400000">
              <a:off x="3156480" y="1443240"/>
              <a:ext cx="243720" cy="1829520"/>
            </a:xfrm>
            <a:prstGeom prst="bentConnector3">
              <a:avLst>
                <a:gd name="adj1" fmla="val 47041"/>
              </a:avLst>
            </a:prstGeom>
            <a:ln w="28440">
              <a:solidFill>
                <a:srgbClr val="000000"/>
              </a:solidFill>
              <a:miter/>
            </a:ln>
          </p:spPr>
        </p:cxnSp>
        <p:sp>
          <p:nvSpPr>
            <p:cNvPr id="403" name="_s799763"/>
            <p:cNvSpPr/>
            <p:nvPr/>
          </p:nvSpPr>
          <p:spPr>
            <a:xfrm>
              <a:off x="2905200" y="1752480"/>
              <a:ext cx="2573280" cy="4842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ظهور المشكلة</a:t>
              </a:r>
              <a:endParaRPr b="0" lang="en-US" sz="1300" spc="-1" strike="noStrike">
                <a:solidFill>
                  <a:srgbClr val="000000"/>
                </a:solidFill>
                <a:latin typeface="Arial"/>
              </a:endParaRPr>
            </a:p>
          </p:txBody>
        </p:sp>
        <p:sp>
          <p:nvSpPr>
            <p:cNvPr id="400" name="_s799764"/>
            <p:cNvSpPr/>
            <p:nvPr/>
          </p:nvSpPr>
          <p:spPr>
            <a:xfrm>
              <a:off x="16765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7" name="_s799765"/>
            <p:cNvSpPr/>
            <p:nvPr/>
          </p:nvSpPr>
          <p:spPr>
            <a:xfrm>
              <a:off x="53341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3" name="_s799766"/>
            <p:cNvSpPr/>
            <p:nvPr/>
          </p:nvSpPr>
          <p:spPr>
            <a:xfrm>
              <a:off x="7621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8" name="_s799767"/>
            <p:cNvSpPr/>
            <p:nvPr/>
          </p:nvSpPr>
          <p:spPr>
            <a:xfrm>
              <a:off x="25909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3" name="_s799768"/>
            <p:cNvSpPr/>
            <p:nvPr/>
          </p:nvSpPr>
          <p:spPr>
            <a:xfrm>
              <a:off x="44197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76" name="_s799769"/>
            <p:cNvSpPr/>
            <p:nvPr/>
          </p:nvSpPr>
          <p:spPr>
            <a:xfrm>
              <a:off x="62485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95" name="_s799770"/>
            <p:cNvSpPr/>
            <p:nvPr/>
          </p:nvSpPr>
          <p:spPr>
            <a:xfrm>
              <a:off x="16765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2" name="_s799771"/>
            <p:cNvSpPr/>
            <p:nvPr/>
          </p:nvSpPr>
          <p:spPr>
            <a:xfrm>
              <a:off x="16765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0" name="_s799772"/>
            <p:cNvSpPr/>
            <p:nvPr/>
          </p:nvSpPr>
          <p:spPr>
            <a:xfrm>
              <a:off x="35053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7" name="_s799773"/>
            <p:cNvSpPr/>
            <p:nvPr/>
          </p:nvSpPr>
          <p:spPr>
            <a:xfrm>
              <a:off x="35053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5" name="_s799774"/>
            <p:cNvSpPr/>
            <p:nvPr/>
          </p:nvSpPr>
          <p:spPr>
            <a:xfrm>
              <a:off x="53341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2" name="_s799775"/>
            <p:cNvSpPr/>
            <p:nvPr/>
          </p:nvSpPr>
          <p:spPr>
            <a:xfrm>
              <a:off x="53341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0" name="_s799776"/>
            <p:cNvSpPr/>
            <p:nvPr/>
          </p:nvSpPr>
          <p:spPr>
            <a:xfrm>
              <a:off x="71629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8" name="_s799777"/>
            <p:cNvSpPr/>
            <p:nvPr/>
          </p:nvSpPr>
          <p:spPr>
            <a:xfrm>
              <a:off x="71629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5" name="_s799778"/>
            <p:cNvSpPr/>
            <p:nvPr/>
          </p:nvSpPr>
          <p:spPr>
            <a:xfrm>
              <a:off x="7162920" y="5384880"/>
              <a:ext cx="1371600" cy="4824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148680" y="5516640"/>
            <a:ext cx="11620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أسباب</a:t>
            </a:r>
            <a:endParaRPr b="0" lang="en-US" sz="2000" spc="-1" strike="noStrike">
              <a:solidFill>
                <a:srgbClr val="000000"/>
              </a:solidFill>
              <a:latin typeface="Arial"/>
            </a:endParaRPr>
          </a:p>
        </p:txBody>
      </p:sp>
      <p:sp>
        <p:nvSpPr>
          <p:cNvPr id="406" name=""/>
          <p:cNvSpPr/>
          <p:nvPr/>
        </p:nvSpPr>
        <p:spPr>
          <a:xfrm>
            <a:off x="250920" y="2421000"/>
            <a:ext cx="720720" cy="7038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آثار</a:t>
            </a:r>
            <a:endParaRPr b="0" lang="en-US" sz="2000" spc="-1" strike="noStrike">
              <a:solidFill>
                <a:srgbClr val="000000"/>
              </a:solidFill>
              <a:latin typeface="Arial"/>
            </a:endParaRPr>
          </a:p>
        </p:txBody>
      </p:sp>
      <p:sp>
        <p:nvSpPr>
          <p:cNvPr id="407" name=""/>
          <p:cNvSpPr/>
          <p:nvPr/>
        </p:nvSpPr>
        <p:spPr>
          <a:xfrm>
            <a:off x="304920" y="2971800"/>
            <a:ext cx="304560" cy="2514600"/>
          </a:xfrm>
          <a:prstGeom prst="upArrow">
            <a:avLst>
              <a:gd name="adj1" fmla="val 50000"/>
              <a:gd name="adj2" fmla="val 206413"/>
            </a:avLst>
          </a:prstGeom>
          <a:solidFill>
            <a:srgbClr val="ccecff"/>
          </a:solidFill>
          <a:ln w="9360">
            <a:solidFill>
              <a:srgbClr val="000000"/>
            </a:solidFill>
            <a:miter/>
          </a:ln>
          <a:effectLst>
            <a:outerShdw dist="107932" dir="18900000" blurRad="0" rotWithShape="0">
              <a:srgbClr val="ccecff">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1619280" y="764640"/>
            <a:ext cx="6983280" cy="7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شجرة المشكلات</a:t>
            </a:r>
            <a:endParaRPr b="0" lang="en-US" sz="4000" spc="-1" strike="noStrike">
              <a:solidFill>
                <a:srgbClr val="000000"/>
              </a:solidFill>
              <a:latin typeface="Arial"/>
            </a:endParaRPr>
          </a:p>
        </p:txBody>
      </p:sp>
      <p:sp>
        <p:nvSpPr>
          <p:cNvPr id="409" name=""/>
          <p:cNvSpPr/>
          <p:nvPr/>
        </p:nvSpPr>
        <p:spPr>
          <a:xfrm>
            <a:off x="5940360" y="3716280"/>
            <a:ext cx="2879640" cy="2592360"/>
          </a:xfrm>
          <a:prstGeom prst="wedgeRectCallout">
            <a:avLst>
              <a:gd name="adj1" fmla="val -44212"/>
              <a:gd name="adj2" fmla="val -893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شجرة المشكلات هي أداة لبناء التوافق في الآراء والمشاركة، لأنها تسمح بالاتفاق مع أصحاب الحقوق والقائمين بالواجبات على التحديات والأسباب الجذرية الأساسية للتنم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09"/>
                                        </p:tgtEl>
                                        <p:attrNameLst>
                                          <p:attrName>style.visibility</p:attrName>
                                        </p:attrNameLst>
                                      </p:cBhvr>
                                      <p:to>
                                        <p:strVal val="visible"/>
                                      </p:to>
                                    </p:set>
                                    <p:animEffect filter="box(in)" transition="in">
                                      <p:cBhvr additive="repl">
                                        <p:cTn id="17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410" name=""/>
          <p:cNvGrpSpPr/>
          <p:nvPr/>
        </p:nvGrpSpPr>
        <p:grpSpPr>
          <a:xfrm>
            <a:off x="838080" y="1600200"/>
            <a:ext cx="5867640" cy="3048120"/>
            <a:chOff x="838080" y="1600200"/>
            <a:chExt cx="5867640" cy="3048120"/>
          </a:xfrm>
        </p:grpSpPr>
        <p:grpSp>
          <p:nvGrpSpPr>
            <p:cNvPr id="411" name=""/>
            <p:cNvGrpSpPr/>
            <p:nvPr/>
          </p:nvGrpSpPr>
          <p:grpSpPr>
            <a:xfrm>
              <a:off x="838080" y="1600200"/>
              <a:ext cx="5867640" cy="3048120"/>
              <a:chOff x="838080" y="1600200"/>
              <a:chExt cx="5867640" cy="3048120"/>
            </a:xfrm>
          </p:grpSpPr>
          <p:sp>
            <p:nvSpPr>
              <p:cNvPr id="412" name=""/>
              <p:cNvSpPr/>
              <p:nvPr/>
            </p:nvSpPr>
            <p:spPr>
              <a:xfrm>
                <a:off x="2895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52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29718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752480" y="29718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2900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36232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295280" y="36576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895480" y="43434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8288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8080" y="43434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362320" y="1600200"/>
                <a:ext cx="8380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4" name=""/>
              <p:cNvCxnSpPr>
                <a:stCxn id="413" idx="0"/>
                <a:endCxn id="423" idx="2"/>
              </p:cNvCxnSpPr>
              <p:nvPr/>
            </p:nvCxnSpPr>
            <p:spPr>
              <a:xfrm flipV="1">
                <a:off x="2171520" y="1904760"/>
                <a:ext cx="610200" cy="381600"/>
              </a:xfrm>
              <a:prstGeom prst="straightConnector1">
                <a:avLst/>
              </a:prstGeom>
              <a:ln w="9360">
                <a:solidFill>
                  <a:srgbClr val="000000"/>
                </a:solidFill>
                <a:miter/>
                <a:tailEnd len="med" type="triangle" w="med"/>
              </a:ln>
            </p:spPr>
          </p:cxnSp>
          <p:cxnSp>
            <p:nvCxnSpPr>
              <p:cNvPr id="425" name=""/>
              <p:cNvCxnSpPr>
                <a:stCxn id="412" idx="0"/>
                <a:endCxn id="423" idx="2"/>
              </p:cNvCxnSpPr>
              <p:nvPr/>
            </p:nvCxnSpPr>
            <p:spPr>
              <a:xfrm flipH="1" flipV="1">
                <a:off x="2781000" y="1904760"/>
                <a:ext cx="534240" cy="381600"/>
              </a:xfrm>
              <a:prstGeom prst="straightConnector1">
                <a:avLst/>
              </a:prstGeom>
              <a:ln w="9360">
                <a:solidFill>
                  <a:srgbClr val="000000"/>
                </a:solidFill>
                <a:miter/>
                <a:tailEnd len="med" type="triangle" w="med"/>
              </a:ln>
            </p:spPr>
          </p:cxnSp>
          <p:cxnSp>
            <p:nvCxnSpPr>
              <p:cNvPr id="426" name=""/>
              <p:cNvCxnSpPr>
                <a:stCxn id="415" idx="0"/>
                <a:endCxn id="413" idx="2"/>
              </p:cNvCxnSpPr>
              <p:nvPr/>
            </p:nvCxnSpPr>
            <p:spPr>
              <a:xfrm flipV="1">
                <a:off x="2171520" y="2590560"/>
                <a:ext cx="1080" cy="381600"/>
              </a:xfrm>
              <a:prstGeom prst="straightConnector1">
                <a:avLst/>
              </a:prstGeom>
              <a:ln w="9360">
                <a:solidFill>
                  <a:srgbClr val="000000"/>
                </a:solidFill>
                <a:miter/>
                <a:tailEnd len="med" type="triangle" w="med"/>
              </a:ln>
            </p:spPr>
          </p:cxnSp>
          <p:cxnSp>
            <p:nvCxnSpPr>
              <p:cNvPr id="427" name=""/>
              <p:cNvCxnSpPr>
                <a:stCxn id="415" idx="0"/>
                <a:endCxn id="412" idx="2"/>
              </p:cNvCxnSpPr>
              <p:nvPr/>
            </p:nvCxnSpPr>
            <p:spPr>
              <a:xfrm flipV="1">
                <a:off x="2171520" y="2590560"/>
                <a:ext cx="1143720" cy="381600"/>
              </a:xfrm>
              <a:prstGeom prst="straightConnector1">
                <a:avLst/>
              </a:prstGeom>
              <a:ln w="9360">
                <a:solidFill>
                  <a:srgbClr val="000000"/>
                </a:solidFill>
                <a:miter/>
                <a:tailEnd len="med" type="triangle" w="med"/>
              </a:ln>
            </p:spPr>
          </p:cxnSp>
          <p:cxnSp>
            <p:nvCxnSpPr>
              <p:cNvPr id="428" name=""/>
              <p:cNvCxnSpPr>
                <a:stCxn id="414" idx="0"/>
                <a:endCxn id="412" idx="2"/>
              </p:cNvCxnSpPr>
              <p:nvPr/>
            </p:nvCxnSpPr>
            <p:spPr>
              <a:xfrm flipV="1">
                <a:off x="3314520" y="2590560"/>
                <a:ext cx="1080" cy="381600"/>
              </a:xfrm>
              <a:prstGeom prst="straightConnector1">
                <a:avLst/>
              </a:prstGeom>
              <a:ln w="9360">
                <a:solidFill>
                  <a:srgbClr val="000000"/>
                </a:solidFill>
                <a:miter/>
                <a:tailEnd len="med" type="triangle" w="med"/>
              </a:ln>
            </p:spPr>
          </p:cxnSp>
          <p:cxnSp>
            <p:nvCxnSpPr>
              <p:cNvPr id="429" name=""/>
              <p:cNvCxnSpPr>
                <a:stCxn id="418" idx="0"/>
                <a:endCxn id="415" idx="2"/>
              </p:cNvCxnSpPr>
              <p:nvPr/>
            </p:nvCxnSpPr>
            <p:spPr>
              <a:xfrm flipV="1">
                <a:off x="1714680" y="3276360"/>
                <a:ext cx="457920" cy="381600"/>
              </a:xfrm>
              <a:prstGeom prst="straightConnector1">
                <a:avLst/>
              </a:prstGeom>
              <a:ln w="9360">
                <a:solidFill>
                  <a:srgbClr val="000000"/>
                </a:solidFill>
                <a:miter/>
                <a:tailEnd len="med" type="triangle" w="med"/>
              </a:ln>
            </p:spPr>
          </p:cxnSp>
          <p:cxnSp>
            <p:nvCxnSpPr>
              <p:cNvPr id="430" name=""/>
              <p:cNvCxnSpPr>
                <a:stCxn id="422" idx="0"/>
                <a:endCxn id="418" idx="2"/>
              </p:cNvCxnSpPr>
              <p:nvPr/>
            </p:nvCxnSpPr>
            <p:spPr>
              <a:xfrm flipV="1">
                <a:off x="1257480" y="3962160"/>
                <a:ext cx="457920" cy="381600"/>
              </a:xfrm>
              <a:prstGeom prst="straightConnector1">
                <a:avLst/>
              </a:prstGeom>
              <a:ln w="9360">
                <a:solidFill>
                  <a:srgbClr val="000000"/>
                </a:solidFill>
                <a:miter/>
                <a:tailEnd len="med" type="triangle" w="med"/>
              </a:ln>
            </p:spPr>
          </p:cxnSp>
          <p:cxnSp>
            <p:nvCxnSpPr>
              <p:cNvPr id="431" name=""/>
              <p:cNvCxnSpPr>
                <a:stCxn id="421" idx="0"/>
                <a:endCxn id="418" idx="2"/>
              </p:cNvCxnSpPr>
              <p:nvPr/>
            </p:nvCxnSpPr>
            <p:spPr>
              <a:xfrm flipH="1" flipV="1">
                <a:off x="1713960" y="3962160"/>
                <a:ext cx="533880" cy="381600"/>
              </a:xfrm>
              <a:prstGeom prst="straightConnector1">
                <a:avLst/>
              </a:prstGeom>
              <a:ln w="9360">
                <a:solidFill>
                  <a:srgbClr val="000000"/>
                </a:solidFill>
                <a:miter/>
                <a:tailEnd len="med" type="triangle" w="med"/>
              </a:ln>
            </p:spPr>
          </p:cxnSp>
          <p:sp>
            <p:nvSpPr>
              <p:cNvPr id="432" name=""/>
              <p:cNvSpPr/>
              <p:nvPr/>
            </p:nvSpPr>
            <p:spPr>
              <a:xfrm>
                <a:off x="4495680" y="1600200"/>
                <a:ext cx="83844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867280" y="36576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96252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52880" y="29718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886200" y="29718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876920" y="36576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67280" y="43434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76920" y="43434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0" name=""/>
              <p:cNvCxnSpPr>
                <a:stCxn id="436" idx="0"/>
                <a:endCxn id="434" idx="2"/>
              </p:cNvCxnSpPr>
              <p:nvPr/>
            </p:nvCxnSpPr>
            <p:spPr>
              <a:xfrm flipV="1">
                <a:off x="4305240" y="2590560"/>
                <a:ext cx="76680" cy="381600"/>
              </a:xfrm>
              <a:prstGeom prst="straightConnector1">
                <a:avLst/>
              </a:prstGeom>
              <a:ln w="9360">
                <a:solidFill>
                  <a:srgbClr val="000000"/>
                </a:solidFill>
                <a:miter/>
                <a:tailEnd len="med" type="triangle" w="med"/>
              </a:ln>
            </p:spPr>
          </p:cxnSp>
          <p:cxnSp>
            <p:nvCxnSpPr>
              <p:cNvPr id="441" name=""/>
              <p:cNvCxnSpPr>
                <a:stCxn id="435" idx="0"/>
                <a:endCxn id="442" idx="2"/>
              </p:cNvCxnSpPr>
              <p:nvPr/>
            </p:nvCxnSpPr>
            <p:spPr>
              <a:xfrm flipV="1">
                <a:off x="5371920" y="2590560"/>
                <a:ext cx="76680" cy="381600"/>
              </a:xfrm>
              <a:prstGeom prst="straightConnector1">
                <a:avLst/>
              </a:prstGeom>
              <a:ln w="9360">
                <a:solidFill>
                  <a:srgbClr val="000000"/>
                </a:solidFill>
                <a:miter/>
                <a:tailEnd len="med" type="triangle" w="med"/>
              </a:ln>
            </p:spPr>
          </p:cxnSp>
          <p:cxnSp>
            <p:nvCxnSpPr>
              <p:cNvPr id="443" name=""/>
              <p:cNvCxnSpPr>
                <a:endCxn id="434" idx="2"/>
              </p:cNvCxnSpPr>
              <p:nvPr/>
            </p:nvCxnSpPr>
            <p:spPr>
              <a:xfrm flipV="1">
                <a:off x="3314520" y="2590560"/>
                <a:ext cx="1067400" cy="381600"/>
              </a:xfrm>
              <a:prstGeom prst="straightConnector1">
                <a:avLst/>
              </a:prstGeom>
              <a:ln w="9360">
                <a:solidFill>
                  <a:srgbClr val="000000"/>
                </a:solidFill>
                <a:miter/>
                <a:tailEnd len="med" type="triangle" w="med"/>
              </a:ln>
            </p:spPr>
          </p:cxnSp>
          <p:cxnSp>
            <p:nvCxnSpPr>
              <p:cNvPr id="444" name=""/>
              <p:cNvCxnSpPr>
                <a:stCxn id="434" idx="0"/>
                <a:endCxn id="432" idx="2"/>
              </p:cNvCxnSpPr>
              <p:nvPr/>
            </p:nvCxnSpPr>
            <p:spPr>
              <a:xfrm flipV="1">
                <a:off x="4381560" y="1904760"/>
                <a:ext cx="534240" cy="381600"/>
              </a:xfrm>
              <a:prstGeom prst="straightConnector1">
                <a:avLst/>
              </a:prstGeom>
              <a:ln w="9360">
                <a:solidFill>
                  <a:srgbClr val="000000"/>
                </a:solidFill>
                <a:miter/>
                <a:tailEnd len="med" type="triangle" w="med"/>
              </a:ln>
            </p:spPr>
          </p:cxnSp>
          <p:cxnSp>
            <p:nvCxnSpPr>
              <p:cNvPr id="445" name=""/>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46" name=""/>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47" name=""/>
              <p:cNvCxnSpPr>
                <a:endCxn id="436" idx="2"/>
              </p:cNvCxnSpPr>
              <p:nvPr/>
            </p:nvCxnSpPr>
            <p:spPr>
              <a:xfrm flipV="1">
                <a:off x="3848040" y="3276360"/>
                <a:ext cx="457920" cy="381600"/>
              </a:xfrm>
              <a:prstGeom prst="straightConnector1">
                <a:avLst/>
              </a:prstGeom>
              <a:ln w="9360">
                <a:solidFill>
                  <a:srgbClr val="000000"/>
                </a:solidFill>
                <a:miter/>
                <a:tailEnd len="med" type="triangle" w="med"/>
              </a:ln>
            </p:spPr>
          </p:cxnSp>
          <p:cxnSp>
            <p:nvCxnSpPr>
              <p:cNvPr id="448" name=""/>
              <p:cNvCxnSpPr>
                <a:stCxn id="442" idx="0"/>
                <a:endCxn id="432" idx="2"/>
              </p:cNvCxnSpPr>
              <p:nvPr/>
            </p:nvCxnSpPr>
            <p:spPr>
              <a:xfrm flipH="1" flipV="1">
                <a:off x="4914360" y="1904760"/>
                <a:ext cx="533880" cy="381600"/>
              </a:xfrm>
              <a:prstGeom prst="straightConnector1">
                <a:avLst/>
              </a:prstGeom>
              <a:ln w="9360">
                <a:solidFill>
                  <a:srgbClr val="000000"/>
                </a:solidFill>
                <a:miter/>
                <a:tailEnd len="med" type="triangle" w="med"/>
              </a:ln>
            </p:spPr>
          </p:cxnSp>
          <p:cxnSp>
            <p:nvCxnSpPr>
              <p:cNvPr id="449" name=""/>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50" name=""/>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51" name=""/>
              <p:cNvCxnSpPr/>
              <p:nvPr/>
            </p:nvCxnSpPr>
            <p:spPr>
              <a:xfrm flipH="1" flipV="1">
                <a:off x="3847680" y="3962160"/>
                <a:ext cx="457920" cy="381600"/>
              </a:xfrm>
              <a:prstGeom prst="straightConnector1">
                <a:avLst/>
              </a:prstGeom>
              <a:ln w="9360">
                <a:solidFill>
                  <a:srgbClr val="000000"/>
                </a:solidFill>
                <a:miter/>
                <a:tailEnd len="med" type="triangle" w="med"/>
              </a:ln>
            </p:spPr>
          </p:cxnSp>
          <p:sp>
            <p:nvSpPr>
              <p:cNvPr id="442" name=""/>
              <p:cNvSpPr/>
              <p:nvPr/>
            </p:nvSpPr>
            <p:spPr>
              <a:xfrm>
                <a:off x="502920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52" name=""/>
              <p:cNvCxnSpPr>
                <a:endCxn id="437" idx="2"/>
              </p:cNvCxnSpPr>
              <p:nvPr/>
            </p:nvCxnSpPr>
            <p:spPr>
              <a:xfrm flipV="1">
                <a:off x="4305240" y="3962160"/>
                <a:ext cx="991440" cy="381600"/>
              </a:xfrm>
              <a:prstGeom prst="straightConnector1">
                <a:avLst/>
              </a:prstGeom>
              <a:ln w="9360">
                <a:solidFill>
                  <a:srgbClr val="000000"/>
                </a:solidFill>
                <a:miter/>
                <a:tailEnd len="med" type="triangle" w="med"/>
              </a:ln>
            </p:spPr>
          </p:cxnSp>
          <p:cxnSp>
            <p:nvCxnSpPr>
              <p:cNvPr id="453" name=""/>
              <p:cNvCxnSpPr>
                <a:stCxn id="439" idx="0"/>
                <a:endCxn id="437" idx="2"/>
              </p:cNvCxnSpPr>
              <p:nvPr/>
            </p:nvCxnSpPr>
            <p:spPr>
              <a:xfrm flipV="1">
                <a:off x="5295600" y="3962160"/>
                <a:ext cx="1080" cy="381600"/>
              </a:xfrm>
              <a:prstGeom prst="straightConnector1">
                <a:avLst/>
              </a:prstGeom>
              <a:ln w="9360">
                <a:solidFill>
                  <a:srgbClr val="000000"/>
                </a:solidFill>
                <a:miter/>
                <a:tailEnd len="med" type="triangle" w="med"/>
              </a:ln>
            </p:spPr>
          </p:cxnSp>
          <p:cxnSp>
            <p:nvCxnSpPr>
              <p:cNvPr id="454" name=""/>
              <p:cNvCxnSpPr>
                <a:stCxn id="438" idx="0"/>
                <a:endCxn id="433" idx="2"/>
              </p:cNvCxnSpPr>
              <p:nvPr/>
            </p:nvCxnSpPr>
            <p:spPr>
              <a:xfrm flipV="1">
                <a:off x="6286320" y="3962160"/>
                <a:ext cx="1080" cy="381600"/>
              </a:xfrm>
              <a:prstGeom prst="straightConnector1">
                <a:avLst/>
              </a:prstGeom>
              <a:ln w="9360">
                <a:solidFill>
                  <a:srgbClr val="000000"/>
                </a:solidFill>
                <a:miter/>
                <a:tailEnd len="med" type="triangle" w="med"/>
              </a:ln>
            </p:spPr>
          </p:cxnSp>
          <p:cxnSp>
            <p:nvCxnSpPr>
              <p:cNvPr id="455" name=""/>
              <p:cNvCxnSpPr>
                <a:stCxn id="433" idx="0"/>
                <a:endCxn id="435" idx="2"/>
              </p:cNvCxnSpPr>
              <p:nvPr/>
            </p:nvCxnSpPr>
            <p:spPr>
              <a:xfrm flipH="1" flipV="1">
                <a:off x="5371920" y="3276360"/>
                <a:ext cx="915120" cy="381600"/>
              </a:xfrm>
              <a:prstGeom prst="straightConnector1">
                <a:avLst/>
              </a:prstGeom>
              <a:ln w="9360">
                <a:solidFill>
                  <a:srgbClr val="000000"/>
                </a:solidFill>
                <a:miter/>
                <a:tailEnd len="med" type="triangle" w="med"/>
              </a:ln>
            </p:spPr>
          </p:cxnSp>
          <p:cxnSp>
            <p:nvCxnSpPr>
              <p:cNvPr id="456" name=""/>
              <p:cNvCxnSpPr>
                <a:stCxn id="437" idx="0"/>
                <a:endCxn id="435" idx="2"/>
              </p:cNvCxnSpPr>
              <p:nvPr/>
            </p:nvCxnSpPr>
            <p:spPr>
              <a:xfrm flipV="1">
                <a:off x="5295960" y="3276360"/>
                <a:ext cx="76680" cy="381600"/>
              </a:xfrm>
              <a:prstGeom prst="straightConnector1">
                <a:avLst/>
              </a:prstGeom>
              <a:ln w="9360">
                <a:solidFill>
                  <a:srgbClr val="000000"/>
                </a:solidFill>
                <a:miter/>
                <a:tailEnd len="med" type="triangle" w="med"/>
              </a:ln>
            </p:spPr>
          </p:cxnSp>
        </p:grpSp>
        <p:cxnSp>
          <p:nvCxnSpPr>
            <p:cNvPr id="457" name=""/>
            <p:cNvCxnSpPr>
              <a:stCxn id="417" idx="0"/>
              <a:endCxn id="414" idx="2"/>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58" name=""/>
            <p:cNvCxnSpPr>
              <a:stCxn id="416" idx="0"/>
              <a:endCxn id="414" idx="2"/>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59" name=""/>
            <p:cNvCxnSpPr>
              <a:stCxn id="421" idx="0"/>
              <a:endCxn id="417" idx="2"/>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60" name=""/>
            <p:cNvCxnSpPr>
              <a:stCxn id="420" idx="0"/>
              <a:endCxn id="417" idx="2"/>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61" name=""/>
            <p:cNvCxnSpPr>
              <a:stCxn id="419" idx="0"/>
              <a:endCxn id="416" idx="2"/>
            </p:cNvCxnSpPr>
            <p:nvPr/>
          </p:nvCxnSpPr>
          <p:spPr>
            <a:xfrm flipH="1" flipV="1">
              <a:off x="3847680" y="3962160"/>
              <a:ext cx="457920" cy="381600"/>
            </a:xfrm>
            <a:prstGeom prst="straightConnector1">
              <a:avLst/>
            </a:prstGeom>
            <a:ln w="9360">
              <a:solidFill>
                <a:srgbClr val="000000"/>
              </a:solidFill>
              <a:miter/>
              <a:tailEnd len="med" type="triangle" w="med"/>
            </a:ln>
          </p:spPr>
        </p:cxnSp>
      </p:grpSp>
      <p:grpSp>
        <p:nvGrpSpPr>
          <p:cNvPr id="462" name=""/>
          <p:cNvGrpSpPr/>
          <p:nvPr/>
        </p:nvGrpSpPr>
        <p:grpSpPr>
          <a:xfrm>
            <a:off x="6858000" y="2286000"/>
            <a:ext cx="1828800" cy="2362320"/>
            <a:chOff x="6858000" y="2286000"/>
            <a:chExt cx="1828800" cy="2362320"/>
          </a:xfrm>
        </p:grpSpPr>
        <p:sp>
          <p:nvSpPr>
            <p:cNvPr id="463" name=""/>
            <p:cNvSpPr/>
            <p:nvPr/>
          </p:nvSpPr>
          <p:spPr>
            <a:xfrm>
              <a:off x="6858000" y="22860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آنية</a:t>
              </a:r>
              <a:endParaRPr b="0" lang="en-US" sz="1600" spc="-1" strike="noStrike">
                <a:solidFill>
                  <a:srgbClr val="000000"/>
                </a:solidFill>
                <a:latin typeface="Arial"/>
              </a:endParaRPr>
            </a:p>
          </p:txBody>
        </p:sp>
        <p:sp>
          <p:nvSpPr>
            <p:cNvPr id="464" name=""/>
            <p:cNvSpPr/>
            <p:nvPr/>
          </p:nvSpPr>
          <p:spPr>
            <a:xfrm>
              <a:off x="6858000" y="31240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تحتية</a:t>
              </a:r>
              <a:endParaRPr b="0" lang="en-US" sz="1600" spc="-1" strike="noStrike">
                <a:solidFill>
                  <a:srgbClr val="000000"/>
                </a:solidFill>
                <a:latin typeface="Arial"/>
              </a:endParaRPr>
            </a:p>
          </p:txBody>
        </p:sp>
        <p:sp>
          <p:nvSpPr>
            <p:cNvPr id="465" name=""/>
            <p:cNvSpPr/>
            <p:nvPr/>
          </p:nvSpPr>
          <p:spPr>
            <a:xfrm>
              <a:off x="6934320" y="43434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جذرية</a:t>
              </a:r>
              <a:endParaRPr b="0" lang="en-US" sz="1600" spc="-1" strike="noStrike">
                <a:solidFill>
                  <a:srgbClr val="000000"/>
                </a:solidFill>
                <a:latin typeface="Arial"/>
              </a:endParaRPr>
            </a:p>
          </p:txBody>
        </p:sp>
      </p:grpSp>
      <p:sp>
        <p:nvSpPr>
          <p:cNvPr id="466" name=""/>
          <p:cNvSpPr/>
          <p:nvPr/>
        </p:nvSpPr>
        <p:spPr>
          <a:xfrm>
            <a:off x="1547640" y="836640"/>
            <a:ext cx="2611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مشكلة الثانية: تعليم الفتيات</a:t>
            </a:r>
            <a:endParaRPr b="0" lang="en-US" sz="2000" spc="-1" strike="noStrike">
              <a:solidFill>
                <a:srgbClr val="000000"/>
              </a:solidFill>
              <a:latin typeface="Arial"/>
            </a:endParaRPr>
          </a:p>
        </p:txBody>
      </p:sp>
      <p:sp>
        <p:nvSpPr>
          <p:cNvPr id="467" name=""/>
          <p:cNvSpPr/>
          <p:nvPr/>
        </p:nvSpPr>
        <p:spPr>
          <a:xfrm>
            <a:off x="4572000" y="836640"/>
            <a:ext cx="4176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مشكلة الأولى: فيروس نقص المناعة المكتسبة/الإيدز</a:t>
            </a:r>
            <a:endParaRPr b="0" lang="en-US" sz="1800" spc="-1" strike="noStrike">
              <a:solidFill>
                <a:srgbClr val="000000"/>
              </a:solidFill>
              <a:latin typeface="Arial"/>
            </a:endParaRPr>
          </a:p>
        </p:txBody>
      </p:sp>
      <p:grpSp>
        <p:nvGrpSpPr>
          <p:cNvPr id="468" name=""/>
          <p:cNvGrpSpPr/>
          <p:nvPr/>
        </p:nvGrpSpPr>
        <p:grpSpPr>
          <a:xfrm>
            <a:off x="1447560" y="2438280"/>
            <a:ext cx="3581640" cy="3276720"/>
            <a:chOff x="1447560" y="2438280"/>
            <a:chExt cx="3581640" cy="3276720"/>
          </a:xfrm>
        </p:grpSpPr>
        <p:grpSp>
          <p:nvGrpSpPr>
            <p:cNvPr id="469" name=""/>
            <p:cNvGrpSpPr/>
            <p:nvPr/>
          </p:nvGrpSpPr>
          <p:grpSpPr>
            <a:xfrm>
              <a:off x="1447560" y="2438280"/>
              <a:ext cx="3581640" cy="2286000"/>
              <a:chOff x="1447560" y="2438280"/>
              <a:chExt cx="3581640" cy="2286000"/>
            </a:xfrm>
          </p:grpSpPr>
          <p:sp>
            <p:nvSpPr>
              <p:cNvPr id="470" name=""/>
              <p:cNvSpPr/>
              <p:nvPr/>
            </p:nvSpPr>
            <p:spPr>
              <a:xfrm flipH="1">
                <a:off x="1447560" y="2438280"/>
                <a:ext cx="190476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523880" y="4724280"/>
                <a:ext cx="350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243828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600200" y="4952880"/>
              <a:ext cx="3352680" cy="762120"/>
            </a:xfrm>
            <a:prstGeom prst="rect">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جال المشكلة الأس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مييز في النوع الاجتماعي</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81</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74" name=""/>
          <p:cNvSpPr/>
          <p:nvPr/>
        </p:nvSpPr>
        <p:spPr>
          <a:xfrm>
            <a:off x="900000" y="1916280"/>
            <a:ext cx="705672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أحد تحديات التنمية / عدم إحقاق الحقوق</a:t>
            </a:r>
            <a:endParaRPr b="0" lang="en-US" sz="2400" spc="-1" strike="noStrike">
              <a:solidFill>
                <a:srgbClr val="000000"/>
              </a:solidFill>
              <a:latin typeface="Arial"/>
            </a:endParaRPr>
          </a:p>
        </p:txBody>
      </p:sp>
      <p:grpSp>
        <p:nvGrpSpPr>
          <p:cNvPr id="475" name=""/>
          <p:cNvGrpSpPr/>
          <p:nvPr/>
        </p:nvGrpSpPr>
        <p:grpSpPr>
          <a:xfrm>
            <a:off x="990720" y="2438280"/>
            <a:ext cx="6629400" cy="3505320"/>
            <a:chOff x="990720" y="2438280"/>
            <a:chExt cx="6629400" cy="3505320"/>
          </a:xfrm>
        </p:grpSpPr>
        <p:sp>
          <p:nvSpPr>
            <p:cNvPr id="476" name=""/>
            <p:cNvSpPr/>
            <p:nvPr/>
          </p:nvSpPr>
          <p:spPr>
            <a:xfrm>
              <a:off x="1371600" y="5029200"/>
              <a:ext cx="5943600" cy="7300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هيكلية/الأساسية</a:t>
              </a:r>
              <a:endParaRPr b="0" lang="en-US" sz="1800" spc="-1" strike="noStrike">
                <a:solidFill>
                  <a:srgbClr val="000000"/>
                </a:solidFill>
                <a:latin typeface="Arial"/>
              </a:endParaRPr>
            </a:p>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مجتمع، السياسات، الموارد“</a:t>
              </a:r>
              <a:endParaRPr b="0" lang="en-US" sz="1800" spc="-1" strike="noStrike">
                <a:solidFill>
                  <a:srgbClr val="000000"/>
                </a:solidFill>
                <a:latin typeface="Arial"/>
              </a:endParaRPr>
            </a:p>
          </p:txBody>
        </p:sp>
        <p:sp>
          <p:nvSpPr>
            <p:cNvPr id="477" name=""/>
            <p:cNvSpPr/>
            <p:nvPr/>
          </p:nvSpPr>
          <p:spPr>
            <a:xfrm>
              <a:off x="1600200" y="3809880"/>
              <a:ext cx="5638680" cy="740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cs typeface="Simplified Arabic"/>
                </a:rPr>
                <a:t>الأسباب التحتية</a:t>
              </a:r>
              <a:endParaRPr b="0" lang="en-US" sz="2000" spc="-1" strike="noStrike">
                <a:solidFill>
                  <a:srgbClr val="000000"/>
                </a:solidFill>
                <a:latin typeface="Arial"/>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ea typeface="Simplified Arabic"/>
                </a:rPr>
                <a:t>”الخدمات، إمكانية الوصول، الممارسات“</a:t>
              </a:r>
              <a:endParaRPr b="0" lang="en-US" sz="2000" spc="-1" strike="noStrike">
                <a:solidFill>
                  <a:srgbClr val="000000"/>
                </a:solidFill>
                <a:latin typeface="Arial"/>
              </a:endParaRPr>
            </a:p>
          </p:txBody>
        </p:sp>
        <p:sp>
          <p:nvSpPr>
            <p:cNvPr id="478" name=""/>
            <p:cNvSpPr/>
            <p:nvPr/>
          </p:nvSpPr>
          <p:spPr>
            <a:xfrm>
              <a:off x="1523880" y="2590920"/>
              <a:ext cx="5562720" cy="78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آني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وضع، والتأثيرات المباشرة“</a:t>
              </a:r>
              <a:endParaRPr b="0" lang="en-US" sz="1800" spc="-1" strike="noStrike">
                <a:solidFill>
                  <a:srgbClr val="000000"/>
                </a:solidFill>
                <a:latin typeface="Arial"/>
              </a:endParaRPr>
            </a:p>
          </p:txBody>
        </p:sp>
        <p:sp>
          <p:nvSpPr>
            <p:cNvPr id="479" name=""/>
            <p:cNvSpPr/>
            <p:nvPr/>
          </p:nvSpPr>
          <p:spPr>
            <a:xfrm>
              <a:off x="990720" y="2438280"/>
              <a:ext cx="1039680" cy="3505320"/>
            </a:xfrm>
            <a:prstGeom prst="upArrow">
              <a:avLst>
                <a:gd name="adj1" fmla="val 50000"/>
                <a:gd name="adj2" fmla="val 84288"/>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80080" y="2438280"/>
              <a:ext cx="1040040" cy="3505320"/>
            </a:xfrm>
            <a:prstGeom prst="upArrow">
              <a:avLst>
                <a:gd name="adj1" fmla="val 50000"/>
                <a:gd name="adj2" fmla="val 84259"/>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1619280" y="404640"/>
            <a:ext cx="59436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imes New Roman"/>
                <a:cs typeface="Times New Roman"/>
              </a:rPr>
              <a:t>التحليل السَّببي : ”لماذا“؟</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74</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5"/>
                                        </p:tgtEl>
                                        <p:attrNameLst>
                                          <p:attrName>style.visibility</p:attrName>
                                        </p:attrNameLst>
                                      </p:cBhvr>
                                      <p:to>
                                        <p:strVal val="visible"/>
                                      </p:to>
                                    </p:set>
                                    <p:anim calcmode="lin" valueType="num">
                                      <p:cBhvr additive="base">
                                        <p:cTn id="190" dur="500" fill="hold"/>
                                        <p:tgtEl>
                                          <p:spTgt spid="475"/>
                                        </p:tgtEl>
                                        <p:attrNameLst>
                                          <p:attrName>ppt_x</p:attrName>
                                        </p:attrNameLst>
                                      </p:cBhvr>
                                      <p:tavLst>
                                        <p:tav tm="0">
                                          <p:val>
                                            <p:strVal val="#ppt_x"/>
                                          </p:val>
                                        </p:tav>
                                        <p:tav tm="100000">
                                          <p:val>
                                            <p:strVal val="#ppt_x"/>
                                          </p:val>
                                        </p:tav>
                                      </p:tavLst>
                                    </p:anim>
                                    <p:anim calcmode="lin" valueType="num">
                                      <p:cBhvr additive="base">
                                        <p:cTn id="19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50920" y="228240"/>
            <a:ext cx="6553440" cy="111276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تعليمات جماعية: </a:t>
            </a:r>
            <a:br>
              <a:rPr sz="3200"/>
            </a:br>
            <a:r>
              <a:rPr b="1" lang="ar-JO" sz="3200" spc="-1" strike="noStrike">
                <a:solidFill>
                  <a:srgbClr val="000000"/>
                </a:solidFill>
                <a:latin typeface="Arial"/>
                <a:cs typeface="Arial"/>
              </a:rPr>
              <a:t>التحليل السَّببي/ شجرة المشكلات</a:t>
            </a:r>
            <a:r>
              <a:rPr b="0" lang="ar-JO" sz="3200" spc="-1" strike="noStrike">
                <a:solidFill>
                  <a:srgbClr val="000000"/>
                </a:solidFill>
                <a:latin typeface="Arial"/>
              </a:rPr>
              <a:t> </a:t>
            </a:r>
            <a:endParaRPr b="0" lang="en-US" sz="3200" spc="-1" strike="noStrike">
              <a:solidFill>
                <a:srgbClr val="000000"/>
              </a:solidFill>
              <a:latin typeface="Arial"/>
            </a:endParaRPr>
          </a:p>
        </p:txBody>
      </p:sp>
      <p:sp>
        <p:nvSpPr>
          <p:cNvPr id="483" name="PlaceHolder 2"/>
          <p:cNvSpPr>
            <a:spLocks noGrp="1"/>
          </p:cNvSpPr>
          <p:nvPr>
            <p:ph/>
          </p:nvPr>
        </p:nvSpPr>
        <p:spPr>
          <a:xfrm>
            <a:off x="611280" y="1844640"/>
            <a:ext cx="7634160" cy="4648320"/>
          </a:xfrm>
          <a:prstGeom prst="rect">
            <a:avLst/>
          </a:prstGeom>
          <a:solidFill>
            <a:srgbClr val="ffffff"/>
          </a:solidFill>
          <a:ln w="0">
            <a:noFill/>
          </a:ln>
        </p:spPr>
        <p:txBody>
          <a:bodyPr lIns="90000" rIns="90000" tIns="46800" bIns="46800" anchor="t">
            <a:normAutofit/>
          </a:bodyPr>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كل مجموعة هدفاً واحداً من الأهداف الإنمائية للألفية.</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حدِّد المجموعة تحدياً واحداً للتنمية، أو ظاهرة واحدة للمشكلة التي تواجه التنمي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اقش المجموعة وتُحدِّد الأسباب الآنية والتحتية والجذرية للمشكل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بني/ترسم شجرة مشكلات.</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سلسلة واحدة من شجرة المشكلات وتُحدِّد الحقوق التي لم يتم إحقاقها. </a:t>
            </a:r>
            <a:endParaRPr b="0" lang="en-US" sz="2400" spc="-1" strike="noStrike">
              <a:solidFill>
                <a:srgbClr val="000000"/>
              </a:solidFill>
              <a:latin typeface="Times New Roman"/>
            </a:endParaRPr>
          </a:p>
        </p:txBody>
      </p:sp>
      <p:sp>
        <p:nvSpPr>
          <p:cNvPr id="484" name=""/>
          <p:cNvSpPr/>
          <p:nvPr/>
        </p:nvSpPr>
        <p:spPr>
          <a:xfrm>
            <a:off x="2484360" y="5130720"/>
            <a:ext cx="3527640" cy="1322640"/>
          </a:xfrm>
          <a:prstGeom prst="wedgeRoundRectCallout">
            <a:avLst>
              <a:gd name="adj1" fmla="val -1171"/>
              <a:gd name="adj2" fmla="val -510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وف تُرشِّح كلُّ مجموعة نوعاً اجتماعياً واحداً (ذكراً أو أنثى)، وبطلاً واحداً للنزا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5" name=""/>
          <p:cNvSpPr/>
          <p:nvPr/>
        </p:nvSpPr>
        <p:spPr>
          <a:xfrm>
            <a:off x="1332000" y="1989000"/>
            <a:ext cx="3889440" cy="367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أصحاب الحقوق</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أصحاب الحقوق؟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مطالباتهم؟ </a:t>
            </a:r>
            <a:endParaRPr b="0" lang="en-US" sz="2400" spc="-1" strike="noStrike">
              <a:solidFill>
                <a:srgbClr val="000000"/>
              </a:solidFill>
              <a:latin typeface="Arial"/>
            </a:endParaRPr>
          </a:p>
          <a:p>
            <a:pPr marL="465120" indent="-29052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قائمون بالواجبات</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القائمون بالواجبات؟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واجباتهم؟ </a:t>
            </a:r>
            <a:endParaRPr b="0" lang="en-US" sz="2400" spc="-1" strike="noStrike">
              <a:solidFill>
                <a:srgbClr val="000000"/>
              </a:solidFill>
              <a:latin typeface="Arial"/>
            </a:endParaRPr>
          </a:p>
        </p:txBody>
      </p:sp>
      <p:sp>
        <p:nvSpPr>
          <p:cNvPr id="486" name="PlaceHolder 1"/>
          <p:cNvSpPr>
            <a:spLocks noGrp="1"/>
          </p:cNvSpPr>
          <p:nvPr>
            <p:ph type="title"/>
          </p:nvPr>
        </p:nvSpPr>
        <p:spPr>
          <a:xfrm>
            <a:off x="1547280" y="259920"/>
            <a:ext cx="727236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حليل:</a:t>
            </a:r>
            <a:br>
              <a:rPr sz="3200"/>
            </a:br>
            <a:r>
              <a:rPr b="1" lang="ar-JO" sz="2800" spc="-1" strike="noStrike">
                <a:solidFill>
                  <a:srgbClr val="000000"/>
                </a:solidFill>
                <a:latin typeface="Arial"/>
                <a:cs typeface="Simplified Arabic"/>
              </a:rPr>
              <a:t>تحليل نماذج الأدوار (</a:t>
            </a:r>
            <a:r>
              <a:rPr b="1" lang="ar-JO" sz="2800" spc="-1" strike="noStrike">
                <a:solidFill>
                  <a:srgbClr val="000000"/>
                </a:solidFill>
                <a:latin typeface="Arial"/>
                <a:ea typeface="Simplified Arabic"/>
              </a:rPr>
              <a:t>2</a:t>
            </a:r>
            <a:r>
              <a:rPr b="1" lang="ar-JO" sz="2800" spc="-1" strike="noStrike">
                <a:solidFill>
                  <a:srgbClr val="000000"/>
                </a:solidFill>
                <a:latin typeface="Arial"/>
                <a:ea typeface="Simplified Arabic"/>
              </a:rPr>
              <a:t>)</a:t>
            </a:r>
            <a:r>
              <a:rPr b="1" lang="en-US" sz="3600" spc="-1" strike="noStrike">
                <a:solidFill>
                  <a:srgbClr val="000000"/>
                </a:solidFill>
                <a:latin typeface="Arial"/>
                <a:ea typeface="Simplified Arabic"/>
              </a:rPr>
              <a:t> </a:t>
            </a:r>
            <a:endParaRPr b="0" lang="en-US" sz="3600" spc="-1" strike="noStrike">
              <a:solidFill>
                <a:srgbClr val="000000"/>
              </a:solidFill>
              <a:latin typeface="Arial"/>
            </a:endParaRPr>
          </a:p>
        </p:txBody>
      </p:sp>
      <p:sp>
        <p:nvSpPr>
          <p:cNvPr id="487" name=""/>
          <p:cNvSpPr/>
          <p:nvPr/>
        </p:nvSpPr>
        <p:spPr>
          <a:xfrm flipH="1">
            <a:off x="9395640" y="2276640"/>
            <a:ext cx="71640" cy="439236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724360" y="1989000"/>
            <a:ext cx="3059280" cy="1224000"/>
          </a:xfrm>
          <a:prstGeom prst="wedgeRectCallout">
            <a:avLst>
              <a:gd name="adj1" fmla="val -57837"/>
              <a:gd name="adj2" fmla="val 691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ما تنص عليه معايير حقوق الإنسان بالنسبة إلى أصحاب الحقوق وواجباتهم</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489" name=""/>
          <p:cNvSpPr/>
          <p:nvPr/>
        </p:nvSpPr>
        <p:spPr>
          <a:xfrm>
            <a:off x="5580000" y="3716280"/>
            <a:ext cx="3313080" cy="1800360"/>
          </a:xfrm>
          <a:prstGeom prst="wedgeRoundRectCallout">
            <a:avLst>
              <a:gd name="adj1" fmla="val -53259"/>
              <a:gd name="adj2" fmla="val -5723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أيضاً ماهية الأدوار المتوقَّعة من كلٍّ من أصحاب الحقوق والقائمين بالواجبات في القوانين والإجراءات والسياسات الوطنية</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488"/>
                                        </p:tgtEl>
                                        <p:attrNameLst>
                                          <p:attrName>style.visibility</p:attrName>
                                        </p:attrNameLst>
                                      </p:cBhvr>
                                      <p:to>
                                        <p:strVal val="visible"/>
                                      </p:to>
                                    </p:set>
                                    <p:animEffect filter="box(in)" transition="in">
                                      <p:cBhvr additive="repl">
                                        <p:cTn id="198" dur="500"/>
                                        <p:tgtEl>
                                          <p:spTgt spid="48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489"/>
                                        </p:tgtEl>
                                        <p:attrNameLst>
                                          <p:attrName>style.visibility</p:attrName>
                                        </p:attrNameLst>
                                      </p:cBhvr>
                                      <p:to>
                                        <p:strVal val="visible"/>
                                      </p:to>
                                    </p:set>
                                    <p:animEffect filter="box(in)" transition="in">
                                      <p:cBhvr additive="repl">
                                        <p:cTn id="20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0" name=""/>
          <p:cNvSpPr/>
          <p:nvPr/>
        </p:nvSpPr>
        <p:spPr>
          <a:xfrm flipH="1">
            <a:off x="-324720" y="2205000"/>
            <a:ext cx="71640" cy="3672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1547280" y="259920"/>
            <a:ext cx="741708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حليل: </a:t>
            </a:r>
            <a:br>
              <a:rPr sz="3200"/>
            </a:br>
            <a:r>
              <a:rPr b="1" lang="ar-JO" sz="3200" spc="-1" strike="noStrike">
                <a:solidFill>
                  <a:srgbClr val="000000"/>
                </a:solidFill>
                <a:latin typeface="Arial"/>
                <a:cs typeface="Arial"/>
              </a:rPr>
              <a:t>تحليل الفجوات في القدرات (</a:t>
            </a:r>
            <a:r>
              <a:rPr b="1" lang="ar-JO" sz="3200" spc="-1" strike="noStrike">
                <a:solidFill>
                  <a:srgbClr val="000000"/>
                </a:solidFill>
                <a:latin typeface="Arial"/>
                <a:ea typeface="Arial"/>
              </a:rPr>
              <a:t>3</a:t>
            </a:r>
            <a:r>
              <a:rPr b="1" lang="ar-JO"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492" name=""/>
          <p:cNvSpPr/>
          <p:nvPr/>
        </p:nvSpPr>
        <p:spPr>
          <a:xfrm>
            <a:off x="684360" y="1916280"/>
            <a:ext cx="410508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قدرات</a:t>
            </a:r>
            <a:r>
              <a:rPr b="1" lang="ar-JO" sz="2400" spc="-1" strike="noStrike">
                <a:solidFill>
                  <a:srgbClr val="6600ff"/>
                </a:solidFill>
                <a:latin typeface="Arial"/>
                <a:ea typeface="Arial"/>
              </a:rPr>
              <a:t>: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عرف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سؤولية / الدافعية / القياد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سلطة.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إمكانية الوصول إلى الموارد والسيطرة عليها.</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أنظمة الوطنية لحماية حقوق الإنسان.</a:t>
            </a:r>
            <a:endParaRPr b="0" lang="en-US" sz="2400" spc="-1" strike="noStrike">
              <a:solidFill>
                <a:srgbClr val="000000"/>
              </a:solidFill>
              <a:latin typeface="Arial"/>
            </a:endParaRPr>
          </a:p>
        </p:txBody>
      </p:sp>
      <p:sp>
        <p:nvSpPr>
          <p:cNvPr id="493" name=""/>
          <p:cNvSpPr/>
          <p:nvPr/>
        </p:nvSpPr>
        <p:spPr>
          <a:xfrm>
            <a:off x="5148360" y="2637000"/>
            <a:ext cx="3744720" cy="1439640"/>
          </a:xfrm>
          <a:prstGeom prst="wedgeRectCallout">
            <a:avLst>
              <a:gd name="adj1" fmla="val -60680"/>
              <a:gd name="adj2" fmla="val -8483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نمية القدرات ليست عملية فنية فحسب، بل هي عملية تستلزم التغيير السياسي والمجتمعي والقانوني والمؤسسي أيضاً. </a:t>
            </a:r>
            <a:endParaRPr b="0" lang="en-US" sz="2000" spc="-1" strike="noStrike">
              <a:solidFill>
                <a:srgbClr val="000000"/>
              </a:solidFill>
              <a:latin typeface="Arial"/>
            </a:endParaRPr>
          </a:p>
        </p:txBody>
      </p:sp>
      <p:sp>
        <p:nvSpPr>
          <p:cNvPr id="494" name=""/>
          <p:cNvSpPr/>
          <p:nvPr/>
        </p:nvSpPr>
        <p:spPr>
          <a:xfrm>
            <a:off x="5148360" y="4941720"/>
            <a:ext cx="3671640" cy="1008360"/>
          </a:xfrm>
          <a:prstGeom prst="wedgeRectCallout">
            <a:avLst>
              <a:gd name="adj1" fmla="val -12384"/>
              <a:gd name="adj2" fmla="val 4700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Simplified Arabic"/>
              </a:rPr>
              <a:t>تستطيع هيئات المعاهدة والإجراءات الخاصة تحديد الفجوات في القدر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93"/>
                                        </p:tgtEl>
                                        <p:attrNameLst>
                                          <p:attrName>style.visibility</p:attrName>
                                        </p:attrNameLst>
                                      </p:cBhvr>
                                      <p:to>
                                        <p:strVal val="visible"/>
                                      </p:to>
                                    </p:set>
                                    <p:animEffect filter="box(in)" transition="in">
                                      <p:cBhvr additive="repl">
                                        <p:cTn id="210" dur="500"/>
                                        <p:tgtEl>
                                          <p:spTgt spid="4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494"/>
                                        </p:tgtEl>
                                        <p:attrNameLst>
                                          <p:attrName>style.visibility</p:attrName>
                                        </p:attrNameLst>
                                      </p:cBhvr>
                                      <p:to>
                                        <p:strVal val="visible"/>
                                      </p:to>
                                    </p:set>
                                    <p:animEffect filter="box(in)" transition="in">
                                      <p:cBhvr additive="repl">
                                        <p:cTn id="2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47280" y="404280"/>
            <a:ext cx="71931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تعليمات جماعية: </a:t>
            </a:r>
            <a:br>
              <a:rPr sz="2800"/>
            </a:br>
            <a:r>
              <a:rPr b="1" lang="ar-JO" sz="2800" spc="-1" strike="noStrike">
                <a:solidFill>
                  <a:srgbClr val="000000"/>
                </a:solidFill>
                <a:latin typeface="Arial"/>
                <a:cs typeface="Simplified Arabic"/>
              </a:rPr>
              <a:t>تحليل الفجوات في القدرات والأدوار</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96" name="PlaceHolder 2"/>
          <p:cNvSpPr>
            <a:spLocks noGrp="1"/>
          </p:cNvSpPr>
          <p:nvPr>
            <p:ph/>
          </p:nvPr>
        </p:nvSpPr>
        <p:spPr>
          <a:xfrm>
            <a:off x="611280" y="2205000"/>
            <a:ext cx="7416720" cy="3888000"/>
          </a:xfrm>
          <a:prstGeom prst="rect">
            <a:avLst/>
          </a:prstGeom>
          <a:solidFill>
            <a:srgbClr val="ffffff"/>
          </a:solidFill>
          <a:ln w="0">
            <a:noFill/>
          </a:ln>
        </p:spPr>
        <p:txBody>
          <a:bodyPr lIns="90000" rIns="90000" tIns="46800" bIns="46800" anchor="t">
            <a:normAutofit fontScale="94000"/>
          </a:bodyPr>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استخدم السلسلة السَّببية ذاتها التي حدَّدْتَ لها الحقوق التي لم يتم إحقاقها.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أصحاب الحقوق والقائمين بالواجبات وأدوارهم ومسؤولياتهم.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العناصر ذات العلاقة بفجوات القدرات، واكتبها على ورق لوحة قلابة (باستخدام نموذج الجدو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36360" y="259920"/>
            <a:ext cx="6480360" cy="1143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ختيار مجالات التعاون – التحليل الاستراتيجي</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8" name="PlaceHolder 2"/>
          <p:cNvSpPr>
            <a:spLocks noGrp="1"/>
          </p:cNvSpPr>
          <p:nvPr>
            <p:ph/>
          </p:nvPr>
        </p:nvSpPr>
        <p:spPr>
          <a:xfrm>
            <a:off x="755640" y="1988640"/>
            <a:ext cx="7632720" cy="4535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ميزة التنافسية للأمم المتحدة:</a:t>
            </a:r>
            <a:r>
              <a:rPr b="0" lang="ar-JO" sz="2800" spc="-1" strike="noStrike">
                <a:solidFill>
                  <a:srgbClr val="000000"/>
                </a:solidFill>
                <a:latin typeface="Times New Roman"/>
                <a:ea typeface="Simplified Arabic"/>
              </a:rPr>
              <a:t> </a:t>
            </a:r>
            <a:endParaRPr b="0" lang="en-US" sz="28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قديم الخدمات مباشر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أييد والحشد الاجتماعي</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والوعي.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دريب والتعليم</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تابعة والملاحظ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سياسة والإرشاد القانوني </a:t>
            </a:r>
            <a:endParaRPr b="0" lang="en-US" sz="2400" spc="-1" strike="noStrike">
              <a:solidFill>
                <a:srgbClr val="000000"/>
              </a:solidFill>
              <a:latin typeface="Times New Roman"/>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شراكة: </a:t>
            </a:r>
            <a:endParaRPr b="0" lang="en-US" sz="2800" spc="-1" strike="noStrike">
              <a:solidFill>
                <a:srgbClr val="000000"/>
              </a:solidFill>
              <a:latin typeface="Times New Roman"/>
            </a:endParaRPr>
          </a:p>
          <a:p>
            <a:pPr marL="3430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JO" sz="2000" spc="-1" strike="noStrike">
                <a:solidFill>
                  <a:srgbClr val="000000"/>
                </a:solidFill>
                <a:latin typeface="Times New Roman"/>
                <a:cs typeface="Simplified Arabic"/>
              </a:rPr>
              <a:t>يُوسِّع النهجُ القائم على حقوق الإنسان طيفَ الشركاء، بمن فيهم أولئك الذين ينتمون إلى الأنظمة الوطنية لحماية حقوق الإنسان.</a:t>
            </a:r>
            <a:endParaRPr b="0" lang="en-US" sz="2000" spc="-1" strike="noStrike">
              <a:solidFill>
                <a:srgbClr val="000000"/>
              </a:solidFill>
              <a:latin typeface="Times New Roman"/>
            </a:endParaRPr>
          </a:p>
        </p:txBody>
      </p:sp>
      <p:sp>
        <p:nvSpPr>
          <p:cNvPr id="499" name=""/>
          <p:cNvSpPr/>
          <p:nvPr/>
        </p:nvSpPr>
        <p:spPr>
          <a:xfrm>
            <a:off x="250920" y="1413000"/>
            <a:ext cx="2520720" cy="1081080"/>
          </a:xfrm>
          <a:prstGeom prst="wedgeRectCallout">
            <a:avLst>
              <a:gd name="adj1" fmla="val 67949"/>
              <a:gd name="adj2" fmla="val 7217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يُعزِّز النهج القائم على حقوق الإنسان التحوّل في الممارسة من تقديم الخدمات مباشرة إلى تنمية القدر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499"/>
                                        </p:tgtEl>
                                        <p:attrNameLst>
                                          <p:attrName>style.visibility</p:attrName>
                                        </p:attrNameLst>
                                      </p:cBhvr>
                                      <p:to>
                                        <p:strVal val="visible"/>
                                      </p:to>
                                    </p:set>
                                    <p:animEffect filter="box(in)" transition="in">
                                      <p:cBhvr additive="repl">
                                        <p:cTn id="2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00" name=""/>
          <p:cNvSpPr/>
          <p:nvPr/>
        </p:nvSpPr>
        <p:spPr>
          <a:xfrm>
            <a:off x="539640" y="2060640"/>
            <a:ext cx="8280360" cy="3744720"/>
          </a:xfrm>
          <a:custGeom>
            <a:avLst/>
            <a:gdLst>
              <a:gd name="textAreaLeft" fmla="*/ 0 w 8280360"/>
              <a:gd name="textAreaRight" fmla="*/ 8280720 w 8280360"/>
              <a:gd name="textAreaTop" fmla="*/ 0 h 3744720"/>
              <a:gd name="textAreaBottom" fmla="*/ 3745080 h 37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364000" y="2205000"/>
            <a:ext cx="129564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435640" y="314172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35640" y="4005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35640" y="5229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PlaceHolder 1"/>
          <p:cNvSpPr>
            <a:spLocks noGrp="1"/>
          </p:cNvSpPr>
          <p:nvPr>
            <p:ph type="title"/>
          </p:nvPr>
        </p:nvSpPr>
        <p:spPr>
          <a:xfrm>
            <a:off x="1584000" y="692280"/>
            <a:ext cx="7559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خطيط للبرامج المستندة إلى النتائج</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6" name=""/>
          <p:cNvSpPr/>
          <p:nvPr/>
        </p:nvSpPr>
        <p:spPr>
          <a:xfrm>
            <a:off x="826920" y="2190600"/>
            <a:ext cx="5689800" cy="3672000"/>
          </a:xfrm>
          <a:prstGeom prst="rect">
            <a:avLst/>
          </a:prstGeom>
          <a:noFill/>
          <a:ln w="0">
            <a:noFill/>
          </a:ln>
        </p:spPr>
        <p:style>
          <a:lnRef idx="0"/>
          <a:fillRef idx="0"/>
          <a:effectRef idx="0"/>
          <a:fontRef idx="minor"/>
        </p:style>
        <p:txBody>
          <a:bodyPr lIns="90000" rIns="90000" tIns="46800" bIns="46800" anchor="t">
            <a:noAutofit/>
          </a:bodyPr>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أثر</a:t>
            </a:r>
            <a:r>
              <a:rPr b="0"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حقاق حقوق الإنسان كما هو منصوص عليها في الأدوات الدولية.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نتيجة</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زيادة مستوى أداء أصحاب الحقوق والقائمين بالواجبات.</a:t>
            </a:r>
            <a:r>
              <a:rPr b="0" lang="en-US"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مُخرجات</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سهامك الملموس في تنمية قدرات أصحاب الحقوق والقائمين بالواجبات والأنظمة الوطنية لحماية حقوق الإنسان.</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عملية</a:t>
            </a:r>
            <a:r>
              <a:rPr b="1"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الاسترشاد بمبادئ حقوق الإنسان.</a:t>
            </a:r>
            <a:endParaRPr b="0" lang="en-US" sz="2400" spc="-1" strike="noStrike">
              <a:solidFill>
                <a:srgbClr val="000000"/>
              </a:solidFill>
              <a:latin typeface="Arial"/>
            </a:endParaRPr>
          </a:p>
        </p:txBody>
      </p:sp>
      <p:sp>
        <p:nvSpPr>
          <p:cNvPr id="507" name=""/>
          <p:cNvSpPr/>
          <p:nvPr/>
        </p:nvSpPr>
        <p:spPr>
          <a:xfrm>
            <a:off x="179280" y="6021360"/>
            <a:ext cx="3600720" cy="649440"/>
          </a:xfrm>
          <a:prstGeom prst="wedgeRectCallout">
            <a:avLst>
              <a:gd name="adj1" fmla="val 75087"/>
              <a:gd name="adj2" fmla="val -35083"/>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تستطيع هيئات المعاهدة والإجراءات الخاصة تحديد الأعمال المعيَّنة اللازمة لتنمية القدر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07"/>
                                        </p:tgtEl>
                                        <p:attrNameLst>
                                          <p:attrName>style.visibility</p:attrName>
                                        </p:attrNameLst>
                                      </p:cBhvr>
                                      <p:to>
                                        <p:strVal val="visible"/>
                                      </p:to>
                                    </p:set>
                                    <p:animEffect filter="box(in)" transition="in">
                                      <p:cBhvr additive="repl">
                                        <p:cTn id="22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9280" y="1773000"/>
            <a:ext cx="3889440" cy="4103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نمية البشرية ...</a:t>
            </a:r>
            <a:br>
              <a:rPr sz="3200"/>
            </a:br>
            <a:br>
              <a:rPr sz="1200"/>
            </a:br>
            <a:r>
              <a:rPr b="0" lang="ar-JO" sz="2400" spc="-1" strike="noStrike">
                <a:solidFill>
                  <a:srgbClr val="000000"/>
                </a:solidFill>
                <a:latin typeface="Arial"/>
                <a:cs typeface="Simplified Arabic"/>
              </a:rPr>
              <a:t>هي عملية تعزيز </a:t>
            </a:r>
            <a:r>
              <a:rPr b="1" lang="ar-JO" sz="2400" spc="-1" strike="noStrike">
                <a:solidFill>
                  <a:srgbClr val="000000"/>
                </a:solidFill>
                <a:latin typeface="Arial"/>
                <a:cs typeface="Simplified Arabic"/>
              </a:rPr>
              <a:t>قدرات الناس</a:t>
            </a:r>
            <a:r>
              <a:rPr b="0" lang="ar-JO" sz="2400" spc="-1" strike="noStrike">
                <a:solidFill>
                  <a:srgbClr val="000000"/>
                </a:solidFill>
                <a:latin typeface="Arial"/>
                <a:ea typeface="Simplified Arabic"/>
              </a:rPr>
              <a:t> على توسيع خياراتهم وفرصهم، لكي يستطيع كل شخص منهم أن ينعم </a:t>
            </a:r>
            <a:r>
              <a:rPr b="1" lang="ar-JO" sz="2400" spc="-1" strike="noStrike">
                <a:solidFill>
                  <a:srgbClr val="000000"/>
                </a:solidFill>
                <a:latin typeface="Arial"/>
                <a:cs typeface="Simplified Arabic"/>
              </a:rPr>
              <a:t>بحياة ملؤها الاحترام والقيمة.</a:t>
            </a:r>
            <a:r>
              <a:rPr b="0" lang="ar-JO" sz="2400" spc="-1" strike="noStrike">
                <a:solidFill>
                  <a:srgbClr val="000000"/>
                </a:solidFill>
                <a:latin typeface="Arial"/>
                <a:ea typeface="Simplified Arabic"/>
              </a:rPr>
              <a:t> </a:t>
            </a:r>
            <a:br>
              <a:rPr sz="2400"/>
            </a:br>
            <a:br>
              <a:rPr sz="2400"/>
            </a:br>
            <a:r>
              <a:rPr b="0" lang="ar-JO" sz="2400" spc="-1" strike="noStrike">
                <a:solidFill>
                  <a:srgbClr val="000000"/>
                </a:solidFill>
                <a:latin typeface="Arial"/>
                <a:cs typeface="Simplified Arabic"/>
              </a:rPr>
              <a:t>وتحتاج الحرية والكرامة إلى الضمانات القانونية لحقوق الإنسان لتجنب تعرّضها للتهديد.</a:t>
            </a:r>
            <a:endParaRPr b="0" lang="en-US" sz="2400" spc="-1" strike="noStrike">
              <a:solidFill>
                <a:srgbClr val="000000"/>
              </a:solidFill>
              <a:latin typeface="Arial"/>
            </a:endParaRPr>
          </a:p>
        </p:txBody>
      </p:sp>
      <p:sp>
        <p:nvSpPr>
          <p:cNvPr id="83" name=""/>
          <p:cNvSpPr/>
          <p:nvPr/>
        </p:nvSpPr>
        <p:spPr>
          <a:xfrm>
            <a:off x="2195640" y="549360"/>
            <a:ext cx="6048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4" name=""/>
          <p:cNvSpPr/>
          <p:nvPr/>
        </p:nvSpPr>
        <p:spPr>
          <a:xfrm>
            <a:off x="468360" y="2781360"/>
            <a:ext cx="417492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Arial"/>
              </a:rPr>
              <a:t>... وحقوق الإنسان...</a:t>
            </a:r>
            <a:br>
              <a:rPr sz="2800"/>
            </a:br>
            <a:r>
              <a:rPr b="0" lang="ar-JO" sz="2400" spc="-1" strike="noStrike">
                <a:solidFill>
                  <a:srgbClr val="000000"/>
                </a:solidFill>
                <a:latin typeface="Arial"/>
                <a:cs typeface="Simplified Arabic"/>
              </a:rPr>
              <a:t>لجميع الناس </a:t>
            </a:r>
            <a:r>
              <a:rPr b="1" lang="ar-JO" sz="2400" spc="-1" strike="noStrike">
                <a:solidFill>
                  <a:srgbClr val="000000"/>
                </a:solidFill>
                <a:latin typeface="Arial"/>
                <a:cs typeface="Simplified Arabic"/>
              </a:rPr>
              <a:t>مطالبات </a:t>
            </a:r>
            <a:r>
              <a:rPr b="0" lang="ar-JO" sz="2400" spc="-1" strike="noStrike">
                <a:solidFill>
                  <a:srgbClr val="000000"/>
                </a:solidFill>
                <a:latin typeface="Arial"/>
                <a:cs typeface="Simplified Arabic"/>
              </a:rPr>
              <a:t>بعمل ترتيبات اجتماعية تُوفِّر لهم الحماية من حالات الإساءة والحرمان الأكثر سوءاً،</a:t>
            </a:r>
            <a:r>
              <a:rPr b="1" lang="ar-JO" sz="2400" spc="-1" strike="noStrike">
                <a:solidFill>
                  <a:srgbClr val="000000"/>
                </a:solidFill>
                <a:latin typeface="Arial"/>
                <a:ea typeface="Simplified Arabic"/>
              </a:rPr>
              <a:t> وتؤمِّن لهم حرية العيش بكرامة. </a:t>
            </a:r>
            <a:br>
              <a:rPr sz="2400"/>
            </a:br>
            <a:br>
              <a:rPr sz="2400"/>
            </a:br>
            <a:r>
              <a:rPr b="0" lang="ar-JO" sz="2400" spc="-1" strike="noStrike">
                <a:solidFill>
                  <a:srgbClr val="000000"/>
                </a:solidFill>
                <a:latin typeface="Arial"/>
                <a:cs typeface="Simplified Arabic"/>
              </a:rPr>
              <a:t>يتطلب إحقاق حقوق الإنسان وجود قدرات تستطيع التنمية أن تجعلها أمراً ممكناً.</a:t>
            </a:r>
            <a:r>
              <a:rPr b="0" lang="ar-JO"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547640" y="404640"/>
          <a:ext cx="7417080" cy="5651640"/>
        </p:xfrm>
        <a:graphic>
          <a:graphicData uri="http://schemas.openxmlformats.org/drawingml/2006/table">
            <a:tbl>
              <a:tblPr/>
              <a:tblGrid>
                <a:gridCol w="1079640"/>
                <a:gridCol w="4392720"/>
                <a:gridCol w="1944720"/>
              </a:tblGrid>
              <a:tr h="1293480">
                <a:tc>
                  <a:txBody>
                    <a:bodyPr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د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Arial"/>
                        </a:rPr>
                        <a:t>صياغة النهج القائم على حقوق الإنسا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Times New Roman"/>
                        </a:rPr>
                        <a:t>مصفوفة إطار  الأمم المتحدة للمساعدات الإنمائي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957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20</a:t>
                      </a:r>
                      <a:r>
                        <a:rPr b="0" lang="ar-JO" sz="1600" spc="-1" strike="noStrike">
                          <a:solidFill>
                            <a:srgbClr val="000000"/>
                          </a:solidFill>
                          <a:latin typeface="Arial"/>
                          <a:ea typeface="Simplified Arabic"/>
                        </a:rPr>
                        <a:t> عام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تمتع الكامل بالحقوق: </a:t>
                      </a:r>
                      <a:endParaRPr b="0" lang="en-US" sz="1600" spc="-1" strike="noStrike">
                        <a:solidFill>
                          <a:srgbClr val="000000"/>
                        </a:solidFill>
                        <a:latin typeface="Arial"/>
                      </a:endParaRPr>
                    </a:p>
                    <a:p>
                      <a:pPr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تغييرات مستدامة وإيجابية في حياة الرجال والنساء والأطفا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الأولويات الوطن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زيادة أداء أصحاب الحقوق للمطالبة بحقوقهم والقائمين بالواجبات للوفاء بالتزاماتهم.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إطار عمل الأمم المتحدة للمساعدات الإنمائ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43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عامان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1</a:t>
                      </a:r>
                      <a:r>
                        <a:rPr b="0" lang="ar-JO" sz="1600" spc="-1" strike="noStrike">
                          <a:solidFill>
                            <a:srgbClr val="000000"/>
                          </a:solidFill>
                          <a:latin typeface="Arial"/>
                          <a:ea typeface="Simplified Arabic"/>
                        </a:rPr>
                        <a:t>- تنمية قدرات القائمين بالواجبات للوفاء بالتزامات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تنمية قدرات أصحاب الحقوق للمطالبة بحقوق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3</a:t>
                      </a:r>
                      <a:r>
                        <a:rPr b="0" lang="ar-JO" sz="1600" spc="-1" strike="noStrike">
                          <a:solidFill>
                            <a:srgbClr val="000000"/>
                          </a:solidFill>
                          <a:latin typeface="Arial"/>
                          <a:ea typeface="Simplified Arabic"/>
                        </a:rPr>
                        <a:t>- الإصلاحات القانونية والسياساتية والمؤسسي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برنامج الدول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عام واحد – </a:t>
                      </a: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مهمَّات المُنجزة، والخدمات، وأدوات المناصرة وكسب التأييد التي يقدّمها البرنامج لأصحاب الحقوق والقائمين بالواجبات.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مخرجات (نواتج) برنامج الدول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
          <p:cNvSpPr/>
          <p:nvPr/>
        </p:nvSpPr>
        <p:spPr>
          <a:xfrm>
            <a:off x="491976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82560" y="259920"/>
            <a:ext cx="7561440" cy="1366920"/>
          </a:xfrm>
          <a:prstGeom prst="rect">
            <a:avLst/>
          </a:prstGeom>
          <a:solidFill>
            <a:srgbClr val="ffffff"/>
          </a:solidFill>
          <a:ln w="0">
            <a:noFill/>
          </a:ln>
        </p:spPr>
        <p:txBody>
          <a:bodyPr lIns="90000" rIns="90000" tIns="46800" bIns="46800" anchor="t">
            <a:noAutofit/>
          </a:bodyPr>
          <a:p>
            <a:pPr marL="39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Simplified Arabic"/>
              </a:rPr>
              <a:t>تعليمات جماعية: </a:t>
            </a:r>
            <a:br>
              <a:rPr sz="4400"/>
            </a:br>
            <a:r>
              <a:rPr b="1" lang="ar-JO" sz="4400" spc="-1" strike="noStrike">
                <a:solidFill>
                  <a:srgbClr val="000000"/>
                </a:solidFill>
                <a:latin typeface="Arial"/>
                <a:cs typeface="Simplified Arabic"/>
              </a:rPr>
              <a:t>تصميم التدخلات الاستراتيجية</a:t>
            </a:r>
            <a:endParaRPr b="0" lang="en-US" sz="4400" spc="-1" strike="noStrike">
              <a:solidFill>
                <a:srgbClr val="000000"/>
              </a:solidFill>
              <a:latin typeface="Arial"/>
            </a:endParaRPr>
          </a:p>
        </p:txBody>
      </p:sp>
      <p:sp>
        <p:nvSpPr>
          <p:cNvPr id="511" name="PlaceHolder 2"/>
          <p:cNvSpPr>
            <a:spLocks noGrp="1"/>
          </p:cNvSpPr>
          <p:nvPr>
            <p:ph/>
          </p:nvPr>
        </p:nvSpPr>
        <p:spPr>
          <a:xfrm>
            <a:off x="610920" y="2492280"/>
            <a:ext cx="7848360" cy="3600720"/>
          </a:xfrm>
          <a:prstGeom prst="rect">
            <a:avLst/>
          </a:prstGeom>
          <a:solidFill>
            <a:srgbClr val="ffffff"/>
          </a:solidFill>
          <a:ln w="0">
            <a:noFill/>
          </a:ln>
        </p:spPr>
        <p:txBody>
          <a:bodyPr lIns="90000" rIns="90000" tIns="46800" bIns="46800" anchor="t">
            <a:normAutofit fontScale="89000"/>
          </a:bodyPr>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ادرس موضوع أصحاب الحقوق والقائمين بالواجبات المشاركين، والفجوات في القدرات، التي تم تحديدها. </a:t>
            </a: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ناقش ووافق على التدخلات التي قد تُحدث تغييراً إيجابياً على صعيد إحقاق الحقوق (على مستوى النتائج والمخرجات).</a:t>
            </a:r>
            <a:r>
              <a:rPr b="0" lang="en-US"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92360" y="189000"/>
            <a:ext cx="6912000" cy="57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3" name=""/>
          <p:cNvSpPr/>
          <p:nvPr/>
        </p:nvSpPr>
        <p:spPr>
          <a:xfrm>
            <a:off x="2124000" y="1628640"/>
            <a:ext cx="6480360" cy="46818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8440" indent="-2844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ا الذي يُفترض قياسه؟</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أداء البرنامج </a:t>
            </a:r>
            <a:r>
              <a:rPr b="0" lang="ar-JO" sz="2400" spc="-1" strike="noStrike">
                <a:solidFill>
                  <a:srgbClr val="6600ff"/>
                </a:solidFill>
                <a:latin typeface="Arial"/>
                <a:ea typeface="Simplified Arabic"/>
              </a:rPr>
              <a:t>(أثره، ونتائجه، ومخرجاته).</a:t>
            </a:r>
            <a:r>
              <a:rPr b="1" lang="en-US" sz="2400" spc="-1" strike="noStrike">
                <a:solidFill>
                  <a:srgbClr val="6600ff"/>
                </a:solidFill>
                <a:latin typeface="Arial"/>
                <a:ea typeface="Simplified Arabic"/>
              </a:rPr>
              <a:t> </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عملية البرنامج</a:t>
            </a:r>
            <a:r>
              <a:rPr b="0" lang="ar-JO" sz="2400" spc="-1" strike="noStrike">
                <a:solidFill>
                  <a:srgbClr val="6600ff"/>
                </a:solidFill>
                <a:latin typeface="Arial"/>
                <a:ea typeface="Simplified Arabic"/>
              </a:rPr>
              <a:t>: المشاركة والمساءَلة وعدم التمييز.</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ياق البرنامج:</a:t>
            </a:r>
            <a:r>
              <a:rPr b="0" lang="ar-JO" sz="2400" spc="-1" strike="noStrike">
                <a:solidFill>
                  <a:srgbClr val="6600ff"/>
                </a:solidFill>
                <a:latin typeface="Arial"/>
                <a:ea typeface="Simplified Arabic"/>
              </a:rPr>
              <a:t>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وجود القوانين والسياسات والآليات المؤسسية.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جهود القائمين بالواجبات للوفاء بالتزاماتهم.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لتفاوت بين أصحاب الحقوق في التمتُّع بالحقوق.</a:t>
            </a:r>
            <a:endParaRPr b="0" lang="en-US" sz="2400" spc="-1" strike="noStrike">
              <a:solidFill>
                <a:srgbClr val="000000"/>
              </a:solidFill>
              <a:latin typeface="Arial"/>
            </a:endParaRPr>
          </a:p>
          <a:p>
            <a:pPr marL="56844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 descr=""/>
          <p:cNvPicPr/>
          <p:nvPr/>
        </p:nvPicPr>
        <p:blipFill>
          <a:blip r:embed="rId1"/>
          <a:stretch/>
        </p:blipFill>
        <p:spPr>
          <a:xfrm>
            <a:off x="0" y="2637000"/>
            <a:ext cx="2374920" cy="2050920"/>
          </a:xfrm>
          <a:prstGeom prst="rect">
            <a:avLst/>
          </a:prstGeom>
          <a:ln w="0">
            <a:noFill/>
          </a:ln>
        </p:spPr>
      </p:pic>
      <p:sp>
        <p:nvSpPr>
          <p:cNvPr id="515" name=""/>
          <p:cNvSpPr/>
          <p:nvPr/>
        </p:nvSpPr>
        <p:spPr>
          <a:xfrm>
            <a:off x="0" y="1125360"/>
            <a:ext cx="2411280" cy="1584360"/>
          </a:xfrm>
          <a:prstGeom prst="wedgeRectCallout">
            <a:avLst>
              <a:gd name="adj1" fmla="val 52962"/>
              <a:gd name="adj2" fmla="val 609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ff"/>
                </a:solidFill>
                <a:latin typeface="Arial"/>
                <a:ea typeface="Arial"/>
              </a:rPr>
              <a:t>	</a:t>
            </a:r>
            <a:r>
              <a:rPr b="1" lang="ar-JO" sz="2400" spc="-1" strike="noStrike">
                <a:solidFill>
                  <a:srgbClr val="6600ff"/>
                </a:solidFill>
                <a:latin typeface="Arial"/>
                <a:cs typeface="Arial"/>
              </a:rPr>
              <a:t>بناء على المطالبات والالتزامات في معايير حقوق الإنسان</a:t>
            </a:r>
            <a:r>
              <a:rPr b="1" lang="en-US" sz="2400" spc="-1" strike="noStrike">
                <a:solidFill>
                  <a:srgbClr val="6600ff"/>
                </a:solidFill>
                <a:latin typeface="Arial"/>
                <a:ea typeface="Arial"/>
              </a:rPr>
              <a:t> </a:t>
            </a:r>
            <a:endParaRPr b="0" lang="en-US" sz="2400" spc="-1" strike="noStrike">
              <a:solidFill>
                <a:srgbClr val="000000"/>
              </a:solidFill>
              <a:latin typeface="Arial"/>
            </a:endParaRPr>
          </a:p>
        </p:txBody>
      </p:sp>
      <p:sp>
        <p:nvSpPr>
          <p:cNvPr id="516" name=""/>
          <p:cNvSpPr/>
          <p:nvPr/>
        </p:nvSpPr>
        <p:spPr>
          <a:xfrm>
            <a:off x="7020000" y="907920"/>
            <a:ext cx="1944720" cy="1081080"/>
          </a:xfrm>
          <a:prstGeom prst="wedgeRectCallout">
            <a:avLst>
              <a:gd name="adj1" fmla="val 23305"/>
              <a:gd name="adj2" fmla="val 1234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ناء على مبادئ حقوق الإنسان</a:t>
            </a:r>
            <a:r>
              <a:rPr b="1" lang="en-US" sz="2000" spc="-1" strike="noStrike">
                <a:solidFill>
                  <a:srgbClr val="6600ff"/>
                </a:solidFill>
                <a:latin typeface="Arial"/>
                <a:ea typeface="Simplified Arabic"/>
              </a:rPr>
              <a:t> </a:t>
            </a:r>
            <a:endParaRPr b="0" lang="en-US" sz="2000" spc="-1" strike="noStrike">
              <a:solidFill>
                <a:srgbClr val="000000"/>
              </a:solidFill>
              <a:latin typeface="Arial"/>
            </a:endParaRPr>
          </a:p>
        </p:txBody>
      </p:sp>
      <p:sp>
        <p:nvSpPr>
          <p:cNvPr id="517" name=""/>
          <p:cNvSpPr/>
          <p:nvPr/>
        </p:nvSpPr>
        <p:spPr>
          <a:xfrm>
            <a:off x="0" y="4869000"/>
            <a:ext cx="2627280" cy="1800000"/>
          </a:xfrm>
          <a:prstGeom prst="wedgeRectCallout">
            <a:avLst>
              <a:gd name="adj1" fmla="val 55861"/>
              <a:gd name="adj2" fmla="val -716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مقتضى النهج القائم على حقوق الإنسان، فإن متابعة السياق تتساوى في الأهمية مع متابعة أداء البرنامج والعمل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15"/>
                                        </p:tgtEl>
                                        <p:attrNameLst>
                                          <p:attrName>style.visibility</p:attrName>
                                        </p:attrNameLst>
                                      </p:cBhvr>
                                      <p:to>
                                        <p:strVal val="visible"/>
                                      </p:to>
                                    </p:set>
                                    <p:animEffect filter="box(in)" transition="in">
                                      <p:cBhvr additive="repl">
                                        <p:cTn id="236" dur="500"/>
                                        <p:tgtEl>
                                          <p:spTgt spid="5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16"/>
                                        </p:tgtEl>
                                        <p:attrNameLst>
                                          <p:attrName>style.visibility</p:attrName>
                                        </p:attrNameLst>
                                      </p:cBhvr>
                                      <p:to>
                                        <p:strVal val="visible"/>
                                      </p:to>
                                    </p:set>
                                    <p:animEffect filter="box(in)" transition="in">
                                      <p:cBhvr additive="repl">
                                        <p:cTn id="241" dur="500"/>
                                        <p:tgtEl>
                                          <p:spTgt spid="51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17"/>
                                        </p:tgtEl>
                                        <p:attrNameLst>
                                          <p:attrName>style.visibility</p:attrName>
                                        </p:attrNameLst>
                                      </p:cBhvr>
                                      <p:to>
                                        <p:strVal val="visible"/>
                                      </p:to>
                                    </p:set>
                                    <p:animEffect filter="box(in)" transition="in">
                                      <p:cBhvr additive="repl">
                                        <p:cTn id="2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834920" y="549360"/>
            <a:ext cx="6624360" cy="5508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endParaRPr b="0" lang="en-US" sz="2400" spc="-1" strike="noStrike">
              <a:solidFill>
                <a:srgbClr val="000000"/>
              </a:solidFill>
              <a:latin typeface="Arial"/>
            </a:endParaRPr>
          </a:p>
        </p:txBody>
      </p:sp>
      <p:sp>
        <p:nvSpPr>
          <p:cNvPr id="519" name=""/>
          <p:cNvSpPr/>
          <p:nvPr/>
        </p:nvSpPr>
        <p:spPr>
          <a:xfrm>
            <a:off x="468360" y="2133720"/>
            <a:ext cx="8064360" cy="3456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07960" indent="-243000"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طريقة القياس:</a:t>
            </a:r>
            <a:endParaRPr b="0" lang="en-US" sz="2800" spc="-1" strike="noStrike">
              <a:solidFill>
                <a:srgbClr val="000000"/>
              </a:solidFill>
              <a:latin typeface="Arial"/>
            </a:endParaRPr>
          </a:p>
          <a:p>
            <a:pPr marL="507960" indent="-243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دِّد أصحاب الحقوق والقائمين بالواجبات الذين سيُسهمون في عملية المتابعة والتقييم:</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إما بوصفهم مقدِّمو معلومات</a:t>
            </a:r>
            <a:r>
              <a:rPr b="0" lang="ar-JO" sz="2000" spc="-1" strike="noStrike">
                <a:solidFill>
                  <a:srgbClr val="000000"/>
                </a:solidFill>
                <a:latin typeface="Arial"/>
                <a:cs typeface="Simplified Arabic"/>
              </a:rPr>
              <a:t>، مثل وزراء الوزارات الخدمية/القطاعية. </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وإما بوصفهم مفسِّرو معلومات مستقلون</a:t>
            </a:r>
            <a:r>
              <a:rPr b="0" lang="ar-JO" sz="2000" spc="-1" strike="noStrike">
                <a:solidFill>
                  <a:srgbClr val="000000"/>
                </a:solidFill>
                <a:latin typeface="Arial"/>
                <a:cs typeface="Simplified Arabic"/>
              </a:rPr>
              <a:t>، مثل المؤسسات الوطنية لحقوق الإنسان.</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plified Arabic"/>
              </a:rPr>
              <a:t> </a:t>
            </a:r>
            <a:endParaRPr b="0" lang="en-US" sz="9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جمعهم معاً في عملية تشاركية.</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ضمن إمكانية الوصول إلى المعلومات والبيانات المتوافرة عن البرنامج.</a:t>
            </a:r>
            <a:endParaRPr b="0" lang="en-US" sz="2000" spc="-1" strike="noStrike">
              <a:solidFill>
                <a:srgbClr val="000000"/>
              </a:solidFill>
              <a:latin typeface="Arial"/>
            </a:endParaRPr>
          </a:p>
        </p:txBody>
      </p:sp>
      <p:sp>
        <p:nvSpPr>
          <p:cNvPr id="520" name=""/>
          <p:cNvSpPr/>
          <p:nvPr/>
        </p:nvSpPr>
        <p:spPr>
          <a:xfrm>
            <a:off x="0" y="5707080"/>
            <a:ext cx="3024360" cy="1150920"/>
          </a:xfrm>
          <a:prstGeom prst="wedgeRectCallout">
            <a:avLst>
              <a:gd name="adj1" fmla="val -6537"/>
              <a:gd name="adj2" fmla="val -121032"/>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يدعو النهج القائم على حقوق الإنسان إلى استخدام آليات المشاركة والمساءَلة عن البرام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520"/>
                                        </p:tgtEl>
                                        <p:attrNameLst>
                                          <p:attrName>style.visibility</p:attrName>
                                        </p:attrNameLst>
                                      </p:cBhvr>
                                      <p:to>
                                        <p:strVal val="visible"/>
                                      </p:to>
                                    </p:set>
                                    <p:animEffect filter="box(in)" transition="in">
                                      <p:cBhvr additive="repl">
                                        <p:cTn id="2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050920" y="333000"/>
            <a:ext cx="640872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تعليمات جماعية: المتابعة والتقييم</a:t>
            </a:r>
            <a:endParaRPr b="0" lang="en-US" sz="3600" spc="-1" strike="noStrike">
              <a:solidFill>
                <a:srgbClr val="000000"/>
              </a:solidFill>
              <a:latin typeface="Arial"/>
            </a:endParaRPr>
          </a:p>
        </p:txBody>
      </p:sp>
      <p:sp>
        <p:nvSpPr>
          <p:cNvPr id="522" name="PlaceHolder 2"/>
          <p:cNvSpPr>
            <a:spLocks noGrp="1"/>
          </p:cNvSpPr>
          <p:nvPr>
            <p:ph/>
          </p:nvPr>
        </p:nvSpPr>
        <p:spPr>
          <a:xfrm>
            <a:off x="1115640" y="2205000"/>
            <a:ext cx="6635880" cy="3849840"/>
          </a:xfrm>
          <a:prstGeom prst="rect">
            <a:avLst/>
          </a:prstGeom>
          <a:solidFill>
            <a:srgbClr val="ffffff"/>
          </a:solidFill>
          <a:ln w="0">
            <a:noFill/>
          </a:ln>
        </p:spPr>
        <p:txBody>
          <a:bodyPr lIns="90000" rIns="90000" tIns="46800" bIns="46800" anchor="t">
            <a:normAutofit fontScale="97000"/>
          </a:bodyPr>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يجب أن توجّه مبادئ ومعايير حقوق الإنسان عمليتي المتابعة والتقييم. </a:t>
            </a:r>
            <a:endParaRPr b="0" lang="en-US" sz="3600" spc="-1" strike="noStrike">
              <a:solidFill>
                <a:srgbClr val="000000"/>
              </a:solidFill>
              <a:latin typeface="Times New Roman"/>
            </a:endParaRPr>
          </a:p>
          <a:p>
            <a:pPr marL="332640" indent="0" algn="just" rtl="1">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راجع سلسلة نتائج مجموعتك وناقش تبعات العبارة أعلا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59920"/>
            <a:ext cx="7778880" cy="1143000"/>
          </a:xfrm>
          <a:prstGeom prst="rect">
            <a:avLst/>
          </a:prstGeom>
          <a:noFill/>
          <a:ln w="0">
            <a:noFill/>
          </a:ln>
        </p:spPr>
        <p:txBody>
          <a:bodyPr lIns="90000" rIns="90000" tIns="46800" bIns="46800"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ستخدام النهج القائم على حقوق الإنسان في أُطر البرمجة لدى </a:t>
            </a:r>
            <a:br>
              <a:rPr sz="2400"/>
            </a:br>
            <a:r>
              <a:rPr b="1" lang="ar-JO" sz="2400" spc="-1" strike="noStrike">
                <a:solidFill>
                  <a:srgbClr val="000000"/>
                </a:solidFill>
                <a:latin typeface="Arial"/>
                <a:cs typeface="Arial"/>
              </a:rPr>
              <a:t>الأمم المتحدة: خطط العمل الإنساني المشتركة وعملية النداءات الموحدة</a:t>
            </a:r>
            <a:endParaRPr b="0" lang="en-US" sz="2400" spc="-1" strike="noStrike">
              <a:solidFill>
                <a:srgbClr val="000000"/>
              </a:solidFill>
              <a:latin typeface="Arial"/>
            </a:endParaRPr>
          </a:p>
        </p:txBody>
      </p:sp>
      <p:sp>
        <p:nvSpPr>
          <p:cNvPr id="524" name="PlaceHolder 2"/>
          <p:cNvSpPr>
            <a:spLocks noGrp="1"/>
          </p:cNvSpPr>
          <p:nvPr>
            <p:ph/>
          </p:nvPr>
        </p:nvSpPr>
        <p:spPr>
          <a:xfrm>
            <a:off x="457200" y="2133360"/>
            <a:ext cx="8229600" cy="4267080"/>
          </a:xfrm>
          <a:prstGeom prst="rect">
            <a:avLst/>
          </a:prstGeom>
          <a:solidFill>
            <a:srgbClr val="ffffff"/>
          </a:solidFill>
          <a:ln w="0">
            <a:noFill/>
          </a:ln>
        </p:spPr>
        <p:txBody>
          <a:bodyPr lIns="90000" rIns="90000" tIns="46800" bIns="46800" anchor="t">
            <a:normAutofit fontScale="97000"/>
          </a:bodyPr>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تسمح خطة العمل الإنساني المشتركة بتحقيق التوافق الزمني بين برامج الأمم المتحد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عملية النداءات الموحَّدة هي أداة لتنسيق عمليات التخطيط والتنفيذ والمتابع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حقوق الإنسان والمبادئ الإنسانية تُساعد في تركيز الأعمال ذات الأولوية على الأشخاص الأشدِّ 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99640" y="1557360"/>
            <a:ext cx="7704360" cy="100800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Simplified Arabic"/>
              </a:rPr>
              <a:t>دعم فرق الأمم المتحدة القُطرية</a:t>
            </a:r>
            <a:endParaRPr b="0" lang="en-US" sz="4400" spc="-1" strike="noStrike">
              <a:solidFill>
                <a:srgbClr val="000000"/>
              </a:solidFill>
              <a:latin typeface="Arial"/>
            </a:endParaRPr>
          </a:p>
        </p:txBody>
      </p:sp>
      <p:sp>
        <p:nvSpPr>
          <p:cNvPr id="526" name=""/>
          <p:cNvSpPr/>
          <p:nvPr/>
        </p:nvSpPr>
        <p:spPr>
          <a:xfrm>
            <a:off x="2771640" y="3645000"/>
            <a:ext cx="2160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تاسعة</a:t>
            </a:r>
            <a:endParaRPr b="0" lang="en-US" sz="3200" spc="-1" strike="noStrike">
              <a:solidFill>
                <a:srgbClr val="000000"/>
              </a:solidFill>
              <a:latin typeface="Arial"/>
            </a:endParaRPr>
          </a:p>
        </p:txBody>
      </p:sp>
      <p:pic>
        <p:nvPicPr>
          <p:cNvPr id="527" name="" descr=""/>
          <p:cNvPicPr/>
          <p:nvPr/>
        </p:nvPicPr>
        <p:blipFill>
          <a:blip r:embed="rId1"/>
          <a:stretch/>
        </p:blipFill>
        <p:spPr>
          <a:xfrm>
            <a:off x="6877080" y="4005360"/>
            <a:ext cx="2309760" cy="2755800"/>
          </a:xfrm>
          <a:prstGeom prst="rect">
            <a:avLst/>
          </a:prstGeom>
          <a:ln w="0">
            <a:noFill/>
          </a:ln>
        </p:spPr>
      </p:pic>
      <p:sp>
        <p:nvSpPr>
          <p:cNvPr id="528" name=""/>
          <p:cNvSpPr/>
          <p:nvPr/>
        </p:nvSpPr>
        <p:spPr>
          <a:xfrm>
            <a:off x="7093080" y="5362560"/>
            <a:ext cx="1584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ff6600"/>
                </a:solidFill>
                <a:latin typeface="Comic Sans MS"/>
                <a:cs typeface="Arial"/>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9" name=""/>
          <p:cNvSpPr/>
          <p:nvPr/>
        </p:nvSpPr>
        <p:spPr>
          <a:xfrm>
            <a:off x="2268360" y="0"/>
            <a:ext cx="48960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Comic Sans MS"/>
                <a:cs typeface="Simplified Arabic"/>
              </a:rPr>
              <a:t>دور فريق الأمم المتحدة القطري</a:t>
            </a:r>
            <a:endParaRPr b="0" lang="en-US" sz="2800" spc="-1" strike="noStrike">
              <a:solidFill>
                <a:srgbClr val="000000"/>
              </a:solidFill>
              <a:latin typeface="Arial"/>
            </a:endParaRPr>
          </a:p>
        </p:txBody>
      </p:sp>
      <p:grpSp>
        <p:nvGrpSpPr>
          <p:cNvPr id="530" name=""/>
          <p:cNvGrpSpPr/>
          <p:nvPr/>
        </p:nvGrpSpPr>
        <p:grpSpPr>
          <a:xfrm>
            <a:off x="304920" y="609480"/>
            <a:ext cx="1752480" cy="2286000"/>
            <a:chOff x="304920" y="609480"/>
            <a:chExt cx="1752480" cy="2286000"/>
          </a:xfrm>
        </p:grpSpPr>
        <p:sp>
          <p:nvSpPr>
            <p:cNvPr id="531" name=""/>
            <p:cNvSpPr/>
            <p:nvPr/>
          </p:nvSpPr>
          <p:spPr>
            <a:xfrm>
              <a:off x="762120" y="609480"/>
              <a:ext cx="685800" cy="609840"/>
            </a:xfrm>
            <a:prstGeom prst="smileyFace">
              <a:avLst>
                <a:gd name="adj" fmla="val 366"/>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04920" y="1219320"/>
              <a:ext cx="1752480" cy="1676160"/>
            </a:xfrm>
            <a:custGeom>
              <a:avLst/>
              <a:gdLst/>
              <a:ahLst/>
              <a:rect l="l" t="t" r="r" b="b"/>
              <a:pathLst>
                <a:path w="1073" h="1003">
                  <a:moveTo>
                    <a:pt x="402" y="9"/>
                  </a:moveTo>
                  <a:cubicBezTo>
                    <a:pt x="445" y="181"/>
                    <a:pt x="300" y="137"/>
                    <a:pt x="164" y="143"/>
                  </a:cubicBezTo>
                  <a:cubicBezTo>
                    <a:pt x="129" y="151"/>
                    <a:pt x="108" y="157"/>
                    <a:pt x="78" y="179"/>
                  </a:cubicBezTo>
                  <a:cubicBezTo>
                    <a:pt x="53" y="226"/>
                    <a:pt x="16" y="260"/>
                    <a:pt x="0" y="314"/>
                  </a:cubicBezTo>
                  <a:cubicBezTo>
                    <a:pt x="23" y="392"/>
                    <a:pt x="78" y="408"/>
                    <a:pt x="141" y="423"/>
                  </a:cubicBezTo>
                  <a:cubicBezTo>
                    <a:pt x="197" y="415"/>
                    <a:pt x="240" y="402"/>
                    <a:pt x="296" y="414"/>
                  </a:cubicBezTo>
                  <a:cubicBezTo>
                    <a:pt x="340" y="445"/>
                    <a:pt x="330" y="495"/>
                    <a:pt x="320" y="550"/>
                  </a:cubicBezTo>
                  <a:cubicBezTo>
                    <a:pt x="309" y="610"/>
                    <a:pt x="294" y="670"/>
                    <a:pt x="281" y="731"/>
                  </a:cubicBezTo>
                  <a:cubicBezTo>
                    <a:pt x="287" y="837"/>
                    <a:pt x="268" y="964"/>
                    <a:pt x="374" y="1001"/>
                  </a:cubicBezTo>
                  <a:cubicBezTo>
                    <a:pt x="399" y="997"/>
                    <a:pt x="445" y="1001"/>
                    <a:pt x="468" y="974"/>
                  </a:cubicBezTo>
                  <a:cubicBezTo>
                    <a:pt x="474" y="967"/>
                    <a:pt x="471" y="954"/>
                    <a:pt x="476" y="947"/>
                  </a:cubicBezTo>
                  <a:cubicBezTo>
                    <a:pt x="482" y="939"/>
                    <a:pt x="491" y="935"/>
                    <a:pt x="499" y="929"/>
                  </a:cubicBezTo>
                  <a:cubicBezTo>
                    <a:pt x="526" y="838"/>
                    <a:pt x="480" y="979"/>
                    <a:pt x="530" y="874"/>
                  </a:cubicBezTo>
                  <a:cubicBezTo>
                    <a:pt x="545" y="842"/>
                    <a:pt x="554" y="794"/>
                    <a:pt x="561" y="757"/>
                  </a:cubicBezTo>
                  <a:cubicBezTo>
                    <a:pt x="564" y="691"/>
                    <a:pt x="569" y="624"/>
                    <a:pt x="569" y="558"/>
                  </a:cubicBezTo>
                  <a:cubicBezTo>
                    <a:pt x="569" y="533"/>
                    <a:pt x="540" y="486"/>
                    <a:pt x="561" y="486"/>
                  </a:cubicBezTo>
                  <a:cubicBezTo>
                    <a:pt x="566" y="486"/>
                    <a:pt x="592" y="632"/>
                    <a:pt x="593" y="640"/>
                  </a:cubicBezTo>
                  <a:cubicBezTo>
                    <a:pt x="579" y="795"/>
                    <a:pt x="569" y="797"/>
                    <a:pt x="585" y="929"/>
                  </a:cubicBezTo>
                  <a:cubicBezTo>
                    <a:pt x="587" y="947"/>
                    <a:pt x="587" y="972"/>
                    <a:pt x="600" y="983"/>
                  </a:cubicBezTo>
                  <a:cubicBezTo>
                    <a:pt x="613" y="995"/>
                    <a:pt x="647" y="1001"/>
                    <a:pt x="647" y="1001"/>
                  </a:cubicBezTo>
                  <a:cubicBezTo>
                    <a:pt x="691" y="998"/>
                    <a:pt x="736" y="1003"/>
                    <a:pt x="780" y="993"/>
                  </a:cubicBezTo>
                  <a:cubicBezTo>
                    <a:pt x="791" y="990"/>
                    <a:pt x="796" y="975"/>
                    <a:pt x="803" y="965"/>
                  </a:cubicBezTo>
                  <a:cubicBezTo>
                    <a:pt x="832" y="924"/>
                    <a:pt x="852" y="879"/>
                    <a:pt x="865" y="829"/>
                  </a:cubicBezTo>
                  <a:cubicBezTo>
                    <a:pt x="862" y="761"/>
                    <a:pt x="866" y="608"/>
                    <a:pt x="826" y="540"/>
                  </a:cubicBezTo>
                  <a:cubicBezTo>
                    <a:pt x="816" y="499"/>
                    <a:pt x="783" y="463"/>
                    <a:pt x="756" y="431"/>
                  </a:cubicBezTo>
                  <a:cubicBezTo>
                    <a:pt x="743" y="390"/>
                    <a:pt x="713" y="386"/>
                    <a:pt x="756" y="369"/>
                  </a:cubicBezTo>
                  <a:cubicBezTo>
                    <a:pt x="797" y="385"/>
                    <a:pt x="838" y="389"/>
                    <a:pt x="881" y="395"/>
                  </a:cubicBezTo>
                  <a:cubicBezTo>
                    <a:pt x="953" y="424"/>
                    <a:pt x="1019" y="400"/>
                    <a:pt x="1068" y="341"/>
                  </a:cubicBezTo>
                  <a:cubicBezTo>
                    <a:pt x="1058" y="239"/>
                    <a:pt x="1073" y="282"/>
                    <a:pt x="1029" y="206"/>
                  </a:cubicBezTo>
                  <a:cubicBezTo>
                    <a:pt x="1018" y="188"/>
                    <a:pt x="1000" y="176"/>
                    <a:pt x="982" y="169"/>
                  </a:cubicBezTo>
                  <a:cubicBezTo>
                    <a:pt x="966" y="164"/>
                    <a:pt x="935" y="152"/>
                    <a:pt x="935" y="152"/>
                  </a:cubicBezTo>
                  <a:cubicBezTo>
                    <a:pt x="871" y="100"/>
                    <a:pt x="745" y="109"/>
                    <a:pt x="663" y="97"/>
                  </a:cubicBezTo>
                  <a:cubicBezTo>
                    <a:pt x="637" y="94"/>
                    <a:pt x="607" y="103"/>
                    <a:pt x="585" y="88"/>
                  </a:cubicBezTo>
                  <a:cubicBezTo>
                    <a:pt x="574" y="80"/>
                    <a:pt x="585" y="9"/>
                    <a:pt x="567" y="0"/>
                  </a:cubicBezTo>
                </a:path>
              </a:pathLst>
            </a:custGeom>
            <a:solidFill>
              <a:srgbClr val="ffff99"/>
            </a:solidFill>
            <a:ln w="381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33" name=""/>
          <p:cNvSpPr/>
          <p:nvPr/>
        </p:nvSpPr>
        <p:spPr>
          <a:xfrm>
            <a:off x="457200" y="2971800"/>
            <a:ext cx="160020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القائمون بالواجبات</a:t>
            </a:r>
            <a:endParaRPr b="0" lang="en-US" sz="1700" spc="-1" strike="noStrike">
              <a:solidFill>
                <a:srgbClr val="000000"/>
              </a:solidFill>
              <a:latin typeface="Arial"/>
            </a:endParaRPr>
          </a:p>
        </p:txBody>
      </p:sp>
      <p:grpSp>
        <p:nvGrpSpPr>
          <p:cNvPr id="534" name=""/>
          <p:cNvGrpSpPr/>
          <p:nvPr/>
        </p:nvGrpSpPr>
        <p:grpSpPr>
          <a:xfrm>
            <a:off x="7238880" y="685800"/>
            <a:ext cx="1752840" cy="2171880"/>
            <a:chOff x="7238880" y="685800"/>
            <a:chExt cx="1752840" cy="2171880"/>
          </a:xfrm>
        </p:grpSpPr>
        <p:sp>
          <p:nvSpPr>
            <p:cNvPr id="535" name=""/>
            <p:cNvSpPr/>
            <p:nvPr/>
          </p:nvSpPr>
          <p:spPr>
            <a:xfrm>
              <a:off x="7772400" y="685800"/>
              <a:ext cx="685800" cy="609480"/>
            </a:xfrm>
            <a:prstGeom prst="smileyFace">
              <a:avLst>
                <a:gd name="adj" fmla="val 9282"/>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238880" y="1295280"/>
              <a:ext cx="1752840" cy="1562400"/>
            </a:xfrm>
            <a:custGeom>
              <a:avLst/>
              <a:gdLst/>
              <a:ahLst/>
              <a:rect l="l" t="t" r="r" b="b"/>
              <a:pathLst>
                <a:path w="1104" h="1027">
                  <a:moveTo>
                    <a:pt x="472" y="0"/>
                  </a:moveTo>
                  <a:cubicBezTo>
                    <a:pt x="473" y="14"/>
                    <a:pt x="491" y="61"/>
                    <a:pt x="481" y="75"/>
                  </a:cubicBezTo>
                  <a:cubicBezTo>
                    <a:pt x="471" y="89"/>
                    <a:pt x="433" y="81"/>
                    <a:pt x="411" y="84"/>
                  </a:cubicBezTo>
                  <a:cubicBezTo>
                    <a:pt x="389" y="87"/>
                    <a:pt x="390" y="89"/>
                    <a:pt x="349" y="91"/>
                  </a:cubicBezTo>
                  <a:cubicBezTo>
                    <a:pt x="309" y="93"/>
                    <a:pt x="222" y="88"/>
                    <a:pt x="168" y="94"/>
                  </a:cubicBezTo>
                  <a:cubicBezTo>
                    <a:pt x="115" y="101"/>
                    <a:pt x="60" y="112"/>
                    <a:pt x="32" y="130"/>
                  </a:cubicBezTo>
                  <a:cubicBezTo>
                    <a:pt x="4" y="147"/>
                    <a:pt x="2" y="175"/>
                    <a:pt x="1" y="198"/>
                  </a:cubicBezTo>
                  <a:cubicBezTo>
                    <a:pt x="0" y="222"/>
                    <a:pt x="1" y="251"/>
                    <a:pt x="24" y="275"/>
                  </a:cubicBezTo>
                  <a:cubicBezTo>
                    <a:pt x="47" y="299"/>
                    <a:pt x="106" y="332"/>
                    <a:pt x="140" y="344"/>
                  </a:cubicBezTo>
                  <a:cubicBezTo>
                    <a:pt x="174" y="355"/>
                    <a:pt x="201" y="348"/>
                    <a:pt x="225" y="344"/>
                  </a:cubicBezTo>
                  <a:cubicBezTo>
                    <a:pt x="250" y="340"/>
                    <a:pt x="268" y="315"/>
                    <a:pt x="287" y="321"/>
                  </a:cubicBezTo>
                  <a:cubicBezTo>
                    <a:pt x="307" y="326"/>
                    <a:pt x="349" y="319"/>
                    <a:pt x="343" y="377"/>
                  </a:cubicBezTo>
                  <a:cubicBezTo>
                    <a:pt x="336" y="435"/>
                    <a:pt x="261" y="579"/>
                    <a:pt x="244" y="670"/>
                  </a:cubicBezTo>
                  <a:cubicBezTo>
                    <a:pt x="227" y="761"/>
                    <a:pt x="227" y="868"/>
                    <a:pt x="241" y="925"/>
                  </a:cubicBezTo>
                  <a:cubicBezTo>
                    <a:pt x="254" y="980"/>
                    <a:pt x="280" y="1007"/>
                    <a:pt x="325" y="1006"/>
                  </a:cubicBezTo>
                  <a:cubicBezTo>
                    <a:pt x="372" y="1005"/>
                    <a:pt x="473" y="1007"/>
                    <a:pt x="518" y="918"/>
                  </a:cubicBezTo>
                  <a:cubicBezTo>
                    <a:pt x="559" y="829"/>
                    <a:pt x="563" y="527"/>
                    <a:pt x="579" y="473"/>
                  </a:cubicBezTo>
                  <a:cubicBezTo>
                    <a:pt x="593" y="419"/>
                    <a:pt x="602" y="560"/>
                    <a:pt x="608" y="595"/>
                  </a:cubicBezTo>
                  <a:cubicBezTo>
                    <a:pt x="612" y="629"/>
                    <a:pt x="608" y="660"/>
                    <a:pt x="608" y="685"/>
                  </a:cubicBezTo>
                  <a:cubicBezTo>
                    <a:pt x="608" y="711"/>
                    <a:pt x="603" y="695"/>
                    <a:pt x="608" y="745"/>
                  </a:cubicBezTo>
                  <a:cubicBezTo>
                    <a:pt x="611" y="796"/>
                    <a:pt x="603" y="940"/>
                    <a:pt x="627" y="984"/>
                  </a:cubicBezTo>
                  <a:cubicBezTo>
                    <a:pt x="650" y="1027"/>
                    <a:pt x="713" y="1009"/>
                    <a:pt x="748" y="1006"/>
                  </a:cubicBezTo>
                  <a:cubicBezTo>
                    <a:pt x="782" y="1003"/>
                    <a:pt x="809" y="1015"/>
                    <a:pt x="833" y="965"/>
                  </a:cubicBezTo>
                  <a:cubicBezTo>
                    <a:pt x="857" y="915"/>
                    <a:pt x="885" y="775"/>
                    <a:pt x="894" y="708"/>
                  </a:cubicBezTo>
                  <a:cubicBezTo>
                    <a:pt x="903" y="641"/>
                    <a:pt x="903" y="617"/>
                    <a:pt x="885" y="564"/>
                  </a:cubicBezTo>
                  <a:cubicBezTo>
                    <a:pt x="869" y="512"/>
                    <a:pt x="807" y="434"/>
                    <a:pt x="791" y="391"/>
                  </a:cubicBezTo>
                  <a:cubicBezTo>
                    <a:pt x="775" y="348"/>
                    <a:pt x="777" y="323"/>
                    <a:pt x="791" y="309"/>
                  </a:cubicBezTo>
                  <a:cubicBezTo>
                    <a:pt x="804" y="296"/>
                    <a:pt x="849" y="311"/>
                    <a:pt x="875" y="309"/>
                  </a:cubicBezTo>
                  <a:cubicBezTo>
                    <a:pt x="901" y="307"/>
                    <a:pt x="913" y="305"/>
                    <a:pt x="945" y="298"/>
                  </a:cubicBezTo>
                  <a:cubicBezTo>
                    <a:pt x="977" y="291"/>
                    <a:pt x="1043" y="283"/>
                    <a:pt x="1069" y="267"/>
                  </a:cubicBezTo>
                  <a:cubicBezTo>
                    <a:pt x="1095" y="251"/>
                    <a:pt x="1104" y="222"/>
                    <a:pt x="1100" y="198"/>
                  </a:cubicBezTo>
                  <a:cubicBezTo>
                    <a:pt x="1096" y="175"/>
                    <a:pt x="1076" y="141"/>
                    <a:pt x="1046" y="122"/>
                  </a:cubicBezTo>
                  <a:cubicBezTo>
                    <a:pt x="1016" y="103"/>
                    <a:pt x="986" y="89"/>
                    <a:pt x="922" y="82"/>
                  </a:cubicBezTo>
                  <a:cubicBezTo>
                    <a:pt x="858" y="75"/>
                    <a:pt x="711" y="96"/>
                    <a:pt x="661" y="82"/>
                  </a:cubicBezTo>
                  <a:cubicBezTo>
                    <a:pt x="611" y="68"/>
                    <a:pt x="632" y="17"/>
                    <a:pt x="624" y="0"/>
                  </a:cubicBezTo>
                </a:path>
              </a:pathLst>
            </a:custGeom>
            <a:solidFill>
              <a:srgbClr val="ffff99"/>
            </a:solidFill>
            <a:ln w="381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37" name=""/>
          <p:cNvSpPr/>
          <p:nvPr/>
        </p:nvSpPr>
        <p:spPr>
          <a:xfrm>
            <a:off x="7391520" y="2971800"/>
            <a:ext cx="167616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أصحاب الحقوق</a:t>
            </a:r>
            <a:endParaRPr b="0" lang="en-US" sz="1700" spc="-1" strike="noStrike">
              <a:solidFill>
                <a:srgbClr val="000000"/>
              </a:solidFill>
              <a:latin typeface="Arial"/>
            </a:endParaRPr>
          </a:p>
        </p:txBody>
      </p:sp>
      <p:grpSp>
        <p:nvGrpSpPr>
          <p:cNvPr id="538" name=""/>
          <p:cNvGrpSpPr/>
          <p:nvPr/>
        </p:nvGrpSpPr>
        <p:grpSpPr>
          <a:xfrm>
            <a:off x="3962520" y="1523880"/>
            <a:ext cx="457200" cy="685800"/>
            <a:chOff x="3962520" y="1523880"/>
            <a:chExt cx="457200" cy="685800"/>
          </a:xfrm>
        </p:grpSpPr>
        <p:sp>
          <p:nvSpPr>
            <p:cNvPr id="539" name=""/>
            <p:cNvSpPr/>
            <p:nvPr/>
          </p:nvSpPr>
          <p:spPr>
            <a:xfrm>
              <a:off x="4114800" y="1523880"/>
              <a:ext cx="152280" cy="152640"/>
            </a:xfrm>
            <a:prstGeom prst="smileyFace">
              <a:avLst>
                <a:gd name="adj" fmla="val 9282"/>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962520" y="1676520"/>
              <a:ext cx="457200" cy="533160"/>
            </a:xfrm>
            <a:custGeom>
              <a:avLst/>
              <a:gdLst/>
              <a:ahLst/>
              <a:rect l="l" t="t" r="r" b="b"/>
              <a:pathLst>
                <a:path w="1256" h="1115">
                  <a:moveTo>
                    <a:pt x="551" y="0"/>
                  </a:moveTo>
                  <a:cubicBezTo>
                    <a:pt x="546" y="14"/>
                    <a:pt x="531" y="69"/>
                    <a:pt x="519" y="92"/>
                  </a:cubicBezTo>
                  <a:cubicBezTo>
                    <a:pt x="507" y="115"/>
                    <a:pt x="521" y="130"/>
                    <a:pt x="478" y="136"/>
                  </a:cubicBezTo>
                  <a:cubicBezTo>
                    <a:pt x="435" y="141"/>
                    <a:pt x="320" y="125"/>
                    <a:pt x="262" y="125"/>
                  </a:cubicBezTo>
                  <a:cubicBezTo>
                    <a:pt x="202" y="125"/>
                    <a:pt x="166" y="128"/>
                    <a:pt x="126" y="136"/>
                  </a:cubicBezTo>
                  <a:cubicBezTo>
                    <a:pt x="86" y="144"/>
                    <a:pt x="40" y="157"/>
                    <a:pt x="20" y="176"/>
                  </a:cubicBezTo>
                  <a:cubicBezTo>
                    <a:pt x="0" y="195"/>
                    <a:pt x="0" y="219"/>
                    <a:pt x="4" y="248"/>
                  </a:cubicBezTo>
                  <a:cubicBezTo>
                    <a:pt x="8" y="277"/>
                    <a:pt x="9" y="333"/>
                    <a:pt x="44" y="353"/>
                  </a:cubicBezTo>
                  <a:cubicBezTo>
                    <a:pt x="79" y="373"/>
                    <a:pt x="168" y="367"/>
                    <a:pt x="212" y="368"/>
                  </a:cubicBezTo>
                  <a:cubicBezTo>
                    <a:pt x="256" y="369"/>
                    <a:pt x="282" y="362"/>
                    <a:pt x="311" y="360"/>
                  </a:cubicBezTo>
                  <a:cubicBezTo>
                    <a:pt x="340" y="358"/>
                    <a:pt x="364" y="342"/>
                    <a:pt x="385" y="353"/>
                  </a:cubicBezTo>
                  <a:cubicBezTo>
                    <a:pt x="405" y="364"/>
                    <a:pt x="441" y="361"/>
                    <a:pt x="433" y="425"/>
                  </a:cubicBezTo>
                  <a:cubicBezTo>
                    <a:pt x="425" y="489"/>
                    <a:pt x="353" y="639"/>
                    <a:pt x="336" y="736"/>
                  </a:cubicBezTo>
                  <a:cubicBezTo>
                    <a:pt x="320" y="833"/>
                    <a:pt x="320" y="947"/>
                    <a:pt x="333" y="1006"/>
                  </a:cubicBezTo>
                  <a:cubicBezTo>
                    <a:pt x="346" y="1065"/>
                    <a:pt x="371" y="1094"/>
                    <a:pt x="416" y="1093"/>
                  </a:cubicBezTo>
                  <a:cubicBezTo>
                    <a:pt x="461" y="1092"/>
                    <a:pt x="561" y="1094"/>
                    <a:pt x="604" y="999"/>
                  </a:cubicBezTo>
                  <a:cubicBezTo>
                    <a:pt x="645" y="905"/>
                    <a:pt x="649" y="584"/>
                    <a:pt x="664" y="527"/>
                  </a:cubicBezTo>
                  <a:cubicBezTo>
                    <a:pt x="678" y="470"/>
                    <a:pt x="687" y="619"/>
                    <a:pt x="692" y="656"/>
                  </a:cubicBezTo>
                  <a:cubicBezTo>
                    <a:pt x="696" y="693"/>
                    <a:pt x="692" y="725"/>
                    <a:pt x="692" y="752"/>
                  </a:cubicBezTo>
                  <a:cubicBezTo>
                    <a:pt x="692" y="779"/>
                    <a:pt x="688" y="763"/>
                    <a:pt x="692" y="816"/>
                  </a:cubicBezTo>
                  <a:cubicBezTo>
                    <a:pt x="695" y="869"/>
                    <a:pt x="688" y="1023"/>
                    <a:pt x="711" y="1069"/>
                  </a:cubicBezTo>
                  <a:cubicBezTo>
                    <a:pt x="734" y="1115"/>
                    <a:pt x="796" y="1096"/>
                    <a:pt x="830" y="1093"/>
                  </a:cubicBezTo>
                  <a:cubicBezTo>
                    <a:pt x="863" y="1090"/>
                    <a:pt x="889" y="1102"/>
                    <a:pt x="913" y="1049"/>
                  </a:cubicBezTo>
                  <a:cubicBezTo>
                    <a:pt x="937" y="996"/>
                    <a:pt x="964" y="847"/>
                    <a:pt x="973" y="776"/>
                  </a:cubicBezTo>
                  <a:cubicBezTo>
                    <a:pt x="981" y="705"/>
                    <a:pt x="981" y="680"/>
                    <a:pt x="964" y="624"/>
                  </a:cubicBezTo>
                  <a:cubicBezTo>
                    <a:pt x="948" y="568"/>
                    <a:pt x="887" y="485"/>
                    <a:pt x="871" y="440"/>
                  </a:cubicBezTo>
                  <a:cubicBezTo>
                    <a:pt x="856" y="395"/>
                    <a:pt x="858" y="367"/>
                    <a:pt x="871" y="353"/>
                  </a:cubicBezTo>
                  <a:cubicBezTo>
                    <a:pt x="885" y="339"/>
                    <a:pt x="926" y="351"/>
                    <a:pt x="954" y="353"/>
                  </a:cubicBezTo>
                  <a:cubicBezTo>
                    <a:pt x="981" y="355"/>
                    <a:pt x="992" y="372"/>
                    <a:pt x="1038" y="364"/>
                  </a:cubicBezTo>
                  <a:cubicBezTo>
                    <a:pt x="1082" y="356"/>
                    <a:pt x="1192" y="337"/>
                    <a:pt x="1224" y="310"/>
                  </a:cubicBezTo>
                  <a:cubicBezTo>
                    <a:pt x="1256" y="283"/>
                    <a:pt x="1242" y="229"/>
                    <a:pt x="1228" y="200"/>
                  </a:cubicBezTo>
                  <a:cubicBezTo>
                    <a:pt x="1214" y="171"/>
                    <a:pt x="1178" y="148"/>
                    <a:pt x="1138" y="136"/>
                  </a:cubicBezTo>
                  <a:cubicBezTo>
                    <a:pt x="1098" y="124"/>
                    <a:pt x="1039" y="131"/>
                    <a:pt x="989" y="128"/>
                  </a:cubicBezTo>
                  <a:cubicBezTo>
                    <a:pt x="940" y="125"/>
                    <a:pt x="879" y="140"/>
                    <a:pt x="840" y="120"/>
                  </a:cubicBezTo>
                  <a:cubicBezTo>
                    <a:pt x="802" y="100"/>
                    <a:pt x="775" y="31"/>
                    <a:pt x="758" y="8"/>
                  </a:cubicBezTo>
                </a:path>
              </a:pathLst>
            </a:custGeom>
            <a:solidFill>
              <a:srgbClr val="ffff99"/>
            </a:solid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41" name=""/>
          <p:cNvSpPr/>
          <p:nvPr/>
        </p:nvSpPr>
        <p:spPr>
          <a:xfrm>
            <a:off x="4500720" y="1989000"/>
            <a:ext cx="1339560" cy="39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66"/>
                </a:solidFill>
                <a:latin typeface="Impact"/>
                <a:cs typeface="Arial"/>
              </a:rPr>
              <a:t>منظمات المجتمع المدني</a:t>
            </a:r>
            <a:endParaRPr b="0" lang="en-US" sz="1000" spc="-1" strike="noStrike">
              <a:solidFill>
                <a:srgbClr val="000000"/>
              </a:solidFill>
              <a:latin typeface="Arial"/>
            </a:endParaRPr>
          </a:p>
        </p:txBody>
      </p:sp>
      <p:sp>
        <p:nvSpPr>
          <p:cNvPr id="542" name=""/>
          <p:cNvSpPr/>
          <p:nvPr/>
        </p:nvSpPr>
        <p:spPr>
          <a:xfrm>
            <a:off x="1835280" y="1066680"/>
            <a:ext cx="1368360" cy="179676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ea typeface="Arial"/>
              </a:rPr>
              <a:t> القوانين</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سياسات</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خدمات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بيانات المتابع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سائل العلاجية</a:t>
            </a:r>
            <a:endParaRPr b="0" lang="en-US" sz="1400" spc="-1" strike="noStrike">
              <a:solidFill>
                <a:srgbClr val="000000"/>
              </a:solidFill>
              <a:latin typeface="Arial"/>
            </a:endParaRPr>
          </a:p>
        </p:txBody>
      </p:sp>
      <p:sp>
        <p:nvSpPr>
          <p:cNvPr id="543" name=""/>
          <p:cNvSpPr/>
          <p:nvPr/>
        </p:nvSpPr>
        <p:spPr>
          <a:xfrm>
            <a:off x="5257800" y="990720"/>
            <a:ext cx="2209680" cy="222300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علومات والتعليم / التثقيف</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شارك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تنظيم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تابعة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صول إلى الوسائل العلاجية (الإدارية والقضائية)</a:t>
            </a:r>
            <a:endParaRPr b="0" lang="en-US" sz="1400" spc="-1" strike="noStrike">
              <a:solidFill>
                <a:srgbClr val="000000"/>
              </a:solidFill>
              <a:latin typeface="Arial"/>
            </a:endParaRPr>
          </a:p>
        </p:txBody>
      </p:sp>
      <p:sp>
        <p:nvSpPr>
          <p:cNvPr id="544" name=""/>
          <p:cNvSpPr/>
          <p:nvPr/>
        </p:nvSpPr>
        <p:spPr>
          <a:xfrm>
            <a:off x="3186000" y="138744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52680" y="106668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قيام بالواجبات</a:t>
            </a:r>
            <a:endParaRPr b="0" lang="en-US" sz="1800" spc="-1" strike="noStrike">
              <a:solidFill>
                <a:srgbClr val="000000"/>
              </a:solidFill>
              <a:latin typeface="Arial"/>
            </a:endParaRPr>
          </a:p>
        </p:txBody>
      </p:sp>
      <p:sp>
        <p:nvSpPr>
          <p:cNvPr id="546" name=""/>
          <p:cNvSpPr/>
          <p:nvPr/>
        </p:nvSpPr>
        <p:spPr>
          <a:xfrm flipH="1">
            <a:off x="3123720" y="259092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52680" y="2286000"/>
            <a:ext cx="17528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a:cs typeface="Arial"/>
              </a:rPr>
              <a:t>المطالبة بالحقوق</a:t>
            </a:r>
            <a:endParaRPr b="0" lang="en-US" sz="1400" spc="-1" strike="noStrike">
              <a:solidFill>
                <a:srgbClr val="000000"/>
              </a:solidFill>
              <a:latin typeface="Arial"/>
            </a:endParaRPr>
          </a:p>
        </p:txBody>
      </p:sp>
      <p:sp>
        <p:nvSpPr>
          <p:cNvPr id="548" name=""/>
          <p:cNvSpPr/>
          <p:nvPr/>
        </p:nvSpPr>
        <p:spPr>
          <a:xfrm>
            <a:off x="533520" y="5837400"/>
            <a:ext cx="6095880" cy="438840"/>
          </a:xfrm>
          <a:prstGeom prst="rect">
            <a:avLst/>
          </a:prstGeom>
          <a:noFill/>
          <a:ln w="28440">
            <a:solidFill>
              <a:srgbClr val="0000ff"/>
            </a:solidFill>
            <a:miter/>
          </a:ln>
        </p:spPr>
        <p:style>
          <a:lnRef idx="0"/>
          <a:fillRef idx="0"/>
          <a:effectRef idx="0"/>
          <a:fontRef idx="minor"/>
        </p:style>
        <p:txBody>
          <a:bodyPr lIns="72720" rIns="72720" tIns="36360" bIns="36360" anchor="t">
            <a:spAutoFit/>
          </a:bodyPr>
          <a:p>
            <a:pPr algn="ctr" rtl="1">
              <a:lnSpc>
                <a:spcPct val="100000"/>
              </a:lnSpc>
              <a:spcBef>
                <a:spcPts val="1500"/>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2400" spc="-1" strike="noStrike">
                <a:solidFill>
                  <a:srgbClr val="ff0000"/>
                </a:solidFill>
                <a:latin typeface="Impact"/>
                <a:cs typeface="Simplified Arabic"/>
              </a:rPr>
              <a:t>دعم فريق الأمم المتحدة القُطري</a:t>
            </a:r>
            <a:endParaRPr b="0" lang="en-US" sz="2400" spc="-1" strike="noStrike">
              <a:solidFill>
                <a:srgbClr val="000000"/>
              </a:solidFill>
              <a:latin typeface="Arial"/>
            </a:endParaRPr>
          </a:p>
        </p:txBody>
      </p:sp>
      <p:sp>
        <p:nvSpPr>
          <p:cNvPr id="549" name=""/>
          <p:cNvSpPr/>
          <p:nvPr/>
        </p:nvSpPr>
        <p:spPr>
          <a:xfrm flipH="1" flipV="1">
            <a:off x="533160" y="3580920"/>
            <a:ext cx="685800" cy="2210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4363800">
            <a:off x="-573840" y="4327200"/>
            <a:ext cx="2673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قوانين والسياسات، المساعدة الفنية</a:t>
            </a:r>
            <a:endParaRPr b="0" lang="en-US" sz="2000" spc="-1" strike="noStrike">
              <a:solidFill>
                <a:srgbClr val="000000"/>
              </a:solidFill>
              <a:latin typeface="Arial"/>
            </a:endParaRPr>
          </a:p>
        </p:txBody>
      </p:sp>
      <p:sp>
        <p:nvSpPr>
          <p:cNvPr id="551" name=""/>
          <p:cNvSpPr/>
          <p:nvPr/>
        </p:nvSpPr>
        <p:spPr>
          <a:xfrm flipH="1" flipV="1">
            <a:off x="1371240" y="3657240"/>
            <a:ext cx="6858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4363800">
            <a:off x="555120" y="4419720"/>
            <a:ext cx="26683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تقديم الخدمات</a:t>
            </a:r>
            <a:endParaRPr b="0" lang="en-US" sz="2000" spc="-1" strike="noStrike">
              <a:solidFill>
                <a:srgbClr val="000000"/>
              </a:solidFill>
              <a:latin typeface="Arial"/>
            </a:endParaRPr>
          </a:p>
        </p:txBody>
      </p:sp>
      <p:sp>
        <p:nvSpPr>
          <p:cNvPr id="553" name=""/>
          <p:cNvSpPr/>
          <p:nvPr/>
        </p:nvSpPr>
        <p:spPr>
          <a:xfrm flipH="1" flipV="1">
            <a:off x="4114800" y="3733560"/>
            <a:ext cx="7776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rot="15241200">
            <a:off x="1570320" y="4423680"/>
            <a:ext cx="2284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ناصرة وكسب التأييد</a:t>
            </a:r>
            <a:endParaRPr b="0" lang="en-US" sz="2000" spc="-1" strike="noStrike">
              <a:solidFill>
                <a:srgbClr val="000000"/>
              </a:solidFill>
              <a:latin typeface="Arial"/>
            </a:endParaRPr>
          </a:p>
        </p:txBody>
      </p:sp>
      <p:sp>
        <p:nvSpPr>
          <p:cNvPr id="555" name=""/>
          <p:cNvSpPr/>
          <p:nvPr/>
        </p:nvSpPr>
        <p:spPr>
          <a:xfrm flipV="1">
            <a:off x="4800600" y="3657240"/>
            <a:ext cx="25146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rot="8404200">
            <a:off x="4416840" y="4323240"/>
            <a:ext cx="3322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علومات، والمشاركة، </a:t>
            </a:r>
            <a:endParaRPr b="0" lang="en-US" sz="2000" spc="-1" strike="noStrike">
              <a:solidFill>
                <a:srgbClr val="000000"/>
              </a:solidFill>
              <a:latin typeface="Arial"/>
            </a:endParaRPr>
          </a:p>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والتنظيم، والمتابعة</a:t>
            </a:r>
            <a:endParaRPr b="0" lang="en-US" sz="2000" spc="-1" strike="noStrike">
              <a:solidFill>
                <a:srgbClr val="000000"/>
              </a:solidFill>
              <a:latin typeface="Arial"/>
            </a:endParaRPr>
          </a:p>
        </p:txBody>
      </p:sp>
      <p:sp>
        <p:nvSpPr>
          <p:cNvPr id="557" name=""/>
          <p:cNvSpPr/>
          <p:nvPr/>
        </p:nvSpPr>
        <p:spPr>
          <a:xfrm flipH="1" flipV="1">
            <a:off x="2374920" y="3673440"/>
            <a:ext cx="534960" cy="2059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00000">
            <a:off x="3917880" y="1800000"/>
            <a:ext cx="546120" cy="2286000"/>
          </a:xfrm>
          <a:prstGeom prst="rect">
            <a:avLst/>
          </a:prstGeom>
          <a:solidFill>
            <a:srgbClr val="ccecff"/>
          </a:solid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66"/>
                </a:solidFill>
                <a:latin typeface="Arial Narrow"/>
                <a:cs typeface="Arial"/>
              </a:rPr>
              <a:t>تنمية القد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692000" y="475920"/>
            <a:ext cx="7124760" cy="8650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الدعم المتوافر لفرق الأمم المتحدة القُطرية</a:t>
            </a:r>
            <a:endParaRPr b="0" lang="en-US" sz="3600" spc="-1" strike="noStrike">
              <a:solidFill>
                <a:srgbClr val="000000"/>
              </a:solidFill>
              <a:latin typeface="Arial"/>
            </a:endParaRPr>
          </a:p>
        </p:txBody>
      </p:sp>
      <p:sp>
        <p:nvSpPr>
          <p:cNvPr id="560" name=""/>
          <p:cNvSpPr/>
          <p:nvPr/>
        </p:nvSpPr>
        <p:spPr>
          <a:xfrm>
            <a:off x="539640" y="1773360"/>
            <a:ext cx="8209080" cy="44431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برنامج العمل الثاني</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بناء القدرات، إعداد البرنامج المشترك، الأنظمة الوطنية لحقوق الإنسان، الآليات الدولية ل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كتب المفوض السامي لحقوق الإنسان</a:t>
            </a:r>
            <a:endParaRPr b="0" lang="en-US" sz="24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هيئات المعاهدة، لمحات موجزة عن الدول، مستشارو 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لوكالات</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عملت عدة وكالات على إعداد السياسات والمبادئ التوجيهية والموارد لتوجيه الموظفين في تطبيق النهج المستند إلى حقوق الإنسان.</a:t>
            </a:r>
            <a:endParaRPr b="0" lang="en-US" sz="20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0920" y="1125000"/>
            <a:ext cx="5618160" cy="151308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خطوات التالية: الاستراتيجيات والتخطيط للعمل</a:t>
            </a:r>
            <a:endParaRPr b="0" lang="en-US" sz="4000" spc="-1" strike="noStrike">
              <a:solidFill>
                <a:srgbClr val="000000"/>
              </a:solidFill>
              <a:latin typeface="Arial"/>
            </a:endParaRPr>
          </a:p>
        </p:txBody>
      </p:sp>
      <p:sp>
        <p:nvSpPr>
          <p:cNvPr id="562" name=""/>
          <p:cNvSpPr/>
          <p:nvPr/>
        </p:nvSpPr>
        <p:spPr>
          <a:xfrm>
            <a:off x="2771640" y="3645000"/>
            <a:ext cx="23050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عاشرة</a:t>
            </a:r>
            <a:endParaRPr b="0" lang="en-US" sz="3200" spc="-1" strike="noStrike">
              <a:solidFill>
                <a:srgbClr val="000000"/>
              </a:solidFill>
              <a:latin typeface="Arial"/>
            </a:endParaRPr>
          </a:p>
        </p:txBody>
      </p:sp>
      <p:pic>
        <p:nvPicPr>
          <p:cNvPr id="563" name="" descr=""/>
          <p:cNvPicPr/>
          <p:nvPr/>
        </p:nvPicPr>
        <p:blipFill>
          <a:blip r:embed="rId1"/>
          <a:stretch/>
        </p:blipFill>
        <p:spPr>
          <a:xfrm>
            <a:off x="6877080" y="4005360"/>
            <a:ext cx="2309760" cy="2755800"/>
          </a:xfrm>
          <a:prstGeom prst="rect">
            <a:avLst/>
          </a:prstGeom>
          <a:ln w="0">
            <a:noFill/>
          </a:ln>
        </p:spPr>
      </p:pic>
      <p:sp>
        <p:nvSpPr>
          <p:cNvPr id="564" name=""/>
          <p:cNvSpPr/>
          <p:nvPr/>
        </p:nvSpPr>
        <p:spPr>
          <a:xfrm>
            <a:off x="7093080" y="5362560"/>
            <a:ext cx="1584360" cy="1261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600" spc="-1" strike="noStrike">
                <a:solidFill>
                  <a:srgbClr val="ff6600"/>
                </a:solidFill>
                <a:latin typeface="Comic Sans MS"/>
                <a:cs typeface="Arial"/>
              </a:rPr>
              <a:t>الإجراء الثاني: تعلّم حقوق الغ،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859280" y="1844640"/>
            <a:ext cx="3889440" cy="2735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إدماج النوع الاجتماعي ...</a:t>
            </a:r>
            <a:br>
              <a:rPr sz="1000"/>
            </a:br>
            <a:r>
              <a:rPr b="0" lang="ar-JO" sz="1800" spc="-1" strike="noStrike">
                <a:solidFill>
                  <a:srgbClr val="000000"/>
                </a:solidFill>
                <a:latin typeface="Arial"/>
                <a:cs typeface="Simplified Arabic"/>
              </a:rPr>
              <a:t>يُقيِّم تبعات تنفيذ أية أعمال مخطط لها على كل من المرأة والرجل، ويجعل بواعث قلق المرأة والرجل واهتماماتهم جزءاً لا يتجزأ من جميع مراحل عملية البرمجة. </a:t>
            </a:r>
            <a:br>
              <a:rPr sz="1800"/>
            </a:br>
            <a:br>
              <a:rPr sz="1800"/>
            </a:br>
            <a:r>
              <a:rPr b="0" lang="ar-JO" sz="1800" spc="-1" strike="noStrike">
                <a:solidFill>
                  <a:srgbClr val="000000"/>
                </a:solidFill>
                <a:latin typeface="Arial"/>
                <a:cs typeface="Simplified Arabic"/>
              </a:rPr>
              <a:t>الهدف النهائي هو المساواة في النوع الاجتماعي.</a:t>
            </a:r>
            <a:endParaRPr b="0" lang="en-US" sz="1800" spc="-1" strike="noStrike">
              <a:solidFill>
                <a:srgbClr val="000000"/>
              </a:solidFill>
              <a:latin typeface="Arial"/>
            </a:endParaRPr>
          </a:p>
        </p:txBody>
      </p:sp>
      <p:sp>
        <p:nvSpPr>
          <p:cNvPr id="86" name=""/>
          <p:cNvSpPr/>
          <p:nvPr/>
        </p:nvSpPr>
        <p:spPr>
          <a:xfrm>
            <a:off x="1763640" y="549360"/>
            <a:ext cx="6480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7" name=""/>
          <p:cNvSpPr/>
          <p:nvPr/>
        </p:nvSpPr>
        <p:spPr>
          <a:xfrm>
            <a:off x="250920" y="2276640"/>
            <a:ext cx="4394160" cy="403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7840" indent="-17784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ea typeface="Simplified Arabic"/>
              </a:rPr>
              <a:t>... والحقوق الإنسانية للمرأة ...</a:t>
            </a:r>
            <a:br>
              <a:rPr sz="1900"/>
            </a:br>
            <a:r>
              <a:rPr b="0" lang="ar-JO" sz="1900" spc="-1" strike="noStrike">
                <a:solidFill>
                  <a:srgbClr val="000000"/>
                </a:solidFill>
                <a:latin typeface="Arial"/>
                <a:ea typeface="Simplified Arabic"/>
              </a:rPr>
              <a:t>-  المطالبة القانونية بعدم التمييز.</a:t>
            </a:r>
            <a:br>
              <a:rPr sz="1900"/>
            </a:br>
            <a:r>
              <a:rPr b="0" lang="ar-JO" sz="1900" spc="-1" strike="noStrike">
                <a:solidFill>
                  <a:srgbClr val="000000"/>
                </a:solidFill>
                <a:latin typeface="Arial"/>
                <a:ea typeface="Simplified Arabic"/>
              </a:rPr>
              <a:t>-  اتفاقية القضاء على جميع أشكال التمييز ضد المرأة هي واحدة من المعاهدات الأساسية لحقوق الإنسان الدولية. </a:t>
            </a:r>
            <a:br>
              <a:rPr sz="1900"/>
            </a:br>
            <a:r>
              <a:rPr b="0" lang="ar-JO" sz="1900" spc="-1" strike="noStrike">
                <a:solidFill>
                  <a:srgbClr val="000000"/>
                </a:solidFill>
                <a:latin typeface="Arial"/>
                <a:ea typeface="Simplified Arabic"/>
              </a:rPr>
              <a:t>-  الحقوق الإنسانية للمرأة أمر مركزي في تطبيق النهج القائم على حقوق الإنسان. </a:t>
            </a:r>
            <a:br>
              <a:rPr sz="1900"/>
            </a:br>
            <a:r>
              <a:rPr b="0" lang="ar-JO" sz="1900" spc="-1" strike="noStrike">
                <a:solidFill>
                  <a:srgbClr val="000000"/>
                </a:solidFill>
                <a:latin typeface="Arial"/>
                <a:ea typeface="Simplified Arabic"/>
              </a:rPr>
              <a:t>-  الهدف الأساسي من ذلك هو تحقيق المساواة في النوع الاجتماعي، وإدراك حقوق الإنسان جميعها بشكل متساوٍ بين المرأة والرجل. </a:t>
            </a:r>
            <a:endParaRPr b="0" lang="en-US" sz="19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65" name=""/>
          <p:cNvGraphicFramePr/>
          <p:nvPr/>
        </p:nvGraphicFramePr>
        <p:xfrm>
          <a:off x="468360" y="1600200"/>
          <a:ext cx="8218440" cy="4502160"/>
        </p:xfrm>
        <a:graphic>
          <a:graphicData uri="http://schemas.openxmlformats.org/drawingml/2006/table">
            <a:tbl>
              <a:tblPr/>
              <a:tblGrid>
                <a:gridCol w="2732040"/>
                <a:gridCol w="3376440"/>
                <a:gridCol w="2109960"/>
              </a:tblGrid>
              <a:tr h="825480">
                <a:tc gridSpan="3">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Simplified Arabic"/>
                        </a:rPr>
                        <a:t>خطة عمل فريق الأمم المتحدة القُطري بشأن النهج القائم على حقوق الإنس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إطار الزم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سؤول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نقطة القياس المرجعية/النشا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6" name=""/>
          <p:cNvSpPr/>
          <p:nvPr/>
        </p:nvSpPr>
        <p:spPr>
          <a:xfrm>
            <a:off x="2195640" y="476280"/>
            <a:ext cx="597672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نموذج مقتر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79280" y="980640"/>
            <a:ext cx="5977080" cy="158436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اختتام فعاليات ورشة العمل والتقييمات</a:t>
            </a:r>
            <a:endParaRPr b="0" lang="en-US" sz="4400" spc="-1" strike="noStrike">
              <a:solidFill>
                <a:srgbClr val="000000"/>
              </a:solidFill>
              <a:latin typeface="Arial"/>
            </a:endParaRPr>
          </a:p>
        </p:txBody>
      </p:sp>
      <p:sp>
        <p:nvSpPr>
          <p:cNvPr id="568" name=""/>
          <p:cNvSpPr/>
          <p:nvPr/>
        </p:nvSpPr>
        <p:spPr>
          <a:xfrm>
            <a:off x="1547640" y="3789360"/>
            <a:ext cx="3168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حادية عشرة</a:t>
            </a:r>
            <a:endParaRPr b="0" lang="en-US" sz="3200" spc="-1" strike="noStrike">
              <a:solidFill>
                <a:srgbClr val="000000"/>
              </a:solidFill>
              <a:latin typeface="Arial"/>
            </a:endParaRPr>
          </a:p>
        </p:txBody>
      </p:sp>
      <p:pic>
        <p:nvPicPr>
          <p:cNvPr id="569" name="" descr=""/>
          <p:cNvPicPr/>
          <p:nvPr/>
        </p:nvPicPr>
        <p:blipFill>
          <a:blip r:embed="rId1"/>
          <a:stretch/>
        </p:blipFill>
        <p:spPr>
          <a:xfrm>
            <a:off x="6877080" y="4005360"/>
            <a:ext cx="2309760" cy="2755800"/>
          </a:xfrm>
          <a:prstGeom prst="rect">
            <a:avLst/>
          </a:prstGeom>
          <a:ln w="0">
            <a:noFill/>
          </a:ln>
        </p:spPr>
      </p:pic>
      <p:sp>
        <p:nvSpPr>
          <p:cNvPr id="570"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6877080" y="4005360"/>
            <a:ext cx="2309760" cy="2755800"/>
          </a:xfrm>
          <a:prstGeom prst="rect">
            <a:avLst/>
          </a:prstGeom>
          <a:ln w="0">
            <a:noFill/>
          </a:ln>
        </p:spPr>
      </p:pic>
      <p:sp>
        <p:nvSpPr>
          <p:cNvPr id="572" name=""/>
          <p:cNvSpPr/>
          <p:nvPr/>
        </p:nvSpPr>
        <p:spPr>
          <a:xfrm>
            <a:off x="1835280" y="1916280"/>
            <a:ext cx="5113080" cy="2016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4800" spc="-1" strike="noStrike">
                <a:solidFill>
                  <a:srgbClr val="ff9900"/>
                </a:solidFill>
                <a:latin typeface="Arial"/>
                <a:cs typeface="Simplified Arabic"/>
              </a:rPr>
              <a:t>شكراً لكم</a:t>
            </a:r>
            <a:endParaRPr b="0" lang="en-US" sz="4800" spc="-1" strike="noStrike">
              <a:solidFill>
                <a:srgbClr val="000000"/>
              </a:solidFill>
              <a:latin typeface="Arial"/>
            </a:endParaRPr>
          </a:p>
        </p:txBody>
      </p:sp>
      <p:sp>
        <p:nvSpPr>
          <p:cNvPr id="573"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03640" y="2205000"/>
            <a:ext cx="3889440" cy="3456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JO" sz="2400" spc="-1" strike="noStrike">
                <a:solidFill>
                  <a:srgbClr val="000000"/>
                </a:solidFill>
                <a:latin typeface="Arial"/>
                <a:cs typeface="Simplified Arabic"/>
              </a:rPr>
              <a:t>القانون الإنساني ... </a:t>
            </a:r>
            <a:br>
              <a:rPr sz="2400"/>
            </a:br>
            <a:r>
              <a:rPr b="0" lang="ar-JO" sz="2400" spc="-1" strike="noStrike">
                <a:solidFill>
                  <a:srgbClr val="000000"/>
                </a:solidFill>
                <a:latin typeface="Arial"/>
                <a:cs typeface="Simplified Arabic"/>
              </a:rPr>
              <a:t>يُطبَّقُُ في الأوضاع الدولية وغير الدولية للنزاعات المسلحة. </a:t>
            </a:r>
            <a:br>
              <a:rPr sz="2400"/>
            </a:br>
            <a:br>
              <a:rPr sz="1400"/>
            </a:br>
            <a:r>
              <a:rPr b="0" lang="ar-JO" sz="2400" spc="-1" strike="noStrike">
                <a:solidFill>
                  <a:srgbClr val="000000"/>
                </a:solidFill>
                <a:latin typeface="Arial"/>
                <a:cs typeface="Simplified Arabic"/>
              </a:rPr>
              <a:t>وغايته هي الحدّ من آثار الحرب على الناس وعلى الأشياء. </a:t>
            </a:r>
            <a:br>
              <a:rPr sz="1400"/>
            </a:br>
            <a:endParaRPr b="0" lang="en-US" sz="2400" spc="-1" strike="noStrike">
              <a:solidFill>
                <a:srgbClr val="000000"/>
              </a:solidFill>
              <a:latin typeface="Arial"/>
            </a:endParaRPr>
          </a:p>
        </p:txBody>
      </p:sp>
      <p:sp>
        <p:nvSpPr>
          <p:cNvPr id="89" name=""/>
          <p:cNvSpPr/>
          <p:nvPr/>
        </p:nvSpPr>
        <p:spPr>
          <a:xfrm>
            <a:off x="1692360" y="549360"/>
            <a:ext cx="655164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90" name=""/>
          <p:cNvSpPr/>
          <p:nvPr/>
        </p:nvSpPr>
        <p:spPr>
          <a:xfrm>
            <a:off x="611280" y="3141720"/>
            <a:ext cx="4174920" cy="2951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Simplified Arabic"/>
              </a:rPr>
              <a:t>... وحقوق الإنسان ...</a:t>
            </a:r>
            <a:br>
              <a:rPr sz="2000"/>
            </a:br>
            <a:br>
              <a:rPr sz="2000"/>
            </a:br>
            <a:r>
              <a:rPr b="0" lang="ar-JO" sz="2000" spc="-1" strike="noStrike">
                <a:solidFill>
                  <a:srgbClr val="000000"/>
                </a:solidFill>
                <a:latin typeface="Arial"/>
                <a:cs typeface="Simplified Arabic"/>
              </a:rPr>
              <a:t>تُطبَّق في أي وضع بما في ذلك أوضاع النزاعات المسلحة. </a:t>
            </a:r>
            <a:br>
              <a:rPr sz="2000"/>
            </a:br>
            <a:br>
              <a:rPr sz="2000"/>
            </a:br>
            <a:r>
              <a:rPr b="0" lang="ar-JO" sz="2000" spc="-1" strike="noStrike">
                <a:solidFill>
                  <a:srgbClr val="000000"/>
                </a:solidFill>
                <a:latin typeface="Arial"/>
                <a:cs typeface="Simplified Arabic"/>
              </a:rPr>
              <a:t>وكل منهما (القانون الإنساني وحقوق الإنسان) يهدف إلى حماية كرامة الإنسان في جميع الظروف.</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msafieldin</cp:lastModifiedBy>
  <dcterms:modified xsi:type="dcterms:W3CDTF">2008-07-03T23:21:16Z</dcterms:modified>
  <cp:revision>594</cp:revision>
  <dc:subject/>
  <dc:title>Slide 1</dc:title>
</cp:coreProperties>
</file>