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038400" cy="46656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970440" y="0"/>
            <a:ext cx="3038400" cy="46656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79000" y="696960"/>
            <a:ext cx="4651560" cy="3487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8827560"/>
            <a:ext cx="3038400" cy="46692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ea typeface="Arial"/>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970440" y="8827560"/>
            <a:ext cx="3038400" cy="46692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ar-SA" sz="1200" spc="-1" strike="noStrike">
                <a:solidFill>
                  <a:srgbClr val="000000"/>
                </a:solidFill>
                <a:latin typeface="Arial"/>
                <a:ea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DA4241B-0B98-4A8B-BABE-9D6A701E20D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www.ohchr.org/"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1160" y="696960"/>
            <a:ext cx="4648320" cy="3486240"/>
          </a:xfrm>
          <a:prstGeom prst="rect">
            <a:avLst/>
          </a:prstGeom>
          <a:ln w="0">
            <a:noFill/>
          </a:ln>
        </p:spPr>
      </p:sp>
      <p:sp>
        <p:nvSpPr>
          <p:cNvPr id="57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هداف الجلس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لإبراز:</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طورات السياسية التي حدثت في الأمم المتحدة منذ عام </a:t>
            </a:r>
            <a:r>
              <a:rPr b="0" lang="ar-JO" sz="1200" spc="-1" strike="noStrike">
                <a:solidFill>
                  <a:srgbClr val="000000"/>
                </a:solidFill>
                <a:latin typeface="Arial"/>
                <a:ea typeface="Arial"/>
              </a:rPr>
              <a:t>1945</a:t>
            </a:r>
            <a:r>
              <a:rPr b="0" lang="ar-JO" sz="1200" spc="-1" strike="noStrike">
                <a:solidFill>
                  <a:srgbClr val="000000"/>
                </a:solidFill>
                <a:latin typeface="Arial"/>
                <a:ea typeface="Arial"/>
              </a:rPr>
              <a:t> (بالنسبة إ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طوّر حقوق الإنسان ضمن منظومة الأمم المتحدة الأوسع (الروابط مع السلام والأمن و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روابط الجوهرية / الموضوعية مع التنمية، والسلام والأمن، والنوع الاجتماعي.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التزامات وأوامر المسير على نطاق منظومة الأمم المتحدة وعلى مستوى وكالاتها (التطورات المؤسس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1160" y="696960"/>
            <a:ext cx="4648320" cy="3486240"/>
          </a:xfrm>
          <a:prstGeom prst="rect">
            <a:avLst/>
          </a:prstGeom>
          <a:ln w="0">
            <a:noFill/>
          </a:ln>
        </p:spPr>
      </p:sp>
      <p:sp>
        <p:nvSpPr>
          <p:cNvPr id="59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رسائل الأسا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عُ وقوع النزاع المسلح وإحقاقُ حقوق الإنسان موضوعان مترابطان بقوة </a:t>
            </a:r>
            <a:r>
              <a:rPr b="1" i="1" lang="ar-JO" sz="1200" spc="-1" strike="noStrike">
                <a:solidFill>
                  <a:srgbClr val="000000"/>
                </a:solidFill>
                <a:latin typeface="Arial"/>
                <a:ea typeface="Arial"/>
              </a:rPr>
              <a:t>– لكنهما لا يعتبران الشيء نفس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يات الأسا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بد من التمييز ما بين النزاع بحد ذاته والنزاع العنفي. إن النزاعات، كحالات لعدم المساواة في السلطة، هي خصائص موجودة دائماً في الحياة البشرية والمجتمعات البشر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الجميع يعيشون تجربة بعض أشكال النزاع في حياتهم اليومية، وغالباً ما تساعد هذه النزاعات بشكل إيجابي على تحوّل الأوضاع والحالات الشخصية. وتعتبر النزاعات جزءاً طبيعياً من التفاعل الإنساني، إضافة إلى كونها ضرورية للتغيير الاجتماعي. وعندما تفتقر المجتمعات إلى أدوات وآليات عمل فعّالة للإدارة البناءة للخلافات، قد يصبح النزاع عنيفاً ومدمر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نزاع العنفي يمنع إحقاق حقوق الإنسان، بشكل مباشر وغير مباشر: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ؤدي النزاعُ العنفي إلى انتهاكات </a:t>
            </a:r>
            <a:r>
              <a:rPr b="1" i="1" lang="ar-JO" sz="1200" spc="-1" strike="noStrike">
                <a:solidFill>
                  <a:srgbClr val="000000"/>
                </a:solidFill>
                <a:latin typeface="Arial"/>
                <a:cs typeface="Arial"/>
              </a:rPr>
              <a:t>مباشرة</a:t>
            </a:r>
            <a:r>
              <a:rPr b="1" lang="ar-JO" sz="1200" spc="-1" strike="noStrike">
                <a:solidFill>
                  <a:srgbClr val="000000"/>
                </a:solidFill>
                <a:latin typeface="Arial"/>
                <a:ea typeface="Arial"/>
              </a:rPr>
              <a:t> لحقوق الإنسان (مثل: الحق في الحياة، والحق في الحرية من المعاملة اللاإنسانية والمهين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نع النزاع العنفي إحقاق حقوق الإنسان بشكل غير مباشر، فعلى سبيل المثال: يُحدث النزاع العنفي آثاراً مدمرة في الاقتصادات، وبناء على ذلك، فإنه يَحُول دون إحقاق الحقوق الاقتصادية والاجتماعية.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تبر عدم إحقاق حقوق الإنسان غالباً من الأسباب الجذرية للنزاع العنفي – فعلى سبيل المثال، غالباً ما تكون نماذج التمييز ضد الأقليات الشرارات التي تسبِّب اندلاع النزاع المسلح والأَزمة. وبالمثل، قد يؤدي فشل الدولة في الكشف عن الفساد وضمان رفاه شعبها إلى الجَيَشان والاضطراب السياسيين، الأمر الذي قد يؤدي مجدَّداً إلى تصعيد انتهاكات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وبناء على ذلك،</a:t>
            </a:r>
            <a:r>
              <a:rPr b="1" lang="ar-JO" sz="1200" spc="-1" strike="noStrike">
                <a:solidFill>
                  <a:srgbClr val="000000"/>
                </a:solidFill>
                <a:latin typeface="Arial"/>
                <a:ea typeface="Arial"/>
              </a:rPr>
              <a:t> تُعتبر حماية حقوق الإنسان وتعزيزها مكونات أساسية لأية استراتيجية لمنع النزاع المسلح.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د تمثل انتهاكات حقوق الإنسان مؤشراً لنشوء النزاعات العنفية أو لتصعيد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على سبيل المثال، وفي العديد من الأوضاع، فإن ازدياد العنف القائم على النوع الاجتماعي يشير إلى ازدياد في عسكرة (إضفاء الصبغة العسكرية على) المجتمع، ومن ثم إلى ازدياد خطر النزاع العنف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وبناء على ذلك</a:t>
            </a:r>
            <a:r>
              <a:rPr b="1" lang="ar-JO" sz="1200" spc="-1" strike="noStrike">
                <a:solidFill>
                  <a:srgbClr val="000000"/>
                </a:solidFill>
                <a:latin typeface="Arial"/>
                <a:cs typeface="Arial"/>
              </a:rPr>
              <a:t>، يجب أن يكون النظر إلى حقوق الإنسان جزءاً لا يتجزأ من أنظمة الإنذار المبك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الرغم من ذلك، فإن حماية حقوق الإنسان وتعزيزها، والحد من النزاع المسلح لا يُعتبران الشيء نفسه: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قد تُحْدِثُ الجهود المبذولة للحد من نشوء النزاع العنفي على المدى القصير أيضاً آثاراً سلبية على تعزيز حقوق الإنسان وحمايتها. فعلى سبيل المثال، قد تعمل اتفاقيات تشارك السلطة، التي تهدف إلى إنهاء النزاع في البيئات المباشرة التي تنشأ ما بعد النزاع، على شَرْعَنَةِ (إضفاء الصبغة الشرعية على) الجهات الفاعلة والمشاركة في النزاع، وهي جهات لها سجل سيء في مجال حقوق الإنسان.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تؤدي جميع انتهاكات حقوق الإنسان إلى النزاع العنفي، فمن الممكن ألاّ تلجأ المجموعات الضعيفة المعرضة للمخاطر في المجتمعات إلى العنف حتى لو انتُهكت حقوق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ثبت الأدلة أنَّ الدول الدكتاتورية، التي تُقمع فيها الحريات المدنية بشكل نظامي ممنهج، تميل إلى أن تكون أقلَّ عُرضةً للعنف مقارنةً بالدول التي تمنح فسحةً محدودةً للحرية. وقد تم اشتقاق مفهوم "السلام السلبي" للإشارة إلى تلك الأوضاع التي لا يوجد فيها عنف ظاهر للعيان، بينما لا يسودها العدل ولا السلام المستدام أيضاً. ويجب تفهُّم أنَّ منع وقوع النزاع وبناء السلام يهدفان إلى خلق "سلام إيجابي"، يتركّز، بشكل أساسي وغير قابل للانتهاء، على احترام حقوق الإنسان وتعزيز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321840" y="4311720"/>
            <a:ext cx="6289560" cy="48816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علاقة العملية بين حقوق الإنسان والأهداف الإنمائية للأل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ظهر الشريحةُ أعلاه المدى الذي تَجمعُ فيه الأهدافُ الإنمائية للألفية وحقوق الإنسان بين صفات ومتممات مشتركة. ولكن المسألة العملية/التشغيلية الحاسمة، للدعم المنوي تقديمه إلى عملية التقييم القطري المشترك / إطار عمل الأمم المتحدة للمساعدات الإنمائية، تكمنُ في كيفية استخدام هذين المصدرين في توجيه السياسات، وفي فهمهما وإدراكهما ضمن سياق البرمج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الأهداف الإنمائية للألفية إطار عملي / تشغيلي جاهز لتعزيز الدعم يهدف إلى تحقيق الأهداف الإنمائية المتفق عليها عالمياً. وكما تم التأكيد على ذلك في إعلان الألفية، يعتبر إحقاق حقوق الإنسان جزءاً لا يتجزأ من تحقيق الأهداف الإنمائية تل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لا يُنظر إلى حقوق الإنسان والأهداف الإنمائية للألفية على أنها تتطلب عمليات وأطر عمل برامجية منفص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بدلاً عن ذلك، وضمن كل هدف من الأهداف الإنمائية للألفية، من المهم تحديد حقوق الإنسان التي ينبغي إحقاقها، بالإضافة إلى تحديد الخطوات التي ينبغي اتخاذها لإحقاق هذه الحقوق ضمن السياق الوطني. فمثلاً، من المهم بمقتضى الهدف الثالث من الأهداف الإنمائية للألفية، دراسة التوجيهات المتوافرة في اتفاقية القضاء على جميع أشكال التمييز ضد المرأة. (يمكن إضافة أمثلة أخرى فيما يتعلق بالأهداف الأخرى أيض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ثمة تدابيرُ معيّنة تُلزم اتفاقيةُ القضاء على جميع أشكال التمييز ضد المرأة الدولَ باتخاذها، وذلك للتقدم بالمساواة في النوع الاجتماعي فيها (أي في تلك الدول)، بحيث تكون تلك التدابير نقاطاً مرجعيةً مركزيةً عند تحديد الخطوات التي يمكن اتباعها لتحقيق الهدف الثالث من الأهداف الإنمائية للأل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علومات التالية مقدَّمة كمرجع وكنشرة للتوزي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أول:</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ضاء على الفقر المدقع والجوع، </a:t>
            </a:r>
            <a:r>
              <a:rPr b="1" lang="ar-JO" sz="1200" spc="-1" strike="noStrike" u="sng">
                <a:solidFill>
                  <a:srgbClr val="000000"/>
                </a:solidFill>
                <a:uFillTx/>
                <a:latin typeface="Arial"/>
                <a:cs typeface="Arial"/>
              </a:rPr>
              <a:t>مسوّدة المبادئ التوجيهية حول نهج حقوق الإنسان لاستراتيجيات الحد من الفق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12</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27</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اتفاقية حقوق الطفل (المادة </a:t>
            </a:r>
            <a:r>
              <a:rPr b="1" lang="ar-JO" sz="1200" spc="-1" strike="noStrike">
                <a:solidFill>
                  <a:srgbClr val="000000"/>
                </a:solidFill>
                <a:latin typeface="Arial"/>
                <a:ea typeface="Arial"/>
              </a:rPr>
              <a:t>27</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ميم التعليم الابتدائي، </a:t>
            </a:r>
            <a:r>
              <a:rPr b="1" lang="ar-JO" sz="1200" spc="-1" strike="noStrike" u="sng">
                <a:solidFill>
                  <a:srgbClr val="000000"/>
                </a:solidFill>
                <a:uFillTx/>
                <a:latin typeface="Arial"/>
                <a:cs typeface="Arial"/>
              </a:rPr>
              <a:t>العهد الدولي للحقوق الاقتصادية والاجتماعية والثقافية</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13</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والتعليق العام رقم </a:t>
            </a:r>
            <a:r>
              <a:rPr b="1" lang="ar-JO" sz="1200" spc="-1" strike="noStrike" u="sng">
                <a:solidFill>
                  <a:srgbClr val="000000"/>
                </a:solidFill>
                <a:uFillTx/>
                <a:latin typeface="Arial"/>
                <a:ea typeface="Arial"/>
              </a:rPr>
              <a:t>11</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8</a:t>
            </a:r>
            <a:r>
              <a:rPr b="1" lang="ar-JO" sz="1200" spc="-1" strike="noStrike">
                <a:solidFill>
                  <a:srgbClr val="000000"/>
                </a:solidFill>
                <a:latin typeface="Arial"/>
                <a:ea typeface="Arial"/>
              </a:rPr>
              <a:t> والمادة </a:t>
            </a:r>
            <a:r>
              <a:rPr b="1" lang="ar-JO" sz="1200" spc="-1" strike="noStrike">
                <a:solidFill>
                  <a:srgbClr val="000000"/>
                </a:solidFill>
                <a:latin typeface="Arial"/>
                <a:ea typeface="Arial"/>
              </a:rPr>
              <a:t>29</a:t>
            </a:r>
            <a:r>
              <a:rPr b="1" lang="ar-JO" sz="1200" spc="-1" strike="noStrike">
                <a:solidFill>
                  <a:srgbClr val="000000"/>
                </a:solidFill>
                <a:latin typeface="Arial"/>
                <a:ea typeface="Arial"/>
              </a:rPr>
              <a:t>) والتعليق العام رقم </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 اتفاقية القضاء على جميع أشكال التمييز العنصري (المادتان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7</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لث:</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زيز المساواة في النوع الاجتماعي وتمكين المرأة، </a:t>
            </a:r>
            <a:r>
              <a:rPr b="1" lang="ar-JO" sz="1200" spc="-1" strike="noStrike" u="sng">
                <a:solidFill>
                  <a:srgbClr val="000000"/>
                </a:solidFill>
                <a:uFillTx/>
                <a:latin typeface="Arial"/>
                <a:cs typeface="Arial"/>
              </a:rPr>
              <a:t>اتفاقية القضاء على جميع أشكال التمييز ضد المرأة. العهد الدولي للحقوق الاقتصادية والاجتماعية والثقافية</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3</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7</a:t>
            </a:r>
            <a:r>
              <a:rPr b="1" lang="ar-JO" sz="1200" spc="-1" strike="noStrike">
                <a:solidFill>
                  <a:srgbClr val="000000"/>
                </a:solidFill>
                <a:latin typeface="Arial"/>
                <a:cs typeface="Arial"/>
              </a:rPr>
              <a:t>، الفقرة أ (ط)). </a:t>
            </a:r>
            <a:r>
              <a:rPr b="1" lang="ar-JO" sz="1200" spc="-1" strike="noStrike" u="sng">
                <a:solidFill>
                  <a:srgbClr val="000000"/>
                </a:solidFill>
                <a:uFillTx/>
                <a:latin typeface="Arial"/>
                <a:cs typeface="Arial"/>
              </a:rPr>
              <a:t>العهد الدولي للحقوق المدنية والسياسية </a:t>
            </a:r>
            <a:r>
              <a:rPr b="1" lang="ar-JO" sz="1200" spc="-1" strike="noStrike">
                <a:solidFill>
                  <a:srgbClr val="000000"/>
                </a:solidFill>
                <a:latin typeface="Arial"/>
                <a:ea typeface="Arial"/>
              </a:rPr>
              <a:t>(المواد </a:t>
            </a:r>
            <a:r>
              <a:rPr b="1" lang="ar-JO" sz="1200" spc="-1" strike="noStrike">
                <a:solidFill>
                  <a:srgbClr val="000000"/>
                </a:solidFill>
                <a:latin typeface="Arial"/>
                <a:ea typeface="Arial"/>
              </a:rPr>
              <a:t>3</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5</a:t>
            </a:r>
            <a:r>
              <a:rPr b="1" lang="ar-JO" sz="1200" spc="-1" strike="noStrike">
                <a:solidFill>
                  <a:srgbClr val="000000"/>
                </a:solidFill>
                <a:latin typeface="Arial"/>
                <a:cs typeface="Arial"/>
              </a:rPr>
              <a:t>، و </a:t>
            </a:r>
            <a:r>
              <a:rPr b="1" lang="ar-JO" sz="1200" spc="-1" strike="noStrike">
                <a:solidFill>
                  <a:srgbClr val="000000"/>
                </a:solidFill>
                <a:latin typeface="Arial"/>
                <a:ea typeface="Arial"/>
              </a:rPr>
              <a:t>23</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القضاء على جميع أشكال التمييز العنصري</a:t>
            </a:r>
            <a:r>
              <a:rPr b="1" lang="ar-JO" sz="1200" spc="-1" strike="noStrike">
                <a:solidFill>
                  <a:srgbClr val="000000"/>
                </a:solidFill>
                <a:latin typeface="Arial"/>
                <a:ea typeface="Arial"/>
              </a:rPr>
              <a:t> (التعليق العام </a:t>
            </a:r>
            <a:r>
              <a:rPr b="1" lang="ar-JO" sz="1200" spc="-1" strike="noStrike">
                <a:solidFill>
                  <a:srgbClr val="000000"/>
                </a:solidFill>
                <a:latin typeface="Arial"/>
                <a:ea typeface="Arial"/>
              </a:rPr>
              <a:t>25</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را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خفض معدل وفيات الأطفال،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تان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أ). </a:t>
            </a: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أ، التعليق العام رقم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خامس:</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سين صحة الأمهات، </a:t>
            </a:r>
            <a:r>
              <a:rPr b="1" lang="ar-JO" sz="1200" spc="-1" strike="noStrike" u="sng">
                <a:solidFill>
                  <a:srgbClr val="000000"/>
                </a:solidFill>
                <a:uFillTx/>
                <a:latin typeface="Arial"/>
                <a:cs typeface="Arial"/>
              </a:rPr>
              <a:t>اتفاقية القضاء على جميع أشكال التمييز ضد المرأة</a:t>
            </a:r>
            <a:r>
              <a:rPr b="1" lang="ar-JO" sz="1200" spc="-1" strike="noStrike">
                <a:solidFill>
                  <a:srgbClr val="000000"/>
                </a:solidFill>
                <a:latin typeface="Arial"/>
                <a:ea typeface="Arial"/>
              </a:rPr>
              <a:t> (المواد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ح،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 و،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ب،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2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القضاء على جميع أشكال التمييز العنصري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هـ - </a:t>
            </a:r>
            <a:r>
              <a:rPr b="1" lang="ar-JO" sz="1200" spc="-1" strike="noStrike">
                <a:solidFill>
                  <a:srgbClr val="000000"/>
                </a:solidFill>
                <a:latin typeface="Arial"/>
                <a:ea typeface="Arial"/>
              </a:rPr>
              <a:t>4</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لميثاق الدولي للحقوق الاقتصادية والاجتماعية والثقافية: التعليق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cs typeface="Arial"/>
              </a:rPr>
              <a:t>، 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سادس:</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كافحة ڤيروس نقص المناعة البشري/متلازمة نقص المناعة المكتسب (الإيدز)، والملاريا وغيرها من الأمراض، </a:t>
            </a:r>
            <a:r>
              <a:rPr b="1" lang="ar-JO" sz="1200" spc="-1" strike="noStrike" u="sng">
                <a:solidFill>
                  <a:srgbClr val="000000"/>
                </a:solidFill>
                <a:uFillTx/>
                <a:latin typeface="Arial"/>
                <a:cs typeface="Arial"/>
              </a:rPr>
              <a:t>المبادئ التوجيهية الدولية حول متلازمة نقص المناعة البشري المكتسب / الإيدز وحقوق الإنسان، العهد الدولي للحقوق الاقتصادية والاجتماعية والثقافية: التعليق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cs typeface="Arial"/>
              </a:rPr>
              <a:t>، اتفاقية حقوق الطفل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سا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ضمان الاستدامة البيئية - مياه الشرب المأمونة: العهد الدولي للحقوق الاقتصادية والاجتماعية والثقافية: التعليق العام رقم </a:t>
            </a:r>
            <a:r>
              <a:rPr b="1" lang="ar-JO" sz="1200" spc="-1" strike="noStrike">
                <a:solidFill>
                  <a:srgbClr val="000000"/>
                </a:solidFill>
                <a:latin typeface="Arial"/>
                <a:ea typeface="Arial"/>
              </a:rPr>
              <a:t>15</a:t>
            </a:r>
            <a:r>
              <a:rPr b="1" lang="ar-JO" sz="1200" spc="-1" strike="noStrike">
                <a:solidFill>
                  <a:srgbClr val="000000"/>
                </a:solidFill>
                <a:latin typeface="Arial"/>
                <a:cs typeface="Arial"/>
              </a:rPr>
              <a:t>، </a:t>
            </a:r>
            <a:r>
              <a:rPr b="1" lang="ar-JO" sz="1200" spc="-1" strike="noStrike" u="sng">
                <a:solidFill>
                  <a:srgbClr val="000000"/>
                </a:solidFill>
                <a:uFillTx/>
                <a:latin typeface="Arial"/>
                <a:cs typeface="Arial"/>
              </a:rPr>
              <a:t>والتعليق العام رقم </a:t>
            </a:r>
            <a:r>
              <a:rPr b="1" lang="ar-JO" sz="1200" spc="-1" strike="noStrike" u="sng">
                <a:solidFill>
                  <a:srgbClr val="000000"/>
                </a:solidFill>
                <a:uFillTx/>
                <a:latin typeface="Arial"/>
                <a:ea typeface="Arial"/>
              </a:rPr>
              <a:t>1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كان الأحياء الفقيرة: العهد الدولي للحقوق الاقتصادية والاجتماعية والثقافية: </a:t>
            </a:r>
            <a:r>
              <a:rPr b="1" lang="ar-JO" sz="1200" spc="-1" strike="noStrike" u="sng">
                <a:solidFill>
                  <a:srgbClr val="000000"/>
                </a:solidFill>
                <a:uFillTx/>
                <a:latin typeface="Arial"/>
                <a:cs typeface="Arial"/>
              </a:rPr>
              <a:t>التعليق العام رقم </a:t>
            </a:r>
            <a:r>
              <a:rPr b="1" lang="ar-JO" sz="1200" spc="-1" strike="noStrike" u="sng">
                <a:solidFill>
                  <a:srgbClr val="000000"/>
                </a:solidFill>
                <a:uFillTx/>
                <a:latin typeface="Arial"/>
                <a:ea typeface="Arial"/>
              </a:rPr>
              <a:t>4</a:t>
            </a:r>
            <a:r>
              <a:rPr b="1" lang="ar-JO" sz="1200" spc="-1" strike="noStrike" u="sng">
                <a:solidFill>
                  <a:srgbClr val="000000"/>
                </a:solidFill>
                <a:uFillTx/>
                <a:latin typeface="Arial"/>
                <a:cs typeface="Arial"/>
              </a:rPr>
              <a:t>، والتعليق العام رقم </a:t>
            </a:r>
            <a:r>
              <a:rPr b="1" lang="ar-JO" sz="1200" spc="-1" strike="noStrike" u="sng">
                <a:solidFill>
                  <a:srgbClr val="000000"/>
                </a:solidFill>
                <a:uFillTx/>
                <a:latin typeface="Arial"/>
                <a:ea typeface="Arial"/>
              </a:rPr>
              <a:t>7</a:t>
            </a:r>
            <a:r>
              <a:rPr b="1" lang="ar-JO" sz="1200" spc="-1" strike="noStrike">
                <a:solidFill>
                  <a:srgbClr val="000000"/>
                </a:solidFill>
                <a:latin typeface="Arial"/>
                <a:cs typeface="Arial"/>
              </a:rPr>
              <a:t>، اتفاقية حقوق الطفل (المادة </a:t>
            </a:r>
            <a:r>
              <a:rPr b="1" lang="ar-JO" sz="1200" spc="-1" strike="noStrike">
                <a:solidFill>
                  <a:srgbClr val="000000"/>
                </a:solidFill>
                <a:latin typeface="Arial"/>
                <a:ea typeface="Arial"/>
              </a:rPr>
              <a:t>24</a:t>
            </a:r>
            <a:r>
              <a:rPr b="1" lang="ar-JO" sz="1200" spc="-1" strike="noStrike">
                <a:solidFill>
                  <a:srgbClr val="000000"/>
                </a:solidFill>
                <a:latin typeface="Arial"/>
                <a:ea typeface="Arial"/>
              </a:rPr>
              <a:t> ج).</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دف الثام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وير شراكة عالمية للتنمية، </a:t>
            </a:r>
            <a:r>
              <a:rPr b="1" lang="ar-JO" sz="1200" spc="-1" strike="noStrike" u="sng">
                <a:solidFill>
                  <a:srgbClr val="000000"/>
                </a:solidFill>
                <a:uFillTx/>
                <a:latin typeface="Arial"/>
                <a:cs typeface="Arial"/>
              </a:rPr>
              <a:t>ميثاق الأمم المتحد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الفقرة </a:t>
            </a:r>
            <a:r>
              <a:rPr b="1" lang="ar-JO" sz="1200" spc="-1" strike="noStrike">
                <a:solidFill>
                  <a:srgbClr val="000000"/>
                </a:solidFill>
                <a:latin typeface="Arial"/>
                <a:ea typeface="Arial"/>
              </a:rPr>
              <a:t>3</a:t>
            </a:r>
            <a:r>
              <a:rPr b="1" lang="ar-JO" sz="1200" spc="-1" strike="noStrike">
                <a:solidFill>
                  <a:srgbClr val="000000"/>
                </a:solidFill>
                <a:latin typeface="Arial"/>
                <a:cs typeface="Arial"/>
              </a:rPr>
              <a:t>، </a:t>
            </a:r>
            <a:r>
              <a:rPr b="1" lang="ar-JO" sz="1200" spc="-1" strike="noStrike" u="sng">
                <a:solidFill>
                  <a:srgbClr val="000000"/>
                </a:solidFill>
                <a:uFillTx/>
                <a:latin typeface="Arial"/>
                <a:cs typeface="Arial"/>
              </a:rPr>
              <a:t>العهد الدولي للحقوق الاقتصادية والاجتماعية والثقافية </a:t>
            </a:r>
            <a:r>
              <a:rPr b="1" lang="ar-JO" sz="1200" spc="-1" strike="noStrike">
                <a:solidFill>
                  <a:srgbClr val="000000"/>
                </a:solidFill>
                <a:latin typeface="Arial"/>
                <a:ea typeface="Arial"/>
              </a:rPr>
              <a:t>(المادة </a:t>
            </a: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u="sng">
                <a:solidFill>
                  <a:srgbClr val="000000"/>
                </a:solidFill>
                <a:uFillTx/>
                <a:latin typeface="Arial"/>
                <a:cs typeface="Arial"/>
              </a:rPr>
              <a:t>اتفاقية حقوق الطفل</a:t>
            </a:r>
            <a:r>
              <a:rPr b="1" lang="ar-JO" sz="1200" spc="-1" strike="noStrike">
                <a:solidFill>
                  <a:srgbClr val="000000"/>
                </a:solidFill>
                <a:latin typeface="Arial"/>
                <a:ea typeface="Arial"/>
              </a:rPr>
              <a:t> (المادة </a:t>
            </a:r>
            <a:r>
              <a:rPr b="1" lang="ar-JO" sz="1200" spc="-1" strike="noStrike">
                <a:solidFill>
                  <a:srgbClr val="000000"/>
                </a:solidFill>
                <a:latin typeface="Arial"/>
                <a:ea typeface="Arial"/>
              </a:rPr>
              <a:t>4</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حقوق الإنسان، والمساواة في النوع الاجتماعي، والأهداف الإنمائية للأل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كَّدت جميع مؤتمرات الأمم المتحدة، التي عُقدت في التسعينيات من القرن الماضي المساواة، في النوع الاجتماعي، وتُوِّجت تلك المؤتمرات بانعقاد القمة الألفية التي أعادت تأكيد هذه المساواة بشكل أكبر. كما أكد إعلان الألفية الضرورة المطلقة للتقدم بالحقوق الإنسانية لجميع الناس من أجل تحقيق هذه الرؤية. وعلى وجه الخصوص، يُعتبر التقدم بالمساواة في النوع الاجتماعي عنصراً ضرورياً حاسماً في التقدم الإنمائي (أو التنموي). ويتعهد الإعلان بصراحة "بمكافحة جميع أشكال العنف ضد المرأة، وبتنفيذ اتفاقية القضاء على جميع أشكال التمييز ضد المرأة." كذلك يدرك الإعلان بشكل أوسع أهمية تعزيز المساواة في النوع الاجتماعي وتمكين المرأة بوصفه مساراً فعّالاً للقضاء على الفقر والجوع والأمراض، ولحفز التنمية المستد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حد الأهداف الإنمائية للألفية يهدف إلى تعزيز المساواة في النوع الاجتماعي – يعمل الهدف الثالث من الأهداف الإنمائية للألفية على تعزيز المساواة في النوع الاجتماعي وتمكين المرأة. وبالرغم من ذلك، يجب التذكّر أنَّ جميع الأهداف الأخرى مترابطة أيضاً مع حقوق الإنسان بطريقة تعمل على إحقاقها. ويعتبر تحقيق هدف المساواة في النوع الاجتماعي أساسياً لتحقيق جميع الأهداف الأخرى. وبالتالي فإن تحليل النوع الاجتماعي جزء لا يتجزأ من جميع عمليات التخطيط والبرامج المصممة لتحقيق كل هدف من هذه الأهداف. ويكشف تحليل بُعْدُ النوع الاجتماعي لكل من الأهداف الإنمائية للألفية، ودراسةُ كل هدف من منظور حقوق الإنسان عدداً من القضايا والأسباب المعقدة المتشابكة، ويمكن توضيح ذلك فيما يتعلق بالجوع وسوء التغذية وصحة الأمهات والأطفال. وفي هذا السياق، من المهم إدراك أن الظروف الاجتماعية غير المتساوية والممارسات الإقصائية تستمر في العمل على حرمان النساء والفتيات من فرصة الوصول المتساوية إلى الغذاء والرعاية الصحية، وبذلك يُحرمن من حقوقهن الإنسا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1160" y="696960"/>
            <a:ext cx="4648320" cy="3486240"/>
          </a:xfrm>
          <a:prstGeom prst="rect">
            <a:avLst/>
          </a:prstGeom>
          <a:ln w="0">
            <a:noFill/>
          </a:ln>
        </p:spPr>
      </p:sp>
      <p:sp>
        <p:nvSpPr>
          <p:cNvPr id="59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كالات الأمم المتحدة وصناديقها ومنظومة الأمم المتحدة ككل تعمل على تطبيق النهج القائم على حقوق الإنسان في برمجة التن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ملت وكالات الأمم المتحدة وبرامجها، وما تزال تعمل على إدماج حقوق الإنسان في جميع نشاطاتها وبرامجها منذ عام </a:t>
            </a:r>
            <a:r>
              <a:rPr b="0" lang="ar-JO" sz="1200" spc="-1" strike="noStrike">
                <a:solidFill>
                  <a:srgbClr val="000000"/>
                </a:solidFill>
                <a:latin typeface="Arial"/>
                <a:ea typeface="Arial"/>
              </a:rPr>
              <a:t>1997</a:t>
            </a:r>
            <a:r>
              <a:rPr b="0" lang="ar-JO" sz="1200" spc="-1" strike="noStrike">
                <a:solidFill>
                  <a:srgbClr val="000000"/>
                </a:solidFill>
                <a:latin typeface="Arial"/>
                <a:ea typeface="Arial"/>
              </a:rPr>
              <a:t>. وتعمل بعض الوكالات فعلياً على تحديث مبادئها التوجيهية المتعلقة بالبرامج والسياسات، لكي تبيِّن التفاهم أو الفهم المشترك للأمم المتحدة لعملية الإدماج هذه. وتستخدم مكاتب الأمم المتحدة القُطرية النهج القائم على حقوق الإنسان، بشكل متزايد، في إعدادها للتقييم القطري المشترك وإطار عمل الأمم المتحدة للمساعدات الإنمائية أيض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بعض وكالات الأمم المتحدة وصناديقها وبرامجها، مثل </a:t>
            </a:r>
            <a:r>
              <a:rPr b="1" i="1" lang="ar-JO" sz="1200" spc="-1" strike="noStrike">
                <a:solidFill>
                  <a:srgbClr val="000000"/>
                </a:solidFill>
                <a:latin typeface="Arial"/>
                <a:cs typeface="Arial"/>
              </a:rPr>
              <a:t>برنامج الأمم المتحدة الإنمائي، ومنظمة الأمم المتحدة للطفولة (يونيسف)، وصندوق الأمم المتحدة لتنمية المرأة، وصندوق الأمم المتحدة للسكان، ومنظمة الصحة العالمية وغيرها، </a:t>
            </a:r>
            <a:r>
              <a:rPr b="0" lang="ar-JO" sz="1200" spc="-1" strike="noStrike">
                <a:solidFill>
                  <a:srgbClr val="000000"/>
                </a:solidFill>
                <a:latin typeface="Arial"/>
                <a:cs typeface="Arial"/>
              </a:rPr>
              <a:t>تقدم نماذج جيدة حول كيفية تطبيق النهج القائم على حقوق الإنسان ابتداء من مدى توجيه معايير ومبادئ حقوق الإنسان لعملها كل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إضافة إلى ذلك، تعمل اليونيسف، وصندوق الأمم المتحدة لتنمية المرأة، وصندوق الأمم المتحدة للسكان، عن كثب، مع هيئات المعاهدات الدولية التي تشرف على تنفيذ اتفاقية القضاء على جميع أشكال التمييز ضد المرأة واتفاقية حقوق الطفل، وغيرها من المعاهدات الأساسية لحقوق الإنسان. كما تعمل بعض وكالات الأمم المتحدة الأخرى (منظمة الأغذية والزراعة، ومنظمة الأمم المتحدة للتربية والعلوم والثقافة (يونسكو)، والمنظمة الدولية للهجرة، وبرنامج الأمم المتحدة للمستوطنات البشرية (الموئل)، ومنظمة الصحة العالمية)، عن كثب، مع المقرِّرين الخاصين للمحاور أو للقضايا والمواضيع الرئيسية التي يُعنى بها مجلس حقوق الإنسان. كذلك فإن بعض عمليات حفظ السلام وبعض عمليات بناء السلام تعمل عن كثب كذلك مع مقرِّرين خاصين معنيين بمناطق جغرافية بعينها، حيثما توجد هذه التفويض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ظهر عمليات إدماج حقوق الإنسان في سياسات وممارسات وكالات الأمم المتحدة، وفي برامجها ووكالاتها المتخصصة، التي تم تنفيذها في السنوات الأخيرة، نقطة التلاقي بين حقوق الإنسان والتنمية. ومع أن بعض عمليات الإدماج بلغت مستويات ومراحل مختلفة لدى تلك الوكالات والبرامج، إلا أنّ غالبيتها تسعى، بشكل متزايد، إلى الإسهام في تعزيز وحماية حقوق الإنسان من خلال عملها، بالإضافة إلى إدراك حقوق الإنسان بوصفها أداة مفيدة لتنفيذ الولايات / التفويضات الأساسية لتلك الوكا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قد بدأت المنظمات، التي أقرّت معاهدات معينة لحقوق الإنسان بوصفها أساساً معيارياً لعملها (مثل اليونيسف، وصندوق الأمم المتحدة لتنمية المرأة، وصندوق الأمم المتحدة للسكان) بتطبيق النهج القائم على حقوق الإنسان بشكل أكثر شمولاً في برامجها. وهذا يشمل متابعة عمل هيئات المعاهدات عن كثب واستخدام ملاحظاتها وتوصياتها الختامية بشكل مطّرد، بوصفها مرجعاً توجيهياً للبرمج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يْدَ أنه من المهم التشديد على أنَّ إدماج حقوق الإنسان من خلال منظمة معينة يعني أكثر من وجود وحدة أو قسم/شعبة أو مشروع يتعامل مع حقوق الإنسان، إنه يعني قيام منظمة تتبنى مبادئ ومعايير حقوق الإنسان بوصفها أساساً للأطر المفاهيمية والمنهجية / الأسلوبية لعمل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ات المشتركة بين الوكا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خلال السنوات الأخيرة، تبنى عدد من وكالات الأمم المتحدة </a:t>
            </a:r>
            <a:r>
              <a:rPr b="1" lang="ar-JO" sz="1200" spc="-1" strike="noStrike">
                <a:solidFill>
                  <a:srgbClr val="000000"/>
                </a:solidFill>
                <a:latin typeface="Arial"/>
                <a:cs typeface="Arial"/>
              </a:rPr>
              <a:t>النهج القائم على حقوق الإنسان</a:t>
            </a:r>
            <a:r>
              <a:rPr b="0" lang="ar-JO" sz="1200" spc="-1" strike="noStrike">
                <a:solidFill>
                  <a:srgbClr val="000000"/>
                </a:solidFill>
                <a:latin typeface="Arial"/>
                <a:ea typeface="Arial"/>
              </a:rPr>
              <a:t> في مجال التعاون التنموي فيما بينها، واكتسبت تلك الوكالات خبرة مهمة في تطبيق هذا النهج على نطاق واسع من النشاطات والبرامج. وفي الجزء الأعظم من النهج، نَزَعَت كل وكالة إلى وضع تفسير خاص بها للنهج وحول كيفية ضرورة تنفيذه. وفي ضوء الزيادة الكبيرة في التعاون المشترك بين وكالات الأمم المتحدة على المستويين العالمي والإقليمي، وعلى المستوى القُطري على وجه الخصوص فيما يتعلق بعمليتي التقييم القطري المشترك وإطار عمل الأمم المتحدة للمساعدات الإنمائية، فقد تم التوصل إلى تفاهم مشترك حول هذا النهج خلال ورشة عمل مشتركة بين الوكالات لمجموعة الأمم المتحدة الإنمائية، عقدت في ستامفورد (الولايات المتحدة الأمريكية) في مايو / أيار عام </a:t>
            </a:r>
            <a:r>
              <a:rPr b="0" lang="ar-JO" sz="1200" spc="-1" strike="noStrike">
                <a:solidFill>
                  <a:srgbClr val="000000"/>
                </a:solidFill>
                <a:latin typeface="Arial"/>
                <a:ea typeface="Arial"/>
              </a:rPr>
              <a:t>2003</a:t>
            </a:r>
            <a:r>
              <a:rPr b="0" lang="ar-JO" sz="1200" spc="-1" strike="noStrike">
                <a:solidFill>
                  <a:srgbClr val="000000"/>
                </a:solidFill>
                <a:latin typeface="Arial"/>
                <a:ea typeface="Arial"/>
              </a:rPr>
              <a:t>. وتبعاً لذلك، فقد صادقت مجموعة الأمم المتحدة الإنمائية على </a:t>
            </a:r>
            <a:r>
              <a:rPr b="1" i="1" lang="ar-JO" sz="1200" spc="-1" strike="noStrike">
                <a:solidFill>
                  <a:srgbClr val="000000"/>
                </a:solidFill>
                <a:latin typeface="Arial"/>
                <a:cs typeface="Arial"/>
              </a:rPr>
              <a:t>بيان الأمم المتحدة حول التفاهم المشترك</a:t>
            </a:r>
            <a:r>
              <a:rPr b="0" i="1" lang="ar-JO" sz="1200" spc="-1" strike="noStrike">
                <a:solidFill>
                  <a:srgbClr val="000000"/>
                </a:solidFill>
                <a:latin typeface="Arial"/>
                <a:cs typeface="Arial"/>
              </a:rPr>
              <a:t>، وتم إدراجه ضمن المبادئ التوجيهية للتقييم القطري المشترك / إطار عمل الأمم المتحدة للمساعدات الإنمائية.</a:t>
            </a:r>
            <a:r>
              <a:rPr b="0" lang="ar-JO" sz="1200" spc="-1" strike="noStrike">
                <a:solidFill>
                  <a:srgbClr val="000000"/>
                </a:solidFill>
                <a:latin typeface="Arial"/>
                <a:ea typeface="Arial"/>
              </a:rPr>
              <a:t> (للمزيد من المعلومات حول بيان الأمم المتحدة للفهم أو للتفاهم المشترك، انظر الفصل </a:t>
            </a:r>
            <a:r>
              <a:rPr b="0" lang="ar-JO" sz="1200" spc="-1" strike="noStrike">
                <a:solidFill>
                  <a:srgbClr val="000000"/>
                </a:solidFill>
                <a:latin typeface="Arial"/>
                <a:ea typeface="Arial"/>
              </a:rPr>
              <a:t>3</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2004-2007</a:t>
            </a:r>
            <a:r>
              <a:rPr b="1" lang="ar-JO" sz="1200" spc="-1" strike="noStrike">
                <a:solidFill>
                  <a:srgbClr val="000000"/>
                </a:solidFill>
                <a:latin typeface="Arial"/>
                <a:ea typeface="Arial"/>
              </a:rPr>
              <a:t>: الإجراء الثاني - برنامج عالمي حول تقوية دعم الأمم المتحدة لتعزيز وحماية حقوق الإنسان على نطاق العال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هدف برنامج "الإجراء الثاني" إلى تقوية / تعزيز حقوق الإنسان في جميع مكوِّنات منظومة الأمم المتحدة. وهو عبارة عن برنامج عالمي مصمّم لتقوية قدرات الفرق القطرية للأمم المتحدة بهدف دعم جهود الدول الأعضاء، حسب طلبها، في تقوية أنظمة حماية وتعزيز حقوق الإنسان الوطنية لديها، أثناء تحقيقها للأهداف الإنمائية للألفية. ويضمن برنامج الإجراء الثاني أن تكون الأمم المتحدة مستعدة للاستجابة لتلك التحديات والردّ عليها، وذلك بتعزيز قدرة فرقها القُطرية وتجهيزها بالأدوات العملية، والتدريب، والمشورة، والتشارك في المعرفة، وتقديم بذرة رأس المال لبناء القدرات وتنفيذ البرامج الريادية التجري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ستوى تبنِّي مكاتب الأمم المتحدة القُطرية للنهج القائم على حقوق الإنس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ملت إحدى الدراسات التي قُدِّمت في ورشة عمل ستامفورد، (والتي قامت بمراجعة </a:t>
            </a:r>
            <a:r>
              <a:rPr b="0" lang="ar-JO" sz="1200" spc="-1" strike="noStrike">
                <a:solidFill>
                  <a:srgbClr val="000000"/>
                </a:solidFill>
                <a:latin typeface="Arial"/>
                <a:ea typeface="Arial"/>
              </a:rPr>
              <a:t>18</a:t>
            </a:r>
            <a:r>
              <a:rPr b="0" lang="ar-JO" sz="1200" spc="-1" strike="noStrike">
                <a:solidFill>
                  <a:srgbClr val="000000"/>
                </a:solidFill>
                <a:latin typeface="Arial"/>
                <a:ea typeface="Arial"/>
              </a:rPr>
              <a:t> تقييماً قطرياً مشتركاً ضمن إطار عمل الأمم المتحدة للمساعدات الإنمائية، وتقريراً سنوياً للمنسِّقين المقيمين، بهدف تحديد كيفية تطبيق مكاتب الأمم المتحدة القطرية للنهج القائم على حقوق الإنسان وإلى أي مدى يتم ذلك التطبيق) ... عملت على تقديم بعض الأفكار المعمَّقة المفيدة. واستنتجت الدراسة أن معظم مكاتب الأمم المتحدة القطرية تُدمج بشكل متزايد جوانب من النهج القائم على حقوق الإنسان في التقييم القطري المشترك وإطار عمل الأمم المتحدة للمساعدات الإنمائية لديها. وقد احتوت معظم التقييمات القطرية المشتركة / أطر عمل الأمم المتحدة للمساعدات الإنمائية التي تم استعراضها على إشارات مرجعية مباشرة إلى معاهدات حقوق الإنسان الدولية، واتفاقيات حقوق الإنسان الإقليمية، والغايات الإنمائية الدولية، وإلى الأهداف الإنمائية للألفية منذ عهد قريب. غير أنه وفي حالات قليلة جداً، احتوت تلك التقييمات على إشارات مرجعية إلى استنتاجات وتعليقات وتوصيات كل من هيئات معاهدات حقوق الإنسان، التابعة للأمم المتحدة، والمقررين الخاصين ومجموعات أو فرق العمل. وقد تم النظر إلى ذلك بوصفه إغفالاً مهماً وفرصةً حاسمة ضائعة لإدماج مبادئ وتدابير حقوق الإنسان في التخطيط التنموي وطريقة الإشراف علي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1160" y="696960"/>
            <a:ext cx="4648320" cy="3486240"/>
          </a:xfrm>
          <a:prstGeom prst="rect">
            <a:avLst/>
          </a:prstGeom>
          <a:ln w="0">
            <a:noFill/>
          </a:ln>
        </p:spPr>
      </p:sp>
      <p:sp>
        <p:nvSpPr>
          <p:cNvPr id="59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ع حقوق الإنسان في صُلب الأساس الذي تقوم عليه منظومة الأمم المتحدة، وتشكِّل إحدى دعاماتها.</a:t>
            </a:r>
            <a:r>
              <a:rPr b="0" lang="ar-JO" sz="1200" spc="-1" strike="noStrike" u="sng">
                <a:solidFill>
                  <a:srgbClr val="000000"/>
                </a:solidFill>
                <a:uFillTx/>
                <a:latin typeface="Arial"/>
                <a:ea typeface="Arial"/>
              </a:rPr>
              <a:t> </a:t>
            </a:r>
            <a:r>
              <a:rPr b="1" lang="ar-JO" sz="1200" spc="-1" strike="noStrike" u="sng">
                <a:solidFill>
                  <a:srgbClr val="000000"/>
                </a:solidFill>
                <a:uFillTx/>
                <a:latin typeface="Arial"/>
                <a:cs typeface="Arial"/>
              </a:rPr>
              <a:t>ولمنظومة الأمم المتحدة التزام بتعزيز</a:t>
            </a:r>
            <a:r>
              <a:rPr b="0" lang="ar-JO" sz="1200" spc="-1" strike="noStrike">
                <a:solidFill>
                  <a:srgbClr val="000000"/>
                </a:solidFill>
                <a:latin typeface="Arial"/>
                <a:ea typeface="Arial"/>
              </a:rPr>
              <a:t> تطبيق حقوق الإنسان على المستوى الوط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بيئة السياسية للأمم المتحدة </a:t>
            </a:r>
            <a:r>
              <a:rPr b="1" lang="ar-JO" sz="1200" spc="-1" strike="noStrike" u="sng">
                <a:solidFill>
                  <a:srgbClr val="000000"/>
                </a:solidFill>
                <a:uFillTx/>
                <a:latin typeface="Arial"/>
                <a:cs typeface="Arial"/>
              </a:rPr>
              <a:t>تمنعنا من أن نصبح مبادِري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ن الروابط الجوهرية / الموضوعية غير قابلة للجدل</a:t>
            </a:r>
            <a:r>
              <a:rPr b="0" lang="ar-JO" sz="1200" spc="-1" strike="noStrike">
                <a:solidFill>
                  <a:srgbClr val="000000"/>
                </a:solidFill>
                <a:latin typeface="Arial"/>
                <a:cs typeface="Arial"/>
              </a:rPr>
              <a:t>، سواء أكان ذلك نظرياً أم عملياً. وبالرغم من ذلك، فإننا ما زلنا بحاجة إلى مواد أكثر دقة واستناداً إلى الأد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قدم الرد المؤسسي </a:t>
            </a:r>
            <a:r>
              <a:rPr b="1" lang="ar-JO" sz="1200" spc="-1" strike="noStrike" u="sng">
                <a:solidFill>
                  <a:srgbClr val="000000"/>
                </a:solidFill>
                <a:uFillTx/>
                <a:latin typeface="Arial"/>
                <a:cs typeface="Arial"/>
              </a:rPr>
              <a:t>أوامر مسير واضحة</a:t>
            </a:r>
            <a:r>
              <a:rPr b="1"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2600" y="695160"/>
            <a:ext cx="4653000" cy="3489480"/>
          </a:xfrm>
          <a:prstGeom prst="rect">
            <a:avLst/>
          </a:prstGeom>
          <a:ln w="0">
            <a:noFill/>
          </a:ln>
        </p:spPr>
      </p:sp>
      <p:sp>
        <p:nvSpPr>
          <p:cNvPr id="601" name="PlaceHolder 2"/>
          <p:cNvSpPr>
            <a:spLocks noGrp="1"/>
          </p:cNvSpPr>
          <p:nvPr>
            <p:ph type="body"/>
          </p:nvPr>
        </p:nvSpPr>
        <p:spPr>
          <a:xfrm>
            <a:off x="700200" y="4443480"/>
            <a:ext cx="5610240" cy="418608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رح هذه الجلس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فاهيم حقوق الإنسان والالتزامات الخاصة ب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نظمة حقوق الإنسان الدولية والإقليمية والوطنية وروابط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هي بالإضافة إلى ذلك تصف آليات العمل الدولية المعنية بحقوق الإنسان (هيئات المعاهدات والإجراءات الخاصة لمجلس حقوق الإنسان)، وتشرح كيفية أدائها لعملها. كذلك فهي تؤكد القيمة المضافة لعمل مكاتب الأمم المتحدة القطرية، وتشتمل على بضع ممارسات فضلى.</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2600" y="695160"/>
            <a:ext cx="4653000" cy="3489480"/>
          </a:xfrm>
          <a:prstGeom prst="rect">
            <a:avLst/>
          </a:prstGeom>
          <a:ln w="0">
            <a:noFill/>
          </a:ln>
        </p:spPr>
      </p:sp>
      <p:sp>
        <p:nvSpPr>
          <p:cNvPr id="603" name="PlaceHolder 2"/>
          <p:cNvSpPr>
            <a:spLocks noGrp="1"/>
          </p:cNvSpPr>
          <p:nvPr>
            <p:ph type="body"/>
          </p:nvPr>
        </p:nvSpPr>
        <p:spPr>
          <a:xfrm>
            <a:off x="474840" y="4416480"/>
            <a:ext cx="6060960" cy="475128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عليم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عرض عنوان الشريحة واطلب من المشاركين مناقشة ماهية حقوق الإنسان على كل طاولة، وكتابة ما يتوصلون إليه في جملة واحدة، على بطاقة التصور الذهني للبرامج التشارك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راجع الإجابات ورتبها في مجموعات تحت أيٍّ من النقاط الست المعروضة على الشريحة. بعد ذلك اعرض الشريحة واشرح كل نقطة بالرجوع إلى الإجابات التي زوَّدك بها المشاركو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a:t>
            </a:r>
            <a:r>
              <a:rPr b="0" lang="ar-JO" sz="1200" spc="-1" strike="noStrike">
                <a:solidFill>
                  <a:srgbClr val="000000"/>
                </a:solidFill>
                <a:latin typeface="Arial"/>
                <a:cs typeface="Arial"/>
              </a:rPr>
              <a:t>سيساعد هذا الأسلوب المنهجي المشاركين على تطوير ملكية أكبر حول هذا المفهوم وإضفاء الصبغة الذاتية عليه. وسيساعد المدرّب على قياس مستوى المعرفة لدى المشاركين قبل الانتقال إلى جزء ذي طابع نظري أكبر من الشرائح.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حقوق الإنسان هي </a:t>
            </a:r>
            <a:r>
              <a:rPr b="1" lang="ar-JO" sz="1200" spc="-1" strike="noStrike">
                <a:solidFill>
                  <a:srgbClr val="000000"/>
                </a:solidFill>
                <a:latin typeface="Arial"/>
                <a:cs typeface="Arial"/>
              </a:rPr>
              <a:t>ضمانات قانونية عامة/عالمية</a:t>
            </a:r>
            <a:r>
              <a:rPr b="0" lang="ar-JO" sz="1200" spc="-1" strike="noStrike">
                <a:solidFill>
                  <a:srgbClr val="000000"/>
                </a:solidFill>
                <a:latin typeface="Arial"/>
                <a:ea typeface="Arial"/>
              </a:rPr>
              <a:t> تحمي الأفراد والمجموعات من الأعمال والإغفالات التي تتدخل في الحريات الأساسية والاستحقاقات وكرامة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جميع حقوق الإنسان </a:t>
            </a:r>
            <a:r>
              <a:rPr b="1" lang="ar-JO" sz="1200" spc="-1" strike="noStrike">
                <a:solidFill>
                  <a:srgbClr val="000000"/>
                </a:solidFill>
                <a:latin typeface="Arial"/>
                <a:cs typeface="Arial"/>
              </a:rPr>
              <a:t>غير قابلة للتجزئة والانفصال عن بعضها بعضاً، </a:t>
            </a:r>
            <a:r>
              <a:rPr b="0" lang="ar-JO" sz="1200" spc="-1" strike="noStrike">
                <a:solidFill>
                  <a:srgbClr val="000000"/>
                </a:solidFill>
                <a:latin typeface="Arial"/>
                <a:cs typeface="Arial"/>
              </a:rPr>
              <a:t>وذلك يعني أنها </a:t>
            </a:r>
            <a:r>
              <a:rPr b="1" lang="ar-JO" sz="1200" spc="-1" strike="noStrike">
                <a:solidFill>
                  <a:srgbClr val="000000"/>
                </a:solidFill>
                <a:latin typeface="Arial"/>
                <a:cs typeface="Arial"/>
              </a:rPr>
              <a:t>سواء أكانت حقوقاً ذات طبيعة مدنية أم ثقافية أم اقتصادية أم سياسية أم اجتماعية،</a:t>
            </a:r>
            <a:r>
              <a:rPr b="0" lang="ar-JO" sz="1200" spc="-1" strike="noStrike">
                <a:solidFill>
                  <a:srgbClr val="000000"/>
                </a:solidFill>
                <a:latin typeface="Arial"/>
                <a:ea typeface="Arial"/>
              </a:rPr>
              <a:t> فإنها </a:t>
            </a:r>
            <a:r>
              <a:rPr b="1" lang="ar-JO" sz="1200" spc="-1" strike="noStrike">
                <a:solidFill>
                  <a:srgbClr val="000000"/>
                </a:solidFill>
                <a:latin typeface="Arial"/>
                <a:cs typeface="Arial"/>
              </a:rPr>
              <a:t>جمعيها</a:t>
            </a:r>
            <a:r>
              <a:rPr b="0" lang="ar-JO" sz="1200" spc="-1" strike="noStrike">
                <a:solidFill>
                  <a:srgbClr val="000000"/>
                </a:solidFill>
                <a:latin typeface="Arial"/>
                <a:ea typeface="Arial"/>
              </a:rPr>
              <a:t> ملازمة للكرامة الإنسانية لكل كائن بشري. وتبعاً لذلك، فإن جميع الحقوق لها مكانة متساوية، ولا يمكن تصنيفها أو ترتيبها وفقاً لتصنيف معين. كذلك فإن حقوق الإنسان </a:t>
            </a:r>
            <a:r>
              <a:rPr b="1" lang="ar-JO" sz="1200" spc="-1" strike="noStrike">
                <a:solidFill>
                  <a:srgbClr val="000000"/>
                </a:solidFill>
                <a:latin typeface="Arial"/>
                <a:cs typeface="Arial"/>
              </a:rPr>
              <a:t>مترابطة ومتشابكة، </a:t>
            </a:r>
            <a:r>
              <a:rPr b="0" lang="ar-JO" sz="1200" spc="-1" strike="noStrike">
                <a:solidFill>
                  <a:srgbClr val="000000"/>
                </a:solidFill>
                <a:latin typeface="Arial"/>
                <a:cs typeface="Arial"/>
              </a:rPr>
              <a:t>مما يعني أن إحقاق حق واحد منها يعتمد، كلياً أو جزئياً، على إحقاق الحقوق الأخر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حقوق الإنسان </a:t>
            </a:r>
            <a:r>
              <a:rPr b="1" lang="ar-JO" sz="1200" spc="-1" strike="noStrike">
                <a:solidFill>
                  <a:srgbClr val="000000"/>
                </a:solidFill>
                <a:latin typeface="Arial"/>
                <a:cs typeface="Arial"/>
              </a:rPr>
              <a:t>تحمي الأفراد </a:t>
            </a:r>
            <a:r>
              <a:rPr b="0" lang="ar-JO" sz="1200" spc="-1" strike="noStrike">
                <a:solidFill>
                  <a:srgbClr val="000000"/>
                </a:solidFill>
                <a:latin typeface="Arial"/>
                <a:ea typeface="Arial"/>
              </a:rPr>
              <a:t>– وإلى حد ما – تحمي الجماعات. ويمكن ضمان حقوق معينة فقط من خلال إدراك وحماية حقوق الأفراد بصفتهم أعضاء من المجموعة. ويشير مصطلح "الحقوق الجماعية" إلى حقوق هؤلاء الشعوب والمجموعات، بما فيها الأقليات الإثنية والدينية والسكان الأصليو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إن المعاهدات، بما فيها معاهدات حقوق الإنسان الدولية الأساسية السبع، وهي: العهد الدولي للحقوق المدنية والسياسية، والعهد الدولي للحقوق الاقتصادية والاجتماعية والثقافية، واتفاقية القضاء على جميع أشكال التمييز العنصري، واتفاقية القضاء على جميع أشكال التمييز ضد المرأة، واتفاقية مناهضة التعذيب وغيره من ضروب المعاملة أو العقوبة القاسية أو اللاإنسانية أو المهينة، واتفاقية حقوق الطفل، والاتفاقية الدولية لحماية حقوق جميع العمال وأفراد أسرهم – تقدم</a:t>
            </a:r>
            <a:r>
              <a:rPr b="1" lang="ar-JO" sz="1200" spc="-1" strike="noStrike">
                <a:solidFill>
                  <a:srgbClr val="000000"/>
                </a:solidFill>
                <a:latin typeface="Arial"/>
                <a:ea typeface="Arial"/>
              </a:rPr>
              <a:t> الإطار المعياري لمعايير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عاهدات حقوق الإنسان </a:t>
            </a:r>
            <a:r>
              <a:rPr b="1" lang="ar-JO" sz="1200" spc="-1" strike="noStrike">
                <a:solidFill>
                  <a:srgbClr val="000000"/>
                </a:solidFill>
                <a:latin typeface="Arial"/>
                <a:cs typeface="Arial"/>
              </a:rPr>
              <a:t>ملزمة قانونياً للدول الأطراف،</a:t>
            </a:r>
            <a:r>
              <a:rPr b="0" lang="ar-JO" sz="1200" spc="-1" strike="noStrike">
                <a:solidFill>
                  <a:srgbClr val="000000"/>
                </a:solidFill>
                <a:latin typeface="Arial"/>
                <a:ea typeface="Arial"/>
              </a:rPr>
              <a:t> التي يتوجب عليها إبلاغ هيئة المعاهدة المُراقِبة ذات العلاقة، عن التقدم الذي يتم إحرازه في التنفيذ/التطبيق.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شكل عام، فإن ا</a:t>
            </a:r>
            <a:r>
              <a:rPr b="1" lang="ar-JO" sz="1200" spc="-1" strike="noStrike">
                <a:solidFill>
                  <a:srgbClr val="000000"/>
                </a:solidFill>
                <a:latin typeface="Arial"/>
                <a:cs typeface="Arial"/>
              </a:rPr>
              <a:t>لدولة هي التي تحمل الالتزام الأساسي</a:t>
            </a:r>
            <a:r>
              <a:rPr b="0" lang="ar-JO" sz="1200" spc="-1" strike="noStrike">
                <a:solidFill>
                  <a:srgbClr val="000000"/>
                </a:solidFill>
                <a:latin typeface="Arial"/>
                <a:ea typeface="Arial"/>
              </a:rPr>
              <a:t> باحترام وتأكيد وجود ضمانات حقوق الإنسان </a:t>
            </a:r>
            <a:r>
              <a:rPr b="1" lang="ar-JO" sz="1200" spc="-1" strike="noStrike">
                <a:solidFill>
                  <a:srgbClr val="000000"/>
                </a:solidFill>
                <a:latin typeface="Arial"/>
                <a:cs typeface="Arial"/>
              </a:rPr>
              <a:t>بمقتضى القانون الدولي.</a:t>
            </a:r>
            <a:r>
              <a:rPr b="0" lang="ar-JO" sz="1200" spc="-1" strike="noStrike">
                <a:solidFill>
                  <a:srgbClr val="000000"/>
                </a:solidFill>
                <a:latin typeface="Arial"/>
                <a:ea typeface="Arial"/>
              </a:rPr>
              <a:t> بَيْدَ أن الإدراك المطّرد بأن الجهات الفاعلة غير الحكومية، بما فيها الشركات الكبرى والمنظمات الدولية، قد تتحمل بطريقة مماثلة، مسؤولية بدرجات متفاوتة بمقتضى أدوات / صكوك حقوق الإنسان الدو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a:t>
            </a:r>
            <a:r>
              <a:rPr b="0" lang="ar-JO" sz="1200" spc="-1" strike="noStrike">
                <a:solidFill>
                  <a:srgbClr val="000000"/>
                </a:solidFill>
                <a:latin typeface="Arial"/>
                <a:ea typeface="Arial"/>
              </a:rPr>
              <a:t>: سيتم التطرق إلى مفهوم أصحاب الحقوق والقائمين بالواجبات ضمن سياق البرمجة بشكل أكثر تفصيلاً في الجلسة الرابعة. وفي هذه الجلسة، فإننا نركّز على العلاقة بين الأفراد والدولة بمقتضى القانون الدولي.</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2600" y="695160"/>
            <a:ext cx="4653000" cy="3489480"/>
          </a:xfrm>
          <a:prstGeom prst="rect">
            <a:avLst/>
          </a:prstGeom>
          <a:ln w="0">
            <a:noFill/>
          </a:ln>
        </p:spPr>
      </p:sp>
      <p:sp>
        <p:nvSpPr>
          <p:cNvPr id="605" name="PlaceHolder 2"/>
          <p:cNvSpPr>
            <a:spLocks noGrp="1"/>
          </p:cNvSpPr>
          <p:nvPr>
            <p:ph type="body"/>
          </p:nvPr>
        </p:nvSpPr>
        <p:spPr>
          <a:xfrm>
            <a:off x="398160" y="4416480"/>
            <a:ext cx="6289560" cy="45482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واصلةً للفكرة المعروضة في الشريحة السابقة، والتي تنص على أن الدولة هي الجهة الأساسية القائمة بالواجبات بمقتضى القانون الدولي، فإننا نشرح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دول الأطراف لديها التزامات محددة باحترام وحماية وإحقاق الحقوق التي تقرها المعاهدة، وبالقيام بالأعمال الضرورية لتنفيذها. وتستلزم جميع الحقوق، بدرجات مختلفة، فرض التزامات </a:t>
            </a:r>
            <a:r>
              <a:rPr b="1" i="1" lang="ar-JO" sz="1200" spc="-1" strike="noStrike">
                <a:solidFill>
                  <a:srgbClr val="000000"/>
                </a:solidFill>
                <a:latin typeface="Arial"/>
                <a:cs typeface="Arial"/>
              </a:rPr>
              <a:t>آنيةً في نوعها</a:t>
            </a:r>
            <a:r>
              <a:rPr b="1" lang="ar-JO" sz="1200" spc="-1" strike="noStrike">
                <a:solidFill>
                  <a:srgbClr val="000000"/>
                </a:solidFill>
                <a:latin typeface="Arial"/>
                <a:cs typeface="Arial"/>
              </a:rPr>
              <a:t>، كالالتزام مثلاً بعدم التمييز في إحقاق الحق محلَّ النقاش. وفي حالات الحقوق الاقتصادية والاجتماعية والثقافية، على وجه الخصوص، قد تكون الالتزامات </a:t>
            </a:r>
            <a:r>
              <a:rPr b="1" i="1" lang="ar-JO" sz="1200" spc="-1" strike="noStrike">
                <a:solidFill>
                  <a:srgbClr val="000000"/>
                </a:solidFill>
                <a:latin typeface="Arial"/>
                <a:cs typeface="Arial"/>
              </a:rPr>
              <a:t>تدريجية</a:t>
            </a:r>
            <a:r>
              <a:rPr b="1" lang="ar-JO" sz="1200" spc="-1" strike="noStrike">
                <a:solidFill>
                  <a:srgbClr val="000000"/>
                </a:solidFill>
                <a:latin typeface="Arial"/>
                <a:ea typeface="Arial"/>
              </a:rPr>
              <a:t> في نوعها أيضاً، حيث يخضع الحق لقيود تتعلق بالموارد.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الالتزام </a:t>
            </a:r>
            <a:r>
              <a:rPr b="1" i="1" lang="ar-JO" sz="1200" spc="-1" strike="noStrike">
                <a:solidFill>
                  <a:srgbClr val="000000"/>
                </a:solidFill>
                <a:latin typeface="Arial"/>
                <a:cs typeface="Arial"/>
              </a:rPr>
              <a:t>باحترام</a:t>
            </a:r>
            <a:r>
              <a:rPr b="1" lang="ar-JO" sz="1200" spc="-1" strike="noStrike">
                <a:solidFill>
                  <a:srgbClr val="000000"/>
                </a:solidFill>
                <a:latin typeface="Arial"/>
                <a:ea typeface="Arial"/>
              </a:rPr>
              <a:t> الحقوق الإنسانية لجميع الناس ضمن الاختصاص القضائي للدولة، يعني </a:t>
            </a:r>
            <a:r>
              <a:rPr b="1" lang="ar-JO" sz="1200" spc="-1" strike="noStrike" u="sng">
                <a:solidFill>
                  <a:srgbClr val="000000"/>
                </a:solidFill>
                <a:uFillTx/>
                <a:latin typeface="Arial"/>
                <a:cs typeface="Arial"/>
              </a:rPr>
              <a:t>الامتناع عن ممارسة أي سلوك أو نشاط</a:t>
            </a:r>
            <a:r>
              <a:rPr b="1" lang="ar-JO" sz="1200" spc="-1" strike="noStrike">
                <a:solidFill>
                  <a:srgbClr val="000000"/>
                </a:solidFill>
                <a:latin typeface="Arial"/>
                <a:ea typeface="Arial"/>
              </a:rPr>
              <a:t> ينتهك حقوق الإنسان. ويتطلب هذا الالتزام من الدول ضمان احترام حقوق الإنسان بشكل تام في سياسات الدولة وقوانينها وأعمالها، بما في ذلك احترام حقوق الإنسان للموظفين العامي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إن الالتزام </a:t>
            </a:r>
            <a:r>
              <a:rPr b="1" i="1" lang="ar-JO" sz="1200" spc="-1" strike="noStrike">
                <a:solidFill>
                  <a:srgbClr val="000000"/>
                </a:solidFill>
                <a:latin typeface="Arial"/>
                <a:cs typeface="Arial"/>
              </a:rPr>
              <a:t>بحماية</a:t>
            </a:r>
            <a:r>
              <a:rPr b="1" lang="ar-JO" sz="1200" spc="-1" strike="noStrike">
                <a:solidFill>
                  <a:srgbClr val="000000"/>
                </a:solidFill>
                <a:latin typeface="Arial"/>
                <a:ea typeface="Arial"/>
              </a:rPr>
              <a:t> الحقوق الإنسانية لجميع الناس من دون </a:t>
            </a:r>
            <a:r>
              <a:rPr b="1" lang="ar-JO" sz="1200" spc="-1" strike="noStrike" u="sng">
                <a:solidFill>
                  <a:srgbClr val="000000"/>
                </a:solidFill>
                <a:uFillTx/>
                <a:latin typeface="Arial"/>
                <a:cs typeface="Arial"/>
              </a:rPr>
              <a:t>تمييز في الانتهاكات التي تقترفها الجهات الفاعلة الحكومية وغير الحكومية، </a:t>
            </a:r>
            <a:r>
              <a:rPr b="1" lang="ar-JO" sz="1200" spc="-1" strike="noStrike">
                <a:solidFill>
                  <a:srgbClr val="000000"/>
                </a:solidFill>
                <a:latin typeface="Arial"/>
                <a:cs typeface="Arial"/>
              </a:rPr>
              <a:t>بمن فيها الأفراد والجماعات والمؤسسات والشركات الكبرى، يتطلب من الدول ضمان أن يتمتع الجميع بحقوقهم الإنسانية ضمن اختصاصها وسلطاتها القضائية، وذلك عن طريق حماية حقوقهم الإنسانية من أعمال الأفراد والجماعات، بمن فيهم الشركات الكبرى والمؤسسات والهيئات العامة والخاصة. ويتم تحقيق هذه الحماية، بشكل أساسي، من خلال سنِّ القوانين ووضع تدابير لردِّ الحقوق إلى نصابها، ومن خلال آليات العمل الوطنية لمراقبة انتهاكات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a:t>
            </a:r>
            <a:r>
              <a:rPr b="1" i="1" lang="ar-JO" sz="1200" spc="-1" strike="noStrike">
                <a:solidFill>
                  <a:srgbClr val="000000"/>
                </a:solidFill>
                <a:latin typeface="Arial"/>
                <a:cs typeface="Arial"/>
              </a:rPr>
              <a:t>بإحقاق</a:t>
            </a:r>
            <a:r>
              <a:rPr b="1" lang="ar-JO" sz="1200" spc="-1" strike="noStrike">
                <a:solidFill>
                  <a:srgbClr val="000000"/>
                </a:solidFill>
                <a:latin typeface="Arial"/>
                <a:ea typeface="Arial"/>
              </a:rPr>
              <a:t> (أو بضمان) حقوق الإنسان عن طريق خلق </a:t>
            </a:r>
            <a:r>
              <a:rPr b="1" lang="ar-JO" sz="1200" spc="-1" strike="noStrike" u="sng">
                <a:solidFill>
                  <a:srgbClr val="000000"/>
                </a:solidFill>
                <a:uFillTx/>
                <a:latin typeface="Arial"/>
                <a:cs typeface="Arial"/>
              </a:rPr>
              <a:t>بيئة تمكينية</a:t>
            </a:r>
            <a:r>
              <a:rPr b="1" lang="ar-JO" sz="1200" spc="-1" strike="noStrike">
                <a:solidFill>
                  <a:srgbClr val="000000"/>
                </a:solidFill>
                <a:latin typeface="Arial"/>
                <a:ea typeface="Arial"/>
              </a:rPr>
              <a:t> من خلال جميع الوسائل الملائمة، ولا سيّما من خلال تخصيص وتوزيع الموارد. ويتطلب هذا الالتزام من الدول وضع تدابير لضمان إحقاق حقوق الإنسان، مثل التدابير التشريعية أو الإدارية أو غيرها وذلك لجعل الحقوق المُحددة في المعاهدة ذات جدوى. إن العهد الدولي للحقوق الاقتصادية والاجتماعية والثقافية واتفاقية حقوق الطفل كلاهما ينصَّان على أن الدولة يجب "أن تتخذ الخطوات، وفق أقصى ما يتوافر لديها من الموارد، صوب الإنجاز التدريجي للإحقاق الكامل لحقوق الأطفال". وبناء على ذلك، يجب على الدولة اتخاذ خطوات، مثل وضع الأهداف والغايات والأطر الزمنية لخططها الوطنية لإحقاق الحقوق، الأمر الذي قد يشتمل أيضاً على السعي إلى الحصول على مساعدات إنمائية دولية. ويشتمل الالتزام بإحقاق الحقوق على تعزيز احترام حقوق الإنسان والحريات الأساسية من خلال التثقيف </a:t>
            </a:r>
            <a:r>
              <a:rPr b="1" lang="ar-JO" sz="1200" spc="-1" strike="noStrike" u="sng">
                <a:solidFill>
                  <a:srgbClr val="000000"/>
                </a:solidFill>
                <a:uFillTx/>
                <a:latin typeface="Arial"/>
                <a:cs typeface="Arial"/>
              </a:rPr>
              <a:t>بحقوق الإنسان والتدريب عليها</a:t>
            </a:r>
            <a:r>
              <a:rPr b="1" lang="ar-JO" sz="1200" spc="-1" strike="noStrike">
                <a:solidFill>
                  <a:srgbClr val="000000"/>
                </a:solidFill>
                <a:latin typeface="Arial"/>
                <a:ea typeface="Arial"/>
              </a:rPr>
              <a:t> مثلاً، وضمان أن تكون معايير ومبادئ حقوق الإنسان، التي أقرتها معاهدات حقوق الإنسان معروفة على نطاق واسع، إضافة إلى ضمان جميع التدابير الضرورية لمنع وقوع انتهاكات ل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2600" y="695160"/>
            <a:ext cx="4653000" cy="3489480"/>
          </a:xfrm>
          <a:prstGeom prst="rect">
            <a:avLst/>
          </a:prstGeom>
          <a:ln w="0">
            <a:noFill/>
          </a:ln>
        </p:spPr>
      </p:sp>
      <p:sp>
        <p:nvSpPr>
          <p:cNvPr id="607" name="PlaceHolder 2"/>
          <p:cNvSpPr>
            <a:spLocks noGrp="1"/>
          </p:cNvSpPr>
          <p:nvPr>
            <p:ph type="body"/>
          </p:nvPr>
        </p:nvSpPr>
        <p:spPr>
          <a:xfrm>
            <a:off x="700200" y="4376880"/>
            <a:ext cx="5610240" cy="418608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رسائل الأساسية التي يحاول الرسم البياني إيصالها هي أن أنظمة الحماية (الدولية والإقليمية والوطنية) يجب أن ينظر إليها بوصفها جسم كلي يتكوّن من آليات العمل القانونية الواجب استخدامها لأغراض احترام وحماية وإحقاق 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مقدّم العرض: اعرض الشرائح خطوة فخطوة (تدريجياً) لتوضيح كل عنصر فيها والرابط بينه وبين بقية العناصر حال ظهور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أولى: ميثاقُ الأمم المتحدة </a:t>
            </a:r>
            <a:r>
              <a:rPr b="0" lang="ar-JO" sz="1200" spc="-1" strike="noStrike">
                <a:solidFill>
                  <a:srgbClr val="000000"/>
                </a:solidFill>
                <a:latin typeface="Arial"/>
                <a:ea typeface="Arial"/>
              </a:rPr>
              <a:t>(سان فرانسيسكو </a:t>
            </a:r>
            <a:r>
              <a:rPr b="0" lang="ar-JO" sz="1200" spc="-1" strike="noStrike">
                <a:solidFill>
                  <a:srgbClr val="000000"/>
                </a:solidFill>
                <a:latin typeface="Arial"/>
                <a:ea typeface="Arial"/>
              </a:rPr>
              <a:t>1945</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والإعلان العالمي لحقوق الإنسان</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1948</a:t>
            </a:r>
            <a:r>
              <a:rPr b="0" lang="ar-JO" sz="1200" spc="-1" strike="noStrike">
                <a:solidFill>
                  <a:srgbClr val="000000"/>
                </a:solidFill>
                <a:latin typeface="Arial"/>
                <a:ea typeface="Arial"/>
              </a:rPr>
              <a:t>) هما الأساس الذي بُني عليه الجسم الأساسي للإطار المعياري الدولي لحقوق الإنسان. كذلك فهما مصدر الإلهام لما تلاهما من </a:t>
            </a:r>
            <a:r>
              <a:rPr b="1" lang="ar-JO" sz="1200" spc="-1" strike="noStrike">
                <a:solidFill>
                  <a:srgbClr val="000000"/>
                </a:solidFill>
                <a:latin typeface="Arial"/>
                <a:cs typeface="Arial"/>
              </a:rPr>
              <a:t>أنظمة حقوق الإنسان الإقليمية</a:t>
            </a:r>
            <a:r>
              <a:rPr b="0" lang="ar-JO" sz="1200" spc="-1" strike="noStrike">
                <a:solidFill>
                  <a:srgbClr val="000000"/>
                </a:solidFill>
                <a:latin typeface="Arial"/>
                <a:ea typeface="Arial"/>
              </a:rPr>
              <a:t> والقوانين الوطنية. ويعتبر </a:t>
            </a:r>
            <a:r>
              <a:rPr b="1" lang="ar-JO" sz="1200" spc="-1" strike="noStrike">
                <a:solidFill>
                  <a:srgbClr val="000000"/>
                </a:solidFill>
                <a:latin typeface="Arial"/>
                <a:cs typeface="Arial"/>
              </a:rPr>
              <a:t>مجلس حقوق الإنسان العضو الرئيس في الأمم </a:t>
            </a:r>
            <a:r>
              <a:rPr b="0" lang="ar-JO" sz="1200" spc="-1" strike="noStrike">
                <a:solidFill>
                  <a:srgbClr val="000000"/>
                </a:solidFill>
                <a:latin typeface="Arial"/>
                <a:cs typeface="Arial"/>
              </a:rPr>
              <a:t>المتحدة المسؤول عن تعزيز حقوق الإنسان وحمايتها، كذلك فهو الخليفة التي قامت عليها المفوَّضية السابقة لحقوق الإنس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ثانية: </a:t>
            </a:r>
            <a:r>
              <a:rPr b="0" lang="ar-JO" sz="1200" spc="-1" strike="noStrike" u="sng">
                <a:solidFill>
                  <a:srgbClr val="000000"/>
                </a:solidFill>
                <a:uFillTx/>
                <a:latin typeface="Arial"/>
                <a:cs typeface="Arial"/>
              </a:rPr>
              <a:t>معاهدات حقوق الإنسان الدولية الأساسية السبع</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عهد الدولي للحقوق المدنية والسياسية – </a:t>
            </a:r>
            <a:r>
              <a:rPr b="0" lang="ar-JO" sz="1200" spc="-1" strike="noStrike">
                <a:solidFill>
                  <a:srgbClr val="000000"/>
                </a:solidFill>
                <a:latin typeface="Arial"/>
                <a:ea typeface="Arial"/>
              </a:rPr>
              <a:t>1966</a:t>
            </a:r>
            <a:r>
              <a:rPr b="0" lang="ar-JO" sz="1200" spc="-1" strike="noStrike">
                <a:solidFill>
                  <a:srgbClr val="000000"/>
                </a:solidFill>
                <a:latin typeface="Arial"/>
                <a:cs typeface="Arial"/>
              </a:rPr>
              <a:t>، وبروتوكولاه الاختياريان المعنيان بالحقِّ في إجراء الاتصالات الفردية وعقوبة الإعد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عهد الدولي للحقوق الاقتصادية والاجتماعية والثقافية - </a:t>
            </a:r>
            <a:r>
              <a:rPr b="0" lang="ar-JO" sz="1200" spc="-1" strike="noStrike">
                <a:solidFill>
                  <a:srgbClr val="000000"/>
                </a:solidFill>
                <a:latin typeface="Arial"/>
                <a:ea typeface="Arial"/>
              </a:rPr>
              <a:t>1966</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القضاء على جميع أشكال التمييز العنصري - </a:t>
            </a:r>
            <a:r>
              <a:rPr b="0" lang="ar-JO" sz="1200" spc="-1" strike="noStrike">
                <a:solidFill>
                  <a:srgbClr val="000000"/>
                </a:solidFill>
                <a:latin typeface="Arial"/>
                <a:ea typeface="Arial"/>
              </a:rPr>
              <a:t>1966</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القضاء على جميع أشكال التمييز ضد المرأة - </a:t>
            </a:r>
            <a:r>
              <a:rPr b="0" lang="ar-JO" sz="1200" spc="-1" strike="noStrike">
                <a:solidFill>
                  <a:srgbClr val="000000"/>
                </a:solidFill>
                <a:latin typeface="Arial"/>
                <a:ea typeface="Arial"/>
              </a:rPr>
              <a:t>1979</a:t>
            </a:r>
            <a:r>
              <a:rPr b="0" lang="ar-JO" sz="1200" spc="-1" strike="noStrike">
                <a:solidFill>
                  <a:srgbClr val="000000"/>
                </a:solidFill>
                <a:latin typeface="Arial"/>
                <a:cs typeface="Arial"/>
              </a:rPr>
              <a:t>، وبروتوكولها الاختياري المعني بالحق في إجراء الاتصالات الفردية أو الجماع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مناهضة التعذيب وغيره من ضروب المعاملة أو العقوبة القاسية أو اللاإنسانية أو المهينة </a:t>
            </a:r>
            <a:r>
              <a:rPr b="0" lang="ar-JO" sz="1200" spc="-1" strike="noStrike">
                <a:solidFill>
                  <a:srgbClr val="000000"/>
                </a:solidFill>
                <a:latin typeface="Arial"/>
                <a:ea typeface="Arial"/>
              </a:rPr>
              <a:t>1984</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تفاقية حقوق الطفل - </a:t>
            </a:r>
            <a:r>
              <a:rPr b="0" lang="ar-JO" sz="1200" spc="-1" strike="noStrike">
                <a:solidFill>
                  <a:srgbClr val="000000"/>
                </a:solidFill>
                <a:latin typeface="Arial"/>
                <a:ea typeface="Arial"/>
              </a:rPr>
              <a:t>1989</a:t>
            </a:r>
            <a:r>
              <a:rPr b="0" lang="ar-JO" sz="1200" spc="-1" strike="noStrike">
                <a:solidFill>
                  <a:srgbClr val="000000"/>
                </a:solidFill>
                <a:latin typeface="Arial"/>
                <a:cs typeface="Arial"/>
              </a:rPr>
              <a:t>، وبروتوكولاها الاختياريان المعنيان ببيع الأطفال ودعارة الأطفال والأعمال الإباحية بمشاركة الأطفال، وبإشراك الأطفال في النزاعات المسلح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اتفاقية الدولية لحماية حقوق جميع العمال المهاجرين وأفراد أسرهم - </a:t>
            </a:r>
            <a:r>
              <a:rPr b="0" lang="ar-JO" sz="1200" spc="-1" strike="noStrike">
                <a:solidFill>
                  <a:srgbClr val="000000"/>
                </a:solidFill>
                <a:latin typeface="Arial"/>
                <a:ea typeface="Arial"/>
              </a:rPr>
              <a:t>1990</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ثمة اتفاقيتان جديدتان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لاتفاقية الخاصة بحقوق الأشخاص المعوقين (</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الاتفاقية الدولية لحماية جميع الأشخاص من الاختفاء (القسري)، أقرتهما الجمعية العامة في عام </a:t>
            </a:r>
            <a:r>
              <a:rPr b="0" lang="ar-JO" sz="1200" spc="-1" strike="noStrike">
                <a:solidFill>
                  <a:srgbClr val="000000"/>
                </a:solidFill>
                <a:latin typeface="Arial"/>
                <a:ea typeface="Arial"/>
              </a:rPr>
              <a:t>2006</a:t>
            </a:r>
            <a:r>
              <a:rPr b="0" lang="ar-JO" sz="1200" spc="-1" strike="noStrike">
                <a:solidFill>
                  <a:srgbClr val="000000"/>
                </a:solidFill>
                <a:latin typeface="Arial"/>
                <a:cs typeface="Arial"/>
              </a:rPr>
              <a:t>، وهما في انتظار عدد من المصادقات من قبل الدول الأعضاء لتدخلا حيز التنفيذ.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ثالثة: </a:t>
            </a:r>
            <a:r>
              <a:rPr b="0" lang="ar-JO" sz="1200" spc="-1" strike="noStrike">
                <a:solidFill>
                  <a:srgbClr val="000000"/>
                </a:solidFill>
                <a:latin typeface="Arial"/>
                <a:cs typeface="Arial"/>
              </a:rPr>
              <a:t>قد تحتوي الأدوات / الصكوك الدولية الأخرى على معايير إضافية لحقوق الإنسان، مثل القانون الإنساني الدولي وقانون اللاجئين، بالإضافة إلى الاتفاقيات والإعلانات وغيرها من الوثائق الصادرة عن منظمة العمل الدولية، ومنظمة الأمم المتحدة للتربية والعلوم والثقافة (يونسكو)، ومنظمة الأغذية والزراعة التابعة للأمم المتحدة. ومع أن العديد من أدوات / صكوك القانون الإنساني قد صدرت قبل صدور ميثاق الأمم المتحدة والإعلان العالمي لحقوق الإنسان، إلا أنها تتشارك معهما في مبادئ وقيم الكرامة الإنسانية والحريات والاستحقاقات. ومن الأمثلة على تلك الصكوك / الأدوات اتفاقية منظمة العمل الدولية للسكان الأصليين والقَبَليين - </a:t>
            </a:r>
            <a:r>
              <a:rPr b="0" lang="ar-JO" sz="1200" spc="-1" strike="noStrike">
                <a:solidFill>
                  <a:srgbClr val="000000"/>
                </a:solidFill>
                <a:latin typeface="Arial"/>
                <a:ea typeface="Arial"/>
              </a:rPr>
              <a:t>1989</a:t>
            </a:r>
            <a:r>
              <a:rPr b="0" lang="ar-JO" sz="1200" spc="-1" strike="noStrike">
                <a:solidFill>
                  <a:srgbClr val="000000"/>
                </a:solidFill>
                <a:latin typeface="Arial"/>
                <a:ea typeface="Arial"/>
              </a:rPr>
              <a:t> (رقم </a:t>
            </a:r>
            <a:r>
              <a:rPr b="0" lang="ar-JO" sz="1200" spc="-1" strike="noStrike">
                <a:solidFill>
                  <a:srgbClr val="000000"/>
                </a:solidFill>
                <a:latin typeface="Arial"/>
                <a:ea typeface="Arial"/>
              </a:rPr>
              <a:t>169</a:t>
            </a:r>
            <a:r>
              <a:rPr b="0" lang="ar-JO" sz="1200" spc="-1" strike="noStrike">
                <a:solidFill>
                  <a:srgbClr val="000000"/>
                </a:solidFill>
                <a:latin typeface="Arial"/>
                <a:ea typeface="Arial"/>
              </a:rPr>
              <a:t>)، وهي الاتفاقية الدولية الوحيدة التي تتعامل، على أساس شمولي ومحدَّد، مع حقوق الإنسان لتلك الفئتين من السكان. وتطبق منظمة العمل الدولية نهجاً قائماً على الحقوق في عملها الخاص بهذا المجال. وبالإضافة إلى ذلك، هناك بالطبع أداة قانونية أخرى لحماية حقوق العما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رابعة: الأنظمة الإقليمية</a:t>
            </a:r>
            <a:r>
              <a:rPr b="0" lang="ar-JO" sz="1200" spc="-1" strike="noStrike">
                <a:solidFill>
                  <a:srgbClr val="000000"/>
                </a:solidFill>
                <a:latin typeface="Arial"/>
                <a:ea typeface="Arial"/>
              </a:rPr>
              <a:t>. عملت بعض المناطق/الأقاليم في العالم على إقرار أنظمة مناطقية/أقاليمية خاصة بها لحقوق الإنسان. وهذه الأنظمة لا تحل محل الأنظمة الدولية ولكنها تعززها. وبذلك تكون العلاقة بين هذين النظامين استكمالية وليست ترات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خامسة: الأنظمة الوطنية للحماية. </a:t>
            </a:r>
            <a:r>
              <a:rPr b="0" lang="ar-JO" sz="1200" spc="-1" strike="noStrike">
                <a:solidFill>
                  <a:srgbClr val="000000"/>
                </a:solidFill>
                <a:latin typeface="Arial"/>
                <a:cs typeface="Arial"/>
              </a:rPr>
              <a:t>يجب على الدول التأكد من توافق دساتيرها وقوانينها الوطنية مع أنظمة حقوق الإنسان الدولية والإقليمية التي هي طرف فيها. وقد تَمثَّلَ طلبُ المؤتمر العالمي لحقوق الإنسان في أن تعمل الحكومات "على إدماج المعايير في التشريعات المحلية كما وردت في أدوات / صكوك حقوق الإنسان الدولية، وعلى تقوية البُنى والمؤسسات والكيانات العضوية الوطنية في المجتمع، الأمر الذي يلعب دوراً في تعزيز وصون حقوق الإنسان."</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1160" y="696960"/>
            <a:ext cx="4648320" cy="3486240"/>
          </a:xfrm>
          <a:prstGeom prst="rect">
            <a:avLst/>
          </a:prstGeom>
          <a:ln w="0">
            <a:noFill/>
          </a:ln>
        </p:spPr>
      </p:sp>
      <p:sp>
        <p:nvSpPr>
          <p:cNvPr id="60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تفاقية القضاء على جميع أشكال التمييز ضد المرأ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تفاقيةَ القضاء على جميع أشكال التمييز ضد المرأة معاهدةٌ "مناهضة للتمييز"، مما يعني أنّ حالات انعدام المساواة في النوع الاجتماعي، في هذه الاتفاقية، تُفهم بأنها نتاج للتمييز القائم على النوع الاجتماعي. وتعتبر التزاماتُ الدول، التي تفرضها اتفاقية القضاء على جميع أشكال التمييز ضد المرأة، بصفة أساسية، التزاماتٍ للقضاء على مختلف أشكال التمييز العديدة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اتفاقية القضاء على جميع أشكال التمييز ضد المرأة تأخذ شكلها وجوهرها من فهم خاص لما يمكن اعتباره "مساواة"، وغالباً ما تسمّى بـ "المساواة الموضوعية أو الجوهرية" أو "المساواة في النتائج". وتتبنّى هذه الاتفاقيةُ نظرةً للمساواة محسوسةً وثلاثية الأبعاد. فبدلاً عن النظر في المساواة من حيث المنظور الرسمي والقانوني، والقول: إن القوانين والسياسات تكفل تحقيق المساواة بين المرأة والرجل ببساطة عن طريق الحيادية في التعامل مع النوع الاجتماعي، تطالب اتفاقية القضاء على جميع أشكال التمييز ضد المرأة بدراسة أثر وتأثير القوانين والسياسات في المساواة. وبمقتضى هذه الاتفاقية، يجب على الدولة القيام بأكثر من مجرّد التأكد من عدم وجود أية قوانين محفوظة في مدوّنات قوانين تميز ضد المرأة بشكل مباشر. بل يتعيّن عليها أيضاً التأكد من وضع جميع الترتيبات الضرورية موضع التنفيذ على نحو يسمح للمرأة بتجربة المساواة فعلياً في حيا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جعل اتفاقيةُ القضاء على جميع أشكال التمييز ضد المرأة الدولَ مسؤولةً لا عن تنفيذ أعمالها الخاصة فحسب، بل عن القضاء على التمييز الذي يرتكبه الأفراد والمنظمات بصورة خاصة أيضاً. وتُقرُّ هذه الاتفاقية بأن التمييز غالباً ما يكون متجذِّراً بعمق في مختلف مجالات الحياة مثل الثقافة، والأسرة والعلاقات بين الأشخاص، وإذا لم يحدث أي تغيير على تلك المستويات، فسوف تُحبطُ الجهود المبذولة لتحقيق المساواة في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جالاتُ الأساسية لحماية الحقوق الإنسانية للمرأة في اتفاقية القضاء على جميع أشكال التمييز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نماذج الثقافية والممارسات العرفية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1</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تشغيل / التوظيف</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6</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اتجار والاستغلال لأغراض الدعار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رعاية الصح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7</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حياة العامة والسياس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3</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حياة الاقتصادية والاجتماع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8</a:t>
            </a:r>
            <a:r>
              <a:rPr b="0"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شؤون الدول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مرأة الري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9</a:t>
            </a:r>
            <a:r>
              <a:rPr b="0" lang="ar-JO" sz="1200" spc="-1" strike="noStrike">
                <a:solidFill>
                  <a:srgbClr val="000000"/>
                </a:solidFill>
                <a:latin typeface="Arial"/>
                <a:ea typeface="Arial"/>
              </a:rPr>
              <a:t>	</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جنسي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5</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مساواة أمام القانو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تعليم</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مادة </a:t>
            </a:r>
            <a:r>
              <a:rPr b="1" lang="ar-JO" sz="1200" spc="-1" strike="noStrike">
                <a:solidFill>
                  <a:srgbClr val="000000"/>
                </a:solidFill>
                <a:latin typeface="Arial"/>
                <a:ea typeface="Arial"/>
              </a:rPr>
              <a:t>16</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مساواة في الزواج والحياة الأسر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وصية العامة رقم </a:t>
            </a:r>
            <a:r>
              <a:rPr b="1" lang="ar-JO" sz="1200" spc="-1" strike="noStrike">
                <a:solidFill>
                  <a:srgbClr val="000000"/>
                </a:solidFill>
                <a:latin typeface="Arial"/>
                <a:ea typeface="Arial"/>
              </a:rPr>
              <a:t>19</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العنف ضد المرأة</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حقوق الإنسان العالمية والمعاهدات الأخرى</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ضمن العهد الدولي للحقوق المدنية والسياسية والعهد الدولي للحقوق الاقتصادية والاجتماعية والثقافية بوضوح شديد استحقاقات حقوق الإنسان لكل من المرأة والرجل. ويشتمل كلا العهدين على مادة خاصة، وهي المادة الثالثة، التي تنص بصراحة على أن الدول الأطراف في هذين العهدين ستكفل بأن يتمتع الرجال والنساء، على قدم المساواة، بجميع الحقوق التي حدّداها. وبالإضافة إلى ذلك، يحتوي كلا العهدين على حُكْم مناهض للتمييز، الذي يُدرج "نوع الجنس" كواحد من الأسس المحظورة التي يقوم عليها التمييز. وقد أصدرت هيئات المعاهدات لكل من العهد الدولي لحقوق الإنسان المدنية والسياسية، والعهد الدولي للحقوق الاقتصادية والاجتماعية والثقافية تعليقات عامة تشرح مضامين هذه المواد بتفصيل لافت للنظر، وتُبرز بعضاً من أكثر أبعاد المساواة في النوع الاجتماعي أهميةً لكل من الحقوق الأخرى المُحدَّدة في هذين العهدي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شتمل أيضاً معاهدات حقوق الإنسان الأخرى على ضمانات مهمة للمرأة. فعلى سبيل المثال، تشتمل اتفاقية حقوق الطفل على حُكْم مناهض للتمييز يُطالب الدول الأطراف بضمان الحقوق المُحدَّدة في الاتفاقية للفتيات والفتيان على قدم المساواة. كذلك فإن اتفاقية حقوق الطفل تُحدِّد عدداً من الحقوق ذات الأهمية الخاصة للمرأة والفتاة، بما فيها الحقوق المتعلقة برعاية الأمهات قبل الولادة وبعدها وتنظيم النسل، والتخلّص من الممارسات التقليدية المؤذية، والقضاء على الاستغلال والدعار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عاهدات الإقلي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ثمة معايير إقليمية مهمة توفر الحماية أيضاً للحقوق الإنسانية للمرأة. فعلى سبيل المثال، في دول أمريكا اللاتينية والبحر الكاريبي، تُحدّد اتفاقية "بِلِمْ دو بارا </a:t>
            </a:r>
            <a:r>
              <a:rPr b="0" lang="en-US" sz="1200" spc="-1" strike="noStrike">
                <a:solidFill>
                  <a:srgbClr val="000000"/>
                </a:solidFill>
                <a:latin typeface="Arial"/>
                <a:ea typeface="굴림"/>
              </a:rPr>
              <a:t>Belem do Para</a:t>
            </a:r>
            <a:r>
              <a:rPr b="0" lang="ar-JO" sz="1200" spc="-1" strike="noStrike">
                <a:solidFill>
                  <a:srgbClr val="000000"/>
                </a:solidFill>
                <a:latin typeface="Arial"/>
                <a:ea typeface="Arial"/>
              </a:rPr>
              <a:t>" تدابير شاملة للقضاء على العنف ضد المرأة. وفي بروتوكول الميثاق الإفريقي لحقوق المرأة حول حقوق الإنسان والشعوب، نجد أنَّ ضمانات حقوق الإنسان الدولية للمرأة مبيَّنة فيه، إضافة إلى ادخال تعديلات وإضافات عليه، لتلائم الوقائع الإفريق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2600" y="695160"/>
            <a:ext cx="4653000" cy="3489480"/>
          </a:xfrm>
          <a:prstGeom prst="rect">
            <a:avLst/>
          </a:prstGeom>
          <a:ln w="0">
            <a:noFill/>
          </a:ln>
        </p:spPr>
      </p:sp>
      <p:sp>
        <p:nvSpPr>
          <p:cNvPr id="611"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قانون الإنساني الدولي عبارة عن مجموعة من القواعد التي تسعى، لأسباب إنسانية، </a:t>
            </a:r>
            <a:r>
              <a:rPr b="0" i="1" lang="ar-JO" sz="1200" spc="-1" strike="noStrike">
                <a:solidFill>
                  <a:srgbClr val="000000"/>
                </a:solidFill>
                <a:latin typeface="Arial"/>
                <a:cs typeface="Arial"/>
              </a:rPr>
              <a:t>إلى الحد من آثار النزاع المسلح</a:t>
            </a:r>
            <a:r>
              <a:rPr b="0" lang="ar-JO" sz="1200" spc="-1" strike="noStrike">
                <a:solidFill>
                  <a:srgbClr val="000000"/>
                </a:solidFill>
                <a:latin typeface="Arial"/>
                <a:ea typeface="Arial"/>
              </a:rPr>
              <a:t>. فهو يحمي الأشخاص الذين لا يشاركون، أو لم يعودوا يشاركون، في الأعمال العدائية، ويقيّد وسائل الحرب وطرقها. كذلك فإن القانون الإنساني الدولي معروف أيضاً "بقانون الحرب" أو "قانون النزاع المُسلح"، وهو جزء من القانون الدولي، الذي يُعتبر الجسم الذي ترتكز عليه القواعد التي تحكم العلاقات بين الدول. وهذا القانون الدولي مشمول في الاتفاقيات بين الدول – أي في المعاهدات أو الاتفاقيات - وفي القوانين العرفية المؤلفة من ممارسات الدول، التي تعتبرها مُلْزمة قانونياً، وفي المبادئ الع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طبَّقُ القانون الإنساني الدولي على النزاعات المسلحة. وهو لا يُنظِّم ما إذا كان يُسمحُ لدولة ما أن تستخدم القوة فعلياً، فذلك محكومٌ بوساطة جزء مهم - ولكنه واضح - من القانون الدولي المُحدَّد في ميثاق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في عام </a:t>
            </a:r>
            <a:r>
              <a:rPr b="0" lang="ar-JO" sz="1200" spc="-1" strike="noStrike">
                <a:solidFill>
                  <a:srgbClr val="000000"/>
                </a:solidFill>
                <a:latin typeface="Arial"/>
                <a:ea typeface="Arial"/>
              </a:rPr>
              <a:t>1949</a:t>
            </a:r>
            <a:r>
              <a:rPr b="0" lang="ar-JO" sz="1200" spc="-1" strike="noStrike">
                <a:solidFill>
                  <a:srgbClr val="000000"/>
                </a:solidFill>
                <a:latin typeface="Arial"/>
                <a:cs typeface="Arial"/>
              </a:rPr>
              <a:t>، تم إقرار اتفاقيات جنيف الأربع، التي ما زالت نافذة المفعول حتى اليوم. وتتعامل كل منها مع حماية فئة معينة من الأشخاص الذين لا يشاركون، أو لم يعودوا يشاركون، في الأعمال العدائية، وهي ك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أولى:</a:t>
            </a:r>
            <a:r>
              <a:rPr b="0" lang="ar-JO" sz="1200" spc="-1" strike="noStrike">
                <a:solidFill>
                  <a:srgbClr val="000000"/>
                </a:solidFill>
                <a:latin typeface="Arial"/>
                <a:ea typeface="Arial"/>
              </a:rPr>
              <a:t> لتحسين حال جرحى ومرضى القوات المسلحة في الميد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ثانية:</a:t>
            </a:r>
            <a:r>
              <a:rPr b="0" lang="ar-JO" sz="1200" spc="-1" strike="noStrike">
                <a:solidFill>
                  <a:srgbClr val="000000"/>
                </a:solidFill>
                <a:latin typeface="Arial"/>
                <a:ea typeface="Arial"/>
              </a:rPr>
              <a:t> لتحسين حال جرحى ومرضى وغرقى القوات المسلحة (في البح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ثالثة:</a:t>
            </a:r>
            <a:r>
              <a:rPr b="0" lang="ar-JO" sz="1200" spc="-1" strike="noStrike">
                <a:solidFill>
                  <a:srgbClr val="000000"/>
                </a:solidFill>
                <a:latin typeface="Arial"/>
                <a:ea typeface="Arial"/>
              </a:rPr>
              <a:t> بشأن معاملة سجناء الحر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اتفاقية الرابعة:</a:t>
            </a:r>
            <a:r>
              <a:rPr b="0" lang="ar-JO" sz="1200" spc="-1" strike="noStrike">
                <a:solidFill>
                  <a:srgbClr val="000000"/>
                </a:solidFill>
                <a:latin typeface="Arial"/>
                <a:ea typeface="Arial"/>
              </a:rPr>
              <a:t> بشأن حماية الأشخاص المدنيين في وقت الحر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عتبر اتفاقيات جنيف لعام </a:t>
            </a:r>
            <a:r>
              <a:rPr b="0" lang="ar-JO" sz="1200" spc="-1" strike="noStrike">
                <a:solidFill>
                  <a:srgbClr val="000000"/>
                </a:solidFill>
                <a:latin typeface="Arial"/>
                <a:ea typeface="Arial"/>
              </a:rPr>
              <a:t>1949</a:t>
            </a:r>
            <a:r>
              <a:rPr b="0" lang="ar-JO" sz="1200" spc="-1" strike="noStrike">
                <a:solidFill>
                  <a:srgbClr val="000000"/>
                </a:solidFill>
                <a:latin typeface="Arial"/>
                <a:ea typeface="Arial"/>
              </a:rPr>
              <a:t> ميراثاً من الحرب العالمية الثانية. وابتداءً من التجربة المأساوية التي تم اكتسابها من ذلك النزاع المسلح، فقد عملت تلك الاتفاقيات، بشكل كبير، على تحسين الحماية القانونية لضحايا الحرب، ولا سيما للمدنيين الواقعين تحت سلطة العدو. وفي الوقت الحاضر، تعتبر جميع الدول أطرافاً في اتفاقيات جنيف لعام </a:t>
            </a:r>
            <a:r>
              <a:rPr b="0" lang="ar-JO" sz="1200" spc="-1" strike="noStrike">
                <a:solidFill>
                  <a:srgbClr val="000000"/>
                </a:solidFill>
                <a:latin typeface="Arial"/>
                <a:ea typeface="Arial"/>
              </a:rPr>
              <a:t>1949</a:t>
            </a:r>
            <a:r>
              <a:rPr b="0" lang="ar-JO" sz="1200" spc="-1" strike="noStrike">
                <a:solidFill>
                  <a:srgbClr val="000000"/>
                </a:solidFill>
                <a:latin typeface="Arial"/>
                <a:ea typeface="Arial"/>
              </a:rPr>
              <a:t> عملياً. وبما أن المجتمع الأممي كله قد قبلها كما هي، فقد أصبحت هذه الاتفاقيات، بحق، قانوناً عالمياً عام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طالب</a:t>
            </a:r>
            <a:r>
              <a:rPr b="1" lang="ar-JO" sz="1200" spc="-1" strike="noStrike">
                <a:solidFill>
                  <a:srgbClr val="000000"/>
                </a:solidFill>
                <a:latin typeface="Arial"/>
                <a:ea typeface="Arial"/>
              </a:rPr>
              <a:t> إعلان وبرنامج عمل ڤينّا </a:t>
            </a:r>
            <a:r>
              <a:rPr b="0" lang="ar-JO" sz="1200" spc="-1" strike="noStrike">
                <a:solidFill>
                  <a:srgbClr val="000000"/>
                </a:solidFill>
                <a:latin typeface="Arial"/>
                <a:cs typeface="Arial"/>
              </a:rPr>
              <a:t>لعام </a:t>
            </a:r>
            <a:r>
              <a:rPr b="0" lang="ar-JO" sz="1200" spc="-1" strike="noStrike">
                <a:solidFill>
                  <a:srgbClr val="000000"/>
                </a:solidFill>
                <a:latin typeface="Arial"/>
                <a:ea typeface="Arial"/>
              </a:rPr>
              <a:t>1993</a:t>
            </a:r>
            <a:r>
              <a:rPr b="0" lang="ar-JO" sz="1200" spc="-1" strike="noStrike">
                <a:solidFill>
                  <a:srgbClr val="000000"/>
                </a:solidFill>
                <a:latin typeface="Arial"/>
                <a:ea typeface="Arial"/>
              </a:rPr>
              <a:t> جميع الأطراف في النزاعات المسلحة بالتقيّد الصارم بالقانون الإنساني الدولي، إضافة إلى مطالبتهما بمراعاة المعايير الدنيا المطلوبة لحماية حقوق الإنسان. وبناء على ذلك، تم الإقرار بضرورة النظر إلى قانون حقوق الإنسان والقانون الإنساني بطريقة مدمجة متكاملة وشمولية، مما يعني أن قانون حقوق الإنسان يوفِّر الحماية للأفراد في جميع الأوقات، إضافة إلى ما يوفره القانون الإنساني من الحماية لهم أثناء الحروب أو غيرها من الأعمال العدائية. وقد أكد إعلان وبرنامج عمل ڤينّا أيضاً على أن "انتهاكات الحقوق الإنسانية للمرأة في أوضاع النزاع المسلح تعتبر انتهاكات للمبادئ الأساسية لحقوق الإنسان والقانون الإنساني"، وأن تلك الانتهاكات تتطلب "رداً فعالاً على وجه الخصوص".</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1160" y="696960"/>
            <a:ext cx="4648320" cy="3486240"/>
          </a:xfrm>
          <a:prstGeom prst="rect">
            <a:avLst/>
          </a:prstGeom>
          <a:ln w="0">
            <a:noFill/>
          </a:ln>
        </p:spPr>
      </p:sp>
      <p:sp>
        <p:nvSpPr>
          <p:cNvPr id="57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تشغيل فيلم الفيديو الموجود في هذه الشريحة، انقر على "</a:t>
            </a:r>
            <a:r>
              <a:rPr b="0" lang="en-US" sz="1200" spc="-1" strike="noStrike">
                <a:solidFill>
                  <a:srgbClr val="000000"/>
                </a:solidFill>
                <a:latin typeface="Arial"/>
                <a:ea typeface="굴림"/>
              </a:rPr>
              <a:t>Slide show</a:t>
            </a:r>
            <a:r>
              <a:rPr b="0" lang="ar-JO" sz="1200" spc="-1" strike="noStrike">
                <a:solidFill>
                  <a:srgbClr val="000000"/>
                </a:solidFill>
                <a:latin typeface="Arial"/>
                <a:ea typeface="Arial"/>
              </a:rPr>
              <a:t>". ينتهي عرض هذا الفيلم بالسؤال التالي: </a:t>
            </a:r>
            <a:r>
              <a:rPr b="1" lang="ar-JO" sz="1200" spc="-1" strike="noStrike">
                <a:solidFill>
                  <a:srgbClr val="000000"/>
                </a:solidFill>
                <a:latin typeface="Arial"/>
                <a:ea typeface="Arial"/>
              </a:rPr>
              <a:t>"بناء على ذلك، كيف تردّ أو تتجاوب الأمم المتحدة مع التوقّعات المشروعة لأصحاب الحقوق؟"</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لإجابة على هذا السؤال، سيكون من المهمّ والملائم لنا أن ندرس بإيجاز ما يلي: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اريخ السياسي لحقوق الإنسان في الأمم المتحد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روابط الجوهرية / الموضوعية مع الأولويات الرئيسة الأخرى للأمم المتحد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طورات المؤسسية داخل الأمم المتحدة نفس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2600" y="695160"/>
            <a:ext cx="4653000" cy="3489480"/>
          </a:xfrm>
          <a:prstGeom prst="rect">
            <a:avLst/>
          </a:prstGeom>
          <a:ln w="0">
            <a:noFill/>
          </a:ln>
        </p:spPr>
      </p:sp>
      <p:sp>
        <p:nvSpPr>
          <p:cNvPr id="613" name="PlaceHolder 2"/>
          <p:cNvSpPr>
            <a:spLocks noGrp="1"/>
          </p:cNvSpPr>
          <p:nvPr>
            <p:ph type="body"/>
          </p:nvPr>
        </p:nvSpPr>
        <p:spPr>
          <a:xfrm>
            <a:off x="246240" y="4378320"/>
            <a:ext cx="6511680" cy="47196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إعداد شرائح اختيارية لكل نظام إقليمي:</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م أيضاً وضع أنظمة إقليمية لحقوق تتفاوت في قدراتها وأثرها في إفريقيا والأمريكيتين وأوروبا، وتستكمل حقوق الإنسان الدولية. ويمكن أن تكون هيئات آليات حقوق الإنسان الإقليمية شركاء مهمِّين لتحقيق تعاون وثيق مع الأمم المتحدة حول النشاطات ذات الاهتمام المشترك والمتبادل. وتعزِّز الأنظمةُ الإقليمية لحقوق الإنسان المعاييرَ الدولية وآليات العمل، عن طريق تقديم الوسائل التي يمكن عن طريقها التصدي لبواعث القلق المتعلقة بحقوق الإنسان، ضمن السياقات الاجتماعية والتاريخية والسياسية الخاصة بالمنطقة المع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م تنجح آسيا بَعْدُ في إقامة أيّ نظام لحقوق الإنسان قابل للحياة. وفي منطقة الشرق الأوسط، قامت اللجنة العربية الدائمة لحقوق الإنسان بمراجعة الميثاق العربي لحقوق الإنسان في يناير / كانون الثاني عام </a:t>
            </a:r>
            <a:r>
              <a:rPr b="1" lang="ar-JO" sz="1200" spc="-1" strike="noStrike">
                <a:solidFill>
                  <a:srgbClr val="000000"/>
                </a:solidFill>
                <a:latin typeface="Arial"/>
                <a:ea typeface="Arial"/>
              </a:rPr>
              <a:t>2004</a:t>
            </a:r>
            <a:r>
              <a:rPr b="1" lang="ar-JO" sz="1200" spc="-1" strike="noStrike">
                <a:solidFill>
                  <a:srgbClr val="000000"/>
                </a:solidFill>
                <a:latin typeface="Arial"/>
                <a:cs typeface="Arial"/>
              </a:rPr>
              <a:t>، ولكنه ما زال يعتبر قاصراًً عن توفير الحمايات الحرج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كلاً من النظام الأوروبي لحقوق الإنسان، ومجلس أوروبا، ومنظمة التعاون والأمن في أوروبا، والاتحاد الأوروبي تشكِّل معاً العمود الفقري المؤسسي للنظام الأوروبي لحقوق الإنسان. وتضمن الاتفاقية الأوروبية لحماية حقوق الإنسان والحريات الأساسية (التي دخلت حَيِّز التطبيق في </a:t>
            </a:r>
            <a:r>
              <a:rPr b="1" lang="ar-JO" sz="1200" spc="-1" strike="noStrike">
                <a:solidFill>
                  <a:srgbClr val="000000"/>
                </a:solidFill>
                <a:latin typeface="Arial"/>
                <a:ea typeface="Arial"/>
              </a:rPr>
              <a:t>1953</a:t>
            </a:r>
            <a:r>
              <a:rPr b="1" lang="ar-JO" sz="1200" spc="-1" strike="noStrike">
                <a:solidFill>
                  <a:srgbClr val="000000"/>
                </a:solidFill>
                <a:latin typeface="Arial"/>
                <a:ea typeface="Arial"/>
              </a:rPr>
              <a:t>) وبروتوكولاتها المتعددة الحقوق المدنية والسياسية، كما أن الميثاق الاجتماعي الأوروبي (الصادر عام </a:t>
            </a:r>
            <a:r>
              <a:rPr b="1" lang="ar-JO" sz="1200" spc="-1" strike="noStrike">
                <a:solidFill>
                  <a:srgbClr val="000000"/>
                </a:solidFill>
                <a:latin typeface="Arial"/>
                <a:ea typeface="Arial"/>
              </a:rPr>
              <a:t>1961</a:t>
            </a:r>
            <a:r>
              <a:rPr b="1" lang="ar-JO" sz="1200" spc="-1" strike="noStrike">
                <a:solidFill>
                  <a:srgbClr val="000000"/>
                </a:solidFill>
                <a:latin typeface="Arial"/>
                <a:cs typeface="Arial"/>
              </a:rPr>
              <a:t>، والمعدّل عام </a:t>
            </a:r>
            <a:r>
              <a:rPr b="1" lang="ar-JO" sz="1200" spc="-1" strike="noStrike">
                <a:solidFill>
                  <a:srgbClr val="000000"/>
                </a:solidFill>
                <a:latin typeface="Arial"/>
                <a:ea typeface="Arial"/>
              </a:rPr>
              <a:t>1996</a:t>
            </a:r>
            <a:r>
              <a:rPr b="1" lang="ar-JO" sz="1200" spc="-1" strike="noStrike">
                <a:solidFill>
                  <a:srgbClr val="000000"/>
                </a:solidFill>
                <a:latin typeface="Arial"/>
                <a:ea typeface="Arial"/>
              </a:rPr>
              <a:t>) يقرُّ بالحقوق الاقتصادية والاجتماعية. وإن قائمة الحقوق المدرجة في هذه الأدوات/الصكوك مماثلة لتلك الحقوق التي يكرِّسها الإعلان العالمي لحقوق الإنسان والعهدان الدوليان. وقد أقرَّ مجلس أوروبا معاهدات خاصة في مجالات حماية البيانات، والعمال المهاجرين، والأقليات، ومنع التعذيب، والطب الأحيائ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حكمة الأوروبية لحقوق الإنسان – في البداية، تم إنشاء هيئتين إقليميتين لمراجعة الشكاوى الواردة من الأشخاص، والجماعات أو الأفراد، والمنظمات غير الحكومية، والدول بشأن انتهاكات حقوق الإنسان، أُطلق عليهما تحديداً اسم: المحكمة الأوروبية لحقوق الإنسان والمفوَّضية الأوروبية لحقوق الإنسان. وتمتلك المحكمة الأوروبية لحقوق الإنسان صلاحيات سُلطوية لصنع القرار، حيث يجري إنفاذ قراراتها عادةً، إضافة إلى الوزن أو الثقل المهم لتلك القرارات على القانون والممارسة في عدد من الدول الأوروبية. كذلك فقد يفرض قرار المحكمة ضغطاً على تلك الدول المتخلّفة عن الأعراف الأوروب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ظام حقوق الإنسان في الأمريكيتين – يندرج النظام عَبْر الأمريكي لحقوق الإنسان ضمن منظمة الدول الأمريكية. وعلى غرار الاتفاقية الأوروبية، فإن الإعلان الأمريكي لحقوق وواجبات الإنسان (</a:t>
            </a:r>
            <a:r>
              <a:rPr b="1" lang="ar-JO" sz="1200" spc="-1" strike="noStrike">
                <a:solidFill>
                  <a:srgbClr val="000000"/>
                </a:solidFill>
                <a:latin typeface="Arial"/>
                <a:ea typeface="Arial"/>
              </a:rPr>
              <a:t>1948</a:t>
            </a:r>
            <a:r>
              <a:rPr b="1" lang="ar-JO" sz="1200" spc="-1" strike="noStrike">
                <a:solidFill>
                  <a:srgbClr val="000000"/>
                </a:solidFill>
                <a:latin typeface="Arial"/>
                <a:ea typeface="Arial"/>
              </a:rPr>
              <a:t>) يُقرُّ قائمةً من حقوق الإنسان مماثلةً لما ورد في الإعلان العالمي لحقوق الإنسان. وتُقر الاتفاقية الأمريكية لحقوق الإنسان (</a:t>
            </a:r>
            <a:r>
              <a:rPr b="1" lang="ar-JO" sz="1200" spc="-1" strike="noStrike">
                <a:solidFill>
                  <a:srgbClr val="000000"/>
                </a:solidFill>
                <a:latin typeface="Arial"/>
                <a:ea typeface="Arial"/>
              </a:rPr>
              <a:t>1969</a:t>
            </a:r>
            <a:r>
              <a:rPr b="1" lang="ar-JO" sz="1200" spc="-1" strike="noStrike">
                <a:solidFill>
                  <a:srgbClr val="000000"/>
                </a:solidFill>
                <a:latin typeface="Arial"/>
                <a:ea typeface="Arial"/>
              </a:rPr>
              <a:t>) الحقوق المدنية والسياسية والحق في التملك. وبالإضافة إلى ذلك، هناك البرتوكول الإضافي للاتفاقية الأمريكية لحقوق الإنسان في مجالات الحقوق الاقتصادية والاجتماعية والثقافية (</a:t>
            </a:r>
            <a:r>
              <a:rPr b="1" lang="ar-JO" sz="1200" spc="-1" strike="noStrike">
                <a:solidFill>
                  <a:srgbClr val="000000"/>
                </a:solidFill>
                <a:latin typeface="Arial"/>
                <a:ea typeface="Arial"/>
              </a:rPr>
              <a:t>1988</a:t>
            </a:r>
            <a:r>
              <a:rPr b="1" lang="ar-JO" sz="1200" spc="-1" strike="noStrike">
                <a:solidFill>
                  <a:srgbClr val="000000"/>
                </a:solidFill>
                <a:latin typeface="Arial"/>
                <a:ea typeface="Arial"/>
              </a:rPr>
              <a:t>)، الذي يُشار إليه عادة باتفاقية "سان خوسيه، كوستاريك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أجل صون/حماية تلك الحقوق في القارة الأمريكية، فقد عملت الاتفاقية على خلق كيانين عضويين لتعزيز عملية مراعاة حقوق الإنسان وحمايته: المفوَّضية عَبْر الأمريكية لحقوق الإنسان، والمحكمة عبر الأمريكية لحقوق الإنسان. وتعتبر المفوَّضية عبر الأمريكية لحقوق الإنسان هيئة تقنية شبه قضائية، تم إنشاؤها لتعزيز الوعي بحقوق الإنسان، ولوضع توصيات للدول، والرد على استيضاحاتها، وإعداد الدراسات والتقارير، وطلب المعلومات من الحكومات، وإجراء تحقيقات بموافقتها. وتقرُّ المفوضية القرارات، وتصدر التقارير القُطرية، وتم أيضاً تمكينها لتلقِّي الشكاوى من الأفراد أو الجماعات حول انتهاكات حقوق الإنسان. وتوصي المفوضية أيضاً الدولَ الأعضاء في منظمة الدول الأمريكية بإقرار التدابير التي يمكن أن تُسهم في حماية حقوق الإنسان. ومن إحدى وظائفها الأساسية تقديمُ القضايا إلى المحكمة عَبْر الأمريكية، وأن تَمْثُل أمام المحكمة أثناء عملية التقاضي. ولم يكن للمحكمة عبر الأمريكية لحقوق الإنسان أثرٌ قويٌ كالمحكمة الأوروبية، بالرغم من أنها قد تتخذ إجراءً إنفاذياً ملزماً، ولكنّ الولاية القضائية الخاصة بها تعتبر خياراً للدول التي تصادق عليها. وتملك المحكمة اختصاصاً قضائياً أو ولاية قضائية تؤهلها لإصدار الأحكام والفصل في القضايا المنطوية على تُهم بأن الدولة الطرف قد انتهكت الاتفاقية الأمريكية. ويجب أن يكون أصحاب الشكاوى الذين قدَّموا دعاواهم حول انتهاكات حقوق الإنسان قد استنفدوا أولاً جميع الحلول القانونية المحلية المتاحة، قبل أن يلجأ وإلى المحك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ظام حقوق الإنسان الإفريقي – يندرج النظام الإفريقي الإقليمي لحقوق الإنسان ضمن الاتحاد الإفريقي، الذي تم إنشاؤه عام </a:t>
            </a:r>
            <a:r>
              <a:rPr b="1" lang="ar-JO" sz="1200" spc="-1" strike="noStrike">
                <a:solidFill>
                  <a:srgbClr val="000000"/>
                </a:solidFill>
                <a:latin typeface="Arial"/>
                <a:ea typeface="Arial"/>
              </a:rPr>
              <a:t>2001</a:t>
            </a:r>
            <a:r>
              <a:rPr b="1" lang="ar-JO" sz="1200" spc="-1" strike="noStrike">
                <a:solidFill>
                  <a:srgbClr val="000000"/>
                </a:solidFill>
                <a:latin typeface="Arial"/>
                <a:cs typeface="Arial"/>
              </a:rPr>
              <a:t>، وقد حلّ محل منظمة الوحدة الإفريقية. وتشتمل أهدافه على تعزيز السلام والأمن والاستقرار في القارة الإفريقية، وتعزيز المؤسسات والمبادئ الديمقراطية، والمشاركة الشعبية والحكم الرشيد، وتعزيز حقوق الإنسان وحمايتها بما ينسجم مع الميثاق الإفريقي لحقوق الإنسان والشعوب وغيره من أدوات / صكوك حقوق الإنسان الأخرى. وقد أقرّت منظمة الوحدة الإفريقية الميثاق الإفريقي عام </a:t>
            </a:r>
            <a:r>
              <a:rPr b="1" lang="ar-JO" sz="1200" spc="-1" strike="noStrike">
                <a:solidFill>
                  <a:srgbClr val="000000"/>
                </a:solidFill>
                <a:latin typeface="Arial"/>
                <a:ea typeface="Arial"/>
              </a:rPr>
              <a:t>1981</a:t>
            </a:r>
            <a:r>
              <a:rPr b="1" lang="ar-JO" sz="1200" spc="-1" strike="noStrike">
                <a:solidFill>
                  <a:srgbClr val="000000"/>
                </a:solidFill>
                <a:latin typeface="Arial"/>
                <a:cs typeface="Arial"/>
              </a:rPr>
              <a:t>، ودخل حيز التطبيق والتنفيذ عام </a:t>
            </a:r>
            <a:r>
              <a:rPr b="1" lang="ar-JO" sz="1200" spc="-1" strike="noStrike">
                <a:solidFill>
                  <a:srgbClr val="000000"/>
                </a:solidFill>
                <a:latin typeface="Arial"/>
                <a:ea typeface="Arial"/>
              </a:rPr>
              <a:t>1986</a:t>
            </a:r>
            <a:r>
              <a:rPr b="1" lang="ar-JO" sz="1200" spc="-1" strike="noStrike">
                <a:solidFill>
                  <a:srgbClr val="000000"/>
                </a:solidFill>
                <a:latin typeface="Arial"/>
                <a:ea typeface="Arial"/>
              </a:rPr>
              <a:t>. وتوجد في الوقت الحاضر بروتوكولات عديدة للميثاق، بما فيها برتوكول يتناول حقوق المرأة في إفريقيا. ويشتمل الميثاق الإفريقي على سمة مميّزة مهمة، ألا وهي الإقرار بالحقوق الجماعية أو حقوق "الشعوب"، كما يشتمل على الحقوق في السلام والتنمية، وعلى أهمية الواجبات الفردية. إن الحقوق التي يضمنها الميثاق محدودة وتخضع للتقديرات الخاصة بالدولة بدرجة تفوق غيرها من الأدوات الدولية لحقوق الإنسان. وقد أنشأ الميثاق أيضاً المفوضية الإفريقية لحقوق الناس والشعوب، التي تم تمكينها لتلقّي الشكاوى الفردية والشكاوى عَبر الدولة، بالرغم من أن النقص في الموارد يعوق عملها ظاهرياً. ويمكن لأي شخص تسليم شكوى / تبليغ إلى المفوضية عن حدوث انتهاك لحقوق الإنسان، شريطة استنفاد جميع الحلول القانونية المحلية المتوافر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2600" y="695160"/>
            <a:ext cx="4653000" cy="3489480"/>
          </a:xfrm>
          <a:prstGeom prst="rect">
            <a:avLst/>
          </a:prstGeom>
          <a:ln w="0">
            <a:noFill/>
          </a:ln>
        </p:spPr>
      </p:sp>
      <p:sp>
        <p:nvSpPr>
          <p:cNvPr id="615" name="PlaceHolder 2"/>
          <p:cNvSpPr>
            <a:spLocks noGrp="1"/>
          </p:cNvSpPr>
          <p:nvPr>
            <p:ph type="body"/>
          </p:nvPr>
        </p:nvSpPr>
        <p:spPr>
          <a:xfrm>
            <a:off x="474480" y="4311360"/>
            <a:ext cx="6289560" cy="44514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رض هذه الشريحة المكوِّنات الرئيسة لأي نظام وطني لحماية حقوق الإنسان يجب على الدولة إنشاؤه أو تقويته لتعزيز حقوق الإنسان وحمايتها وإحقاقها. وهي تشدِّد على أن تُمارسَ أكثرُ الأعمال أهمية فيما يتعلق بحقوق الإنسان، وخصوصاً الطريقة التي يتم من خلالها تطبيق الأعراف والمقاييس، على المستوى الوطني من خلال الأدوار الفعالة التي تلعبها المؤسسات الحكومية على اختلاف أنواعها. وسيتم التطرق إلى العناصر المحددة بتفصيل أكبر في الجلسة القاد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تألف</a:t>
            </a:r>
            <a:r>
              <a:rPr b="0" lang="ar-JO" sz="1200" spc="-1" strike="noStrike">
                <a:solidFill>
                  <a:srgbClr val="000000"/>
                </a:solidFill>
                <a:latin typeface="Arial"/>
                <a:ea typeface="Arial"/>
              </a:rPr>
              <a:t> أي نظام وطني لحماية حقوق الإنسان، </a:t>
            </a:r>
            <a:r>
              <a:rPr b="1" lang="ar-JO" sz="1200" spc="-1" strike="noStrike">
                <a:solidFill>
                  <a:srgbClr val="000000"/>
                </a:solidFill>
                <a:latin typeface="Arial"/>
                <a:cs typeface="Arial"/>
              </a:rPr>
              <a:t>بشكل أساسي، </a:t>
            </a:r>
            <a:r>
              <a:rPr b="0" lang="ar-JO" sz="1200" spc="-1" strike="noStrike">
                <a:solidFill>
                  <a:srgbClr val="000000"/>
                </a:solidFill>
                <a:latin typeface="Arial"/>
                <a:cs typeface="Arial"/>
              </a:rPr>
              <a:t>من أطر عمل ومؤسسات وسياسات وإجراءات وجهات فاعلة قانونية كلها، يتم تصميمها لضمان تعزيز أعراف ومقاييس حقوق الإنسان الدولية، واحترامها وحمايتها وإحقا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تمثَّل هدف أي نظام من الأنظمة الوطنية لحماية حقوق الإنسان </a:t>
            </a:r>
            <a:r>
              <a:rPr b="0" lang="ar-JO" sz="1200" spc="-1" strike="noStrike">
                <a:solidFill>
                  <a:srgbClr val="000000"/>
                </a:solidFill>
                <a:latin typeface="Arial"/>
                <a:cs typeface="Arial"/>
              </a:rPr>
              <a:t>في ضمان الاحترام المستدام والفعّال لحقوق الإنسان في أية دولة. ويجب إيلاء اعتبار خاص لضمان أن تكون جميع جوانب أيّ نظام وطني لحماية حقوق الإنسان متجاوبةً مع الحقوق الإنسانية للمرأة. كذلك يجب إيلاء اهتمام خاص دائماً بالجماعات المعرضة للتمييز، والجماعات التي تعاني من الحرمان/ الظروف غير المؤاتية في دولتها – وذلك يشمل الأقليات العنصرية والعرقية، والأطفال، والمعوّقين والنساء والفقراء.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a:t>
            </a:r>
            <a:r>
              <a:rPr b="1" lang="ar-JO" sz="1200" spc="-1" strike="noStrike">
                <a:solidFill>
                  <a:srgbClr val="000000"/>
                </a:solidFill>
                <a:latin typeface="Arial"/>
                <a:cs typeface="Arial"/>
              </a:rPr>
              <a:t>ُطر العمل الدستورية والتشريعية</a:t>
            </a:r>
            <a:r>
              <a:rPr b="0" lang="ar-JO" sz="1200" spc="-1" strike="noStrike">
                <a:solidFill>
                  <a:srgbClr val="000000"/>
                </a:solidFill>
                <a:latin typeface="Arial"/>
                <a:ea typeface="Arial"/>
              </a:rPr>
              <a:t> التي تُبين أعراف ومعايير/مقاييس حقوق الإنسان الدولية، و</a:t>
            </a:r>
            <a:r>
              <a:rPr b="1" lang="ar-JO" sz="1200" spc="-1" strike="noStrike">
                <a:solidFill>
                  <a:srgbClr val="000000"/>
                </a:solidFill>
                <a:latin typeface="Arial"/>
                <a:cs typeface="Arial"/>
              </a:rPr>
              <a:t>المؤسسات الفعالة لتعزيز وحماية حقوق الإنسان</a:t>
            </a:r>
            <a:r>
              <a:rPr b="0" lang="ar-JO" sz="1200" spc="-1" strike="noStrike">
                <a:solidFill>
                  <a:srgbClr val="000000"/>
                </a:solidFill>
                <a:latin typeface="Arial"/>
                <a:cs typeface="Arial"/>
              </a:rPr>
              <a:t>، بما فيها الحكومات على المستويين المركزي والمحلي، والبرلمانات المركزية والمحلية، والإدارات على المستويين المركزي والمحلي، وإقامة العدل، والمحاكم الدستورية، وهيئة مستقلة لحقوق الإنسان، مثل مؤسسة وطنية لحقوق الإنسان و/أو أمين المظال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اسات وإجراءات وعمليات </a:t>
            </a:r>
            <a:r>
              <a:rPr b="0" lang="ar-JO" sz="1200" spc="-1" strike="noStrike">
                <a:solidFill>
                  <a:srgbClr val="000000"/>
                </a:solidFill>
                <a:latin typeface="Arial"/>
                <a:cs typeface="Arial"/>
              </a:rPr>
              <a:t>تعزيز حقوق الإنسان وحمايتها، بما يشمل تصويب انتهاكات حقوق الإنسان والإساءة إليها، والعمليات التشاركية في صنع القرار، والتعاون مع آليات العمل الدولية والإقليمية لحقوق الإنسان، وتبني سياسة قائمة على حقوق الإنسان والتخطيط للبرامج التنموية على مستوىً أكثر عال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رامج وسياسات رفع وتيرة التوعية بحقوق الإنسان، </a:t>
            </a:r>
            <a:r>
              <a:rPr b="0" lang="ar-JO" sz="1200" spc="-1" strike="noStrike">
                <a:solidFill>
                  <a:srgbClr val="000000"/>
                </a:solidFill>
                <a:latin typeface="Arial"/>
                <a:cs typeface="Arial"/>
              </a:rPr>
              <a:t>بما فيها حقوق المرأة، وذلك من خلال التثقيف بحقوق الإنسان في المدارس والجامعات ومؤسسات التعليم المهني، وتدريب موظفي الحكومة وغيرهم من المهنيين ذوي العلاقة، على حقوق الإنسان، بالإضافة إلى تنظيم وإطلاق حملات رفع وتيرة التوعية للجمهور الع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جود </a:t>
            </a:r>
            <a:r>
              <a:rPr b="1" lang="ar-JO" sz="1200" spc="-1" strike="noStrike">
                <a:solidFill>
                  <a:srgbClr val="000000"/>
                </a:solidFill>
                <a:latin typeface="Arial"/>
                <a:cs typeface="Arial"/>
              </a:rPr>
              <a:t>مجتمع مدني</a:t>
            </a:r>
            <a:r>
              <a:rPr b="0" lang="ar-JO" sz="1200" spc="-1" strike="noStrike">
                <a:solidFill>
                  <a:srgbClr val="000000"/>
                </a:solidFill>
                <a:latin typeface="Arial"/>
                <a:ea typeface="Arial"/>
              </a:rPr>
              <a:t> ديمقراطي ونابض بالحياة </a:t>
            </a:r>
            <a:r>
              <a:rPr b="1" lang="ar-JO" sz="1200" spc="-1" strike="noStrike">
                <a:solidFill>
                  <a:srgbClr val="000000"/>
                </a:solidFill>
                <a:latin typeface="Arial"/>
                <a:cs typeface="Arial"/>
              </a:rPr>
              <a:t>يتمتع فيه الرجال والنساء بالمشاركة التامة المتساوية،</a:t>
            </a:r>
            <a:r>
              <a:rPr b="0" lang="ar-JO" sz="1200" spc="-1" strike="noStrike">
                <a:solidFill>
                  <a:srgbClr val="000000"/>
                </a:solidFill>
                <a:latin typeface="Arial"/>
                <a:ea typeface="Arial"/>
              </a:rPr>
              <a:t> بما في ذلك توافر وسائل الإعلام المجانية والفعالة والمستقلة، ومجتمعات المدافعين عن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2600" y="695160"/>
            <a:ext cx="4653000" cy="3489480"/>
          </a:xfrm>
          <a:prstGeom prst="rect">
            <a:avLst/>
          </a:prstGeom>
          <a:ln w="0">
            <a:noFill/>
          </a:ln>
        </p:spPr>
      </p:sp>
      <p:sp>
        <p:nvSpPr>
          <p:cNvPr id="617" name="PlaceHolder 2"/>
          <p:cNvSpPr>
            <a:spLocks noGrp="1"/>
          </p:cNvSpPr>
          <p:nvPr>
            <p:ph type="body"/>
          </p:nvPr>
        </p:nvSpPr>
        <p:spPr>
          <a:xfrm>
            <a:off x="95400" y="4311720"/>
            <a:ext cx="6743520" cy="4984560"/>
          </a:xfrm>
          <a:prstGeom prst="rect">
            <a:avLst/>
          </a:prstGeom>
          <a:noFill/>
          <a:ln w="0">
            <a:noFill/>
          </a:ln>
        </p:spPr>
        <p:txBody>
          <a:bodyPr lIns="92160" rIns="92160" tIns="46080" bIns="46080" anchor="t">
            <a:noAutofit/>
          </a:bodyPr>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ع أنه قد يبدو أن نظام المعاهدات الدولية لحقوق الإنسان يركّز على المستوى الدولي أكثر من تركيزه على المستوى الوطني إلا أنه يتَّضح بجلاء أنّ تعزيز وحماية حقوق الإنسان على المستوى الوطني هو الأمر الأكثر أهميةً. فالمعايير المتفق عليها دولياً في المعاهدات تتطلَّب </a:t>
            </a:r>
            <a:r>
              <a:rPr b="1" lang="ar-JO" sz="1200" spc="-1" strike="noStrike">
                <a:solidFill>
                  <a:srgbClr val="000000"/>
                </a:solidFill>
                <a:latin typeface="Arial"/>
                <a:cs typeface="Arial"/>
              </a:rPr>
              <a:t>تنفيذاً فعالاً على المستوى الوطني</a:t>
            </a:r>
            <a:r>
              <a:rPr b="0" lang="ar-JO" sz="1200" spc="-1" strike="noStrike">
                <a:solidFill>
                  <a:srgbClr val="000000"/>
                </a:solidFill>
                <a:latin typeface="Arial"/>
                <a:ea typeface="Arial"/>
              </a:rPr>
              <a:t> لضمان أن يتمتع بها كل الرجال والنساء والأطفال في كل دول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لعب آليات العمل الدولية والإقليمية لحقوق الإنسان دوراً مهماً في دعم الجهود المبذولة </a:t>
            </a:r>
            <a:r>
              <a:rPr b="0" lang="ar-JO" sz="1200" spc="-1" strike="noStrike">
                <a:solidFill>
                  <a:srgbClr val="000000"/>
                </a:solidFill>
                <a:latin typeface="Arial"/>
                <a:cs typeface="Arial"/>
              </a:rPr>
              <a:t>لتقوية حماية حقوق الإنسان على المستوى الوطني. فأولاً، تعتبر عملية إبلاغ هيئات المعاهدة، في حد ذاتها، جزءاً مهماً من تطوير النظام الوطني لحماية حقوق الإنسان. وثانياً، تُقدِّم مخرجات هيئات المعاهدة المشورة العملية والمساعدات للدول حول كيفية تنفيذ المعاهدات على أفضل وجه.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ستطيع </a:t>
            </a:r>
            <a:r>
              <a:rPr b="1" lang="ar-JO" sz="1200" spc="-1" strike="noStrike">
                <a:solidFill>
                  <a:srgbClr val="000000"/>
                </a:solidFill>
                <a:latin typeface="Arial"/>
                <a:cs typeface="Arial"/>
              </a:rPr>
              <a:t>مخرجات هيئات المعاهدة</a:t>
            </a:r>
            <a:r>
              <a:rPr b="0" lang="ar-JO" sz="1200" spc="-1" strike="noStrike">
                <a:solidFill>
                  <a:srgbClr val="000000"/>
                </a:solidFill>
                <a:latin typeface="Arial"/>
                <a:ea typeface="Arial"/>
              </a:rPr>
              <a:t> أن تُقدِّم للدول، ولفرق الأمم المتحدة القطرية والمانحين، التوجيهات المفيدة بشأن المجالات ا</a:t>
            </a:r>
            <a:r>
              <a:rPr b="1" lang="ar-JO" sz="1200" spc="-1" strike="noStrike">
                <a:solidFill>
                  <a:srgbClr val="000000"/>
                </a:solidFill>
                <a:latin typeface="Arial"/>
                <a:cs typeface="Arial"/>
              </a:rPr>
              <a:t>لتي تحتاج إلى المزيد من العمل لتقوية أنظمة الحماية الوطنية لحقوق الإنسان</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ؤدي </a:t>
            </a:r>
            <a:r>
              <a:rPr b="1" lang="ar-JO" sz="1200" spc="-1" strike="noStrike">
                <a:solidFill>
                  <a:srgbClr val="000000"/>
                </a:solidFill>
                <a:latin typeface="Arial"/>
                <a:cs typeface="Arial"/>
              </a:rPr>
              <a:t>الترتيبات الإقليمية</a:t>
            </a:r>
            <a:r>
              <a:rPr b="0" lang="ar-JO" sz="1200" spc="-1" strike="noStrike">
                <a:solidFill>
                  <a:srgbClr val="000000"/>
                </a:solidFill>
                <a:latin typeface="Arial"/>
                <a:ea typeface="Arial"/>
              </a:rPr>
              <a:t> دوراً أساسياً في تعزيز وحماية حقوق الإنسان، حيث يجب أن تعزّز المعايير العالمية لحقوق الإنسان كما وردت في المعاهدات الدولية لحقوق الإنسان وفي سبل الحماية الخاصة بها. وقد صادق المؤتمر العالمي لحقوق الإنسان لعام </a:t>
            </a:r>
            <a:r>
              <a:rPr b="0" lang="ar-JO" sz="1200" spc="-1" strike="noStrike">
                <a:solidFill>
                  <a:srgbClr val="000000"/>
                </a:solidFill>
                <a:latin typeface="Arial"/>
                <a:ea typeface="Arial"/>
              </a:rPr>
              <a:t>1993</a:t>
            </a:r>
            <a:r>
              <a:rPr b="0" lang="ar-JO" sz="1200" spc="-1" strike="noStrike">
                <a:solidFill>
                  <a:srgbClr val="000000"/>
                </a:solidFill>
                <a:latin typeface="Arial"/>
                <a:ea typeface="Arial"/>
              </a:rPr>
              <a:t> على الجهود الجارية لتقوية هذه الترتيبات وزيادة فعاليتها، بينما أكّد أهمية التعاون مع نشاطات حقوق الإنسان التي تضطلع بها الأمم المتحدة. ويكرِّر المؤتمر العالمي لحقوق الإنسان ذكر الحاجة إلى دراسة إمكانية وضع ترتيبات إقليمية وشبه إقليمية لتعزيز وحماية حقوق الإنسان حيثما لا توجد تلك الترتيبات.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طيع الأنظمة الإقليمية والدولية لحقوق الإنسان تقديم حماية دولية لحقوق الإنسان. فعلى سبيل المثال، تعمل بعض هيئات المعاهدات كهيئات شبه قضائية تنظر في القضايا الفردية للانتهاكات المزعومة. إنَّ البرتوكولات الاختيارية للعهد الدولي للحقوق المدنية والسياسية واتفاقية القضاء على جميع أشكال التمييز ضد المرأة، والفقرات الاختيارية الموجودة في اتفاقية القضاء على جميع أشكال التمييز العنصري، واتفاقية مناهضة التعذيب وغيره من ضروب المعاملة أو العقوبة القاسية أو اللاإنسانية أو المهينة، والاتفاقية الدولية لحماية حقوق جميع العمال وأفراد أسرهم ... جميعها تنصّ على وجود مثل هذه الإجراءات. كما أنّ اللجان تدرس شكاوى كهذه وتنتهي إلى إصدار قرار نهائي بشأنها يكون غير ملزم لم يصدر بحقه، ويعلن فيما إذا كانت الشكوى غير مقبولة أم مقبولة – وفي الحالة الأخيرة (قبول الشكوى) – تصدر اللجان رأياً موضوعياً حول وقائع الحالة (يحدد فيما إذا كان قد تم (أم لم يتمّ) انتهاك الحقوق الإنسانية لأصحاب الشكاوى). وكما حدّد البروتوكول الاختياري للعهد الدولي للحقوق المدنية والسياسية، يجب على الفرد </a:t>
            </a:r>
            <a:r>
              <a:rPr b="1" lang="ar-JO" sz="1200" spc="-1" strike="noStrike">
                <a:solidFill>
                  <a:srgbClr val="000000"/>
                </a:solidFill>
                <a:latin typeface="Arial"/>
                <a:cs typeface="Arial"/>
              </a:rPr>
              <a:t>أن يكون قد استنفد جميع الحلول المحلية المتوافرة</a:t>
            </a:r>
            <a:r>
              <a:rPr b="0" lang="ar-JO" sz="1200" spc="-1" strike="noStrike">
                <a:solidFill>
                  <a:srgbClr val="000000"/>
                </a:solidFill>
                <a:latin typeface="Arial"/>
                <a:ea typeface="Arial"/>
              </a:rPr>
              <a:t> قبل اللجوء إلى اللجنة. ويجب أن لا تكون الإطالة غير المعقولة لعملية معالجة الطلبات الساعية إلى الحلول، هي القاعد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حمايات القضائية وشبه القضائية الدولية والإقليمية </a:t>
            </a:r>
            <a:r>
              <a:rPr b="1" lang="ar-JO" sz="1200" spc="-1" strike="noStrike">
                <a:solidFill>
                  <a:srgbClr val="000000"/>
                </a:solidFill>
                <a:latin typeface="Arial"/>
                <a:cs typeface="Arial"/>
              </a:rPr>
              <a:t>تُتَمِّم</a:t>
            </a:r>
            <a:r>
              <a:rPr b="0" lang="ar-JO" sz="1200" spc="-1" strike="noStrike">
                <a:solidFill>
                  <a:srgbClr val="000000"/>
                </a:solidFill>
                <a:latin typeface="Arial"/>
                <a:ea typeface="Arial"/>
              </a:rPr>
              <a:t> بعضها بعضاً، وهذا يعني عدم وجود تراتب (هرمي) بين النظامين. وعندما تستنفد الحلول (المعالجات) المحلية، يتوجب على الأفراد اختيار اللجوء إلى لجنة حقوق الإنسان أو إلى المفوَّضية عَبْر الأمريكية مثلاً، وليس إليهما مع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2600" y="695160"/>
            <a:ext cx="4653000" cy="3489480"/>
          </a:xfrm>
          <a:prstGeom prst="rect">
            <a:avLst/>
          </a:prstGeom>
          <a:ln w="0">
            <a:noFill/>
          </a:ln>
        </p:spPr>
      </p:sp>
      <p:sp>
        <p:nvSpPr>
          <p:cNvPr id="619" name="PlaceHolder 2"/>
          <p:cNvSpPr>
            <a:spLocks noGrp="1"/>
          </p:cNvSpPr>
          <p:nvPr>
            <p:ph type="body"/>
          </p:nvPr>
        </p:nvSpPr>
        <p:spPr>
          <a:xfrm>
            <a:off x="321840" y="4311720"/>
            <a:ext cx="62895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آليات العمل القائمة على المعاهدة</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هي عبارة عن هيئات أو لجان تقليدية، حيث تكون تفويضاتها/ولاياتها وأدوارها ووظائفها محدّدة في المعاهدات الدولية ل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هيئات المعاهدة (أو المعاهدات) هي عبارة عن لجان تتألف عضويتها من خبراء مستقلين يقومون بمراقبة تنفيذ المعاهدة من كل دولة طرف.</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a:t>
            </a:r>
            <a:r>
              <a:rPr b="1" lang="ar-JO" sz="1200" spc="-1" strike="noStrike" u="sng">
                <a:solidFill>
                  <a:srgbClr val="000000"/>
                </a:solidFill>
                <a:uFillTx/>
                <a:latin typeface="Arial"/>
                <a:ea typeface="Arial"/>
              </a:rPr>
              <a:t> دراسة تقارير الدول الأطراف</a:t>
            </a:r>
            <a:r>
              <a:rPr b="0" lang="ar-JO" sz="1200" spc="-1" strike="noStrike">
                <a:solidFill>
                  <a:srgbClr val="000000"/>
                </a:solidFill>
                <a:latin typeface="Arial"/>
                <a:ea typeface="Arial"/>
              </a:rPr>
              <a:t> جنباً إلى جنب مع المعلومات المستقاة من مصادر متنوعة، بما فيها مكاتب الأمم المتحدة القُطرية ومنظمات المجتمع المدني، تُفضي إلى إقرار التوصيات والملاحظات الختامية. ويتوقَّع من الدول الأطراف اتخاذ التدابير الضرورية لتنفيذ هذه التوصي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خِّص </a:t>
            </a:r>
            <a:r>
              <a:rPr b="1" lang="ar-JO" sz="1200" spc="-1" strike="noStrike" u="sng">
                <a:solidFill>
                  <a:srgbClr val="000000"/>
                </a:solidFill>
                <a:uFillTx/>
                <a:latin typeface="Arial"/>
                <a:cs typeface="Arial"/>
              </a:rPr>
              <a:t>التوصيات والملاحظات الختامية</a:t>
            </a:r>
            <a:r>
              <a:rPr b="0" lang="ar-JO" sz="1200" spc="-1" strike="noStrike">
                <a:solidFill>
                  <a:srgbClr val="000000"/>
                </a:solidFill>
                <a:latin typeface="Arial"/>
                <a:ea typeface="Arial"/>
              </a:rPr>
              <a:t> بواعث قلق محددة تتعلق بحقوق الإنسان للمساعدة على وضع الأولويات على المستوى الوطني، مما قد يوفّر إطاراً للعمل المشترك من قبل الحكومات، ووكالات الأمم المتحدة، والمنظمات غير الحكومية وشركاء آخرين. وتعتبر التوصيات والملاحظات الختامية مرجعاً وأدوات توجيهية للبرمجة، بما فيها عمليات التقييم القطري المشترك / إطار عمل الأمم المتحدة للمساعدات الإنمائ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ضح </a:t>
            </a:r>
            <a:r>
              <a:rPr b="1" lang="ar-JO" sz="1200" spc="-1" strike="noStrike" u="sng">
                <a:solidFill>
                  <a:srgbClr val="000000"/>
                </a:solidFill>
                <a:uFillTx/>
                <a:latin typeface="Arial"/>
                <a:cs typeface="Arial"/>
              </a:rPr>
              <a:t>التعليقات العامة</a:t>
            </a:r>
            <a:r>
              <a:rPr b="0" lang="ar-JO" sz="1200" spc="-1" strike="noStrike">
                <a:solidFill>
                  <a:srgbClr val="000000"/>
                </a:solidFill>
                <a:latin typeface="Arial"/>
                <a:ea typeface="Arial"/>
              </a:rPr>
              <a:t> المحتوى الفعلي لمعايير حقوق الإنسان الواردة في المعاهدة. وتقدم هذه التعليقات توجيهات أكثر تفصيلاً حول معنى المعايير الدولية لحقوق الإنسان في جميع مراحل البرمج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شكاوى الفردية</a:t>
            </a:r>
            <a:r>
              <a:rPr b="1" lang="ar-JO" sz="1200" spc="-1" strike="noStrike">
                <a:solidFill>
                  <a:srgbClr val="000000"/>
                </a:solidFill>
                <a:latin typeface="Arial"/>
                <a:ea typeface="Arial"/>
              </a:rPr>
              <a:t>:</a:t>
            </a:r>
            <a:r>
              <a:rPr b="0" lang="ar-JO" sz="1200" spc="-1" strike="noStrike">
                <a:solidFill>
                  <a:srgbClr val="000000"/>
                </a:solidFill>
                <a:latin typeface="Arial"/>
                <a:ea typeface="Arial"/>
              </a:rPr>
              <a:t> تعمل بعض هيئات المعاهدات كهيئات شبه قضائية تنظر في القضايا الفردية للانتهاكات المزعومة. إن البرتوكولات الاختيارية للعهد الدولي للحقوق المدنية والسياسية، ولاتفاقية القضاء على جميع أشكال التمييز ضد المرأة، والفقرات الاختيارية في اتفاقية القضاء على جميع أشكال التمييز العنصري، واتفاقية مناهضة التعذيب وغيره من ضروب المعاملة أو العقوبة القاسية أو اللاإنسانية أو المهينة، والاتفاقية الدولية لحماية حقوق جميع العمال وأفراد أسرهم جميعها تنص على مثل هذه الإجراءات. وتدرس اللجان شكاوى كهذه وتنتهي إلى إصدار قرار نهائي يكون غير ملزم لمن يصدر بحقه، ويعلن فيما إذا كانت الشكوى غير مقبولة أم مقبولة،– وفي الحالة الأخيرة (قبول الشكوى) - تُصدر اللجان رأياً موضوعياً حول وقائع الحالة (يحدد فيما إذا قد تم (أم لم يتم) انتهاك الحقوق الإنسانية لأصحاب الشكاو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استيضاحات (التحقيقات) السرية:</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تنص اتفاقية مناهضة التعذيب وغيره من ضروب المعاملة أو العقوبة القاسية أو اللاإنسانية أو المهينة، والبروتوكول الاختياري لاتفاقية القضاء على جميع أشكال التمييز ضد المرأة على اتِّخاذ إجراء لاستيضاح (لتحقيق) ينطلق من مبادرة ذاتية، من قبل هيئات المعاهدة الخاصة (ويعرف هذا الإجراء أيضاً بتعبير "قائم على مبادرة ذاتية"). وإذا تلقَّت اللجنة معلومات موثوق بها ومقنعة حول ممارسة التعذيب أو التمييز ضد المرأة على التوالي، بشكل نظامي ممنهج في أي إقليم من أقاليم الدولة الطرف، فقد ترسل هيئة المعاهدة بعثةً لتقصي الحقائق في الدولة المعنية، على أن يخضع ذلك لموافقة الحكومة. وقد أجرت لجنة اتفاقية مناهضة التعذيب وغيره من ضروب المعاملة أو العقوبة القاسية أو اللاإنسانية أو المهينة حتى الآن ستة استيضاحات (تحقيقات) (في مصر، والمكسيك، وبيرو، وصربيا، والجبل الأسود، وسري لانكا، وتركيا). وقد بدأت لجنة اتفاقية القضاء على جميع أشكال التمييز ضد المرأة إجراء استيضاح/تحقيق يتعلق بالمكسيك.</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2600" y="695160"/>
            <a:ext cx="4653000" cy="3489480"/>
          </a:xfrm>
          <a:prstGeom prst="rect">
            <a:avLst/>
          </a:prstGeom>
          <a:ln w="0">
            <a:noFill/>
          </a:ln>
        </p:spPr>
      </p:sp>
      <p:sp>
        <p:nvSpPr>
          <p:cNvPr id="621" name="PlaceHolder 2"/>
          <p:cNvSpPr>
            <a:spLocks noGrp="1"/>
          </p:cNvSpPr>
          <p:nvPr>
            <p:ph type="body"/>
          </p:nvPr>
        </p:nvSpPr>
        <p:spPr>
          <a:xfrm>
            <a:off x="236160" y="4311360"/>
            <a:ext cx="6537240" cy="45860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مكانيات التعاون بين فرق الأمم المتحدة القُطرية وهيئات المعاهد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دم هيئاتُ معاهدة حقوق الإنسان عدداً من </a:t>
            </a:r>
            <a:r>
              <a:rPr b="1" lang="ar-JO" sz="1200" spc="-1" strike="noStrike">
                <a:solidFill>
                  <a:srgbClr val="000000"/>
                </a:solidFill>
                <a:latin typeface="Arial"/>
                <a:cs typeface="Arial"/>
              </a:rPr>
              <a:t>المداخل (نقاط الدخول)</a:t>
            </a:r>
            <a:r>
              <a:rPr b="0" lang="ar-JO" sz="1200" spc="-1" strike="noStrike">
                <a:solidFill>
                  <a:srgbClr val="000000"/>
                </a:solidFill>
                <a:latin typeface="Arial"/>
                <a:ea typeface="Arial"/>
              </a:rPr>
              <a:t> المفيدة وفرصاً </a:t>
            </a:r>
            <a:r>
              <a:rPr b="1" lang="ar-JO" sz="1200" spc="-1" strike="noStrike">
                <a:solidFill>
                  <a:srgbClr val="000000"/>
                </a:solidFill>
                <a:latin typeface="Arial"/>
                <a:cs typeface="Arial"/>
              </a:rPr>
              <a:t>للمشاركة</a:t>
            </a:r>
            <a:r>
              <a:rPr b="0" lang="ar-JO" sz="1200" spc="-1" strike="noStrike">
                <a:solidFill>
                  <a:srgbClr val="000000"/>
                </a:solidFill>
                <a:latin typeface="Arial"/>
                <a:ea typeface="Arial"/>
              </a:rPr>
              <a:t> من قبل فرق الأمم المتحدة القُطرية. فعلى سبيل المثال، تستطيع فرق الأمم المتحدة القُطرية، بشكل منتظم، تسهيل المشاركة في عملية الإبلاغ من قبل الدول والمنظمات غير الحكومية، حيثما كان ذلك ملائماً، وتقديم بيانات دقيقة إلى اللّجان. كما تستطيع استخدام مخرجاتها كأداة للبرمجة. وتُحوِّل المشاركات من هذا القبيل نشاط الإبلاغ إلى أداة ديناميكية للتقييم والحوار مع الدول، ووكالات الأمم المتحدة والمنظمات غير الحكومية، الأمر الذي يمكن أن يوفّر إطار عمل أساسي لإخضاع الدول الأطراف للمساءلة عن التزاماتهما تجاه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أمثلة على "ممارسة فضل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عم عملية الإبلاغ: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شجيع على الامتثال لالتزامات عملية الإبلاغ </a:t>
            </a:r>
            <a:r>
              <a:rPr b="0" lang="ar-JO" sz="1200" spc="-1" strike="noStrike">
                <a:solidFill>
                  <a:srgbClr val="000000"/>
                </a:solidFill>
                <a:latin typeface="Arial"/>
                <a:cs typeface="Arial"/>
              </a:rPr>
              <a:t>في الوقت المناسب، وبما ينسجم مع مبادئ الإبلاغ التوجيهية لدى اللّجان المعنية، بما في ذلك الإبلاغ عن ورشات العمل وغيرها من نشاطات بناء القدرات التي ينفّذها كل من الحكومة والمجتمع المدن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1</a:t>
            </a:r>
            <a:r>
              <a:rPr b="1" lang="ar-JO" sz="1200" spc="-1" strike="noStrike" u="sng">
                <a:solidFill>
                  <a:srgbClr val="000000"/>
                </a:solidFill>
                <a:uFillTx/>
                <a:latin typeface="Arial"/>
                <a:ea typeface="Arial"/>
              </a:rPr>
              <a:t>:</a:t>
            </a:r>
            <a:r>
              <a:rPr b="0" lang="ar-JO" sz="1200" spc="-1" strike="noStrike">
                <a:solidFill>
                  <a:srgbClr val="000000"/>
                </a:solidFill>
                <a:latin typeface="Arial"/>
                <a:ea typeface="Arial"/>
              </a:rPr>
              <a:t> باستخدام مواد خاصة بالمفوضية السامية لحقوق الإنسان وتتعلق بعملية إبلاغ هيئة المعاهدة، وعلى وجه التحديد، دليل الأمم المتحدة للإبلاغ عن حقوق الإنسان، فقد شارك المكتب القُطري لبرنامج الأمم المتحدة الإنمائي في كازاخستان في مساعدة الحكومة في عملية الإبلاغ عن تنفيذ المعاهدة، وخصوصاً فيما يتعلق بالتقارير المطلوبة ضمن اتفاقية مناهضة التعذيب وغيره من ضروب المعاملة أو العقوبة القاسية أو اللاإنسانية أو المهينة، واتفاقية القضاء على جميع أشكال التمييز ضد المرأة، واتفاقية حقوق الطفل، واتفاقية القضاء على جميع أشكال التمييز العنصري. وقد اشتملت النشاطات على ما يلي: إعداد مواد تحليلية ومعلوماتية ليتم نشرها باللغة المحلية، وتنظيم ورشات عمل متعددة لإبراز تلك المبادئ التوجيهية، وإجراء الاتصالات المنتظمة مع مجموعات العمل المشتركة بين الوزارات والمسؤولة عن إعداد التقارير والمناصرة وكسب التأييد لشمول ممثلي المنظمات غير الحكومية في هذه المجموعات، وضمان جودة المعلوم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شجيع على إنشاء إطار عمل مؤسسي </a:t>
            </a:r>
            <a:r>
              <a:rPr b="0" lang="ar-JO" sz="1200" spc="-1" strike="noStrike">
                <a:solidFill>
                  <a:srgbClr val="000000"/>
                </a:solidFill>
                <a:latin typeface="Arial"/>
                <a:cs typeface="Arial"/>
              </a:rPr>
              <a:t>لإعداد التقارير وآليات العمل، للسماح لجميع قطاعات المجتمع بالمشاركة في عملية الإبلاغ وتنفيذ التوصي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2</a:t>
            </a:r>
            <a:r>
              <a:rPr b="1" i="1" lang="ar-JO" sz="1200" spc="-1" strike="noStrike">
                <a:solidFill>
                  <a:srgbClr val="000000"/>
                </a:solidFill>
                <a:latin typeface="Arial"/>
                <a:ea typeface="Arial"/>
              </a:rPr>
              <a:t>:</a:t>
            </a:r>
            <a:r>
              <a:rPr b="0" lang="ar-JO" sz="1200" spc="-1" strike="noStrike">
                <a:solidFill>
                  <a:srgbClr val="000000"/>
                </a:solidFill>
                <a:latin typeface="Arial"/>
                <a:ea typeface="Arial"/>
              </a:rPr>
              <a:t> في ديسمبر / كانون الأول عام </a:t>
            </a:r>
            <a:r>
              <a:rPr b="0" lang="ar-JO" sz="1200" spc="-1" strike="noStrike">
                <a:solidFill>
                  <a:srgbClr val="000000"/>
                </a:solidFill>
                <a:latin typeface="Arial"/>
                <a:ea typeface="Arial"/>
              </a:rPr>
              <a:t>2003</a:t>
            </a:r>
            <a:r>
              <a:rPr b="0" lang="ar-JO" sz="1200" spc="-1" strike="noStrike">
                <a:solidFill>
                  <a:srgbClr val="000000"/>
                </a:solidFill>
                <a:latin typeface="Arial"/>
                <a:cs typeface="Arial"/>
              </a:rPr>
              <a:t>، وقَّعت منظومة الأمم المتحدة في الإكوادور على اتفاقية تعاون مشترك بين المؤسسات مع وزارة (الشؤون) الخارجية. وتهدف الاتفاقية إلى توفير المساعدة للهيئة العامة للتنسيق بشأن حقوق الإنسان المُناط بها، من جملة أمور أخرى، مهمة تنسيق عملية إعداد التقارير المرفوعة إلى هيئات المعاهدة. ورغم صغر حجم المبلغ الممنوح لهذا المشروع الصغير الذي نفّذه فريق الأمم المتحدة القطري، ومقداره (</a:t>
            </a:r>
            <a:r>
              <a:rPr b="0" lang="ar-JO" sz="1200" spc="-1" strike="noStrike">
                <a:solidFill>
                  <a:srgbClr val="000000"/>
                </a:solidFill>
                <a:latin typeface="Arial"/>
                <a:ea typeface="Arial"/>
              </a:rPr>
              <a:t>10.000</a:t>
            </a:r>
            <a:r>
              <a:rPr b="0" lang="ar-JO" sz="1200" spc="-1" strike="noStrike">
                <a:solidFill>
                  <a:srgbClr val="000000"/>
                </a:solidFill>
                <a:latin typeface="Arial"/>
                <a:ea typeface="Arial"/>
              </a:rPr>
              <a:t> دولار أمريكي)، إلا أنه أتاح الفرصة لتنفيذ سلسلة من النشاطات التي اشتملت على: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1</a:t>
            </a:r>
            <a:r>
              <a:rPr b="0" lang="ar-JO" sz="1200" spc="-1" strike="noStrike">
                <a:solidFill>
                  <a:srgbClr val="000000"/>
                </a:solidFill>
                <a:latin typeface="Arial"/>
                <a:ea typeface="Arial"/>
              </a:rPr>
              <a:t>) عقد اجتماعات منتظمة لمجموعات العمل المختلفة التي تهدف إلى إعداد مختلف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2</a:t>
            </a:r>
            <a:r>
              <a:rPr b="0" lang="ar-JO" sz="1200" spc="-1" strike="noStrike">
                <a:solidFill>
                  <a:srgbClr val="000000"/>
                </a:solidFill>
                <a:latin typeface="Arial"/>
                <a:ea typeface="Arial"/>
              </a:rPr>
              <a:t>) قيام بعثة من المفوضية السامية لحقوق الإنسان بتقديم التوجيه حول عملية كتابة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3</a:t>
            </a:r>
            <a:r>
              <a:rPr b="0" lang="ar-JO" sz="1200" spc="-1" strike="noStrike">
                <a:solidFill>
                  <a:srgbClr val="000000"/>
                </a:solidFill>
                <a:latin typeface="Arial"/>
                <a:ea typeface="Arial"/>
              </a:rPr>
              <a:t>) إعداد نشرة تحتوي على معلومات عملية حول كيفية تقديم التقارير. </a:t>
            </a:r>
            <a:r>
              <a:rPr b="0" lang="ar-JO" sz="1200" spc="-1" strike="noStrike">
                <a:solidFill>
                  <a:srgbClr val="000000"/>
                </a:solidFill>
                <a:latin typeface="Arial"/>
                <a:ea typeface="Arial"/>
              </a:rPr>
              <a:t>4</a:t>
            </a:r>
            <a:r>
              <a:rPr b="0" lang="ar-JO" sz="1200" spc="-1" strike="noStrike">
                <a:solidFill>
                  <a:srgbClr val="000000"/>
                </a:solidFill>
                <a:latin typeface="Arial"/>
                <a:ea typeface="Arial"/>
              </a:rPr>
              <a:t>) إنشاء موقع إلكتروني للّجنة العامة للتنسيق لتوفير معلومات حول المستجدات المتعلقة بإعداد التقارير لهيئات المعاه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داة للمناصرة وكسب التأييد:</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لفرق الأمم المتحدة القُطرية متابعة تنفيذ الدول الأطراف للملاحظات والتوصيات الختامية الصادرة عن هيئة المعاهدة، إضافة إلى لفت انتباه الجهات الفاعلة الأخرى إلى تلك الملاحظات والتوصيات، بما فيها المؤسسات الوطنية لحقوق الإنسان والمنظمات غير الحكومية. ويمكن لفرق الأمم المتحدة القُطرية استخدام تلك التوصيات بوصفها أداة لتشجيع ما يلزم من المراجعات أو التغييرات التشريعية والسياساتية والبرامجية وتلك المتعلقة بالموازنة، إضافة إلى التنفيذ الفعال للتشريعات أو السياسات الموجودة. كذلك يجب على تلك التوصيات أن تكون مصدر إلهام لعمل الأمم المتحدة على المستوى القُطري، وأن تُسهم في التقييمات القطرية المشتركة / أطر عمل الأمم المتحدة للمساعدات الإنمائ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ممارسة الفضلى </a:t>
            </a:r>
            <a:r>
              <a:rPr b="1" lang="ar-JO" sz="1200" spc="-1" strike="noStrike" u="sng">
                <a:solidFill>
                  <a:srgbClr val="000000"/>
                </a:solidFill>
                <a:uFillTx/>
                <a:latin typeface="Arial"/>
                <a:ea typeface="Arial"/>
              </a:rPr>
              <a:t>3</a:t>
            </a:r>
            <a:r>
              <a:rPr b="1" i="1" lang="ar-JO" sz="1200" spc="-1" strike="noStrike">
                <a:solidFill>
                  <a:srgbClr val="000000"/>
                </a:solidFill>
                <a:latin typeface="Arial"/>
                <a:ea typeface="Arial"/>
              </a:rPr>
              <a:t>: </a:t>
            </a:r>
            <a:r>
              <a:rPr b="0" lang="ar-JO" sz="1200" spc="-1" strike="noStrike">
                <a:solidFill>
                  <a:srgbClr val="000000"/>
                </a:solidFill>
                <a:latin typeface="Arial"/>
                <a:cs typeface="Arial"/>
              </a:rPr>
              <a:t>قام برنامج الأمم المتحدة الإنمائي في زامبيا بتدريب المسؤولين الحكوميين على عملية الإبلاغ من جانب الدولة، ويعمل البرنامج الآن، بالتعاون مع لجنة حقوق الإنسان ووزارة العدل، على التخطيط لعقد ورشة عمل مشتركة تهدف إلى نشر تقارير الدولة وإلى اكتشاف الخطوات التالية لتوجيه الحكومة في عملية تطوير السياسات المستقبل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2600" y="695160"/>
            <a:ext cx="4653000" cy="3489480"/>
          </a:xfrm>
          <a:prstGeom prst="rect">
            <a:avLst/>
          </a:prstGeom>
          <a:ln w="0">
            <a:noFill/>
          </a:ln>
        </p:spPr>
      </p:sp>
      <p:sp>
        <p:nvSpPr>
          <p:cNvPr id="623" name="PlaceHolder 2"/>
          <p:cNvSpPr>
            <a:spLocks noGrp="1"/>
          </p:cNvSpPr>
          <p:nvPr>
            <p:ph type="body"/>
          </p:nvPr>
        </p:nvSpPr>
        <p:spPr>
          <a:xfrm>
            <a:off x="398160" y="4416480"/>
            <a:ext cx="6213240" cy="44114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الذي يجعل مجلس حقوق الإنسان مختلفاً عن سلفه: المفوضية السامي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ف المفوض السامي للأمم المتحدة لحقوق الإنسان، لويس آربور، تأسيس مجلس الأمم المتحدة لحقوق الإنسان بأنه أكثر من مفوّضية "جديدة ومحسَّنة" تُعنى بحقوق الإنسان، وهي المفوَّضية التي يحل محلّها. فبالإضافة إلى الاحتفاظ ببعض أفضل عناصر المفوّضية، مثل نظام المحقِّقين المستقلين والمشاركة الواسعة للمجتمع المدني، ثمة خصائص جديدة عديدة تجعل من المجلس هيئة أو مفوَّضية أقوى، ومن هذه الخصائص: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وجب على المرشحين للعضوية تقديم التزامات ملموسة لتعزيز حقوق الإنسان ودعمها </a:t>
            </a:r>
            <a:r>
              <a:rPr b="1" lang="ar-JO" sz="1200" spc="-1" strike="noStrike">
                <a:solidFill>
                  <a:srgbClr val="000000"/>
                </a:solidFill>
                <a:latin typeface="Arial"/>
                <a:ea typeface="Arial"/>
              </a:rPr>
              <a:t>(تعهدات الدولة لمجلس حقوق الإنسان).</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على المرشحين للعضوية التنافس على مقاعد عضوية المجلس، وهم بحاجة إلى الفوز بدعم غالبية جميع الدول الأعضاء ضمن عملية اقتراع سر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يكون الأعضاء المنتخبون من أوائل الخاضعين للتدقيق والفحص ضمن مراجعة دورية عامة لسجلاتهم المتعلقة ب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أعضاء الذين يرتكبون انتهاكات جسيمة ومنتظمة لحقوق الإنسان تُوقف عضويت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وقع من الأعضاء الالتزام بالتعاون مع المجلس ومع مختلف آليات عمل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يجتمع المجلس طوال العام بما لا يقل عن جلسات لمدة </a:t>
            </a:r>
            <a:r>
              <a:rPr b="0" lang="ar-JO" sz="1200" spc="-1" strike="noStrike">
                <a:solidFill>
                  <a:srgbClr val="000000"/>
                </a:solidFill>
                <a:latin typeface="Arial"/>
                <a:ea typeface="Arial"/>
              </a:rPr>
              <a:t>10</a:t>
            </a:r>
            <a:r>
              <a:rPr b="0" lang="ar-JO" sz="1200" spc="-1" strike="noStrike">
                <a:solidFill>
                  <a:srgbClr val="000000"/>
                </a:solidFill>
                <a:latin typeface="Arial"/>
                <a:ea typeface="Arial"/>
              </a:rPr>
              <a:t> أسابيع بدلاً عن الجلسة الوحيدة للمفوضية لمدة ستة أسابيع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يف يُعتبر انتخاب أعضاء المجلس تحسّ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مثِّل الطريقة التي يتم من خلالها انتخاب أعضاء المجلس تحسُّناً / تطوراً كبيراً عما كان عليه الحال في المفوَّضية السابقة. ويتطلب انتخاب المجلس الحصول على غالبية مطلقة من الدول الأعضاء في الأمم المتحدة: فمن بين الدول الأعضاء في الأمم المتحدة، البالغ عددها </a:t>
            </a:r>
            <a:r>
              <a:rPr b="0" lang="ar-JO" sz="1200" spc="-1" strike="noStrike">
                <a:solidFill>
                  <a:srgbClr val="000000"/>
                </a:solidFill>
                <a:latin typeface="Arial"/>
                <a:ea typeface="Arial"/>
              </a:rPr>
              <a:t>191</a:t>
            </a:r>
            <a:r>
              <a:rPr b="0" lang="ar-JO" sz="1200" spc="-1" strike="noStrike">
                <a:solidFill>
                  <a:srgbClr val="000000"/>
                </a:solidFill>
                <a:latin typeface="Arial"/>
                <a:ea typeface="Arial"/>
              </a:rPr>
              <a:t> عضواً، يجب أن يدعم </a:t>
            </a:r>
            <a:r>
              <a:rPr b="0" lang="ar-JO" sz="1200" spc="-1" strike="noStrike">
                <a:solidFill>
                  <a:srgbClr val="000000"/>
                </a:solidFill>
                <a:latin typeface="Arial"/>
                <a:ea typeface="Arial"/>
              </a:rPr>
              <a:t>96</a:t>
            </a:r>
            <a:r>
              <a:rPr b="0" lang="ar-JO" sz="1200" spc="-1" strike="noStrike">
                <a:solidFill>
                  <a:srgbClr val="000000"/>
                </a:solidFill>
                <a:latin typeface="Arial"/>
                <a:ea typeface="Arial"/>
              </a:rPr>
              <a:t> عضواً منهم على الأقل عضوية الدولة من خلال اقتراع سري. إن هذا الحد الأدنى أكبر بكثير من الأصوات البالغ عددها </a:t>
            </a:r>
            <a:r>
              <a:rPr b="0" lang="ar-JO" sz="1200" spc="-1" strike="noStrike">
                <a:solidFill>
                  <a:srgbClr val="000000"/>
                </a:solidFill>
                <a:latin typeface="Arial"/>
                <a:ea typeface="Arial"/>
              </a:rPr>
              <a:t>28</a:t>
            </a:r>
            <a:r>
              <a:rPr b="0" lang="ar-JO" sz="1200" spc="-1" strike="noStrike">
                <a:solidFill>
                  <a:srgbClr val="000000"/>
                </a:solidFill>
                <a:latin typeface="Arial"/>
                <a:ea typeface="Arial"/>
              </a:rPr>
              <a:t> صوتاً أو أقل، التي كان يمكنها الحصول على عضوية الدولة في المفوَّضية، وسوف يسمح هذا الحد للدول بمنع انتخاب مرتكبي الانتهاكات الشائنة والفظيعة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هم الأعضاء الذين يشكلون المجلس الجدي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لغ عدد الأعضاء المنتخبين لعضوية المجلس </a:t>
            </a:r>
            <a:r>
              <a:rPr b="0" lang="ar-JO" sz="1200" spc="-1" strike="noStrike">
                <a:solidFill>
                  <a:srgbClr val="000000"/>
                </a:solidFill>
                <a:latin typeface="Arial"/>
                <a:ea typeface="Arial"/>
              </a:rPr>
              <a:t>47</a:t>
            </a:r>
            <a:r>
              <a:rPr b="0" lang="ar-JO" sz="1200" spc="-1" strike="noStrike">
                <a:solidFill>
                  <a:srgbClr val="000000"/>
                </a:solidFill>
                <a:latin typeface="Arial"/>
                <a:ea typeface="Arial"/>
              </a:rPr>
              <a:t> دولة في </a:t>
            </a:r>
            <a:r>
              <a:rPr b="0" lang="ar-JO" sz="1200" spc="-1" strike="noStrike">
                <a:solidFill>
                  <a:srgbClr val="000000"/>
                </a:solidFill>
                <a:latin typeface="Arial"/>
                <a:ea typeface="Arial"/>
              </a:rPr>
              <a:t>9</a:t>
            </a:r>
            <a:r>
              <a:rPr b="0" lang="ar-JO" sz="1200" spc="-1" strike="noStrike">
                <a:solidFill>
                  <a:srgbClr val="000000"/>
                </a:solidFill>
                <a:latin typeface="Arial"/>
                <a:ea typeface="Arial"/>
              </a:rPr>
              <a:t> مايو / أيار عام </a:t>
            </a:r>
            <a:r>
              <a:rPr b="0" lang="ar-JO" sz="1200" spc="-1" strike="noStrike">
                <a:solidFill>
                  <a:srgbClr val="000000"/>
                </a:solidFill>
                <a:latin typeface="Arial"/>
                <a:ea typeface="Arial"/>
              </a:rPr>
              <a:t>2006</a:t>
            </a:r>
            <a:r>
              <a:rPr b="0" lang="ar-JO" sz="1200" spc="-1" strike="noStrike">
                <a:solidFill>
                  <a:srgbClr val="000000"/>
                </a:solidFill>
                <a:latin typeface="Arial"/>
                <a:ea typeface="Arial"/>
              </a:rPr>
              <a:t>. وقد تم انتخابهم وفقاً للتمثيل الجغرافي: حيث تم انتخاب </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دولة من المجموعة الإفريقية، و </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دولة من المجموعة الآسيوية، و </a:t>
            </a:r>
            <a:r>
              <a:rPr b="0" lang="ar-JO" sz="1200" spc="-1" strike="noStrike">
                <a:solidFill>
                  <a:srgbClr val="000000"/>
                </a:solidFill>
                <a:latin typeface="Arial"/>
                <a:ea typeface="Arial"/>
              </a:rPr>
              <a:t>6</a:t>
            </a:r>
            <a:r>
              <a:rPr b="0" lang="ar-JO" sz="1200" spc="-1" strike="noStrike">
                <a:solidFill>
                  <a:srgbClr val="000000"/>
                </a:solidFill>
                <a:latin typeface="Arial"/>
                <a:ea typeface="Arial"/>
              </a:rPr>
              <a:t> دول من مجموعة أوروبا الشرقية، و </a:t>
            </a:r>
            <a:r>
              <a:rPr b="0" lang="ar-JO" sz="1200" spc="-1" strike="noStrike">
                <a:solidFill>
                  <a:srgbClr val="000000"/>
                </a:solidFill>
                <a:latin typeface="Arial"/>
                <a:ea typeface="Arial"/>
              </a:rPr>
              <a:t>8</a:t>
            </a:r>
            <a:r>
              <a:rPr b="0" lang="ar-JO" sz="1200" spc="-1" strike="noStrike">
                <a:solidFill>
                  <a:srgbClr val="000000"/>
                </a:solidFill>
                <a:latin typeface="Arial"/>
                <a:ea typeface="Arial"/>
              </a:rPr>
              <a:t> دول من مجموعة أمريكا اللاتينية والكاريبي، و </a:t>
            </a:r>
            <a:r>
              <a:rPr b="0" lang="ar-JO" sz="1200" spc="-1" strike="noStrike">
                <a:solidFill>
                  <a:srgbClr val="000000"/>
                </a:solidFill>
                <a:latin typeface="Arial"/>
                <a:ea typeface="Arial"/>
              </a:rPr>
              <a:t>7</a:t>
            </a:r>
            <a:r>
              <a:rPr b="0" lang="ar-JO" sz="1200" spc="-1" strike="noStrike">
                <a:solidFill>
                  <a:srgbClr val="000000"/>
                </a:solidFill>
                <a:latin typeface="Arial"/>
                <a:ea typeface="Arial"/>
              </a:rPr>
              <a:t> دول من مجموعة أوروبا الغربية ومن غيرها من الدول.</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2600" y="695160"/>
            <a:ext cx="4653000" cy="3489480"/>
          </a:xfrm>
          <a:prstGeom prst="rect">
            <a:avLst/>
          </a:prstGeom>
          <a:ln w="0">
            <a:noFill/>
          </a:ln>
        </p:spPr>
      </p:sp>
      <p:sp>
        <p:nvSpPr>
          <p:cNvPr id="625"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الإجراءات الخاصة"</a:t>
            </a:r>
            <a:r>
              <a:rPr b="0" lang="ar-JO" sz="1200" spc="-1" strike="noStrike">
                <a:solidFill>
                  <a:srgbClr val="000000"/>
                </a:solidFill>
                <a:latin typeface="Arial"/>
                <a:ea typeface="Arial"/>
              </a:rPr>
              <a:t> هو الاسم العام لآليات العمل التي يضطلع بها مجلس حقوق الإنسان للتصدي إما لأوضاع معيَّنة في الدول وإما لقضايا محورية رئيسة (مواضيعية) في جميع أنحاء العالم. ويوجد في الوقت الحاضر </a:t>
            </a:r>
            <a:r>
              <a:rPr b="0" lang="ar-JO" sz="1200" spc="-1" strike="noStrike">
                <a:solidFill>
                  <a:srgbClr val="000000"/>
                </a:solidFill>
                <a:latin typeface="Arial"/>
                <a:ea typeface="Arial"/>
              </a:rPr>
              <a:t>28</a:t>
            </a:r>
            <a:r>
              <a:rPr b="0" lang="ar-JO" sz="1200" spc="-1" strike="noStrike">
                <a:solidFill>
                  <a:srgbClr val="000000"/>
                </a:solidFill>
                <a:latin typeface="Arial"/>
                <a:ea typeface="Arial"/>
              </a:rPr>
              <a:t> هيئة مفوّضة تفويضاً يتعلق بالقضايا المحورية أو الرئيسية و</a:t>
            </a:r>
            <a:r>
              <a:rPr b="0" lang="ar-JO" sz="1200" spc="-1" strike="noStrike">
                <a:solidFill>
                  <a:srgbClr val="000000"/>
                </a:solidFill>
                <a:latin typeface="Arial"/>
                <a:ea typeface="Arial"/>
              </a:rPr>
              <a:t>13</a:t>
            </a:r>
            <a:r>
              <a:rPr b="0" lang="ar-JO" sz="1200" spc="-1" strike="noStrike">
                <a:solidFill>
                  <a:srgbClr val="000000"/>
                </a:solidFill>
                <a:latin typeface="Arial"/>
                <a:ea typeface="Arial"/>
              </a:rPr>
              <a:t> هيئة مفوّضةً تفويضاً يتعلق </a:t>
            </a:r>
            <a:r>
              <a:rPr b="1" lang="ar-JO" sz="1200" spc="-1" strike="noStrike" u="sng">
                <a:solidFill>
                  <a:srgbClr val="000000"/>
                </a:solidFill>
                <a:uFillTx/>
                <a:latin typeface="Arial"/>
                <a:cs typeface="Arial"/>
              </a:rPr>
              <a:t>بالدول</a:t>
            </a:r>
            <a:r>
              <a:rPr b="0" lang="ar-JO" sz="1200" spc="-1" strike="noStrike">
                <a:solidFill>
                  <a:srgbClr val="000000"/>
                </a:solidFill>
                <a:latin typeface="Arial"/>
                <a:ea typeface="Arial"/>
              </a:rPr>
              <a:t>. ويزود مكتب المفوضية السامية لحقوق الإنسان آليات العمل هذه بالكوادر وبالمساعدات اللوجستية لمساعدتهم على القيام بواجباتهم التفويض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رغم من اختلاف التفويضات الممنوحة لآليات العمل المعنية بالإجراءات الخاصة، إلاّ أنها جميعها تعمل عادة على دراسة أوضاع حقوق الإنسان ومراقبتها، وتقديم المشورة لها والإبلاغ عنها علانيةً، في دول أو أقاليم محددة، ويعرف ذلك </a:t>
            </a:r>
            <a:r>
              <a:rPr b="1" lang="ar-JO" sz="1200" spc="-1" strike="noStrike">
                <a:solidFill>
                  <a:srgbClr val="000000"/>
                </a:solidFill>
                <a:latin typeface="Arial"/>
                <a:cs typeface="Arial"/>
              </a:rPr>
              <a:t>بالتفويضات المعنية بالدول، أو بالتفويضات المواضيعية (المعنية بالمحاور أو بالقضايا الرئيسة) التي تتناول ظواهر رئيسة </a:t>
            </a:r>
            <a:r>
              <a:rPr b="0" lang="ar-JO" sz="1200" spc="-1" strike="noStrike">
                <a:solidFill>
                  <a:srgbClr val="000000"/>
                </a:solidFill>
                <a:latin typeface="Arial"/>
                <a:cs typeface="Arial"/>
              </a:rPr>
              <a:t>لانتهاكات حقوق الإنسان على مستوى العال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كون الإجراءات الخاصة إما فردية (وتسمّى "المقرر الخاص"، أو "الممثل الخاص للأمين العام"، أو "ممثل الأمين العام"، أو "الخبير المستقل")، وإما جماعية: مجموعة عمل تتألف عادةً من خمسة أعضاء. أما التفويضات المعنية بالإجراءات الخاصة فيتم تحديدها وتعريفها في القرار الذي يُنشئ تلك التفويضات. ويعمل أصحاب أو حَمَلة التفويضات المعنيين بالإجراءات الخاصة بصفتهم الشخصية، ولا يتلقون رواتب أو أية مكافآت مالية لقاء عملهم. وتعتبر الحالة المستقلة لأصحاب التفويضات أساسية ليكونوا قادرين على إنجاز وظائفهم بنزاهة تام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2600" y="695160"/>
            <a:ext cx="4653000" cy="3489480"/>
          </a:xfrm>
          <a:prstGeom prst="rect">
            <a:avLst/>
          </a:prstGeom>
          <a:ln w="0">
            <a:noFill/>
          </a:ln>
        </p:spPr>
      </p:sp>
      <p:sp>
        <p:nvSpPr>
          <p:cNvPr id="627"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وم الإجراءات الخاصة (آليات العمل) بزيارات للدول أو ببعثات لتقصّي الحقائق، </a:t>
            </a:r>
            <a:r>
              <a:rPr b="0" lang="ar-JO" sz="1200" spc="-1" strike="noStrike">
                <a:solidFill>
                  <a:srgbClr val="000000"/>
                </a:solidFill>
                <a:latin typeface="Arial"/>
                <a:cs typeface="Arial"/>
              </a:rPr>
              <a:t>وتتمخض تلك الزيارات والحملات عن إعداد تقارير عامة تحتوي على ملاحظات وتوصيات للدول ينبغي عليها متابع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تلقَّى معظم الإجراءات الخاصة معلومات حول ادعاءات أو مزاعم محددة لانتهاكات حقوق الإنسان، وترسل </a:t>
            </a:r>
            <a:r>
              <a:rPr b="1" lang="ar-JO" sz="1200" spc="-1" strike="noStrike" u="sng">
                <a:solidFill>
                  <a:srgbClr val="000000"/>
                </a:solidFill>
                <a:uFillTx/>
                <a:latin typeface="Arial"/>
                <a:cs typeface="Arial"/>
              </a:rPr>
              <a:t>نداءات عاجلة أو رسائل تتضمن ادعاءات،</a:t>
            </a:r>
            <a:r>
              <a:rPr b="0" lang="ar-JO" sz="1200" spc="-1" strike="noStrike">
                <a:solidFill>
                  <a:srgbClr val="000000"/>
                </a:solidFill>
                <a:latin typeface="Arial"/>
                <a:ea typeface="Arial"/>
              </a:rPr>
              <a:t> إلى الحكومات مطالبة بتوضيح للحالة أو القضية، وبتطبيق تدابير وقائية أو علاجية، وباحترام المعايير الدولية. ويمكن أن يكون التدخل متعلقاً بانتهاكات لحقوق الإنسان حدثت سابقاً، أو بانتهاكات مستمرة، أو بانتهاكات تُنذر بوقوع مخاطر كبيرة. ويعتبر هذا الإجراء سرياً بهدف صون سلامة الأشخاص الذين يطلبون عملاً طارئاً. ويمكن إرسال الطلبات إلى الموقع الإليكتروني &lt;</a:t>
            </a:r>
            <a:r>
              <a:rPr b="0" lang="en-US" sz="1200" spc="-1" strike="noStrike">
                <a:solidFill>
                  <a:srgbClr val="000000"/>
                </a:solidFill>
                <a:latin typeface="Arial"/>
                <a:ea typeface="굴림"/>
              </a:rPr>
              <a:t>urgent-action@ohchr.org</a:t>
            </a:r>
            <a:r>
              <a:rPr b="0" lang="ar-JO" sz="1200" spc="-1" strike="noStrike">
                <a:solidFill>
                  <a:srgbClr val="000000"/>
                </a:solidFill>
                <a:latin typeface="Arial"/>
                <a:ea typeface="Arial"/>
              </a:rPr>
              <a:t>&g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a:t>
            </a:r>
            <a:r>
              <a:rPr b="1" lang="ar-JO" sz="1200" spc="-1" strike="noStrike">
                <a:solidFill>
                  <a:srgbClr val="000000"/>
                </a:solidFill>
                <a:latin typeface="Arial"/>
                <a:cs typeface="Arial"/>
              </a:rPr>
              <a:t>الإجراءات الخاصة تقوم بتنفيذ دراسات مواضيعية</a:t>
            </a:r>
            <a:r>
              <a:rPr b="0" lang="ar-JO" sz="1200" spc="-1" strike="noStrike">
                <a:solidFill>
                  <a:srgbClr val="000000"/>
                </a:solidFill>
                <a:latin typeface="Arial"/>
                <a:ea typeface="Arial"/>
              </a:rPr>
              <a:t> (أي دراسات عن محاور أو قضايا رئيسة) تقدم التوجيه حول المحتوى المعياري وإعمال (تنفيذ وتطبيق) معايير ومبادئ حقوق الإنسان بوصفها قاعدة للبرمجة القائمة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مكانيات التعاون بين مكاتب الأمم المتحدة القُطرية وإعداد وإرسال بعثات الإجراءات الخاصة:</a:t>
            </a:r>
            <a:r>
              <a:rPr b="0" lang="ar-JO" sz="1200" spc="-1" strike="noStrike">
                <a:solidFill>
                  <a:srgbClr val="000000"/>
                </a:solidFill>
                <a:latin typeface="Arial"/>
                <a:ea typeface="Arial"/>
              </a:rPr>
              <a:t> إن المشاركة الجوهرية لمكاتب الأمم المتحدة القُطرية في إعداد/وإرسال البعثات تمنح الفرصة لتحديث المعلومات التي تم فعلاً تلقيها من أصحاب التفويضات، ولإضفاء الصبغة السياقية عليها، إضافة إلى تعرّف الأشخاص والمواقع والمواد الواجب الرجوع إليها. ويمكن لتلك المشاركة كذلك إتاحة الفرص لمكتب الأمم المتحدة القُطري للمشاركة في حوار حول قضايا حقوق الإنسان، مع مجموعة متنوعة من أصحاب المصلحة على المستوى الوط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ممارسة فضلى:</a:t>
            </a:r>
            <a:r>
              <a:rPr b="0" lang="ar-JO" sz="1200" spc="-1" strike="noStrike">
                <a:solidFill>
                  <a:srgbClr val="000000"/>
                </a:solidFill>
                <a:latin typeface="Arial"/>
                <a:ea typeface="Arial"/>
              </a:rPr>
              <a:t> فوّض فريق الأمم المتحدة القُطري في غواتيمالا مجموعة أو فرقة عمل مواضيعية تابعة للأمم المتحدة، معنية بالأمن الغذائي، بالإعداد لزيارة المقرر الخاص للحق في الحصول على الغذاء في يناير / كانون الثان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 كذلك فقد أعدَّت المجموعة المواضيعية تقريراً شاملاً مشتركاً بين الوكالات عن وضع الدولة حول الحق في الحصول على الغذاء، بوصفه من المعطيات أو المدخلات التي تُعطى للمقرر الخاص. وقد اشتمل التقرير على ملخَّص للنقاط الرئيسة الواجب على المقرر الخاص طرحها، ومن بينها كسب التأييد من الحكومة والكونغرس (مجلس الشيوخ) خلال الزيارة لتبنّي القانون الوطني حول الأمن الغذائي. وقد صادق الكونغرس على القانون بعد الزيارة بأربعة شهو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تابعة البعثات والمناصرة:</a:t>
            </a:r>
            <a:r>
              <a:rPr b="0" lang="ar-JO" sz="1200" spc="-1" strike="noStrike">
                <a:solidFill>
                  <a:srgbClr val="000000"/>
                </a:solidFill>
                <a:latin typeface="Arial"/>
                <a:ea typeface="Arial"/>
              </a:rPr>
              <a:t> يُمكن لفرق الأمم المتحدة القُطرية الإفادة من الاهتمام الذي يتولّد عقب الزيارة، إضافة إلى المحافظة على الاتصال مع صاحب التفويض، وذلك للمحافظة على زَخم التصدي لقضايا حقوق الإنسان. ويمكن لفرق الأمم المتحدة القُطرية تشجيع الحكومة على التعاون مع أصحاب التفويضات بالإجراءات الخاصة، ودعوتهم إلى المشاركة وتنفيذ توصيات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مارسة فضلى:</a:t>
            </a:r>
            <a:r>
              <a:rPr b="0" lang="ar-JO" sz="1200" spc="-1" strike="noStrike">
                <a:solidFill>
                  <a:srgbClr val="000000"/>
                </a:solidFill>
                <a:latin typeface="Arial"/>
                <a:ea typeface="Arial"/>
              </a:rPr>
              <a:t> بعد زيارة ممثل الأمين العام حول الأشخاص النازحين داخلياً إلى الحكومة الفدرالية الروسية في سبتمبر / أيلول عام </a:t>
            </a:r>
            <a:r>
              <a:rPr b="0" lang="ar-JO" sz="1200" spc="-1" strike="noStrike">
                <a:solidFill>
                  <a:srgbClr val="000000"/>
                </a:solidFill>
                <a:latin typeface="Arial"/>
                <a:ea typeface="Arial"/>
              </a:rPr>
              <a:t>2003</a:t>
            </a:r>
            <a:r>
              <a:rPr b="0" lang="ar-JO" sz="1200" spc="-1" strike="noStrike">
                <a:solidFill>
                  <a:srgbClr val="000000"/>
                </a:solidFill>
                <a:latin typeface="Arial"/>
                <a:cs typeface="Arial"/>
              </a:rPr>
              <a:t>، قررت السلطات إغلاق أحد المخيّمات المكوَّنة من الخيام في "إنغوشتيا"، والتي زارها الممثل المذكور. وقد أطلع الخبير فريق الأمم المتحدة القُطري عما لديه من بواعث قلق ومفادها أنّ النازحين داخلياً قد لا يتوافر لديهم خيار سوى العودة إلى الشيشان. وقد أثار مكتب الأمم المتحدة القُطري المسألة مع الحكومة، وأخيراً تم نقل أولئك النازحين داخلياً - الذين لا يرغبون في الرجوع – إلى أحد المخيمات المتبقية التي تعيش في ظروف أفضل قليل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رمجة</a:t>
            </a:r>
            <a:r>
              <a:rPr b="0" lang="ar-JO" sz="1200" spc="-1" strike="noStrike">
                <a:solidFill>
                  <a:srgbClr val="000000"/>
                </a:solidFill>
                <a:latin typeface="Arial"/>
                <a:ea typeface="Arial"/>
              </a:rPr>
              <a:t>: تستطيع التوصيات التي تم تقديمها أن تعمل كنقطة انطلاق للبرمجة والبناء المؤسسي على مدى أطو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مارسات فضلى: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قامت حكومة أوغندة باستخدام المبادئ التوجيهية لعام </a:t>
            </a:r>
            <a:r>
              <a:rPr b="0" lang="ar-JO" sz="1200" spc="-1" strike="noStrike">
                <a:solidFill>
                  <a:srgbClr val="000000"/>
                </a:solidFill>
                <a:latin typeface="Arial"/>
                <a:ea typeface="Arial"/>
              </a:rPr>
              <a:t>1998</a:t>
            </a:r>
            <a:r>
              <a:rPr b="0" lang="ar-JO" sz="1200" spc="-1" strike="noStrike">
                <a:solidFill>
                  <a:srgbClr val="000000"/>
                </a:solidFill>
                <a:latin typeface="Arial"/>
                <a:ea typeface="Arial"/>
              </a:rPr>
              <a:t> بشأن النازحين داخلياً - التي فصَّلها الممثل الخاص للأمين العام حول الأشخاص النازحين داخلياً - كأساس لسياستها بشأن النازحين داخلياً، ويقدّم مكتب الأمم المتحدة القطري دعماً مفيداً في هذا المجال. كذلك فقد تم استخدام المبادئ التوجيهية تلك كأساس لوحدة التدريب المتكاملة التي أعدها مكتب تنسيق الشؤون الإنسانية بشأن النازحين داخلي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2600" y="695160"/>
            <a:ext cx="4653000" cy="3489480"/>
          </a:xfrm>
          <a:prstGeom prst="rect">
            <a:avLst/>
          </a:prstGeom>
          <a:ln w="0">
            <a:noFill/>
          </a:ln>
        </p:spPr>
      </p:sp>
      <p:sp>
        <p:nvSpPr>
          <p:cNvPr id="629"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شريحة بديل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من نيجريا (تم تسجيله من خلال الإعلان في البرنامج الحواري </a:t>
            </a:r>
            <a:r>
              <a:rPr b="1" lang="en-US" sz="1200" spc="-1" strike="noStrike">
                <a:solidFill>
                  <a:srgbClr val="000000"/>
                </a:solidFill>
                <a:latin typeface="Arial"/>
                <a:ea typeface="굴림"/>
              </a:rPr>
              <a:t>Huritalk</a:t>
            </a:r>
            <a:r>
              <a:rPr b="1" lang="ar-JO" sz="1200" spc="-1" strike="noStrike">
                <a:solidFill>
                  <a:srgbClr val="000000"/>
                </a:solidFill>
                <a:latin typeface="Arial"/>
                <a:ea typeface="Arial"/>
              </a:rPr>
              <a:t> في يونيو/حزيران </a:t>
            </a:r>
            <a:r>
              <a:rPr b="1" lang="ar-JO" sz="1200" spc="-1" strike="noStrike">
                <a:solidFill>
                  <a:srgbClr val="000000"/>
                </a:solidFill>
                <a:latin typeface="Arial"/>
                <a:ea typeface="Arial"/>
              </a:rPr>
              <a:t>2006</a:t>
            </a:r>
            <a:r>
              <a:rPr b="1" lang="ar-JO" sz="1200" spc="-1" strike="noStrike">
                <a:solidFill>
                  <a:srgbClr val="000000"/>
                </a:solidFill>
                <a:latin typeface="Arial"/>
                <a:ea typeface="Arial"/>
              </a:rPr>
              <a:t>)</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أية طريقة أثَّرت ملاحظات وتوصيات هيئات المعاهدة والإجراءات الخاصة في أجندة وعمل منظومة الأمم المتحدة في بلدك؟ وإن لم تؤثِّر، فلماذ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انت عمليات الإصلاح التشريعي الحديثة المعنية بالنِّساء والأطفال في نيجيريا قائمة على الملاحظات والتوصيات الختامية للجنة اتفاقية حقوق الطفل ولجنة اتفاقية القضاء على جميع أشكال التمييز ضد المرأة فيما يتعلق بالتقارير الدورية التي تُعدّها نيجيريا منذ عام </a:t>
            </a:r>
            <a:r>
              <a:rPr b="1" lang="ar-JO" sz="1200" spc="-1" strike="noStrike">
                <a:solidFill>
                  <a:srgbClr val="000000"/>
                </a:solidFill>
                <a:latin typeface="Arial"/>
                <a:ea typeface="Arial"/>
              </a:rPr>
              <a:t>1995</a:t>
            </a:r>
            <a:r>
              <a:rPr b="1" lang="ar-JO" sz="1200" spc="-1" strike="noStrike">
                <a:solidFill>
                  <a:srgbClr val="000000"/>
                </a:solidFill>
                <a:latin typeface="Arial"/>
                <a:ea typeface="Arial"/>
              </a:rPr>
              <a:t>. وتركز التوصيات الصادرة عن كلتا اللجنتين على الحاجة إلى ردِّ الحكومة على مكافحة الاتّجار بالنساء والأطفال. فعلى سبيل المثال: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بل تقديم التقرير الأولي والتقرير الأول الدوري عن اتفاقية حقوق الطفل والتقريرين الدوريين الرابع والخامس عن اتفاقية القضاء على جميع أشكال التمييز ضد المرأة، رفضت الحكومة الاعتراف بأن نيجيريا كانت دولة مصدراً وعبوراً ومقصداً للاتّجار بالبشر. بَيْدَ أنه عندما تمت مواجهة وفد الدولة بهذه المشكلة أثناء الدفاع عن كلا التقريرين وبتغذية راجعة لاحقة في الملاحظات الختامية، تم إدراج قضية الاتِّجار بالأشخاص ضمن الأجندة الوطنية تدريجياً. وبعد سلسلة من الجلسات التشاورية مع الحكومة، تمت مواءمة </a:t>
            </a:r>
            <a:r>
              <a:rPr b="1" i="1" lang="ar-JO" sz="1200" spc="-1" strike="noStrike">
                <a:solidFill>
                  <a:srgbClr val="000000"/>
                </a:solidFill>
                <a:latin typeface="Arial"/>
                <a:cs typeface="Arial"/>
              </a:rPr>
              <a:t>البروتوكول المعني بالاتجار الدولي واتفاقية حقوق الطفل مع السياق المحلي.</a:t>
            </a:r>
            <a:r>
              <a:rPr b="1" lang="ar-JO" sz="1200" spc="-1" strike="noStrike">
                <a:solidFill>
                  <a:srgbClr val="000000"/>
                </a:solidFill>
                <a:latin typeface="Arial"/>
                <a:ea typeface="Arial"/>
              </a:rPr>
              <a:t> وخلال مدة دامت أربع سنوات، </a:t>
            </a:r>
            <a:r>
              <a:rPr b="1" lang="ar-JO" sz="1200" spc="-1" strike="noStrike">
                <a:solidFill>
                  <a:srgbClr val="000000"/>
                </a:solidFill>
                <a:latin typeface="Arial"/>
                <a:ea typeface="Arial"/>
              </a:rPr>
              <a:t>2003</a:t>
            </a:r>
            <a:r>
              <a:rPr b="1" lang="ar-JO" sz="1200" spc="-1" strike="noStrike">
                <a:solidFill>
                  <a:srgbClr val="000000"/>
                </a:solidFill>
                <a:latin typeface="Arial"/>
                <a:ea typeface="Arial"/>
              </a:rPr>
              <a:t> - </a:t>
            </a:r>
            <a:r>
              <a:rPr b="1" lang="ar-JO" sz="1200" spc="-1" strike="noStrike">
                <a:solidFill>
                  <a:srgbClr val="000000"/>
                </a:solidFill>
                <a:latin typeface="Arial"/>
                <a:ea typeface="Arial"/>
              </a:rPr>
              <a:t>2005</a:t>
            </a:r>
            <a:r>
              <a:rPr b="1" lang="ar-JO" sz="1200" spc="-1" strike="noStrike">
                <a:solidFill>
                  <a:srgbClr val="000000"/>
                </a:solidFill>
                <a:latin typeface="Arial"/>
                <a:cs typeface="Arial"/>
              </a:rPr>
              <a:t>، عملت الحكومة على سنّ ونشر قانون شامل لحقوق الطفل بالإضافة إلى قانون نموذجي لمكافحة الاتجار. وقد تم كذلك إنشاء آلية عمل مؤسسية للردِّ على هذه القضية من خلال تأسيس وكالة أو هيئة وطنية لمنع الاتِّجار بالأشخاص.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أدوات توجيهية للبرمجة المشتركة: </a:t>
            </a:r>
            <a:r>
              <a:rPr b="1" lang="ar-JO" sz="1200" spc="-1" strike="noStrike">
                <a:solidFill>
                  <a:srgbClr val="000000"/>
                </a:solidFill>
                <a:latin typeface="Arial"/>
                <a:cs typeface="Arial"/>
              </a:rPr>
              <a:t>عمل النشر الواسع للملاحظات الختامية على خلق الوعي بالفجوات القائمة والواجب التصدي لها في البرمجة. وقد تم إعداد خطة عمل وطنية والبدء بمقاضاة المخالفين/المُنتهكين ومعاقبتهم. إن نشاطات رفع وتيرة الوعي والتدريب المعنية بالهجرة، والشرطة، وصانعي السياسات والمنظمات غير الحكومية المشاركة في مكافحة الاتجار جميعها مدعومة أيضاً من قبل اليونيسف، ومنظمة العمل الدولية، والوكالة الأمريكية للتنمية الدولية، والحكومة الإيطالية والمملكة المتحدة. وقد تم تكثيف الجهود حول التعاون الدولي والإقليمي والثنائي، وبخاصة مع دول المنشأ والعبور والمقصد للاتجار على وجه الخصوص. كما تم تقديم النشاطات المدرَّة للدخل، والمنح والدعم الانمائي (القروض) بوصفها جزءاً من التدابير الهادفة إلى تحسين الوضع الاقتصادي للأسر.</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2600" y="695160"/>
            <a:ext cx="4653000" cy="3489480"/>
          </a:xfrm>
          <a:prstGeom prst="rect">
            <a:avLst/>
          </a:prstGeom>
          <a:ln w="0">
            <a:noFill/>
          </a:ln>
        </p:spPr>
      </p:sp>
      <p:sp>
        <p:nvSpPr>
          <p:cNvPr id="631"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خرجات هيئات المعاهدة والإجراءات الخاصة</a:t>
            </a:r>
            <a:r>
              <a:rPr b="0" lang="ar-JO" sz="1200" spc="-1" strike="noStrike">
                <a:solidFill>
                  <a:srgbClr val="000000"/>
                </a:solidFill>
                <a:latin typeface="Arial"/>
                <a:ea typeface="Arial"/>
              </a:rPr>
              <a:t> متوافرة في صفحة الموقع الإلكتروني لمكتب المفوضية السامية لحقوق الإنسان (</a:t>
            </a:r>
            <a:r>
              <a:rPr b="0" lang="en-US" sz="1200" spc="-1" strike="noStrike" u="sng">
                <a:solidFill>
                  <a:srgbClr val="009999"/>
                </a:solidFill>
                <a:uFillTx/>
                <a:latin typeface="Arial"/>
                <a:ea typeface="굴림"/>
                <a:hlinkClick r:id="rId1"/>
              </a:rPr>
              <a:t>www.ohchr.org</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قدم الصفحة المعلومات التالية عن كل دولة .... (اقرأها من الشريح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الصفحة تقدم رابطاً </a:t>
            </a:r>
            <a:r>
              <a:rPr b="1" lang="ar-JO" sz="1200" spc="-1" strike="noStrike">
                <a:solidFill>
                  <a:srgbClr val="000000"/>
                </a:solidFill>
                <a:latin typeface="Arial"/>
                <a:cs typeface="Arial"/>
              </a:rPr>
              <a:t>لقاعدة بيانات هيئة المعاهدة</a:t>
            </a:r>
            <a:r>
              <a:rPr b="0" lang="ar-JO" sz="1200" spc="-1" strike="noStrike">
                <a:solidFill>
                  <a:srgbClr val="000000"/>
                </a:solidFill>
                <a:latin typeface="Arial"/>
                <a:ea typeface="Arial"/>
              </a:rPr>
              <a:t> حيث يمكن إيجاد</a:t>
            </a:r>
            <a:r>
              <a:rPr b="1" lang="ar-JO" sz="1200" spc="-1" strike="noStrike">
                <a:solidFill>
                  <a:srgbClr val="000000"/>
                </a:solidFill>
                <a:latin typeface="Arial"/>
                <a:ea typeface="Arial"/>
              </a:rPr>
              <a:t> تقارير كل دولة طرف</a:t>
            </a:r>
            <a:r>
              <a:rPr b="0" lang="ar-JO" sz="1200" spc="-1" strike="noStrike">
                <a:solidFill>
                  <a:srgbClr val="000000"/>
                </a:solidFill>
                <a:latin typeface="Arial"/>
                <a:ea typeface="Arial"/>
              </a:rPr>
              <a:t> وجميع الوثائق الصادرة عن هيئة المعاه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قدم </a:t>
            </a:r>
            <a:r>
              <a:rPr b="1" lang="ar-JO" sz="1200" spc="-1" strike="noStrike">
                <a:solidFill>
                  <a:srgbClr val="000000"/>
                </a:solidFill>
                <a:latin typeface="Arial"/>
                <a:cs typeface="Arial"/>
              </a:rPr>
              <a:t>روزنامةُ الأحداث</a:t>
            </a:r>
            <a:r>
              <a:rPr b="0" lang="ar-JO" sz="1200" spc="-1" strike="noStrike">
                <a:solidFill>
                  <a:srgbClr val="000000"/>
                </a:solidFill>
                <a:latin typeface="Arial"/>
                <a:ea typeface="Arial"/>
              </a:rPr>
              <a:t> مسبقاً فرصةً ممتازة لفرق الأمم المتحدة القُطرية لإعداد المدخلات / المعطيات اللازمة لجلسات هيئات المعاهدات القادمة، إضافة إلى الزيارات التي يقوم بها ممثلو الإجراءات الخاص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تشاور مع مكاتب الأمم المتحدة القطرية، يُنتج مكتب المفوضية السامية لحقوق الإنسان أيضاً نبذات عامة </a:t>
            </a:r>
            <a:r>
              <a:rPr b="1" lang="ar-JO" sz="1200" spc="-1" strike="noStrike">
                <a:solidFill>
                  <a:srgbClr val="000000"/>
                </a:solidFill>
                <a:latin typeface="Arial"/>
                <a:cs typeface="Arial"/>
              </a:rPr>
              <a:t>عن الدول</a:t>
            </a:r>
            <a:r>
              <a:rPr b="0" lang="ar-JO" sz="1200" spc="-1" strike="noStrike">
                <a:solidFill>
                  <a:srgbClr val="000000"/>
                </a:solidFill>
                <a:latin typeface="Arial"/>
                <a:cs typeface="Arial"/>
              </a:rPr>
              <a:t>، تُبرز أهمّ توصيات هيئات المعاهدات والإجراءات الخاصة للدولة، وذلك لتسهيل استخدامها من قبل فرق الأمم المتحدة القُطرية ووكالات الأمم المتحدة في التحليل والبرمجة المعنيين. ولا تحتوي الصفحة الإليكترونية على نبذات عامة عن الدول، ولكن تلك النبذات يمكن أن تُطلب من مسؤول مكتب الدولة المعني (المشار إليه في تلك الصفح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قدم الصفحة أيضاً روابط إليكترونية خاصة </a:t>
            </a:r>
            <a:r>
              <a:rPr b="1" lang="ar-JO" sz="1200" spc="-1" strike="noStrike">
                <a:solidFill>
                  <a:srgbClr val="000000"/>
                </a:solidFill>
                <a:latin typeface="Arial"/>
                <a:cs typeface="Arial"/>
              </a:rPr>
              <a:t>باتفاقيات جنيف، واتفاقيات اللاجئين</a:t>
            </a:r>
            <a:r>
              <a:rPr b="0" lang="ar-JO" sz="1200" spc="-1" strike="noStrike">
                <a:solidFill>
                  <a:srgbClr val="000000"/>
                </a:solidFill>
                <a:latin typeface="Arial"/>
                <a:ea typeface="Arial"/>
              </a:rPr>
              <a:t> (القانون الإنساني) </a:t>
            </a:r>
            <a:r>
              <a:rPr b="1" lang="ar-JO" sz="1200" spc="-1" strike="noStrike">
                <a:solidFill>
                  <a:srgbClr val="000000"/>
                </a:solidFill>
                <a:latin typeface="Arial"/>
                <a:cs typeface="Arial"/>
              </a:rPr>
              <a:t>واتفاقيات منظمة العمل الدولية</a:t>
            </a:r>
            <a:r>
              <a:rPr b="0" lang="ar-JO" sz="1200" spc="-1" strike="noStrike">
                <a:solidFill>
                  <a:srgbClr val="000000"/>
                </a:solidFill>
                <a:latin typeface="Arial"/>
                <a:ea typeface="Arial"/>
              </a:rPr>
              <a:t> التي صادقت عليها الدولة. وحيثما يكون ذلك قابلاً للتطبيق، ثمة رابط</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إليكتروني</a:t>
            </a:r>
            <a:r>
              <a:rPr b="1" lang="ar-JO" sz="1200" spc="-1" strike="noStrike">
                <a:solidFill>
                  <a:srgbClr val="000000"/>
                </a:solidFill>
                <a:latin typeface="Arial"/>
                <a:ea typeface="Arial"/>
              </a:rPr>
              <a:t> للنظام الإقليمي</a:t>
            </a:r>
            <a:r>
              <a:rPr b="0" lang="ar-JO" sz="1200" spc="-1" strike="noStrike">
                <a:solidFill>
                  <a:srgbClr val="000000"/>
                </a:solidFill>
                <a:latin typeface="Arial"/>
                <a:ea typeface="Arial"/>
              </a:rPr>
              <a:t> المناظر للدولة. وثمة رابط إليكتروني آخر - إذا كان متوافراً - </a:t>
            </a:r>
            <a:r>
              <a:rPr b="1" lang="ar-JO" sz="1200" spc="-1" strike="noStrike">
                <a:solidFill>
                  <a:srgbClr val="000000"/>
                </a:solidFill>
                <a:latin typeface="Arial"/>
                <a:cs typeface="Arial"/>
              </a:rPr>
              <a:t>للأنظمة الوطنية لحماية حقوق الإنسان، </a:t>
            </a:r>
            <a:r>
              <a:rPr b="0" lang="ar-JO" sz="1200" spc="-1" strike="noStrike">
                <a:solidFill>
                  <a:srgbClr val="000000"/>
                </a:solidFill>
                <a:latin typeface="Arial"/>
                <a:cs typeface="Arial"/>
              </a:rPr>
              <a:t>يحتوي أيضاً على</a:t>
            </a:r>
            <a:r>
              <a:rPr b="1" lang="ar-JO" sz="1200" spc="-1" strike="noStrike">
                <a:solidFill>
                  <a:srgbClr val="000000"/>
                </a:solidFill>
                <a:latin typeface="Arial"/>
                <a:ea typeface="Arial"/>
              </a:rPr>
              <a:t> </a:t>
            </a:r>
            <a:r>
              <a:rPr b="0" lang="ar-JO" sz="1200" spc="-1" strike="noStrike">
                <a:solidFill>
                  <a:srgbClr val="000000"/>
                </a:solidFill>
                <a:latin typeface="Arial"/>
                <a:cs typeface="Arial"/>
              </a:rPr>
              <a:t>المعلومات الواردة من أمين المظالم على المستوى الوطني أو المؤسسات الوطنية ل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هذا السؤال موجّه إلى البنية الهندسية للأمم المتحدة وهيئات المعاهدة، والمساعدة الفنية، وما إلى ذلك.</a:t>
            </a:r>
            <a:r>
              <a:rPr b="0" lang="ar-JO"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82600" y="695160"/>
            <a:ext cx="4653000" cy="3489480"/>
          </a:xfrm>
          <a:prstGeom prst="rect">
            <a:avLst/>
          </a:prstGeom>
          <a:ln w="0">
            <a:noFill/>
          </a:ln>
        </p:spPr>
      </p:sp>
      <p:sp>
        <p:nvSpPr>
          <p:cNvPr id="633" name="PlaceHolder 2"/>
          <p:cNvSpPr>
            <a:spLocks noGrp="1"/>
          </p:cNvSpPr>
          <p:nvPr>
            <p:ph type="body"/>
          </p:nvPr>
        </p:nvSpPr>
        <p:spPr>
          <a:xfrm>
            <a:off x="700200" y="4416480"/>
            <a:ext cx="5610240" cy="4184640"/>
          </a:xfrm>
          <a:prstGeom prst="rect">
            <a:avLst/>
          </a:prstGeom>
          <a:noFill/>
          <a:ln w="0">
            <a:noFill/>
          </a:ln>
        </p:spPr>
        <p:txBody>
          <a:bodyPr lIns="92160" rIns="92160" tIns="46080" bIns="46080" anchor="t">
            <a:noAutofit/>
          </a:bodyPr>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400" spc="-1" strike="noStrike">
                <a:solidFill>
                  <a:srgbClr val="000000"/>
                </a:solidFill>
                <a:latin typeface="Arial"/>
                <a:cs typeface="Arial"/>
              </a:rPr>
              <a:t>مُخرجات هيئات المعاهدة والإجراءات الخاصة</a:t>
            </a:r>
            <a:r>
              <a:rPr b="0" i="1" lang="ar-JO" sz="1400" spc="-1" strike="noStrike">
                <a:solidFill>
                  <a:srgbClr val="000000"/>
                </a:solidFill>
                <a:latin typeface="Arial"/>
                <a:ea typeface="Arial"/>
              </a:rPr>
              <a:t> متوافرة في صفحة الموقع الإلكتروني لمكتب المفوضية السامية لحقوق الإنسان (</a:t>
            </a:r>
            <a:r>
              <a:rPr b="0" i="1" lang="en-US" sz="1400" spc="-1" strike="noStrike">
                <a:solidFill>
                  <a:srgbClr val="000000"/>
                </a:solidFill>
                <a:latin typeface="Arial"/>
                <a:ea typeface="굴림"/>
              </a:rPr>
              <a:t>www.ohchr.org</a:t>
            </a:r>
            <a:r>
              <a:rPr b="0" i="1" lang="ar-JO" sz="1400" spc="-1" strike="noStrike">
                <a:solidFill>
                  <a:srgbClr val="000000"/>
                </a:solidFill>
                <a:latin typeface="Arial"/>
                <a:ea typeface="Arial"/>
              </a:rPr>
              <a:t>).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تقدم الصفحة المعلومات التالية عن كل دولة .... (اقرأها من الشريحة).</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كذلك فإن الصفحة تقدم رابطاً </a:t>
            </a:r>
            <a:r>
              <a:rPr b="1" i="1" lang="ar-JO" sz="1400" spc="-1" strike="noStrike">
                <a:solidFill>
                  <a:srgbClr val="000000"/>
                </a:solidFill>
                <a:latin typeface="Arial"/>
                <a:cs typeface="Arial"/>
              </a:rPr>
              <a:t>لقاعدة بيانات هيئة المعاهدة</a:t>
            </a:r>
            <a:r>
              <a:rPr b="0" i="1" lang="ar-JO" sz="1400" spc="-1" strike="noStrike">
                <a:solidFill>
                  <a:srgbClr val="000000"/>
                </a:solidFill>
                <a:latin typeface="Arial"/>
                <a:ea typeface="Arial"/>
              </a:rPr>
              <a:t> حيث يمكن إيجاد</a:t>
            </a:r>
            <a:r>
              <a:rPr b="1" i="1" lang="ar-JO" sz="1400" spc="-1" strike="noStrike">
                <a:solidFill>
                  <a:srgbClr val="000000"/>
                </a:solidFill>
                <a:latin typeface="Arial"/>
                <a:ea typeface="Arial"/>
              </a:rPr>
              <a:t> تقارير كل دولة طرف</a:t>
            </a:r>
            <a:r>
              <a:rPr b="0" i="1" lang="ar-JO" sz="1400" spc="-1" strike="noStrike">
                <a:solidFill>
                  <a:srgbClr val="000000"/>
                </a:solidFill>
                <a:latin typeface="Arial"/>
                <a:ea typeface="Arial"/>
              </a:rPr>
              <a:t> وجميع الوثائق الصادرة عن هيئة المعاهد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تقدم </a:t>
            </a:r>
            <a:r>
              <a:rPr b="1" i="1" lang="ar-JO" sz="1400" spc="-1" strike="noStrike">
                <a:solidFill>
                  <a:srgbClr val="000000"/>
                </a:solidFill>
                <a:latin typeface="Arial"/>
                <a:cs typeface="Arial"/>
              </a:rPr>
              <a:t>روزنامةُ الأحداث</a:t>
            </a:r>
            <a:r>
              <a:rPr b="0" i="1" lang="ar-JO" sz="1400" spc="-1" strike="noStrike">
                <a:solidFill>
                  <a:srgbClr val="000000"/>
                </a:solidFill>
                <a:latin typeface="Arial"/>
                <a:ea typeface="Arial"/>
              </a:rPr>
              <a:t> مسبقاً فرصةً ممتازة لفرق الأمم المتحدة القُطرية لإعداد المدخلات / المعطيات اللازمة لجلسات هيئات المعاهدات القادمة، إضافة إلى الزيارات التي يقوم بها ممثلو الإجراءات الخاص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وبالتشاور مع مكاتب الأمم المتحدة القطرية، يُنتج مكتب المفوضية السامية لحقوق الإنسان أيضاً نبذات عامة </a:t>
            </a:r>
            <a:r>
              <a:rPr b="1" i="1" lang="ar-JO" sz="1400" spc="-1" strike="noStrike">
                <a:solidFill>
                  <a:srgbClr val="000000"/>
                </a:solidFill>
                <a:latin typeface="Arial"/>
                <a:cs typeface="Arial"/>
              </a:rPr>
              <a:t>عن الدول</a:t>
            </a:r>
            <a:r>
              <a:rPr b="0" i="1" lang="ar-JO" sz="1400" spc="-1" strike="noStrike">
                <a:solidFill>
                  <a:srgbClr val="000000"/>
                </a:solidFill>
                <a:latin typeface="Arial"/>
                <a:cs typeface="Arial"/>
              </a:rPr>
              <a:t>، تُبرز أهمّ توصيات هيئات المعاهدات والإجراءات الخاصة للدولة، وذلك لتسهيل استخدامها من قبل فرق الأمم المتحدة القُطرية ووكالات الأمم المتحدة في التحليل والبرمجة المعنيين. ولا تحتوي الصفحة الإليكترونية على نبذات عامة عن الدول، ولكن تلك النبذات يمكن أن تُطلب من مسؤول مكتب الدولة المعني (المشار إليه في تلك الصفحة). </a:t>
            </a:r>
            <a:endParaRPr b="0" lang="en-US" sz="1400" spc="-1" strike="noStrike">
              <a:solidFill>
                <a:srgbClr val="000000"/>
              </a:solidFill>
              <a:latin typeface="Arial"/>
            </a:endParaRPr>
          </a:p>
          <a:p>
            <a:pPr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400" spc="-1" strike="noStrike">
                <a:solidFill>
                  <a:srgbClr val="000000"/>
                </a:solidFill>
                <a:latin typeface="Arial"/>
                <a:cs typeface="Arial"/>
              </a:rPr>
              <a:t>تقدم الصفحة أيضاً روابط إليكترونية خاصة </a:t>
            </a:r>
            <a:r>
              <a:rPr b="1" i="1" lang="ar-JO" sz="1400" spc="-1" strike="noStrike">
                <a:solidFill>
                  <a:srgbClr val="000000"/>
                </a:solidFill>
                <a:latin typeface="Arial"/>
                <a:cs typeface="Arial"/>
              </a:rPr>
              <a:t>باتفاقيات جنيف، واتفاقيات اللاجئين</a:t>
            </a:r>
            <a:r>
              <a:rPr b="0" i="1" lang="ar-JO" sz="1400" spc="-1" strike="noStrike">
                <a:solidFill>
                  <a:srgbClr val="000000"/>
                </a:solidFill>
                <a:latin typeface="Arial"/>
                <a:ea typeface="Arial"/>
              </a:rPr>
              <a:t> (القانون الإنساني) </a:t>
            </a:r>
            <a:r>
              <a:rPr b="1" i="1" lang="ar-JO" sz="1400" spc="-1" strike="noStrike">
                <a:solidFill>
                  <a:srgbClr val="000000"/>
                </a:solidFill>
                <a:latin typeface="Arial"/>
                <a:cs typeface="Arial"/>
              </a:rPr>
              <a:t>واتفاقيات منظمة العمل الدولية</a:t>
            </a:r>
            <a:r>
              <a:rPr b="0" i="1" lang="ar-JO" sz="1400" spc="-1" strike="noStrike">
                <a:solidFill>
                  <a:srgbClr val="000000"/>
                </a:solidFill>
                <a:latin typeface="Arial"/>
                <a:ea typeface="Arial"/>
              </a:rPr>
              <a:t> التي صادقت عليها الدولة. وحيثما يكون ذلك قابلاً للتطبيق، ثمة رابط</a:t>
            </a:r>
            <a:r>
              <a:rPr b="1" i="1" lang="ar-JO" sz="1400" spc="-1" strike="noStrike">
                <a:solidFill>
                  <a:srgbClr val="000000"/>
                </a:solidFill>
                <a:latin typeface="Arial"/>
                <a:ea typeface="Arial"/>
              </a:rPr>
              <a:t> </a:t>
            </a:r>
            <a:r>
              <a:rPr b="0" i="1" lang="ar-JO" sz="1400" spc="-1" strike="noStrike">
                <a:solidFill>
                  <a:srgbClr val="000000"/>
                </a:solidFill>
                <a:latin typeface="Arial"/>
                <a:cs typeface="Arial"/>
              </a:rPr>
              <a:t>إليكتروني</a:t>
            </a:r>
            <a:r>
              <a:rPr b="1" i="1" lang="ar-JO" sz="1400" spc="-1" strike="noStrike">
                <a:solidFill>
                  <a:srgbClr val="000000"/>
                </a:solidFill>
                <a:latin typeface="Arial"/>
                <a:ea typeface="Arial"/>
              </a:rPr>
              <a:t> للنظام الإقليمي</a:t>
            </a:r>
            <a:r>
              <a:rPr b="0" i="1" lang="ar-JO" sz="1400" spc="-1" strike="noStrike">
                <a:solidFill>
                  <a:srgbClr val="000000"/>
                </a:solidFill>
                <a:latin typeface="Arial"/>
                <a:ea typeface="Arial"/>
              </a:rPr>
              <a:t> المناظر للدولة. وثمة رابط إليكتروني آخر - إذا كان متوافراً - </a:t>
            </a:r>
            <a:r>
              <a:rPr b="1" i="1" lang="ar-JO" sz="1400" spc="-1" strike="noStrike">
                <a:solidFill>
                  <a:srgbClr val="000000"/>
                </a:solidFill>
                <a:latin typeface="Arial"/>
                <a:cs typeface="Arial"/>
              </a:rPr>
              <a:t>للأنظمة الوطنية لحماية حقوق الإنسان، </a:t>
            </a:r>
            <a:r>
              <a:rPr b="0" i="1" lang="ar-JO" sz="1400" spc="-1" strike="noStrike">
                <a:solidFill>
                  <a:srgbClr val="000000"/>
                </a:solidFill>
                <a:latin typeface="Arial"/>
                <a:cs typeface="Arial"/>
              </a:rPr>
              <a:t>يحتوي أيضاً على</a:t>
            </a:r>
            <a:r>
              <a:rPr b="1" i="1" lang="ar-JO" sz="1400" spc="-1" strike="noStrike">
                <a:solidFill>
                  <a:srgbClr val="000000"/>
                </a:solidFill>
                <a:latin typeface="Arial"/>
                <a:ea typeface="Arial"/>
              </a:rPr>
              <a:t> </a:t>
            </a:r>
            <a:r>
              <a:rPr b="0" i="1" lang="ar-JO" sz="1400" spc="-1" strike="noStrike">
                <a:solidFill>
                  <a:srgbClr val="000000"/>
                </a:solidFill>
                <a:latin typeface="Arial"/>
                <a:cs typeface="Arial"/>
              </a:rPr>
              <a:t>المعلومات الواردة من أمين المظالم على المستوى الوطني أو المؤسسات الوطنية لحقوق الإنسان.</a:t>
            </a:r>
            <a:r>
              <a:rPr b="0" lang="ar-JO"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79360" y="696960"/>
            <a:ext cx="4651560" cy="3487680"/>
          </a:xfrm>
          <a:prstGeom prst="rect">
            <a:avLst/>
          </a:prstGeom>
          <a:ln w="0">
            <a:noFill/>
          </a:ln>
        </p:spPr>
      </p:sp>
      <p:sp>
        <p:nvSpPr>
          <p:cNvPr id="63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شرح هذه الجلس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هيةَ النهج القائم على حقوق الإنسان في برمجة التنمية.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بب استخدام النهج القائم على حقوق الإنسان.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فاهم المشترك للأمم المتحدة حول النهج القائم على حقوق الإنسان في برمجة التنمية وعناصرها الأساسية</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79360" y="696960"/>
            <a:ext cx="4651560" cy="3487680"/>
          </a:xfrm>
          <a:prstGeom prst="rect">
            <a:avLst/>
          </a:prstGeom>
          <a:ln w="0">
            <a:noFill/>
          </a:ln>
        </p:spPr>
      </p:sp>
      <p:sp>
        <p:nvSpPr>
          <p:cNvPr id="637"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200" spc="-1" strike="noStrike">
                <a:solidFill>
                  <a:srgbClr val="000000"/>
                </a:solidFill>
                <a:latin typeface="Arial"/>
                <a:cs typeface="Arial"/>
              </a:rPr>
              <a:t>فكرة لمقدم العرض: يأتي هذا العرض بعد الانتهاء من عمل المجموعات حول النهج القائم على حقوق الإنسان، الذي يكون قد تعامل مسبقاً مع الكثير من المسائل ذات العلاقة بالمحتوى والتي تمت تغطيتها في الجلسة الحالية. وأثناء تقديم العرض، ارجع إلى المسائل التي ظهرت ونوقشت ضمن عمل المجموعات.</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توي الشريحة على صور متحركة. </a:t>
            </a:r>
            <a:r>
              <a:rPr b="0" lang="ar-JO" sz="1200" spc="-1" strike="noStrike">
                <a:solidFill>
                  <a:srgbClr val="000000"/>
                </a:solidFill>
                <a:latin typeface="Arial"/>
                <a:cs typeface="Arial"/>
              </a:rPr>
              <a:t>ابدأ بعرض العنوان وحده أولاً، ثم اطلب من المشاركين تحديد التعريفات أدناه التي تنطبق على النهج القائم ع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شكل مستمر ومتوافق، بالإشارة إلى مصطلحات حقوق الإنسان واستخدامها في التقارير والخطابات ووثائق المشروع وغير ذلك من الأمور التي تتولاها الأمم المتحدة.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تكييف دعم الأمم المتحدة للدولة فيما يتعلق ب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علّق النهج القائم على حقوق الإنسان بتصميم التدخلات المحددة التي تستهدف حماية حقوق الإنسان وبتنفيذيها. </a:t>
            </a:r>
            <a:endParaRPr b="0" lang="en-US" sz="1200" spc="-1" strike="noStrike">
              <a:solidFill>
                <a:srgbClr val="000000"/>
              </a:solidFill>
              <a:latin typeface="Arial"/>
            </a:endParaRPr>
          </a:p>
          <a:p>
            <a:pPr marL="228600" indent="-228600" algn="r" rtl="1">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ا تنطبق أي من هذه التعريفات على النهج القائم على حقوق الإنسان</a:t>
            </a:r>
            <a:r>
              <a:rPr b="0" i="1" lang="ar-JO" sz="1200" spc="-1" strike="noStrike">
                <a:solidFill>
                  <a:srgbClr val="000000"/>
                </a:solidFill>
                <a:latin typeface="Arial"/>
                <a:ea typeface="Arial"/>
              </a:rPr>
              <a:t>.</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عرض ما تبقى من الشريحة لإبراز جوهر النهج القائم على حقوق الإنسان. </a:t>
            </a:r>
            <a:endParaRPr b="0" lang="en-US" sz="1200" spc="-1" strike="noStrike">
              <a:solidFill>
                <a:srgbClr val="000000"/>
              </a:solidFill>
              <a:latin typeface="Arial"/>
            </a:endParaRPr>
          </a:p>
          <a:p>
            <a:pPr marL="2286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و النهج القائم على حقوق الإنسان؟ </a:t>
            </a:r>
            <a:r>
              <a:rPr b="1"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هو إطار عمل مفاهيمي لعملية التنمية البشرية، التي تقوم معيارياً على مقاييس حقوق الإنسان الدولية، والموجّهة عملياً نحو تعزيز حقوق الإنسان وحمايتها. ويركّز النهج القائم على حقوق الإنسان </a:t>
            </a:r>
            <a:r>
              <a:rPr b="0" i="1" lang="ar-JO" sz="1200" spc="-1" strike="noStrike">
                <a:solidFill>
                  <a:srgbClr val="000000"/>
                </a:solidFill>
                <a:latin typeface="Arial"/>
                <a:cs typeface="Arial"/>
              </a:rPr>
              <a:t>صراحةً على التمييز والتهميش ضمن عملية التنمية</a:t>
            </a:r>
            <a:r>
              <a:rPr b="1" i="1" lang="ar-JO" sz="1200" spc="-1" strike="noStrike">
                <a:solidFill>
                  <a:srgbClr val="000000"/>
                </a:solidFill>
                <a:latin typeface="Arial"/>
                <a:ea typeface="Arial"/>
              </a:rPr>
              <a:t>.</a:t>
            </a:r>
            <a:r>
              <a:rPr b="0" i="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خترقُ النهج القائم على حقوق الإنسان جميع الممارسات التنموية إلى درجة تتلاشى فيها الحدود بين حقوق الإنسان والتنمية، حيث يصبح كلاهما جزأين من عمليات التغيير الاجتماعي ذاتها لا ينفصلان عن بعضهما بعضاً من الناحيتين المفاهيمية والعملية. ويطبق النهج القائم على حقوق الإنسان على التنمية بأسلوب يُغيّر الطريقة التي تُصمم بوساطتها البرامج، وتُنفَّذ ويتم الإشراف عليها، ابتداء من التقييم وتحليل الوضع، اللذين يعتبران نقطة الانطلاق من الناحية المثا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مستوى الالتزام بتطبيق النهج القائم على حقوق الإنسان أعلى من مستويات الالتزام الأخرى، ويتطلب التصدي للتحديات بطريقة أكثر شمولاً. ويعني ذلك مواجهة النماذج الدؤوبة من عدم المساواة والتمييز، وصياغة ردود ستأخذ بعين الاعتبار الأسباب الهيكلية التي مكّنت البيئة السياسية والمجتمعية من تعزيز الإقصاء والتهميش وإنكار حقوق الإنسان في نهاية المطاف.</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النهج القائم على الاحتياجات مقارنة بالنهج القائم على الحقوق في التغذ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يكمن جوهر الاختلاف في أن "المستفيدين" في النهج الأول (أي القائم على الاحتياجات) ليست لديهم مطالبات فعَّالة تكفل تلبية احتياجاتهم، ولا يُوجد التزام مُلزمٌ أو واجب ملزم لأيّ شخص لتلبية هذه الاحتياجات. وفي المقابل، فإن النهج القائم على الحقوق يعترف بالمستفيدين بوصفهم "رعايا نشيطين" أو "أصحاب مطالبات"، وهو يُنشئ واجبات أو التزامات على أولئك الذين تُوجه المطالبات ضدهم". إيربان جونسن</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ركيز ينصبُّ في كلّ منهما على النتيجة والعمل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النهج القائم على حقوق الإنسان، يجب إيلاء الاهتمام بالنتائج نظراً لأنَّ النتيجة والأثر المرغوب فيهما لأيّ نشاط برامجي هو الإسهام في تعزيز عملية إحقاق حقوق الإنسان. وفي الوقت ذاته، يجب إيلاء الاهتمام إلى ضمان أن لا تعمل عملية التنمية على تعميق عدم المساواة والتمييز، والنزاع المسلح في نهاية المطاف. وتقدم مقاييس ومبادئ حقوق الإنسان معايير موضوعية للعمليات التنموية المقبولة، وبذلك تكون تلك العمليات عمليات تشاركية وشاملة وخاضعة للمساءَلة، وتعطي الأولوية لأكثر الجماعات تهميشاً وإقصاءً. فعلى سبيل المثال، يجب أن تشكل مبادئ حقوق الإنسان جوهر </a:t>
            </a:r>
            <a:r>
              <a:rPr b="0" i="1" lang="ar-JO" sz="1200" spc="-1" strike="noStrike">
                <a:solidFill>
                  <a:srgbClr val="000000"/>
                </a:solidFill>
                <a:latin typeface="Arial"/>
                <a:cs typeface="Arial"/>
              </a:rPr>
              <a:t>عملية</a:t>
            </a:r>
            <a:r>
              <a:rPr b="0" lang="ar-JO" sz="1200" spc="-1" strike="noStrike">
                <a:solidFill>
                  <a:srgbClr val="000000"/>
                </a:solidFill>
                <a:latin typeface="Arial"/>
                <a:ea typeface="Arial"/>
              </a:rPr>
              <a:t> صياغة استراتيجية الحد من الفقر وتنفيذها ومراقبتها/متابعت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79360" y="696960"/>
            <a:ext cx="4651560" cy="3487680"/>
          </a:xfrm>
          <a:prstGeom prst="rect">
            <a:avLst/>
          </a:prstGeom>
          <a:ln w="0">
            <a:noFill/>
          </a:ln>
        </p:spPr>
      </p:sp>
      <p:sp>
        <p:nvSpPr>
          <p:cNvPr id="639" name="PlaceHolder 2"/>
          <p:cNvSpPr>
            <a:spLocks noGrp="1"/>
          </p:cNvSpPr>
          <p:nvPr>
            <p:ph type="body"/>
          </p:nvPr>
        </p:nvSpPr>
        <p:spPr>
          <a:xfrm>
            <a:off x="700200" y="4416480"/>
            <a:ext cx="5610240" cy="441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ضامين النهج القائم على حقوق الإنسان وقيمته المضاف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الانتقال من النظرية إلى التطبيق، دارت مداولات لافتة للنظر فيما يتعلق بمعنى النهج القائم على حقوق الإنسان، والقيمة التي يُضيفها إلى التنمية، وعلى وجه الخصوص، بكيفية تطبيق ذلك النهج على البرمجة التنموية لكي تتمكّن هذه البرمجة من تحقيق أثر أكبر. وثمة ثلاثة أسباب منطقية مُوجبة لاعتماد النهج القائم على حقوق الإنسان: (أ) قيمته الجوهرية، (ب) فائدته لاستراتيجيات التنمية، (جـ) الأسباب المؤسس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أ) الأسباب الموجبة المعنية بالقيمة الجوهرية للنهج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إقرار بأن النهج القائم على حقوق الإنسان هو ما يصح فعله من الناحيتين الأخلاقية والقانون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مبني على </a:t>
            </a:r>
            <a:r>
              <a:rPr b="1" lang="ar-JO" sz="1200" spc="-1" strike="noStrike">
                <a:solidFill>
                  <a:srgbClr val="000000"/>
                </a:solidFill>
                <a:latin typeface="Arial"/>
                <a:cs typeface="Arial"/>
              </a:rPr>
              <a:t>قيم عالمية</a:t>
            </a:r>
            <a:r>
              <a:rPr b="0" lang="ar-JO" sz="1200" spc="-1" strike="noStrike">
                <a:solidFill>
                  <a:srgbClr val="000000"/>
                </a:solidFill>
                <a:latin typeface="Arial"/>
                <a:ea typeface="Arial"/>
              </a:rPr>
              <a:t>/</a:t>
            </a:r>
            <a:r>
              <a:rPr b="1" lang="ar-JO" sz="1200" spc="-1" strike="noStrike">
                <a:solidFill>
                  <a:srgbClr val="000000"/>
                </a:solidFill>
                <a:latin typeface="Arial"/>
                <a:cs typeface="Arial"/>
              </a:rPr>
              <a:t>عامة</a:t>
            </a:r>
            <a:r>
              <a:rPr b="0" lang="ar-JO" sz="1200" spc="-1" strike="noStrike">
                <a:solidFill>
                  <a:srgbClr val="000000"/>
                </a:solidFill>
                <a:latin typeface="Arial"/>
                <a:ea typeface="Arial"/>
              </a:rPr>
              <a:t> (الحرية، والمساواة، والتكافل وغيرها..) مبيَّنة في </a:t>
            </a:r>
            <a:r>
              <a:rPr b="1" lang="ar-JO" sz="1200" spc="-1" strike="noStrike">
                <a:solidFill>
                  <a:srgbClr val="000000"/>
                </a:solidFill>
                <a:latin typeface="Arial"/>
                <a:cs typeface="Arial"/>
              </a:rPr>
              <a:t>معايير ومبادئ حقوق الإنسان</a:t>
            </a:r>
            <a:r>
              <a:rPr b="0" lang="ar-JO" sz="1200" spc="-1" strike="noStrike">
                <a:solidFill>
                  <a:srgbClr val="000000"/>
                </a:solidFill>
                <a:latin typeface="Arial"/>
                <a:ea typeface="Arial"/>
              </a:rPr>
              <a:t> التي تقدم مقياساً مشتركاً للإنجاز لكل من الرجال والنساء والأطفال والأمم جمعاء.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نهج القائم على حقوق الإنسان ينقل العمل التنموي من عالم الصدقات الاختياري (أو البرّ والإحسان) إلى </a:t>
            </a:r>
            <a:r>
              <a:rPr b="1" lang="ar-JO" sz="1200" spc="-1" strike="noStrike">
                <a:solidFill>
                  <a:srgbClr val="000000"/>
                </a:solidFill>
                <a:latin typeface="Arial"/>
                <a:cs typeface="Arial"/>
              </a:rPr>
              <a:t>العالم الإلزامي للقانو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فرض النهج القائم على الحقوق </a:t>
            </a:r>
            <a:r>
              <a:rPr b="1" lang="ar-JO" sz="1200" spc="-1" strike="noStrike">
                <a:solidFill>
                  <a:srgbClr val="000000"/>
                </a:solidFill>
                <a:latin typeface="Arial"/>
                <a:cs typeface="Arial"/>
              </a:rPr>
              <a:t>واجبات والتزامات ومطالبات مناظرة لها،</a:t>
            </a:r>
            <a:r>
              <a:rPr b="0" lang="ar-JO" sz="1200" spc="-1" strike="noStrike">
                <a:solidFill>
                  <a:srgbClr val="000000"/>
                </a:solidFill>
                <a:latin typeface="Arial"/>
                <a:ea typeface="Arial"/>
              </a:rPr>
              <a:t> ويؤكد أهمية وضع آليات عمل للمساءلة على جميع المستويات </a:t>
            </a:r>
            <a:r>
              <a:rPr b="1" lang="ar-JO" sz="1200" spc="-1" strike="noStrike">
                <a:solidFill>
                  <a:srgbClr val="000000"/>
                </a:solidFill>
                <a:latin typeface="Arial"/>
                <a:cs typeface="Arial"/>
              </a:rPr>
              <a:t>بالنسبة إلى القائمين بالواجبات</a:t>
            </a:r>
            <a:r>
              <a:rPr b="0" lang="ar-JO" sz="1200" spc="-1" strike="noStrike">
                <a:solidFill>
                  <a:srgbClr val="000000"/>
                </a:solidFill>
                <a:latin typeface="Arial"/>
                <a:ea typeface="Arial"/>
              </a:rPr>
              <a:t> لتلبية التزاماتهم.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غيِّر النهج القائم على حقوق الإنسان المفهوم من اعتبار الناس مستفيدين سلبيين من سياسات الدولة، إلى اعتبارهم </a:t>
            </a:r>
            <a:r>
              <a:rPr b="1" lang="ar-JO" sz="1200" spc="-1" strike="noStrike">
                <a:solidFill>
                  <a:srgbClr val="000000"/>
                </a:solidFill>
                <a:latin typeface="Arial"/>
                <a:cs typeface="Arial"/>
              </a:rPr>
              <a:t>مشاركين نشيطين في التنمية الخاصة بهم،</a:t>
            </a:r>
            <a:r>
              <a:rPr b="0" lang="ar-JO" sz="1200" spc="-1" strike="noStrike">
                <a:solidFill>
                  <a:srgbClr val="000000"/>
                </a:solidFill>
                <a:latin typeface="Arial"/>
                <a:ea typeface="Arial"/>
              </a:rPr>
              <a:t> والاعتراف بهم أيضاً بوصفهم </a:t>
            </a:r>
            <a:r>
              <a:rPr b="1" lang="ar-JO" sz="1200" spc="-1" strike="noStrike">
                <a:solidFill>
                  <a:srgbClr val="000000"/>
                </a:solidFill>
                <a:latin typeface="Arial"/>
                <a:cs typeface="Arial"/>
              </a:rPr>
              <a:t>أصحاب حقوق</a:t>
            </a:r>
            <a:r>
              <a:rPr b="0" lang="ar-JO" sz="1200" spc="-1" strike="noStrike">
                <a:solidFill>
                  <a:srgbClr val="000000"/>
                </a:solidFill>
                <a:latin typeface="Arial"/>
                <a:cs typeface="Arial"/>
              </a:rPr>
              <a:t>، الأمر الذي يضعهم في قلب عملية التنم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ب) الأسباب المنفعية الموجبة للنهج</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عترافاً بأن النهج القائم على حقوق الإنسان يؤدي إلى نتائج أفضل وأكثر استدامة للتنمية البشرية، فإن النهج القائم على حقوق الإنسا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كّز على تحليل حالات عدم المساواة، </a:t>
            </a:r>
            <a:r>
              <a:rPr b="1" lang="ar-JO" sz="1200" spc="-1" strike="noStrike">
                <a:solidFill>
                  <a:srgbClr val="000000"/>
                </a:solidFill>
                <a:latin typeface="Arial"/>
                <a:cs typeface="Arial"/>
              </a:rPr>
              <a:t>والممارسات التمييزية، والعلاقات السلطوية غير العادلة</a:t>
            </a:r>
            <a:r>
              <a:rPr b="0" lang="ar-JO" sz="1200" spc="-1" strike="noStrike">
                <a:solidFill>
                  <a:srgbClr val="000000"/>
                </a:solidFill>
                <a:latin typeface="Arial"/>
                <a:ea typeface="Arial"/>
              </a:rPr>
              <a:t> التي تُعتَبر الأسباب الجذرية لتحديات وعمليات حقوق الإنسان والتنمية التي </a:t>
            </a:r>
            <a:r>
              <a:rPr b="1" lang="ar-JO" sz="1200" spc="-1" strike="noStrike">
                <a:solidFill>
                  <a:srgbClr val="000000"/>
                </a:solidFill>
                <a:latin typeface="Arial"/>
                <a:cs typeface="Arial"/>
              </a:rPr>
              <a:t>تفاقم النزاع المسلح.</a:t>
            </a: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كّز بشكل خاص على </a:t>
            </a:r>
            <a:r>
              <a:rPr b="1" lang="ar-JO" sz="1200" spc="-1" strike="noStrike">
                <a:solidFill>
                  <a:srgbClr val="000000"/>
                </a:solidFill>
                <a:latin typeface="Arial"/>
                <a:cs typeface="Arial"/>
              </a:rPr>
              <a:t>المجموعات المُعرَّضة للتمييز</a:t>
            </a:r>
            <a:r>
              <a:rPr b="0" lang="ar-JO" sz="1200" spc="-1" strike="noStrike">
                <a:solidFill>
                  <a:srgbClr val="000000"/>
                </a:solidFill>
                <a:latin typeface="Arial"/>
                <a:ea typeface="Arial"/>
              </a:rPr>
              <a:t> والتي تعاني من </a:t>
            </a:r>
            <a:r>
              <a:rPr b="1" lang="ar-JO" sz="1200" spc="-1" strike="noStrike">
                <a:solidFill>
                  <a:srgbClr val="000000"/>
                </a:solidFill>
                <a:latin typeface="Arial"/>
                <a:cs typeface="Arial"/>
              </a:rPr>
              <a:t>الحرمان والإقصاء</a:t>
            </a:r>
            <a:r>
              <a:rPr b="0" lang="ar-JO" sz="1200" spc="-1" strike="noStrike">
                <a:solidFill>
                  <a:srgbClr val="000000"/>
                </a:solidFill>
                <a:latin typeface="Arial"/>
                <a:cs typeface="Arial"/>
              </a:rPr>
              <a:t>، بمن فيهم الأطفال والأقليات والنساء. ويدعو المبدءان التوأمان: عدم التمييز والمساواة إلى إيلاء اهتمام بالمساواة في النوع الاجتماعي وإشراك الحقوق الإنسانية للمرأة في جميع برامج 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ؤكد على </a:t>
            </a:r>
            <a:r>
              <a:rPr b="1" lang="ar-JO" sz="1200" spc="-1" strike="noStrike">
                <a:solidFill>
                  <a:srgbClr val="000000"/>
                </a:solidFill>
                <a:latin typeface="Arial"/>
                <a:cs typeface="Arial"/>
              </a:rPr>
              <a:t>المشاركة</a:t>
            </a:r>
            <a:r>
              <a:rPr b="0" lang="ar-JO" sz="1200" spc="-1" strike="noStrike">
                <a:solidFill>
                  <a:srgbClr val="000000"/>
                </a:solidFill>
                <a:latin typeface="Arial"/>
                <a:cs typeface="Arial"/>
              </a:rPr>
              <a:t>، وعلى وجه الخصوص، مشاركة الجماعات المقصاة والمميَّز ضدها في جميع مراحل عملية البرمج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عوِّل على </a:t>
            </a:r>
            <a:r>
              <a:rPr b="1" lang="ar-JO" sz="1200" spc="-1" strike="noStrike">
                <a:solidFill>
                  <a:srgbClr val="000000"/>
                </a:solidFill>
                <a:latin typeface="Arial"/>
                <a:cs typeface="Arial"/>
              </a:rPr>
              <a:t>مساءل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دولة</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ومؤسساتها</a:t>
            </a:r>
            <a:r>
              <a:rPr b="0" lang="ar-JO" sz="1200" spc="-1" strike="noStrike">
                <a:solidFill>
                  <a:srgbClr val="000000"/>
                </a:solidFill>
                <a:latin typeface="Arial"/>
                <a:ea typeface="Arial"/>
              </a:rPr>
              <a:t> فيما يتعلق باحترام وحماية وإحقاق جميع حقوق الإنسان لجميع الناس الواقعين ضمن سلطاتها القضائية (بالرغم من أن واجب الدولة في بعض المراحل قد يمتد إلى ما هو أبعد من سلطتها القضائية، مثل سجناء الحرب).</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عطي أهمية متساوية </a:t>
            </a:r>
            <a:r>
              <a:rPr b="1" lang="ar-JO" sz="1200" spc="-1" strike="noStrike">
                <a:solidFill>
                  <a:srgbClr val="000000"/>
                </a:solidFill>
                <a:latin typeface="Arial"/>
                <a:cs typeface="Arial"/>
              </a:rPr>
              <a:t>لعمليات التنمية ونتائجها</a:t>
            </a:r>
            <a:r>
              <a:rPr b="0" lang="ar-JO" sz="1200" spc="-1" strike="noStrike">
                <a:solidFill>
                  <a:srgbClr val="000000"/>
                </a:solidFill>
                <a:latin typeface="Arial"/>
                <a:cs typeface="Arial"/>
              </a:rPr>
              <a:t>، حيث تؤثر جودة العملية في تحقيق النتائج واستدامت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u="sng">
                <a:solidFill>
                  <a:srgbClr val="000000"/>
                </a:solidFill>
                <a:uFillTx/>
                <a:latin typeface="Arial"/>
                <a:ea typeface="Arial"/>
              </a:rPr>
              <a:t>(جـ) الأسباب المؤسسية الموجبة للنهج</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ملك الأمم المتحدة ميزة تنافسية في تفويضها الأساسي (ولايتها الأساسية) بشأن السلام والأمن وحقوق الإنسان والتنمية، وقيم ميثاق الأمم المتحدة. وفي هذا الشأن، تجعل الحياديةُ واحترامُ الاعتماد على الذات الأممَ المتحدة شريكاً ذا امتياز للتعامل مع القضايا الحسَّاسة بطريقة شمولية، مما يعني أنّ: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حديات التنمية تخضع للفحص من </a:t>
            </a:r>
            <a:r>
              <a:rPr b="1" lang="ar-JO" sz="1200" spc="-1" strike="noStrike">
                <a:solidFill>
                  <a:srgbClr val="000000"/>
                </a:solidFill>
                <a:latin typeface="Arial"/>
                <a:cs typeface="Arial"/>
              </a:rPr>
              <a:t>منظور شمولي مسترشداً بمبادئ حقوق الإنسان، وآخذاً بعين الاعتبار النواحي المدنية والسياسية والاقتصادية والاجتماعية والثقافية لأية مشكلة </a:t>
            </a:r>
            <a:r>
              <a:rPr b="0" lang="ar-JO" sz="1200" spc="-1" strike="noStrike">
                <a:solidFill>
                  <a:srgbClr val="000000"/>
                </a:solidFill>
                <a:latin typeface="Arial"/>
                <a:ea typeface="Arial"/>
              </a:rPr>
              <a:t>(مثال: إن استراتيجية الحد من الفقر تسترشد بالحق في التعليم والحق في الصحة، بالإضافة إلى الحق في حرية التعبير والاجتماع، والحق في الحصول على المعلومات وغيرها).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رفع النهج القائم على الحقوق الأضواء الوامضة القطاعية التحذيرية، ويسهِّل إعداد </a:t>
            </a:r>
            <a:r>
              <a:rPr b="1" lang="ar-JO" sz="1200" spc="-1" strike="noStrike">
                <a:solidFill>
                  <a:srgbClr val="000000"/>
                </a:solidFill>
                <a:latin typeface="Arial"/>
                <a:cs typeface="Arial"/>
              </a:rPr>
              <a:t>استجابة متكاملة متعدِّدة الأوجه لمشاكل التنمية، </a:t>
            </a:r>
            <a:r>
              <a:rPr b="0" lang="ar-JO" sz="1200" spc="-1" strike="noStrike">
                <a:solidFill>
                  <a:srgbClr val="000000"/>
                </a:solidFill>
                <a:latin typeface="Arial"/>
                <a:cs typeface="Arial"/>
              </a:rPr>
              <a:t>بما في ذلك التصدِّي لأطر العمل الاجتماعية والسياسية والقانونية والسياساتية التي تحدِّد العلاقة والفجوات في قدرات أصحاب الحقوق والقائمين بالواجبات.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تطلب النهج القائم على حقوق الإنسان استخدام توصيات</a:t>
            </a:r>
            <a:r>
              <a:rPr b="1" lang="ar-JO" sz="1200" spc="-1" strike="noStrike">
                <a:solidFill>
                  <a:srgbClr val="000000"/>
                </a:solidFill>
                <a:latin typeface="Arial"/>
                <a:ea typeface="Arial"/>
              </a:rPr>
              <a:t> آليات عمل حقوق الإنسان الدولية</a:t>
            </a:r>
            <a:r>
              <a:rPr b="0" lang="ar-JO" sz="1200" spc="-1" strike="noStrike">
                <a:solidFill>
                  <a:srgbClr val="000000"/>
                </a:solidFill>
                <a:latin typeface="Arial"/>
                <a:ea typeface="Arial"/>
              </a:rPr>
              <a:t> في التحليل والاستجابة الاستراتيجية لمشكلات التنم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ستطيع النهج القائم على حقوق الإنسان أيضاً أن يشكّل العلاقات مع الشركاء، بما أن الشركات يجب أن تكون تشاركية وشاملة ومبنية على الاحترام المتبادل بما يتفق مع مبادئ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79360" y="696960"/>
            <a:ext cx="4651560" cy="3487680"/>
          </a:xfrm>
          <a:prstGeom prst="rect">
            <a:avLst/>
          </a:prstGeom>
          <a:ln w="0">
            <a:noFill/>
          </a:ln>
        </p:spPr>
      </p:sp>
      <p:sp>
        <p:nvSpPr>
          <p:cNvPr id="64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سنوات الأخيرة، انتقلت وكالات الأمم المتحدة إلى مرحلة إدماج حقوق الإنسان بدرجات مختلفة. وقد عملت بعض الوكالات على تبني النهج القائم على حقوق الإنسان بشكل كلي، مما يتطلب تغييراً مؤسسياً، وأن تكون طريقة تنفيذ العمل التنموي من خلال تصميم البرامج القُطرية وغيرها من النشاط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قد أدت المستويات المختلفة من تبنِّي وممارسة النهج القائم على حقوق الإنسان إلى الحاجة إلى إيجاد فهم مشترك لهذا النهج في أوساط وكالات الأمم المتحدة، وإلى وضوح مفاهيمي حول حقوق الإنسان فيما يتعلق بالبرمجة. ويُبرزُ الفهمُ الذي تم التوصل إليه ثلاثةَ مضامين للنهج القائم على حقوق الإنسان في التعاون التنموي والبرمجة التنموية، ك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يكون </a:t>
            </a:r>
            <a:r>
              <a:rPr b="1" i="1" lang="ar-JO" sz="1200" spc="-1" strike="noStrike" u="sng">
                <a:solidFill>
                  <a:srgbClr val="000000"/>
                </a:solidFill>
                <a:uFillTx/>
                <a:latin typeface="Arial"/>
                <a:cs typeface="Arial"/>
              </a:rPr>
              <a:t>الهدف النهائي</a:t>
            </a:r>
            <a:r>
              <a:rPr b="1" lang="ar-JO" sz="1200" spc="-1" strike="noStrike">
                <a:solidFill>
                  <a:srgbClr val="000000"/>
                </a:solidFill>
                <a:latin typeface="Arial"/>
                <a:ea typeface="Arial"/>
              </a:rPr>
              <a:t> هو إحقاق الحقوق بدرجة أكبر.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أن تكون </a:t>
            </a:r>
            <a:r>
              <a:rPr b="1" i="1" lang="ar-JO" sz="1200" spc="-1" strike="noStrike" u="sng">
                <a:solidFill>
                  <a:srgbClr val="000000"/>
                </a:solidFill>
                <a:uFillTx/>
                <a:latin typeface="Arial"/>
                <a:cs typeface="Arial"/>
              </a:rPr>
              <a:t>عملية</a:t>
            </a:r>
            <a:r>
              <a:rPr b="1" lang="ar-JO" sz="1200" spc="-1" strike="noStrike">
                <a:solidFill>
                  <a:srgbClr val="000000"/>
                </a:solidFill>
                <a:latin typeface="Arial"/>
                <a:ea typeface="Arial"/>
              </a:rPr>
              <a:t> التنمية من نوع معيّن، حيث يجب أن تسترشد العمليات بمعايير ومبادئ حقوق الإنسان، ويجب أن يحدث ذلك لجميع استراتيجيات التنمية، وفي جميع القطاعات ومراحل دورة البرمج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بؤرة</a:t>
            </a:r>
            <a:r>
              <a:rPr b="1" lang="ar-JO" sz="1200" spc="-1" strike="noStrike">
                <a:solidFill>
                  <a:srgbClr val="000000"/>
                </a:solidFill>
                <a:latin typeface="Arial"/>
                <a:ea typeface="Arial"/>
              </a:rPr>
              <a:t> الاستراتيجيات هي تنمية قدرات أصحاب الحقوق على المطالبة بحقوقهم، وقدرات القائمين بالواجبات على الوفاء بالتزاماته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لكم هي العناصر الثلاثة الأساسية للفهم المشترك للأمم المتحدة للنهج القائم على حقوق الإنسان، الذي تم تفصيله بدقة في اجتماع ستامفورد عام </a:t>
            </a:r>
            <a:r>
              <a:rPr b="1" lang="ar-JO" sz="1200" spc="-1" strike="noStrike">
                <a:solidFill>
                  <a:srgbClr val="000000"/>
                </a:solidFill>
                <a:latin typeface="Arial"/>
                <a:ea typeface="Arial"/>
              </a:rPr>
              <a:t>200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سيتم شرح كل منها بتفصيل أكبر في الشرائح التال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79360" y="696960"/>
            <a:ext cx="4651560" cy="3487680"/>
          </a:xfrm>
          <a:prstGeom prst="rect">
            <a:avLst/>
          </a:prstGeom>
          <a:ln w="0">
            <a:noFill/>
          </a:ln>
        </p:spPr>
      </p:sp>
      <p:sp>
        <p:nvSpPr>
          <p:cNvPr id="64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جيب هذه الفقرة عن "سبب" تقديم المساعدات الإنمائية في الأمم المتحدة.</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دف التنمية هو تعزيز عملية إحقاق حقوق الإنسان:</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يس بالضرورة أن تعمل مجموعة من نشاطات البرمجة، التي تُسهم إسهاماً عَرَضياً فقط في إحقاق حقوق الإنسان، على تشكيل نهج قائم على حقوق الإنسان في البرمجة. ففي أي نهج يقوم على حقوق الإنسان، يتمثَّل هدف جميع النشاطات في إحراز المزيد من التقدُّم في مجال إحقاق حقوق الإنسان. فكلما ازدادت درجة إحقاق حقوق الإنسان، ازداد الأثر الإيجابي للتنمية. وفي الوقت ذاته، فإن تدهور حقوق الإنسان يشير إلى فشل سياسات التنمية.</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ما المضامين العملية في البرمجة فهي كما يلي: </a:t>
            </a:r>
            <a:endParaRPr b="0" lang="en-US" sz="1200" spc="-1" strike="noStrike">
              <a:solidFill>
                <a:srgbClr val="000000"/>
              </a:solidFill>
              <a:latin typeface="Arial"/>
            </a:endParaRPr>
          </a:p>
          <a:p>
            <a:pPr marL="228600" indent="-22860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تأطير وصياغة تحديات التنمية وأهدافها باعتبارها حقوقاً للإنسان يجب احترامها وحمايتها واستيفاؤها. على سبيل المثال، فإن هدف أي برنامج للتعليم هو "ضمان تعميم التعليم الابتدائي المجاني" بدلاً عن "ضمان وجود بنى تحتية تعليمية كافية ووافية بالغرض" وبناء على ذلك، ثمة اهتمام خاص مطلوب بالجماعات التي يتعرض حق أفرادها في التعليم إلى أشدّ حالات الخطر – بمن فيهم الفتيات، والأطفال في المناطق القروية، والأقليات العرقية والعنصري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ساعد معايير حقوق الإنسان على تحديد العناصر الدقيقة للأهداف التنموية/الإنمائية، التي ستكون خلافاً لذلك عامة جداً وذات نهايات مفتوحة إن لم يتم تحديدها. فعلى سبيل المثال، يتطلب هدف ضمان الأمن الغذائي أن يكون الغذاء سهلَ المنال، ويمكن تحمل تكلفته الشرائية، ومقبولاً من الناحيتين البيولوجية والثقافية. </a:t>
            </a:r>
            <a:endParaRPr b="0" lang="en-US" sz="1200" spc="-1" strike="noStrike">
              <a:solidFill>
                <a:srgbClr val="000000"/>
              </a:solidFill>
              <a:latin typeface="Arial"/>
            </a:endParaRPr>
          </a:p>
          <a:p>
            <a:pPr marL="2286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قد غَدَت توصيات وملاحظات آليات عمل حقوق الإنسان الدولية اليومَ مقبولةً ومعترفاً بها بوصفها أدوات ضرورية للتحليل والبرمجة، بما في ذلك وضع الأهداف.</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79360" y="696960"/>
            <a:ext cx="4651560" cy="3487680"/>
          </a:xfrm>
          <a:prstGeom prst="rect">
            <a:avLst/>
          </a:prstGeom>
          <a:ln w="0">
            <a:noFill/>
          </a:ln>
        </p:spPr>
      </p:sp>
      <p:sp>
        <p:nvSpPr>
          <p:cNvPr id="64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رتبط هذه الشريحة بالعنصر الأول من الفهم/التفاهم المشترك للأمم المتحدة، وتهدف إلى توضيح العلاقة بين النهج القائم على حقوق الإنسان واستخدام القانون الإنساني الدولي وأنظمة الحماية ذات العلاق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دّم توصياتُ وملاحظات هيئات المعاهدة والإجراءات الخاصة مراجعَ وأدوات قيّمة لبرامج الأمم المتحدة المتوافقة مع أحكام المعاهدات ذات الصلة، والتي يجب أن تشكّل جوهر عملية التقييم القطري المشترك / إطار عمل الأمم المتحدة للمساعدات الإنمائية، وأن تبثّ الروح فيها، ك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عتبر مصدراً للتحليل القُطري:</a:t>
            </a:r>
            <a:r>
              <a:rPr b="1" lang="ar-JO" sz="1200" spc="-1" strike="noStrike">
                <a:solidFill>
                  <a:srgbClr val="000000"/>
                </a:solidFill>
                <a:latin typeface="Arial"/>
                <a:ea typeface="Arial"/>
              </a:rPr>
              <a:t> تشخيص قضايا التنمية الأساسية من منظور قائم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عتبر مصدراً للبرمجة:</a:t>
            </a:r>
            <a:r>
              <a:rPr b="1" lang="ar-JO" sz="1200" spc="-1" strike="noStrike">
                <a:solidFill>
                  <a:srgbClr val="000000"/>
                </a:solidFill>
                <a:latin typeface="Arial"/>
                <a:ea typeface="Arial"/>
              </a:rPr>
              <a:t> تحدد هيئات المعاهدة والإجراءات الخاصة في توصياتها الخطوط العريضة للأعمال الأساسية التي يتوجب على الحكومة تنفيذها من منظور الحقوق، وذلك للتغلب على أية مشكلة من مشكلات التنمية. ويمكن للأمم المتحدة أن تلعب دوراً أساسياً في مساعدة الحكومة على متابعة التوصيات. ففي غياب المعرفة أو الإدارة السياسية، تستطيع التوصيات والملاحظات أن تصبح أداة مهمة للمناصرة وكسب التأييد في الحوار مع شركاء الحكو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ثال من غواتيمال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ملاحظاتها الختامية، أعربت لجنة الحقوق الاقتصادية والاجتماعية والثقافية عن قلقها حول معدل وفيات الأمهات المرتفع في غواتيمالا. وفي المقابل، فقد أوصت اللجنة باتخاذ عدد من الإجراءات الواجب تنفيذها، ومن بينها إدماج الصحة الإنجابية في المناهج المدر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توضح لجنة الحقوق الاقتصادية والاجتماعية والثقافية في تعليقها العام رقم </a:t>
            </a:r>
            <a:r>
              <a:rPr b="1" lang="ar-JO" sz="1200" spc="-1" strike="noStrike" u="sng">
                <a:solidFill>
                  <a:srgbClr val="000000"/>
                </a:solidFill>
                <a:uFillTx/>
                <a:latin typeface="Arial"/>
                <a:ea typeface="Arial"/>
              </a:rPr>
              <a:t>14</a:t>
            </a:r>
            <a:r>
              <a:rPr b="1" lang="ar-JO" sz="1200" spc="-1" strike="noStrike" u="sng">
                <a:solidFill>
                  <a:srgbClr val="000000"/>
                </a:solidFill>
                <a:uFillTx/>
                <a:latin typeface="Arial"/>
                <a:ea typeface="Arial"/>
              </a:rPr>
              <a:t> حول الحق في الصحة أنَّ</a:t>
            </a:r>
            <a:r>
              <a:rPr b="1" lang="ar-JO" sz="1200" spc="-1" strike="noStrike">
                <a:solidFill>
                  <a:srgbClr val="000000"/>
                </a:solidFill>
                <a:latin typeface="Arial"/>
                <a:ea typeface="Arial"/>
              </a:rPr>
              <a:t> الحصول على التثقيف والمعلومات المرتبطة بالصحة، بما في ذلك الصحة الإنجابية والصحة الجنسية، هو جزء من الحق في الصحة (التعليق العام رقم </a:t>
            </a:r>
            <a:r>
              <a:rPr b="1" lang="ar-JO" sz="1200" spc="-1" strike="noStrike">
                <a:solidFill>
                  <a:srgbClr val="000000"/>
                </a:solidFill>
                <a:latin typeface="Arial"/>
                <a:ea typeface="Arial"/>
              </a:rPr>
              <a:t>14</a:t>
            </a:r>
            <a:r>
              <a:rPr b="1" lang="ar-JO" sz="1200" spc="-1" strike="noStrike">
                <a:solidFill>
                  <a:srgbClr val="000000"/>
                </a:solidFill>
                <a:latin typeface="Arial"/>
                <a:ea typeface="Arial"/>
              </a:rPr>
              <a:t>). إن هذا التوضيح لا يقدم توجيهات لوكالات الأمم المتحدة التي تُعِدُّ وتنفّذ برامج الصحة الإنجابية والجنسية فحسب، بل يمكن كذلك استخدام التوضيح كأداة مهمة للمناصرة مع الحكومات المحلية وأصحاب المصلحة على المستوى الوطني، في المضي قُدُماً بالأجندة الإنمائية أو التنموية و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وضح التوصيات العامة لهيئات المعاهدة معاني الحقوق والمحتويات المعيارية الدنيا لها. وفي حالة عدم تلبية المحتويات المعيارية الدنيا هذه. تعتبر الحقوق بأنها لم تلقَ الاحترام والإحقاق الكامل. وفي المثال الذي تم تقديمه، "تُفسر اللجنة (لجنة الحقوق الاقتصادية والاجتماعية والثقافية) الحق في الصحة، كما هو محدد في المادة </a:t>
            </a:r>
            <a:r>
              <a:rPr b="1" lang="ar-JO" sz="1200" spc="-1" strike="noStrike">
                <a:solidFill>
                  <a:srgbClr val="000000"/>
                </a:solidFill>
                <a:latin typeface="Arial"/>
                <a:ea typeface="Arial"/>
              </a:rPr>
              <a:t>12</a:t>
            </a:r>
            <a:r>
              <a:rPr b="1" lang="ar-JO" sz="1200" spc="-1" strike="noStrike">
                <a:solidFill>
                  <a:srgbClr val="000000"/>
                </a:solidFill>
                <a:latin typeface="Arial"/>
                <a:ea typeface="Arial"/>
              </a:rPr>
              <a:t>-</a:t>
            </a:r>
            <a:r>
              <a:rPr b="1" lang="ar-JO" sz="1200" spc="-1" strike="noStrike">
                <a:solidFill>
                  <a:srgbClr val="000000"/>
                </a:solidFill>
                <a:latin typeface="Arial"/>
                <a:ea typeface="Arial"/>
              </a:rPr>
              <a:t>1</a:t>
            </a:r>
            <a:r>
              <a:rPr b="1" lang="ar-JO" sz="1200" spc="-1" strike="noStrike">
                <a:solidFill>
                  <a:srgbClr val="000000"/>
                </a:solidFill>
                <a:latin typeface="Arial"/>
                <a:cs typeface="Arial"/>
              </a:rPr>
              <a:t>، بوصفه حقاً شاملاً لا يمتد إلى توفير الرعاية الصحة الملائمة في الوقت المناسب فحسب، بل إلى المُحدِّدات (القيود) التحتية التي تحول دون توفير الصحة، مثل توفير الإمكانية للوصول إلى المياه المأمونة الصالحة للشرب والصرف الصحي الملائم، وإلى تموين ملائم من الغذاء الآمن، والتغذية والسكن، وإلى ظروف مهنية وبيئية صحية، إضافة إلى الحصول على المعلومات والتعليم المرتبط بالصحة، بما في ذلك الصحة الإنجابية والصحة الجنسية." وبناء على ذلك، إذا نتج عن النقص في الحصول على المعلومات حول الصحة الإنجابية ارتفاع معدل وفيات الأمهات، فإن الدولة بذلك تكون قد انتهكت الحق في توفير الصح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79360" y="696960"/>
            <a:ext cx="4651560" cy="3487680"/>
          </a:xfrm>
          <a:prstGeom prst="rect">
            <a:avLst/>
          </a:prstGeom>
          <a:ln w="0">
            <a:noFill/>
          </a:ln>
        </p:spPr>
      </p:sp>
      <p:sp>
        <p:nvSpPr>
          <p:cNvPr id="64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تَّصف حقوق الإنسان بأنها قطاعية وتوفّر وسائل مفيدة. ويُحسِّن كل من المبادئ والمعايير جودة النتائج والعم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ضمن مبادئ حقوق الإنسان بأن تخلق عمليةُ التنمية بيئةً مؤاتيةً لا تلحق الضرب بعملية إحقاق حقوق الإنسان</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شرح المعايير والمبادئ بتفصيل أكبر في الشرائح التال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نهج القائم على حقوق الإنسان، تتساوى أهمية مبادئ حقوق الإنسان التي توجِّه عملية التنمية بينما تعمل معايير حقوق الإنسان على تعريف محتوى الأهداف الإنمائية. ويحدد نوعُ العملية النتيجةَ النهائية وقابليتها للاستدامة. ويملك النهج القائم على حقوق الإنسان بُعداً إجرائياً أيضاً. وتضمن المبادئ الأساسية، مثل المشاركة والمساواة وعدم التمييز والمساءلة، أن تخلق </a:t>
            </a:r>
            <a:r>
              <a:rPr b="1" lang="ar-JO" sz="1200" spc="-1" strike="noStrike" u="sng">
                <a:solidFill>
                  <a:srgbClr val="000000"/>
                </a:solidFill>
                <a:uFillTx/>
                <a:latin typeface="Arial"/>
                <a:cs typeface="Arial"/>
              </a:rPr>
              <a:t>عمليات البرمجة والتنمية</a:t>
            </a:r>
            <a:r>
              <a:rPr b="1" lang="ar-JO" sz="1200" spc="-1" strike="noStrike">
                <a:solidFill>
                  <a:srgbClr val="000000"/>
                </a:solidFill>
                <a:latin typeface="Arial"/>
                <a:ea typeface="Arial"/>
              </a:rPr>
              <a:t> بيئةً مؤاتية لإحقاق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79360" y="696960"/>
            <a:ext cx="4651560" cy="3487680"/>
          </a:xfrm>
          <a:prstGeom prst="rect">
            <a:avLst/>
          </a:prstGeom>
          <a:ln w="0">
            <a:noFill/>
          </a:ln>
        </p:spPr>
      </p:sp>
      <p:sp>
        <p:nvSpPr>
          <p:cNvPr id="64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طي عنوان هذه الشريحة أهمية للعنصر الثاني من التفاهم المشترك ل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رمجة بالنسبة إلى ممارسي التنمية هي العملية التي تُنْتِجُ تدخلات التنمية من خلالها التغييرَ الضروري لتحقيق الأهداف الإنمائ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مانُ احترام المعايير والمبادئ، بشكل متوافق، مستمرٌ في كل مراحل دورة البرمجة وعلى جميع مستويات سلسلة النتائج والنواتج (المُخرجات، والنواتج والآث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صفات عدم التمييز والمشاركة والملكية المحلية وتنمية القدرات والمساءلة خصائص أساسية لأية عملية ذات جودة عال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نص المبادئ التوجيهية للتقييم القُطري المشترك / إطار عمل الأمم المتحدة للمساعدات الإنمائية على أن عملية البرمجة لدى الأمم المتحدة تشتمل على الخطوات الأساسية التال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ييم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حليل</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سُلَّم أولويات لتحديات التنم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وضيح النتائج المتوقعة ودور مختلف الجهات الفاعلة في العمل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صميم البرامج والمشاريع القُطرية</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تابعة والتقييم</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79360" y="696960"/>
            <a:ext cx="4651560" cy="3487680"/>
          </a:xfrm>
          <a:prstGeom prst="rect">
            <a:avLst/>
          </a:prstGeom>
          <a:ln w="0">
            <a:noFill/>
          </a:ln>
        </p:spPr>
      </p:sp>
      <p:sp>
        <p:nvSpPr>
          <p:cNvPr id="65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حتوي الأدوات الدولية لحقوق الإنسان على معايير حقوق الإنسان التي تشكّل </a:t>
            </a:r>
            <a:r>
              <a:rPr b="1" lang="ar-JO" sz="1200" spc="-1" strike="noStrike">
                <a:solidFill>
                  <a:srgbClr val="000000"/>
                </a:solidFill>
                <a:latin typeface="Arial"/>
                <a:cs typeface="Arial"/>
              </a:rPr>
              <a:t>المحتوى أو المستوى المعياري الأدنى</a:t>
            </a:r>
            <a:r>
              <a:rPr b="0" lang="ar-JO" sz="1200" spc="-1" strike="noStrike">
                <a:solidFill>
                  <a:srgbClr val="000000"/>
                </a:solidFill>
                <a:latin typeface="Arial"/>
                <a:ea typeface="Arial"/>
              </a:rPr>
              <a:t> للاستحقاقات والالتزامات التي يمكن أن يخضع للمساءَلة بمقتضاها، القائمون بالواجبات على جميع مستويات المجتمع، وخصوصاً الكيانات العضوية للدول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واد المنصوص عليها في المعاهدات (مثال: يمكن العثور على الحقوق ذات العلاقة بالصحة في العهد الدولي للحقوق الاقتصادية والاجتماعية والثقافية، وفي اتفاقية القضاء على جميع أشكال التمييز ضد المرأة، وفي اتفاقية حقوق الطفل).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عليقات العامة لهيئات المعاهدة التابعة للأمم المتحدة (مثال: إمكانية التوافر، إمكانية الوصول / الحصول أو النفاذ، ومدى كفاية وملاءمة الخدمات الصحية، والتعليقات العامة للحقوق الاقتصادية والاجتماعية والثقافية، والمساواة في النوع الاجتماعي، وحقوق المرأة في الصحة، والتوصيات العامة لاتفاقية القضاء على جميع أشكال التمييز ضد المرأ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طلب من المشاركين إعطاء مثالٍ على الغذاء الذي لا يعتبرونه مقبولاً من الناحية الثقاف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طيع التشريعات الوطنية (الدستور الوطني، والقوانين والتشريعات الوطنية والفقه القضائي الوطني ...) وضع معايير أعلى مستوى من تلك المحددة في القانون الدو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ثال: المعيار الأدنى هو المستوى أو المحتوى الأدنى الضروري لنكون قادرين على التأكيد بأن الحق في طور الإحقاق. مثال على المحتوى الأدنى: يمكن أن يكون الغذاء متوافراً ويمكن الوصول إليه وتحمل تكلفته الشرائية، بكميات ونوعيات كافية لإشباع الحاجات الغذائية للأفراد. بَيْدَ أنه إن لم يكن الغذاء المتوافر مقبولاً من الناحية الثقافية (مثل لحم الخنزير في المجتمعات ذات الثقافة الإسلامية)، فإن الحق في الغذاء سيكون قد تعرض للانتها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إطار الأيم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شخيص أو حصر تحديات التنمية بوصفها قضايا لحقوق الإنسان: </a:t>
            </a:r>
            <a:r>
              <a:rPr b="0" lang="ar-JO" sz="1200" spc="-1" strike="noStrike">
                <a:solidFill>
                  <a:srgbClr val="000000"/>
                </a:solidFill>
                <a:latin typeface="Arial"/>
                <a:cs typeface="Arial"/>
              </a:rPr>
              <a:t>في بلد يعاني فيه ما نسبته </a:t>
            </a:r>
            <a:r>
              <a:rPr b="0" lang="ar-JO" sz="1200" spc="-1" strike="noStrike">
                <a:solidFill>
                  <a:srgbClr val="000000"/>
                </a:solidFill>
                <a:latin typeface="Arial"/>
                <a:ea typeface="Arial"/>
              </a:rPr>
              <a:t>40</a:t>
            </a:r>
            <a:r>
              <a:rPr b="0" lang="ar-JO" sz="1200" spc="-1" strike="noStrike">
                <a:solidFill>
                  <a:srgbClr val="000000"/>
                </a:solidFill>
                <a:latin typeface="Arial"/>
                <a:ea typeface="Arial"/>
              </a:rPr>
              <a:t>% من الأطفال من سوء التغذية، ينص معيار حقوق الإنسان حول الحق في الحصول على الغذاء (المادة </a:t>
            </a:r>
            <a:r>
              <a:rPr b="0" lang="ar-JO" sz="1200" spc="-1" strike="noStrike">
                <a:solidFill>
                  <a:srgbClr val="000000"/>
                </a:solidFill>
                <a:latin typeface="Arial"/>
                <a:ea typeface="Arial"/>
              </a:rPr>
              <a:t>11</a:t>
            </a:r>
            <a:r>
              <a:rPr b="0" lang="ar-JO" sz="1200" spc="-1" strike="noStrike">
                <a:solidFill>
                  <a:srgbClr val="000000"/>
                </a:solidFill>
                <a:latin typeface="Arial"/>
                <a:ea typeface="Arial"/>
              </a:rPr>
              <a:t> من اتفاقية الحقوق الاقتصادية والاجتماعية والثقافية والتعليق العام رقم </a:t>
            </a:r>
            <a:r>
              <a:rPr b="0" lang="ar-JO" sz="1200" spc="-1" strike="noStrike">
                <a:solidFill>
                  <a:srgbClr val="000000"/>
                </a:solidFill>
                <a:latin typeface="Arial"/>
                <a:ea typeface="Arial"/>
              </a:rPr>
              <a:t>12</a:t>
            </a:r>
            <a:r>
              <a:rPr b="0" lang="ar-JO" sz="1200" spc="-1" strike="noStrike">
                <a:solidFill>
                  <a:srgbClr val="000000"/>
                </a:solidFill>
                <a:latin typeface="Arial"/>
                <a:ea typeface="Arial"/>
              </a:rPr>
              <a:t>) على أن الغذاء يجب أن يكون متوافراً ويُمكن الحصول عليه. وفي الحقيقة، ثمة دول تواجه ذلك المستوى من سوء التغذية المزمن، حيث يكون الغذاء متوافراً لكن نصف عدد السكان لا يستطيعون الحصول عليه بسبب التفاوتات الاجتماعية والاقتصادية.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أدوار والقدرات: </a:t>
            </a:r>
            <a:r>
              <a:rPr b="0" lang="ar-JO" sz="1200" spc="-1" strike="noStrike">
                <a:solidFill>
                  <a:srgbClr val="000000"/>
                </a:solidFill>
                <a:latin typeface="Arial"/>
                <a:cs typeface="Arial"/>
              </a:rPr>
              <a:t>وزارة العمل مسؤولة عن تنفيذ حقوق العمال، ولكنها غالباً ما تفشل في إنفاذ سياسة الحد الأدنى للأجور، إذا ما أخذنا في الاعتبار المقاومة القوية من شركات الأعمال الكبرى. وغالباً ما يخشى العمال من الانتقام إن هم طالبوا بحقوقهم، عندما نأخذ في الحسبان أنهم يفتقرون إلى حماية الحكومة لهم من الإساءات التي يتعرّضون لها من مالكي الأراضي. وما تزال النساء القرويات، على وجه الخصوص، يواجهن التمييز فيما يتعلق بالأجور وملكية الأراضي، ولا يملكن وثائق هوية في أغلب الأحيان. (اقتباس من تقرير المقرر الخاص حول الحق في الغذاء من زيارة قُطرية ف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1160" y="696960"/>
            <a:ext cx="4648320" cy="3486240"/>
          </a:xfrm>
          <a:prstGeom prst="rect">
            <a:avLst/>
          </a:prstGeom>
          <a:ln w="0">
            <a:noFill/>
          </a:ln>
        </p:spPr>
      </p:sp>
      <p:sp>
        <p:nvSpPr>
          <p:cNvPr id="58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إن الروابط بين السلام والأمن، والتنمية وحقوق الإنسان ليست أمراً جديداً، وإنما هي، في واقع الحال، تقع في صميم الأمم المتحدة. فالمادة الأولى من ميثاق الأمم المتحدة تصف مقاصد منظمة الأمم المتحدة وأهدافها على النحو التالي، ومقاصد الأمم المتحدة هي: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حفظ السلام والأمن على المستوى الدولي، وتحقيقاً لهذه الغاية تتَّخذ المنظمة التدابير المشتركة الفعالة لمنع الأسباب التي تُهدِّد السلم ولإزالتها، وتقمع أعمال العدوان وغيرها من وجوه الإخلال بالسلم، وتتذرَّع بالوسائل السلمية، وفقاً لمبادئ العدل والقانون الدولي، لحل المنازعات أو الحالات الدولية المتنازع فيها، والتي قد تؤدي إلى الإخلال بالسلم، أو لتسويتها.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إنماء العلاقات الودية بين الأمم على أساس احترام المبدأ الذي يقضي بالمساواة في الحقوق بين الشعوب وبأن يكون لكل منها حق تقرير مصيرها، وكذلك اتخاذ التدابير الأخرى الملائمة لتعزيز السلم العام.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تحقيق التعاون الدولي على حل المسائل الدولية ذات الصبغة الاقتصادية والاجتماعية والثقافية والإنسانية، وعلى تعزيز احترام حقوق الإنسان والحريات الأساسية للناس جميعاً والتشجيع على ذلك إطلاقاً بلا تمييز بسبب العرق أو اللغة أو الدين أو الجنس (أي لا تفريق بين الرجال والنساء). </a:t>
            </a:r>
            <a:endParaRPr b="0" lang="en-US" sz="1000" spc="-1" strike="noStrike">
              <a:solidFill>
                <a:srgbClr val="000000"/>
              </a:solidFill>
              <a:latin typeface="Arial"/>
            </a:endParaRPr>
          </a:p>
          <a:p>
            <a:pPr marL="228600" indent="-228600" algn="r" rtl="1">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جعل هذه المنظمة مرجعاً لتنسيق أعمال الأمم وتوجيهها نحو إدراك هذه الغايات المشتركة.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ورغم وجود هذه الرؤية التقدُّمية للأمم المتحدة لكي تعمل بطريقة منسَّقة ومتناغمة، فإن الوقائع التاريخية عصفت بهذه الرؤية عن طريق خلق متاهة، تولَّت فيها أوجه التفضيل السياسية قيادة الطريق صوب خلق سياسة موازية ومسارات برامجية لا تلتقي إلا في أحيان نادرة. ولم تتلاقَ هذه الأشياء معاً إلا في عقد التسعينيات من العام الماضي. </a:t>
            </a: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00"/>
                </a:solidFill>
                <a:latin typeface="Arial"/>
                <a:cs typeface="Arial"/>
              </a:rPr>
              <a:t>لقد بدأت المؤتمرات العالمية للأمم المتحدة (التي عقدت في كوبنهاغن، وڤينّا، وبكين والقاهرة وغيرها)، بالتشديد على الروابط بين التنمية البشرية وحقوق الإنسان، وأكَّدت بشكل خاص أنَّ الحقوق الإنسانية للمرأة تعتبر (جزءاً محورياً) من حقوق الإنسان. وبعد انعقاد هذه المؤتمرات العالمية المهمة، فإن أمين عام الأمم المتحدة كوفي أنان هو الذي نقل هذه التطورات إلى المستوى التالي من العمل، عندما أعلن أجندته (برنامج عمله) لعملية إصلاح الأمم المتحدة في عام </a:t>
            </a:r>
            <a:r>
              <a:rPr b="0" lang="ar-JO" sz="1000" spc="-1" strike="noStrike">
                <a:solidFill>
                  <a:srgbClr val="000000"/>
                </a:solidFill>
                <a:latin typeface="Arial"/>
                <a:ea typeface="Arial"/>
              </a:rPr>
              <a:t>1997</a:t>
            </a:r>
            <a:r>
              <a:rPr b="0" lang="ar-JO" sz="1000" spc="-1" strike="noStrike">
                <a:solidFill>
                  <a:srgbClr val="000000"/>
                </a:solidFill>
                <a:latin typeface="Arial"/>
                <a:ea typeface="Arial"/>
              </a:rPr>
              <a:t>.</a:t>
            </a:r>
            <a:r>
              <a:rPr b="0" lang="ar-JO"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79360" y="696960"/>
            <a:ext cx="4651560" cy="3487680"/>
          </a:xfrm>
          <a:prstGeom prst="rect">
            <a:avLst/>
          </a:prstGeom>
          <a:ln w="0">
            <a:noFill/>
          </a:ln>
        </p:spPr>
      </p:sp>
      <p:sp>
        <p:nvSpPr>
          <p:cNvPr id="653" name="PlaceHolder 2"/>
          <p:cNvSpPr>
            <a:spLocks noGrp="1"/>
          </p:cNvSpPr>
          <p:nvPr>
            <p:ph type="body"/>
          </p:nvPr>
        </p:nvSpPr>
        <p:spPr>
          <a:xfrm>
            <a:off x="398160" y="4241880"/>
            <a:ext cx="6062760" cy="491976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ظهر اللون اختلافاً بين مجموعتَي المبادئ. المبادئ باللون الأخضر تستهدف المحتوى، بينما المبادئ باللون الأبيض تستهدف العم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سيتم التعامل مع مبادئ حقوق الإنسان بشكل أكثر تفصيلاً من خلال عرض معلوماتي منفصل. أما هذا العرض فغرضه تقديم فهم سريع لتعريف "عالمية الحقوق" وعدم تعريف "قابلية التصرف فيها": </a:t>
            </a:r>
            <a:r>
              <a:rPr b="0" lang="ar-JO" sz="1200" spc="-1" strike="noStrike">
                <a:solidFill>
                  <a:srgbClr val="000000"/>
                </a:solidFill>
                <a:latin typeface="Arial"/>
                <a:cs typeface="Arial"/>
              </a:rPr>
              <a:t>حقوق الإنسان عالمية وغير قابلة للتصرف. فكل رجل وامرأة وطفل في كل مكان من العالم هم أصحاب للحقوق الإنسانية استناداً إلى كونهم بشراً. فالكائن البشري الذي تتأصل فيه تلك الحقوق، كجزء لا يتجزأ منه، لا يمكنه التخلي عن تلك الحقوق طوعاً، ولا يمكن للآخرين انتزاع تلك الحقوق منه. وتنص المادة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من الإعلان العالمي لحقوق الإنسان على أن "يولد جميع الناس أحرار متساوين في الكرامة". كذلك فإن الصفة العالمية للحقوق تشير إلى التزام جميع الدول باحترام حقوق الإنسان وحمايتها في الأدوات/الصكوك الدولية. وتشكل هذه الحقوق معياراً أساسياً أدنى يجب على كل دولة التقيد ب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عدم القابلية للتجزئة</a:t>
            </a:r>
            <a:r>
              <a:rPr b="0" lang="ar-JO" sz="1200" spc="-1" strike="noStrike">
                <a:solidFill>
                  <a:srgbClr val="000000"/>
                </a:solidFill>
                <a:latin typeface="Arial"/>
                <a:ea typeface="Arial"/>
              </a:rPr>
              <a:t>: إن حقوق الإنسان غير قابلة للتجزئة. وسواء أكانت الحقوق ذات طبيعة مدنية أم ثقافية أم اقتصادية أم سياسية أم اجتماعية، </a:t>
            </a:r>
            <a:r>
              <a:rPr b="1" lang="ar-JO" sz="1200" spc="-1" strike="noStrike">
                <a:solidFill>
                  <a:srgbClr val="000000"/>
                </a:solidFill>
                <a:latin typeface="Arial"/>
                <a:cs typeface="Arial"/>
              </a:rPr>
              <a:t>فجميعها</a:t>
            </a:r>
            <a:r>
              <a:rPr b="0" lang="ar-JO" sz="1200" spc="-1" strike="noStrike">
                <a:solidFill>
                  <a:srgbClr val="000000"/>
                </a:solidFill>
                <a:latin typeface="Arial"/>
                <a:ea typeface="Arial"/>
              </a:rPr>
              <a:t> متأصلة في كرامة كل شخص وملازمة لها. ونتيجة لذلك، تتمتع جميع الحقوق بوضع متساوٍ بوصفها حقوقاً، ولا يمكن تحديد مراتب ل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رابطية والتشابكية</a:t>
            </a:r>
            <a:r>
              <a:rPr b="0" lang="ar-JO" sz="1200" spc="-1" strike="noStrike">
                <a:solidFill>
                  <a:srgbClr val="000000"/>
                </a:solidFill>
                <a:latin typeface="Arial"/>
                <a:ea typeface="Arial"/>
              </a:rPr>
              <a:t>: يعتمد إحقاق حق واحد غالباً على إحقاق الحقوق الأخرى، سواء أكان اعتماداً كلياً أم جزئياً. فعلى سبيل المثال، قد يعتمد إحقاق الحق في الصحة، في ظروف معينة، على إحقاق الحق في التعليم، والحق في الحصول على المعلومات، والحق في الغذاء والتغذية، والحق في الحصول على مياه مأمونة وصرف صحي وغيرها من الحقوق. فالفتاة التي تعاني من سوء التغذية تكون غير قادرة على الأداء في المدرسة والاستفادة من أي نوع من التعليم يمكّنها من المشاركة في المجتمع المدني والعملية الديمقراط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ساواة وعدم التمييز:</a:t>
            </a:r>
            <a:r>
              <a:rPr b="0" lang="ar-JO" sz="1200" spc="-1" strike="noStrike">
                <a:solidFill>
                  <a:srgbClr val="000000"/>
                </a:solidFill>
                <a:latin typeface="Arial"/>
                <a:ea typeface="Arial"/>
              </a:rPr>
              <a:t> جميع الأفراد متساوون بوصفهم كائنات بشرية واستناداً إلى الكرامة المتأصلة في كل شخص بشري والمُلازمة له. وجميع الكائنات البشرية تستحق التمتع بحقوقها الإنسانية من دون أي نوع من التمييز، مثل التمييز بسبب العرق، أو اللون، أو الجنس، أو العمر، أو اللغة، أو الدين، أو الرأي السياسي أو غيره، أو الأصل القومي أو الاجتماعي، والإعاقة، والملكية، والولادة، أو بسبب أي وضع كما تنصّ عليه معاهدات حقوق الإنسان، وكما تفسّره أيضاً هيئات المعاهدة المعنية بحقوق الإنسان. ولهذا السبب، يُعَدُّ التقدم بحقوق الإنسان لكل من المرأة والرجل على أساس المساواة متطلباً مطلقاً للقانون الدول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شاركة والشمول: </a:t>
            </a:r>
            <a:r>
              <a:rPr b="0" lang="ar-JO" sz="1200" spc="-1" strike="noStrike">
                <a:solidFill>
                  <a:srgbClr val="000000"/>
                </a:solidFill>
                <a:latin typeface="Arial"/>
                <a:cs typeface="Arial"/>
              </a:rPr>
              <a:t>جميع الأشخاص والشعوب يستحقون المشاركة الفعالة والحرة والمفيدة، والإسهام في عملية التنمية المدنية والاقتصادية والاجتماعية والثقافية والسياسية والتمتع بها، حيث يمكن في هذه العملية إحقاق حقوق الإنسان والحريات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مساءلة وحكم القانون: </a:t>
            </a:r>
            <a:r>
              <a:rPr b="0" lang="ar-JO" sz="1200" spc="-1" strike="noStrike">
                <a:solidFill>
                  <a:srgbClr val="000000"/>
                </a:solidFill>
                <a:latin typeface="Arial"/>
                <a:cs typeface="Arial"/>
              </a:rPr>
              <a:t>إن الدول وغيرها من القائمين بالواجبات يخضعون كلهم للمساءَلة عن مراعاة حقوق الإنسان. وفي هذا الشأن، يجب عليهم الالتزام بالمعايير والأعراف القانونية التي تكرّسها أدوات / صكوك حقوق الإنسان. وحيثما تفشل هذه الأطراف في القيام بذلك، يحق لأصحاب الحقوق المتضرِّرين إقامة الدعاوى سعياً وراء الإنصاف ووضع الحقوق في نصا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51200" cy="3487680"/>
          </a:xfrm>
          <a:prstGeom prst="rect">
            <a:avLst/>
          </a:prstGeom>
          <a:ln w="0">
            <a:noFill/>
          </a:ln>
        </p:spPr>
      </p:sp>
      <p:sp>
        <p:nvSpPr>
          <p:cNvPr id="65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علان ڤينّا عام </a:t>
            </a:r>
            <a:r>
              <a:rPr b="1" lang="ar-JO" sz="1200" spc="-1" strike="noStrike">
                <a:solidFill>
                  <a:srgbClr val="000000"/>
                </a:solidFill>
                <a:latin typeface="Arial"/>
                <a:ea typeface="Arial"/>
              </a:rPr>
              <a:t>1993</a:t>
            </a:r>
            <a:r>
              <a:rPr b="1" lang="ar-JO" sz="1200" spc="-1" strike="noStrike">
                <a:solidFill>
                  <a:srgbClr val="000000"/>
                </a:solidFill>
                <a:latin typeface="Arial"/>
                <a:ea typeface="Arial"/>
              </a:rPr>
              <a:t> الفقرة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جميع حقوق الإنسان عالمية وغير قابلة للتجزئة ومترابطة ومتشابكة. ويجب على المجتمع الدولي معاملة حقوق الإنسان، على المستوى العالمي، بطريقة متكافئة وعادلة، وعلى قدم المساواة وبالمستوى نفسه من الاهتمام. وبينما يجب أن نأخذ بعين الاعتبار أهمية الخصوصيات، الوطنية والإقليمية، ومختلف الخلفيات التاريخية والثقافية والدينية، فإن واجب الدول يقتضي تعزيز جميع حقوق الإنسان والحريات الأساسية وحمايتها، بصرف النظر عن الأنظمة السياسية والاقتصادية والثقافية لتلك الدو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الباً ما ستكون الخطوات الملموسة التي يتم اتخاذها لتنفيذ كل من اتفاقية القضاء على جميع أشكال التمييز ضد المرأة، والمعاهدات الدولية الأخرى لحقوق الإنسان مختلفة في مختلف الدول. ويجب أن تكون ملائمة لها من الناحية الثقافية، غير أن اتفاقيةَ القضاء على جميع أشكال التمييز ضد المرأة واضحةٌ من حيث إن المطالبات القائمة على الثقافة لا تتفوّق أو تتغلَّب "</a:t>
            </a:r>
            <a:r>
              <a:rPr b="1" lang="en-US" sz="1200" spc="-1" strike="noStrike">
                <a:solidFill>
                  <a:srgbClr val="000000"/>
                </a:solidFill>
                <a:latin typeface="Arial"/>
                <a:ea typeface="굴림"/>
              </a:rPr>
              <a:t>trump</a:t>
            </a:r>
            <a:r>
              <a:rPr b="1" lang="ar-JO" sz="1200" spc="-1" strike="noStrike">
                <a:solidFill>
                  <a:srgbClr val="000000"/>
                </a:solidFill>
                <a:latin typeface="Arial"/>
                <a:ea typeface="Arial"/>
              </a:rPr>
              <a:t>" على حقوق الإنسان، إذا كانت الجوانب الثقافية أو التقاليدية تمييزية في طابعها. ويجب العمل نحو القضاء على التمييز ضد المرأة في هذا المستوى، تماماً كما يجب العمل على مستوى القوانين والسياس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سهِّلُ فهمُ معتقدات الناس وقيمهم تنفيذ النهج القائم على حقوق الإنسان: على سبيل المثال، فإن إطلاق الحملات لوضع حد لختان الإناث لا يعتبر قراراً ذا قيمة في أيّ من الثقافات الإفريقية التي يتم فيها ممارسة ذلك، بل إنّه قرار مفاده أنَّ هذه الممارسة تنتهك الحق في سلامة الجسم وتكامله، والحق في التحرّر من التمييز القائم على النوع الاجتماعي، والحق في الصحة من بين غيرها من الحقوق. ويُؤكد المنظور القائم على حقوق الإنسان أن حقوق المرأة والفتاة في سلامة الجسم وتكامله، والتحرر من التمييز والحق في الحصول على مستويات الصحة، هي حقوق عالمية. ولا يمكن الاستشهاد بالمطالب الثقافية لتبرير الانتهاك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أن تكون بعض الممارسات الثقافية مطالبات تنادي بها حقوق الإنسان: فعلى سبيل المثال، الحقوق في الهوية للسكان الأصليين (اتفاقية منظمة العمل الدولية رقم </a:t>
            </a:r>
            <a:r>
              <a:rPr b="1" lang="ar-JO" sz="1200" spc="-1" strike="noStrike">
                <a:solidFill>
                  <a:srgbClr val="000000"/>
                </a:solidFill>
                <a:latin typeface="Arial"/>
                <a:ea typeface="Arial"/>
              </a:rPr>
              <a:t>169</a:t>
            </a:r>
            <a:r>
              <a:rPr b="1" lang="ar-JO" sz="1200" spc="-1" strike="noStrike">
                <a:solidFill>
                  <a:srgbClr val="000000"/>
                </a:solidFill>
                <a:latin typeface="Arial"/>
                <a:ea typeface="Arial"/>
              </a:rPr>
              <a:t>) أو حق الطفل الذي ينتمي إلى أقلية في التمتع بثقافته ودينه ولغته الخاصة ب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مارسات فضلى: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حق في الصحة في بيرو – عندما استمرت مستويات وفيات الأمهات في المجتمعات "الأنديزية" في بلوغ ثلاثة أضعاف معدلها القومي، تم الاكتشاف أنَّ من بين العوامل التي أسهمت في ذلك تشمل حقيقة مفادها أن الأمهات "الأنديزيات" يرفضن مراجعة عيادات الأمومة، حيث اعتبرن أنها لا تراعي حساسية ثقافتهن وتقاليدهن، حيث كانت تلك العيادات قائمةً على ممارسات طبية حديثة. وقد ساعدت الجلسات التشاورية مع النساء "الأنديزيات" اليونيسفَ في تقديم العون لمقدمي الخدمات الصحية لجعل الممارسات الصحية تشتمل على ما تفضله النساء من أنواع الشاي بنكهات الأعشاب المختلفة، ووضعيات الولادة، ومعالجة المشيمة، والألوان المقبولة في غرف الولادة، والخصوصية في التعامل مع الطاقم الطبي الذكوري، وغيرها من الجوانب التي تنسجم مع الثقافة "الأنديزية". ونتيجة لذلك التدخل، كان الانخفاض في وفيات الأمهات والأطفال ملحوظ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جزء من الاستراتيجية الوطنية لبرنامج الإكوادور القُطري، الذي ينفذه صندوق الأمم المتحدة للسكان، التي تهدف إلى تلبية احتياجات المجتمعات الأشد فقراً والتي لا تتلقى خدمات كافية، فقد عمل البرنامج على تمويل مشروع ابتكاري في "أوتاڤالو </a:t>
            </a:r>
            <a:r>
              <a:rPr b="1" lang="en-US" sz="1200" spc="-1" strike="noStrike">
                <a:solidFill>
                  <a:srgbClr val="000000"/>
                </a:solidFill>
                <a:latin typeface="Arial"/>
                <a:ea typeface="굴림"/>
              </a:rPr>
              <a:t>Otavalo</a:t>
            </a:r>
            <a:r>
              <a:rPr b="1" lang="ar-JO" sz="1200" spc="-1" strike="noStrike">
                <a:solidFill>
                  <a:srgbClr val="000000"/>
                </a:solidFill>
                <a:latin typeface="Arial"/>
                <a:ea typeface="Arial"/>
              </a:rPr>
              <a:t>" لتحسين نوعية ومدى الرعاية الصحية الإنجابية المقدمة للمجتمعات المتحدثة بلغة "كويتشوا </a:t>
            </a:r>
            <a:r>
              <a:rPr b="1" lang="en-US" sz="1200" spc="-1" strike="noStrike">
                <a:solidFill>
                  <a:srgbClr val="000000"/>
                </a:solidFill>
                <a:latin typeface="Arial"/>
                <a:ea typeface="굴림"/>
              </a:rPr>
              <a:t>Quechua</a:t>
            </a:r>
            <a:r>
              <a:rPr b="1" lang="ar-JO" sz="1200" spc="-1" strike="noStrike">
                <a:solidFill>
                  <a:srgbClr val="000000"/>
                </a:solidFill>
                <a:latin typeface="Arial"/>
                <a:ea typeface="Arial"/>
              </a:rPr>
              <a:t>" على وجه الخصوص. وقد سمح هذا الدعم لعيادة "جامبي هواسي" الصحية، التي تم تأسيسها عام </a:t>
            </a:r>
            <a:r>
              <a:rPr b="1" lang="ar-JO" sz="1200" spc="-1" strike="noStrike">
                <a:solidFill>
                  <a:srgbClr val="000000"/>
                </a:solidFill>
                <a:latin typeface="Arial"/>
                <a:ea typeface="Arial"/>
              </a:rPr>
              <a:t>1994</a:t>
            </a:r>
            <a:r>
              <a:rPr b="1" lang="ar-JO" sz="1200" spc="-1" strike="noStrike">
                <a:solidFill>
                  <a:srgbClr val="000000"/>
                </a:solidFill>
                <a:latin typeface="Arial"/>
                <a:cs typeface="Arial"/>
              </a:rPr>
              <a:t>، بتوسيع خدماتها ورفع كفاءتها، والبدء ببرنامج للتواصل الميداني، وتقديم البرامج التثقيفية والمعلوماتية عن الصحة الإنجابية للنساء والرجال واليافعين وإدخال نظام إحالة لحالات التوليد المعقدة. وتُقدِّم هذه العيادة "جامبي هواسي" كلاً من العلاجات الطبية الحديثة والتقليدية، بالإضافة إلى تقديم المشورة والخدمات الخاصة بتنظيم الأسرة. ويسحب ممارسو الطب الشعبي (التقليدي) من إحدى الصيدليات ما يزيد على </a:t>
            </a:r>
            <a:r>
              <a:rPr b="1" lang="ar-JO" sz="1200" spc="-1" strike="noStrike">
                <a:solidFill>
                  <a:srgbClr val="000000"/>
                </a:solidFill>
                <a:latin typeface="Arial"/>
                <a:ea typeface="Arial"/>
              </a:rPr>
              <a:t>3.600</a:t>
            </a:r>
            <a:r>
              <a:rPr b="1" lang="ar-JO" sz="1200" spc="-1" strike="noStrike">
                <a:solidFill>
                  <a:srgbClr val="000000"/>
                </a:solidFill>
                <a:latin typeface="Arial"/>
                <a:ea typeface="Arial"/>
              </a:rPr>
              <a:t> نبتة محلية تُستخدم للأغراض الطبية. وقد أدت مجموعة الخدمات الفريدة التي توفرها هذه العيادة إلى جعلها مشهورةً جداً. وبالرغم من أنها أُنشأت في بادئ الأمر لتقديم الخدمة إلى حوالي </a:t>
            </a:r>
            <a:r>
              <a:rPr b="1" lang="ar-JO" sz="1200" spc="-1" strike="noStrike">
                <a:solidFill>
                  <a:srgbClr val="000000"/>
                </a:solidFill>
                <a:latin typeface="Arial"/>
                <a:ea typeface="Arial"/>
              </a:rPr>
              <a:t>4.000</a:t>
            </a:r>
            <a:r>
              <a:rPr b="1" lang="ar-JO" sz="1200" spc="-1" strike="noStrike">
                <a:solidFill>
                  <a:srgbClr val="000000"/>
                </a:solidFill>
                <a:latin typeface="Arial"/>
                <a:ea typeface="Arial"/>
              </a:rPr>
              <a:t> شخص في السنة، إلا أنها ومع حلول عام </a:t>
            </a:r>
            <a:r>
              <a:rPr b="1" lang="ar-JO" sz="1200" spc="-1" strike="noStrike">
                <a:solidFill>
                  <a:srgbClr val="000000"/>
                </a:solidFill>
                <a:latin typeface="Arial"/>
                <a:ea typeface="Arial"/>
              </a:rPr>
              <a:t>2005</a:t>
            </a:r>
            <a:r>
              <a:rPr b="1" lang="ar-JO" sz="1200" spc="-1" strike="noStrike">
                <a:solidFill>
                  <a:srgbClr val="000000"/>
                </a:solidFill>
                <a:latin typeface="Arial"/>
                <a:cs typeface="Arial"/>
              </a:rPr>
              <a:t>، كانت تقدم الخدمات إلى ما يقارب </a:t>
            </a:r>
            <a:r>
              <a:rPr b="1" lang="ar-JO" sz="1200" spc="-1" strike="noStrike">
                <a:solidFill>
                  <a:srgbClr val="000000"/>
                </a:solidFill>
                <a:latin typeface="Arial"/>
                <a:ea typeface="Arial"/>
              </a:rPr>
              <a:t>1.000</a:t>
            </a:r>
            <a:r>
              <a:rPr b="1" lang="ar-JO" sz="1200" spc="-1" strike="noStrike">
                <a:solidFill>
                  <a:srgbClr val="000000"/>
                </a:solidFill>
                <a:latin typeface="Arial"/>
                <a:ea typeface="Arial"/>
              </a:rPr>
              <a:t> شخص شهرياً، بعضهم يأتي من مسافة تبعد </a:t>
            </a:r>
            <a:r>
              <a:rPr b="1" lang="ar-JO" sz="1200" spc="-1" strike="noStrike">
                <a:solidFill>
                  <a:srgbClr val="000000"/>
                </a:solidFill>
                <a:latin typeface="Arial"/>
                <a:ea typeface="Arial"/>
              </a:rPr>
              <a:t>50</a:t>
            </a:r>
            <a:r>
              <a:rPr b="1" lang="ar-JO" sz="1200" spc="-1" strike="noStrike">
                <a:solidFill>
                  <a:srgbClr val="000000"/>
                </a:solidFill>
                <a:latin typeface="Arial"/>
                <a:ea typeface="Arial"/>
              </a:rPr>
              <a:t> كليومتراً عن العيا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ينما تُحاول عيادة "جامبي هواسي" الجمع بين نظامَي الرعاية الولادية، فإنها تبحث من جهة في موضوع الثقة التي تضعها النساء المنحدرات من السكان الأصليين في القابلات التقليديات بسبب الدور الذي يلعبنه في المجتمع، وتقدّم من جهة أخرى خدمة مؤسسية قادرة فنياً على حل التعقيدات، إضافة إلى تقديم نظام الإحالة في حالات الولادة الطارئ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ان تركيز عمل صندوق الأمم المتحدة للسكان، منذ البداية، مراعياً للرؤية الكونية "</a:t>
            </a:r>
            <a:r>
              <a:rPr b="1" lang="en-US" sz="1200" spc="-1" strike="noStrike">
                <a:solidFill>
                  <a:srgbClr val="000000"/>
                </a:solidFill>
                <a:latin typeface="Arial"/>
                <a:ea typeface="굴림"/>
              </a:rPr>
              <a:t>cosmo-vision</a:t>
            </a:r>
            <a:r>
              <a:rPr b="1" lang="ar-JO" sz="1200" spc="-1" strike="noStrike">
                <a:solidFill>
                  <a:srgbClr val="000000"/>
                </a:solidFill>
                <a:latin typeface="Arial"/>
                <a:ea typeface="Arial"/>
              </a:rPr>
              <a:t>" التي تدرك بأن المرء ليس بوسعه أن يُفاتِح السكان الأصليين بالطريقة نفسها التي يستطيع بوساطتها مفاتحة السكان الهجين "</a:t>
            </a:r>
            <a:r>
              <a:rPr b="1" lang="en-US" sz="1200" spc="-1" strike="noStrike">
                <a:solidFill>
                  <a:srgbClr val="000000"/>
                </a:solidFill>
                <a:latin typeface="Arial"/>
                <a:ea typeface="굴림"/>
              </a:rPr>
              <a:t>mestizo</a:t>
            </a:r>
            <a:r>
              <a:rPr b="1" lang="ar-JO" sz="1200" spc="-1" strike="noStrike">
                <a:solidFill>
                  <a:srgbClr val="000000"/>
                </a:solidFill>
                <a:latin typeface="Arial"/>
                <a:ea typeface="Arial"/>
              </a:rPr>
              <a:t>". إذ هَدَفَ الدعم الذي يقدمه صندوق الأمم المتحدة للسكان إلى تقوية القدرات على إعداد مقترح للصحة متداخل الثقافات وقيادة ذلك المقترح.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ينما تعلَّمت المجتمعاتُ الناطقة بلغة "كويتشوا" قدراً أكبر من المعرفة عن قضايا الصحة الإنجابية وكيفية رعاية أطفالها وحديثي الولادة لديها بشكل أفضل، ارتفعت معدلات انتشار وسائل منع الحمل من </a:t>
            </a:r>
            <a:r>
              <a:rPr b="1" lang="ar-JO" sz="1200" spc="-1" strike="noStrike">
                <a:solidFill>
                  <a:srgbClr val="000000"/>
                </a:solidFill>
                <a:latin typeface="Arial"/>
                <a:ea typeface="Arial"/>
              </a:rPr>
              <a:t>10</a:t>
            </a:r>
            <a:r>
              <a:rPr b="1" lang="ar-JO" sz="1200" spc="-1" strike="noStrike">
                <a:solidFill>
                  <a:srgbClr val="000000"/>
                </a:solidFill>
                <a:latin typeface="Arial"/>
                <a:ea typeface="Arial"/>
              </a:rPr>
              <a:t>% إلى </a:t>
            </a:r>
            <a:r>
              <a:rPr b="1" lang="ar-JO" sz="1200" spc="-1" strike="noStrike">
                <a:solidFill>
                  <a:srgbClr val="000000"/>
                </a:solidFill>
                <a:latin typeface="Arial"/>
                <a:ea typeface="Arial"/>
              </a:rPr>
              <a:t>40</a:t>
            </a:r>
            <a:r>
              <a:rPr b="1" lang="ar-JO" sz="1200" spc="-1" strike="noStrike">
                <a:solidFill>
                  <a:srgbClr val="000000"/>
                </a:solidFill>
                <a:latin typeface="Arial"/>
                <a:ea typeface="Arial"/>
              </a:rPr>
              <a:t>% في المناطق التي تقدم عيادة "جامبي هواسي" الخدمات لها. وقد غيَّرت هذه العيادة المنظور الصحي لمزيج متآلف من الطب التقليدي والغربي. وفي الوقت الحالي، يستخدم السكان الهجين والأصليون خدمات عيادة "جامبي هواسي". وتنتقل هذه العيادة في الوقت الحاضر من كونها مشروعاً "تجريبياً" إلى "سياسات عامة" مما يؤثر في توجه وزارة الصحة لإدخال المنظور الثقافي في عمل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79360" y="696960"/>
            <a:ext cx="4651560" cy="3487680"/>
          </a:xfrm>
          <a:prstGeom prst="rect">
            <a:avLst/>
          </a:prstGeom>
          <a:ln w="0">
            <a:noFill/>
          </a:ln>
        </p:spPr>
      </p:sp>
      <p:sp>
        <p:nvSpPr>
          <p:cNvPr id="65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تعامل الشرائح التالية مع قضايا مثل تعريف "القائمين بالواجبات" و"أصحاب المطالبات"، والعلاقة بينهما بالإضافة إلى تنمية القدر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نصبُّ مركز اهتمام العلاقات بين  الدولة والأفراد على الحاجة إلى العمل صوبَ تحقيق توازن في الصلاحيات يكون فعَّالاً وعادِلاً بين أصحاب الحقوق والقائمين بالواجبات.</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2600" y="695160"/>
            <a:ext cx="4653000" cy="3489480"/>
          </a:xfrm>
          <a:prstGeom prst="rect">
            <a:avLst/>
          </a:prstGeom>
          <a:ln w="0">
            <a:noFill/>
          </a:ln>
        </p:spPr>
      </p:sp>
      <p:sp>
        <p:nvSpPr>
          <p:cNvPr id="659" name="PlaceHolder 2"/>
          <p:cNvSpPr>
            <a:spLocks noGrp="1"/>
          </p:cNvSpPr>
          <p:nvPr>
            <p:ph type="body"/>
          </p:nvPr>
        </p:nvSpPr>
        <p:spPr>
          <a:xfrm>
            <a:off x="701280" y="4416480"/>
            <a:ext cx="5607000" cy="41846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ائمون بالواجبات</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أن تكون التزامات حقوق الإنسان متعلقة أيضاً بأفراد القطاع الخاص، والمنظمات الدولية، وغيرهم من الجهات الفاعلة غير الحكومية. وثمة التزامات واضحة منوطة بالآباء، على سبيل المثال، بمقتضى اتفاقية حقوق الطفل، وتُلْزَم الدول بالتعاون مع بعضها بعضاً للقضاء على العقبات التي تواجه التنمية. وإضافة إلى ذلك، هناك مسؤوليات عامة ملقاة على كاهل الأفراد تجاه المجتمع كله، ويجب عليهم، على أقل تقدير، احترام الحقوق الإنسانية للآخري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ير أن الدولة تظلّ القائم الرئيس بالواجبات بمقتضى القانون الدولي، ولا يمكنها إلغاء واجبها المتمثل في تهيئة بيئة تنظيمية ملائمة لنشاطات ومسؤوليات القطاع الخاص ووضعها موضع التنفيذ. ويجب أن توضح السياسات والتشريعات الوطنية بالتفصيل كيفية أداء الدولة التزاماتها تجاه حقوق الإنسان على المستويات الوطنية والأقاليمية/المناطقية والمحلية، ومدى تحمل الأفراد والشركاء ووحدات الحكومات المحلية، والمنظمات غير الحكومية وغيرها من كيانات المجتمع العضوية المسؤولة عن التنفيذ بشكل مباش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صحاب الحقوق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سهم البرامج في تنمية قدرات أصحاب الحقوق على المطالبة بحقوقهم. ويعتبر كل فرد صاحب حقوق ويستحق الحصول على الحقوق ذاتها من دون تمييز. وإلى حد ما، فإن الجماعات السكانية كذلك تستحق التمتع بحقوق الإنسان. ويطالب النهج القائم على حقوق الإنسان بإيلاء اهتمام خاص لدعم أعضاء الجماعات المعرضة للتمييز، أو تلك التي تعاني من الحرمان أو الإقصاء، للمطالبة بحقوق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79360" y="696960"/>
            <a:ext cx="4651560" cy="3487680"/>
          </a:xfrm>
          <a:prstGeom prst="rect">
            <a:avLst/>
          </a:prstGeom>
          <a:ln w="0">
            <a:noFill/>
          </a:ln>
        </p:spPr>
      </p:sp>
      <p:sp>
        <p:nvSpPr>
          <p:cNvPr id="66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درة</a:t>
            </a:r>
            <a:r>
              <a:rPr b="0" lang="ar-JO" sz="1200" spc="-1" strike="noStrike">
                <a:solidFill>
                  <a:srgbClr val="000000"/>
                </a:solidFill>
                <a:latin typeface="Arial"/>
                <a:ea typeface="Arial"/>
              </a:rPr>
              <a:t>: قدرة الأفراد والمنظمات والمجتمعات على أداء وظائفها، وحل المشكلات، ووضع الأهداف الفردية وتحقي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نمية القدرات: </a:t>
            </a:r>
            <a:r>
              <a:rPr b="0" lang="ar-JO" sz="1200" spc="-1" strike="noStrike">
                <a:solidFill>
                  <a:srgbClr val="000000"/>
                </a:solidFill>
                <a:latin typeface="Arial"/>
                <a:cs typeface="Arial"/>
              </a:rPr>
              <a:t>الخلق المستمر والمستدام للقدرات واستخدامها والاحتفاظ ب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قدرات أصحاب الحقوق على: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فهم حقوقهم. (</a:t>
            </a:r>
            <a:r>
              <a:rPr b="0" lang="ar-JO" sz="1200" spc="-1" strike="noStrike">
                <a:solidFill>
                  <a:srgbClr val="000000"/>
                </a:solidFill>
                <a:latin typeface="Arial"/>
                <a:ea typeface="Arial"/>
              </a:rPr>
              <a:t>2</a:t>
            </a:r>
            <a:r>
              <a:rPr b="0" lang="ar-JO" sz="1200" spc="-1" strike="noStrike">
                <a:solidFill>
                  <a:srgbClr val="000000"/>
                </a:solidFill>
                <a:latin typeface="Arial"/>
                <a:ea typeface="Arial"/>
              </a:rPr>
              <a:t>) صياغة المطالب الملقاة على عاتق الدولة للوفاء بهذه الحقوق. (</a:t>
            </a:r>
            <a:r>
              <a:rPr b="0" lang="ar-JO" sz="1200" spc="-1" strike="noStrike">
                <a:solidFill>
                  <a:srgbClr val="000000"/>
                </a:solidFill>
                <a:latin typeface="Arial"/>
                <a:ea typeface="Arial"/>
              </a:rPr>
              <a:t>3</a:t>
            </a:r>
            <a:r>
              <a:rPr b="0" lang="ar-JO" sz="1200" spc="-1" strike="noStrike">
                <a:solidFill>
                  <a:srgbClr val="000000"/>
                </a:solidFill>
                <a:latin typeface="Arial"/>
                <a:ea typeface="Arial"/>
              </a:rPr>
              <a:t>) السعي إلى تصويب الأوضاع والإنصاف إن تم انتهاك حقوق أصحاب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قيامنا بتنمية قدرات أصحاب الحقوق فإننا نعمل على تمكينهم من المطالبة بحقوق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ائمون بالواجبات: </a:t>
            </a:r>
            <a:r>
              <a:rPr b="0" lang="ar-JO" sz="1200" spc="-1" strike="noStrike">
                <a:solidFill>
                  <a:srgbClr val="000000"/>
                </a:solidFill>
                <a:latin typeface="Arial"/>
                <a:cs typeface="Arial"/>
              </a:rPr>
              <a:t>قدرة الدولة على جميع المستويات (جميع سُلطات الدولة، وجميع قطاعات الحكومة، على المستويات الوطنية والأقاليمية/المناطقية والبلدية) على الوفاء بالتزاماتها تجاه احترام الحقوق وحمايتها وإحقاق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حترام / الواجب نحو احترام الحقوق: </a:t>
            </a:r>
            <a:r>
              <a:rPr b="0" lang="ar-JO" sz="1200" spc="-1" strike="noStrike">
                <a:solidFill>
                  <a:srgbClr val="000000"/>
                </a:solidFill>
                <a:latin typeface="Arial"/>
                <a:cs typeface="Arial"/>
              </a:rPr>
              <a:t>يتطلب من القائمين بالواجبات الامتناع عن التدخل بشكل مباشر أو غير مباشر في التمتع ب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حماية الحقوق: </a:t>
            </a:r>
            <a:r>
              <a:rPr b="0" lang="ar-JO" sz="1200" spc="-1" strike="noStrike">
                <a:solidFill>
                  <a:srgbClr val="000000"/>
                </a:solidFill>
                <a:latin typeface="Arial"/>
                <a:cs typeface="Arial"/>
              </a:rPr>
              <a:t>يتطلب من القائمين بالواجبات اتخاذ التدابير التي تمنع الأطراف الثالثة من التدخل في التمتع ب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لوفاء بالحقوق (التسهيل أو التيسير):</a:t>
            </a:r>
            <a:r>
              <a:rPr b="0" lang="ar-JO" sz="1200" spc="-1" strike="noStrike">
                <a:solidFill>
                  <a:srgbClr val="000000"/>
                </a:solidFill>
                <a:latin typeface="Arial"/>
                <a:ea typeface="Arial"/>
              </a:rPr>
              <a:t> يتطلب من القائمين بالواجبات إقرار التدابير التشريعية والإدارية والقضائية والتعزيزية وتدابير المَيْزَنة الملائمة كلها وغيرها من التدابير الأخرى تجاه الإحقاق التام ل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لتزام بالوفاء الحقوق (التقديم): </a:t>
            </a:r>
            <a:r>
              <a:rPr b="0" lang="ar-JO" sz="1200" spc="-1" strike="noStrike">
                <a:solidFill>
                  <a:srgbClr val="000000"/>
                </a:solidFill>
                <a:latin typeface="Arial"/>
                <a:cs typeface="Arial"/>
              </a:rPr>
              <a:t>يتطلب من القائمين بالواجبات تقديم المساعدة أو الخدمات بشكل مباشر لإحقاق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تنمية قدرات الدولة على احترام الحقوق وحمايتها وإحقاقها (أو الوفاء بها)، فإن مؤسسات الدولة وموظفيها سيصبحون أكثر عرضة للمساء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إرادة السياسية (الالتزام) والقدرة.</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F313AD5-757A-4177-ADA2-C0B9DA4B210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3"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64"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65"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6" name="PlaceHolder 1"/>
          <p:cNvSpPr>
            <a:spLocks noGrp="1"/>
          </p:cNvSpPr>
          <p:nvPr>
            <p:ph type="sldImg"/>
          </p:nvPr>
        </p:nvSpPr>
        <p:spPr>
          <a:xfrm>
            <a:off x="1179360" y="696960"/>
            <a:ext cx="4651560" cy="3487680"/>
          </a:xfrm>
          <a:prstGeom prst="rect">
            <a:avLst/>
          </a:prstGeom>
          <a:ln w="0">
            <a:noFill/>
          </a:ln>
        </p:spPr>
      </p:sp>
      <p:sp>
        <p:nvSpPr>
          <p:cNvPr id="667"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ضّح هذه الشريحة عملية البرمجة المشتركة لدى الأمم المتحدة، ويجب استخدامها لتوضيح بعض العناصر المعنية بالفهم المشترك لدى الأمم المتحدة للنهج القائم على حقوق الإنسان، التي تم شرحها خلال هذه الجلس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كذلك فإن هذه الشريحة مرتبطة بالجلسات التالية، التي تشرح القيمة التي يضيفها النهج القائم على حقوق الإنسان لكل مرحلة من مراحل عملية البرمج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79360" y="696960"/>
            <a:ext cx="4651560" cy="3487680"/>
          </a:xfrm>
          <a:prstGeom prst="rect">
            <a:avLst/>
          </a:prstGeom>
          <a:ln w="0">
            <a:noFill/>
          </a:ln>
        </p:spPr>
      </p:sp>
      <p:sp>
        <p:nvSpPr>
          <p:cNvPr id="66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فسِّر الشرائح التالية معنى مبادئ حقوق الإنسان والمضامين العملية لها، في تقوية الأنظمة الوطنية لحماية حقوق الإنسان، من خلال البرمجة القائمة على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إذا قرر الشخص المرجعي (الخبير) إدارة عملية لعب الأدوار، يمكن استخدام هذه الشرائح كقائمة تحقَّق لاستخلاص النتائج من عملية لعب الأدو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صرف النظر عن القيام أم لا بلعب الأدوار، من الممكن استخدام هذه الشرائح دائماً لتسهيل نقاش جلسات مجموعات العمل أو الجلسات العام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1160" y="696960"/>
            <a:ext cx="4651200" cy="3487680"/>
          </a:xfrm>
          <a:prstGeom prst="rect">
            <a:avLst/>
          </a:prstGeom>
          <a:ln w="0">
            <a:noFill/>
          </a:ln>
        </p:spPr>
      </p:sp>
      <p:sp>
        <p:nvSpPr>
          <p:cNvPr id="67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ؤال</a:t>
            </a:r>
            <a:r>
              <a:rPr b="0" lang="ar-JO" sz="1200" spc="-1" strike="noStrike">
                <a:solidFill>
                  <a:srgbClr val="000000"/>
                </a:solidFill>
                <a:latin typeface="Arial"/>
                <a:ea typeface="Arial"/>
              </a:rPr>
              <a:t>: هل يعتبر مبدأ "عالمية" حقوق الإنسان مشابهاً لمبدئي المساواة وعدم التمييز؟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جواب</a:t>
            </a:r>
            <a:r>
              <a:rPr b="0" lang="ar-JO" sz="1200" spc="-1" strike="noStrike">
                <a:solidFill>
                  <a:srgbClr val="000000"/>
                </a:solidFill>
                <a:latin typeface="Arial"/>
                <a:ea typeface="Arial"/>
              </a:rPr>
              <a:t>: يهتم مبدأ "عالمية" حقوق الإنسان وعدم قابلية التصرف بها، من حيث الجوهر، بعدم إغفال أو إقصاء أي إنسان من التمتُّع بحقوق الإنسان، بينما يهتم مبدأ المساواة ومبدأ عدم التمييز، في جوهرهما، بعدم ممارسة أنماط التمييز المحدّدة التي تم حصرها في معاهدات حقوق الإنسان، وذلك لتحقيق المساواة للجماعات المعرّضة للتمييز في الوقت الراه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عالمية ومبدأ عدم القابلية للتصرف</a:t>
            </a:r>
            <a:r>
              <a:rPr b="0" lang="ar-JO" sz="1200" spc="-1" strike="noStrike">
                <a:solidFill>
                  <a:srgbClr val="000000"/>
                </a:solidFill>
                <a:latin typeface="Arial"/>
                <a:ea typeface="Arial"/>
              </a:rPr>
              <a:t>: إنّ حقوقَ الإنسان عالميةٌ وغير قابلة للتصرف. فكل رجل وامرأة وطفل في كل مكان في العالم يستحقون التمتّع بهذه الحقوق. والكائن البشري الذي تتأصل فيه هذه الحقوق لا يمكنه التخلي عنها طوعاً. ولا يستطيع الآخرون أن ينتزعوا هذه الحقوق منه.  وحسبما تنص عليه المادة الأولى من الإعلان العالمي لحقوق الإنسان، فإن "جميع الناس يولدون أحراراً ومتساوين في الكرامة و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a:t>
            </a:r>
            <a:r>
              <a:rPr b="0" lang="ar-JO" sz="1200" spc="-1" strike="noStrike">
                <a:solidFill>
                  <a:srgbClr val="000000"/>
                </a:solidFill>
                <a:latin typeface="Arial"/>
                <a:ea typeface="Arial"/>
              </a:rPr>
              <a:t> السؤال المراد طرحه هو: هل </a:t>
            </a:r>
            <a:r>
              <a:rPr b="0" lang="ar-JO" sz="1200" spc="-1" strike="noStrike" u="sng">
                <a:solidFill>
                  <a:srgbClr val="000000"/>
                </a:solidFill>
                <a:uFillTx/>
                <a:latin typeface="Arial"/>
                <a:cs typeface="Arial"/>
              </a:rPr>
              <a:t>جميع</a:t>
            </a:r>
            <a:r>
              <a:rPr b="0" lang="ar-JO" sz="1200" spc="-1" strike="noStrike">
                <a:solidFill>
                  <a:srgbClr val="000000"/>
                </a:solidFill>
                <a:latin typeface="Arial"/>
                <a:cs typeface="Arial"/>
              </a:rPr>
              <a:t>ُ الناس في بلد معيّن قادرون على التمتع </a:t>
            </a:r>
            <a:r>
              <a:rPr b="0" lang="ar-JO" sz="1200" spc="-1" strike="noStrike" u="sng">
                <a:solidFill>
                  <a:srgbClr val="000000"/>
                </a:solidFill>
                <a:uFillTx/>
                <a:latin typeface="Arial"/>
                <a:cs typeface="Arial"/>
              </a:rPr>
              <a:t>بجميع</a:t>
            </a:r>
            <a:r>
              <a:rPr b="0" lang="ar-JO" sz="1200" spc="-1" strike="noStrike">
                <a:solidFill>
                  <a:srgbClr val="000000"/>
                </a:solidFill>
                <a:latin typeface="Arial"/>
                <a:ea typeface="Arial"/>
              </a:rPr>
              <a:t> حقوقهم الإنسانية؟ فعلى سبيل المثال، هل يستطيعُ الرجال والنساء التمتع بحقوقهم الإنسان على قدم المساواة؟ هل يستطيع الأطفال واليافعون والأقليات وغيرهم من الجماعات السكانية التمتع بحقوقهم؟ ونشير بقولنا </a:t>
            </a:r>
            <a:r>
              <a:rPr b="0" lang="ar-JO" sz="1200" spc="-1" strike="noStrike" u="sng">
                <a:solidFill>
                  <a:srgbClr val="000000"/>
                </a:solidFill>
                <a:uFillTx/>
                <a:latin typeface="Arial"/>
                <a:ea typeface="Arial"/>
              </a:rPr>
              <a:t>"جميع</a:t>
            </a:r>
            <a:r>
              <a:rPr b="0" lang="ar-JO" sz="1200" spc="-1" strike="noStrike">
                <a:solidFill>
                  <a:srgbClr val="000000"/>
                </a:solidFill>
                <a:latin typeface="Arial"/>
                <a:ea typeface="Arial"/>
              </a:rPr>
              <a:t> حقوقهم الإنسانية" إلى تلك الحقوق التي تم الاعتراف بها في المعاهدات الدولية لحقوق الإنسان، بما فيها الإعلان العالم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ينما تستحق جميع الكائنات البشرية التمتّع بحقوقها الإنسانية، توجد جماعات من الناس من المحتمل، على الأغلب، أن يتم إغفالها أو تهميشها، وتعتبر حقوقها معرَّضة على الأغلب لخطر الانتهاك أو البقاء من دون إحقاق. ويُطالب النهج القائم على حقوق الإنسان بأن نأخذ هذه النتيجة السلبية الكامنة في الحسبان. وبناء على ذلك، نحتاج إلى ضمان أن يُولي القائمون بالواجبات الاهتمام – ليس فقط بغالبية الناس – بل بأكثر الجماعات السكانية تهميشاً وإقصاءً أيضاً. وبالمثل، يجب على برامج الأمم المتحدة ضمان هذا الوصول الميداني إلى تلك الجماعات وشمولها في الاهتمام. ويعتبر أولئك الذين يعانون من أشكال متعددة من الحرمان، مثل أشد الفقراء فقراً، أو الأقليات الإثنية القروية، من بين الجماعات الأكثر عرضة لخطر البقاء مُغْفَلين مستبعدين من إطار حماية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1160" y="696960"/>
            <a:ext cx="4651200" cy="3487680"/>
          </a:xfrm>
          <a:prstGeom prst="rect">
            <a:avLst/>
          </a:prstGeom>
          <a:ln w="0">
            <a:noFill/>
          </a:ln>
        </p:spPr>
      </p:sp>
      <p:sp>
        <p:nvSpPr>
          <p:cNvPr id="67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عدم القابلية للتجزئة:</a:t>
            </a:r>
            <a:r>
              <a:rPr b="0" lang="ar-JO" sz="1200" spc="-1" strike="noStrike">
                <a:solidFill>
                  <a:srgbClr val="000000"/>
                </a:solidFill>
                <a:latin typeface="Arial"/>
                <a:ea typeface="Arial"/>
              </a:rPr>
              <a:t> إن حقوقَ الإنسان غيرُ قابلة للتجزئة. وسواء أكانت الحقوق ذات طبيعة مدنية أم ثقافية أم اقتصادية أم سياسية أم اجتماعية، فجميعها متأصلة في كرامة كل شخص وملازمة لها. ونتيجة لذلك، تتمتع جميع الحقوق بوضع متساوٍ بوصفها حقوقاً، حيث لا يمكن تصنيفها في مرتبات، أو وضعها في سُلَّم للأولويات/وفق ترتيب هرمي (تراتب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a:t>
            </a:r>
            <a:r>
              <a:rPr b="0" lang="ar-JO" sz="1200" spc="-1" strike="noStrike">
                <a:solidFill>
                  <a:srgbClr val="000000"/>
                </a:solidFill>
                <a:latin typeface="Arial"/>
                <a:ea typeface="Arial"/>
              </a:rPr>
              <a:t> في تطبيقنا لهذا المبدأ، فإن السؤال الذي يطرح نفسه هو: هل تعتبر بعض الحقوق في بلد معين أكثر أهمية من غيرها إلى الحد الذي يُلحق الضرر بالتمتع ببعض الحقوق الإنسانية؟ فعلى سبيل المثال، هل يتم احترام وحماية الحقوق المدنية والسياسية بشكل متساوٍ، وهل يتم احترام وحماية الحقوق الاقتصادية والاجتماعية والثقافية بشكل متساو أيضاً؟ هل تعطى الحقوق الأخرى للمعاهدات – مثل الحقوق في المساواة بمقتضى اتفاقية القضاء على جميع أشكال التمييز ضد المرأة واتفاقية القضاء على التمييز العنصري – الأولوية نفسها التي تُعطى للحقوق التي يضمنها العهد الدولي للحقوق المدنية السياسية والعهد الدولي للحقوق الاقتصادية والاجتماعية والثقا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ترابطية والتشابكية: </a:t>
            </a:r>
            <a:r>
              <a:rPr b="0" lang="ar-JO" sz="1200" spc="-1" strike="noStrike">
                <a:solidFill>
                  <a:srgbClr val="000000"/>
                </a:solidFill>
                <a:latin typeface="Arial"/>
                <a:cs typeface="Arial"/>
              </a:rPr>
              <a:t>يعتمد إحقاق حق واحد في أغلب الأحيان على إحقاق الحقوق الأخرى، سواء أكان ذلك الاعتماد اعتماداً كلياً أم جزئياً. فعلى سبيل المثال، قد يعتمد إحقاق الحق في الحصول على الرعاية الصحية، في ظل ظروف معينة، على إحقاق الحق في التعليم، والحق في الحصول على المعلومات، والحق في الغذاء، والحق في المشاركة، وغيرها من الحقوق.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a:t>
            </a:r>
            <a:r>
              <a:rPr b="0" lang="ar-JO" sz="1200" spc="-1" strike="noStrike">
                <a:solidFill>
                  <a:srgbClr val="000000"/>
                </a:solidFill>
                <a:latin typeface="Arial"/>
                <a:ea typeface="Arial"/>
              </a:rPr>
              <a:t> لا يتم التصدي لقضايا التنمية بمعزل عن بعضها بعضاً، بل يتم عن طريق إدراك ترابطية حقوق الإنسان، حيث يُصبح تحليلُ أي وضع والاستجابة الاستراتيجية له أكثر كليةً وشمول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51200" cy="3487680"/>
          </a:xfrm>
          <a:prstGeom prst="rect">
            <a:avLst/>
          </a:prstGeom>
          <a:ln w="0">
            <a:noFill/>
          </a:ln>
        </p:spPr>
      </p:sp>
      <p:sp>
        <p:nvSpPr>
          <p:cNvPr id="67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ساواة ومبدأ عدم التمييز: </a:t>
            </a:r>
            <a:r>
              <a:rPr b="0" lang="ar-JO" sz="1200" spc="-1" strike="noStrike">
                <a:solidFill>
                  <a:srgbClr val="000000"/>
                </a:solidFill>
                <a:latin typeface="Arial"/>
                <a:cs typeface="Arial"/>
              </a:rPr>
              <a:t>جميع الأفراد متساوون بوصفهم كائنات بشرية واستناداً إلى الكرامة المتأصلة في كل كائن بشري والملازمة له. وجميع الكائنات البشرية تستحق (تستأهل) التمتع بحقوقها الإنسانية من دون أي نوع من التمييز، مثل التمييز القائم على العرق أو اللون أو الجنس أو العمر أو اللغة أو الدين أو الرأي السياسي أو غيره من الآراء، أو الأصل الوطني أو الاجتماعي، أو الإعاقة أو الملكية أو الميلاد أو أي وضع كما أقرَّته معاهدات حقوق الإنسان، وفسّرته أيضاً هيئات المعاهدة التابعة لحقوق الإنسان. ولهذا السبب، يُعَدُّ التقدم بحقوق الإنسان لكل من المرأة والرجل على أساس المساواة، متطلباً مطلقاً للقانون الدولي ل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a:t>
            </a:r>
            <a:r>
              <a:rPr b="0" lang="ar-JO" sz="1200" spc="-1" strike="noStrike">
                <a:solidFill>
                  <a:srgbClr val="000000"/>
                </a:solidFill>
                <a:latin typeface="Arial"/>
                <a:ea typeface="Arial"/>
              </a:rPr>
              <a:t> السؤال المطلوب طرحه هو: ما هي قطاعات المجتمع المُقصاة أو التي لا تتمتع بوضع متساوٍ، وبالتالي تكون محرومة من ممارسة حقوقها الإنسانية؟ هل توجد قوانين تمييزية في الدولة؟ هل توجد ممارسات مؤسسية وإدارية وتنظيمية تمييزية بحق مجموعة معيَّنة من السكان؟ هل توجد ثقافة منتشرة من التمييز في المجتمع </a:t>
            </a:r>
            <a:r>
              <a:rPr b="0" i="1" lang="ar-JO" sz="1200" spc="-1" strike="noStrike">
                <a:solidFill>
                  <a:srgbClr val="000000"/>
                </a:solidFill>
                <a:latin typeface="Arial"/>
                <a:ea typeface="Arial"/>
              </a:rPr>
              <a:t>"بحكم الأمر الواقع"</a:t>
            </a:r>
            <a:r>
              <a:rPr b="0" lang="ar-JO" sz="1200" spc="-1" strike="noStrike">
                <a:solidFill>
                  <a:srgbClr val="000000"/>
                </a:solidFill>
                <a:latin typeface="Arial"/>
                <a:cs typeface="Arial"/>
              </a:rPr>
              <a:t>؟ هل توجد معايير وطنية للتمييز الإيجابي أو العمل التأكيدي معترف بها ومطبقة؟ من المهم الأخذ في الحسبان أنّ معاهدات حقوق الإنسان قد حدَّدت جماعات معيّنة تتعرَّض للتمييز والحرمان لكي تُوليها اهتماماً مركزاً وهي: المرأة وتتناول شؤونها (اتفاقية القضاء على جميع أشكال التمييز ضد المرأة)، والأطفال وتتناول شؤونهم (اتفاقية حقوق الطفل)، والأقليات العرقية والإثنية وتتناول شؤونها (اتفاقية القضاء على جميع أشكال التمييز العنصري) والعمال المهاجرون وتتناول شؤونهم (الاتفاقية الدولية لحماية حقوق جميع العمال وأفراد أسر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مييز الهيكلي:</a:t>
            </a:r>
            <a:r>
              <a:rPr b="0" lang="ar-JO" sz="1200" spc="-1" strike="noStrike">
                <a:solidFill>
                  <a:srgbClr val="000000"/>
                </a:solidFill>
                <a:latin typeface="Arial"/>
                <a:ea typeface="Arial"/>
              </a:rPr>
              <a:t> وهو مستمدٌّ من عمليات الإقصاء التاريخية، من الوصول إلى الموارد الاقتصادية والسياسية والمؤسسية التي تدعو الحاجة إليها، لكي تعيش تلك الجماعات على قدم المساواة مع باقي السك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1160" y="696960"/>
            <a:ext cx="4648320" cy="3486240"/>
          </a:xfrm>
          <a:prstGeom prst="rect">
            <a:avLst/>
          </a:prstGeom>
          <a:ln w="0">
            <a:noFill/>
          </a:ln>
        </p:spPr>
      </p:sp>
      <p:sp>
        <p:nvSpPr>
          <p:cNvPr id="58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قِدَ </a:t>
            </a:r>
            <a:r>
              <a:rPr b="1" lang="ar-JO" sz="1200" spc="-1" strike="noStrike">
                <a:solidFill>
                  <a:srgbClr val="000000"/>
                </a:solidFill>
                <a:latin typeface="Arial"/>
                <a:cs typeface="Arial"/>
              </a:rPr>
              <a:t>المؤتمر الدولي لحقوق الإنسان</a:t>
            </a:r>
            <a:r>
              <a:rPr b="0" lang="ar-JO" sz="1200" spc="-1" strike="noStrike">
                <a:solidFill>
                  <a:srgbClr val="000000"/>
                </a:solidFill>
                <a:latin typeface="Arial"/>
                <a:ea typeface="Arial"/>
              </a:rPr>
              <a:t> خلال الفترة </a:t>
            </a:r>
            <a:r>
              <a:rPr b="0" lang="ar-JO" sz="1200" spc="-1" strike="noStrike">
                <a:solidFill>
                  <a:srgbClr val="000000"/>
                </a:solidFill>
                <a:latin typeface="Arial"/>
                <a:ea typeface="Arial"/>
              </a:rPr>
              <a:t>14</a:t>
            </a:r>
            <a:r>
              <a:rPr b="0" lang="ar-JO" sz="1200" spc="-1" strike="noStrike">
                <a:solidFill>
                  <a:srgbClr val="000000"/>
                </a:solidFill>
                <a:latin typeface="Arial"/>
                <a:ea typeface="Arial"/>
              </a:rPr>
              <a:t>-</a:t>
            </a:r>
            <a:r>
              <a:rPr b="0" lang="ar-JO" sz="1200" spc="-1" strike="noStrike">
                <a:solidFill>
                  <a:srgbClr val="000000"/>
                </a:solidFill>
                <a:latin typeface="Arial"/>
                <a:ea typeface="Arial"/>
              </a:rPr>
              <a:t>25</a:t>
            </a:r>
            <a:r>
              <a:rPr b="0" lang="ar-JO" sz="1200" spc="-1" strike="noStrike">
                <a:solidFill>
                  <a:srgbClr val="000000"/>
                </a:solidFill>
                <a:latin typeface="Arial"/>
                <a:ea typeface="Arial"/>
              </a:rPr>
              <a:t> يونيو/حزيران </a:t>
            </a:r>
            <a:r>
              <a:rPr b="0" lang="ar-JO" sz="1200" spc="-1" strike="noStrike">
                <a:solidFill>
                  <a:srgbClr val="000000"/>
                </a:solidFill>
                <a:latin typeface="Arial"/>
                <a:ea typeface="Arial"/>
              </a:rPr>
              <a:t>1993</a:t>
            </a:r>
            <a:r>
              <a:rPr b="0" lang="ar-JO" sz="1200" spc="-1" strike="noStrike">
                <a:solidFill>
                  <a:srgbClr val="000000"/>
                </a:solidFill>
                <a:latin typeface="Arial"/>
                <a:cs typeface="Arial"/>
              </a:rPr>
              <a:t>، في ڤينّا – النمسا. وتم فيه تقديم العديد من الرسائل المهمة، ومن بينها: إعادة التأكيد بأن حقوقَ الإنسان هدفٌ يحظى بالأولوية لدى الأمم المتحدة، والاهتمام بحقوق الإنسان كأحد بواعث القلق المشروعة لدى المجتمع الدولي، والإقرار بعالمية جميع حقوق الإنسان وعدم قابليتها للتجزئة وبترابطها وتشابكها. ومن هذه الرسائل أيضاً: "مع أن التنمية تُيسِّر التمتُّع بجميع حقوق الإنسان، إلا أن الافتقار إلى التنمية لا يمكن أن يُستشهدَ به لتبرير اختزال حقوق الإنسان المُعترف بها دولياً". ومن النتائج البالغة الأهمية لإعلان ڤينّا، بطبيعة الحال، قرار مناشدة الجمعية العامة النظر في إنشاء منصب "مفوَّض لحقوق الإنسان". وقد قرَّرت الجمعية العامة في جلستها التالية القيام بذلك، فعيَّنت السيد "خوسيه أيالا لاسو" من الإكوادور، كأول مفوِّض سامٍ لحقوق الإنسان، ثم تلاه في هذا المنصب كل من "ماري روبنسن"، و "سيرجيو فييرا دي ميلّو"، والمفوّض السامي الحالي "لويس آربُر".</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عام </a:t>
            </a:r>
            <a:r>
              <a:rPr b="1" lang="ar-JO" sz="1200" spc="-1" strike="noStrike">
                <a:solidFill>
                  <a:srgbClr val="000000"/>
                </a:solidFill>
                <a:latin typeface="Arial"/>
                <a:ea typeface="Arial"/>
              </a:rPr>
              <a:t>1997</a:t>
            </a:r>
            <a:r>
              <a:rPr b="1" lang="ar-JO" sz="1200" spc="-1" strike="noStrike">
                <a:solidFill>
                  <a:srgbClr val="000000"/>
                </a:solidFill>
                <a:latin typeface="Arial"/>
                <a:cs typeface="Arial"/>
              </a:rPr>
              <a:t>، قدّم الأمين العام خططه لإصلاح الأمم المتحدة في تقريره إلى الجمعية العامة بعنوان: "تجديد الأمم المتحدة: برنامج للإصلاح". </a:t>
            </a:r>
            <a:r>
              <a:rPr b="0" lang="ar-JO" sz="1200" spc="-1" strike="noStrike">
                <a:solidFill>
                  <a:srgbClr val="000000"/>
                </a:solidFill>
                <a:latin typeface="Arial"/>
                <a:cs typeface="Arial"/>
              </a:rPr>
              <a:t>وقد أكد التقرير من جديد أنَّ حقوق الإنسان مهمة لجميع الأهداف المحددة، في ميثاق الأمم المتحدة وهي تقع في صلب عملية إصلاح الأمم المتحدة. ودعا التقرير إلى إدماج حقوق الإنسان في كل نشاطات الأمم المتحد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0</a:t>
            </a:r>
            <a:r>
              <a:rPr b="0" lang="ar-JO" sz="1200" spc="-1" strike="noStrike">
                <a:solidFill>
                  <a:srgbClr val="000000"/>
                </a:solidFill>
                <a:latin typeface="Arial"/>
                <a:ea typeface="Arial"/>
              </a:rPr>
              <a:t> : عَقد </a:t>
            </a:r>
            <a:r>
              <a:rPr b="1" lang="ar-JO" sz="1200" spc="-1" strike="noStrike">
                <a:solidFill>
                  <a:srgbClr val="000000"/>
                </a:solidFill>
                <a:latin typeface="Arial"/>
                <a:cs typeface="Arial"/>
              </a:rPr>
              <a:t>قمة الألفية وصدور إعلان الألفي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2</a:t>
            </a:r>
            <a:r>
              <a:rPr b="0" lang="ar-JO" sz="1200" spc="-1" strike="noStrike">
                <a:solidFill>
                  <a:srgbClr val="000000"/>
                </a:solidFill>
                <a:latin typeface="Arial"/>
                <a:ea typeface="Arial"/>
              </a:rPr>
              <a:t>: الأمين العام: حقوق الإنسان هي المتطلب الأساسي الوطيد لتحقيق التنمية، وهدف رئيس للمنظمة. ويجب أن تُكافح الأمم المتحدة من أجل تقوية الأنظمة الوطنية لحماية وتعزيز حقوق الإنسان ووضعها موضع التنفيذ.</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 : </a:t>
            </a:r>
            <a:r>
              <a:rPr b="1" lang="ar-JO" sz="1200" spc="-1" strike="noStrike">
                <a:solidFill>
                  <a:srgbClr val="000000"/>
                </a:solidFill>
                <a:latin typeface="Arial"/>
                <a:cs typeface="Arial"/>
              </a:rPr>
              <a:t>أكد الأمين العام أن التنمية والسلام والأمن وحقوق الإنسان مرتبطة ومتضافرة معاً، وحاجج بوجوب إدماج حقوق الإنسان في عملية صنع القرار وفي النقاشات طوال عمل المنظمة. </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في وثيقة نتائج القمة العالمية لعام </a:t>
            </a:r>
            <a:r>
              <a:rPr b="0" lang="ar-JO" sz="1200" spc="-1" strike="noStrike">
                <a:solidFill>
                  <a:srgbClr val="000000"/>
                </a:solidFill>
                <a:latin typeface="Arial"/>
                <a:ea typeface="Arial"/>
              </a:rPr>
              <a:t>2005</a:t>
            </a:r>
            <a:r>
              <a:rPr b="0" lang="ar-JO" sz="1200" spc="-1" strike="noStrike">
                <a:solidFill>
                  <a:srgbClr val="000000"/>
                </a:solidFill>
                <a:latin typeface="Arial"/>
                <a:ea typeface="Arial"/>
              </a:rPr>
              <a:t>:</a:t>
            </a:r>
            <a:r>
              <a:rPr b="1" lang="ar-JO" sz="1200" spc="-1" strike="noStrike">
                <a:solidFill>
                  <a:srgbClr val="000000"/>
                </a:solidFill>
                <a:latin typeface="Arial"/>
                <a:ea typeface="Arial"/>
              </a:rPr>
              <a:t> تمّ دعم إدماج حقوق الإنسان بدرجة أكبر في كل مكوِّنات منظومة الأمم المتحدة.</a:t>
            </a:r>
            <a:endParaRPr b="0" lang="en-US" sz="1200" spc="-1" strike="noStrike">
              <a:solidFill>
                <a:srgbClr val="000000"/>
              </a:solidFill>
              <a:latin typeface="Arial"/>
            </a:endParaRPr>
          </a:p>
          <a:p>
            <a:pPr marL="2286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2006</a:t>
            </a:r>
            <a:r>
              <a:rPr b="0" lang="ar-JO" sz="1200" spc="-1" strike="noStrike">
                <a:solidFill>
                  <a:srgbClr val="000000"/>
                </a:solidFill>
                <a:latin typeface="Arial"/>
                <a:ea typeface="Arial"/>
              </a:rPr>
              <a:t>: حقوق ملكية المساكن والأراضي المعنية بالتماسك على نطاق الأمم المتحدة:</a:t>
            </a:r>
            <a:r>
              <a:rPr b="1" lang="ar-JO" sz="1200" spc="-1" strike="noStrike">
                <a:solidFill>
                  <a:srgbClr val="000000"/>
                </a:solidFill>
                <a:latin typeface="Arial"/>
                <a:ea typeface="Arial"/>
              </a:rPr>
              <a:t> "يجب على جميع الوكالات التابعة للأمم المتحدة وبرامجها توفير دعم أكبر لإعداد السياسات والإرشادات والمبادئ التوجيهية، وذلك لإدماج حقوق الإنسان في جميع جوانب عمل الأمم المتحد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على المنَسِّقين المقيمين ومكاتب الأمم المتحدة القطرية أن يخضعوا للمساءلة، وأن يُجهَّزوا بشكل أفضل لدعم الدول في جهودها الهادفة إلى حماية حقوق الإنسان وتعزيز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علان برنامج عمل ڤينّا:</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4</a:t>
            </a:r>
            <a:r>
              <a:rPr b="0" lang="ar-JO" sz="1200" spc="-1" strike="noStrike">
                <a:solidFill>
                  <a:srgbClr val="000000"/>
                </a:solidFill>
                <a:latin typeface="Arial"/>
                <a:ea typeface="Arial"/>
              </a:rPr>
              <a:t>: يجب اعتبار تعزيزُ وحماية جميع حقوق الإنسان والحريات الأساسية هدفاً ذا أولوية للأمم المتحدة وفقاً لمقاصدها ومبادئها، ولا سيما مقصد التعاون الدولي. وفي إطار هذه المقاصد والمبادئ، يعتبر تعزيزُ وحماية جميع حقوق الإنسان باعثَ قلقٍ مشروعاً للمجتمع الدولي. ولذلك ينبغي للأجهزة والوكالات المتخصصة المعنية بحقوق الإنسان أن تعزز تنسيق أنشطتها استناداً إلى التطبيق المتسق والموضوعي للأدوات/للصكوك الدولية لحقوق الإنسان.</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5</a:t>
            </a:r>
            <a:r>
              <a:rPr b="0" lang="ar-JO" sz="1200" spc="-1" strike="noStrike">
                <a:solidFill>
                  <a:srgbClr val="000000"/>
                </a:solidFill>
                <a:latin typeface="Arial"/>
                <a:ea typeface="Arial"/>
              </a:rPr>
              <a:t>: جميع حقوق الإنسان عالمية وغير قابلة للتجزئة ومترابطة ومتشابكة، ويجب على المجتمع الدولي أن يعامل حقوق الإنسان على نحو شامل بطريقة منصفة ومتكافئة، وعلى قدم المساواة، وبالقدر نفسه من التركيز. وفي حين أنه يجب أن توضع في الاعتبار أهمية الخصوصيات الوطنية والإقليمية ومختلف الخلفيات التاريخية والثقافية والدينية، فإن من واجب الدول، بصرف النظر عن نظمها السياسية والاقتصادية والثقافية، تعزيز وحماية جميع حقوق الإنسان والحريات الأساسية .</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10</a:t>
            </a:r>
            <a:r>
              <a:rPr b="0" lang="ar-JO" sz="1200" spc="-1" strike="noStrike">
                <a:solidFill>
                  <a:srgbClr val="000000"/>
                </a:solidFill>
                <a:latin typeface="Arial"/>
                <a:ea typeface="Arial"/>
              </a:rPr>
              <a:t>: ... مع أن التنمية تيسِّر التمتّع بجميع حقوق الإنسان، إلا أن الافتقار إلى التنمية لا يمكن أن يُستشهد به لتبرير اختزال حقوق الإنسان المعترف بها دولياً.</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مادة </a:t>
            </a:r>
            <a:r>
              <a:rPr b="0" lang="ar-JO" sz="1200" spc="-1" strike="noStrike">
                <a:solidFill>
                  <a:srgbClr val="000000"/>
                </a:solidFill>
                <a:latin typeface="Arial"/>
                <a:ea typeface="Arial"/>
              </a:rPr>
              <a:t>8</a:t>
            </a:r>
            <a:r>
              <a:rPr b="0" lang="ar-JO" sz="1200" spc="-1" strike="noStrike">
                <a:solidFill>
                  <a:srgbClr val="000000"/>
                </a:solidFill>
                <a:latin typeface="Arial"/>
                <a:ea typeface="Arial"/>
              </a:rPr>
              <a:t>: إن حقوق الإنسان للمرأة وللطفلة هي جزء غير قابل للتصرف من حقوق الإنسان العالمية وجزء لا يتجزأ من هذه الحقوق ولا ينفصل عنها. وإن مشاركة المرأة مشاركة كاملة، على قدم المساواة، في الحياة السياسية والمدنية والاقتصادية والاجتماعية والثقافية على الصُعِد الوطنية والإقليمية والدولية، واستئصال جميع أشكال التمييز على أساس الجنس، من أهداف المجتمع الدولي ذات الأولوية. </a:t>
            </a:r>
            <a:endParaRPr b="0" lang="en-US" sz="1200" spc="-1" strike="noStrike">
              <a:solidFill>
                <a:srgbClr val="000000"/>
              </a:solidFill>
              <a:latin typeface="Arial"/>
            </a:endParaRPr>
          </a:p>
          <a:p>
            <a:pPr lvl="2" marL="114300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جزء الثاني من إعلان برنامج عمل ڤينّ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يوصي المؤتمرُ العالمي لحقوق الإنسان الجمعيةَ العامةَ، أثناء دراستها لتقرير المؤتمر في جلستها الثامنة والأربعين، بأن تبدأ بدراسة مسألة إنشاء منصب مفوض الأمم المتحدة لحقوق الإنسان، لتعزيز جميع حقوق الإنسان وحمايتها، باعتبارها مسألة تحتل أولوية كبرى".</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1160" y="696960"/>
            <a:ext cx="4651200" cy="3487680"/>
          </a:xfrm>
          <a:prstGeom prst="rect">
            <a:avLst/>
          </a:prstGeom>
          <a:ln w="0">
            <a:noFill/>
          </a:ln>
        </p:spPr>
      </p:sp>
      <p:sp>
        <p:nvSpPr>
          <p:cNvPr id="67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شاركة والشمول: </a:t>
            </a:r>
            <a:r>
              <a:rPr b="0" lang="ar-JO" sz="1200" spc="-1" strike="noStrike">
                <a:solidFill>
                  <a:srgbClr val="000000"/>
                </a:solidFill>
                <a:latin typeface="Arial"/>
                <a:cs typeface="Arial"/>
              </a:rPr>
              <a:t>جميع الأشخاص والشعوب مؤهلون ويستحقون المشاركة الفعالة والحرة وذات المعنى، والإسهام والتمتع في عملية التنمية المدنية والاقتصادية والاجتماعية والثقافية والسياسية، التي يمكن فيها إحقاق حقوق الإنسان والحريات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ا المبدأ: </a:t>
            </a:r>
            <a:r>
              <a:rPr b="0" lang="ar-JO" sz="1200" spc="-1" strike="noStrike">
                <a:solidFill>
                  <a:srgbClr val="000000"/>
                </a:solidFill>
                <a:latin typeface="Arial"/>
                <a:cs typeface="Arial"/>
              </a:rPr>
              <a:t>السؤال المطلوب طرحه هو: هل يستطيع الأشخاص المقصون والمهمشون المشاركة بحرية في عملية التنمية الخاصة بهم؟ وهل تُوجد فرص للمشاركة؟ هل تملك الجماعات المهمشة فرصة الوصول إلى المعلومات والقدرات على المشاركة بطريقة ذات معنىً، وعلى تقديم مقترحات محددة؟ وهل هناك متّسعٌ لمشاركة عامة الناس في عملية صنع القرار؟ هل توجد آليات عمل موازية تعطّل المشاركة؟ هل يوجد مجتمع مدني فعّال ومستقل في الدولة يملك القدرة على المشاركة في عمليات كهذه؟ هل تمثِّل منظمات المجتمع المدني صوت الجماعات السكانية الأكثر تهميشاً وإقصاء؟ وفي سياق التعاون الإنمائي أو التنموي، من الضروري السؤال عما إذا كانت الجماعة المستهدفة المستفيدة مشاركة في عملية إعداد برامج التنمية وتنفيذها ومتابعتها وتقييم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نى المشاركة هو التمكي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ستلزم النهجُ القائم على حقوق الإنسان المشاركةَ والانخراط الحر والفعال والمفيد للأفراد والجماعات الاجتماعية في عملية التنمية. ومعنى المشاركة هنا يندرج ضمن مفهوم "تمكين" الأفراد والجماعات، الذي يتضمن تحكماً مهماً في عمليات صنع القرار، بدلاً عن مجرد التشاور والمشاركة في المعلومات. ووفقاً لذلك، وفي سياق وضع البرامج الإنمائية، قد تؤدي المشاركة الواسعة، التي ينخرط فيها الأطفال والنساء والأقليات والمجتمعات القروية ومنظمات المجتمع المدني مثلاً خلال عملية التقييم وعملية جمع المعلومات، ليس فقط إلى استنتاجات قيِّمة بل إلى الفهم المتزايد، من قبل جميع أعضاء المجتمع، لأدوارهم في المطالبة بحقوقهم الإنسانية وإحقاقها. وعلاوة على ذلك، عندما تُفسَحُ المجالات للناس لتدارس المشكلات معاً والاتفاق على أسبابها، يُصبح من المحتمل بدرجة أكبر أن يدعموا تنفيذ الأعمال الهادفة إلى حل تلك المشكل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ور إدارة المشاركة الفعا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تغرق عملية إدارة المشاركة الفعالة وقتاً وصبراً. وسواء أكانت المشاركة على مستوى المشروع المحلي أم على مستوى السياسة الوطنية، فمن المهم تأكيد ضرورة أن تكون آلية العمل الرئيسة للمشاركة، بالقدر الممكن، قائمة وموجودة كبنىً ديمقراطية. وفي بعض الظروف، قد يعمل إنشاء إطار عمل بديل للمشاركة على تقويض البنى الديمقراطية الآخذة في النمو، وخلق أنظمة موازية غير مرحّب بها، فضلاً عن أنَّ إنشاء ذلك الإطار يثبت، على المدى البعيد، أنه غير قابل للاستدامة. وبالرغم من ذلك، قد تدعو الحاجة الشديدة، في كثير من الحالات، إلى وضع ترتيبات مبتكرة لتسهيل مشاركة الجماعات المُهمَّشة. [</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a:t>
            </a:r>
            <a:r>
              <a:rPr b="0" lang="ar-JO" sz="1200" spc="-1" strike="noStrike">
                <a:solidFill>
                  <a:srgbClr val="000000"/>
                </a:solidFill>
                <a:latin typeface="Arial"/>
                <a:ea typeface="Arial"/>
              </a:rPr>
              <a:t>1</a:t>
            </a:r>
            <a:r>
              <a:rPr b="0" lang="ar-JO" sz="1200" spc="-1" strike="noStrike">
                <a:solidFill>
                  <a:srgbClr val="000000"/>
                </a:solidFill>
                <a:latin typeface="Arial"/>
                <a:ea typeface="Arial"/>
              </a:rPr>
              <a:t>] استراتيجيات حقوق الإنسان، والصحة والحد من الفقر، مطبوعة صادرة عن منظمة الصحة العالمية، </a:t>
            </a:r>
            <a:r>
              <a:rPr b="0" lang="ar-JO" sz="1200" spc="-1" strike="noStrike">
                <a:solidFill>
                  <a:srgbClr val="000000"/>
                </a:solidFill>
                <a:latin typeface="Arial"/>
                <a:ea typeface="Arial"/>
              </a:rPr>
              <a:t>2005</a:t>
            </a:r>
            <a:r>
              <a:rPr b="0" lang="ar-JO" sz="1200" spc="-1" strike="noStrike">
                <a:solidFill>
                  <a:srgbClr val="000000"/>
                </a:solidFill>
                <a:latin typeface="Arial"/>
                <a:cs typeface="Arial"/>
              </a:rPr>
              <a:t>، الصفحة رقم </a:t>
            </a:r>
            <a:r>
              <a:rPr b="0" lang="ar-JO" sz="1200" spc="-1" strike="noStrike">
                <a:solidFill>
                  <a:srgbClr val="000000"/>
                </a:solidFill>
                <a:latin typeface="Arial"/>
                <a:ea typeface="Arial"/>
              </a:rPr>
              <a:t>29</a:t>
            </a:r>
            <a:r>
              <a:rPr b="0"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1160" y="696960"/>
            <a:ext cx="4651200" cy="3487680"/>
          </a:xfrm>
          <a:prstGeom prst="rect">
            <a:avLst/>
          </a:prstGeom>
          <a:ln w="0">
            <a:noFill/>
          </a:ln>
        </p:spPr>
      </p:sp>
      <p:sp>
        <p:nvSpPr>
          <p:cNvPr id="67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بدأ المساءلة ومبدأ حكم القانون:</a:t>
            </a:r>
            <a:r>
              <a:rPr b="0" lang="ar-JO" sz="1200" spc="-1" strike="noStrike">
                <a:solidFill>
                  <a:srgbClr val="000000"/>
                </a:solidFill>
                <a:latin typeface="Arial"/>
                <a:ea typeface="Arial"/>
              </a:rPr>
              <a:t> إن الدول وغيرها من القائمين بالواجبات مسؤولون عن مراعاة حقوق الإنسان. وفي هذا الشأن، يجب عليهم الالتزام بالمعايير والأعراف القانونية التي تكرّسها أدوات حقوق الإنسان. وحيثما تفشل الدول والقائمون بالواجبات في القيام بذلك، يصبح أصحاب الحقوق المتضررون مؤهلين لإقامة دعاوى لتصويب الأوضاع والإنصاف الملائم أمام محكمة مختصة، أو أمام غيرها من الجهات القضائية التي تحكم بين الناس، بما ينسجم مع القواعد والإجراءات التي ينصّ عليها القانو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هذه المبادئ: </a:t>
            </a:r>
            <a:r>
              <a:rPr b="0" lang="ar-JO" sz="1200" spc="-1" strike="noStrike">
                <a:solidFill>
                  <a:srgbClr val="000000"/>
                </a:solidFill>
                <a:latin typeface="Arial"/>
                <a:cs typeface="Arial"/>
              </a:rPr>
              <a:t>بالقبول الطوعي للالتزامات الواردة في المعاهدات الدولية لحقوق الإنسان، وفي القوانين المحلية المناظرة لها، تنهض الدولة وجميع الجهات الفاعلة لديها بواجب </a:t>
            </a:r>
            <a:r>
              <a:rPr b="0" i="1" lang="ar-JO" sz="1200" spc="-1" strike="noStrike">
                <a:solidFill>
                  <a:srgbClr val="000000"/>
                </a:solidFill>
                <a:latin typeface="Arial"/>
                <a:cs typeface="Arial"/>
              </a:rPr>
              <a:t>احترام وحماية وإحقاق </a:t>
            </a:r>
            <a:r>
              <a:rPr b="0" lang="ar-JO" sz="1200" spc="-1" strike="noStrike">
                <a:solidFill>
                  <a:srgbClr val="000000"/>
                </a:solidFill>
                <a:latin typeface="Arial"/>
                <a:cs typeface="Arial"/>
              </a:rPr>
              <a:t>حقوق الإنسان. وبناء عليه، فإن السؤال المطلوب طرحه هو: هل تلتزم السلطات ذات الصلة على مستوى الدولة والمستوى المحلي والمجتمعي بواجباتها؟ وإذا كانت الإجابة بالنفي، فما هي العقبات الرئيسة التي تواجهها في ذلك؟ هل توجد آليات عمل موضوعة موضع التنفيذ لأولئك المحرومين من حقوقهم واستحقاقاتهم للسعي إلى تصويب الأوضاع والإنصاف بطريقة ملائمة؟ هل يتم احترام حكم القانون وإنفاذه في الدولة؟ هل تملك منظمات المجتمع المدني القدرة على حشد المجتمع لمتابعة أداء المؤسسات والسياسات العامة وتقييم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51200" cy="3487680"/>
          </a:xfrm>
          <a:prstGeom prst="rect">
            <a:avLst/>
          </a:prstGeom>
          <a:ln w="0">
            <a:noFill/>
          </a:ln>
        </p:spPr>
      </p:sp>
      <p:sp>
        <p:nvSpPr>
          <p:cNvPr id="68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دور المحكمة الدستورية أو المؤسسة المماثلة لها:</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وجود أو تأسيس مؤسسة مستقلة تُناط بها مهمة مراقبة القوانين التي يقرها البرلمان، والحكمُ استناداً إلى دستوريتها و / أو توافقها مع المعايير والأعراف الدولية لحقوق الإنسان، أمرٌ مهم في سياق الأنظمة الوطنية لحماية حقوق الإنسان. ومن الناحية المثالية، تقوم هذه المحاكم أو المؤسسات، بصورة تلقائية، بمراجعة جميع التشريعات التي يتم إقرارها. بَيدَ أن تلك المحاكم أو المؤسسات تراجع، في العديد من الحالات، القوانين التي يتم الاعتراض عليها – سواء من قبل الحكومة، أو البرلمان، أم من قبل القاضي أو أعضاء المجتمع المحلي في بعض الحالات. ويمكن تفويض الامتيازات التي تتمتع بها المحكمة الدستورية إلى المحكمة العلي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جب على أطر العمل الدستورية والقانونية أن: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توافق مع مبادئ ومعايير وأعراف حقوق الإنسان الدولي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نشئ أطر عمل للسياسات من أجل حماية حقوق الإنسان.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سمح باستخدام علاجات / حلول فعّالة للانتهاكات والإساءات.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زز المشاركة وعمليات صنع القرار والتعاون مع الأنظمة الدولية والإقليمية للحماية.</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1160" y="696960"/>
            <a:ext cx="4651200" cy="3487680"/>
          </a:xfrm>
          <a:prstGeom prst="rect">
            <a:avLst/>
          </a:prstGeom>
          <a:ln w="0">
            <a:noFill/>
          </a:ln>
        </p:spPr>
      </p:sp>
      <p:sp>
        <p:nvSpPr>
          <p:cNvPr id="68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طبق المحاكم في مجموعة كبيرة من الدول والأنظمة القانونية معايير ومبادئ حقوق الإنسان الدولية. فعلى سبيل المثال، أعلنت المحكمة الدستورية لجنوب إفريقيا عام </a:t>
            </a:r>
            <a:r>
              <a:rPr b="0" lang="ar-JO" sz="1200" spc="-1" strike="noStrike">
                <a:solidFill>
                  <a:srgbClr val="000000"/>
                </a:solidFill>
                <a:latin typeface="Arial"/>
                <a:ea typeface="Arial"/>
              </a:rPr>
              <a:t>2002</a:t>
            </a:r>
            <a:r>
              <a:rPr b="0" lang="ar-JO" sz="1200" spc="-1" strike="noStrike">
                <a:solidFill>
                  <a:srgbClr val="000000"/>
                </a:solidFill>
                <a:latin typeface="Arial"/>
                <a:ea typeface="Arial"/>
              </a:rPr>
              <a:t> أن الحكومة قد أخلَّت بالتزاماتها تجاه إحقاق حقوق الإنسان، حيث فشلت في اتخاذ التدابير المعقولة (بكلفة يُمكن تحمّلها) لتوفير قدر أكبر من العلاجات المضادة للڤيروس القهقري بهدف منع انتقال ڤيروس نقص المناعة البشري من الأم المصابة إلى طفلها. وقد ساعد هذا القرار والحملة الجماهيرية التي أحاطت به على إنقاذ حياة العديد من الناس. إن النتائج الناجحة في هذه الحالات تُعزى، إلى حد كبير، إلى حقيقة مفادها أن استراتيجيات التقاضي قد تم إدماجها ضمن عمليات أوسع للحشد الاجتماعي.</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1160" y="696960"/>
            <a:ext cx="4651200" cy="3487680"/>
          </a:xfrm>
          <a:prstGeom prst="rect">
            <a:avLst/>
          </a:prstGeom>
          <a:ln w="0">
            <a:noFill/>
          </a:ln>
        </p:spPr>
      </p:sp>
      <p:sp>
        <p:nvSpPr>
          <p:cNvPr id="68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رسالة 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ث حالات الطوارئ والأزمات آثاراً مختلفة جداً في الرجال والنساء والأطفال. ومن المهم أن نأخذ في الحسبان بُعْدَ العمر والنوع الاجتماعي من أجل الاستعداد والاستجابة/الر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ى الأساسي لقضية بُعْدِ العمر والنوع الاجتماعي:</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إن تعطل عملية تزويد الإمدادات الغذائية، وتدمير المحاصيل والبنى التحتية الزراعية، وانفصال الأسر والمجتمعات عن بعضها بعضاً، ونزوح الجماعات السكانية وتدمير الخدمات التعليمية والصحية، وشبكات المياه والصرف الصحي، جميعها تُلحق الخسائر في أرواح الأطفال [والنساء]. </a:t>
            </a:r>
            <a:r>
              <a:rPr b="1" i="1" lang="ar-JO" sz="1200" spc="-1" strike="noStrike">
                <a:solidFill>
                  <a:srgbClr val="000000"/>
                </a:solidFill>
                <a:latin typeface="Arial"/>
                <a:cs typeface="Arial"/>
              </a:rPr>
              <a:t>تقرير "جراسا ماشيل".</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مكن لحالات الطوارئ والأزمات أن تُحدث آثاراً مختلفة جداً في الرجال والنساء والأطفال. وتُشكل النساء والأطفال في أغلب الأحيان أكثرية كبيرة من السكان النازحين واللاجئين. وفي حالات كهذه، قد تتغير أدوار النساء وأعباء عملهن على نحو مفاجئ، وقد تتعرض حقوقهن للتهديد بسبب العنف والافتقار إلى الأمن. وبسبب ضعف الأطفال، يعتبر أثر النزاع المسلح فيهم جوهرياً وكبيراً. ويمكن للاهتمام الحذر بمنظوري النوع الاجتماعي والعمر، وللاستجابة الإنسانية للأزمة أن يخفِّف هذه الآثار المتفاوتة والسلبية. ويُمكن أيضاً للمساعدة الإنسانية والدعم في المرحلة الانتقالية أن يقدّما فرصة لتعزيز التغييرات الإيجابية في أدوار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عتبر الاغتصاب غالباً من سمات النزاعات المسلحة، ويتم استخدامه بصورة منهجية منتظمة لإهانة الروابط الاجتماعية "للعدو" والسيطرة عليها وتعطيلها. ويُولى اهتمام أقل بالنساء والفتيات، اللاتي قد يُجبرن أثناء الهروب وفي بيئات اللجوء على عرض ممارسة الجنس لقاء حصولهنّ على الطعام أو المأوى أو الحماية. وترتفع وتيرة العنف المنزلي بشكل خطير أيضاً في أوساط السكان النازحين. ويمكن أن يكون أثر العنف، وخصوصاً الاغتصاب، مدمِّراً. ولن يقوم العديد من الناجين بالإبلاغ عن الاغتصاب، بينما سيشعر الآخرون بعدم القدرة على ذلك. (اقتباس من سياسة الاستعداد للطوارئ المتبعة لدى صندوق الأمم المتحدة للسكان، </a:t>
            </a:r>
            <a:r>
              <a:rPr b="1" lang="ar-JO" sz="1200" spc="-1" strike="noStrike">
                <a:solidFill>
                  <a:srgbClr val="000000"/>
                </a:solidFill>
                <a:latin typeface="Arial"/>
                <a:ea typeface="Arial"/>
              </a:rPr>
              <a:t>2006</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المهم ضمان مشاركة النساء والأطفال في عمليات الإفصاح عن الحقيقة والمصالحة. وتكشف دراسة لمشاركة النساء والأطفال في أنظمة العدالة الانتقالية عن أنّه بينما كانت النساء والأطفال ضحايا عانت وتعاني من أثر العنف، وانتهاكات حقوق الإنسان، والنزاعات المسلحة، فإن مشاركتهنَّ لم تكن مهمة. ويدعو قرار مجلس الأمن رقم </a:t>
            </a:r>
            <a:r>
              <a:rPr b="1" lang="ar-JO" sz="1200" spc="-1" strike="noStrike">
                <a:solidFill>
                  <a:srgbClr val="000000"/>
                </a:solidFill>
                <a:latin typeface="Arial"/>
                <a:ea typeface="Arial"/>
              </a:rPr>
              <a:t>1325</a:t>
            </a:r>
            <a:r>
              <a:rPr b="1" lang="ar-JO" sz="1200" spc="-1" strike="noStrike">
                <a:solidFill>
                  <a:srgbClr val="000000"/>
                </a:solidFill>
                <a:latin typeface="Arial"/>
                <a:ea typeface="Arial"/>
              </a:rPr>
              <a:t> إلى التمثيل المتزايد للنساء على جميع مستويات صنع القرار في منع النزاعات المسلحة، والإدارة والقرار، وإلى زيادة مستوى الانتباه إلى احتياجات الحماية المحددة الخاصة بالنساء اللاتي يعشن في أوضاع النزاعات المسلحة، بمن فيهن اللاجئات. ويعتبر القرار </a:t>
            </a:r>
            <a:r>
              <a:rPr b="1" lang="ar-JO" sz="1200" spc="-1" strike="noStrike">
                <a:solidFill>
                  <a:srgbClr val="000000"/>
                </a:solidFill>
                <a:latin typeface="Arial"/>
                <a:ea typeface="Arial"/>
              </a:rPr>
              <a:t>1325</a:t>
            </a:r>
            <a:r>
              <a:rPr b="1" lang="ar-JO" sz="1200" spc="-1" strike="noStrike">
                <a:solidFill>
                  <a:srgbClr val="000000"/>
                </a:solidFill>
                <a:latin typeface="Arial"/>
                <a:ea typeface="Arial"/>
              </a:rPr>
              <a:t> القرار الأول على الإطلاق الذي أجازه مجلس الأمن، والذي يتصدى لأثر الحرب في النساء، وإسهامات المرأة في فضّ النزاعات المسلحة وإشاعة السلام المستدا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قضي قرار مجلس الأمن، رقم </a:t>
            </a:r>
            <a:r>
              <a:rPr b="1" lang="ar-JO" sz="1200" spc="-1" strike="noStrike">
                <a:solidFill>
                  <a:srgbClr val="000000"/>
                </a:solidFill>
                <a:latin typeface="Arial"/>
                <a:ea typeface="Arial"/>
              </a:rPr>
              <a:t>1612</a:t>
            </a:r>
            <a:r>
              <a:rPr b="1" lang="ar-JO" sz="1200" spc="-1" strike="noStrike">
                <a:solidFill>
                  <a:srgbClr val="000000"/>
                </a:solidFill>
                <a:latin typeface="Arial"/>
                <a:cs typeface="Arial"/>
              </a:rPr>
              <a:t>، بإنشاء آلية عمل للمتابعة والإبلاغ فيما يتعلق باستخدام الأطفال الجنود، ويعيد التأكيد من جديد على رغبته في دراسة فرض تدابير موجهة ومتدرجة، من خلال قرارات قُطرية محددة، مثل حظر تصدير وتزويد الأسلحة الصغيرة والأسلحة الخفيفة، ويدعو جميع الأطراف المعنية إلى ضمان إدماج حماية الأطفال المتأثرين من النزاعات المسلحة، وضمان حقوقهم ورفاههم، على وجه التحديد، في جميع عمليات السلام، واتفاقيات السلام، وبرامج الإعمار والتعافي بعد انتهاء النزاع المسلح.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جابة: أمثلة</a:t>
            </a:r>
            <a:r>
              <a:rPr b="1" lang="ar-JO" sz="1200" spc="-1" strike="noStrike">
                <a:solidFill>
                  <a:srgbClr val="000000"/>
                </a:solidFill>
                <a:latin typeface="Arial"/>
                <a:ea typeface="Arial"/>
              </a:rPr>
              <a:t>: إن النساء ضعيفات معرَّضات بشكل فريد لنقص الفيتامينات والحديد، وخصوصاً للأنيميا (فقر الدم الحاد)، والتي قد تكون كلها مهلكةً مميتةً للنساء الحوامل وأطفالهن. وتعاني النساء من مجموعة من المشكلات المتعلقة بالصحة الإنجابية، ابتداءً من عدم الحصول على الإمدادات الصحية اللازمة للحيض، وانتهاء بالتعقيدات المتعلقة بالحمل والتي تهدِّد الحياة، والعنف الجنسي والعنف القائم على النوع الاجتماعي، والنّاسور الناجم عن الصدمات. كذلك فإن النساء مسؤولات بشكل أساسي عن رعاية أولئك الذين جعلتهم الحرب ضعفاء ومعرضين للمخاطر – بمن فيهم الأطفال والمرضى وكبار السن. إن الأطفال معرضين لخطر الإساءة الجنسية والاستغلال الجنسي، ولمتلازمة الضغط النفسي وغيره ما بعد حدوث الصدمة، وفقدان الوالدين، والتجنيد، والاستخدام من قبل الجيوش النظامية وغير النظامية، والاتجار، والألغام الأرضية، وسوء التغذية والمرض.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لحصول على المزيد من المعلومات عن الأطفال، زوروا الموقع الإليكتروني على شبكة الإنترنت:</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http://www.un.org/children/conflict/english/home6.html</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79360" y="696960"/>
            <a:ext cx="4651560" cy="3487680"/>
          </a:xfrm>
          <a:prstGeom prst="rect">
            <a:avLst/>
          </a:prstGeom>
          <a:ln w="0">
            <a:noFill/>
          </a:ln>
        </p:spPr>
      </p:sp>
      <p:sp>
        <p:nvSpPr>
          <p:cNvPr id="68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فكار مفيدة للمقدم:</a:t>
            </a:r>
            <a:endParaRPr b="0" lang="en-US" sz="1200" spc="-1" strike="noStrike">
              <a:solidFill>
                <a:srgbClr val="000000"/>
              </a:solidFill>
              <a:latin typeface="Arial"/>
            </a:endParaRPr>
          </a:p>
          <a:p>
            <a:pPr lvl="1" marL="68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1</a:t>
            </a:r>
            <a:r>
              <a:rPr b="1" lang="ar-JO" sz="1200" spc="-1" strike="noStrike">
                <a:solidFill>
                  <a:srgbClr val="000000"/>
                </a:solidFill>
                <a:latin typeface="Arial"/>
                <a:ea typeface="Arial"/>
              </a:rPr>
              <a:t>-</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تم تصميم هذا الجزء من التدريب لتقديمه في اليوم الثاني من ورشة العمل. وقد يكون من المفيد بدء العرض المعلوماتي حيثما انتهيت من التقديم في اليوم السابق، بمعنى أن تبدأ من الشريحة رقم </a:t>
            </a:r>
            <a:r>
              <a:rPr b="1" lang="ar-JO" sz="1200" spc="-1" strike="noStrike">
                <a:solidFill>
                  <a:srgbClr val="000000"/>
                </a:solidFill>
                <a:latin typeface="Arial"/>
                <a:ea typeface="Arial"/>
              </a:rPr>
              <a:t>43</a:t>
            </a:r>
            <a:r>
              <a:rPr b="1" lang="ar-JO" sz="1200" spc="-1" strike="noStrike">
                <a:solidFill>
                  <a:srgbClr val="000000"/>
                </a:solidFill>
                <a:latin typeface="Arial"/>
                <a:ea typeface="Arial"/>
              </a:rPr>
              <a:t>. </a:t>
            </a:r>
            <a:endParaRPr b="0" lang="en-US" sz="1200" spc="-1" strike="noStrike">
              <a:solidFill>
                <a:srgbClr val="000000"/>
              </a:solidFill>
              <a:latin typeface="Arial"/>
            </a:endParaRPr>
          </a:p>
          <a:p>
            <a:pPr lvl="1" marL="68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2</a:t>
            </a:r>
            <a:r>
              <a:rPr b="1" lang="ar-JO" sz="1200" spc="-1" strike="noStrike">
                <a:solidFill>
                  <a:srgbClr val="000000"/>
                </a:solidFill>
                <a:latin typeface="Arial"/>
                <a:ea typeface="Arial"/>
              </a:rPr>
              <a:t>- </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سيكون من المفيد عرض المعلومات الأساسية التي قُدِّمت في اليوم السابق عن النهج القائم على حقوق الإنسان، على سبّورة أو لوحة قلابة، وذلك للرجوع إلى عناصرها المختلفة وكيفية استخدامها في جميع مراحل عملية البرمجة. ويجب أن تكون المعلومات المعروضة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r>
              <a:rPr b="1" lang="ar-JO" sz="1200" spc="-1" strike="noStrike">
                <a:solidFill>
                  <a:srgbClr val="000000"/>
                </a:solidFill>
                <a:latin typeface="Arial"/>
                <a:ea typeface="Arial"/>
              </a:rPr>
              <a:t>(أ)</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بيان عن الفهم المشترك للنهج القائم على حقوق الإنسان.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	</a:t>
            </a:r>
            <a:r>
              <a:rPr b="1" lang="ar-JO" sz="1200" spc="-1" strike="noStrike">
                <a:solidFill>
                  <a:srgbClr val="000000"/>
                </a:solidFill>
                <a:latin typeface="Arial"/>
                <a:ea typeface="Arial"/>
              </a:rPr>
              <a:t>(ب)</a:t>
            </a:r>
            <a:r>
              <a:rPr b="1" lang="ar-JO" sz="1200" spc="-1" strike="noStrike">
                <a:solidFill>
                  <a:srgbClr val="000000"/>
                </a:solidFill>
                <a:latin typeface="Arial"/>
                <a:ea typeface="Arial"/>
              </a:rPr>
              <a:t>	</a:t>
            </a:r>
            <a:r>
              <a:rPr b="1" lang="ar-JO" sz="1200" spc="-1" strike="noStrike">
                <a:solidFill>
                  <a:srgbClr val="000000"/>
                </a:solidFill>
                <a:latin typeface="Arial"/>
                <a:cs typeface="Arial"/>
              </a:rPr>
              <a:t>القيمة المضافة في برمجة مخرجات هيئات المعاهدة والإجراءات الخاصة التابعة للأمم المتحد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يُفترض من مجموعة الشرائح هذه أن تشرح الأسباب الموجبة وانسياب عملية الربط مع النتائج، وكيفية تطبيق النهج القائم على حقوق الإنسان على جميع مراحل دورة البرمجة، بما في ذلك جمع المعلومات، والتقييم والتحليل، ووضع الأهداف، والاستراتيجيات والشراكات، وتنفيذ البرامج، ومتابعتها وتقييمها. ويعتبر فهم هذا الجزء أمراً ضرورياً لتطبيق النهج القائم على حقوق الإنسان على التقييم القطري المشترك وإطار عمل الأمم المتحدة للمساعدات الإنمائية. ويُوصى بقراءة الفصل الثالث مسبقاً، لفهم محتوى هذا الجزء فهماً تام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يتم إعطاء تعليمات محددة ومنفصلة لمجموعات العمل حول كل خطوة من عمل المجموعات (كما هو مشار إليه في وثيقة أسلوب انسياب الجلسة)</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47CFA0E-3EBA-4864-9104-BCDC93451C0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89"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90"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91"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2" name="PlaceHolder 1"/>
          <p:cNvSpPr>
            <a:spLocks noGrp="1"/>
          </p:cNvSpPr>
          <p:nvPr>
            <p:ph type="sldImg"/>
          </p:nvPr>
        </p:nvSpPr>
        <p:spPr>
          <a:xfrm>
            <a:off x="1179360" y="696960"/>
            <a:ext cx="4651560" cy="3487680"/>
          </a:xfrm>
          <a:prstGeom prst="rect">
            <a:avLst/>
          </a:prstGeom>
          <a:ln w="0">
            <a:noFill/>
          </a:ln>
        </p:spPr>
      </p:sp>
      <p:sp>
        <p:nvSpPr>
          <p:cNvPr id="693"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ستخدم هذه الشريحة التي استُخدمت في الجلسة السابقة للتذكير بمضامين وتبعات النهج القائم على حقوق الإنسان في عمليات البرمجة لدى الأمم المتحد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D784C55-E3E8-4015-AA6E-48AB4BF4734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5"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696"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697"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8" name="PlaceHolder 1"/>
          <p:cNvSpPr>
            <a:spLocks noGrp="1"/>
          </p:cNvSpPr>
          <p:nvPr>
            <p:ph type="sldImg"/>
          </p:nvPr>
        </p:nvSpPr>
        <p:spPr>
          <a:xfrm>
            <a:off x="1179360" y="696960"/>
            <a:ext cx="4651560" cy="3487680"/>
          </a:xfrm>
          <a:prstGeom prst="rect">
            <a:avLst/>
          </a:prstGeom>
          <a:ln w="0">
            <a:noFill/>
          </a:ln>
        </p:spPr>
      </p:sp>
      <p:sp>
        <p:nvSpPr>
          <p:cNvPr id="699"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تى يجب البدء في تطبيق النهج القائم على حقوق الإنسان على البرنامج القطر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بالأخذ بعين الاعتبار أن النهج القائم على حقوق الإنسان يجب أن يطبق في جميع مراحل عملية البرمجة، فإن نقطة الانطلاق لإعداد التقييم القُطري المشترك من المرحلة الأولى، تبدأ بجمع المعلومات لأغراض التقييم والتحل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من المهم تطبيق معايير ومبادئ حقوق الإنسان في مرحلتَي التقييم والتحليل، وذلك لأنهما تؤثران في طريقة </a:t>
            </a:r>
            <a:r>
              <a:rPr b="1" i="1" lang="ar-JO" sz="1200" spc="-1" strike="noStrike">
                <a:solidFill>
                  <a:srgbClr val="000000"/>
                </a:solidFill>
                <a:latin typeface="Arial"/>
                <a:cs typeface="Arial"/>
              </a:rPr>
              <a:t>تصميم وتنفيذ</a:t>
            </a:r>
            <a:r>
              <a:rPr b="1" lang="ar-JO" sz="1200" spc="-1" strike="noStrike">
                <a:solidFill>
                  <a:srgbClr val="000000"/>
                </a:solidFill>
                <a:latin typeface="Arial"/>
                <a:ea typeface="Arial"/>
              </a:rPr>
              <a:t> التدخلات. فعلى سبيل المثال، بينما سيحفز معدلُ الالتحاق المنخفض وغير المتكافئ (بين الذكور والإناث وبين المناطق الجغرافية) بالمدرسة الشركاءَ المتعاونين على الاستثمار في برنامج تعليمي، فإن مبدأ عدم التمييز سيساعد في التركيز على مدى التفاوتات الجغرافية وفي النوع الاجتماعي في الالتحاق وأسبابهما، وفي كيفية خفض هذه التفاوت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قرّ المبادئ التوجيهية للتقييم القطري المشترك وإطار عمل الأمم المتحدة للمساعدات الإنمائية بأن التحليلات عالية الجودة لتحديات التنمية الوطنية موجودة أصلاً في العديد من الدول. وحيثما توجد هذه التحليلات أساساً، فإن الفرق القطرية للأمم المتحدة يجب أن تقرر فيما إذا كانت تلك التحليلات كافية أم لا. إن أحد المتطلبات الأساسية الدنيا هو أن تحتوي التحليلات الوطنية الموجودة على النهج القائم على حقوق الإنسان، وذلك بالكشف عن الأسباب التحتية والجذرية لتحديات التنمية وللحقوق التي لم يتم إحقاقها. وعلاوة على ذلك، يجب على التحاليل المتوافرة في هذه التقارير تبيان الجماعات المهمشة أو المقصاة، بما في ذلك تبيان حالات عدم المساواة القائمة على النوع الاجتماعي، وتلك السلطات والجهات الفاعلة الأخرى التي تقع على كاهلها بعض المسؤوليات أو الواجبات التي تُملي عليها اتخاذ ما يلزم من الإجراءات والعمل بشأن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79360" y="696960"/>
            <a:ext cx="4651560" cy="3487680"/>
          </a:xfrm>
          <a:prstGeom prst="rect">
            <a:avLst/>
          </a:prstGeom>
          <a:ln w="0">
            <a:noFill/>
          </a:ln>
        </p:spPr>
      </p:sp>
      <p:sp>
        <p:nvSpPr>
          <p:cNvPr id="70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الممكن تناول محتوى هذه الشريحة أثناء تفسير الهرم المقلوب، مما يؤدي إلى تجنب عرض هذه الشريح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ea typeface="Arial"/>
              </a:rPr>
              <a:t>1</a:t>
            </a:r>
            <a:r>
              <a:rPr b="1" lang="ar-JO" sz="1200" spc="-1" strike="noStrike" u="sng">
                <a:solidFill>
                  <a:srgbClr val="000000"/>
                </a:solidFill>
                <a:uFillTx/>
                <a:latin typeface="Arial"/>
                <a:ea typeface="Arial"/>
              </a:rPr>
              <a:t>- جمع المعلومات الصحيح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نوعية ومصداقية المعلومات التي يُبنى عليها التقييم والتحليل الجيدين مسألة حاسمة لإدارة ذلك التقييم والتحليل. أما الغرض من ذلك فهو الحصول على جميع المعلومات التي تدعو الحاجة إليها لتشخيص وحصر تحديات التنمية الأساسية في الدولة (أي تقييمها وتقديرها)، ولنكون قادرين على تحليل الأسباب الآنية والتحتية والجذرية لتحديات التنمية هذه بعمق أكبر.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و نوع المعلومات المطلوب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سياق المدني والثقافي والاقتصادي والسياسي والاجتماعي الذي سيؤدي إلى تشخيصُ وحصر التحديات الرئيسة التي تواجه حقوق الإنسان والتنمية في الدولة، ومدى شدتها، والجهات الأكثر تأثراً بها، ومكان وجود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وجّهات والنماذج الأساسية على مدى السنوات الأخير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آليات العمل والأعمال التي تم تنفيذها للتصدي لها، ومدى فعاليت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يانات الكمية والنوع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يانات المصنّفة قدر المستطاع، حسب الجنس والعمر والمنطقة الجغرافية، والعرقية، والإثنية وما إلى ذلك. </a:t>
            </a:r>
            <a:endParaRPr b="0" lang="en-US" sz="1200" spc="-1" strike="noStrike">
              <a:solidFill>
                <a:srgbClr val="000000"/>
              </a:solidFill>
              <a:latin typeface="Arial"/>
            </a:endParaRPr>
          </a:p>
          <a:p>
            <a:pPr lvl="1" marL="685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مصادر المعلومات الأساس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حكومية والإحصاءات الرسم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يئات المعاهدة والإجراءات الخاصة، وآليات العمل الإقليمية والوطنية لحقوق الإنسان، بما فيها المؤسسات الوطنية لحقوق الإنسان.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وطنية التي تعدها المنظمات غير الحكومية المحلية والمنظمات غير الحكومية الدول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هيئات الاقتصادية التابعة للأمم المتحدة والمؤسسات المالية (البنك الدولي، وصندوق النقد الدول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قارير الأمم المتحدة وتقارير وكالاتها، بما فيها التقارير الصادرة عن بعثات السلام.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قارير المقدمة من دول أخرى (وزارة خارجية الولايات المتحدة، الاتحاد الأوروبي وغيرها).</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بحوث الأكاديمية ووسائل الإعلام الوطنية والعالمي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لومات مباشرة من ضحايا انتهاكات حقوق الإنسان.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صادر أُخرى موثوق ب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جب إيلاء اهتمام خاص بالحصول على البيانات المُصنَّفة وبأية أبحاث موجودة وقائمة على جلسات الاستماع المعنية بالفقر، وتقييمات الفقر، وتشخيصات الفقر، والتقارير غير المنشورة من قبل أمين المظالم، التي تعكس وضع الجماعات السكانية المحرومة والمهمشة ووجهات نظرها، بمن فيهم النساء والأطفال والأشخاص النازحون، والأقليات والسكان الأصليون. وقد توجد بعض الأوضاع التي تتعرض فيها أقلية صغيرة جداً للإقصاء من معظم الدراسات والتقارير، وذلك لأن تلك الجماعات لا تعتبر ذات أهمية بالنسبة إلى صانعي السياسات، بالرغم من أن حقوقها الإنسانية تنتهك بشكل كبير.</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79360" y="696960"/>
            <a:ext cx="4651560" cy="3487680"/>
          </a:xfrm>
          <a:prstGeom prst="rect">
            <a:avLst/>
          </a:prstGeom>
          <a:ln w="0">
            <a:noFill/>
          </a:ln>
        </p:spPr>
      </p:sp>
      <p:sp>
        <p:nvSpPr>
          <p:cNvPr id="70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ea typeface="Arial"/>
              </a:rPr>
              <a:t>2</a:t>
            </a:r>
            <a:r>
              <a:rPr b="1" lang="ar-JO" sz="1200" spc="-1" strike="noStrike" u="sng">
                <a:solidFill>
                  <a:srgbClr val="000000"/>
                </a:solidFill>
                <a:uFillTx/>
                <a:latin typeface="Arial"/>
                <a:ea typeface="Arial"/>
              </a:rPr>
              <a:t>- إجراء التقييم على نحو صحيح:</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إجراءَ تقييم للوضع الكلي لدولة ما من منظور النهج القائم على حقوق الإنسان أمرٌ ضروري لتحديد وجود أو عدم وجود تحدٍّ للتنمية، ومدى شدّة هذا التحدي، ومن هي الجهة المتأثرة منه، وأين مكانه. ويعتبر إعلان الألفية، والأهداف الإنمائية للألفية، والتزامات وأهداف وغايات المؤتمرات والقمم والاتفاقيات الدولية، وأدوات / صكوك حقوق الإنسان لدى منظومة الأمم المتحدة جميعها نقاط قياس مرجعية يتم استخدامها في تحديد وجود أو عدم وجود التحديات في تلك الدولة، ومكان وجودها وشدَّت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جب إيلاء اهتمام ما بتشخيص وحصر أ</a:t>
            </a:r>
            <a:r>
              <a:rPr b="1" lang="ar-JO" sz="1200" spc="-1" strike="noStrike">
                <a:solidFill>
                  <a:srgbClr val="000000"/>
                </a:solidFill>
                <a:latin typeface="Arial"/>
                <a:cs typeface="Arial"/>
              </a:rPr>
              <a:t>كثر الجماعات حرماناً وإقصاءً.</a:t>
            </a:r>
            <a:r>
              <a:rPr b="0" lang="ar-JO" sz="1200" spc="-1" strike="noStrike">
                <a:solidFill>
                  <a:srgbClr val="000000"/>
                </a:solidFill>
                <a:latin typeface="Arial"/>
                <a:ea typeface="Arial"/>
              </a:rPr>
              <a:t> فعلى سبيل المثال، إذا أظهرت مؤشرات الأمية أن معدلها مرتفع بشكل معتدل على المستوى الوطني، بينما كان هذا المعدل مرتفعاً بنسبة أكبر في أوساط النساء المنتميات إلى السكان الأصليين، اللاتي يعشن في مناطق نائية، فستكون مشكلة الأمية في أوساط تلك النساء في المناطق النائية قضية ذات أولوية ليتم التصدي لها بعمق أكبر في التحليل.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أثناء إجراء التقييم، قد يكون طرح الأسئلة التالية مفيد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و نوع تحديات التنمية الموجودة في الدول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ن هي الجهات الأكثر تأثراً من تلك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أين تحدث هذه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مدى انتشارها؟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ي الإجراءات التي يتم اتخاذها للتصدي لتلك التحديات؟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ا هو التقدُّم الذي يتم إحرازه وما هي العوائق الباق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خطوة الأولى: اختيار أحد تحديات التنمية / حقوق الإنسان التي لم يتم إحقاقها</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تُحدد جودة التقييم تحديات التنمية ذات الأولوية التي يجب تحليلها بعمق أكبر. ويجب التوصل إلى توافق في الآراء بين جميع شركاء الأمم المتحدة (من خلال عملية تشاورية واسعة) حول التحديات ذات الأولو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ن خلال النهج القائم على حقوق الإنسان، من المهم ما يل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اعتراف بكل تحدٍّ من تحديات التنمية بوصفه حقاً من حقوق الإنسان</a:t>
            </a:r>
            <a:r>
              <a:rPr b="0" lang="ar-JO" sz="1200" spc="-1" strike="noStrike">
                <a:solidFill>
                  <a:srgbClr val="000000"/>
                </a:solidFill>
                <a:latin typeface="Arial"/>
                <a:ea typeface="Arial"/>
              </a:rPr>
              <a:t> أو باعتباره مجموعة متعددة من حقوق الإنسان المنتهكة أو التي لم يتم إحقاقها. وتساعد هذه الخطوة الأولى في تشخيص وحصر معايير حقوق الإنسان ومعاهدات حقوق الإنسان ذات الصلة بها، التي ستساعد في توجيه التحليل وتشكيل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صياغة تحدِّي التنمية ليكون تركيزه منصبَّاً على الناس. </a:t>
            </a:r>
            <a:r>
              <a:rPr b="0" lang="ar-JO" sz="1200" spc="-1" strike="noStrike">
                <a:solidFill>
                  <a:srgbClr val="000000"/>
                </a:solidFill>
                <a:latin typeface="Arial"/>
                <a:cs typeface="Arial"/>
              </a:rPr>
              <a:t>والسؤال هو: مَنْ هم المتأثرون من التحدِّ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تعرُّف على تحدي التنمية استناداً إلى أحد أسبابه الممكنة. </a:t>
            </a:r>
            <a:r>
              <a:rPr b="0" lang="ar-JO" sz="1200" spc="-1" strike="noStrike">
                <a:solidFill>
                  <a:srgbClr val="000000"/>
                </a:solidFill>
                <a:latin typeface="Arial"/>
                <a:cs typeface="Arial"/>
              </a:rPr>
              <a:t>تتمثَّل القضية المركزية هنا في كيفية تأثر حياة الناس من التحدي ووجوب تمييز ذلك عن القدرات المؤسسية، والاتجاهات الاقتصادية والسياسية، أو الإجراءات القانونية الوقائية، التي يمكن أن تكون أسباباً مهمة للمشكل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المثل، فقد يعمل تحديد تحدِّي التنمية بوصفه "</a:t>
            </a:r>
            <a:r>
              <a:rPr b="0" i="1" lang="ar-JO" sz="1200" spc="-1" strike="noStrike">
                <a:solidFill>
                  <a:srgbClr val="000000"/>
                </a:solidFill>
                <a:latin typeface="Arial"/>
                <a:cs typeface="Arial"/>
              </a:rPr>
              <a:t>افتقاراً إلى</a:t>
            </a:r>
            <a:r>
              <a:rPr b="0" lang="ar-JO" sz="1200" spc="-1" strike="noStrike">
                <a:solidFill>
                  <a:srgbClr val="000000"/>
                </a:solidFill>
                <a:latin typeface="Arial"/>
                <a:ea typeface="Arial"/>
              </a:rPr>
              <a:t> شيء </a:t>
            </a:r>
            <a:r>
              <a:rPr b="0" i="1" lang="ar-JO" sz="1200" spc="-1" strike="noStrike">
                <a:solidFill>
                  <a:srgbClr val="000000"/>
                </a:solidFill>
                <a:latin typeface="Arial"/>
                <a:cs typeface="Arial"/>
              </a:rPr>
              <a:t>ما</a:t>
            </a:r>
            <a:r>
              <a:rPr b="0" lang="ar-JO" sz="1200" spc="-1" strike="noStrike">
                <a:solidFill>
                  <a:srgbClr val="000000"/>
                </a:solidFill>
                <a:latin typeface="Arial"/>
                <a:ea typeface="Arial"/>
              </a:rPr>
              <a:t>" على حفز الحلول البسيطة للغاية، ومنع تحليل العوامل الإضافية التي تؤثر في حياة الناس ورفاههم. وإذا تم، على سبيل المثال، اختيار "الافتقار إلى إمكانية الوصول إلى خدمات صحة الأمهات" باعتباره تحدياً للتنمية (بدلاً عن معدل وفيات الأمهات المرتفع)، فقد لا تتم دراسة عوامل مساهمة أخرى في وجود هذا التحدِّي أثناء التحليل، مثل "السياسات غير الفعالة لتنظيم الأسر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81160" y="696960"/>
            <a:ext cx="4648320" cy="3486240"/>
          </a:xfrm>
          <a:prstGeom prst="rect">
            <a:avLst/>
          </a:prstGeom>
          <a:ln w="0">
            <a:noFill/>
          </a:ln>
        </p:spPr>
      </p:sp>
      <p:sp>
        <p:nvSpPr>
          <p:cNvPr id="58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نشاط المشي السريع! (إشارة إلى الشرح المتوافر في المجموعة المرجعية. يجب أن تستغرق مدة التمرين </a:t>
            </a:r>
            <a:r>
              <a:rPr b="0" lang="ar-JO" sz="1200" spc="-1" strike="noStrike">
                <a:solidFill>
                  <a:srgbClr val="000000"/>
                </a:solidFill>
                <a:latin typeface="Arial"/>
                <a:ea typeface="Arial"/>
              </a:rPr>
              <a:t>30</a:t>
            </a:r>
            <a:r>
              <a:rPr b="0" lang="ar-JO" sz="1200" spc="-1" strike="noStrike">
                <a:solidFill>
                  <a:srgbClr val="000000"/>
                </a:solidFill>
                <a:latin typeface="Arial"/>
                <a:ea typeface="Arial"/>
              </a:rPr>
              <a:t> - </a:t>
            </a:r>
            <a:r>
              <a:rPr b="0" lang="ar-JO" sz="1200" spc="-1" strike="noStrike">
                <a:solidFill>
                  <a:srgbClr val="000000"/>
                </a:solidFill>
                <a:latin typeface="Arial"/>
                <a:ea typeface="Arial"/>
              </a:rPr>
              <a:t>40</a:t>
            </a:r>
            <a:r>
              <a:rPr b="0" lang="ar-JO" sz="1200" spc="-1" strike="noStrike">
                <a:solidFill>
                  <a:srgbClr val="000000"/>
                </a:solidFill>
                <a:latin typeface="Arial"/>
                <a:ea typeface="Arial"/>
              </a:rPr>
              <a:t> دقيقة بما في ذلك جلسة استخلاص المعلوم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تعلم ما يلي من خلال تطبيق نشاط المشي السريع كأدا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نمية ليست محايدة من حيث السلطة، إذ يعتبر كلٌ من التمييز ورصد ومعرفة النخبة والتركيز عليها وقائعَ تنموية معروف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علاقات السلطة أثر كبير في هويتنا الحالية وما يمكننا أن نكون عليه.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ستحيل على الأشخاص الذين تخلَّفوا عن الرّكب اللحاق به من دون الحصول على مساعدة محدَّدة وموجَّهة.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جز الموارد والقدرات وحدها عن تحقيق الأثر الضروري أو المرغوب فيه، حيث تعتبر البيئة الممكَّنة محدِّداً أساسياً.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تقديم الحقائق السياسية المحيطة بالسلطة، تدعو الحاجة إلى وجود مقياس موضوعي ومحايد ومعياري، وذلك لتوجيه النقاشات.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تبرُ حالةُ النساء عادةً الأسوأَ والأشد فقر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79360" y="696960"/>
            <a:ext cx="4651560" cy="3487680"/>
          </a:xfrm>
          <a:prstGeom prst="rect">
            <a:avLst/>
          </a:prstGeom>
          <a:ln w="0">
            <a:noFill/>
          </a:ln>
        </p:spPr>
      </p:sp>
      <p:sp>
        <p:nvSpPr>
          <p:cNvPr id="70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ل هذه الخطوة الأسباب الآنية والتحتية والجذرية أو البنيوية / الهيكلية لتحديات التنمية، التي يتم تشخيصها وحصرها. ويُبرز التحليل السببي العوامل المتشابكة التي تؤثر في التحدي التنموي. ويساعد هذا التحليل في فهم مستويات السَّببية والروابط بين مختلف الأسبا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كقاعدة عامة، فإ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أسباب الآنية تُحدِّد الوضع الحالي للمشك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الأسباب التحتية تُعتبر غالباً تبعات أو عواقب للسياسيات والقوانين ومدى توافر الموارد. وقد تكشف هذه الأسباب عن القضايا المعقَّدة ذات العلاقة، وتتطلب تدخلات تستغرق وقتاً كبيراً للحصول على النتائج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سنوات على الأق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الأسباب الجذرية / البنيوية أو الهيكلية تكشف الظروف التي تتطلب تدخلات طويلة الأمد، وذلك لتغيير التوجهات والسلوكات المجتمعية على مستويات مختلفة، بما في ذلك على المستويات الأسرية والمجتمعية المحلية والمستويات العليا لصنع القر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قد تُقرِّر بعض فرق الأمم المتحدة القطرية استخدام أدوات إضافية لتنفيذ تحليل سببي أكثر شمولاً، بهدف الكشف عن الفجوات في </a:t>
            </a:r>
            <a:r>
              <a:rPr b="1" i="1" lang="ar-JO" sz="1200" spc="-1" strike="noStrike">
                <a:solidFill>
                  <a:srgbClr val="000000"/>
                </a:solidFill>
                <a:latin typeface="Arial"/>
                <a:cs typeface="Arial"/>
              </a:rPr>
              <a:t>المؤسسات، وأُطر العمل القانونية والسياساتية، والبيئات التمكينية. </a:t>
            </a:r>
            <a:r>
              <a:rPr b="1" lang="ar-JO" sz="1200" spc="-1" strike="noStrike">
                <a:solidFill>
                  <a:srgbClr val="000000"/>
                </a:solidFill>
                <a:latin typeface="Arial"/>
                <a:cs typeface="Arial"/>
              </a:rPr>
              <a:t>ويتضمن النهج القائم على حقوق الإنسان فهم كيفية تأثير القوانين والأعراف الاجتماعية والممارسات التقليدية والردود المؤسسية، بشكل إيجابي أو سلبي، في التمتع بالحقوق الإنسانية. وكما تمت الإشارة إلى ذلك في تقرير التنمية البشرية </a:t>
            </a:r>
            <a:r>
              <a:rPr b="1" lang="ar-JO" sz="1200" spc="-1" strike="noStrike">
                <a:solidFill>
                  <a:srgbClr val="000000"/>
                </a:solidFill>
                <a:latin typeface="Arial"/>
                <a:ea typeface="Arial"/>
              </a:rPr>
              <a:t>2000</a:t>
            </a:r>
            <a:r>
              <a:rPr b="1" lang="ar-JO" sz="1200" spc="-1" strike="noStrike">
                <a:solidFill>
                  <a:srgbClr val="000000"/>
                </a:solidFill>
                <a:latin typeface="Arial"/>
                <a:cs typeface="Arial"/>
              </a:rPr>
              <a:t>، فإن "كل دولة تحتاج إلى تقوية/تعزيز ترتيباتها الاجتماعية لتأمين الحريات الإنسانية – بما يتفق مع الأعراف، والمؤسسات، وأُطر العمل القانونية، والبيئة التمكينية". [</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ea typeface="Arial"/>
              </a:rPr>
              <a:t>[</a:t>
            </a:r>
            <a:r>
              <a:rPr b="1" lang="ar-JO" sz="1200" spc="-1" strike="noStrike">
                <a:solidFill>
                  <a:srgbClr val="000000"/>
                </a:solidFill>
                <a:latin typeface="Arial"/>
                <a:ea typeface="Arial"/>
              </a:rPr>
              <a:t>1</a:t>
            </a:r>
            <a:r>
              <a:rPr b="1" lang="ar-JO" sz="1200" spc="-1" strike="noStrike">
                <a:solidFill>
                  <a:srgbClr val="000000"/>
                </a:solidFill>
                <a:latin typeface="Arial"/>
                <a:ea typeface="Arial"/>
              </a:rPr>
              <a:t>] تقرير التنمية البشرية </a:t>
            </a:r>
            <a:r>
              <a:rPr b="1" lang="ar-JO" sz="1200" spc="-1" strike="noStrike">
                <a:solidFill>
                  <a:srgbClr val="000000"/>
                </a:solidFill>
                <a:latin typeface="Arial"/>
                <a:ea typeface="Arial"/>
              </a:rPr>
              <a:t>2000</a:t>
            </a:r>
            <a:r>
              <a:rPr b="1" lang="ar-JO" sz="1200" spc="-1" strike="noStrike">
                <a:solidFill>
                  <a:srgbClr val="000000"/>
                </a:solidFill>
                <a:latin typeface="Arial"/>
                <a:cs typeface="Arial"/>
              </a:rPr>
              <a:t>، الذي نشره برنامج الأمم المتحدة الإنمائي، الصفحة </a:t>
            </a:r>
            <a:r>
              <a:rPr b="1" lang="ar-JO" sz="1200" spc="-1" strike="noStrike">
                <a:solidFill>
                  <a:srgbClr val="000000"/>
                </a:solidFill>
                <a:latin typeface="Arial"/>
                <a:ea typeface="Arial"/>
              </a:rPr>
              <a:t>21</a:t>
            </a:r>
            <a:r>
              <a:rPr b="1" lang="ar-JO" sz="1200" spc="-1" strike="noStrike">
                <a:solidFill>
                  <a:srgbClr val="000000"/>
                </a:solidFill>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3970440" y="8827560"/>
            <a:ext cx="3038400" cy="46692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ED4CE94-7985-41E6-9515-263ED0576EE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7" name=""/>
          <p:cNvSpPr txBox="1"/>
          <p:nvPr/>
        </p:nvSpPr>
        <p:spPr>
          <a:xfrm>
            <a:off x="0" y="8827560"/>
            <a:ext cx="3038400" cy="46692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708" name=""/>
          <p:cNvSpPr txBox="1"/>
          <p:nvPr/>
        </p:nvSpPr>
        <p:spPr>
          <a:xfrm>
            <a:off x="0" y="0"/>
            <a:ext cx="3038400" cy="46656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ea typeface="Arial"/>
              </a:rPr>
              <a:t>&lt;header&gt;</a:t>
            </a:r>
            <a:endParaRPr b="0" lang="en-US" sz="1200" spc="-1" strike="noStrike">
              <a:solidFill>
                <a:srgbClr val="000000"/>
              </a:solidFill>
              <a:latin typeface="Arial"/>
            </a:endParaRPr>
          </a:p>
        </p:txBody>
      </p:sp>
      <p:sp>
        <p:nvSpPr>
          <p:cNvPr id="709" name=""/>
          <p:cNvSpPr txBox="1"/>
          <p:nvPr/>
        </p:nvSpPr>
        <p:spPr>
          <a:xfrm>
            <a:off x="3970440" y="0"/>
            <a:ext cx="3038400" cy="46656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10" name="PlaceHolder 1"/>
          <p:cNvSpPr>
            <a:spLocks noGrp="1"/>
          </p:cNvSpPr>
          <p:nvPr>
            <p:ph type="sldImg"/>
          </p:nvPr>
        </p:nvSpPr>
        <p:spPr>
          <a:xfrm>
            <a:off x="1179360" y="696960"/>
            <a:ext cx="4651560" cy="3487680"/>
          </a:xfrm>
          <a:prstGeom prst="rect">
            <a:avLst/>
          </a:prstGeom>
          <a:ln w="0">
            <a:noFill/>
          </a:ln>
        </p:spPr>
      </p:sp>
      <p:sp>
        <p:nvSpPr>
          <p:cNvPr id="711" name="PlaceHolder 2"/>
          <p:cNvSpPr>
            <a:spLocks noGrp="1"/>
          </p:cNvSpPr>
          <p:nvPr>
            <p:ph type="body"/>
          </p:nvPr>
        </p:nvSpPr>
        <p:spPr>
          <a:xfrm>
            <a:off x="936720" y="4416120"/>
            <a:ext cx="513720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قاعدة عام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د الأسباب الآنية الوضع الراهن للمشكل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الأسباب التحتية غالباً تبعات أو عواقب للسياسات والقوانين ومدى توافر الموارد. وقد تكشف هذه الأسباب عن القضايا المعقدة ذات العلاقة، وتتطلب تدخلات تستغرق وقتاً كبيراً للحصول على النتائج (</a:t>
            </a:r>
            <a:r>
              <a:rPr b="1" lang="ar-JO" sz="1200" spc="-1" strike="noStrike">
                <a:solidFill>
                  <a:srgbClr val="000000"/>
                </a:solidFill>
                <a:latin typeface="Arial"/>
                <a:ea typeface="Arial"/>
              </a:rPr>
              <a:t>5</a:t>
            </a:r>
            <a:r>
              <a:rPr b="1" lang="ar-JO" sz="1200" spc="-1" strike="noStrike">
                <a:solidFill>
                  <a:srgbClr val="000000"/>
                </a:solidFill>
                <a:latin typeface="Arial"/>
                <a:ea typeface="Arial"/>
              </a:rPr>
              <a:t> سنوات على الأق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كشف الأسباب الجذرية / البنيوية أو الهيكلية الظروف التي تتطلب تدخلات طويلة الأمد، وذلك لتغيير التوجهات والسلوكات المجتمعية على مستويات مختلفة، بما في ذلك المستويات الأسرية والمجتمعية المحلية والمستويات العليا لصنع القرا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سؤال أساسي في التحليل السببي: لماذ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حالما يتم تشخيص أيِّ تحدٍ للتنمية، فإن </a:t>
            </a:r>
            <a:r>
              <a:rPr b="1" i="1" lang="ar-JO" sz="1200" spc="-1" strike="noStrike">
                <a:solidFill>
                  <a:srgbClr val="000000"/>
                </a:solidFill>
                <a:latin typeface="Arial"/>
                <a:cs typeface="Arial"/>
              </a:rPr>
              <a:t>السؤال الأساسي</a:t>
            </a:r>
            <a:r>
              <a:rPr b="1" lang="ar-JO" sz="1200" spc="-1" strike="noStrike">
                <a:solidFill>
                  <a:srgbClr val="000000"/>
                </a:solidFill>
                <a:latin typeface="Arial"/>
                <a:ea typeface="Arial"/>
              </a:rPr>
              <a:t> في التحليل السببي هو: </a:t>
            </a:r>
            <a:r>
              <a:rPr b="1" i="1" lang="ar-JO" sz="1200" spc="-1" strike="noStrike">
                <a:solidFill>
                  <a:srgbClr val="000000"/>
                </a:solidFill>
                <a:latin typeface="Arial"/>
                <a:cs typeface="Arial"/>
              </a:rPr>
              <a:t>لماذا</a:t>
            </a:r>
            <a:r>
              <a:rPr b="1" lang="ar-JO" sz="1200" spc="-1" strike="noStrike">
                <a:solidFill>
                  <a:srgbClr val="000000"/>
                </a:solidFill>
                <a:latin typeface="Arial"/>
                <a:ea typeface="Arial"/>
              </a:rPr>
              <a:t> يحدث ذلك لقطاع معيِّن من السكان؟ فعلى سبيل المثال، لماذا تُحرم الفتيات في المناطق القروية من حقِّهنَّ في التعلي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قيمة المضافة التي يُحدثها النهج القائم على حقوق الإنسان في التحليل السبب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المهم أخذ السياق القطري (سياق الدولة) بعين الاعتبار، والحصول على معرفة عميقة عن أعرافه، ومؤسساته، وأطر عمله القانونية، وبيئته التمكي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عايير حقوق الإنسان تُعزّز وضع التحليل على مستويات ثلاث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ونها مرجعاً لتشخيص وحصر تحديات التنمية والفجوات بين الالتزامات الدولية والممارسات الفع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عتبار خصائص المعايير خارطة طريق (خطة رئيسة) لتحليل الأسباب الآنية والتحتية والجذرية للتحدي الذي يواجه التن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المستحقات والمطالبات الفعلية لأصحاب الحقوق، وحجم التزامات القائمين بالواجب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طبيق مبادئ حقوق الإنسان في التحليل السببي: يعتبر استخدام المبادئ طريقة فعَّالة لبناء التحليل والتبيان الواضح الأسباب.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عملية التحليلية تضمن مشاركة الجهات المعنية الوطنية (صاحبة المصالح)، بمن فيها الجهات الأكثر تهميشاً وإقصاءً. وتقدم المعلومات الضرورية للجهات المعنية حول عملية التقييم القطري المشترك ومحتوى التمرين، بما في ذلك المعلومات الصادرة عن آليات العمل الدولية المعنية بحقوق الإنسان، لكي تتمكَّن من اتخاذ قرارات مبنية على المعلومات. وإذا دعت الحاجة إلى ذلك، فإن العملية التحليلية تعمل على تقوية بعض القدرات لحفز المشاركة المفيدة ذات المعنى، بما في ذلك الحوافز الممكنة لأولئك الذين لا يملكون الموارد التي تمكّنهم من المشاركة. وتسعى العملية أيضاً إلى التوصل إلى توافق الجهات المعنية جميعها في الرأي حول تحديات التنمية والأسباب الجذرية التي يتم تشخيصها وحصرها. وتُطلع عملية التحليل الجهات المعنية كلها على الاستنتاجات التي تتوصل إلي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79360" y="696960"/>
            <a:ext cx="4651560" cy="3487680"/>
          </a:xfrm>
          <a:prstGeom prst="rect">
            <a:avLst/>
          </a:prstGeom>
          <a:ln w="0">
            <a:noFill/>
          </a:ln>
        </p:spPr>
      </p:sp>
      <p:sp>
        <p:nvSpPr>
          <p:cNvPr id="71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ظهر هذه الشريحة أن العوامل المشتركة بين الأسباب التحتية والجذرية تمثّل مشكلات جوهرية. وفي هذا المثال، يوحي التحليل السببي لڤيروس نقص المناعة البشري المكتسب / الإيدز بأن التمييز في النوع الاجتماعي قضية أساسية. كذلك فإن تحليلاً لظاهرة عدم التحاق الفتيات بالمدرسة يجد أن التمييز في النوع الاجتماعي يعتبر قضية في حد ذاتها. وهذا يوحي لمكتب الأمم المتحدة القطري بأن التمييز في النوع الاجتماعي قضية تؤثر في تحقيق أهداف متعددة من الأهداف الإنمائية للألفية والحقوق المرتبطة 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79360" y="696960"/>
            <a:ext cx="4651560" cy="3487680"/>
          </a:xfrm>
          <a:prstGeom prst="rect">
            <a:avLst/>
          </a:prstGeom>
          <a:ln w="0">
            <a:noFill/>
          </a:ln>
        </p:spPr>
      </p:sp>
      <p:sp>
        <p:nvSpPr>
          <p:cNvPr id="71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وجِّه هذه الشريحة المشاركين في عملية تشخيص وحصر المستويات العامة للتحليل السببي: الأسباب الآنية، والتحتية والجذرية. وتشير الأسباب الآنية إلى الوضع الراهن وإلى التأثيرات المباشرة. على سبيل المثال، قد تكون المعدلات المنخفضة لالتحاق الفتيات بالمدرسة ناتجة عن الرسوم المدرسية، والمسافة بين بيوتهم والمدرسة، والأعمال المنزلية، والزواج المبكر وغير ذلك.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تشير الأسباب التحتية إلى الخدمات وفرص الوصول والممارسات، كأن تكون سياسات التعليم، على سبيل المثال، متحيزةً للطلاب الأكثر غنى، وأن تمارس السلوكات التمييزية تجاه الفتيات والفقراء، وأن يولى اهتمام قليل بتحفيز الأطفال في سنوات الطفولة المبكرة، وأن لا يُعتبر التعليم قيِّم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قد تشتمل الأسباب الجذرية على قيم النوع الاجتماعي، والتمييز القائم على الإثنية، والتنظيم الضعيف للخدمة المدنية، والتحصيصات غير الكافية في الموازنة وغير ذلك.</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79360" y="696960"/>
            <a:ext cx="4651560" cy="3487680"/>
          </a:xfrm>
          <a:prstGeom prst="rect">
            <a:avLst/>
          </a:prstGeom>
          <a:ln w="0">
            <a:noFill/>
          </a:ln>
        </p:spPr>
      </p:sp>
      <p:sp>
        <p:nvSpPr>
          <p:cNvPr id="71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عليمات جماعية: ستحتاج المجموعات إلى بطاقات، وأقلام تخطيط، وشريط لاصق، ومساحة على الجدار، وسبورة بيضاء أو لوحة أوراق قلاب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ستختار كل مجموعة هدفاً واحداً من الأهداف الإنمائية للألفية لتعمل عليه، ولتحدد الوضع الراهن لأحد المؤشرات ذات الصلة بذلك الهدف (مثل تسرّب الفتيات من المدارس) إذا كان ذلك ممك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بني / ترسم كل مجموعة شجرة مشكلات، وبالنسبة إلى أولئك الذين لم يسبق لهم الاطلاع على التمرين، سيكون من الأسهل كثيراً عليهم القيام بعصف ذهني أولي ومن ثم تدوين النتائج على بطاقات. مثال: إذا كان السؤال "لماذا تترك الفتيات المدرسة؟"، فيمكن لأعضاء المجموعة تدوين أي سبب محتمل بصرف النظر عن كونه سبباً آنياً أو تحتياً أو أساسياً. وحالما يتم تشخيص وحصر عدد معقول من الأسباب، يمكن بناء هذه الأسباب وتنظيمها في السلسلة المنطق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بديل عن ذلك هو محاولة بناء السلسلة من الأعلى إلى الأسفل، لكن ذلك سيكون أقل تشاركية وإبداع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عني اختيار سلسلة واحدة وجود علاقة سببية رأسية واحدة بين مختلف العلاقات الرأسية الممكن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79360" y="696960"/>
            <a:ext cx="4651560" cy="3487680"/>
          </a:xfrm>
          <a:prstGeom prst="rect">
            <a:avLst/>
          </a:prstGeom>
          <a:ln w="0">
            <a:noFill/>
          </a:ln>
        </p:spPr>
      </p:sp>
      <p:sp>
        <p:nvSpPr>
          <p:cNvPr id="719" name="PlaceHolder 2"/>
          <p:cNvSpPr>
            <a:spLocks noGrp="1"/>
          </p:cNvSpPr>
          <p:nvPr>
            <p:ph type="body"/>
          </p:nvPr>
        </p:nvSpPr>
        <p:spPr>
          <a:xfrm>
            <a:off x="246240" y="4311720"/>
            <a:ext cx="65181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نموذج الأدوار</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ن هم الذين تتأثر حقوقهم؟ من هو المسؤول عن عدم احترام الحقوق أو حمايتها أو إحقاقها؟ من هم أصحاب الحقوق وهل يمتلكون القدرة على المطالبة بحقوقهم بما في ذلك القدرة على الوصول إلى المعلومات، والتنظيم والمشاركة، ومناصرة المطالبات وتغيير السياسات إضافة إلى الحصول على الإنصاف/التعويض؟ ما هي مستحقات أصحاب الحقوق على وجه التحديد؟ ما هي آليات العمل الموجودة والمعنية بإيصال الخدمات والمساءلة وتصويب الأوضاع والإنصاف؟ وما هي آليات العمل الواجب إنشاؤها؟ من هم القائمون بالواجبات وما هي الواجبات التي يُفترض فيهم تلبيتها؟ من هي الجهات الفاعلة المحدَّدة أو المؤسسات المسؤولة عن الأداء، وهل تملك القدرة على الوفاء بتلك الالتزامات (بما في ذلك تحمل المسؤولية، وامتلاك السلطة، والبيانات، والموارد)؟ هل يُعتبر هؤلاء القائمون بالواجبات أصحاب حقوق أيضاً؟ وبعبارة أخرى، هل يعتمدون على جهات أخرى تؤدي واجباتها لتكون قادرة، بدورها، على الوفاء بما يستحق عليها من واجبات؟ هل تمتلك الجهات الأخرى القدرة على أداء واجباتها؟ ما هي العلاقة بين أصحاب الحقوق والقائمين بالواجبات فيما يتعلق بقضية التنمية التي تتم دراستها، وعلى أي مستوى تعتبر التدخلات في بناء القدرات أكثر فعّالية (على مستوى المجتمع المحلي، أم على المستوى الإقليمي، أم المستوى الوطني)؟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بينة الاتصال (الإطارات المرجعية </a:t>
            </a:r>
            <a:r>
              <a:rPr b="1" lang="en-US" sz="1200" spc="-1" strike="noStrike">
                <a:solidFill>
                  <a:srgbClr val="000000"/>
                </a:solidFill>
                <a:latin typeface="Arial"/>
                <a:ea typeface="굴림"/>
              </a:rPr>
              <a:t>call box</a:t>
            </a:r>
            <a:r>
              <a:rPr b="1" lang="ar-JO" sz="1200" spc="-1" strike="noStrike">
                <a:solidFill>
                  <a:srgbClr val="000000"/>
                </a:solidFill>
                <a:latin typeface="Arial"/>
                <a:ea typeface="Arial"/>
              </a:rPr>
              <a:t>): يجب ألاّ يكون تحديدُ الأدوار مجرَّد تمرينٍ عشوائي، بل يجب أن يكون موجّهاً بالمطالبات والواجبات التي يتم تحديدها في معايير حقوق الإنسان الدولية، وكذلك بالأدوار المحددة والمعايير المعرَّفة في القوانين والإجراءات والسياسات الوط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79360" y="696960"/>
            <a:ext cx="4651560" cy="3487680"/>
          </a:xfrm>
          <a:prstGeom prst="rect">
            <a:avLst/>
          </a:prstGeom>
          <a:ln w="0">
            <a:noFill/>
          </a:ln>
        </p:spPr>
      </p:sp>
      <p:sp>
        <p:nvSpPr>
          <p:cNvPr id="721" name="PlaceHolder 2"/>
          <p:cNvSpPr>
            <a:spLocks noGrp="1"/>
          </p:cNvSpPr>
          <p:nvPr>
            <p:ph type="body"/>
          </p:nvPr>
        </p:nvSpPr>
        <p:spPr>
          <a:xfrm>
            <a:off x="246240" y="4311720"/>
            <a:ext cx="6518160" cy="498456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فجوات في القدر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القدرات التي يفتقر إليها أصحاب الحقوق للمطالبة بحقوقهم؟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ا هي القدرات التي تفتقر إليها تلك المؤسسات أو الأفراد لتنفيذ واجباتهم بوصفهم قائمين بالواجبات؟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قدرات المتأثر بأطر العمل القانونية والسياساتية والمؤسسية:</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المكونات التالية جزءاً لا يتجزأ من تنمية القدرات بمقتضى النهج القائم على حقوق الإنسان:  الفجوة في </a:t>
            </a:r>
            <a:r>
              <a:rPr b="1" i="1" lang="ar-JO" sz="1200" spc="-1" strike="noStrike">
                <a:solidFill>
                  <a:srgbClr val="000000"/>
                </a:solidFill>
                <a:latin typeface="Arial"/>
                <a:cs typeface="Arial"/>
              </a:rPr>
              <a:t>المسؤولية / الدافعية / الالتزام / القيادة:</a:t>
            </a:r>
            <a:r>
              <a:rPr b="1" lang="ar-JO" sz="1200" spc="-1" strike="noStrike">
                <a:solidFill>
                  <a:srgbClr val="000000"/>
                </a:solidFill>
                <a:latin typeface="Arial"/>
                <a:ea typeface="Arial"/>
              </a:rPr>
              <a:t> تشير هذه الفجوة إلى الصفات </a:t>
            </a:r>
            <a:r>
              <a:rPr b="1" i="1" lang="ar-JO" sz="1200" spc="-1" strike="noStrike">
                <a:solidFill>
                  <a:srgbClr val="000000"/>
                </a:solidFill>
                <a:latin typeface="Arial"/>
                <a:cs typeface="Arial"/>
              </a:rPr>
              <a:t>الواجب</a:t>
            </a:r>
            <a:r>
              <a:rPr b="1" lang="ar-JO" sz="1200" spc="-1" strike="noStrike">
                <a:solidFill>
                  <a:srgbClr val="000000"/>
                </a:solidFill>
                <a:latin typeface="Arial"/>
                <a:ea typeface="Arial"/>
              </a:rPr>
              <a:t> على القائمين بالواجبات إدراكها فيما يتعلق بأدوارهم لكي ينفّذو التزاماتهم. وتساعد استراتيجيات المعلومات والتعليم والتواصل على تعزيز حسٍّ من المسؤولية لإحقاق حقوق الإنسان. ولضمان توفير تعدّدية وسائل إعلام وحريتها، يُعتبر المجتمع المدني النابض بالحياة، وآليات العمل الفعّالة للمراقبة، وفرص الوصول إلى علاجات والحلول الخاصة بالانتهاكات (على المستوى القضائي والإداري والسياسي) ... تعتبر جميعها عوامل حيوية مهمة على حد سواء.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فجوة في السلطة</a:t>
            </a:r>
            <a:r>
              <a:rPr b="1" lang="ar-JO" sz="1200" spc="-1" strike="noStrike">
                <a:solidFill>
                  <a:srgbClr val="000000"/>
                </a:solidFill>
                <a:latin typeface="Arial"/>
                <a:ea typeface="Arial"/>
              </a:rPr>
              <a:t> تشير إلى شرعية أي عمل، عندما يشعر الأفراد أو الجماعات أو يعرفون بأنهم </a:t>
            </a:r>
            <a:r>
              <a:rPr b="1" lang="ar-JO" sz="1200" spc="-1" strike="noStrike" u="sng">
                <a:solidFill>
                  <a:srgbClr val="000000"/>
                </a:solidFill>
                <a:uFillTx/>
                <a:latin typeface="Arial"/>
                <a:cs typeface="Arial"/>
              </a:rPr>
              <a:t>يستطيعون</a:t>
            </a:r>
            <a:r>
              <a:rPr b="1" lang="ar-JO" sz="1200" spc="-1" strike="noStrike">
                <a:solidFill>
                  <a:srgbClr val="000000"/>
                </a:solidFill>
                <a:latin typeface="Arial"/>
                <a:ea typeface="Arial"/>
              </a:rPr>
              <a:t> تنفيذ العمل. وتُحدِّد القوانين، والأعراف والقواعد الرسمية وغير الرسمية، والتقاليد والثقافة، بشكل كبير، والأمور المسموح بها وغير المسموح بها. ووفقاً لذلك، يجب أن تكون السياسات والقوانين الوطنية منسجمة مع الالتزامات الواردة في معاهدات حقوق الإنسان الدولية، وأن تُحدد الواجبات المعني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فجوة في إمكانية الوصول إلى الموارد والسيطرة عليها: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غالباً ما تكون المعرفة بوجوب فعل شيء ما أو بجواز فعله أمراً غير كافٍ. وعلاوة على ذلك، نادراً ما يكون الناس الأشد فقراً قادرين على المطالبة بحقوقهم كأفراد، ولكنهم يحتاجون إلى أن يكونوا قادرين على التنظيم. وبناء على ذلك يجب على مفهوم "القدرات" أن يشتمل على بناء القدرات وبناء الموارد البشرية أيضاً (المهارات، والمعرفة، والوقت، والالتزام وغيرها)، والموارد الاقتصادية والموارد التنظيمية التي تؤثر في قدرة صاحب الحق أو القائم بالواجب على اتخاذ الإجراء أو القيام بالعمل المناسب.</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79360" y="696960"/>
            <a:ext cx="4651560" cy="3487680"/>
          </a:xfrm>
          <a:prstGeom prst="rect">
            <a:avLst/>
          </a:prstGeom>
          <a:ln w="0">
            <a:noFill/>
          </a:ln>
        </p:spPr>
      </p:sp>
      <p:sp>
        <p:nvSpPr>
          <p:cNvPr id="723" name="PlaceHolder 2"/>
          <p:cNvSpPr>
            <a:spLocks noGrp="1"/>
          </p:cNvSpPr>
          <p:nvPr>
            <p:ph type="body"/>
          </p:nvPr>
        </p:nvSpPr>
        <p:spPr>
          <a:xfrm>
            <a:off x="474480" y="4311360"/>
            <a:ext cx="5986440" cy="4786200"/>
          </a:xfrm>
          <a:prstGeom prst="rect">
            <a:avLst/>
          </a:prstGeom>
          <a:noFill/>
          <a:ln w="0">
            <a:noFill/>
          </a:ln>
        </p:spPr>
        <p:txBody>
          <a:bodyPr lIns="92160" rIns="92160" tIns="46080" bIns="46080" anchor="t">
            <a:noAutofit/>
          </a:bodyPr>
          <a:p>
            <a:pPr indent="0" algn="r" rtl="1">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د تشتمل بعض المعايير القائمة على الحقوق لاختيار مجالات التدخل على وجود: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جوات أساسية بين معايير حقوق الإنسان وممارستها.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ضايا تبعث على القلق تطرحها هيئات المعاهدة أو الإجراءات الخاص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أولويات وطنية متناظمة ومتوافقة مع معايير حقوق الإنسان والأهداف الإنمائية للألف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ستمرار دؤوب في ارتكاب انتهاكات حقوق الإنسان وشدة تلك الانتهاكات ومجالها (مثال: العنف المنزلي، وسَجن الأحداث مع الكبار الراشدين، والاتِّجار بالبشر، وإقصاء النساء من عملية صنع القرار السياسي).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قضايا تبعث على القلق تطرحها الهيئات الوطنية لحقوق الإنسان أو أمناء المظالم.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تجاهات سلبية تؤدي إلى انتهاكات حقوق الإنسان، مثل الأنماط المستمرة والمتنامية للإقصاء الاجتماعي والتمييز بحق إحدى الأقليات.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فاوتات تشير إلى المعاملة غير المتساوية والتمييز، والإقصاء المستمر من الفرص والمشارك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للمناصرة والتعاون البرامجي والسياساتي من قبل شركاء التنم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للآثار المتعددة التي تقع على تحديات التنمية وحقوق الإنسا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رص العمل مع شركاء ومناصري حقوق الإنسان الوطنيين في الدولة والمجتمع المدني.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ضرورة تشخيص وحصر التدخلات الاستراتيجية اللازمة لسد الفجوات بين أصحاب الحقوق والقائمين بالواجبات: تُظهر التجربة والخبرة أن جميع أنواع الأعمال القائمة على الحقوق والتي يتم تشخيصها عادة، تقع ضمن أنواع التدخلات العامة التالية (مطوَّرة من نموذج أعده "إيربان جونسو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إيصال المباشر للخدمات: المناصرة والحشد الاجتماعي، المعلومات ورفع وتيرة الوعي، والتدريب والتعليم، والمراقبة والملاحظة، والمشورة المعنية بالسياسات والأمور السي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لاختيار التدخلات، من المهم الأخذ بعين الاعتبار أيّ استراتيجيات الأمم المتحدة هي الأكثر فعّالية لتحقيق النتائج وعلى أي مستوى. ومن الناحية التقليدية، كانت بعض وكالات الأمم المتحدة أكثر فعّالية على المستوى الآني، وبذلك فهي تتعامل مع أعراض المشكلة بدلاً عن الأسباب التحتية أو الجذرية لها. وبينما قد تركز بعض وكالات الأمم المتحدة على تقوية القدرات على المستوى المجتمعي، تركز وكالات أخرى عملها نموذجياً على المستوى الوطني والسياساتي لمواكبة ما تنص عليه تفويضاته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بالإضافة إلى هذه التدخلات، يضمن النهج القائم على حقوق الإنسان تطبيق نهجٍ شمولي على نطاق منظومة الأمم المتحدة للتحديات التي تواجه التنمية، حيث يتم بمقتضاه دراسة تدخلات أخرى أطول أمداً، مثل رفع وتيرة الوعي والمشورة السياساتية. وفي نهاية المطاف، توحي مركزية العلاقة بين أصحاب الحقوق والقائمين بالواجبات في النهج القائم على حقوق الإنسان بوجود دور سياسي ناشئ للأمم المتحدة يعمل كجسر بين المطالبات والواجب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ختيار الشركاء</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نهج القائم على حقوق الإنسان الذي يركّز على بناء قدرات أصحاب الحقوق، الذين قد يكون من الصعب الوصول إليهم، مثل النساء القرويات، يُعَدُّ اختيار الشركاء لتحقيق النتائج من الاعتبارات المهمة. وأثناء وضع الأهداف والاستراتيجيات، يجب الأخذ في الحسبان أن النهج القائم على حقوق الإنسان يدعو إلى اعتماد نظرة شمولية، والسعي إلى الشراكات التي تدعم التغيير الذي قد يتم تحقيقه على المدى البعيد فقط.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كذلك فإن مستوى المشكلات (الآني، والتحتي، الجذري/البنيوي) واختيار التدخلات الاستراتيجية (في مجال السياسات، والوعي، والإيصال المباشر وغيرها) سيُحددان أيضاً نوع وطبيعة الشراكة الواجب بناؤها. فعلى سبيل المثال، سيكون من المهم في أية استراتيجية للحماية، العمل مع المنظمات غير الحكومية المحلية والمؤسسات الوطنية لحقوق الإنسان، التي تعمل على متابعة حقوق الإنسان في هذا المجال، وتقوية قدرات تلك المنظمات والمؤسسات. وإذا كانت الاستراتيجية تركز على تقديم المشورة المعنية بالسياسات، فسيكون من المهم إشراك المؤسسات الأكاديمية التي لديها إلمام واطلاع على تحليل الموازنات والقضايا الاقتصادية الك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ختاماً، فإن عدد وطبيعة الشركاء قد توسّعا بشكل مهول في البرمجة القائمة على الحقوق، وذلك ليشملا أصحاب الحقوق الذين تُعتبر فرص الوصول إليهم أقل من فرص غيرهم، إضافة إلى شمول مجموعة أوسع من القائمين بالواجبات الذين لديهم التزامات تقتضي منهم احترام تلك المطالبات وحمايتها والوفاء بها.</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79360" y="696960"/>
            <a:ext cx="4651560" cy="3487680"/>
          </a:xfrm>
          <a:prstGeom prst="rect">
            <a:avLst/>
          </a:prstGeom>
          <a:ln w="0">
            <a:noFill/>
          </a:ln>
        </p:spPr>
      </p:sp>
      <p:sp>
        <p:nvSpPr>
          <p:cNvPr id="72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الأهداف: استخدام النهج القائم على حقوق الإنسان في التخطيط للبرامج القائمة على النتائج</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مكن تحقيق النتائج على مستوى البرامج القطرية ومكونات البرامج والنشاطات، وصياغة سلسلة النتائج. وسيتنوّع ويتفاوت مجال النتائج المتوقعة وفقاً لوضع الدولة وحجم البرنامج. ويضمن التخطيط للبرامج القائمة على النتائج ألاّ يكون مجموع التدخلات ضرورياً فقط، بل </a:t>
            </a:r>
            <a:r>
              <a:rPr b="0" lang="ar-JO" sz="1200" spc="-1" strike="noStrike" u="sng">
                <a:solidFill>
                  <a:srgbClr val="000000"/>
                </a:solidFill>
                <a:uFillTx/>
                <a:latin typeface="Arial"/>
                <a:cs typeface="Arial"/>
              </a:rPr>
              <a:t>وكافياً</a:t>
            </a:r>
            <a:r>
              <a:rPr b="0" lang="ar-JO" sz="1200" spc="-1" strike="noStrike">
                <a:solidFill>
                  <a:srgbClr val="000000"/>
                </a:solidFill>
                <a:latin typeface="Arial"/>
                <a:ea typeface="Arial"/>
              </a:rPr>
              <a:t> لإحراز النتائج المتوقعة. فالنهج القائم على حقوق الإنسان يتوافق مع عناصر الإدارة القائمة على النتائج، ليقدما إطار عمل منطقي لوضع الأهداف والتخطيط، وذلك بهدف النتائج.</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1160" y="696960"/>
            <a:ext cx="4648320" cy="3486240"/>
          </a:xfrm>
          <a:prstGeom prst="rect">
            <a:avLst/>
          </a:prstGeom>
          <a:ln w="0">
            <a:noFill/>
          </a:ln>
        </p:spPr>
      </p:sp>
      <p:sp>
        <p:nvSpPr>
          <p:cNvPr id="58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تقاسم حقوقُ الإنسان والتنمية البشرية رؤيةً مشتركةً وهدفاً مشتركاً – ألا وهو تأمين الحرية للناس إلى جانب تأمين رفاههم وكرامتهم في كل مك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ندما تتقدم التنمية البشرية وحقوق الإنسان معاً، يُعزِّز كلٌ منهما الآخر، مما يعمل على زيادة قدرات الناس وحماية حقوقهم وحرياتهم ال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معلومات المذكورة آنفاً هي، في جوهرها، تمثِّل المقصود من نهج التنمية القائم على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79360" y="696960"/>
            <a:ext cx="4651560" cy="3487680"/>
          </a:xfrm>
          <a:prstGeom prst="rect">
            <a:avLst/>
          </a:prstGeom>
          <a:ln w="0">
            <a:noFill/>
          </a:ln>
        </p:spPr>
      </p:sp>
      <p:sp>
        <p:nvSpPr>
          <p:cNvPr id="72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صفوفة نتائج إطار عمل الأمم المتحدة للمساعدات الإنمائ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بناء على الفكرة القائلة بأن نتائج البرنامج القُطري تُسهم في تحقيق نتائج إطار عمل الأمم المتحدة للمساعدات الإنمائية، فإن تغيير النتائج في مصفوفة إطار عمل الأمم المتحدة للمساعدات الإنمائية سيكون كالتا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بيِّن </a:t>
            </a:r>
            <a:r>
              <a:rPr b="1" lang="ar-JO" sz="1200" spc="-1" strike="noStrike">
                <a:solidFill>
                  <a:srgbClr val="000000"/>
                </a:solidFill>
                <a:latin typeface="Arial"/>
                <a:cs typeface="Arial"/>
              </a:rPr>
              <a:t>الأولويات</a:t>
            </a:r>
            <a:r>
              <a:rPr b="0" lang="ar-JO" sz="1200" spc="-1" strike="noStrike">
                <a:solidFill>
                  <a:srgbClr val="000000"/>
                </a:solidFill>
                <a:latin typeface="Arial"/>
                <a:ea typeface="Arial"/>
              </a:rPr>
              <a:t> </a:t>
            </a:r>
            <a:r>
              <a:rPr b="1" lang="ar-JO" sz="1200" spc="-1" strike="noStrike">
                <a:solidFill>
                  <a:srgbClr val="000000"/>
                </a:solidFill>
                <a:latin typeface="Arial"/>
                <a:cs typeface="Arial"/>
              </a:rPr>
              <a:t>الوطنية</a:t>
            </a:r>
            <a:r>
              <a:rPr b="0" lang="ar-JO" sz="1200" spc="-1" strike="noStrike">
                <a:solidFill>
                  <a:srgbClr val="000000"/>
                </a:solidFill>
                <a:latin typeface="Arial"/>
                <a:ea typeface="Arial"/>
              </a:rPr>
              <a:t> تغييراً إيجابياً ومستداماً في البشر (إحقاق حقوق الإنسان) وفق الأهداف الإنمائية للألفية ومعايير حقوق الإنس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بيِّن </a:t>
            </a:r>
            <a:r>
              <a:rPr b="1" lang="ar-JO" sz="1200" spc="-1" strike="noStrike">
                <a:solidFill>
                  <a:srgbClr val="000000"/>
                </a:solidFill>
                <a:latin typeface="Arial"/>
                <a:cs typeface="Arial"/>
              </a:rPr>
              <a:t>نتائج إطار عمل الأمم المتحدة للمساعدات الإنمائية</a:t>
            </a:r>
            <a:r>
              <a:rPr b="0" lang="ar-JO" sz="1200" spc="-1" strike="noStrike">
                <a:solidFill>
                  <a:srgbClr val="000000"/>
                </a:solidFill>
                <a:latin typeface="Arial"/>
                <a:ea typeface="Arial"/>
              </a:rPr>
              <a:t> التغيير السياساتي أو المؤسسي الذي يؤدي إلى التغييرات السلوكية المتوقعة لأصحاب الحقوق والقائمين بالواجبات لكي يُؤدوا أدوارهم كل فيما يخصه.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ظهر </a:t>
            </a:r>
            <a:r>
              <a:rPr b="1" lang="ar-JO" sz="1200" spc="-1" strike="noStrike">
                <a:solidFill>
                  <a:srgbClr val="000000"/>
                </a:solidFill>
                <a:latin typeface="Arial"/>
                <a:cs typeface="Arial"/>
              </a:rPr>
              <a:t>نتائج البرنامج القطري</a:t>
            </a:r>
            <a:r>
              <a:rPr b="0" lang="ar-JO" sz="1200" spc="-1" strike="noStrike">
                <a:solidFill>
                  <a:srgbClr val="000000"/>
                </a:solidFill>
                <a:latin typeface="Arial"/>
                <a:ea typeface="Arial"/>
              </a:rPr>
              <a:t> سدّ الفجوات القانونية والمؤسساتية والسياساتية والفجوات في القدرات، التي تمنع أصحاب الحقوق والقائمين بالواجبات من أداء أدواره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جب أن تُظهر </a:t>
            </a:r>
            <a:r>
              <a:rPr b="1" lang="ar-JO" sz="1200" spc="-1" strike="noStrike">
                <a:solidFill>
                  <a:srgbClr val="000000"/>
                </a:solidFill>
                <a:latin typeface="Arial"/>
                <a:cs typeface="Arial"/>
              </a:rPr>
              <a:t>مخرجات البرنامج القطري</a:t>
            </a:r>
            <a:r>
              <a:rPr b="0" lang="ar-JO" sz="1200" spc="-1" strike="noStrike">
                <a:solidFill>
                  <a:srgbClr val="000000"/>
                </a:solidFill>
                <a:latin typeface="Arial"/>
                <a:ea typeface="Arial"/>
              </a:rPr>
              <a:t> المنتجات والخدمات والمهمات المنجزة التي قدمها البرنامج إلى أصحاب الحقوق والقائمين بالواجبات.</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79360" y="696960"/>
            <a:ext cx="4651560" cy="3487680"/>
          </a:xfrm>
          <a:prstGeom prst="rect">
            <a:avLst/>
          </a:prstGeom>
          <a:ln w="0">
            <a:noFill/>
          </a:ln>
        </p:spPr>
      </p:sp>
      <p:sp>
        <p:nvSpPr>
          <p:cNvPr id="729" name="PlaceHolder 2"/>
          <p:cNvSpPr>
            <a:spLocks noGrp="1"/>
          </p:cNvSpPr>
          <p:nvPr>
            <p:ph type="body"/>
          </p:nvPr>
        </p:nvSpPr>
        <p:spPr>
          <a:xfrm>
            <a:off x="700200" y="4416480"/>
            <a:ext cx="5610240" cy="4681440"/>
          </a:xfrm>
          <a:prstGeom prst="rect">
            <a:avLst/>
          </a:prstGeom>
          <a:noFill/>
          <a:ln w="0">
            <a:noFill/>
          </a:ln>
        </p:spPr>
        <p:txBody>
          <a:bodyPr lIns="92160" rIns="92160" tIns="46080" bIns="46080" anchor="t">
            <a:noAutofit/>
          </a:bodyPr>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ما الذي يفترض قياسه؟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لا يُعطي النهج القائم على حقوق الإنسان الأهمية </a:t>
            </a:r>
            <a:r>
              <a:rPr b="0" lang="ar-JO" sz="1200" spc="-1" strike="noStrike" u="sng">
                <a:solidFill>
                  <a:srgbClr val="000000"/>
                </a:solidFill>
                <a:uFillTx/>
                <a:latin typeface="Arial"/>
                <a:cs typeface="Arial"/>
              </a:rPr>
              <a:t>لنتائج</a:t>
            </a:r>
            <a:r>
              <a:rPr b="0" lang="ar-JO" sz="1200" spc="-1" strike="noStrike">
                <a:solidFill>
                  <a:srgbClr val="000000"/>
                </a:solidFill>
                <a:latin typeface="Arial"/>
                <a:ea typeface="Arial"/>
              </a:rPr>
              <a:t> البرنامج المقصودة فحسب، بل يعطيها إلى </a:t>
            </a:r>
            <a:r>
              <a:rPr b="0" lang="ar-JO" sz="1200" spc="-1" strike="noStrike" u="sng">
                <a:solidFill>
                  <a:srgbClr val="000000"/>
                </a:solidFill>
                <a:uFillTx/>
                <a:latin typeface="Arial"/>
                <a:cs typeface="Arial"/>
              </a:rPr>
              <a:t>العملية</a:t>
            </a:r>
            <a:r>
              <a:rPr b="0" lang="ar-JO" sz="1200" spc="-1" strike="noStrike">
                <a:solidFill>
                  <a:srgbClr val="000000"/>
                </a:solidFill>
                <a:latin typeface="Arial"/>
                <a:ea typeface="Arial"/>
              </a:rPr>
              <a:t> التي يُنفَّذ بوساطتها البرنامج أيضاً. وبناء على ذلك، فإن النهج القائم على حقوق الإنسان والإدارة القائمة على النتائج يدعوان إلى متابعة </a:t>
            </a:r>
            <a:r>
              <a:rPr b="1" lang="ar-JO" sz="1200" spc="-1" strike="noStrike">
                <a:solidFill>
                  <a:srgbClr val="000000"/>
                </a:solidFill>
                <a:latin typeface="Arial"/>
                <a:cs typeface="Arial"/>
              </a:rPr>
              <a:t>الأثر والنتائج والمخرجات وعملية التنفيذ.</a:t>
            </a:r>
            <a:r>
              <a:rPr b="0" lang="ar-JO" sz="1200" spc="-1" strike="noStrike">
                <a:solidFill>
                  <a:srgbClr val="000000"/>
                </a:solidFill>
                <a:latin typeface="Arial"/>
                <a:ea typeface="Arial"/>
              </a:rPr>
              <a:t> وحتى إن كانت مستويات الأثر والنتائج جزءاً من استراتيجية طويلة الأمد، فإن الوضع المتعلق بهذه المستويات يجب أن يتم متابعته للتأكد من أنَّ المخرجات المتوقعة ما تزال ملائمة للغرض الذي صممت من أجله. وبناء عليه، فإن </a:t>
            </a:r>
            <a:r>
              <a:rPr b="1" lang="ar-JO" sz="1200" spc="-1" strike="noStrike">
                <a:solidFill>
                  <a:srgbClr val="000000"/>
                </a:solidFill>
                <a:latin typeface="Arial"/>
                <a:cs typeface="Arial"/>
              </a:rPr>
              <a:t>مراقبة الوضع </a:t>
            </a:r>
            <a:r>
              <a:rPr b="0" lang="ar-JO" sz="1200" spc="-1" strike="noStrike">
                <a:solidFill>
                  <a:srgbClr val="000000"/>
                </a:solidFill>
                <a:latin typeface="Arial"/>
                <a:cs typeface="Arial"/>
              </a:rPr>
              <a:t>في النهج القائم على حقوق الإنسان تتساوى في الأهمية مع مراقبة أداء البرنامج.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كيف نقيس؟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معايير القياس: </a:t>
            </a:r>
            <a:r>
              <a:rPr b="0" lang="ar-JO" sz="1200" spc="-1" strike="noStrike">
                <a:solidFill>
                  <a:srgbClr val="000000"/>
                </a:solidFill>
                <a:latin typeface="Arial"/>
                <a:cs typeface="Arial"/>
              </a:rPr>
              <a:t>إن الخطوة الأولى فيما يتعلق بإنشاء نظام للمتابعة والتقييم هي تحديد معايير قياس أو العوامل القابلة للقياس في كل مجال من المجالات الأربعة أعلاه (الأثر، والنتائج، والمخرجات، والعملية) التي سيتم قياسها. وعندما يتم تحديد النتيجة المتوقعة في كل مجال (النتيجة، والعملية وغير ذلك) بتعابير ملموسة (وهذه ليست الحالة الموجودة دائماً)، ستكون معايير قياس تلك النتيجة قليلة وبسيطة. </a:t>
            </a:r>
            <a:endParaRPr b="0" lang="en-US" sz="1200" spc="-1" strike="noStrike">
              <a:solidFill>
                <a:srgbClr val="000000"/>
              </a:solidFill>
              <a:latin typeface="Arial"/>
            </a:endParaRPr>
          </a:p>
          <a:p>
            <a:pPr marL="22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ثال: إذا كان الهدف هو </a:t>
            </a:r>
            <a:r>
              <a:rPr b="0" i="1" lang="ar-JO" sz="1200" spc="-1" strike="noStrike">
                <a:solidFill>
                  <a:srgbClr val="000000"/>
                </a:solidFill>
                <a:latin typeface="Arial"/>
                <a:cs typeface="Arial"/>
              </a:rPr>
              <a:t>خفض التفاوتات بين النوع الاجتماعي من حيث الالتحاق بالمدرسة والتسرُّب منها، ومن حيث زيادة عدد الأطفال الذين يحصلون على تعليم أساسي،</a:t>
            </a:r>
            <a:r>
              <a:rPr b="0" lang="ar-JO" sz="1200" spc="-1" strike="noStrike">
                <a:solidFill>
                  <a:srgbClr val="000000"/>
                </a:solidFill>
                <a:latin typeface="Arial"/>
                <a:ea typeface="Arial"/>
              </a:rPr>
              <a:t> فإن معايير القياس الثلاثة الآنية القائمة على حقوق الإنسان فيما يتعلق بالتعليم ه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التفاوتات بين النوع الاجتماعي في الالتحاق بالمدرسة.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تمام التعليم الأساسي. </a:t>
            </a:r>
            <a:endParaRPr b="0" lang="en-US" sz="1200" spc="-1" strike="noStrike">
              <a:solidFill>
                <a:srgbClr val="000000"/>
              </a:solidFill>
              <a:latin typeface="Arial"/>
            </a:endParaRPr>
          </a:p>
          <a:p>
            <a:pPr lvl="1" marL="685800" indent="-2286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جودة التعليم.</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79360" y="696960"/>
            <a:ext cx="4651560" cy="3487680"/>
          </a:xfrm>
          <a:prstGeom prst="rect">
            <a:avLst/>
          </a:prstGeom>
          <a:ln w="0">
            <a:noFill/>
          </a:ln>
        </p:spPr>
      </p:sp>
      <p:sp>
        <p:nvSpPr>
          <p:cNvPr id="73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rPr>
              <a:t>وضع النظام موضع التنفيذ</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أحضر أدوات معينة فريدة لإطار العمل هذا: مراقبة الجهد المبذول، والجهد الموجّه صوب التزامات القائمين بالواجبات وأصحاب الحقوق. كيف تتم عملية إدماج هذه الجهود في النتائج؟ وضع المؤشرات المحددة والمعلومات في نموذج محد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يجب أن توجِّه معايير ومبادئ حقوق الإنسان عملية اختيار المؤشرات. ويجب وضع مؤشرات كمية ونوعية لمتابعة ومراقبة عملية إحقاق حقوق الإنسان من خلال برامج التنمية. ويجب أن يتم اختيار المؤشرات ومتابعتها من خلال عملية تشاركيةٍ، تسمح للجهات المعنية بتقييم الت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مثال: يجب أن يضمن أي مشروع للمياه والصرف الصحي القيام بمتابعة ومراقبة مختلف عناصر الحق في المياه، بما في ذلك توافر المياه وجودتها، وإمكانية الوصول المادي إليها، والقدرة على تحمل تكلفتها، وتوافر فرص الوصول إلى المعلومات، وعدم التمييز. [</a:t>
            </a:r>
            <a:r>
              <a:rPr b="0" lang="ar-JO" sz="1200" spc="-1" strike="noStrike">
                <a:solidFill>
                  <a:srgbClr val="000000"/>
                </a:solidFill>
                <a:latin typeface="Arial"/>
              </a:rPr>
              <a:t>1</a:t>
            </a:r>
            <a:r>
              <a:rPr b="0" lang="ar-JO" sz="1200" spc="-1" strike="noStrike">
                <a:solidFill>
                  <a:srgbClr val="000000"/>
                </a:solidFill>
                <a:latin typeface="Arial"/>
              </a:rPr>
              <a:t>] إن المؤشرات الاجتماعية الاقتصادية الموضحة في الأهداف الإنمائية للألفية يمكنها المساعدة في عملية التحقيق التدريجي للعديد من الحقوق الاقتصادية والاجتماع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rPr>
              <a:t>[</a:t>
            </a:r>
            <a:r>
              <a:rPr b="0" lang="ar-JO" sz="1200" spc="-1" strike="noStrike">
                <a:solidFill>
                  <a:srgbClr val="000000"/>
                </a:solidFill>
                <a:latin typeface="Arial"/>
              </a:rPr>
              <a:t>1</a:t>
            </a:r>
            <a:r>
              <a:rPr b="0" lang="ar-JO" sz="1200" spc="-1" strike="noStrike">
                <a:solidFill>
                  <a:srgbClr val="000000"/>
                </a:solidFill>
                <a:latin typeface="Arial"/>
              </a:rPr>
              <a:t>] انظر التعليق العام رقم </a:t>
            </a:r>
            <a:r>
              <a:rPr b="0" lang="ar-JO" sz="1200" spc="-1" strike="noStrike">
                <a:solidFill>
                  <a:srgbClr val="000000"/>
                </a:solidFill>
                <a:latin typeface="Arial"/>
              </a:rPr>
              <a:t>15</a:t>
            </a:r>
            <a:r>
              <a:rPr b="0" lang="ar-JO" sz="1200" spc="-1" strike="noStrike">
                <a:solidFill>
                  <a:srgbClr val="000000"/>
                </a:solidFill>
                <a:latin typeface="Arial"/>
              </a:rPr>
              <a:t> للجنة الحقوق الاقتصادية والاجتماعية والثقاف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굴림"/>
              </a:rPr>
              <a:t>http://www.ohchr.org/english/bodies/cescr/comments.htm</a:t>
            </a:r>
            <a:r>
              <a:rPr b="0" lang="en-US" sz="1200" spc="-1" strike="noStrike">
                <a:solidFill>
                  <a:srgbClr val="000000"/>
                </a:solidFill>
                <a:latin typeface="Arial"/>
                <a:ea typeface="굴림"/>
              </a:rPr>
              <a:t>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1160" y="696960"/>
            <a:ext cx="4651200" cy="3487680"/>
          </a:xfrm>
          <a:prstGeom prst="rect">
            <a:avLst/>
          </a:prstGeom>
          <a:ln w="0">
            <a:noFill/>
          </a:ln>
        </p:spPr>
      </p:sp>
      <p:sp>
        <p:nvSpPr>
          <p:cNvPr id="733"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رسالة أساس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ثمة آليات عمل تساعد في تنسيق الرد الإنساني وضمان تطبيق مبادئ حقوق الإنسان ومبادئ المساعدات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لخص للمحتويات الأساس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ي الأوضاع الطارئة المعقدة أو الكبيرة على وجه الخصوص، يُعَدُّ إعداد خطة عمل مشتركة للأعمال الإنسانية فرصة للعمل مع الشركاء الآخرين، ويسمح بتزامن برامج المساعدات المقدَّمة من الأمم المتحدة، وباتخاذ القرارات المتعلقة بتوزيع الأدوار والمسؤوليات من أجل تحقيق استجابة منسّقة ومترابطة. وقد أسهمت خطة العمل المشتركة للأعمال الإنسانية إسهاماً كبيراً ومهماً في تطوير نهج أكثر استراتيجية لتقديم المساعدات الإنسانية. وترسم خطة العمل المشتركة للأعمال الإنسانية الخطوط العريضة لهذه الأعمال في أية دولة أو منطقة، وذلك يتضمن: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سياق الذي تقع فيه الأزمة الإنسانية.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السيناريوهات الفضلى، والأسوأ والأكثر احتمالاً.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الاحتياجات وبيان الأولويات.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ليل للجهات المعنية (صاحبة المصلحة)؛ بمعنى تحديد مَن يقوم بماذا وأين يقوم به.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حديد رابط لأهداف وغايات ذات أمد أطول. </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ضع إطار عمل لمتابعة الاستراتيجية وتعديلها إن لزم الأم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الخطة المشتركة للأعمال الإنسانية أساساً لإعداد نداء موحد.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عملية النداء الموحد</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عتبر عملية إعداد النداءات الموحدة أداة تستخدمها منظمات الإغاثة المتعددة الأطراف وغيرها من منظمات الإغاثة (منظمات الأمم المتحدة، والمنظمات غير الحكومية الدولية والوطنية من بين جملة المنظمات الأخرى) في الاستجابة إلى الحالات الطارئة والردّ عليها بطريقة مشتركة، وفي تقديم خططها ومتطلباتها إلى المجتمع الدولي والمانحين. وتشتمل الخطط والمتطلبات على ملخص للأوضاع، وخطط للرد والاستجابة، ومتطلبات الموارد، واستراتيجيات المتابعة / المراقبة. وتبني عملية النداء الموحد – وهي العملية السنوية المشتركة بين الوكالات – على ما تحتوي عليه خطة العمل المشتركة للأعمال الإنسانية، وتُعزّز التعاون الوثيق بين الحكومات والمانحين والمنظمات غير الحكومية ومجموعة أخرى متنوعة من المنظمات الحكو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تعتبر هذه العملية الأداة الأساسية للتنسيق والتخطيط الاستراتيجي وتنفيذ البرامج في القطاع الإنساني. وتُعدُّ المدة الاعتيادية لعملية النداء الموحّد سنة واحدة، ويمكن إصدار نسخة استكمالية محدّثة في السنة التالية إذا قرر الفريق القطري للّجنة الدائمة المشتركة بين الوكالات أن الأزمة الإنسانية ما تزال مستمرة. ويُصدر مكتب تنسيق الشؤون الإنسانية، ووكالات الأمم المتحدة المشاركة، والمنظمات الدولية، والمنظمات غير الحكومية عمليات النداء الموحّد لجميع الدول التي تشهد أزمات إنسانية، وقت الإطلاق السنوي للنداء الموحد، الذي يحدث عادة في نوڤمبر / تشرين الثاني. وتساعد عملية النداء الموحد في التركيز على أشدِّ الحاجات الطارئة إلحاحاً ضمن المجالات المختلفة للبرامج، بما في ذلك المجالات ذات الأولوية ضمن إطار عمل الأمم المتحدة للمساعدات الإنمائية. ومن خلال عملية النداء الموحَّد، تتفق وكالات الأمم المتحدة المشاركة على المسؤوليات المطلوبة لمتابعة تنفيذ البرنامج والقطاع. وبالتحدث بصوت مشترك، تستطيع الوكالاتُ المطالبةَ بقدْر من الحماية أكبر لأولئك الأشخاص المتأثرين بحالات الطوارئ المعقدة، وبتحقيق فرص وصول أفضل للسكان الضعفاء المعرضين للمخاطر، وبالعمل بفعالية أكبر مع الحكومات والجهات الفاعلة الأخرى. ويعتبر هذا التنسيق مهماً على وجه الخصوص في البيئات المحفوفة بالمخاطر، والتي تتطلب موارد أكبر لضمان سلامة الكوادر العاملة في المجال الإنسان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ويجب تطبيق معايير ومبادئ حقوق الإنسان في جميع مراحل العمل، ابتداءً من التحليل والتقييم، اللذين يعتبران عمليتين متواصلتين. ويُمكن أن تساعد مبادئ حقوق الإنسان على ضمان أن ينصبَّ تركيز الأعمال ذات الأولوية على ذوي الحاجة الأشد إلى المساعدات الإنسانية. ويقدم إطار عمل تحليل الاحتياجات قائمة بالقضايا التي يجب أخذها في الحسبان.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مبادئ المساعدات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ل تدرك الوكالات المشاركة وأية أطراف متحاربة المبادئ الإنسانية وتفهمها وتلتزم بها؟ هل الوكالات المتعاونة ملتزمة بالمبادئ الأساسية الستة لمدونة السلوك التي تهدف إلى حماية متلقِّي المعونات الطارئة وإغاثتهم من الاستغلال الجنسي والإساءة الجنسية؟ وفي حالة الجماعات المسلحة، وحيثما يكون ذلك ممكناً، هل تم التوقيع على شروط الاشتباك في القتال، التي تحدد التزام تلك الجماعات التي تنص عليها حقوق الإنسان والقانون الإنساني والمبادئ الإنسانية؟ هل توجد أنظمة، أم هل ستضع الوكالات المشاركة أنظمة لمتابعة عملية تقديم المساعدات الإنسانية والامتثال إلى المبادئ الإنسان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مساواة في النوع الاجتماعي:</a:t>
            </a:r>
            <a:r>
              <a:rPr b="1" lang="ar-JO" sz="1200" spc="-1" strike="noStrike">
                <a:solidFill>
                  <a:srgbClr val="000000"/>
                </a:solidFill>
                <a:latin typeface="Arial"/>
                <a:ea typeface="Arial"/>
              </a:rPr>
              <a:t> هل تحصل النساء والفتيات على الأولوية في الاهتمام، وهل تشتمل الاستجابة على الحماية من العنف القائم على النوع الاجتماعي؟ هل تتم استشارة النساء والفتيات في عملية تصميم الاستجابة الطارئة؟ هل يتم الأخذ في الحسبان، الاختلافات في فرص الوصول إلى الموارد والسيطرة عليها، وفي الأدوار والمسؤوليات، والقدرة على التأقلم والتعامل مع الأوضاع، ونهوج بناء السلام بين الرجال والنساء، بشكل ممنهج ومنتظم، في التدخلات المقترحة؟ هل تم إجراء تحليلات للنوع الاجتماعي أو تحليلات للقدرات وحالات الضعف والتعرض للمخاطر؟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200" spc="-1" strike="noStrike">
                <a:solidFill>
                  <a:srgbClr val="000000"/>
                </a:solidFill>
                <a:latin typeface="Arial"/>
                <a:cs typeface="Arial"/>
              </a:rPr>
              <a:t>اللاجئون، والنازحون داخلياً:</a:t>
            </a:r>
            <a:r>
              <a:rPr b="1" lang="ar-JO" sz="1200" spc="-1" strike="noStrike">
                <a:solidFill>
                  <a:srgbClr val="000000"/>
                </a:solidFill>
                <a:latin typeface="Arial"/>
                <a:ea typeface="Arial"/>
              </a:rPr>
              <a:t> هل تُدْرِك الوكالات المشاركة المبادئ التوجيهية للنزوح الداخلي؟ هل اشتمل التقييم الأولي للوضع الطارئ على وضع اللاجئين والنازحين داخلياً؟ هل تم وصف حالات خاصة من الضعف والتعرض للمخاطر؟ هل تم شمول البرامج والاستراتيجيات اللازمة لمنع النزوح المتكرر أو المطول، أو للاستعداد له؟</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79360" y="696960"/>
            <a:ext cx="4651560" cy="3487680"/>
          </a:xfrm>
          <a:prstGeom prst="rect">
            <a:avLst/>
          </a:prstGeom>
          <a:ln w="0">
            <a:noFill/>
          </a:ln>
        </p:spPr>
      </p:sp>
      <p:sp>
        <p:nvSpPr>
          <p:cNvPr id="735"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شريح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هل يمكننا جعل القائمين بالواجبات أكثر سعادة بالنسبة إلى الامتثا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تمت مواءمة هذه الشريحة بعد اقتباسها من مكتب اليونيسف في ڤيتنام.</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79360" y="696960"/>
            <a:ext cx="4651560" cy="3487680"/>
          </a:xfrm>
          <a:prstGeom prst="rect">
            <a:avLst/>
          </a:prstGeom>
          <a:ln w="0">
            <a:noFill/>
          </a:ln>
        </p:spPr>
      </p:sp>
      <p:sp>
        <p:nvSpPr>
          <p:cNvPr id="737"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تركِّز ورشة العمل هذه وحزمة التعلم على التفاهم أو الفهم المشترك من قبل وكالات الأمم المتحدة والأدوات المشتركة فيما بينها للنهج القائم على حقوق الإنسان. وبناء على ذلك، يُقترح الرجوع باختصار إلى بعض الوكالات التي أعدَّت وطورت سلسلة كاملة من المواد، مع الاقتراح بقيام المشاركين بالاتصال بتلك الوكالات مباشرة، في حالة وجود الرغبة والاهتمام بتعلّم المزيد. وهذه الوكالات ه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منظمة الأمم المتحدة للطفولة (يونيسف)،</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ندوق الأمم المتحدة للسكان،</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رنامج الأمم المتحدة الإنمائ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صندوق الأمم المتحدة لتنمية المرأة، ومنظمة العمل الدول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برنامج الأمم المتحدة المشترك لمكافحة ڤيروس نقص المناعة البشري المكتسب / الإيدز،</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كتب المفوَّضية السامية لحقوق الإنسان التابع ل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كتب تنسيق الشؤون الإنس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ركز الأمم المتحدة للمستوطنات البشرية (الموئل)،</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نظمة الزراعة والغذاء،</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منظمة الأمم المتحدة للتربية والعلوم والثقافة (يونسكو)،</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ea typeface="Arial"/>
              </a:rPr>
              <a:t> ومنظمة الصحة العالمي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النداء الخاص بحالات الطوارئ المتصلة بالجفاف في منطقة جنوب إفريقيا، وقسم عمليات حفظ السلام.</a:t>
            </a:r>
            <a:r>
              <a:rPr b="0" lang="ar-JO"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CEF, UNFPA, UNDP, UNIFEM, ILO, UNAIDS, UNHCR, OCHA, UN Habitat, FAO, UNESCO, WHO, DESA, DPKO</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79360" y="696960"/>
            <a:ext cx="4651560" cy="3487680"/>
          </a:xfrm>
          <a:prstGeom prst="rect">
            <a:avLst/>
          </a:prstGeom>
          <a:ln w="0">
            <a:noFill/>
          </a:ln>
        </p:spPr>
      </p:sp>
      <p:sp>
        <p:nvSpPr>
          <p:cNvPr id="73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فكرة مفيدة للمقد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لا يوجد محتوى يمكن تقديمه باستخدام برنامج "البوربوينت" في هذه الجلسة وسوف يُيسِّر فريق التدريب نقاشاً مفتوحاً ضمن مكتب الأمم المتحدة القُطري، حول كيفية البناء على ما هو موجود من المعلومات والمعرفة المكتسبة في ورشة العمل، لحصر نقاط الدخول الاستراتيجية لتبني النهج القائم على حقوق الإنسان.</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1160" y="696960"/>
            <a:ext cx="4648320" cy="3486240"/>
          </a:xfrm>
          <a:prstGeom prst="rect">
            <a:avLst/>
          </a:prstGeom>
          <a:ln w="0">
            <a:noFill/>
          </a:ln>
        </p:spPr>
      </p:sp>
      <p:sp>
        <p:nvSpPr>
          <p:cNvPr id="589"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إدماج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يحدد تعريفُ المجلس الاقتصادي والاجتماعي للأمم المتحدة - </a:t>
            </a:r>
            <a:r>
              <a:rPr b="0" lang="ar-JO" sz="1200" spc="-1" strike="noStrike" u="sng">
                <a:solidFill>
                  <a:srgbClr val="000000"/>
                </a:solidFill>
                <a:uFillTx/>
                <a:latin typeface="Arial"/>
                <a:ea typeface="Arial"/>
              </a:rPr>
              <a:t>1997</a:t>
            </a:r>
            <a:r>
              <a:rPr b="0" lang="ar-JO" sz="1200" spc="-1" strike="noStrike" u="sng">
                <a:solidFill>
                  <a:srgbClr val="000000"/>
                </a:solidFill>
                <a:uFillTx/>
                <a:latin typeface="Arial"/>
                <a:ea typeface="Arial"/>
              </a:rPr>
              <a:t> لإدماج النوع الاجتماعي المبادئ التالية لإدماج منظور النوع الاجتماعي في منظومة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يجب تحديد القضايا الموجودة في جميع مجالات نشاط الأمم المتحدة، بطريقة من شأنها أن تُمكّن من تشخيص الاختلافات في النوع الاجتماعي، مما يعني وجوب عدم افتراض الحيادية في النوع الاجتماع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تعتبر مسؤوليةُ ترجمة إدماج النوع الاجتماعي إلى ممارسة عملية، مسؤوليةً عامة على نطاق منظومة الأمم المتحدة، وهي تقع على أعلى المستويات فيها. وتحتاج المساءَلة حول النواتج إلى المتابعة والمراقبة بشكل دائم. كذلك فإن إدماج النوع الاجتماعي يتطلب بذل جميع الجهود لتوسيع نطاق مشاركة المرأة في جميع مستويات صنع القرار. ويجب إضفاء الصبغة المؤسسية (المأسسة) على عملية إدماج النوع الاجتماعي من خلال وضع خطوات وآليات عمل وتنفيذ عمليات ملموسة، في جميع أجزاء منظومة الأمم المتحد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في عام </a:t>
            </a:r>
            <a:r>
              <a:rPr b="0" lang="ar-JO" sz="1200" spc="-1" strike="noStrike" u="sng">
                <a:solidFill>
                  <a:srgbClr val="000000"/>
                </a:solidFill>
                <a:uFillTx/>
                <a:latin typeface="Arial"/>
                <a:ea typeface="Arial"/>
              </a:rPr>
              <a:t>2005</a:t>
            </a:r>
            <a:r>
              <a:rPr b="0" lang="ar-JO" sz="1200" spc="-1" strike="noStrike" u="sng">
                <a:solidFill>
                  <a:srgbClr val="000000"/>
                </a:solidFill>
                <a:uFillTx/>
                <a:latin typeface="Arial"/>
                <a:cs typeface="Arial"/>
              </a:rPr>
              <a:t>، طالبت هيئةُ المراجعة الشاملة للسياسات، التي تُجرى كل ثلاث سنوات، الأممَ المتحدة بإدماج منظور النوع الاجتماعي، والسعي إلى تحقيق المساواة في النوع الاجتماعي في برامجها القُطرية، وفي أدوات التخطيط، وفي البرامج التي تنفّذ على نطاق القطاع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u="sng">
                <a:solidFill>
                  <a:srgbClr val="000000"/>
                </a:solidFill>
                <a:uFillTx/>
                <a:latin typeface="Arial"/>
                <a:cs typeface="Arial"/>
              </a:rPr>
              <a:t>الحقوق الإنسانية للمرأ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يحتل القضاء على جميع أشكال التمييز ضد المرأة مكانة مركزية في قانون الحقوق الإنسانية الدولية. ولا تُطبَّق جميع الحقوق المضمونة بمقتضى معاهدات حقوق الإنسان الدولية الأساسية السبع، على قدم المساواة، بين الرجال والنساء، والفتيان والفتيات فحسب، بل شدَّدت باهتمام ورقة المعاهدتين اللتين تشكلان "الشرعة الدولية لحقوق الإنسان" على تأكيد هذه النقطة أيضاً. ويحتوي كل من العهد الدولي للحقوق المدنية والسياسية، والعهد الدولي للحقوق الاقتصادية والاجتماعية والثقافية على مادة خاصة، وهي المادة الثالثة، التي تطالب الدول "بضمان تساوي المرأة والرجل"، في التمتع بالحقوق المحدَّدة في هذه المعاهدات.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بالإضافة إلى ذلك، فإن واحدة من معاهدات حقوق الإنسان الدولية الأساسية السبع – ألا وهي اتفاقية القضاء على جميع أشكال التمييز ضد المرأة – مُكرَّسة بشكل حصري للقضاء على التمييز في نوع الجنس (من منظور بيولوجي)، وذلك سعياً وراء تحقيق المساواة في نوع الجنس من منظور اجتماعي (النوع الاجتماعي). وتطالب اتفاقية القضاء على جميع أشكال التمييز ضد المرأة الدول الأطراف بالقضاء على التمييز القائم على النوع الاجتماعي، وذلك لتحقيق المساواة في النوع الاجتماعي (أي بين الجنسين) في جميع جوانب حياة المرأة. كذلك فإن الاتفاقية تُورد بالتفصيل الأعمال المُحدَّدة الواجب تنفيذها لمحاربة التمييز في نطاق واسع من المجالات، بما فيها التعليم، والتشغيل/التوظيف، والحياة العامة والسياسية، والعلاقات القانونية، والحياة الاقتصادية والاجتماعية، والعلاقات الأسرية، وتنمية الريف، والاتِّجار والدعار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كانت قضية المساواة في النوع الاجتماعي بؤرة اهتمام رئيس في النقاشات التي دارت في المؤتمر العالمي لحقوق الإنسان الذي عقد في ڤينّا عام </a:t>
            </a:r>
            <a:r>
              <a:rPr b="0" lang="ar-JO" sz="1200" spc="-1" strike="noStrike" u="sng">
                <a:solidFill>
                  <a:srgbClr val="000000"/>
                </a:solidFill>
                <a:uFillTx/>
                <a:latin typeface="Arial"/>
                <a:ea typeface="Arial"/>
              </a:rPr>
              <a:t>1993</a:t>
            </a:r>
            <a:r>
              <a:rPr b="0" lang="ar-JO" sz="1200" spc="-1" strike="noStrike" u="sng">
                <a:solidFill>
                  <a:srgbClr val="000000"/>
                </a:solidFill>
                <a:uFillTx/>
                <a:latin typeface="Arial"/>
                <a:cs typeface="Arial"/>
              </a:rPr>
              <a:t>، وكذلك فقد شدَّد إعلان وبرنامج عمل ڤينا على تأكيد أهمية الحقوق الإنسانية للمرأة، قائلاً: </a:t>
            </a:r>
            <a:r>
              <a:rPr b="0" i="1" lang="ar-JO" sz="1200" spc="-1" strike="noStrike" u="sng">
                <a:solidFill>
                  <a:srgbClr val="000000"/>
                </a:solidFill>
                <a:uFillTx/>
                <a:latin typeface="Arial"/>
                <a:ea typeface="Arial"/>
              </a:rPr>
              <a:t>"إن الحقوقَ الإنسانية للمرأة وللطفلة حقوقٌ غير قابلة للتصرف، وجزء لا ينفصل عن حقوق الإنسان"</a:t>
            </a:r>
            <a:r>
              <a:rPr b="0" lang="ar-JO" sz="1200" spc="-1" strike="noStrike" u="sng">
                <a:solidFill>
                  <a:srgbClr val="000000"/>
                </a:solidFill>
                <a:uFillTx/>
                <a:latin typeface="Arial"/>
                <a:ea typeface="Arial"/>
              </a:rPr>
              <a:t> (الجزء الأول، الفقرة </a:t>
            </a:r>
            <a:r>
              <a:rPr b="0" lang="ar-JO" sz="1200" spc="-1" strike="noStrike" u="sng">
                <a:solidFill>
                  <a:srgbClr val="000000"/>
                </a:solidFill>
                <a:uFillTx/>
                <a:latin typeface="Arial"/>
                <a:ea typeface="Arial"/>
              </a:rPr>
              <a:t>18</a:t>
            </a:r>
            <a:r>
              <a:rPr b="0" lang="ar-JO" sz="1200" spc="-1" strike="noStrike" u="sng">
                <a:solidFill>
                  <a:srgbClr val="000000"/>
                </a:solidFill>
                <a:uFillTx/>
                <a:latin typeface="Arial"/>
                <a:ea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u="sng">
                <a:solidFill>
                  <a:srgbClr val="000000"/>
                </a:solidFill>
                <a:uFillTx/>
                <a:latin typeface="Arial"/>
                <a:cs typeface="Arial"/>
              </a:rPr>
              <a:t>وقد خاطب الإعلانُ وبرنامج العمل أيضاً منظومةَ الأمم المتحدة مباشرةً حول هذه النقطة، قائلاً:</a:t>
            </a:r>
            <a:r>
              <a:rPr b="0" i="1" lang="ar-JO" sz="1200" spc="-1" strike="noStrike" u="sng">
                <a:solidFill>
                  <a:srgbClr val="000000"/>
                </a:solidFill>
                <a:uFillTx/>
                <a:latin typeface="Arial"/>
                <a:ea typeface="Arial"/>
              </a:rPr>
              <a:t> "يجب دمج الوضع المتساوي للمرأة والحقوق الإنسانية للمرأة ضمن النشاط العام لمنظومة الأمم المتحدة. ويجب تناول هذه القضايا بطريقة منتظمة ومنهجية في كل هيئات الأمم المتحدة وآليات عملها ذات الصلة."</a:t>
            </a:r>
            <a:r>
              <a:rPr b="0" lang="ar-JO" sz="1200" spc="-1" strike="noStrike" u="sng">
                <a:solidFill>
                  <a:srgbClr val="000000"/>
                </a:solidFill>
                <a:uFillTx/>
                <a:latin typeface="Arial"/>
                <a:ea typeface="Arial"/>
              </a:rPr>
              <a:t> (الجزء الثاني، الفقرة </a:t>
            </a:r>
            <a:r>
              <a:rPr b="0" lang="ar-JO" sz="1200" spc="-1" strike="noStrike" u="sng">
                <a:solidFill>
                  <a:srgbClr val="000000"/>
                </a:solidFill>
                <a:uFillTx/>
                <a:latin typeface="Arial"/>
                <a:ea typeface="Arial"/>
              </a:rPr>
              <a:t>37</a:t>
            </a:r>
            <a:r>
              <a:rPr b="0" lang="ar-JO" sz="1200" spc="-1" strike="noStrike" u="sng">
                <a:solidFill>
                  <a:srgbClr val="000000"/>
                </a:solidFill>
                <a:uFillTx/>
                <a:latin typeface="Arial"/>
                <a:ea typeface="Arial"/>
              </a:rPr>
              <a:t>).</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81160" y="696960"/>
            <a:ext cx="4648320" cy="3486240"/>
          </a:xfrm>
          <a:prstGeom prst="rect">
            <a:avLst/>
          </a:prstGeom>
          <a:ln w="0">
            <a:noFill/>
          </a:ln>
        </p:spPr>
      </p:sp>
      <p:sp>
        <p:nvSpPr>
          <p:cNvPr id="591" name="PlaceHolder 2"/>
          <p:cNvSpPr>
            <a:spLocks noGrp="1"/>
          </p:cNvSpPr>
          <p:nvPr>
            <p:ph type="body"/>
          </p:nvPr>
        </p:nvSpPr>
        <p:spPr>
          <a:xfrm>
            <a:off x="700200" y="4416120"/>
            <a:ext cx="5610240" cy="418284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إن القانونَ الإنساني الدولي (المعروف أيضاً بقانون الحرب، أو قانون النزاع المسلح) وحقوق الإنسان هما فرعان منفصلان من فروع القانون الدولي، يربطهما معاً قصد مشترك. والقصد الأساسي لكل منهما هو حماية كرامة الإنسان في جميع الظروف.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يتم تطبيق القانون الإنساني الدولي حالما ينشب نزاع مسلح، كذلك فإنه قانونٌ ملزم لجميع الدول الأطراف بشكل متساوٍ، بصرف النظر عن الطرف الذي بدأ النزاع. وتتمثل الرسائل الأساسية للقانون الإنساني الدولي فيما يلي: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دم مهاجمة الأشخاص غير المشاركين في القتال أو الذين لم يعودوا يشاركون فيه. </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عدم استخدام الأسلحة التي لا تُميّز بين المقاتلين والمدنيين، أو أسلحة وأساليب الحرب التي تسبب معاناة و / أو أضرار لا ضرورة لها.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rial"/>
              </a:rPr>
              <a:t>ويجب على كل من الدول والأفراد احترام القانون الإنساني الدولي، حيث يجب على الجميع احترام هذا القانون، بمن فيهم المقاتلون والسكان ككل. إن الالتزام بالامتثال للقانون الإنساني الدولي يعني أن عدم الامتثال يمكن أن يعرض الأفراد، في بعض الحالات، للمسؤولية القانونية بمقتضى قانون العقوبات، كما أقرت بذلك العديد من المحاكم الدولية والوطنية.</a:t>
            </a:r>
            <a:r>
              <a:rPr b="0" lang="ar-J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CFF72-4027-4C31-A520-EA09D7DE3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52C2B-F971-4EC4-AF11-AEA9AB830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B8B03-2FB0-4871-884B-0234D0111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10C83-8CBA-4C84-B9BA-2D96B0D41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E4F3A-D2F1-4250-AC85-3C34C8433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1CD0E-0405-45E1-B299-631118CDF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0DC0E-C182-41E6-B27E-D03823A71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20DA0-ECA4-4527-8274-885ACCAE0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29BC0-5195-4059-8F2B-143A0F54E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2D5FF-6051-4AC7-83E1-5E31C498A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15AEC-0515-411B-9EA1-12A583AF8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B74B0-FE21-4BFB-8845-8F4805E9D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 name="PlaceHolder 2"/>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5" name="PlaceHolder 3"/>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6D4E-2A97-4ABB-A1CB-DEB3178C6D9D}"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34920" y="-27000"/>
            <a:ext cx="1527120" cy="1527120"/>
          </a:xfrm>
          <a:prstGeom prst="rect">
            <a:avLst/>
          </a:prstGeom>
          <a:ln w="0">
            <a:noFill/>
          </a:ln>
        </p:spPr>
      </p:pic>
      <p:sp>
        <p:nvSpPr>
          <p:cNvPr id="7" name=""/>
          <p:cNvSpPr/>
          <p:nvPr/>
        </p:nvSpPr>
        <p:spPr>
          <a:xfrm>
            <a:off x="7596360" y="5938920"/>
            <a:ext cx="158400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6699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1769760"/>
            <a:ext cx="7772400" cy="129852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Arial"/>
              </a:rPr>
              <a:t>حقوق الإنسان ضمن سياق عملية إصلاح </a:t>
            </a:r>
            <a:br>
              <a:rPr sz="4000"/>
            </a:br>
            <a:r>
              <a:rPr b="1" lang="ar-JO" sz="4000" spc="-1" strike="noStrike">
                <a:solidFill>
                  <a:srgbClr val="ffff00"/>
                </a:solidFill>
                <a:latin typeface="Arial"/>
                <a:cs typeface="Arial"/>
              </a:rPr>
              <a:t>الأمم المتحدة </a:t>
            </a:r>
            <a:endParaRPr b="0" lang="en-US" sz="4000" spc="-1" strike="noStrike">
              <a:solidFill>
                <a:srgbClr val="000000"/>
              </a:solidFill>
              <a:latin typeface="Arial"/>
            </a:endParaRPr>
          </a:p>
        </p:txBody>
      </p:sp>
      <p:sp>
        <p:nvSpPr>
          <p:cNvPr id="54" name=""/>
          <p:cNvSpPr/>
          <p:nvPr/>
        </p:nvSpPr>
        <p:spPr>
          <a:xfrm>
            <a:off x="2627280" y="4292640"/>
            <a:ext cx="2664000" cy="10688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أولى</a:t>
            </a:r>
            <a:endParaRPr b="0" lang="en-US" sz="3200" spc="-1" strike="noStrike">
              <a:solidFill>
                <a:srgbClr val="000000"/>
              </a:solidFill>
              <a:latin typeface="Arial"/>
            </a:endParaRPr>
          </a:p>
        </p:txBody>
      </p:sp>
      <p:pic>
        <p:nvPicPr>
          <p:cNvPr id="55" name="" descr=""/>
          <p:cNvPicPr/>
          <p:nvPr/>
        </p:nvPicPr>
        <p:blipFill>
          <a:blip r:embed="rId1"/>
          <a:stretch/>
        </p:blipFill>
        <p:spPr>
          <a:xfrm>
            <a:off x="6877080" y="4005360"/>
            <a:ext cx="2309760" cy="2755800"/>
          </a:xfrm>
          <a:prstGeom prst="rect">
            <a:avLst/>
          </a:prstGeom>
          <a:ln w="0">
            <a:noFill/>
          </a:ln>
        </p:spPr>
      </p:pic>
      <p:sp>
        <p:nvSpPr>
          <p:cNvPr id="56" name=""/>
          <p:cNvSpPr/>
          <p:nvPr/>
        </p:nvSpPr>
        <p:spPr>
          <a:xfrm>
            <a:off x="7149960" y="5300640"/>
            <a:ext cx="1584360" cy="1017720"/>
          </a:xfrm>
          <a:prstGeom prst="rect">
            <a:avLst/>
          </a:prstGeom>
          <a:noFill/>
          <a:ln w="0">
            <a:noFill/>
          </a:ln>
        </p:spPr>
        <p:style>
          <a:lnRef idx="0"/>
          <a:fillRef idx="0"/>
          <a:effectRef idx="0"/>
          <a:fontRef idx="minor"/>
        </p:style>
        <p:txBody>
          <a:bodyPr lIns="90000" rIns="90000" tIns="46800" bIns="46800" anchor="t">
            <a:spAutoFit/>
          </a:bodyPr>
          <a:p>
            <a:pPr algn="r" rtl="1">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الإجراء الثاني:</a:t>
            </a:r>
            <a:endParaRPr b="0" lang="en-US" sz="1800" spc="-1" strike="noStrike">
              <a:solidFill>
                <a:srgbClr val="000000"/>
              </a:solidFill>
              <a:latin typeface="Arial"/>
            </a:endParaRPr>
          </a:p>
          <a:p>
            <a:pPr algn="r" rtl="1">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تعلَّم حقوق الإنسان معاً</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932000" y="1700280"/>
            <a:ext cx="3745080" cy="4392720"/>
          </a:xfrm>
          <a:prstGeom prst="rect">
            <a:avLst/>
          </a:prstGeom>
          <a:solidFill>
            <a:srgbClr val="ffffff"/>
          </a:solidFill>
          <a:ln w="0">
            <a:noFill/>
          </a:ln>
        </p:spPr>
        <p:txBody>
          <a:bodyPr lIns="90000" rIns="90000" tIns="46800" bIns="46800" anchor="t">
            <a:normAutofit/>
          </a:bodyPr>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نزاع العنفي يمنع إحقاق حقوق الإنسان.</a:t>
            </a:r>
            <a:endParaRPr b="0" lang="en-US" sz="2000" spc="-1" strike="noStrike">
              <a:solidFill>
                <a:srgbClr val="000000"/>
              </a:solidFill>
              <a:latin typeface="Times New Roman"/>
            </a:endParaRPr>
          </a:p>
          <a:p>
            <a:pPr indent="0" algn="r" rtl="1">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قد يؤدي عدم إحقاق حقوق الإنسان إلى حدوث النزاع العُنفي. </a:t>
            </a:r>
            <a:endParaRPr b="0" lang="en-US" sz="2000" spc="-1" strike="noStrike">
              <a:solidFill>
                <a:srgbClr val="000000"/>
              </a:solidFill>
              <a:latin typeface="Times New Roman"/>
            </a:endParaRPr>
          </a:p>
          <a:p>
            <a:pPr indent="0" algn="r" rtl="1">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تُمثّل انتهاكات حقوق الإنسان، في أغلب الأحيان، ظواهر لنشوء النزاعات أو لتصعيدها.</a:t>
            </a:r>
            <a:endParaRPr b="0" lang="en-US" sz="2000" spc="-1" strike="noStrike">
              <a:solidFill>
                <a:srgbClr val="000000"/>
              </a:solidFill>
              <a:latin typeface="Times New Roman"/>
            </a:endParaRPr>
          </a:p>
        </p:txBody>
      </p:sp>
      <p:sp>
        <p:nvSpPr>
          <p:cNvPr id="92" name="PlaceHolder 2"/>
          <p:cNvSpPr>
            <a:spLocks noGrp="1"/>
          </p:cNvSpPr>
          <p:nvPr>
            <p:ph/>
          </p:nvPr>
        </p:nvSpPr>
        <p:spPr>
          <a:xfrm>
            <a:off x="622440" y="2636640"/>
            <a:ext cx="4038480" cy="3384360"/>
          </a:xfrm>
          <a:prstGeom prst="rect">
            <a:avLst/>
          </a:prstGeom>
          <a:solidFill>
            <a:srgbClr val="ffffff"/>
          </a:solidFill>
          <a:ln w="0">
            <a:noFill/>
          </a:ln>
        </p:spPr>
        <p:txBody>
          <a:bodyPr lIns="90000" rIns="90000" tIns="46800" bIns="46800" anchor="t">
            <a:normAutofit/>
          </a:bodyPr>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000000"/>
                </a:solidFill>
                <a:latin typeface="Arial"/>
                <a:cs typeface="Simplified Arabic"/>
              </a:rPr>
              <a:t>ثمة علاقة متبادلة بين حقوق الإنسان ومنع حدوث النزاع. وتعتبر انتهاكات حقوق الإنسان سبباً جذرياً للنزاع، وتعتبر أيضاً إحدى عواقبه المألوفة. </a:t>
            </a: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000000"/>
                </a:solidFill>
                <a:latin typeface="Arial"/>
                <a:cs typeface="Simplified Arabic"/>
              </a:rPr>
              <a:t>تقرير الأمين العام للأمم المتحدة عن التقدم المتحقق بشأن النزاعات المسلحة (</a:t>
            </a:r>
            <a:r>
              <a:rPr b="0" i="1" lang="ar-JO" sz="2000" spc="-1" strike="noStrike">
                <a:solidFill>
                  <a:srgbClr val="000000"/>
                </a:solidFill>
                <a:latin typeface="Arial"/>
                <a:ea typeface="Simplified Arabic"/>
              </a:rPr>
              <a:t>2006</a:t>
            </a:r>
            <a:r>
              <a:rPr b="0" i="1" lang="ar-JO" sz="2000" spc="-1" strike="noStrike">
                <a:solidFill>
                  <a:srgbClr val="000000"/>
                </a:solidFill>
                <a:latin typeface="Arial"/>
                <a:ea typeface="Simplified Arabic"/>
              </a:rPr>
              <a:t>)</a:t>
            </a:r>
            <a:endParaRPr b="0" lang="en-US" sz="2000" spc="-1" strike="noStrike">
              <a:solidFill>
                <a:srgbClr val="000000"/>
              </a:solidFill>
              <a:latin typeface="Times New Roman"/>
            </a:endParaRPr>
          </a:p>
          <a:p>
            <a:pPr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1763640" y="189000"/>
            <a:ext cx="6840720" cy="12826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ar-JO" sz="4000" spc="-1" strike="noStrike">
                <a:solidFill>
                  <a:srgbClr val="000000"/>
                </a:solidFill>
                <a:latin typeface="Arial"/>
                <a:cs typeface="Simplified Arabic"/>
              </a:rPr>
              <a:t>حقوق الإنسان والنزاع العنفي</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7640" y="188640"/>
            <a:ext cx="6409080" cy="128268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العلاقة المتبادلة بين حقوق الإنسان </a:t>
            </a:r>
            <a:br>
              <a:rPr sz="3200"/>
            </a:br>
            <a:r>
              <a:rPr b="0" lang="ar-JO" sz="3200" spc="-1" strike="noStrike">
                <a:solidFill>
                  <a:srgbClr val="000000"/>
                </a:solidFill>
                <a:latin typeface="Arial"/>
                <a:cs typeface="Simplified Arabic"/>
              </a:rPr>
              <a:t>والأهداف الإنمائية للألفية</a:t>
            </a:r>
            <a:endParaRPr b="0" lang="en-US" sz="3200" spc="-1" strike="noStrike">
              <a:solidFill>
                <a:srgbClr val="000000"/>
              </a:solidFill>
              <a:latin typeface="Arial"/>
            </a:endParaRPr>
          </a:p>
        </p:txBody>
      </p:sp>
      <p:sp>
        <p:nvSpPr>
          <p:cNvPr id="95" name="PlaceHolder 2"/>
          <p:cNvSpPr>
            <a:spLocks noGrp="1"/>
          </p:cNvSpPr>
          <p:nvPr>
            <p:ph/>
          </p:nvPr>
        </p:nvSpPr>
        <p:spPr>
          <a:xfrm>
            <a:off x="5578200" y="1988640"/>
            <a:ext cx="3025800" cy="381636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7000"/>
          </a:bodyPr>
          <a:p>
            <a:pPr marL="248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cs typeface="Simplified Arabic"/>
              </a:rPr>
              <a:t>أوجه الشبه</a:t>
            </a:r>
            <a:endParaRPr b="0" lang="en-US" sz="2400" spc="-1" strike="noStrike">
              <a:solidFill>
                <a:srgbClr val="000000"/>
              </a:solidFill>
              <a:latin typeface="Times New Roman"/>
            </a:endParaRPr>
          </a:p>
          <a:p>
            <a:pPr marL="24840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أهدافها مشترك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كلاهما يوفّران أدوات للمساءَل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كلاهما يتحقَّق تدريجياً</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لديهما مبادئ توجيهية متماثلة</a:t>
            </a:r>
            <a:endParaRPr b="0" lang="en-US" sz="2000" spc="-1" strike="noStrike">
              <a:solidFill>
                <a:srgbClr val="000000"/>
              </a:solidFill>
              <a:latin typeface="Times New Roman"/>
            </a:endParaRPr>
          </a:p>
          <a:p>
            <a:pPr marL="248400" indent="-248400" algn="r" rtl="1">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مساواة في النوع الاجتماعي جزء لا يتجزأ من حقوق الإنسان والأهداف الإنمائية للألفية</a:t>
            </a:r>
            <a:endParaRPr b="0" lang="en-US" sz="2000" spc="-1" strike="noStrike">
              <a:solidFill>
                <a:srgbClr val="000000"/>
              </a:solidFill>
              <a:latin typeface="Times New Roman"/>
            </a:endParaRPr>
          </a:p>
        </p:txBody>
      </p:sp>
      <p:sp>
        <p:nvSpPr>
          <p:cNvPr id="96" name="PlaceHolder 3"/>
          <p:cNvSpPr>
            <a:spLocks noGrp="1"/>
          </p:cNvSpPr>
          <p:nvPr>
            <p:ph/>
          </p:nvPr>
        </p:nvSpPr>
        <p:spPr>
          <a:xfrm>
            <a:off x="250560" y="2349360"/>
            <a:ext cx="5040360" cy="3456000"/>
          </a:xfrm>
          <a:prstGeom prst="rect">
            <a:avLst/>
          </a:prstGeom>
          <a:solidFill>
            <a:srgbClr val="ffffff"/>
          </a:solidFill>
          <a:ln w="0">
            <a:noFill/>
          </a:ln>
        </p:spPr>
        <p:txBody>
          <a:bodyPr lIns="90000" rIns="90000" tIns="46800" bIns="46800" anchor="t">
            <a:normAutofit fontScale="91000"/>
          </a:bodyPr>
          <a:p>
            <a:pPr marL="3121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cs typeface="Simplified Arabic"/>
              </a:rPr>
              <a:t>مُتَمِّمات البرمجة:</a:t>
            </a:r>
            <a:endParaRPr b="0" lang="en-US" sz="24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تُحدَّدُ لكل هدف من الأهداف الإنمائية للألفية حقوقُ الإنسان المترابطة معه، والخطوات الواجب اتخاذها لإحقاق تلك الحقوق ضمن السياق القومي/الوطني.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معايير حقوق الإنسان تضيف عنصر الجودة إلى الغايات الرَّقمية للأهداف الإنمائية الألفية.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قوق الإنسان تضيف عنصر الجودة إلى عملية تحقيق الأهداف الإنمائية الألفية. </a:t>
            </a:r>
            <a:endParaRPr b="0" lang="en-US" sz="2000" spc="-1" strike="noStrike">
              <a:solidFill>
                <a:srgbClr val="000000"/>
              </a:solidFill>
              <a:latin typeface="Times New Roman"/>
            </a:endParaRPr>
          </a:p>
          <a:p>
            <a:pPr marL="312120" indent="-31212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قوق الإنسان تُساعد على تقليل التفاوتات في التنمية البشرية. </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7280" y="274320"/>
            <a:ext cx="7272360" cy="1282680"/>
          </a:xfrm>
          <a:prstGeom prst="rect">
            <a:avLst/>
          </a:prstGeom>
          <a:solidFill>
            <a:srgbClr val="ffffff"/>
          </a:solidFill>
          <a:ln w="0">
            <a:noFill/>
          </a:ln>
          <a:effectLst>
            <a:outerShdw dist="40186" dir="1096358"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لتزامات وكالات الأمم المتحدة والالتزامات المشتركة بين وكالات الأمم المتحدة تجاه حقوق الإنسان</a:t>
            </a:r>
            <a:endParaRPr b="0" lang="en-US" sz="3200" spc="-1" strike="noStrike">
              <a:solidFill>
                <a:srgbClr val="000000"/>
              </a:solidFill>
              <a:latin typeface="Arial"/>
            </a:endParaRPr>
          </a:p>
        </p:txBody>
      </p:sp>
      <p:sp>
        <p:nvSpPr>
          <p:cNvPr id="98" name="PlaceHolder 2"/>
          <p:cNvSpPr>
            <a:spLocks noGrp="1"/>
          </p:cNvSpPr>
          <p:nvPr>
            <p:ph/>
          </p:nvPr>
        </p:nvSpPr>
        <p:spPr>
          <a:xfrm>
            <a:off x="826920" y="1844640"/>
            <a:ext cx="7632720" cy="4608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3000"/>
          </a:bodyPr>
          <a:p>
            <a:pPr marL="3189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على مستوى التزامات وكالات الأمم المتحدة:</a:t>
            </a:r>
            <a:endParaRPr b="0" lang="en-US" sz="1800" spc="-1" strike="noStrike">
              <a:solidFill>
                <a:srgbClr val="000000"/>
              </a:solidFill>
              <a:latin typeface="Times New Roman"/>
            </a:endParaRPr>
          </a:p>
          <a:p>
            <a:pPr marL="318960" indent="-318960" algn="just" rtl="1">
              <a:lnSpc>
                <a:spcPct val="15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أُدمجت حقوق الإنسان ضمن تفويضات/ولايات وسياسات وكالات الأمم المتحدة، وصناديقها وبرامجها ووكالاتها المتخصصة. </a:t>
            </a:r>
            <a:endParaRPr b="0" lang="en-US" sz="1800" spc="-1" strike="noStrike">
              <a:solidFill>
                <a:srgbClr val="000000"/>
              </a:solidFill>
              <a:latin typeface="Times New Roman"/>
            </a:endParaRPr>
          </a:p>
          <a:p>
            <a:pPr marL="318960" indent="0" algn="just" rtl="1">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على مستوى الالتزامات المشتركة بين وكالات الأمم المتحدة:</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فهم الأمم المتحدة المشترك لنهج التنمية القائم على 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خطة العمل الخاصة ”بالإجراء الثاني“ (مجموعة الأمم المتحدة الإنمائية، اللجنة التنفيذية للشؤون الإنسانية، مكتب المفوض السامي ل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ازدياد عدد فرق الأمم المتحدة القطرية التي تبنَّت النهج القائم على حقوق الإنسان. </a:t>
            </a:r>
            <a:endParaRPr b="0" lang="en-US" sz="1800" spc="-1" strike="noStrike">
              <a:solidFill>
                <a:srgbClr val="000000"/>
              </a:solidFill>
              <a:latin typeface="Times New Roman"/>
            </a:endParaRPr>
          </a:p>
          <a:p>
            <a:pPr marL="318960" indent="-318960" algn="just" rtl="1">
              <a:lnSpc>
                <a:spcPct val="15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Simplified Arabic"/>
              </a:rPr>
              <a:t>المبادئ التوجيهية المعدَّلة للتقييم القطري المشترك/إطار عمل الأمم المتحدة للمساعدات الإنمائية. </a:t>
            </a:r>
            <a:endParaRPr b="0" lang="en-US" sz="1800" spc="-1" strike="noStrike">
              <a:solidFill>
                <a:srgbClr val="000000"/>
              </a:solidFill>
              <a:latin typeface="Times New Roman"/>
            </a:endParaRPr>
          </a:p>
          <a:p>
            <a:pPr marL="318960" indent="0" algn="just" rtl="1">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35280" y="274320"/>
            <a:ext cx="685152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استنتاجات</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قيمة المعيارية </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بيئة السياسية </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روابط الجوهرية/الموضوعية</a:t>
            </a:r>
            <a:endParaRPr b="0" lang="en-US" sz="3200" spc="-1" strike="noStrike">
              <a:solidFill>
                <a:srgbClr val="000000"/>
              </a:solidFill>
              <a:latin typeface="Times New Roman"/>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Times New Roman"/>
                <a:cs typeface="Times New Roman"/>
              </a:rPr>
              <a:t>الردود (أو ”الاستجابات“) المؤسسية</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700280"/>
            <a:ext cx="8353440" cy="151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3600" spc="-1" strike="noStrike">
                <a:solidFill>
                  <a:srgbClr val="000000"/>
                </a:solidFill>
                <a:latin typeface="Arial"/>
                <a:cs typeface="Arial"/>
              </a:rPr>
              <a:t>الأنظمة الدولية والإقليمية والوطنية لحقوق الإنسان</a:t>
            </a:r>
            <a:br>
              <a:rPr sz="4000"/>
            </a:br>
            <a:endParaRPr b="0" lang="en-US" sz="3600" spc="-1" strike="noStrike">
              <a:solidFill>
                <a:srgbClr val="000000"/>
              </a:solidFill>
              <a:latin typeface="Arial"/>
            </a:endParaRPr>
          </a:p>
        </p:txBody>
      </p:sp>
      <p:sp>
        <p:nvSpPr>
          <p:cNvPr id="102" name=""/>
          <p:cNvSpPr/>
          <p:nvPr/>
        </p:nvSpPr>
        <p:spPr>
          <a:xfrm>
            <a:off x="2843280" y="4437000"/>
            <a:ext cx="223344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لجلسة الثانية</a:t>
            </a:r>
            <a:endParaRPr b="0" lang="en-US" sz="3200" spc="-1" strike="noStrike">
              <a:solidFill>
                <a:srgbClr val="000000"/>
              </a:solidFill>
              <a:latin typeface="Arial"/>
            </a:endParaRPr>
          </a:p>
        </p:txBody>
      </p:sp>
      <p:pic>
        <p:nvPicPr>
          <p:cNvPr id="103" name="" descr=""/>
          <p:cNvPicPr/>
          <p:nvPr/>
        </p:nvPicPr>
        <p:blipFill>
          <a:blip r:embed="rId1"/>
          <a:stretch/>
        </p:blipFill>
        <p:spPr>
          <a:xfrm>
            <a:off x="6877080" y="4005360"/>
            <a:ext cx="2309760" cy="2755800"/>
          </a:xfrm>
          <a:prstGeom prst="rect">
            <a:avLst/>
          </a:prstGeom>
          <a:ln w="0">
            <a:noFill/>
          </a:ln>
        </p:spPr>
      </p:pic>
      <p:sp>
        <p:nvSpPr>
          <p:cNvPr id="104" name=""/>
          <p:cNvSpPr/>
          <p:nvPr/>
        </p:nvSpPr>
        <p:spPr>
          <a:xfrm>
            <a:off x="7016760" y="5324400"/>
            <a:ext cx="1584360" cy="176976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ff6600"/>
                </a:solidFill>
                <a:latin typeface="Comic Sans MS"/>
                <a:cs typeface="Simplified Arabic"/>
              </a:rPr>
              <a:t>الإجراء الثاني:  تعلم حقوق الإنسان مع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5" name=""/>
          <p:cNvSpPr/>
          <p:nvPr/>
        </p:nvSpPr>
        <p:spPr>
          <a:xfrm>
            <a:off x="1619280" y="404640"/>
            <a:ext cx="7380360" cy="720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ما هي حقوق الإنسان؟ </a:t>
            </a:r>
            <a:endParaRPr b="0" lang="en-US" sz="3600" spc="-1" strike="noStrike">
              <a:solidFill>
                <a:srgbClr val="000000"/>
              </a:solidFill>
              <a:latin typeface="Arial"/>
            </a:endParaRPr>
          </a:p>
        </p:txBody>
      </p:sp>
      <p:sp>
        <p:nvSpPr>
          <p:cNvPr id="106" name=""/>
          <p:cNvSpPr/>
          <p:nvPr/>
        </p:nvSpPr>
        <p:spPr>
          <a:xfrm>
            <a:off x="324000" y="1989000"/>
            <a:ext cx="8208720" cy="4464360"/>
          </a:xfrm>
          <a:prstGeom prst="rect">
            <a:avLst/>
          </a:prstGeom>
          <a:solidFill>
            <a:srgbClr val="ffffff"/>
          </a:solidFill>
          <a:ln w="0">
            <a:noFill/>
          </a:ln>
          <a:effectLst>
            <a:outerShdw dist="117181" dir="2961631"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ea typeface="Simplified Arabic"/>
              </a:rPr>
              <a:t>... هي ضمانات قانونية عالمية. </a:t>
            </a:r>
            <a:br>
              <a:rPr sz="2400"/>
            </a:br>
            <a:r>
              <a:rPr b="0" lang="ar-JO" sz="2400" spc="-1" strike="noStrike">
                <a:solidFill>
                  <a:srgbClr val="000000"/>
                </a:solidFill>
                <a:latin typeface="Arial"/>
                <a:ea typeface="Simplified Arabic"/>
              </a:rPr>
              <a:t>... هي حقوق مدنية وسياسية واقتصادية واجتماعية وثقافية. </a:t>
            </a:r>
            <a:br>
              <a:rPr sz="2400"/>
            </a:br>
            <a:r>
              <a:rPr b="0" lang="ar-JO" sz="2400" spc="-1" strike="noStrike">
                <a:solidFill>
                  <a:srgbClr val="000000"/>
                </a:solidFill>
                <a:latin typeface="Arial"/>
                <a:ea typeface="Simplified Arabic"/>
              </a:rPr>
              <a:t>... هي حقوق تحمي القيم الإنسانية (الحرية والمساواة والكرامة). </a:t>
            </a:r>
            <a:br>
              <a:rPr sz="2400"/>
            </a:br>
            <a:r>
              <a:rPr b="0" lang="ar-JO" sz="2400" spc="-1" strike="noStrike">
                <a:solidFill>
                  <a:srgbClr val="000000"/>
                </a:solidFill>
                <a:latin typeface="Arial"/>
                <a:ea typeface="Simplified Arabic"/>
              </a:rPr>
              <a:t>... هي حقوق أصيلة وملازمة للأفراد - وإلى حد ما - للجماعات. </a:t>
            </a:r>
            <a:br>
              <a:rPr sz="2400"/>
            </a:br>
            <a:r>
              <a:rPr b="0" lang="ar-JO" sz="2400" spc="-1" strike="noStrike">
                <a:solidFill>
                  <a:srgbClr val="000000"/>
                </a:solidFill>
                <a:latin typeface="Arial"/>
                <a:ea typeface="Simplified Arabic"/>
              </a:rPr>
              <a:t>... هي حقوق موضَّحة في الأعراف والمعايير الدولية. </a:t>
            </a:r>
            <a:br>
              <a:rPr sz="2400"/>
            </a:br>
            <a:r>
              <a:rPr b="0" lang="ar-JO" sz="2400" spc="-1" strike="noStrike">
                <a:solidFill>
                  <a:srgbClr val="000000"/>
                </a:solidFill>
                <a:latin typeface="Arial"/>
                <a:ea typeface="Simplified Arabic"/>
              </a:rPr>
              <a:t>... هي حقوق مُلزمة قانونياً للدو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07" name=""/>
          <p:cNvSpPr/>
          <p:nvPr/>
        </p:nvSpPr>
        <p:spPr>
          <a:xfrm>
            <a:off x="1763640" y="404640"/>
            <a:ext cx="6553440" cy="6426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9900"/>
                </a:solidFill>
                <a:latin typeface="Arial"/>
                <a:cs typeface="Arial"/>
              </a:rPr>
              <a:t>التزامات حقوق الإنسان</a:t>
            </a:r>
            <a:endParaRPr b="0" lang="en-US" sz="3600" spc="-1" strike="noStrike">
              <a:solidFill>
                <a:srgbClr val="000000"/>
              </a:solidFill>
              <a:latin typeface="Arial"/>
            </a:endParaRPr>
          </a:p>
        </p:txBody>
      </p:sp>
      <p:sp>
        <p:nvSpPr>
          <p:cNvPr id="108" name=""/>
          <p:cNvSpPr/>
          <p:nvPr/>
        </p:nvSpPr>
        <p:spPr>
          <a:xfrm>
            <a:off x="1979640" y="1268280"/>
            <a:ext cx="52563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التزام القائمين بالواجبات:</a:t>
            </a:r>
            <a:endParaRPr b="0" lang="en-US" sz="2800" spc="-1" strike="noStrike">
              <a:solidFill>
                <a:srgbClr val="000000"/>
              </a:solidFill>
              <a:latin typeface="Arial"/>
            </a:endParaRPr>
          </a:p>
        </p:txBody>
      </p:sp>
      <p:sp>
        <p:nvSpPr>
          <p:cNvPr id="109" name=""/>
          <p:cNvSpPr/>
          <p:nvPr/>
        </p:nvSpPr>
        <p:spPr>
          <a:xfrm>
            <a:off x="4211640" y="206064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125892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 name=""/>
          <p:cNvSpPr/>
          <p:nvPr/>
        </p:nvSpPr>
        <p:spPr>
          <a:xfrm>
            <a:off x="414036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 name=""/>
          <p:cNvSpPr/>
          <p:nvPr/>
        </p:nvSpPr>
        <p:spPr>
          <a:xfrm>
            <a:off x="6948360" y="3645000"/>
            <a:ext cx="685800" cy="838080"/>
          </a:xfrm>
          <a:prstGeom prst="downArrow">
            <a:avLst>
              <a:gd name="adj1" fmla="val 50000"/>
              <a:gd name="adj2" fmla="val 30551"/>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1128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إحقاق الحقوق</a:t>
            </a:r>
            <a:endParaRPr b="0" lang="en-US" sz="2800" spc="-1" strike="noStrike">
              <a:solidFill>
                <a:srgbClr val="000000"/>
              </a:solidFill>
              <a:latin typeface="Arial"/>
            </a:endParaRPr>
          </a:p>
        </p:txBody>
      </p:sp>
      <p:sp>
        <p:nvSpPr>
          <p:cNvPr id="114" name=""/>
          <p:cNvSpPr/>
          <p:nvPr/>
        </p:nvSpPr>
        <p:spPr>
          <a:xfrm>
            <a:off x="341964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حماية الحقوق</a:t>
            </a:r>
            <a:endParaRPr b="0" lang="en-US" sz="2800" spc="-1" strike="noStrike">
              <a:solidFill>
                <a:srgbClr val="000000"/>
              </a:solidFill>
              <a:latin typeface="Arial"/>
            </a:endParaRPr>
          </a:p>
        </p:txBody>
      </p:sp>
      <p:sp>
        <p:nvSpPr>
          <p:cNvPr id="115" name=""/>
          <p:cNvSpPr/>
          <p:nvPr/>
        </p:nvSpPr>
        <p:spPr>
          <a:xfrm>
            <a:off x="6227640" y="3068640"/>
            <a:ext cx="2073240" cy="947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باحترام الحقوق</a:t>
            </a:r>
            <a:endParaRPr b="0" lang="en-US" sz="2800" spc="-1" strike="noStrike">
              <a:solidFill>
                <a:srgbClr val="000000"/>
              </a:solidFill>
              <a:latin typeface="Arial"/>
            </a:endParaRPr>
          </a:p>
        </p:txBody>
      </p:sp>
      <p:sp>
        <p:nvSpPr>
          <p:cNvPr id="116" name=""/>
          <p:cNvSpPr/>
          <p:nvPr/>
        </p:nvSpPr>
        <p:spPr>
          <a:xfrm>
            <a:off x="3419640" y="4724280"/>
            <a:ext cx="2304720" cy="2531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منع الآخرين من التدخل في التمتُّع بالحقوق</a:t>
            </a:r>
            <a:endParaRPr b="0" lang="en-US" sz="3200" spc="-1" strike="noStrike">
              <a:solidFill>
                <a:srgbClr val="000000"/>
              </a:solidFill>
              <a:latin typeface="Arial"/>
            </a:endParaRPr>
          </a:p>
        </p:txBody>
      </p:sp>
      <p:sp>
        <p:nvSpPr>
          <p:cNvPr id="117" name=""/>
          <p:cNvSpPr/>
          <p:nvPr/>
        </p:nvSpPr>
        <p:spPr>
          <a:xfrm>
            <a:off x="539640" y="4724280"/>
            <a:ext cx="2303640" cy="22269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Arial"/>
              </a:rPr>
              <a:t>تبنِّي تدابير ملائمة تجاه الإحقاق التام للحقوق</a:t>
            </a:r>
            <a:endParaRPr b="0" lang="en-US" sz="2800" spc="-1" strike="noStrike">
              <a:solidFill>
                <a:srgbClr val="000000"/>
              </a:solidFill>
              <a:latin typeface="Arial"/>
            </a:endParaRPr>
          </a:p>
        </p:txBody>
      </p:sp>
      <p:sp>
        <p:nvSpPr>
          <p:cNvPr id="118" name=""/>
          <p:cNvSpPr/>
          <p:nvPr/>
        </p:nvSpPr>
        <p:spPr>
          <a:xfrm>
            <a:off x="6156360" y="4724280"/>
            <a:ext cx="2217600" cy="2531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200" spc="-1" strike="noStrike">
                <a:solidFill>
                  <a:srgbClr val="000000"/>
                </a:solidFill>
                <a:latin typeface="Arial"/>
                <a:cs typeface="Arial"/>
              </a:rPr>
              <a:t>الامتناع عن التدخل في التمتع بالحقو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63640" y="115920"/>
            <a:ext cx="6337440" cy="836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Arial"/>
              </a:rPr>
              <a:t>أنظمة حقوق الإنسان</a:t>
            </a:r>
            <a:endParaRPr b="0" lang="en-US" sz="4400" spc="-1" strike="noStrike">
              <a:solidFill>
                <a:srgbClr val="000000"/>
              </a:solidFill>
              <a:latin typeface="Arial"/>
            </a:endParaRPr>
          </a:p>
        </p:txBody>
      </p:sp>
      <p:sp>
        <p:nvSpPr>
          <p:cNvPr id="120" name=""/>
          <p:cNvSpPr/>
          <p:nvPr/>
        </p:nvSpPr>
        <p:spPr>
          <a:xfrm>
            <a:off x="2340000" y="1052640"/>
            <a:ext cx="4824360" cy="4537080"/>
          </a:xfrm>
          <a:prstGeom prst="flowChartConnector">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995640" y="2492280"/>
            <a:ext cx="1584360" cy="1511280"/>
          </a:xfrm>
          <a:prstGeom prst="flowChartConnector">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851280" y="2565360"/>
            <a:ext cx="1871640" cy="116028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ميثاق الأمم المتحدة</a:t>
            </a:r>
            <a:endParaRPr b="0" lang="en-US" sz="1200" spc="-1" strike="noStrike">
              <a:solidFill>
                <a:srgbClr val="000000"/>
              </a:solidFill>
              <a:latin typeface="Arial"/>
            </a:endParaRPr>
          </a:p>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لإعلان العالمي لحقوق الإنسان </a:t>
            </a:r>
            <a:endParaRPr b="0" lang="en-US" sz="1200" spc="-1" strike="noStrike">
              <a:solidFill>
                <a:srgbClr val="000000"/>
              </a:solidFill>
              <a:latin typeface="Arial"/>
            </a:endParaRPr>
          </a:p>
          <a:p>
            <a:pPr algn="ctr" rtl="1">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Arial"/>
              </a:rPr>
              <a:t>اتفاقية حقوق الإنسان</a:t>
            </a:r>
            <a:endParaRPr b="0" lang="en-US" sz="1200" spc="-1" strike="noStrike">
              <a:solidFill>
                <a:srgbClr val="000000"/>
              </a:solidFill>
              <a:latin typeface="Arial"/>
            </a:endParaRPr>
          </a:p>
        </p:txBody>
      </p:sp>
      <p:sp>
        <p:nvSpPr>
          <p:cNvPr id="123" name=""/>
          <p:cNvSpPr/>
          <p:nvPr/>
        </p:nvSpPr>
        <p:spPr>
          <a:xfrm>
            <a:off x="3059280" y="1125360"/>
            <a:ext cx="1441440" cy="8600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ميثاق الدولي للحقوق المدنية والسياسية</a:t>
            </a:r>
            <a:endParaRPr b="0" lang="en-US" sz="1400" spc="-1" strike="noStrike">
              <a:solidFill>
                <a:srgbClr val="000000"/>
              </a:solidFill>
              <a:latin typeface="Arial"/>
            </a:endParaRPr>
          </a:p>
        </p:txBody>
      </p:sp>
      <p:sp>
        <p:nvSpPr>
          <p:cNvPr id="124" name=""/>
          <p:cNvSpPr/>
          <p:nvPr/>
        </p:nvSpPr>
        <p:spPr>
          <a:xfrm>
            <a:off x="4788000" y="1125360"/>
            <a:ext cx="1439640" cy="124308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ميثاق الدولي للحقوق الاقتصادية والاجتماعية والثقافية</a:t>
            </a:r>
            <a:endParaRPr b="0" lang="en-US" sz="1400" spc="-1" strike="noStrike">
              <a:solidFill>
                <a:srgbClr val="000000"/>
              </a:solidFill>
              <a:latin typeface="Arial"/>
            </a:endParaRPr>
          </a:p>
        </p:txBody>
      </p:sp>
      <p:sp>
        <p:nvSpPr>
          <p:cNvPr id="125" name=""/>
          <p:cNvSpPr/>
          <p:nvPr/>
        </p:nvSpPr>
        <p:spPr>
          <a:xfrm>
            <a:off x="2627280" y="1844640"/>
            <a:ext cx="1366920" cy="82404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ffff"/>
                </a:solidFill>
                <a:latin typeface="Arial"/>
                <a:cs typeface="Arial"/>
              </a:rPr>
              <a:t>اتفاقية القضاء على جميع أشكال التمييز العنصري</a:t>
            </a:r>
            <a:endParaRPr b="0" lang="en-US" sz="1200" spc="-1" strike="noStrike">
              <a:solidFill>
                <a:srgbClr val="000000"/>
              </a:solidFill>
              <a:latin typeface="Arial"/>
            </a:endParaRPr>
          </a:p>
        </p:txBody>
      </p:sp>
      <p:sp>
        <p:nvSpPr>
          <p:cNvPr id="126" name=""/>
          <p:cNvSpPr/>
          <p:nvPr/>
        </p:nvSpPr>
        <p:spPr>
          <a:xfrm>
            <a:off x="5653080" y="1844640"/>
            <a:ext cx="1440000" cy="1051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تفاقية القضاء على جميع أشكال التمييز ضد المرأة</a:t>
            </a:r>
            <a:endParaRPr b="0" lang="en-US" sz="1400" spc="-1" strike="noStrike">
              <a:solidFill>
                <a:srgbClr val="000000"/>
              </a:solidFill>
              <a:latin typeface="Arial"/>
            </a:endParaRPr>
          </a:p>
        </p:txBody>
      </p:sp>
      <p:sp>
        <p:nvSpPr>
          <p:cNvPr id="127" name=""/>
          <p:cNvSpPr/>
          <p:nvPr/>
        </p:nvSpPr>
        <p:spPr>
          <a:xfrm>
            <a:off x="6012000" y="2637000"/>
            <a:ext cx="1584360" cy="8553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000" spc="-1" strike="noStrike">
                <a:solidFill>
                  <a:srgbClr val="ffffff"/>
                </a:solidFill>
                <a:latin typeface="Arial"/>
                <a:cs typeface="Arial"/>
              </a:rPr>
              <a:t>اتفاقية مناهضة التعذيب (وغيره من ضروب المعاملة أو العقوبة القاسية أو اللاإنسانية أو المُهينة)</a:t>
            </a:r>
            <a:endParaRPr b="0" lang="en-US" sz="1000" spc="-1" strike="noStrike">
              <a:solidFill>
                <a:srgbClr val="000000"/>
              </a:solidFill>
              <a:latin typeface="Arial"/>
            </a:endParaRPr>
          </a:p>
        </p:txBody>
      </p:sp>
      <p:sp>
        <p:nvSpPr>
          <p:cNvPr id="128" name=""/>
          <p:cNvSpPr/>
          <p:nvPr/>
        </p:nvSpPr>
        <p:spPr>
          <a:xfrm>
            <a:off x="2195640" y="2637000"/>
            <a:ext cx="1079280" cy="988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7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تفاقية حقوق الطفل</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29" name=""/>
          <p:cNvGrpSpPr/>
          <p:nvPr/>
        </p:nvGrpSpPr>
        <p:grpSpPr>
          <a:xfrm>
            <a:off x="2997720" y="3718080"/>
            <a:ext cx="3508560" cy="3042360"/>
            <a:chOff x="2997720" y="3718080"/>
            <a:chExt cx="3508560" cy="3042360"/>
          </a:xfrm>
        </p:grpSpPr>
        <p:sp>
          <p:nvSpPr>
            <p:cNvPr id="130" name="_s594958"/>
            <p:cNvSpPr/>
            <p:nvPr/>
          </p:nvSpPr>
          <p:spPr>
            <a:xfrm flipV="1">
              <a:off x="3874680" y="3717720"/>
              <a:ext cx="1754280" cy="1521000"/>
            </a:xfrm>
            <a:custGeom>
              <a:avLst/>
              <a:gdLst>
                <a:gd name="textAreaLeft" fmla="*/ 629280 w 1754280"/>
                <a:gd name="textAreaRight" fmla="*/ 1125000 w 1754280"/>
                <a:gd name="textAreaTop" fmla="*/ 545760 h 1521000"/>
                <a:gd name="textAreaBottom" fmla="*/ 975240 h 1521000"/>
              </a:gdLst>
              <a:ahLst/>
              <a:rect l="textAreaLeft" t="textAreaTop" r="textAreaRight" b="textAreaBottom"/>
              <a:pathLst>
                <a:path w="21600" h="21600">
                  <a:moveTo>
                    <a:pt x="0" y="0"/>
                  </a:moveTo>
                  <a:lnTo>
                    <a:pt x="21600" y="0"/>
                  </a:lnTo>
                  <a:lnTo>
                    <a:pt x="10800" y="21600"/>
                  </a:lnTo>
                  <a:lnTo>
                    <a:pt x="10800" y="21600"/>
                  </a:lnTo>
                  <a:close/>
                </a:path>
              </a:pathLst>
            </a:cu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marL="343080" indent="-343080"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_s594959"/>
            <p:cNvSpPr/>
            <p:nvPr/>
          </p:nvSpPr>
          <p:spPr>
            <a:xfrm flipV="1">
              <a:off x="2997720" y="5239080"/>
              <a:ext cx="3508560" cy="1521000"/>
            </a:xfrm>
            <a:custGeom>
              <a:avLst/>
              <a:gdLst>
                <a:gd name="textAreaLeft" fmla="*/ 771480 w 3508560"/>
                <a:gd name="textAreaRight" fmla="*/ 2737080 w 3508560"/>
                <a:gd name="textAreaTop" fmla="*/ 334440 h 1521000"/>
                <a:gd name="textAreaBottom" fmla="*/ 1186560 h 1521000"/>
              </a:gdLst>
              <a:ahLst/>
              <a:rect l="textAreaLeft" t="textAreaTop" r="textAreaRight" b="textAreaBottom"/>
              <a:pathLst>
                <a:path w="21600" h="21600">
                  <a:moveTo>
                    <a:pt x="0" y="0"/>
                  </a:moveTo>
                  <a:lnTo>
                    <a:pt x="21600" y="0"/>
                  </a:lnTo>
                  <a:lnTo>
                    <a:pt x="16200" y="21600"/>
                  </a:lnTo>
                  <a:lnTo>
                    <a:pt x="5400" y="21600"/>
                  </a:lnTo>
                  <a:close/>
                </a:path>
              </a:pathLst>
            </a:cu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Simplified Arabic"/>
                </a:rPr>
                <a:t>الأنظمة </a:t>
              </a:r>
              <a:endParaRPr b="0" lang="en-US" sz="32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Simplified Arabic"/>
                </a:rPr>
                <a:t>الوطنية للحماية</a:t>
              </a:r>
              <a:endParaRPr b="0" lang="en-US" sz="3200" spc="-1" strike="noStrike">
                <a:solidFill>
                  <a:srgbClr val="000000"/>
                </a:solidFill>
                <a:latin typeface="Arial"/>
              </a:endParaRPr>
            </a:p>
          </p:txBody>
        </p:sp>
      </p:grpSp>
      <p:sp>
        <p:nvSpPr>
          <p:cNvPr id="132" name=""/>
          <p:cNvSpPr/>
          <p:nvPr/>
        </p:nvSpPr>
        <p:spPr>
          <a:xfrm>
            <a:off x="6012000" y="3429000"/>
            <a:ext cx="2520720" cy="8607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Arial"/>
                <a:cs typeface="Arial"/>
              </a:rPr>
              <a:t>الاتفاقية الدولية لحماية حقوق جميع العمال المهاجرين وأفراد أسرهم</a:t>
            </a:r>
            <a:endParaRPr b="0" lang="en-US" sz="1400" spc="-1" strike="noStrike">
              <a:solidFill>
                <a:srgbClr val="000000"/>
              </a:solidFill>
              <a:latin typeface="Arial"/>
            </a:endParaRPr>
          </a:p>
        </p:txBody>
      </p:sp>
      <p:sp>
        <p:nvSpPr>
          <p:cNvPr id="133" name=""/>
          <p:cNvSpPr/>
          <p:nvPr/>
        </p:nvSpPr>
        <p:spPr>
          <a:xfrm>
            <a:off x="1619280" y="3429000"/>
            <a:ext cx="2303280" cy="8982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Arial"/>
              </a:rPr>
              <a:t>الأدوات الدولية الأخرى</a:t>
            </a:r>
            <a:endParaRPr b="0" lang="en-US" sz="2400" spc="-1" strike="noStrike">
              <a:solidFill>
                <a:srgbClr val="000000"/>
              </a:solidFill>
              <a:latin typeface="Arial"/>
            </a:endParaRPr>
          </a:p>
        </p:txBody>
      </p:sp>
      <p:sp>
        <p:nvSpPr>
          <p:cNvPr id="134" name=""/>
          <p:cNvSpPr/>
          <p:nvPr/>
        </p:nvSpPr>
        <p:spPr>
          <a:xfrm>
            <a:off x="5508720" y="4149720"/>
            <a:ext cx="2735280" cy="7304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rtl="1">
              <a:lnSpc>
                <a:spcPct val="1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ffffff"/>
                </a:solidFill>
                <a:latin typeface="Arial"/>
                <a:cs typeface="Arial"/>
              </a:rPr>
              <a:t>الأنظمة الإقليمي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2"/>
                                        </p:tgtEl>
                                        <p:attrNameLst>
                                          <p:attrName>style.visibility</p:attrName>
                                        </p:attrNameLst>
                                      </p:cBhvr>
                                      <p:to>
                                        <p:strVal val="visible"/>
                                      </p:to>
                                    </p:set>
                                    <p:animEffect filter="box(in)" transition="in">
                                      <p:cBhvr additive="repl">
                                        <p:cTn id="18" dur="500"/>
                                        <p:tgtEl>
                                          <p:spTgt spid="12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8"/>
                                        </p:tgtEl>
                                        <p:attrNameLst>
                                          <p:attrName>style.visibility</p:attrName>
                                        </p:attrNameLst>
                                      </p:cBhvr>
                                      <p:to>
                                        <p:strVal val="visible"/>
                                      </p:to>
                                    </p:set>
                                    <p:animEffect filter="box(in)" transition="in">
                                      <p:cBhvr additive="repl">
                                        <p:cTn id="23" dur="500"/>
                                        <p:tgtEl>
                                          <p:spTgt spid="128"/>
                                        </p:tgtEl>
                                      </p:cBhvr>
                                    </p:animEffect>
                                  </p:childTnLst>
                                </p:cTn>
                              </p:par>
                              <p:par>
                                <p:cTn id="24" nodeType="withEffect" fill="hold" presetClass="entr" presetID="4" presetSubtype="16">
                                  <p:stCondLst>
                                    <p:cond delay="0"/>
                                  </p:stCondLst>
                                  <p:childTnLst>
                                    <p:set>
                                      <p:cBhvr>
                                        <p:cTn id="25" dur="1" fill="hold">
                                          <p:stCondLst>
                                            <p:cond delay="0"/>
                                          </p:stCondLst>
                                        </p:cTn>
                                        <p:tgtEl>
                                          <p:spTgt spid="125"/>
                                        </p:tgtEl>
                                        <p:attrNameLst>
                                          <p:attrName>style.visibility</p:attrName>
                                        </p:attrNameLst>
                                      </p:cBhvr>
                                      <p:to>
                                        <p:strVal val="visible"/>
                                      </p:to>
                                    </p:set>
                                    <p:animEffect filter="box(in)" transition="in">
                                      <p:cBhvr additive="repl">
                                        <p:cTn id="26" dur="500"/>
                                        <p:tgtEl>
                                          <p:spTgt spid="125"/>
                                        </p:tgtEl>
                                      </p:cBhvr>
                                    </p:animEffect>
                                  </p:childTnLst>
                                </p:cTn>
                              </p:par>
                              <p:par>
                                <p:cTn id="27" nodeType="withEffect" fill="hold" presetClass="entr" presetID="4" presetSubtype="16">
                                  <p:stCondLst>
                                    <p:cond delay="0"/>
                                  </p:stCondLst>
                                  <p:childTnLst>
                                    <p:set>
                                      <p:cBhvr>
                                        <p:cTn id="28" dur="1" fill="hold">
                                          <p:stCondLst>
                                            <p:cond delay="0"/>
                                          </p:stCondLst>
                                        </p:cTn>
                                        <p:tgtEl>
                                          <p:spTgt spid="123"/>
                                        </p:tgtEl>
                                        <p:attrNameLst>
                                          <p:attrName>style.visibility</p:attrName>
                                        </p:attrNameLst>
                                      </p:cBhvr>
                                      <p:to>
                                        <p:strVal val="visible"/>
                                      </p:to>
                                    </p:set>
                                    <p:animEffect filter="box(in)" transition="in">
                                      <p:cBhvr additive="repl">
                                        <p:cTn id="29" dur="500"/>
                                        <p:tgtEl>
                                          <p:spTgt spid="123"/>
                                        </p:tgtEl>
                                      </p:cBhvr>
                                    </p:animEffect>
                                  </p:childTnLst>
                                </p:cTn>
                              </p:par>
                              <p:par>
                                <p:cTn id="30" nodeType="withEffect" fill="hold" presetClass="entr" presetID="4" presetSubtype="16">
                                  <p:stCondLst>
                                    <p:cond delay="0"/>
                                  </p:stCondLst>
                                  <p:childTnLst>
                                    <p:set>
                                      <p:cBhvr>
                                        <p:cTn id="31" dur="1" fill="hold">
                                          <p:stCondLst>
                                            <p:cond delay="0"/>
                                          </p:stCondLst>
                                        </p:cTn>
                                        <p:tgtEl>
                                          <p:spTgt spid="124"/>
                                        </p:tgtEl>
                                        <p:attrNameLst>
                                          <p:attrName>style.visibility</p:attrName>
                                        </p:attrNameLst>
                                      </p:cBhvr>
                                      <p:to>
                                        <p:strVal val="visible"/>
                                      </p:to>
                                    </p:set>
                                    <p:animEffect filter="box(in)" transition="in">
                                      <p:cBhvr additive="repl">
                                        <p:cTn id="32" dur="500"/>
                                        <p:tgtEl>
                                          <p:spTgt spid="124"/>
                                        </p:tgtEl>
                                      </p:cBhvr>
                                    </p:animEffect>
                                  </p:childTnLst>
                                </p:cTn>
                              </p:par>
                              <p:par>
                                <p:cTn id="33" nodeType="withEffect" fill="hold" presetClass="entr" presetID="4" presetSubtype="16">
                                  <p:stCondLst>
                                    <p:cond delay="0"/>
                                  </p:stCondLst>
                                  <p:childTnLst>
                                    <p:set>
                                      <p:cBhvr>
                                        <p:cTn id="34" dur="1" fill="hold">
                                          <p:stCondLst>
                                            <p:cond delay="0"/>
                                          </p:stCondLst>
                                        </p:cTn>
                                        <p:tgtEl>
                                          <p:spTgt spid="126"/>
                                        </p:tgtEl>
                                        <p:attrNameLst>
                                          <p:attrName>style.visibility</p:attrName>
                                        </p:attrNameLst>
                                      </p:cBhvr>
                                      <p:to>
                                        <p:strVal val="visible"/>
                                      </p:to>
                                    </p:set>
                                    <p:animEffect filter="box(in)" transition="in">
                                      <p:cBhvr additive="repl">
                                        <p:cTn id="35" dur="500"/>
                                        <p:tgtEl>
                                          <p:spTgt spid="126"/>
                                        </p:tgtEl>
                                      </p:cBhvr>
                                    </p:animEffect>
                                  </p:childTnLst>
                                </p:cTn>
                              </p:par>
                              <p:par>
                                <p:cTn id="36" nodeType="withEffect" fill="hold" presetClass="entr" presetID="4" presetSubtype="16">
                                  <p:stCondLst>
                                    <p:cond delay="0"/>
                                  </p:stCondLst>
                                  <p:childTnLst>
                                    <p:set>
                                      <p:cBhvr>
                                        <p:cTn id="37" dur="1" fill="hold">
                                          <p:stCondLst>
                                            <p:cond delay="0"/>
                                          </p:stCondLst>
                                        </p:cTn>
                                        <p:tgtEl>
                                          <p:spTgt spid="127"/>
                                        </p:tgtEl>
                                        <p:attrNameLst>
                                          <p:attrName>style.visibility</p:attrName>
                                        </p:attrNameLst>
                                      </p:cBhvr>
                                      <p:to>
                                        <p:strVal val="visible"/>
                                      </p:to>
                                    </p:set>
                                    <p:animEffect filter="box(in)" transition="in">
                                      <p:cBhvr additive="repl">
                                        <p:cTn id="38" dur="500"/>
                                        <p:tgtEl>
                                          <p:spTgt spid="127"/>
                                        </p:tgtEl>
                                      </p:cBhvr>
                                    </p:animEffect>
                                  </p:childTnLst>
                                </p:cTn>
                              </p:par>
                              <p:par>
                                <p:cTn id="39" nodeType="withEffect" fill="hold" presetClass="entr" presetID="4" presetSubtype="16">
                                  <p:stCondLst>
                                    <p:cond delay="0"/>
                                  </p:stCondLst>
                                  <p:childTnLst>
                                    <p:set>
                                      <p:cBhvr>
                                        <p:cTn id="40" dur="1" fill="hold">
                                          <p:stCondLst>
                                            <p:cond delay="0"/>
                                          </p:stCondLst>
                                        </p:cTn>
                                        <p:tgtEl>
                                          <p:spTgt spid="132"/>
                                        </p:tgtEl>
                                        <p:attrNameLst>
                                          <p:attrName>style.visibility</p:attrName>
                                        </p:attrNameLst>
                                      </p:cBhvr>
                                      <p:to>
                                        <p:strVal val="visible"/>
                                      </p:to>
                                    </p:set>
                                    <p:animEffect filter="box(in)" transition="in">
                                      <p:cBhvr additive="repl">
                                        <p:cTn id="41" dur="500"/>
                                        <p:tgtEl>
                                          <p:spTgt spid="13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33"/>
                                        </p:tgtEl>
                                        <p:attrNameLst>
                                          <p:attrName>style.visibility</p:attrName>
                                        </p:attrNameLst>
                                      </p:cBhvr>
                                      <p:to>
                                        <p:strVal val="visible"/>
                                      </p:to>
                                    </p:set>
                                    <p:animEffect filter="box(in)" transition="in">
                                      <p:cBhvr additive="repl">
                                        <p:cTn id="46" dur="500"/>
                                        <p:tgtEl>
                                          <p:spTgt spid="13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34"/>
                                        </p:tgtEl>
                                        <p:attrNameLst>
                                          <p:attrName>style.visibility</p:attrName>
                                        </p:attrNameLst>
                                      </p:cBhvr>
                                      <p:to>
                                        <p:strVal val="visible"/>
                                      </p:to>
                                    </p:set>
                                    <p:animEffect filter="box(in)" transition="in">
                                      <p:cBhvr additive="repl">
                                        <p:cTn id="51" dur="500"/>
                                        <p:tgtEl>
                                          <p:spTgt spid="13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base">
                                        <p:cTn id="56" dur="500" fill="hold"/>
                                        <p:tgtEl>
                                          <p:spTgt spid="129"/>
                                        </p:tgtEl>
                                        <p:attrNameLst>
                                          <p:attrName>ppt_x</p:attrName>
                                        </p:attrNameLst>
                                      </p:cBhvr>
                                      <p:tavLst>
                                        <p:tav tm="0">
                                          <p:val>
                                            <p:strVal val="#ppt_x"/>
                                          </p:val>
                                        </p:tav>
                                        <p:tav tm="100000">
                                          <p:val>
                                            <p:strVal val="#ppt_x"/>
                                          </p:val>
                                        </p:tav>
                                      </p:tavLst>
                                    </p:anim>
                                    <p:anim calcmode="lin" valueType="num">
                                      <p:cBhvr additive="base">
                                        <p:cTn id="57"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43280" y="1915920"/>
            <a:ext cx="4034160" cy="4392360"/>
          </a:xfrm>
          <a:prstGeom prst="rect">
            <a:avLst/>
          </a:prstGeom>
          <a:solidFill>
            <a:srgbClr val="ffffff"/>
          </a:solidFill>
          <a:ln w="0">
            <a:noFill/>
          </a:ln>
        </p:spPr>
        <p:txBody>
          <a:bodyPr lIns="90000" rIns="90000" tIns="46800" bIns="46800" anchor="t">
            <a:normAutofit fontScale="87000"/>
          </a:bodyPr>
          <a:p>
            <a:pPr marL="29844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حقوق الواردة في جميع المعاهدات  الدولية لحقوق الإنسان. </a:t>
            </a: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تطلب اتفاقية القضاء على جميع أشكال التمييز ضد المرأة تدابير شاملة للقضاء على التمييز ضد المرأة في جميع مجالات حياتها. </a:t>
            </a:r>
            <a:endParaRPr b="0" lang="en-US" sz="2400" spc="-1" strike="noStrike">
              <a:solidFill>
                <a:srgbClr val="000000"/>
              </a:solidFill>
              <a:latin typeface="Times New Roman"/>
            </a:endParaRPr>
          </a:p>
          <a:p>
            <a:pPr marL="298440" indent="-298440" algn="just" rtl="1">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أكثرُ من </a:t>
            </a:r>
            <a:r>
              <a:rPr b="0" lang="ar-JO" sz="2400" spc="-1" strike="noStrike">
                <a:solidFill>
                  <a:srgbClr val="000000"/>
                </a:solidFill>
                <a:latin typeface="Times New Roman"/>
                <a:ea typeface="Simplified Arabic"/>
              </a:rPr>
              <a:t>90</a:t>
            </a:r>
            <a:r>
              <a:rPr b="0" lang="ar-JO" sz="2400" spc="-1" strike="noStrike">
                <a:solidFill>
                  <a:srgbClr val="000000"/>
                </a:solidFill>
                <a:latin typeface="Times New Roman"/>
                <a:ea typeface="Simplified Arabic"/>
              </a:rPr>
              <a:t>% من الدول الأعضاء في الأمم المتحدة هي دولٌ أطرافٌ في اتفاقية القضاء على جميع أشكال التمييز ضد المرأة. </a:t>
            </a:r>
            <a:endParaRPr b="0" lang="en-US" sz="2400" spc="-1" strike="noStrike">
              <a:solidFill>
                <a:srgbClr val="000000"/>
              </a:solidFill>
              <a:latin typeface="Times New Roman"/>
            </a:endParaRPr>
          </a:p>
        </p:txBody>
      </p:sp>
      <p:sp>
        <p:nvSpPr>
          <p:cNvPr id="136" name="PlaceHolder 2"/>
          <p:cNvSpPr>
            <a:spLocks noGrp="1"/>
          </p:cNvSpPr>
          <p:nvPr>
            <p:ph/>
          </p:nvPr>
        </p:nvSpPr>
        <p:spPr>
          <a:xfrm>
            <a:off x="395280" y="2349000"/>
            <a:ext cx="4038480" cy="3816360"/>
          </a:xfrm>
          <a:prstGeom prst="rect">
            <a:avLst/>
          </a:prstGeom>
          <a:solidFill>
            <a:srgbClr val="ffffff"/>
          </a:solidFill>
          <a:ln w="0">
            <a:noFill/>
          </a:ln>
        </p:spPr>
        <p:txBody>
          <a:bodyPr lIns="90000" rIns="90000" tIns="46800" bIns="46800" anchor="t">
            <a:normAutofit/>
          </a:bodyPr>
          <a:p>
            <a:pPr marL="3430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المعايير موجودة في:</a:t>
            </a:r>
            <a:endParaRPr b="0" lang="en-US" sz="2000" spc="-1" strike="noStrike">
              <a:solidFill>
                <a:srgbClr val="000000"/>
              </a:solidFill>
              <a:latin typeface="Times New Roman"/>
            </a:endParaRPr>
          </a:p>
          <a:p>
            <a:pPr marL="343080"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تفاقية القضاء على جميع أشكال التمييز ضد المرأة.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يثاق الدولي للحقوق المدنية والسياسية والميثاق الدولي للحقوق الاقتصادية والاجتماعية والثقافية.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عاهدات الدولية الأخرى، مثل اتفاقية حقوق الطفل. </a:t>
            </a:r>
            <a:endParaRPr b="0" lang="en-US" sz="1800" spc="-1" strike="noStrike">
              <a:solidFill>
                <a:srgbClr val="000000"/>
              </a:solidFill>
              <a:latin typeface="Times New Roman"/>
            </a:endParaRPr>
          </a:p>
          <a:p>
            <a:pPr marL="343080" indent="-343080" algn="just" rtl="1">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Simplified Arabic"/>
              </a:rPr>
              <a:t>المعاهدات الإقليمية، مثل بروتوكول الميثاق الإفريقي لحقوق المرأة.</a:t>
            </a:r>
            <a:endParaRPr b="0" lang="en-US" sz="1800" spc="-1" strike="noStrike">
              <a:solidFill>
                <a:srgbClr val="000000"/>
              </a:solidFill>
              <a:latin typeface="Times New Roman"/>
            </a:endParaRPr>
          </a:p>
          <a:p>
            <a:pPr marL="343080" indent="0" algn="just"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1763640" y="189000"/>
            <a:ext cx="6840720" cy="12826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JO" sz="4000" spc="-1" strike="noStrike">
                <a:solidFill>
                  <a:srgbClr val="000000"/>
                </a:solidFill>
                <a:latin typeface="Arial"/>
                <a:cs typeface="Arial"/>
              </a:rPr>
              <a:t>الحقوق الإنسانية للمرأة</a:t>
            </a: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19280" y="476280"/>
            <a:ext cx="7524720" cy="7192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ea typeface="Arial"/>
              </a:rPr>
              <a:t>   القانون الإنساني الدولي...</a:t>
            </a:r>
            <a:endParaRPr b="0" lang="en-US" sz="4000" spc="-1" strike="noStrike">
              <a:solidFill>
                <a:srgbClr val="000000"/>
              </a:solidFill>
              <a:latin typeface="Arial"/>
            </a:endParaRPr>
          </a:p>
        </p:txBody>
      </p:sp>
      <p:sp>
        <p:nvSpPr>
          <p:cNvPr id="139" name=""/>
          <p:cNvSpPr/>
          <p:nvPr/>
        </p:nvSpPr>
        <p:spPr>
          <a:xfrm>
            <a:off x="468360" y="1771560"/>
            <a:ext cx="4390920" cy="46101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343080" indent="-2858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تفاقيات </a:t>
            </a:r>
            <a:r>
              <a:rPr b="1" lang="ar-JO" sz="2400" spc="-1" strike="noStrike">
                <a:solidFill>
                  <a:srgbClr val="000000"/>
                </a:solidFill>
                <a:latin typeface="Arial"/>
                <a:cs typeface="Arial"/>
              </a:rPr>
              <a:t>جنيڤ</a:t>
            </a:r>
            <a:r>
              <a:rPr b="1" lang="ar-JO" sz="2400" spc="-1" strike="noStrike">
                <a:solidFill>
                  <a:srgbClr val="000000"/>
                </a:solidFill>
                <a:latin typeface="Arial"/>
                <a:ea typeface="Simplified Arabic"/>
              </a:rPr>
              <a:t> الأربع</a:t>
            </a:r>
            <a:endParaRPr b="0" lang="en-US" sz="2400" spc="-1" strike="noStrike">
              <a:solidFill>
                <a:srgbClr val="000000"/>
              </a:solidFill>
              <a:latin typeface="Arial"/>
            </a:endParaRPr>
          </a:p>
          <a:p>
            <a:pPr marL="343080" indent="-285840"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 </a:t>
            </a:r>
            <a:r>
              <a:rPr b="0" lang="ar-JO" sz="2400" spc="-1" strike="noStrike">
                <a:solidFill>
                  <a:srgbClr val="000000"/>
                </a:solidFill>
                <a:latin typeface="Arial"/>
                <a:cs typeface="Simplified Arabic"/>
              </a:rPr>
              <a:t>الأولى لتحسين حال الجرحى والمرضى بالقوات المسلحة في الميدان. </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ثانية لتحسين حال جرحى ومرضى وغرقى القوات المسلحة (في البحر).</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ثالثة بشأن معاملة سجناء الحرب.</a:t>
            </a:r>
            <a:endParaRPr b="0" lang="en-US" sz="2400" spc="-1" strike="noStrike">
              <a:solidFill>
                <a:srgbClr val="000000"/>
              </a:solidFill>
              <a:latin typeface="Arial"/>
            </a:endParaRPr>
          </a:p>
          <a:p>
            <a:pPr marL="343080" indent="-285840" algn="just" rtl="1">
              <a:lnSpc>
                <a:spcPct val="100000"/>
              </a:lnSpc>
              <a:spcBef>
                <a:spcPts val="601"/>
              </a:spcBef>
              <a:buClr>
                <a:srgbClr val="ffff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تفاقية </a:t>
            </a:r>
            <a:r>
              <a:rPr b="0" lang="ar-JO" sz="2400" spc="-1" strike="noStrike">
                <a:solidFill>
                  <a:srgbClr val="000000"/>
                </a:solidFill>
                <a:latin typeface="Arial"/>
                <a:cs typeface="Arial"/>
              </a:rPr>
              <a:t>جنيڤ</a:t>
            </a:r>
            <a:r>
              <a:rPr b="0" lang="ar-JO" sz="2400" spc="-1" strike="noStrike">
                <a:solidFill>
                  <a:srgbClr val="000000"/>
                </a:solidFill>
                <a:latin typeface="Arial"/>
                <a:ea typeface="Simplified Arabic"/>
              </a:rPr>
              <a:t> الرابعة بشأن حماية الأشخاص المدنيين في وقت الحرب. </a:t>
            </a:r>
            <a:endParaRPr b="0" lang="en-US" sz="2400" spc="-1" strike="noStrike">
              <a:solidFill>
                <a:srgbClr val="000000"/>
              </a:solidFill>
              <a:latin typeface="Arial"/>
            </a:endParaRPr>
          </a:p>
        </p:txBody>
      </p:sp>
      <p:sp>
        <p:nvSpPr>
          <p:cNvPr id="140" name=""/>
          <p:cNvSpPr/>
          <p:nvPr/>
        </p:nvSpPr>
        <p:spPr>
          <a:xfrm>
            <a:off x="5003640" y="1989000"/>
            <a:ext cx="3816360" cy="4319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هو عبارة عن مجموعة من القواعد التي تسعى </a:t>
            </a:r>
            <a:r>
              <a:rPr b="1" i="1" lang="ar-JO" sz="2400" spc="-1" strike="noStrike">
                <a:solidFill>
                  <a:srgbClr val="000000"/>
                </a:solidFill>
                <a:latin typeface="Arial"/>
                <a:cs typeface="Simplified Arabic"/>
              </a:rPr>
              <a:t>إلى الحد من آثار النزاع المسلح. </a:t>
            </a:r>
            <a:endParaRPr b="0" lang="en-US" sz="2400" spc="-1" strike="noStrike">
              <a:solidFill>
                <a:srgbClr val="000000"/>
              </a:solidFill>
              <a:latin typeface="Arial"/>
            </a:endParaRPr>
          </a:p>
          <a:p>
            <a:pPr algn="just" rtl="1">
              <a:lnSpc>
                <a:spcPct val="12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وهو يحمي الأشخاص الذين لا يشاركون، أو لم يعودوا يشاركون، في الأعمال العدائية.</a:t>
            </a:r>
            <a:endParaRPr b="0" lang="en-US" sz="2400" spc="-1" strike="noStrike">
              <a:solidFill>
                <a:srgbClr val="000000"/>
              </a:solidFill>
              <a:latin typeface="Arial"/>
            </a:endParaRPr>
          </a:p>
          <a:p>
            <a:pPr algn="just" rtl="1">
              <a:lnSpc>
                <a:spcPct val="12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وهو يُقيِّد وسائل الحرب وطرق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92000" y="259920"/>
            <a:ext cx="727236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Arial"/>
              </a:rPr>
              <a:t>الأمم المتحدة وحقوق الإنسان</a:t>
            </a:r>
            <a:endParaRPr b="0" lang="en-US" sz="4400" spc="-1" strike="noStrike">
              <a:solidFill>
                <a:srgbClr val="000000"/>
              </a:solidFill>
              <a:latin typeface="Arial"/>
            </a:endParaRPr>
          </a:p>
        </p:txBody>
      </p:sp>
      <p:pic>
        <p:nvPicPr>
          <p:cNvPr id="58" name="" descr=""/>
          <p:cNvPicPr/>
          <p:nvPr/>
        </p:nvPicPr>
        <p:blipFill>
          <a:blip r:embed="rId1"/>
          <a:stretch/>
        </p:blipFill>
        <p:spPr>
          <a:xfrm>
            <a:off x="0" y="1557360"/>
            <a:ext cx="8964720" cy="50180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7429"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8"/>
                    </p:tgtEl>
                  </p:cond>
                </p:stCondLst>
                <p:childTnLst>
                  <p:par>
                    <p:cTn id="8" fill="hold">
                      <p:stCondLst>
                        <p:cond evt="onClick">
                          <p:tgtEl>
                            <p:spTgt spid="5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95640" y="260280"/>
            <a:ext cx="6121440" cy="936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أنظمة الإقليمية لحقوق الإنسان</a:t>
            </a:r>
            <a:endParaRPr b="0" lang="en-US" sz="4000" spc="-1" strike="noStrike">
              <a:solidFill>
                <a:srgbClr val="000000"/>
              </a:solidFill>
              <a:latin typeface="Arial"/>
            </a:endParaRPr>
          </a:p>
        </p:txBody>
      </p:sp>
      <p:sp>
        <p:nvSpPr>
          <p:cNvPr id="142" name="PlaceHolder 2"/>
          <p:cNvSpPr>
            <a:spLocks noGrp="1"/>
          </p:cNvSpPr>
          <p:nvPr>
            <p:ph/>
          </p:nvPr>
        </p:nvSpPr>
        <p:spPr>
          <a:xfrm>
            <a:off x="4498560" y="1412640"/>
            <a:ext cx="4321080" cy="5040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a:bodyPr>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أدوات</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أوروبا:</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اتفاقية الأوروبية لحماية حقوق الإنسان والحريات الأساس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الأمريكيتان:</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اتفاقية الأمريكية لحقوق الإنسان واتفاقية ”سان خوسيه“ بشأن الحقوق الاقتصادية والاجتماعية والثقاف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إفريقيا:</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يثاق الإفريقي لحقوق الإنسان والشعوب. </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3300"/>
                </a:solidFill>
                <a:latin typeface="Times New Roman"/>
                <a:cs typeface="Simplified Arabic"/>
              </a:rPr>
              <a:t>الدول العربية:</a:t>
            </a:r>
            <a:endParaRPr b="0" lang="en-US" sz="2000" spc="-1" strike="noStrike">
              <a:solidFill>
                <a:srgbClr val="000000"/>
              </a:solidFill>
              <a:latin typeface="Times New Roman"/>
            </a:endParaRPr>
          </a:p>
          <a:p>
            <a:pPr indent="0" algn="just"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يثاق العربي لحقوق الإنسان.</a:t>
            </a:r>
            <a:endParaRPr b="0" lang="en-US" sz="2000" spc="-1" strike="noStrike">
              <a:solidFill>
                <a:srgbClr val="000000"/>
              </a:solidFill>
              <a:latin typeface="Times New Roman"/>
            </a:endParaRPr>
          </a:p>
        </p:txBody>
      </p:sp>
      <p:sp>
        <p:nvSpPr>
          <p:cNvPr id="143" name="PlaceHolder 3"/>
          <p:cNvSpPr>
            <a:spLocks noGrp="1"/>
          </p:cNvSpPr>
          <p:nvPr>
            <p:ph/>
          </p:nvPr>
        </p:nvSpPr>
        <p:spPr>
          <a:xfrm>
            <a:off x="396720" y="1773360"/>
            <a:ext cx="3888000" cy="4680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a:bodyPr>
          <a:p>
            <a:pPr marL="57240" indent="0" algn="ct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آليات العمل</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الأوروب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فوضية عبر الأمريك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عبر الأمريكية لحقوق الإنسان.</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فوضية الإفريقية لحقوق الإنسان والشعوب.</a:t>
            </a:r>
            <a:endParaRPr b="0" lang="en-US" sz="2000" spc="-1" strike="noStrike">
              <a:solidFill>
                <a:srgbClr val="000000"/>
              </a:solidFill>
              <a:latin typeface="Times New Roman"/>
            </a:endParaRPr>
          </a:p>
          <a:p>
            <a:pPr marL="57240" indent="0" algn="just"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حكمة الإفريقية لحقوق الإنسان والشعو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0560" y="549360"/>
            <a:ext cx="590580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أنظمة الوطنية لحماية حقوق الإنسان</a:t>
            </a:r>
            <a:endParaRPr b="0" lang="en-US" sz="3600" spc="-1" strike="noStrike">
              <a:solidFill>
                <a:srgbClr val="000000"/>
              </a:solidFill>
              <a:latin typeface="Arial"/>
            </a:endParaRPr>
          </a:p>
        </p:txBody>
      </p:sp>
      <p:sp>
        <p:nvSpPr>
          <p:cNvPr id="145" name=""/>
          <p:cNvSpPr/>
          <p:nvPr/>
        </p:nvSpPr>
        <p:spPr>
          <a:xfrm>
            <a:off x="1547640" y="2492280"/>
            <a:ext cx="6193080" cy="3816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874800" indent="-609840" algn="just" rtl="1">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أُطر العمل الدستورية والتشريعية.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مؤسسات العاملة (البرلمانات، الحكومات، الجهاز القضائي، الإدارة العامة، مؤسسات حقوق الإنسان).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سياسات والإجراءات والعمليات. </a:t>
            </a:r>
            <a:endParaRPr b="0" lang="en-US" sz="2800" spc="-1" strike="noStrike">
              <a:solidFill>
                <a:srgbClr val="000000"/>
              </a:solidFill>
              <a:latin typeface="Arial"/>
            </a:endParaRPr>
          </a:p>
          <a:p>
            <a:pPr marL="874800" indent="-609840" algn="just" rtl="1">
              <a:lnSpc>
                <a:spcPct val="12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لمجتمع المدني النابض بالحيا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331560"/>
            <a:ext cx="7200720" cy="115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روابط بين الأنظمة الدولية والإقليمية والوطنية</a:t>
            </a:r>
            <a:endParaRPr b="0" lang="en-US" sz="3600" spc="-1" strike="noStrike">
              <a:solidFill>
                <a:srgbClr val="000000"/>
              </a:solidFill>
              <a:latin typeface="Arial"/>
            </a:endParaRPr>
          </a:p>
        </p:txBody>
      </p:sp>
      <p:sp>
        <p:nvSpPr>
          <p:cNvPr id="147" name="PlaceHolder 2"/>
          <p:cNvSpPr>
            <a:spLocks noGrp="1"/>
          </p:cNvSpPr>
          <p:nvPr>
            <p:ph type="subTitle"/>
          </p:nvPr>
        </p:nvSpPr>
        <p:spPr>
          <a:xfrm>
            <a:off x="323640" y="1413000"/>
            <a:ext cx="8569080" cy="4968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تتطلب الأعراف الدولية والإقليمية أن يكون تنفيذ </a:t>
            </a:r>
            <a:r>
              <a:rPr b="1" lang="ar-JO" sz="3000" spc="-1" strike="noStrike">
                <a:solidFill>
                  <a:srgbClr val="000000"/>
                </a:solidFill>
                <a:latin typeface="Arial"/>
                <a:cs typeface="Simplified Arabic"/>
              </a:rPr>
              <a:t>الأنظمة الوطنية</a:t>
            </a:r>
            <a:r>
              <a:rPr b="0" lang="ar-JO" sz="3000" spc="-1" strike="noStrike">
                <a:solidFill>
                  <a:srgbClr val="000000"/>
                </a:solidFill>
                <a:latin typeface="Arial"/>
                <a:ea typeface="Simplified Arabic"/>
              </a:rPr>
              <a:t> فعَّالاً.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جب أن </a:t>
            </a:r>
            <a:r>
              <a:rPr b="1" lang="ar-JO" sz="3000" spc="-1" strike="noStrike">
                <a:solidFill>
                  <a:srgbClr val="000000"/>
                </a:solidFill>
                <a:latin typeface="Arial"/>
                <a:cs typeface="Simplified Arabic"/>
              </a:rPr>
              <a:t>تتوافق</a:t>
            </a:r>
            <a:r>
              <a:rPr b="0" lang="ar-JO" sz="3000" spc="-1" strike="noStrike">
                <a:solidFill>
                  <a:srgbClr val="000000"/>
                </a:solidFill>
                <a:latin typeface="Arial"/>
                <a:ea typeface="Simplified Arabic"/>
              </a:rPr>
              <a:t> الأعراف الوطنية مع المعايير الدولية والإقليمية.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توفير الحماية القضائية الدولية والإقليمية عندما </a:t>
            </a:r>
            <a:r>
              <a:rPr b="1" lang="ar-JO" sz="3000" spc="-1" strike="noStrike">
                <a:solidFill>
                  <a:srgbClr val="000000"/>
                </a:solidFill>
                <a:latin typeface="Arial"/>
                <a:cs typeface="Simplified Arabic"/>
              </a:rPr>
              <a:t>تُستنفد الحلول الوطنية. </a:t>
            </a:r>
            <a:endParaRPr b="0" lang="en-US" sz="3000" spc="-1" strike="noStrike">
              <a:solidFill>
                <a:srgbClr val="000000"/>
              </a:solidFill>
              <a:latin typeface="Times New Roman"/>
            </a:endParaRPr>
          </a:p>
          <a:p>
            <a:pPr marL="514440" indent="-457200" algn="just" rtl="1">
              <a:lnSpc>
                <a:spcPct val="130000"/>
              </a:lnSpc>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الحمايتان الدولية والإقليمية </a:t>
            </a:r>
            <a:r>
              <a:rPr b="1" lang="ar-JO" sz="3000" spc="-1" strike="noStrike">
                <a:solidFill>
                  <a:srgbClr val="000000"/>
                </a:solidFill>
                <a:latin typeface="Arial"/>
                <a:cs typeface="Simplified Arabic"/>
              </a:rPr>
              <a:t>تُتَمِّمان</a:t>
            </a:r>
            <a:r>
              <a:rPr b="0" lang="ar-JO" sz="3000" spc="-1" strike="noStrike">
                <a:solidFill>
                  <a:srgbClr val="000000"/>
                </a:solidFill>
                <a:latin typeface="Arial"/>
                <a:ea typeface="Simplified Arabic"/>
              </a:rPr>
              <a:t> بعضهما بعضاً.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360" y="475920"/>
            <a:ext cx="7200720" cy="115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آليات العمل الدولية: </a:t>
            </a:r>
            <a:br>
              <a:rPr sz="4000"/>
            </a:br>
            <a:r>
              <a:rPr b="0" lang="ar-JO" sz="3200" spc="-1" strike="noStrike">
                <a:solidFill>
                  <a:srgbClr val="000000"/>
                </a:solidFill>
                <a:latin typeface="Arial"/>
                <a:cs typeface="Simplified Arabic"/>
              </a:rPr>
              <a:t>دور هيئات (مراقبة) المعاهدة</a:t>
            </a:r>
            <a:endParaRPr b="0" lang="en-US" sz="3200" spc="-1" strike="noStrike">
              <a:solidFill>
                <a:srgbClr val="000000"/>
              </a:solidFill>
              <a:latin typeface="Arial"/>
            </a:endParaRPr>
          </a:p>
        </p:txBody>
      </p:sp>
      <p:sp>
        <p:nvSpPr>
          <p:cNvPr id="149" name="PlaceHolder 2"/>
          <p:cNvSpPr>
            <a:spLocks noGrp="1"/>
          </p:cNvSpPr>
          <p:nvPr>
            <p:ph type="subTitle"/>
          </p:nvPr>
        </p:nvSpPr>
        <p:spPr>
          <a:xfrm>
            <a:off x="250560" y="2204640"/>
            <a:ext cx="8426520" cy="403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Arial"/>
                <a:cs typeface="Simplified Arabic"/>
              </a:rPr>
              <a:t>متابعة وتسهيل </a:t>
            </a:r>
            <a:r>
              <a:rPr b="0" lang="ar-JO" sz="2400" spc="-1" strike="noStrike" u="sng">
                <a:solidFill>
                  <a:srgbClr val="000000"/>
                </a:solidFill>
                <a:uFillTx/>
                <a:latin typeface="Arial"/>
                <a:cs typeface="Simplified Arabic"/>
              </a:rPr>
              <a:t>تنفيذ المعاهدة من خلال: </a:t>
            </a:r>
            <a:endParaRPr b="0" lang="en-US" sz="24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دراسة تقارير الدول الأطراف</a:t>
            </a:r>
            <a:r>
              <a:rPr b="0" lang="ar-JO" sz="2000" spc="-1" strike="noStrike">
                <a:solidFill>
                  <a:srgbClr val="000000"/>
                </a:solidFill>
                <a:latin typeface="Arial"/>
                <a:ea typeface="Simplified Arabic"/>
              </a:rPr>
              <a:t> ومصادر المعلومات الإضافية</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ملاحظات والتوصيات</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تعليقات العامة</a:t>
            </a:r>
            <a:r>
              <a:rPr b="0" lang="ar-JO" sz="2000" spc="-1" strike="noStrike">
                <a:solidFill>
                  <a:srgbClr val="000000"/>
                </a:solidFill>
                <a:latin typeface="Arial"/>
                <a:ea typeface="Simplified Arabic"/>
              </a:rPr>
              <a:t> على معايير حقوق الإنسان التي تحتويها المعاهدة</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دراسة </a:t>
            </a:r>
            <a:r>
              <a:rPr b="1" lang="ar-JO" sz="2000" spc="-1" strike="noStrike">
                <a:solidFill>
                  <a:srgbClr val="000000"/>
                </a:solidFill>
                <a:latin typeface="Arial"/>
                <a:cs typeface="Simplified Arabic"/>
              </a:rPr>
              <a:t>الشكاوى الفردية</a:t>
            </a:r>
            <a:r>
              <a:rPr b="0" lang="ar-JO" sz="2000" spc="-1" strike="noStrike">
                <a:solidFill>
                  <a:srgbClr val="000000"/>
                </a:solidFill>
                <a:latin typeface="Arial"/>
                <a:ea typeface="Simplified Arabic"/>
              </a:rPr>
              <a:t> (بعضها)</a:t>
            </a:r>
            <a:endParaRPr b="0" lang="en-US" sz="2000" spc="-1" strike="noStrike">
              <a:solidFill>
                <a:srgbClr val="000000"/>
              </a:solidFill>
              <a:latin typeface="Times New Roman"/>
            </a:endParaRPr>
          </a:p>
          <a:p>
            <a:pPr indent="264960" algn="r" rtl="1">
              <a:lnSpc>
                <a:spcPct val="15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استيضاحات السرِّية</a:t>
            </a:r>
            <a:r>
              <a:rPr b="0" lang="ar-JO" sz="2000" spc="-1" strike="noStrike">
                <a:solidFill>
                  <a:srgbClr val="000000"/>
                </a:solidFill>
                <a:latin typeface="Arial"/>
                <a:ea typeface="Simplified Arabic"/>
              </a:rPr>
              <a:t> (بعض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50" name=""/>
          <p:cNvSpPr/>
          <p:nvPr/>
        </p:nvSpPr>
        <p:spPr>
          <a:xfrm>
            <a:off x="4140360" y="2637000"/>
            <a:ext cx="914400" cy="6094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
          <p:cNvGrpSpPr/>
          <p:nvPr/>
        </p:nvGrpSpPr>
        <p:grpSpPr>
          <a:xfrm>
            <a:off x="1374120" y="1074240"/>
            <a:ext cx="7477560" cy="5749920"/>
            <a:chOff x="1374120" y="1074240"/>
            <a:chExt cx="7477560" cy="5749920"/>
          </a:xfrm>
        </p:grpSpPr>
        <p:sp>
          <p:nvSpPr>
            <p:cNvPr id="152" name="_s607237"/>
            <p:cNvSpPr/>
            <p:nvPr/>
          </p:nvSpPr>
          <p:spPr>
            <a:xfrm>
              <a:off x="2670480" y="1134720"/>
              <a:ext cx="4885200" cy="3817800"/>
            </a:xfrm>
            <a:custGeom>
              <a:avLst/>
              <a:gdLst>
                <a:gd name="textAreaLeft" fmla="*/ 0 w 4885200"/>
                <a:gd name="textAreaRight" fmla="*/ 4885560 w 4885200"/>
                <a:gd name="textAreaTop" fmla="*/ 0 h 3817800"/>
                <a:gd name="textAreaBottom" fmla="*/ 3818160 h 3817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3" name="_s607238"/>
            <p:cNvSpPr/>
            <p:nvPr/>
          </p:nvSpPr>
          <p:spPr>
            <a:xfrm rot="7200000">
              <a:off x="3872160" y="1506600"/>
              <a:ext cx="3818520" cy="4885200"/>
            </a:xfrm>
            <a:custGeom>
              <a:avLst/>
              <a:gdLst>
                <a:gd name="textAreaLeft" fmla="*/ 0 w 3818520"/>
                <a:gd name="textAreaRight" fmla="*/ 3818880 w 3818520"/>
                <a:gd name="textAreaTop" fmla="*/ 0 h 4885200"/>
                <a:gd name="textAreaBottom" fmla="*/ 4885560 h 4885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4" name="_s607239"/>
            <p:cNvSpPr/>
            <p:nvPr/>
          </p:nvSpPr>
          <p:spPr>
            <a:xfrm rot="14400000">
              <a:off x="2534400" y="1506240"/>
              <a:ext cx="3818520" cy="4885200"/>
            </a:xfrm>
            <a:custGeom>
              <a:avLst/>
              <a:gdLst>
                <a:gd name="textAreaLeft" fmla="*/ 0 w 3818520"/>
                <a:gd name="textAreaRight" fmla="*/ 3818880 w 3818520"/>
                <a:gd name="textAreaTop" fmla="*/ 0 h 4885200"/>
                <a:gd name="textAreaBottom" fmla="*/ 4885560 h 4885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5" name="_s607240"/>
            <p:cNvSpPr/>
            <p:nvPr/>
          </p:nvSpPr>
          <p:spPr>
            <a:xfrm>
              <a:off x="6450120" y="1833120"/>
              <a:ext cx="1959840" cy="1531800"/>
            </a:xfrm>
            <a:prstGeom prst="rect">
              <a:avLst/>
            </a:prstGeom>
            <a:noFill/>
            <a:ln w="0">
              <a:noFill/>
            </a:ln>
          </p:spPr>
          <p:style>
            <a:lnRef idx="0"/>
            <a:fillRef idx="0"/>
            <a:effectRef idx="0"/>
            <a:fontRef idx="minor"/>
          </p:style>
          <p:txBody>
            <a:bodyPr wrap="none" lIns="0" rIns="0" tIns="0" bIns="0" anchor="ctr">
              <a:noAutofit/>
            </a:bodyPr>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الملاحظات </a:t>
              </a:r>
              <a:endParaRPr b="0" lang="en-US" sz="2500" spc="-1" strike="noStrike">
                <a:solidFill>
                  <a:srgbClr val="000000"/>
                </a:solidFill>
                <a:latin typeface="Arial"/>
              </a:endParaRPr>
            </a:p>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الختامية</a:t>
              </a:r>
              <a:endParaRPr b="0" lang="en-US" sz="2500" spc="-1" strike="noStrike">
                <a:solidFill>
                  <a:srgbClr val="000000"/>
                </a:solidFill>
                <a:latin typeface="Arial"/>
              </a:endParaRPr>
            </a:p>
          </p:txBody>
        </p:sp>
        <p:sp>
          <p:nvSpPr>
            <p:cNvPr id="156" name="_s607241"/>
            <p:cNvSpPr/>
            <p:nvPr/>
          </p:nvSpPr>
          <p:spPr>
            <a:xfrm>
              <a:off x="4136040" y="4973400"/>
              <a:ext cx="1959480" cy="1531800"/>
            </a:xfrm>
            <a:prstGeom prst="rect">
              <a:avLst/>
            </a:prstGeom>
            <a:solidFill>
              <a:srgbClr val="6699ff"/>
            </a:solidFill>
            <a:ln w="0">
              <a:noFill/>
            </a:ln>
          </p:spPr>
          <p:style>
            <a:lnRef idx="0"/>
            <a:fillRef idx="0"/>
            <a:effectRef idx="0"/>
            <a:fontRef idx="minor"/>
          </p:style>
          <p:txBody>
            <a:bodyPr wrap="none" lIns="0" rIns="0" tIns="0" bIns="0" anchor="ctr">
              <a:noAutofit/>
            </a:bodyPr>
            <a:p>
              <a:pPr marL="343080" indent="-343080" algn="ctr" rtl="1">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cc3300"/>
                  </a:solidFill>
                  <a:latin typeface="Arial"/>
                  <a:cs typeface="Simplified Arabic"/>
                </a:rPr>
                <a:t>الدولة </a:t>
              </a:r>
              <a:endParaRPr b="0" lang="en-US" sz="2600" spc="-1" strike="noStrike">
                <a:solidFill>
                  <a:srgbClr val="000000"/>
                </a:solidFill>
                <a:latin typeface="Arial"/>
              </a:endParaRPr>
            </a:p>
            <a:p>
              <a:pPr marL="343080" indent="-343080" algn="ctr" rtl="1">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cc3300"/>
                  </a:solidFill>
                  <a:latin typeface="Arial"/>
                  <a:cs typeface="Simplified Arabic"/>
                </a:rPr>
                <a:t>المجتمع المدني</a:t>
              </a:r>
              <a:endParaRPr b="0" lang="en-US" sz="2600" spc="-1" strike="noStrike">
                <a:solidFill>
                  <a:srgbClr val="000000"/>
                </a:solidFill>
                <a:latin typeface="Arial"/>
              </a:endParaRPr>
            </a:p>
          </p:txBody>
        </p:sp>
        <p:sp>
          <p:nvSpPr>
            <p:cNvPr id="157" name="_s607242"/>
            <p:cNvSpPr/>
            <p:nvPr/>
          </p:nvSpPr>
          <p:spPr>
            <a:xfrm>
              <a:off x="1813320" y="1834920"/>
              <a:ext cx="1959840" cy="1531800"/>
            </a:xfrm>
            <a:prstGeom prst="rect">
              <a:avLst/>
            </a:prstGeom>
            <a:noFill/>
            <a:ln w="0">
              <a:noFill/>
            </a:ln>
          </p:spPr>
          <p:style>
            <a:lnRef idx="0"/>
            <a:fillRef idx="0"/>
            <a:effectRef idx="0"/>
            <a:fontRef idx="minor"/>
          </p:style>
          <p:txBody>
            <a:bodyPr wrap="none" lIns="0" rIns="0" tIns="0" bIns="0" anchor="ctr">
              <a:noAutofit/>
            </a:bodyPr>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تقارير الدولة </a:t>
              </a:r>
              <a:endParaRPr b="0" lang="en-US" sz="2500" spc="-1" strike="noStrike">
                <a:solidFill>
                  <a:srgbClr val="000000"/>
                </a:solidFill>
                <a:latin typeface="Arial"/>
              </a:endParaRPr>
            </a:p>
            <a:p>
              <a:pPr algn="ctr" rtl="1">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Arial"/>
                  <a:cs typeface="Simplified Arabic"/>
                </a:rPr>
                <a:t>تقارير الظل</a:t>
              </a:r>
              <a:endParaRPr b="0" lang="en-US" sz="2500" spc="-1" strike="noStrike">
                <a:solidFill>
                  <a:srgbClr val="000000"/>
                </a:solidFill>
                <a:latin typeface="Arial"/>
              </a:endParaRPr>
            </a:p>
          </p:txBody>
        </p:sp>
      </p:grpSp>
      <p:sp>
        <p:nvSpPr>
          <p:cNvPr id="158" name=""/>
          <p:cNvSpPr/>
          <p:nvPr/>
        </p:nvSpPr>
        <p:spPr>
          <a:xfrm>
            <a:off x="3203640" y="189000"/>
            <a:ext cx="3095640" cy="489960"/>
          </a:xfrm>
          <a:prstGeom prst="rect">
            <a:avLst/>
          </a:prstGeom>
          <a:solidFill>
            <a:srgbClr val="6699ff"/>
          </a:solidFill>
          <a:ln w="0">
            <a:noFill/>
          </a:ln>
        </p:spPr>
        <p:style>
          <a:lnRef idx="0"/>
          <a:fillRef idx="0"/>
          <a:effectRef idx="0"/>
          <a:fontRef idx="minor"/>
        </p:style>
        <p:txBody>
          <a:bodyPr lIns="90000" rIns="90000" tIns="46800" bIns="46800" anchor="t">
            <a:spAutoFit/>
          </a:bodyPr>
          <a:p>
            <a:pPr marL="343080" indent="-343080" algn="ct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Arial"/>
              </a:rPr>
              <a:t>هيئات المعاهدة</a:t>
            </a:r>
            <a:endParaRPr b="0" lang="en-US" sz="2600" spc="-1" strike="noStrike">
              <a:solidFill>
                <a:srgbClr val="000000"/>
              </a:solidFill>
              <a:latin typeface="Arial"/>
            </a:endParaRPr>
          </a:p>
        </p:txBody>
      </p:sp>
      <p:grpSp>
        <p:nvGrpSpPr>
          <p:cNvPr id="159" name=""/>
          <p:cNvGrpSpPr/>
          <p:nvPr/>
        </p:nvGrpSpPr>
        <p:grpSpPr>
          <a:xfrm>
            <a:off x="1793880" y="848880"/>
            <a:ext cx="6278400" cy="4870800"/>
            <a:chOff x="1793880" y="848880"/>
            <a:chExt cx="6278400" cy="4870800"/>
          </a:xfrm>
        </p:grpSpPr>
        <p:sp>
          <p:nvSpPr>
            <p:cNvPr id="160" name="_s607246"/>
            <p:cNvSpPr/>
            <p:nvPr/>
          </p:nvSpPr>
          <p:spPr>
            <a:xfrm flipH="1">
              <a:off x="3418200" y="4219560"/>
              <a:ext cx="760320" cy="37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1" name="_s607247"/>
            <p:cNvSpPr/>
            <p:nvPr/>
          </p:nvSpPr>
          <p:spPr>
            <a:xfrm>
              <a:off x="1793880" y="4221360"/>
              <a:ext cx="174492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يدعم </a:t>
              </a:r>
              <a:endParaRPr b="0" lang="en-US" sz="1900" spc="-1" strike="noStrike">
                <a:solidFill>
                  <a:srgbClr val="000000"/>
                </a:solidFill>
                <a:latin typeface="Arial"/>
              </a:endParaRPr>
            </a:p>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عملية إعداد التقارير</a:t>
              </a:r>
              <a:endParaRPr b="0" lang="en-US" sz="1900" spc="-1" strike="noStrike">
                <a:solidFill>
                  <a:srgbClr val="000000"/>
                </a:solidFill>
                <a:latin typeface="Arial"/>
              </a:endParaRPr>
            </a:p>
          </p:txBody>
        </p:sp>
        <p:sp>
          <p:nvSpPr>
            <p:cNvPr id="162" name="_s607248"/>
            <p:cNvSpPr/>
            <p:nvPr/>
          </p:nvSpPr>
          <p:spPr>
            <a:xfrm>
              <a:off x="5684760" y="4219560"/>
              <a:ext cx="75816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3" name="_s607249"/>
            <p:cNvSpPr/>
            <p:nvPr/>
          </p:nvSpPr>
          <p:spPr>
            <a:xfrm>
              <a:off x="6327000" y="4221360"/>
              <a:ext cx="174528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ea typeface="Simplified Arabic"/>
                </a:rPr>
                <a:t>   يقدّم البرامج التي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تدعم تنفيذ الدولة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للمعاهدة</a:t>
              </a:r>
              <a:endParaRPr b="0" lang="en-US" sz="1900" spc="-1" strike="noStrike">
                <a:solidFill>
                  <a:srgbClr val="000000"/>
                </a:solidFill>
                <a:latin typeface="Arial"/>
              </a:endParaRPr>
            </a:p>
          </p:txBody>
        </p:sp>
        <p:sp>
          <p:nvSpPr>
            <p:cNvPr id="164" name="_s607250"/>
            <p:cNvSpPr/>
            <p:nvPr/>
          </p:nvSpPr>
          <p:spPr>
            <a:xfrm flipV="1">
              <a:off x="4931640" y="2345040"/>
              <a:ext cx="0" cy="7520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5" name="_s607251"/>
            <p:cNvSpPr/>
            <p:nvPr/>
          </p:nvSpPr>
          <p:spPr>
            <a:xfrm>
              <a:off x="4060440" y="848880"/>
              <a:ext cx="1744920" cy="149832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cs typeface="Simplified Arabic"/>
                </a:rPr>
                <a:t>تُقدِّم مُدخلاتها </a:t>
              </a:r>
              <a:endParaRPr b="0" lang="en-US" sz="1900" spc="-1" strike="noStrike">
                <a:solidFill>
                  <a:srgbClr val="000000"/>
                </a:solidFill>
                <a:latin typeface="Arial"/>
              </a:endParaRPr>
            </a:p>
            <a:p>
              <a:pPr marL="343080" indent="-343080"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Arial"/>
                  <a:ea typeface="Simplified Arabic"/>
                </a:rPr>
                <a:t>(آراءَها) الخاصة</a:t>
              </a:r>
              <a:endParaRPr b="0" lang="en-US" sz="1900" spc="-1" strike="noStrike">
                <a:solidFill>
                  <a:srgbClr val="000000"/>
                </a:solidFill>
                <a:latin typeface="Arial"/>
              </a:endParaRPr>
            </a:p>
          </p:txBody>
        </p:sp>
        <p:sp>
          <p:nvSpPr>
            <p:cNvPr id="166" name="_s607252"/>
            <p:cNvSpPr/>
            <p:nvPr/>
          </p:nvSpPr>
          <p:spPr>
            <a:xfrm>
              <a:off x="4060440" y="3097800"/>
              <a:ext cx="1744920" cy="14990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فريق الأمم </a:t>
              </a:r>
              <a:endParaRPr b="0" lang="en-US" sz="1900" spc="-1" strike="noStrike">
                <a:solidFill>
                  <a:srgbClr val="000000"/>
                </a:solidFill>
                <a:latin typeface="Arial"/>
              </a:endParaRPr>
            </a:p>
            <a:p>
              <a:pPr marL="343080" indent="-343080" algn="ctr" rtl="1">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المتحدة القُطري</a:t>
              </a:r>
              <a:endParaRPr b="0" lang="en-US" sz="1900" spc="-1" strike="noStrike">
                <a:solidFill>
                  <a:srgbClr val="000000"/>
                </a:solidFill>
                <a:latin typeface="Arial"/>
              </a:endParaRPr>
            </a:p>
          </p:txBody>
        </p:sp>
      </p:grpSp>
      <p:sp>
        <p:nvSpPr>
          <p:cNvPr id="167" name=""/>
          <p:cNvSpPr/>
          <p:nvPr/>
        </p:nvSpPr>
        <p:spPr>
          <a:xfrm>
            <a:off x="3348000" y="3500280"/>
            <a:ext cx="914400" cy="457200"/>
          </a:xfrm>
          <a:prstGeom prst="flowChartManualInpu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51"/>
                                        </p:tgtEl>
                                        <p:attrNameLst>
                                          <p:attrName>style.visibility</p:attrName>
                                        </p:attrNameLst>
                                      </p:cBhvr>
                                      <p:to>
                                        <p:strVal val="visible"/>
                                      </p:to>
                                    </p:set>
                                    <p:animEffect filter="box(in)" transition="in">
                                      <p:cBhvr additive="repl">
                                        <p:cTn id="64" dur="500"/>
                                        <p:tgtEl>
                                          <p:spTgt spid="15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59"/>
                                        </p:tgtEl>
                                        <p:attrNameLst>
                                          <p:attrName>style.visibility</p:attrName>
                                        </p:attrNameLst>
                                      </p:cBhvr>
                                      <p:to>
                                        <p:strVal val="visible"/>
                                      </p:to>
                                    </p:set>
                                    <p:animEffect filter="box(in)" transition="in">
                                      <p:cBhvr additive="repl">
                                        <p:cTn id="6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63280" y="260280"/>
            <a:ext cx="698364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مجلس حقوق الإنسان</a:t>
            </a:r>
            <a:endParaRPr b="0" lang="en-US" sz="4000" spc="-1" strike="noStrike">
              <a:solidFill>
                <a:srgbClr val="000000"/>
              </a:solidFill>
              <a:latin typeface="Arial"/>
            </a:endParaRPr>
          </a:p>
        </p:txBody>
      </p:sp>
      <p:sp>
        <p:nvSpPr>
          <p:cNvPr id="169" name="PlaceHolder 2"/>
          <p:cNvSpPr>
            <a:spLocks noGrp="1"/>
          </p:cNvSpPr>
          <p:nvPr>
            <p:ph type="subTitle"/>
          </p:nvPr>
        </p:nvSpPr>
        <p:spPr>
          <a:xfrm>
            <a:off x="324000" y="1915920"/>
            <a:ext cx="5184720" cy="4537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marL="798480" indent="0" algn="ct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ما هو عمله؟ </a:t>
            </a:r>
            <a:endParaRPr b="0" lang="en-US" sz="26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عزز الحماية العالمية.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تصدي للانتهاكات ويمنعها.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طوّر القانون الدولي.</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راجع مدى امتثال الدول الأطراف.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تجاوب مع الحالات الطارئة. </a:t>
            </a:r>
            <a:endParaRPr b="0" lang="en-US" sz="2200" spc="-1" strike="noStrike">
              <a:solidFill>
                <a:srgbClr val="000000"/>
              </a:solidFill>
              <a:latin typeface="Times New Roman"/>
            </a:endParaRPr>
          </a:p>
          <a:p>
            <a:pPr marL="798480" indent="-392040" algn="r" rtl="1">
              <a:lnSpc>
                <a:spcPct val="150000"/>
              </a:lnSpc>
              <a:spcBef>
                <a:spcPts val="55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يُشكِّل منتدى عالمي للحوار. </a:t>
            </a:r>
            <a:endParaRPr b="0" lang="en-US" sz="2200" spc="-1" strike="noStrike">
              <a:solidFill>
                <a:srgbClr val="000000"/>
              </a:solidFill>
              <a:latin typeface="Times New Roman"/>
            </a:endParaRPr>
          </a:p>
        </p:txBody>
      </p:sp>
      <p:sp>
        <p:nvSpPr>
          <p:cNvPr id="170" name=""/>
          <p:cNvSpPr/>
          <p:nvPr/>
        </p:nvSpPr>
        <p:spPr>
          <a:xfrm>
            <a:off x="6012000" y="1989000"/>
            <a:ext cx="2665440" cy="446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64960" algn="ct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Arial"/>
                <a:cs typeface="Simplified Arabic"/>
              </a:rPr>
              <a:t>ما هو؟</a:t>
            </a:r>
            <a:endParaRPr b="0" lang="en-US" sz="2200" spc="-1" strike="noStrike">
              <a:solidFill>
                <a:srgbClr val="000000"/>
              </a:solidFill>
              <a:latin typeface="Arial"/>
            </a:endParaRPr>
          </a:p>
          <a:p>
            <a:pPr marL="2649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u="sng">
                <a:solidFill>
                  <a:srgbClr val="000000"/>
                </a:solidFill>
                <a:uFillTx/>
                <a:latin typeface="Arial"/>
                <a:cs typeface="Simplified Arabic"/>
              </a:rPr>
              <a:t>هيئة فرعية تابعة للجمعية العامة،</a:t>
            </a:r>
            <a:r>
              <a:rPr b="0" lang="ar-JO" sz="2200" spc="-1" strike="noStrike">
                <a:solidFill>
                  <a:srgbClr val="000000"/>
                </a:solidFill>
                <a:latin typeface="Arial"/>
                <a:ea typeface="Simplified Arabic"/>
              </a:rPr>
              <a:t> تتألف عضويتها من الدول الأعضاء. وهي تحل محل مفوضية الأمم المتحدة لحقوق الإنسان.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47640" y="333360"/>
            <a:ext cx="7382160" cy="115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JO" sz="3600" spc="-1" strike="noStrike">
                <a:solidFill>
                  <a:srgbClr val="000000"/>
                </a:solidFill>
                <a:latin typeface="Arial"/>
                <a:cs typeface="Simplified Arabic"/>
              </a:rPr>
              <a:t>آليات العمل الدولية: الإجراءات الخاصة </a:t>
            </a:r>
            <a:endParaRPr b="0" lang="en-US" sz="3600" spc="-1" strike="noStrike">
              <a:solidFill>
                <a:srgbClr val="000000"/>
              </a:solidFill>
              <a:latin typeface="Arial"/>
            </a:endParaRPr>
          </a:p>
        </p:txBody>
      </p:sp>
      <p:sp>
        <p:nvSpPr>
          <p:cNvPr id="172" name=""/>
          <p:cNvSpPr/>
          <p:nvPr/>
        </p:nvSpPr>
        <p:spPr>
          <a:xfrm>
            <a:off x="5940360" y="1989000"/>
            <a:ext cx="2664000" cy="446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الدول:</a:t>
            </a:r>
            <a:endParaRPr b="0" lang="en-US" sz="2400" spc="-1" strike="noStrike">
              <a:solidFill>
                <a:srgbClr val="000000"/>
              </a:solidFill>
              <a:latin typeface="Arial"/>
            </a:endParaRPr>
          </a:p>
          <a:p>
            <a:pPr algn="just" rtl="1">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بيلاروسيا (روسيا البيضاء)، بورندي، كمبوديا، كوبا، جمهورية كوريا الديمقراطية الشعبية، جمهورية الكونغو الديمقراطية، هاييتي، ليبيريا، ماينمار، الأراضي الفلسطينية المحتلة، الصومال، السودان، أوزباكستان.</a:t>
            </a:r>
            <a:endParaRPr b="0" lang="en-US" sz="2000" spc="-1" strike="noStrike">
              <a:solidFill>
                <a:srgbClr val="000000"/>
              </a:solidFill>
              <a:latin typeface="Arial"/>
            </a:endParaRPr>
          </a:p>
        </p:txBody>
      </p:sp>
      <p:sp>
        <p:nvSpPr>
          <p:cNvPr id="173" name=""/>
          <p:cNvSpPr/>
          <p:nvPr/>
        </p:nvSpPr>
        <p:spPr>
          <a:xfrm>
            <a:off x="1042920" y="2421000"/>
            <a:ext cx="4608720" cy="403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28</a:t>
            </a:r>
            <a:r>
              <a:rPr b="0" lang="ar-JO" sz="2200" spc="-1" strike="noStrike">
                <a:solidFill>
                  <a:srgbClr val="000000"/>
                </a:solidFill>
                <a:latin typeface="Arial"/>
                <a:ea typeface="Simplified Arabic"/>
              </a:rPr>
              <a:t> </a:t>
            </a:r>
            <a:r>
              <a:rPr b="1" lang="ar-JO" sz="2200" spc="-1" strike="noStrike">
                <a:solidFill>
                  <a:srgbClr val="000000"/>
                </a:solidFill>
                <a:latin typeface="Arial"/>
                <a:cs typeface="Simplified Arabic"/>
              </a:rPr>
              <a:t>محوراً رئيسياً (أو ”قضيةً“)،</a:t>
            </a:r>
            <a:r>
              <a:rPr b="0" lang="ar-JO" sz="2200" spc="-1" strike="noStrike">
                <a:solidFill>
                  <a:srgbClr val="000000"/>
                </a:solidFill>
                <a:latin typeface="Arial"/>
                <a:ea typeface="Simplified Arabic"/>
              </a:rPr>
              <a:t> تشمل ما يلي:</a:t>
            </a:r>
            <a:endParaRPr b="0" lang="en-US" sz="2200" spc="-1" strike="noStrike">
              <a:solidFill>
                <a:srgbClr val="000000"/>
              </a:solidFill>
              <a:latin typeface="Arial"/>
            </a:endParaRPr>
          </a:p>
          <a:p>
            <a:pPr>
              <a:lnSpc>
                <a:spcPct val="16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الحجز العشوائي، بيع الأطفال، الحق في التعليم، الفقر المدقع، الحق في الغذاء، حرية الرأي، حرية اعتناق الدين، النازحون/المشرَّدون داخل بلدانهم، المهاجرون، السكان الأصليون، العنف ضد المرأ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174" name=""/>
          <p:cNvGrpSpPr/>
          <p:nvPr/>
        </p:nvGrpSpPr>
        <p:grpSpPr>
          <a:xfrm>
            <a:off x="793080" y="1631160"/>
            <a:ext cx="7344720" cy="5519520"/>
            <a:chOff x="793080" y="1631160"/>
            <a:chExt cx="7344720" cy="5519520"/>
          </a:xfrm>
        </p:grpSpPr>
        <p:sp>
          <p:nvSpPr>
            <p:cNvPr id="175" name="_s613380"/>
            <p:cNvSpPr/>
            <p:nvPr/>
          </p:nvSpPr>
          <p:spPr>
            <a:xfrm>
              <a:off x="2022480" y="1771560"/>
              <a:ext cx="4886280" cy="3552840"/>
            </a:xfrm>
            <a:custGeom>
              <a:avLst/>
              <a:gdLst>
                <a:gd name="textAreaLeft" fmla="*/ 0 w 4886280"/>
                <a:gd name="textAreaRight" fmla="*/ 4886640 w 4886280"/>
                <a:gd name="textAreaTop" fmla="*/ 0 h 3552840"/>
                <a:gd name="textAreaBottom" fmla="*/ 3553200 h 3552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6" name="_s613381"/>
            <p:cNvSpPr/>
            <p:nvPr/>
          </p:nvSpPr>
          <p:spPr>
            <a:xfrm rot="7200000">
              <a:off x="3357720" y="1948320"/>
              <a:ext cx="3552840" cy="4884840"/>
            </a:xfrm>
            <a:custGeom>
              <a:avLst/>
              <a:gdLst>
                <a:gd name="textAreaLeft" fmla="*/ 0 w 3552840"/>
                <a:gd name="textAreaRight" fmla="*/ 3553200 w 3552840"/>
                <a:gd name="textAreaTop" fmla="*/ 0 h 4884840"/>
                <a:gd name="textAreaBottom" fmla="*/ 4885200 h 4884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613382"/>
            <p:cNvSpPr/>
            <p:nvPr/>
          </p:nvSpPr>
          <p:spPr>
            <a:xfrm rot="14400000">
              <a:off x="2019600" y="1947960"/>
              <a:ext cx="3552840" cy="4884840"/>
            </a:xfrm>
            <a:custGeom>
              <a:avLst/>
              <a:gdLst>
                <a:gd name="textAreaLeft" fmla="*/ 0 w 3552840"/>
                <a:gd name="textAreaRight" fmla="*/ 3553200 w 3552840"/>
                <a:gd name="textAreaTop" fmla="*/ 0 h 4884840"/>
                <a:gd name="textAreaBottom" fmla="*/ 4885200 h 4884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6699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8" name="_s613383"/>
            <p:cNvSpPr/>
            <p:nvPr/>
          </p:nvSpPr>
          <p:spPr>
            <a:xfrm>
              <a:off x="5802480" y="2422440"/>
              <a:ext cx="1960560" cy="1425600"/>
            </a:xfrm>
            <a:prstGeom prst="rect">
              <a:avLst/>
            </a:prstGeom>
            <a:noFill/>
            <a:ln w="0">
              <a:noFill/>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تقديم التقارير إلى لجنة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حقوق الإنسان: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الملاحظات والتوصيات</a:t>
              </a:r>
              <a:endParaRPr b="0" lang="en-US" sz="2300" spc="-1" strike="noStrike">
                <a:solidFill>
                  <a:srgbClr val="000000"/>
                </a:solidFill>
                <a:latin typeface="Arial"/>
              </a:endParaRPr>
            </a:p>
          </p:txBody>
        </p:sp>
        <p:sp>
          <p:nvSpPr>
            <p:cNvPr id="179" name="_s613384"/>
            <p:cNvSpPr/>
            <p:nvPr/>
          </p:nvSpPr>
          <p:spPr>
            <a:xfrm>
              <a:off x="3494160" y="4735440"/>
              <a:ext cx="1958760" cy="1425600"/>
            </a:xfrm>
            <a:prstGeom prst="rect">
              <a:avLst/>
            </a:prstGeom>
            <a:solidFill>
              <a:srgbClr val="6699ff"/>
            </a:solidFill>
            <a:ln w="0">
              <a:noFill/>
            </a:ln>
          </p:spPr>
          <p:style>
            <a:lnRef idx="0"/>
            <a:fillRef idx="0"/>
            <a:effectRef idx="0"/>
            <a:fontRef idx="minor"/>
          </p:style>
          <p:txBody>
            <a:bodyPr wrap="none" lIns="0" rIns="0" tIns="0" bIns="0" anchor="t">
              <a:noAutofit/>
            </a:bodyPr>
            <a:p>
              <a:pPr marL="343080" indent="-343080" algn="ctr" rtl="1">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Simplified Arabic"/>
                </a:rPr>
                <a:t>الدولة </a:t>
              </a:r>
              <a:endParaRPr b="0" lang="en-US" sz="26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cc3300"/>
                  </a:solidFill>
                  <a:latin typeface="Arial"/>
                  <a:cs typeface="Simplified Arabic"/>
                </a:rPr>
                <a:t>المجتمع المدني </a:t>
              </a:r>
              <a:endParaRPr b="0" lang="en-US" sz="2600" spc="-1" strike="noStrike">
                <a:solidFill>
                  <a:srgbClr val="000000"/>
                </a:solidFill>
                <a:latin typeface="Arial"/>
              </a:endParaRPr>
            </a:p>
          </p:txBody>
        </p:sp>
        <p:sp>
          <p:nvSpPr>
            <p:cNvPr id="180" name="_s613385"/>
            <p:cNvSpPr/>
            <p:nvPr/>
          </p:nvSpPr>
          <p:spPr>
            <a:xfrm>
              <a:off x="1165320" y="2424240"/>
              <a:ext cx="1960560" cy="1425600"/>
            </a:xfrm>
            <a:prstGeom prst="rect">
              <a:avLst/>
            </a:prstGeom>
            <a:noFill/>
            <a:ln w="0">
              <a:noFill/>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تزويد المعلومات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وتقديم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الدعوات للزيارات</a:t>
              </a:r>
              <a:endParaRPr b="0" lang="en-US" sz="2300" spc="-1" strike="noStrike">
                <a:solidFill>
                  <a:srgbClr val="000000"/>
                </a:solidFill>
                <a:latin typeface="Arial"/>
              </a:endParaRPr>
            </a:p>
          </p:txBody>
        </p:sp>
      </p:grpSp>
      <p:sp>
        <p:nvSpPr>
          <p:cNvPr id="181" name=""/>
          <p:cNvSpPr/>
          <p:nvPr/>
        </p:nvSpPr>
        <p:spPr>
          <a:xfrm>
            <a:off x="2843280" y="503280"/>
            <a:ext cx="3816360" cy="1197000"/>
          </a:xfrm>
          <a:prstGeom prst="roundRect">
            <a:avLst>
              <a:gd name="adj" fmla="val 16667"/>
            </a:avLst>
          </a:prstGeom>
          <a:solidFill>
            <a:srgbClr val="6699ff"/>
          </a:solidFill>
          <a:ln w="0">
            <a:noFill/>
          </a:ln>
        </p:spPr>
        <p:style>
          <a:lnRef idx="0"/>
          <a:fillRef idx="0"/>
          <a:effectRef idx="0"/>
          <a:fontRef idx="minor"/>
        </p:style>
        <p:txBody>
          <a:bodyPr wrap="none" lIns="90000" rIns="90000" tIns="46800" bIns="46800" anchor="ctr">
            <a:no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cc3300"/>
                </a:solidFill>
                <a:latin typeface="Arial"/>
                <a:cs typeface="Simplified Arabic"/>
              </a:rPr>
              <a:t>الإجراءات الخاصة:</a:t>
            </a:r>
            <a:endParaRPr b="0" lang="en-US" sz="20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زيارات الدول، التواصل، البيانات، </a:t>
            </a:r>
            <a:endParaRPr b="0" lang="en-US" sz="1800" spc="-1" strike="noStrike">
              <a:solidFill>
                <a:srgbClr val="000000"/>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دراسات المواضيعية</a:t>
            </a:r>
            <a:endParaRPr b="0" lang="en-US" sz="1800" spc="-1" strike="noStrike">
              <a:solidFill>
                <a:srgbClr val="000000"/>
              </a:solidFill>
              <a:latin typeface="Arial"/>
            </a:endParaRPr>
          </a:p>
        </p:txBody>
      </p:sp>
      <p:grpSp>
        <p:nvGrpSpPr>
          <p:cNvPr id="182" name=""/>
          <p:cNvGrpSpPr/>
          <p:nvPr/>
        </p:nvGrpSpPr>
        <p:grpSpPr>
          <a:xfrm>
            <a:off x="611280" y="1713960"/>
            <a:ext cx="7445160" cy="4754880"/>
            <a:chOff x="611280" y="1713960"/>
            <a:chExt cx="7445160" cy="4754880"/>
          </a:xfrm>
        </p:grpSpPr>
        <p:sp>
          <p:nvSpPr>
            <p:cNvPr id="183" name="_s613389"/>
            <p:cNvSpPr/>
            <p:nvPr/>
          </p:nvSpPr>
          <p:spPr>
            <a:xfrm flipH="1">
              <a:off x="2611080" y="4279680"/>
              <a:ext cx="9111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4" name="_s613390"/>
            <p:cNvSpPr/>
            <p:nvPr/>
          </p:nvSpPr>
          <p:spPr>
            <a:xfrm>
              <a:off x="611280" y="3666240"/>
              <a:ext cx="2360520" cy="12272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يرفع مستوى الوعي، </a:t>
              </a:r>
              <a:endParaRPr b="0" lang="en-US" sz="2300" spc="-1" strike="noStrike">
                <a:solidFill>
                  <a:srgbClr val="000000"/>
                </a:solidFill>
                <a:latin typeface="Arial"/>
              </a:endParaRPr>
            </a:p>
            <a:p>
              <a:pPr marL="343080" indent="-343080" algn="ctr" rtl="1">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Arial"/>
                  <a:cs typeface="Simplified Arabic"/>
                </a:rPr>
                <a:t>بالأعمال الطارئة مثلاً</a:t>
              </a:r>
              <a:endParaRPr b="0" lang="en-US" sz="2300" spc="-1" strike="noStrike">
                <a:solidFill>
                  <a:srgbClr val="000000"/>
                </a:solidFill>
                <a:latin typeface="Arial"/>
              </a:endParaRPr>
            </a:p>
          </p:txBody>
        </p:sp>
        <p:sp>
          <p:nvSpPr>
            <p:cNvPr id="185" name="_s613391"/>
            <p:cNvSpPr/>
            <p:nvPr/>
          </p:nvSpPr>
          <p:spPr>
            <a:xfrm>
              <a:off x="4427640" y="4620240"/>
              <a:ext cx="3240" cy="885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6" name="_s613392"/>
            <p:cNvSpPr/>
            <p:nvPr/>
          </p:nvSpPr>
          <p:spPr>
            <a:xfrm>
              <a:off x="3206880" y="5505480"/>
              <a:ext cx="2676240" cy="9633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cs typeface="Simplified Arabic"/>
                </a:rPr>
                <a:t>المناصرة والمتابعة</a:t>
              </a:r>
              <a:endParaRPr b="0" lang="en-US" sz="2600" spc="-1" strike="noStrike">
                <a:solidFill>
                  <a:srgbClr val="000000"/>
                </a:solidFill>
                <a:latin typeface="Arial"/>
              </a:endParaRPr>
            </a:p>
          </p:txBody>
        </p:sp>
        <p:sp>
          <p:nvSpPr>
            <p:cNvPr id="187" name="_s613393"/>
            <p:cNvSpPr/>
            <p:nvPr/>
          </p:nvSpPr>
          <p:spPr>
            <a:xfrm>
              <a:off x="5332320" y="4279680"/>
              <a:ext cx="9111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8" name="_s613394"/>
            <p:cNvSpPr/>
            <p:nvPr/>
          </p:nvSpPr>
          <p:spPr>
            <a:xfrm>
              <a:off x="6243480" y="3666240"/>
              <a:ext cx="1812960" cy="122724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يقدم البرامج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تي تدعم تنفيذ </a:t>
              </a:r>
              <a:endParaRPr b="0" lang="en-US" sz="2300" spc="-1" strike="noStrike">
                <a:solidFill>
                  <a:srgbClr val="000000"/>
                </a:solidFill>
                <a:latin typeface="Arial"/>
              </a:endParaRPr>
            </a:p>
            <a:p>
              <a:pPr marL="343080" indent="-343080" algn="ct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دولة للمعاهدة</a:t>
              </a:r>
              <a:endParaRPr b="0" lang="en-US" sz="2300" spc="-1" strike="noStrike">
                <a:solidFill>
                  <a:srgbClr val="000000"/>
                </a:solidFill>
                <a:latin typeface="Arial"/>
              </a:endParaRPr>
            </a:p>
          </p:txBody>
        </p:sp>
        <p:sp>
          <p:nvSpPr>
            <p:cNvPr id="189" name="_s613395"/>
            <p:cNvSpPr/>
            <p:nvPr/>
          </p:nvSpPr>
          <p:spPr>
            <a:xfrm flipV="1">
              <a:off x="4427640" y="3052440"/>
              <a:ext cx="0" cy="61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0" name="_s613396"/>
            <p:cNvSpPr/>
            <p:nvPr/>
          </p:nvSpPr>
          <p:spPr>
            <a:xfrm>
              <a:off x="3522600" y="1713960"/>
              <a:ext cx="1812960" cy="122436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دعم </a:t>
              </a:r>
              <a:endParaRPr b="0" lang="en-US" sz="26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Simplified Arabic"/>
                </a:rPr>
                <a:t>زيارات الدول</a:t>
              </a:r>
              <a:endParaRPr b="0" lang="en-US" sz="2600" spc="-1" strike="noStrike">
                <a:solidFill>
                  <a:srgbClr val="000000"/>
                </a:solidFill>
                <a:latin typeface="Arial"/>
              </a:endParaRPr>
            </a:p>
          </p:txBody>
        </p:sp>
        <p:sp>
          <p:nvSpPr>
            <p:cNvPr id="191" name="_s613397"/>
            <p:cNvSpPr/>
            <p:nvPr/>
          </p:nvSpPr>
          <p:spPr>
            <a:xfrm>
              <a:off x="3522600" y="3628800"/>
              <a:ext cx="1812960" cy="956880"/>
            </a:xfrm>
            <a:prstGeom prst="ellipse">
              <a:avLst/>
            </a:prstGeom>
            <a:solidFill>
              <a:srgbClr val="ff9900"/>
            </a:solidFill>
            <a:ln w="9360">
              <a:solidFill>
                <a:srgbClr val="000000"/>
              </a:solidFill>
              <a:miter/>
            </a:ln>
          </p:spPr>
          <p:style>
            <a:lnRef idx="0"/>
            <a:fillRef idx="0"/>
            <a:effectRef idx="0"/>
            <a:fontRef idx="minor"/>
          </p:style>
          <p:txBody>
            <a:bodyPr wrap="none" lIns="0" rIns="0" tIns="0" bIns="0" anchor="ctr">
              <a:noAutofit/>
            </a:bodyPr>
            <a:p>
              <a:pPr marL="343080" indent="-343080" algn="ct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فريق الأمم </a:t>
              </a:r>
              <a:endParaRPr b="0" lang="en-US" sz="2300" spc="-1" strike="noStrike">
                <a:solidFill>
                  <a:srgbClr val="000000"/>
                </a:solidFill>
                <a:latin typeface="Arial"/>
              </a:endParaRPr>
            </a:p>
            <a:p>
              <a:pPr marL="343080" indent="-343080" algn="ct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Arial"/>
                  <a:cs typeface="Simplified Arabic"/>
                </a:rPr>
                <a:t>المتحدة القُطري</a:t>
              </a:r>
              <a:endParaRPr b="0" lang="en-US" sz="23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74"/>
                                        </p:tgtEl>
                                        <p:attrNameLst>
                                          <p:attrName>style.visibility</p:attrName>
                                        </p:attrNameLst>
                                      </p:cBhvr>
                                      <p:to>
                                        <p:strVal val="visible"/>
                                      </p:to>
                                    </p:set>
                                    <p:animEffect filter="box(in)" transition="in">
                                      <p:cBhvr additive="repl">
                                        <p:cTn id="76" dur="500"/>
                                        <p:tgtEl>
                                          <p:spTgt spid="17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82"/>
                                        </p:tgtEl>
                                        <p:attrNameLst>
                                          <p:attrName>style.visibility</p:attrName>
                                        </p:attrNameLst>
                                      </p:cBhvr>
                                      <p:to>
                                        <p:strVal val="visible"/>
                                      </p:to>
                                    </p:set>
                                    <p:animEffect filter="box(in)" transition="in">
                                      <p:cBhvr additive="repl">
                                        <p:cTn id="8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47640" y="333360"/>
            <a:ext cx="7382160" cy="11527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500" spc="-1" strike="noStrike">
                <a:solidFill>
                  <a:srgbClr val="000000"/>
                </a:solidFill>
                <a:latin typeface="Arial"/>
                <a:cs typeface="Simplified Arabic"/>
              </a:rPr>
              <a:t>تلخيص: القيمة المفيدة لآليات العمل الدولية في عمل الأمم المتحدة.</a:t>
            </a:r>
            <a:endParaRPr b="0" lang="en-US" sz="3500" spc="-1" strike="noStrike">
              <a:solidFill>
                <a:srgbClr val="000000"/>
              </a:solidFill>
              <a:latin typeface="Arial"/>
            </a:endParaRPr>
          </a:p>
        </p:txBody>
      </p:sp>
      <p:sp>
        <p:nvSpPr>
          <p:cNvPr id="193" name=""/>
          <p:cNvSpPr/>
          <p:nvPr/>
        </p:nvSpPr>
        <p:spPr>
          <a:xfrm>
            <a:off x="6084720" y="2205000"/>
            <a:ext cx="2664000" cy="3888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ملاحظات والتوصيات القائمة على الدول</a:t>
            </a: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تعليقات العامة لهيئات المعاهدة العالمية</a:t>
            </a: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17460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300" spc="-1" strike="noStrike">
                <a:solidFill>
                  <a:srgbClr val="000000"/>
                </a:solidFill>
                <a:latin typeface="Times New Roman"/>
                <a:cs typeface="Times New Roman"/>
              </a:rPr>
              <a:t>الدراسات المواضيعية للإجراءات الخاصة</a:t>
            </a:r>
            <a:endParaRPr b="0" lang="en-US" sz="2300" spc="-1" strike="noStrike">
              <a:solidFill>
                <a:srgbClr val="000000"/>
              </a:solidFill>
              <a:latin typeface="Arial"/>
            </a:endParaRPr>
          </a:p>
        </p:txBody>
      </p:sp>
      <p:sp>
        <p:nvSpPr>
          <p:cNvPr id="194" name=""/>
          <p:cNvSpPr/>
          <p:nvPr/>
        </p:nvSpPr>
        <p:spPr>
          <a:xfrm>
            <a:off x="395280" y="1989000"/>
            <a:ext cx="5329080" cy="4104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تقييم: </a:t>
            </a:r>
            <a:r>
              <a:rPr b="0" lang="ar-JO" sz="2400" spc="-1" strike="noStrike">
                <a:solidFill>
                  <a:srgbClr val="000000"/>
                </a:solidFill>
                <a:latin typeface="Times New Roman"/>
                <a:cs typeface="Simplified Arabic"/>
              </a:rPr>
              <a:t>تُحدِّد المشكلات الأساسية التي تواجه التنمية وحقوق الإنسان</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تحليل: </a:t>
            </a:r>
            <a:r>
              <a:rPr b="0" lang="ar-JO" sz="2400" spc="-1" strike="noStrike">
                <a:solidFill>
                  <a:srgbClr val="000000"/>
                </a:solidFill>
                <a:latin typeface="Times New Roman"/>
                <a:cs typeface="Simplified Arabic"/>
              </a:rPr>
              <a:t>تساعد على فهم الأسباب التحتية والجذرية لمشكلات التنمية</a:t>
            </a:r>
            <a:r>
              <a:rPr b="1" lang="ar-JO" sz="2400" spc="-1" strike="noStrike">
                <a:solidFill>
                  <a:srgbClr val="000000"/>
                </a:solidFill>
                <a:latin typeface="Times New Roman"/>
                <a:ea typeface="Simplified Arabic"/>
              </a:rPr>
              <a:t> </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برمجة: </a:t>
            </a:r>
            <a:r>
              <a:rPr b="0" lang="ar-JO" sz="2400" spc="-1" strike="noStrike">
                <a:solidFill>
                  <a:srgbClr val="000000"/>
                </a:solidFill>
                <a:latin typeface="Times New Roman"/>
                <a:cs typeface="Simplified Arabic"/>
              </a:rPr>
              <a:t>تُحدِّد الأعمال المعيَّنة (التي سيتم تنفيذها)</a:t>
            </a:r>
            <a:endParaRPr b="0" lang="en-US" sz="2400" spc="-1" strike="noStrike">
              <a:solidFill>
                <a:srgbClr val="000000"/>
              </a:solidFill>
              <a:latin typeface="Arial"/>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imes New Roman"/>
                <a:cs typeface="Simplified Arabic"/>
              </a:rPr>
              <a:t>أداة المناصرة وكسب التأييد: </a:t>
            </a:r>
            <a:r>
              <a:rPr b="0" lang="ar-JO" sz="2400" spc="-1" strike="noStrike">
                <a:solidFill>
                  <a:srgbClr val="000000"/>
                </a:solidFill>
                <a:latin typeface="Times New Roman"/>
                <a:cs typeface="Simplified Arabic"/>
              </a:rPr>
              <a:t>تجذب الانتباه إلى القضايا الحسَّاسة على المستوى القانوني، ومستوى السياسات والموازنة والممارس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PT Bold Heading"/>
              </a:rPr>
              <a:t>تحقَّق مما يلي ...</a:t>
            </a:r>
            <a:endParaRPr b="0" lang="en-US" sz="4400" spc="-1" strike="noStrike">
              <a:solidFill>
                <a:srgbClr val="000000"/>
              </a:solidFill>
              <a:latin typeface="Arial"/>
            </a:endParaRPr>
          </a:p>
        </p:txBody>
      </p:sp>
      <p:sp>
        <p:nvSpPr>
          <p:cNvPr id="196" name="PlaceHolder 2"/>
          <p:cNvSpPr>
            <a:spLocks noGrp="1"/>
          </p:cNvSpPr>
          <p:nvPr>
            <p:ph/>
          </p:nvPr>
        </p:nvSpPr>
        <p:spPr>
          <a:xfrm>
            <a:off x="361800" y="1600200"/>
            <a:ext cx="8686800" cy="4997520"/>
          </a:xfrm>
          <a:prstGeom prst="rect">
            <a:avLst/>
          </a:prstGeom>
          <a:noFill/>
          <a:ln w="0">
            <a:noFill/>
          </a:ln>
        </p:spPr>
        <p:txBody>
          <a:bodyPr lIns="90000" rIns="90000" tIns="46800" bIns="46800" anchor="t">
            <a:normAutofit/>
          </a:bodyPr>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وضع الدولة بالنسبة إلى المصادقة على المعاهدة</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ما إذا كان تعهُّد الدولة تجاه لجنة حقوق الإنسان موجوداً.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وجود الملاحظات الختامية الأخيرة لهيئات المعاهد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تقديم التقارير الأخيرة للدولة إلى هيئات المعاهد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إجراء الزيارات الأخيرة للمقرِّرين الخاصّين أو وجود البيانات والمراسلات المتعلقة بالدولة. </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الجدول الزمني للأحداث القادمة والزيارات المعنية بالإجراءات الخاصة للدولة.</a:t>
            </a:r>
            <a:endParaRPr b="0" lang="en-US" sz="2800" spc="-1" strike="noStrike">
              <a:solidFill>
                <a:srgbClr val="000000"/>
              </a:solidFill>
              <a:latin typeface="Times New Roman"/>
            </a:endParaRPr>
          </a:p>
          <a:p>
            <a:pPr marL="515880" indent="0" algn="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ea typeface="Simplified Arabic"/>
              </a:rPr>
              <a:t>... لمحة عن الدولة، إذا توافر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195"/>
                                        </p:tgtEl>
                                        <p:attrNameLst>
                                          <p:attrName>style.visibility</p:attrName>
                                        </p:attrNameLst>
                                      </p:cBhvr>
                                      <p:to>
                                        <p:strVal val="visible"/>
                                      </p:to>
                                    </p:set>
                                    <p:animEffect filter="fade" transition="in">
                                      <p:cBhvr additive="repl">
                                        <p:cTn id="88" dur="2000"/>
                                        <p:tgtEl>
                                          <p:spTgt spid="19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96">
                                            <p:txEl>
                                              <p:pRg st="0" end="0"/>
                                            </p:txEl>
                                          </p:spTgt>
                                        </p:tgtEl>
                                        <p:attrNameLst>
                                          <p:attrName>style.visibility</p:attrName>
                                        </p:attrNameLst>
                                      </p:cBhvr>
                                      <p:to>
                                        <p:strVal val="visible"/>
                                      </p:to>
                                    </p:set>
                                    <p:animEffect filter="fade" transition="in">
                                      <p:cBhvr additive="repl">
                                        <p:cTn id="93" dur="2000"/>
                                        <p:tgtEl>
                                          <p:spTgt spid="196">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96">
                                            <p:txEl>
                                              <p:pRg st="1" end="1"/>
                                            </p:txEl>
                                          </p:spTgt>
                                        </p:tgtEl>
                                        <p:attrNameLst>
                                          <p:attrName>style.visibility</p:attrName>
                                        </p:attrNameLst>
                                      </p:cBhvr>
                                      <p:to>
                                        <p:strVal val="visible"/>
                                      </p:to>
                                    </p:set>
                                    <p:animEffect filter="fade" transition="in">
                                      <p:cBhvr additive="repl">
                                        <p:cTn id="98" dur="2000"/>
                                        <p:tgtEl>
                                          <p:spTgt spid="19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96">
                                            <p:txEl>
                                              <p:pRg st="2" end="2"/>
                                            </p:txEl>
                                          </p:spTgt>
                                        </p:tgtEl>
                                        <p:attrNameLst>
                                          <p:attrName>style.visibility</p:attrName>
                                        </p:attrNameLst>
                                      </p:cBhvr>
                                      <p:to>
                                        <p:strVal val="visible"/>
                                      </p:to>
                                    </p:set>
                                    <p:animEffect filter="fade" transition="in">
                                      <p:cBhvr additive="repl">
                                        <p:cTn id="103" dur="2000"/>
                                        <p:tgtEl>
                                          <p:spTgt spid="196">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96">
                                            <p:txEl>
                                              <p:pRg st="3" end="3"/>
                                            </p:txEl>
                                          </p:spTgt>
                                        </p:tgtEl>
                                        <p:attrNameLst>
                                          <p:attrName>style.visibility</p:attrName>
                                        </p:attrNameLst>
                                      </p:cBhvr>
                                      <p:to>
                                        <p:strVal val="visible"/>
                                      </p:to>
                                    </p:set>
                                    <p:animEffect filter="fade" transition="in">
                                      <p:cBhvr additive="repl">
                                        <p:cTn id="108" dur="2000"/>
                                        <p:tgtEl>
                                          <p:spTgt spid="196">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96">
                                            <p:txEl>
                                              <p:pRg st="4" end="4"/>
                                            </p:txEl>
                                          </p:spTgt>
                                        </p:tgtEl>
                                        <p:attrNameLst>
                                          <p:attrName>style.visibility</p:attrName>
                                        </p:attrNameLst>
                                      </p:cBhvr>
                                      <p:to>
                                        <p:strVal val="visible"/>
                                      </p:to>
                                    </p:set>
                                    <p:animEffect filter="fade" transition="in">
                                      <p:cBhvr additive="repl">
                                        <p:cTn id="113" dur="2000"/>
                                        <p:tgtEl>
                                          <p:spTgt spid="196">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96">
                                            <p:txEl>
                                              <p:pRg st="5" end="5"/>
                                            </p:txEl>
                                          </p:spTgt>
                                        </p:tgtEl>
                                        <p:attrNameLst>
                                          <p:attrName>style.visibility</p:attrName>
                                        </p:attrNameLst>
                                      </p:cBhvr>
                                      <p:to>
                                        <p:strVal val="visible"/>
                                      </p:to>
                                    </p:set>
                                    <p:animEffect filter="fade" transition="in">
                                      <p:cBhvr additive="repl">
                                        <p:cTn id="118" dur="2000"/>
                                        <p:tgtEl>
                                          <p:spTgt spid="196">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96">
                                            <p:txEl>
                                              <p:pRg st="6" end="6"/>
                                            </p:txEl>
                                          </p:spTgt>
                                        </p:tgtEl>
                                        <p:attrNameLst>
                                          <p:attrName>style.visibility</p:attrName>
                                        </p:attrNameLst>
                                      </p:cBhvr>
                                      <p:to>
                                        <p:strVal val="visible"/>
                                      </p:to>
                                    </p:set>
                                    <p:animEffect filter="fade" transition="in">
                                      <p:cBhvr additive="repl">
                                        <p:cTn id="123" dur="20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274320"/>
            <a:ext cx="706752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Arial"/>
              </a:rPr>
              <a:t>تمرين جماعي</a:t>
            </a:r>
            <a:endParaRPr b="0" lang="en-US" sz="4400" spc="-1" strike="noStrike">
              <a:solidFill>
                <a:srgbClr val="000000"/>
              </a:solidFill>
              <a:latin typeface="Arial"/>
            </a:endParaRPr>
          </a:p>
        </p:txBody>
      </p:sp>
      <p:sp>
        <p:nvSpPr>
          <p:cNvPr id="60" name="PlaceHolder 2"/>
          <p:cNvSpPr>
            <a:spLocks noGrp="1"/>
          </p:cNvSpPr>
          <p:nvPr>
            <p:ph/>
          </p:nvPr>
        </p:nvSpPr>
        <p:spPr>
          <a:xfrm>
            <a:off x="457200" y="1916280"/>
            <a:ext cx="8229600" cy="4209840"/>
          </a:xfrm>
          <a:prstGeom prst="rect">
            <a:avLst/>
          </a:prstGeom>
          <a:solidFill>
            <a:srgbClr val="ffffff"/>
          </a:solid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ناقش وتعرّف مع أفراد مجموعتك على طاولة المجموعة، السؤال التالي:</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ما هي الاستجابة التي كانت الأمم المتحدة، وما تزال ترَدُّ بها على التوقُّعات المشروعة لأصحاب الحقوق؟</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Simplified Arabic"/>
              </a:rPr>
              <a:t>بطاقتان لكل طاولة</a:t>
            </a:r>
            <a:endParaRPr b="0" lang="en-US" sz="3200" spc="-1" strike="noStrike">
              <a:solidFill>
                <a:srgbClr val="000000"/>
              </a:solidFill>
              <a:latin typeface="Times New Roman"/>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PT Bold Heading"/>
              </a:rPr>
              <a:t>تحقَّق مما يلي ...</a:t>
            </a:r>
            <a:endParaRPr b="0" lang="en-US" sz="4400" spc="-1" strike="noStrike">
              <a:solidFill>
                <a:srgbClr val="000000"/>
              </a:solidFill>
              <a:latin typeface="Arial"/>
            </a:endParaRPr>
          </a:p>
        </p:txBody>
      </p:sp>
      <p:grpSp>
        <p:nvGrpSpPr>
          <p:cNvPr id="198" name=""/>
          <p:cNvGrpSpPr/>
          <p:nvPr/>
        </p:nvGrpSpPr>
        <p:grpSpPr>
          <a:xfrm>
            <a:off x="-612720" y="1052640"/>
            <a:ext cx="10225080" cy="5327640"/>
            <a:chOff x="-612720" y="1052640"/>
            <a:chExt cx="10225080" cy="5327640"/>
          </a:xfrm>
        </p:grpSpPr>
        <p:sp>
          <p:nvSpPr>
            <p:cNvPr id="199" name="laptop"/>
            <p:cNvSpPr/>
            <p:nvPr/>
          </p:nvSpPr>
          <p:spPr>
            <a:xfrm>
              <a:off x="-612720" y="1052640"/>
              <a:ext cx="10225080" cy="5327640"/>
            </a:xfrm>
            <a:prstGeom prst="pi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ttp://www.ohchr.org/english/countries</a:t>
              </a:r>
              <a:endParaRPr b="0" lang="en-US" sz="2400" spc="-1" strike="noStrike">
                <a:solidFill>
                  <a:srgbClr val="000000"/>
                </a:solidFill>
                <a:latin typeface="Arial"/>
              </a:endParaRPr>
            </a:p>
          </p:txBody>
        </p:sp>
        <p:grpSp>
          <p:nvGrpSpPr>
            <p:cNvPr id="200" name=""/>
            <p:cNvGrpSpPr/>
            <p:nvPr/>
          </p:nvGrpSpPr>
          <p:grpSpPr>
            <a:xfrm>
              <a:off x="1403280" y="1916280"/>
              <a:ext cx="6265800" cy="2591640"/>
              <a:chOff x="1403280" y="1916280"/>
              <a:chExt cx="6265800" cy="2591640"/>
            </a:xfrm>
          </p:grpSpPr>
          <p:pic>
            <p:nvPicPr>
              <p:cNvPr id="201" name="" descr=""/>
              <p:cNvPicPr/>
              <p:nvPr/>
            </p:nvPicPr>
            <p:blipFill>
              <a:blip r:embed="rId1"/>
              <a:stretch/>
            </p:blipFill>
            <p:spPr>
              <a:xfrm>
                <a:off x="1403280" y="1916280"/>
                <a:ext cx="6265800" cy="2376360"/>
              </a:xfrm>
              <a:prstGeom prst="rect">
                <a:avLst/>
              </a:prstGeom>
              <a:ln w="0">
                <a:noFill/>
              </a:ln>
            </p:spPr>
          </p:pic>
          <p:sp>
            <p:nvSpPr>
              <p:cNvPr id="202" name=""/>
              <p:cNvSpPr/>
              <p:nvPr/>
            </p:nvSpPr>
            <p:spPr>
              <a:xfrm>
                <a:off x="2340000" y="2492280"/>
                <a:ext cx="3024000" cy="3488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أوروبا وأمريكا الشمالية وآسيا الوسطى</a:t>
                </a:r>
                <a:endParaRPr b="0" lang="en-US" sz="1200" spc="-1" strike="noStrike">
                  <a:solidFill>
                    <a:srgbClr val="000000"/>
                  </a:solidFill>
                  <a:latin typeface="Arial"/>
                </a:endParaRPr>
              </a:p>
            </p:txBody>
          </p:sp>
          <p:sp>
            <p:nvSpPr>
              <p:cNvPr id="203" name=""/>
              <p:cNvSpPr/>
              <p:nvPr/>
            </p:nvSpPr>
            <p:spPr>
              <a:xfrm>
                <a:off x="1547640" y="3429000"/>
                <a:ext cx="1008360" cy="107892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أمريكا اللاتينية ودول البحر الكاريبي</a:t>
                </a:r>
                <a:endParaRPr b="0" lang="en-US" sz="1200" spc="-1" strike="noStrike">
                  <a:solidFill>
                    <a:srgbClr val="000000"/>
                  </a:solidFill>
                  <a:latin typeface="Arial"/>
                </a:endParaRPr>
              </a:p>
            </p:txBody>
          </p:sp>
          <p:sp>
            <p:nvSpPr>
              <p:cNvPr id="204" name=""/>
              <p:cNvSpPr/>
              <p:nvPr/>
            </p:nvSpPr>
            <p:spPr>
              <a:xfrm>
                <a:off x="6516720" y="2646360"/>
                <a:ext cx="1008000" cy="7506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آسيا والمحيط الهادئ</a:t>
                </a:r>
                <a:endParaRPr b="0" lang="en-US" sz="1200" spc="-1" strike="noStrike">
                  <a:solidFill>
                    <a:srgbClr val="000000"/>
                  </a:solidFill>
                  <a:latin typeface="Arial"/>
                </a:endParaRPr>
              </a:p>
            </p:txBody>
          </p:sp>
          <p:sp>
            <p:nvSpPr>
              <p:cNvPr id="205" name=""/>
              <p:cNvSpPr/>
              <p:nvPr/>
            </p:nvSpPr>
            <p:spPr>
              <a:xfrm>
                <a:off x="3995640" y="3357720"/>
                <a:ext cx="1008000" cy="422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منطقة إفريقيا</a:t>
                </a:r>
                <a:endParaRPr b="0" lang="en-US" sz="1200" spc="-1" strike="noStrike">
                  <a:solidFill>
                    <a:srgbClr val="000000"/>
                  </a:solidFill>
                  <a:latin typeface="Arial"/>
                </a:endParaRPr>
              </a:p>
            </p:txBody>
          </p:sp>
          <p:sp>
            <p:nvSpPr>
              <p:cNvPr id="206" name=""/>
              <p:cNvSpPr/>
              <p:nvPr/>
            </p:nvSpPr>
            <p:spPr>
              <a:xfrm>
                <a:off x="3995640" y="2968560"/>
                <a:ext cx="1008000" cy="422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Arial"/>
                    <a:cs typeface="Simplified Arabic"/>
                  </a:rPr>
                  <a:t>المنطقة العربية</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197"/>
                                        </p:tgtEl>
                                        <p:attrNameLst>
                                          <p:attrName>style.visibility</p:attrName>
                                        </p:attrNameLst>
                                      </p:cBhvr>
                                      <p:to>
                                        <p:strVal val="visible"/>
                                      </p:to>
                                    </p:set>
                                    <p:animEffect filter="fade" transition="in">
                                      <p:cBhvr additive="repl">
                                        <p:cTn id="130" dur="2000"/>
                                        <p:tgtEl>
                                          <p:spTgt spid="19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1773000"/>
            <a:ext cx="8137800" cy="143964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Simplified Arabic"/>
              </a:rPr>
              <a:t>النهج القائم على حقوق الإنسان </a:t>
            </a:r>
            <a:br>
              <a:rPr sz="4000"/>
            </a:br>
            <a:r>
              <a:rPr b="1" lang="ar-JO" sz="4000" spc="-1" strike="noStrike">
                <a:solidFill>
                  <a:srgbClr val="ffff00"/>
                </a:solidFill>
                <a:latin typeface="Arial"/>
                <a:cs typeface="Simplified Arabic"/>
              </a:rPr>
              <a:t>في عملية البرمجة</a:t>
            </a:r>
            <a:endParaRPr b="0" lang="en-US" sz="4000" spc="-1" strike="noStrike">
              <a:solidFill>
                <a:srgbClr val="000000"/>
              </a:solidFill>
              <a:latin typeface="Arial"/>
            </a:endParaRPr>
          </a:p>
        </p:txBody>
      </p:sp>
      <p:sp>
        <p:nvSpPr>
          <p:cNvPr id="208" name=""/>
          <p:cNvSpPr/>
          <p:nvPr/>
        </p:nvSpPr>
        <p:spPr>
          <a:xfrm>
            <a:off x="2916360" y="4292640"/>
            <a:ext cx="208728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ثالثة</a:t>
            </a:r>
            <a:endParaRPr b="0" lang="en-US" sz="3200" spc="-1" strike="noStrike">
              <a:solidFill>
                <a:srgbClr val="000000"/>
              </a:solidFill>
              <a:latin typeface="Arial"/>
            </a:endParaRPr>
          </a:p>
        </p:txBody>
      </p:sp>
      <p:pic>
        <p:nvPicPr>
          <p:cNvPr id="209" name="" descr=""/>
          <p:cNvPicPr/>
          <p:nvPr/>
        </p:nvPicPr>
        <p:blipFill>
          <a:blip r:embed="rId1"/>
          <a:stretch/>
        </p:blipFill>
        <p:spPr>
          <a:xfrm>
            <a:off x="6877080" y="4005360"/>
            <a:ext cx="2309760" cy="2755800"/>
          </a:xfrm>
          <a:prstGeom prst="rect">
            <a:avLst/>
          </a:prstGeom>
          <a:ln w="0">
            <a:noFill/>
          </a:ln>
        </p:spPr>
      </p:pic>
      <p:sp>
        <p:nvSpPr>
          <p:cNvPr id="210" name=""/>
          <p:cNvSpPr/>
          <p:nvPr/>
        </p:nvSpPr>
        <p:spPr>
          <a:xfrm>
            <a:off x="7156440" y="5362560"/>
            <a:ext cx="1584360" cy="81252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الإجراء الثاني: </a:t>
            </a:r>
            <a:endParaRPr b="0" lang="en-US" sz="1800" spc="-1" strike="noStrike">
              <a:solidFill>
                <a:srgbClr val="000000"/>
              </a:solidFill>
              <a:latin typeface="Arial"/>
            </a:endParaRPr>
          </a:p>
          <a:p>
            <a:pPr algn="r" rtl="1">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Simplified Arabic"/>
              </a:rPr>
              <a:t>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55280" y="1915920"/>
            <a:ext cx="7775640" cy="460836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3000"/>
          </a:bodyPr>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عمليةُ التنميةُ تستندُ معيارياً على المعايير والمبادئ الدولية لحقوق الإنسان.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عترفُ النهجُ بالكائنات البشرية كأصحاب حقوق، ويُحدِّد الالتزامات على القائمين بالواجبات.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ركّز على المجموعات المهمَّشة والتي تتعرَّض للتمييز.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سعى إلى الإحقاق التدريجي لحقوق الإنسان. </a:t>
            </a:r>
            <a:endParaRPr b="0" lang="en-US" sz="3000" spc="-1" strike="noStrike">
              <a:solidFill>
                <a:srgbClr val="000000"/>
              </a:solidFill>
              <a:latin typeface="Times New Roman"/>
            </a:endParaRPr>
          </a:p>
          <a:p>
            <a:pPr marL="566640" indent="-566640" algn="just" rtl="1">
              <a:lnSpc>
                <a:spcPct val="120000"/>
              </a:lnSpc>
              <a:spcBef>
                <a:spcPts val="7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cs typeface="Simplified Arabic"/>
              </a:rPr>
              <a:t>يُعطي أهمية متساوية لنتائج التنمية وعمليتها. </a:t>
            </a:r>
            <a:endParaRPr b="0" lang="en-US" sz="3000" spc="-1" strike="noStrike">
              <a:solidFill>
                <a:srgbClr val="000000"/>
              </a:solidFill>
              <a:latin typeface="Times New Roman"/>
            </a:endParaRPr>
          </a:p>
        </p:txBody>
      </p:sp>
      <p:sp>
        <p:nvSpPr>
          <p:cNvPr id="212" name=""/>
          <p:cNvSpPr/>
          <p:nvPr/>
        </p:nvSpPr>
        <p:spPr>
          <a:xfrm>
            <a:off x="1619280" y="333360"/>
            <a:ext cx="7129440" cy="1295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ا هو النهج القائم على حقوق الإنسا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68360" y="1916280"/>
            <a:ext cx="8136000" cy="46814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8000"/>
          </a:bodyPr>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بسبب قيمته الجوهرية الواقعي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مبنية على القيم العالمي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ذات المعايير القانونية العالمية لحياة كريمة. </a:t>
            </a:r>
            <a:endParaRPr b="0" lang="en-US" sz="2000" spc="-1" strike="noStrike">
              <a:solidFill>
                <a:srgbClr val="000000"/>
              </a:solidFill>
              <a:latin typeface="Times New Roman"/>
            </a:endParaRPr>
          </a:p>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لأنه مفيدٌ لاستراتيجيات التنمي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فهو يعالج انعدام المساواة (اللاَّمساواة) والتمييز في السلطة /الصلاحيات.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ويتعامل مع نقاط الضعف في أنظمة المساءَل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ويضع إطارَ عملٍ موضوعياً لإدارة النزاعات ويسعي إلى تصويب الأوضاع والإنصاف. </a:t>
            </a:r>
            <a:endParaRPr b="0" lang="en-US" sz="2000" spc="-1" strike="noStrike">
              <a:solidFill>
                <a:srgbClr val="000000"/>
              </a:solidFill>
              <a:latin typeface="Times New Roman"/>
            </a:endParaRPr>
          </a:p>
          <a:p>
            <a:pPr marL="59724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أسباب المؤسسية (الميزة النسبية للأُم المتحدة)...</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عدم الانحياز في التعامل مع القضايا الحسَّاسة. </a:t>
            </a:r>
            <a:endParaRPr b="0" lang="en-US" sz="2000" spc="-1" strike="noStrike">
              <a:solidFill>
                <a:srgbClr val="000000"/>
              </a:solidFill>
              <a:latin typeface="Times New Roman"/>
            </a:endParaRPr>
          </a:p>
          <a:p>
            <a:pPr marL="597240" indent="-59724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التحليل الشمولي والردود التكميلية للمشكلات. </a:t>
            </a:r>
            <a:endParaRPr b="0" lang="en-US" sz="2000" spc="-1" strike="noStrike">
              <a:solidFill>
                <a:srgbClr val="000000"/>
              </a:solidFill>
              <a:latin typeface="Times New Roman"/>
            </a:endParaRPr>
          </a:p>
        </p:txBody>
      </p:sp>
      <p:sp>
        <p:nvSpPr>
          <p:cNvPr id="214" name=""/>
          <p:cNvSpPr/>
          <p:nvPr/>
        </p:nvSpPr>
        <p:spPr>
          <a:xfrm>
            <a:off x="1619280" y="333360"/>
            <a:ext cx="7308720" cy="1152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000" spc="-1" strike="noStrike">
                <a:solidFill>
                  <a:srgbClr val="000000"/>
                </a:solidFill>
                <a:latin typeface="Arial"/>
                <a:cs typeface="Simplified Arabic"/>
              </a:rPr>
              <a:t>ما هي أسباب اعتماد نهج للتنمية </a:t>
            </a:r>
            <a:br>
              <a:rPr sz="3000"/>
            </a:br>
            <a:r>
              <a:rPr b="1" lang="ar-JO" sz="3000" spc="-1" strike="noStrike">
                <a:solidFill>
                  <a:srgbClr val="000000"/>
                </a:solidFill>
                <a:latin typeface="Arial"/>
                <a:cs typeface="Simplified Arabic"/>
              </a:rPr>
              <a:t>قائم على حقوق الإنسا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92360" y="404640"/>
            <a:ext cx="7200720" cy="1224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فهم الأمم المتحدة المشترك للنهج </a:t>
            </a:r>
            <a:br>
              <a:rPr sz="3600"/>
            </a:br>
            <a:r>
              <a:rPr b="0" lang="ar-JO" sz="3600" spc="-1" strike="noStrike">
                <a:solidFill>
                  <a:srgbClr val="000000"/>
                </a:solidFill>
                <a:latin typeface="Arial"/>
                <a:cs typeface="Simplified Arabic"/>
              </a:rPr>
              <a:t>القائم على حقوق الإنسان</a:t>
            </a:r>
            <a:endParaRPr b="0" lang="en-US" sz="3600" spc="-1" strike="noStrike">
              <a:solidFill>
                <a:srgbClr val="000000"/>
              </a:solidFill>
              <a:latin typeface="Arial"/>
            </a:endParaRPr>
          </a:p>
        </p:txBody>
      </p:sp>
      <p:sp>
        <p:nvSpPr>
          <p:cNvPr id="216" name=""/>
          <p:cNvSpPr/>
          <p:nvPr/>
        </p:nvSpPr>
        <p:spPr>
          <a:xfrm>
            <a:off x="324000" y="2060640"/>
            <a:ext cx="7127640" cy="4537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جب أن تُعزِّز جميعُ برامج التعاون الإنمائي، والسياسات والمساعدات الفنية إحقاقَ حقوق الإنسان، كما هو منصوص عليها في الإعلان العالمي لحقوق الإنسان وفي غيره من الأدوات الدولية لحقوق الإنسان. </a:t>
            </a:r>
            <a:endParaRPr b="0" lang="en-US" sz="2400" spc="-1" strike="noStrike">
              <a:solidFill>
                <a:srgbClr val="000000"/>
              </a:solidFill>
              <a:latin typeface="Arial"/>
            </a:endParaRPr>
          </a:p>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تُوَجِّهُ معاييرُ ومبادئُ حقوق الإنسان جميع أوجه التعاون الإنمائي والبرمجة الإنمائية في جميع القطاعات وفي كل مراحل عملية البرمجة. </a:t>
            </a:r>
            <a:endParaRPr b="0" lang="en-US" sz="2400" spc="-1" strike="noStrike">
              <a:solidFill>
                <a:srgbClr val="000000"/>
              </a:solidFill>
              <a:latin typeface="Arial"/>
            </a:endParaRPr>
          </a:p>
          <a:p>
            <a:pPr marL="290520" indent="-233280" algn="just" rtl="1">
              <a:lnSpc>
                <a:spcPct val="120000"/>
              </a:lnSpc>
              <a:spcBef>
                <a:spcPts val="601"/>
              </a:spcBef>
              <a:buClr>
                <a:srgbClr val="fdfdf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سهم التعاون الإنمائي في تنمية قدرات القائمين بالواجبات على الوفاء بالتزاماتهم و/أو قدرات أصحاب الحقوق على المطالبة بحقوقهم. </a:t>
            </a:r>
            <a:endParaRPr b="0" lang="en-US" sz="2400" spc="-1" strike="noStrike">
              <a:solidFill>
                <a:srgbClr val="000000"/>
              </a:solidFill>
              <a:latin typeface="Arial"/>
            </a:endParaRPr>
          </a:p>
        </p:txBody>
      </p:sp>
      <p:sp>
        <p:nvSpPr>
          <p:cNvPr id="217" name="PubRRectCallout"/>
          <p:cNvSpPr/>
          <p:nvPr/>
        </p:nvSpPr>
        <p:spPr>
          <a:xfrm>
            <a:off x="7416720" y="2276640"/>
            <a:ext cx="1417680" cy="936360"/>
          </a:xfrm>
          <a:custGeom>
            <a:avLst/>
            <a:gdLst>
              <a:gd name="textAreaLeft" fmla="*/ 9360 w 1417680"/>
              <a:gd name="textAreaRight" fmla="*/ 1405440 w 1417680"/>
              <a:gd name="textAreaTop" fmla="*/ 6120 h 936360"/>
              <a:gd name="textAreaBottom" fmla="*/ 741600 h 9363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6600ff"/>
                </a:solidFill>
                <a:latin typeface="Arial"/>
                <a:cs typeface="Simplified Arabic"/>
              </a:rPr>
              <a:t>الهدف:</a:t>
            </a:r>
            <a:endParaRPr b="0" lang="en-US" sz="2600" spc="-1" strike="noStrike">
              <a:solidFill>
                <a:srgbClr val="000000"/>
              </a:solidFill>
              <a:latin typeface="Arial"/>
            </a:endParaRPr>
          </a:p>
        </p:txBody>
      </p:sp>
      <p:sp>
        <p:nvSpPr>
          <p:cNvPr id="218" name="PubRRectCallout"/>
          <p:cNvSpPr/>
          <p:nvPr/>
        </p:nvSpPr>
        <p:spPr>
          <a:xfrm>
            <a:off x="7416720" y="3573360"/>
            <a:ext cx="1476360" cy="1008000"/>
          </a:xfrm>
          <a:custGeom>
            <a:avLst/>
            <a:gdLst>
              <a:gd name="textAreaLeft" fmla="*/ 9720 w 1476360"/>
              <a:gd name="textAreaRight" fmla="*/ 1463400 w 1476360"/>
              <a:gd name="textAreaTop" fmla="*/ 6480 h 1008000"/>
              <a:gd name="textAreaBottom" fmla="*/ 798480 h 1008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العملية:</a:t>
            </a:r>
            <a:endParaRPr b="0" lang="en-US" sz="2400" spc="-1" strike="noStrike">
              <a:solidFill>
                <a:srgbClr val="000000"/>
              </a:solidFill>
              <a:latin typeface="Arial"/>
            </a:endParaRPr>
          </a:p>
        </p:txBody>
      </p:sp>
      <p:sp>
        <p:nvSpPr>
          <p:cNvPr id="219" name="PubRRectCallout"/>
          <p:cNvSpPr/>
          <p:nvPr/>
        </p:nvSpPr>
        <p:spPr>
          <a:xfrm>
            <a:off x="7416720" y="5084640"/>
            <a:ext cx="1506600" cy="1081080"/>
          </a:xfrm>
          <a:custGeom>
            <a:avLst/>
            <a:gdLst>
              <a:gd name="textAreaLeft" fmla="*/ 10080 w 1506600"/>
              <a:gd name="textAreaRight" fmla="*/ 1493280 w 1506600"/>
              <a:gd name="textAreaTop" fmla="*/ 7200 h 1081080"/>
              <a:gd name="textAreaBottom" fmla="*/ 856440 h 10810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النتيج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17"/>
                                        </p:tgtEl>
                                        <p:attrNameLst>
                                          <p:attrName>style.visibility</p:attrName>
                                        </p:attrNameLst>
                                      </p:cBhvr>
                                      <p:to>
                                        <p:strVal val="visible"/>
                                      </p:to>
                                    </p:set>
                                    <p:animEffect filter="box(in)" transition="in">
                                      <p:cBhvr additive="repl">
                                        <p:cTn id="141" dur="500"/>
                                        <p:tgtEl>
                                          <p:spTgt spid="21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218"/>
                                        </p:tgtEl>
                                        <p:attrNameLst>
                                          <p:attrName>style.visibility</p:attrName>
                                        </p:attrNameLst>
                                      </p:cBhvr>
                                      <p:to>
                                        <p:strVal val="visible"/>
                                      </p:to>
                                    </p:set>
                                    <p:animEffect filter="box(in)" transition="in">
                                      <p:cBhvr additive="repl">
                                        <p:cTn id="146" dur="500"/>
                                        <p:tgtEl>
                                          <p:spTgt spid="21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219"/>
                                        </p:tgtEl>
                                        <p:attrNameLst>
                                          <p:attrName>style.visibility</p:attrName>
                                        </p:attrNameLst>
                                      </p:cBhvr>
                                      <p:to>
                                        <p:strVal val="visible"/>
                                      </p:to>
                                    </p:set>
                                    <p:animEffect filter="box(in)" transition="in">
                                      <p:cBhvr additive="repl">
                                        <p:cTn id="15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0" name=""/>
          <p:cNvSpPr/>
          <p:nvPr/>
        </p:nvSpPr>
        <p:spPr>
          <a:xfrm>
            <a:off x="1835280" y="333360"/>
            <a:ext cx="5329080" cy="1871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399960" indent="-399960" algn="just" rtl="1">
              <a:lnSpc>
                <a:spcPct val="100000"/>
              </a:lnSpc>
              <a:spcBef>
                <a:spcPts val="601"/>
              </a:spcBef>
              <a:buClr>
                <a:srgbClr val="ff993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جب أن تعزز جميعُ برامج التعاون الإنمائي، والسياسات والمساعدات الفنية إحقاقَ حقوق الإنسان كما هو منصوص عليها في الإعلان العالمي لحقوق الإنسان وفي غيره من الأدوات الدولية لحقوق الإنسان.</a:t>
            </a:r>
            <a:endParaRPr b="0" lang="en-US" sz="2400" spc="-1" strike="noStrike">
              <a:solidFill>
                <a:srgbClr val="000000"/>
              </a:solidFill>
              <a:latin typeface="Arial"/>
            </a:endParaRPr>
          </a:p>
        </p:txBody>
      </p:sp>
      <p:sp>
        <p:nvSpPr>
          <p:cNvPr id="221" name=""/>
          <p:cNvSpPr/>
          <p:nvPr/>
        </p:nvSpPr>
        <p:spPr>
          <a:xfrm>
            <a:off x="539640" y="2565360"/>
            <a:ext cx="8137800" cy="3888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يعتبر إحقاق حقوق الإنسان الهدف النهائي لجميع البرامج الإنمائية. </a:t>
            </a:r>
            <a:endParaRPr b="0" lang="en-US" sz="2800" spc="-1" strike="noStrike">
              <a:solidFill>
                <a:srgbClr val="000000"/>
              </a:solidFill>
              <a:latin typeface="Arial"/>
            </a:endParaRPr>
          </a:p>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يؤثر النهج القائم على حقوق الإنسان في تحديد الأولويات الاستراتيجية للأمم المتحدة. </a:t>
            </a:r>
            <a:endParaRPr b="0" lang="en-US" sz="2800" spc="-1" strike="noStrike">
              <a:solidFill>
                <a:srgbClr val="000000"/>
              </a:solidFill>
              <a:latin typeface="Arial"/>
            </a:endParaRPr>
          </a:p>
          <a:p>
            <a:pPr marL="514440" indent="-249480" algn="just" rtl="1">
              <a:lnSpc>
                <a:spcPct val="14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عمل توصيات الهيئات وآليات العمل الدولية لحقوق الإنسان على بثّ الرّوح في البرمجة وتغذيتها بالمعلومات.</a:t>
            </a:r>
            <a:endParaRPr b="0" lang="en-US" sz="2800" spc="-1" strike="noStrike">
              <a:solidFill>
                <a:srgbClr val="000000"/>
              </a:solidFill>
              <a:latin typeface="Arial"/>
            </a:endParaRPr>
          </a:p>
        </p:txBody>
      </p:sp>
      <p:sp>
        <p:nvSpPr>
          <p:cNvPr id="222" name="PubRRectCallout"/>
          <p:cNvSpPr/>
          <p:nvPr/>
        </p:nvSpPr>
        <p:spPr>
          <a:xfrm>
            <a:off x="7315200" y="981000"/>
            <a:ext cx="1577880" cy="1224000"/>
          </a:xfrm>
          <a:custGeom>
            <a:avLst/>
            <a:gdLst>
              <a:gd name="textAreaLeft" fmla="*/ 10440 w 1577880"/>
              <a:gd name="textAreaRight" fmla="*/ 1564200 w 1577880"/>
              <a:gd name="textAreaTop" fmla="*/ 7920 h 1224000"/>
              <a:gd name="textAreaBottom" fmla="*/ 969480 h 122400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00ff"/>
                </a:solidFill>
                <a:latin typeface="Arial"/>
                <a:cs typeface="Arial"/>
              </a:rPr>
              <a:t>الهد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47280" y="404280"/>
            <a:ext cx="7272360" cy="1295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Simplified Arabic"/>
              </a:rPr>
              <a:t>آليات عمل حقوق الإنسان</a:t>
            </a:r>
            <a:br>
              <a:rPr sz="3600"/>
            </a:br>
            <a:r>
              <a:rPr b="1" lang="ar-JO" sz="3600" spc="-1" strike="noStrike">
                <a:solidFill>
                  <a:srgbClr val="000000"/>
                </a:solidFill>
                <a:latin typeface="Arial"/>
                <a:cs typeface="Simplified Arabic"/>
              </a:rPr>
              <a:t>تبثُّ الرُّوح في البرمجة وتُغذِّيها بالمعلومات</a:t>
            </a:r>
            <a:endParaRPr b="0" lang="en-US" sz="3600" spc="-1" strike="noStrike">
              <a:solidFill>
                <a:srgbClr val="000000"/>
              </a:solidFill>
              <a:latin typeface="Arial"/>
            </a:endParaRPr>
          </a:p>
        </p:txBody>
      </p:sp>
      <p:sp>
        <p:nvSpPr>
          <p:cNvPr id="224" name=""/>
          <p:cNvSpPr/>
          <p:nvPr/>
        </p:nvSpPr>
        <p:spPr>
          <a:xfrm>
            <a:off x="900000" y="2349360"/>
            <a:ext cx="7561440" cy="4175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2746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ملاحظات هيئات المعاهدة والإجراءات الخاصة:</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تحليل القضايا الإنمائية من منظور حقوق الإنسان.</a:t>
            </a:r>
            <a:endParaRPr b="0" lang="en-US" sz="2500" spc="-1" strike="noStrike">
              <a:solidFill>
                <a:srgbClr val="000000"/>
              </a:solidFill>
              <a:latin typeface="Arial"/>
            </a:endParaRPr>
          </a:p>
          <a:p>
            <a:pPr lvl="1" marL="719280"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ea typeface="Simplified Arabic"/>
              </a:rPr>
              <a:t>	</a:t>
            </a:r>
            <a:endParaRPr b="0" lang="en-US" sz="15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توصيات هيئات المعاهدة والإجراءات الخاصة: </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هل تمّ تحديد الأدوات اللازمة لبرمجة أعمال الأمم المتحدة بهدف التصدِّي للمشكلات؟ </a:t>
            </a:r>
            <a:endParaRPr b="0" lang="en-US" sz="2500" spc="-1" strike="noStrike">
              <a:solidFill>
                <a:srgbClr val="000000"/>
              </a:solidFill>
              <a:latin typeface="Arial"/>
            </a:endParaRPr>
          </a:p>
          <a:p>
            <a:pPr lvl="1" marL="719280" algn="r"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39640" indent="-2746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u="sng">
                <a:solidFill>
                  <a:srgbClr val="000000"/>
                </a:solidFill>
                <a:uFillTx/>
                <a:latin typeface="Times New Roman"/>
                <a:cs typeface="Simplified Arabic"/>
              </a:rPr>
              <a:t>التعليقات العامة لهيئات المعاهدة:</a:t>
            </a:r>
            <a:endParaRPr b="0" lang="en-US" sz="2500" spc="-1" strike="noStrike">
              <a:solidFill>
                <a:srgbClr val="000000"/>
              </a:solidFill>
              <a:latin typeface="Arial"/>
            </a:endParaRPr>
          </a:p>
          <a:p>
            <a:pPr lvl="1" marL="71928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imes New Roman"/>
                <a:cs typeface="Simplified Arabic"/>
              </a:rPr>
              <a:t>تُحدِّد المحتوى الدقيق للأهداف الإنمائية عن طريق توضيح معنى الحقوق.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18920" y="765000"/>
            <a:ext cx="5977080" cy="1656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399960" indent="0" algn="r" rtl="1">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ar-JO" sz="2800" spc="-1" strike="noStrike">
                <a:solidFill>
                  <a:srgbClr val="ff9933"/>
                </a:solidFill>
                <a:latin typeface="Arial"/>
                <a:ea typeface="Simplified Arabic"/>
              </a:rPr>
              <a:t>2</a:t>
            </a:r>
            <a:r>
              <a:rPr b="0" lang="ar-JO" sz="2800" spc="-1" strike="noStrike">
                <a:solidFill>
                  <a:srgbClr val="ff9933"/>
                </a:solidFill>
                <a:latin typeface="Arial"/>
                <a:ea typeface="Simplified Arabic"/>
              </a:rPr>
              <a:t>) تُوَجِّهُ معاييرُ ومبادئُ حقوق الإنسان جميع أوجه التعاون الإنمائي والبرمجة الإنمائية في جميع القطاعات وفي كل مراحل عملية البرمجة.</a:t>
            </a:r>
            <a:endParaRPr b="0" lang="en-US" sz="2800" spc="-1" strike="noStrike">
              <a:solidFill>
                <a:srgbClr val="000000"/>
              </a:solidFill>
              <a:latin typeface="Arial"/>
            </a:endParaRPr>
          </a:p>
        </p:txBody>
      </p:sp>
      <p:sp>
        <p:nvSpPr>
          <p:cNvPr id="226" name=""/>
          <p:cNvSpPr/>
          <p:nvPr/>
        </p:nvSpPr>
        <p:spPr>
          <a:xfrm>
            <a:off x="826920" y="2637000"/>
            <a:ext cx="7490160" cy="3671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سِّن معايير ومبادئ حقوق الإنسان جودة النتائج والعملية. </a:t>
            </a:r>
            <a:endParaRPr b="0" lang="en-US" sz="2800" spc="-1" strike="noStrike">
              <a:solidFill>
                <a:srgbClr val="000000"/>
              </a:solidFill>
              <a:latin typeface="Arial"/>
            </a:endParaRPr>
          </a:p>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دِّد معاييرُ حقوق الإنسان ”ميدانَ اللعب“ الذي تحدث فيه عملية التنمية. </a:t>
            </a:r>
            <a:endParaRPr b="0" lang="en-US" sz="2800" spc="-1" strike="noStrike">
              <a:solidFill>
                <a:srgbClr val="000000"/>
              </a:solidFill>
              <a:latin typeface="Arial"/>
            </a:endParaRPr>
          </a:p>
          <a:p>
            <a:pPr marL="685800" indent="-51444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وفِّر مبادئ حقوق الإنسان ”قواعدَ اللّعب“ لعملية التنمية. </a:t>
            </a:r>
            <a:endParaRPr b="0" lang="en-US" sz="2800" spc="-1" strike="noStrike">
              <a:solidFill>
                <a:srgbClr val="000000"/>
              </a:solidFill>
              <a:latin typeface="Arial"/>
            </a:endParaRPr>
          </a:p>
        </p:txBody>
      </p:sp>
      <p:sp>
        <p:nvSpPr>
          <p:cNvPr id="227" name="PubRRectCallout"/>
          <p:cNvSpPr/>
          <p:nvPr/>
        </p:nvSpPr>
        <p:spPr>
          <a:xfrm>
            <a:off x="7740720" y="981000"/>
            <a:ext cx="1224000" cy="1019160"/>
          </a:xfrm>
          <a:custGeom>
            <a:avLst/>
            <a:gdLst>
              <a:gd name="textAreaLeft" fmla="*/ 7920 w 1224000"/>
              <a:gd name="textAreaRight" fmla="*/ 1213200 w 1224000"/>
              <a:gd name="textAreaTop" fmla="*/ 6840 h 1019160"/>
              <a:gd name="textAreaBottom" fmla="*/ 807120 h 10191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532"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rtl="1">
              <a:lnSpc>
                <a:spcPct val="7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00ff"/>
                </a:solidFill>
                <a:latin typeface="Arial"/>
                <a:cs typeface="Arial"/>
              </a:rPr>
              <a:t>العمل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28" name=""/>
          <p:cNvSpPr/>
          <p:nvPr/>
        </p:nvSpPr>
        <p:spPr>
          <a:xfrm>
            <a:off x="2916360" y="3200400"/>
            <a:ext cx="367164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cs typeface="Arial"/>
              </a:rPr>
              <a:t>التقييم والتحليل</a:t>
            </a:r>
            <a:endParaRPr b="0" lang="en-US" sz="2800" spc="-1" strike="noStrike">
              <a:solidFill>
                <a:srgbClr val="000000"/>
              </a:solidFill>
              <a:latin typeface="Arial"/>
            </a:endParaRPr>
          </a:p>
        </p:txBody>
      </p:sp>
      <p:sp>
        <p:nvSpPr>
          <p:cNvPr id="229" name=""/>
          <p:cNvSpPr/>
          <p:nvPr/>
        </p:nvSpPr>
        <p:spPr>
          <a:xfrm>
            <a:off x="5651640" y="4149720"/>
            <a:ext cx="312264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ial"/>
                <a:cs typeface="Arial"/>
              </a:rPr>
              <a:t>تحديد الأولويات</a:t>
            </a:r>
            <a:endParaRPr b="0" lang="en-US" sz="2800" spc="-1" strike="noStrike">
              <a:solidFill>
                <a:srgbClr val="000000"/>
              </a:solidFill>
              <a:latin typeface="Arial"/>
            </a:endParaRPr>
          </a:p>
        </p:txBody>
      </p:sp>
      <p:sp>
        <p:nvSpPr>
          <p:cNvPr id="230" name=""/>
          <p:cNvSpPr/>
          <p:nvPr/>
        </p:nvSpPr>
        <p:spPr>
          <a:xfrm>
            <a:off x="4500720" y="5516640"/>
            <a:ext cx="3313080" cy="9471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00"/>
                </a:solidFill>
                <a:latin typeface="Arial"/>
                <a:cs typeface="Arial"/>
              </a:rPr>
              <a:t>التخطيط للبرامج وتصميمها</a:t>
            </a:r>
            <a:endParaRPr b="0" lang="en-US" sz="2800" spc="-1" strike="noStrike">
              <a:solidFill>
                <a:srgbClr val="000000"/>
              </a:solidFill>
              <a:latin typeface="Arial"/>
            </a:endParaRPr>
          </a:p>
        </p:txBody>
      </p:sp>
      <p:sp>
        <p:nvSpPr>
          <p:cNvPr id="231" name=""/>
          <p:cNvSpPr/>
          <p:nvPr/>
        </p:nvSpPr>
        <p:spPr>
          <a:xfrm>
            <a:off x="826920" y="5661000"/>
            <a:ext cx="2565720" cy="5205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66ff33"/>
                </a:solidFill>
                <a:latin typeface="Arial"/>
                <a:cs typeface="Arial"/>
              </a:rPr>
              <a:t>التنفيذ</a:t>
            </a:r>
            <a:endParaRPr b="0" lang="en-US" sz="2800" spc="-1" strike="noStrike">
              <a:solidFill>
                <a:srgbClr val="000000"/>
              </a:solidFill>
              <a:latin typeface="Arial"/>
            </a:endParaRPr>
          </a:p>
        </p:txBody>
      </p:sp>
      <p:sp>
        <p:nvSpPr>
          <p:cNvPr id="232" name=""/>
          <p:cNvSpPr/>
          <p:nvPr/>
        </p:nvSpPr>
        <p:spPr>
          <a:xfrm>
            <a:off x="684360" y="4149720"/>
            <a:ext cx="2568600" cy="947160"/>
          </a:xfrm>
          <a:prstGeom prst="rect">
            <a:avLst/>
          </a:prstGeom>
          <a:solidFill>
            <a:srgbClr val="00007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ff00"/>
                </a:solidFill>
                <a:latin typeface="Arial"/>
                <a:cs typeface="Arial"/>
              </a:rPr>
              <a:t>المتابعة والتقييم</a:t>
            </a:r>
            <a:endParaRPr b="0" lang="en-US" sz="2800" spc="-1" strike="noStrike">
              <a:solidFill>
                <a:srgbClr val="000000"/>
              </a:solidFill>
              <a:latin typeface="Arial"/>
            </a:endParaRPr>
          </a:p>
        </p:txBody>
      </p:sp>
      <p:sp>
        <p:nvSpPr>
          <p:cNvPr id="233" name=""/>
          <p:cNvSpPr/>
          <p:nvPr/>
        </p:nvSpPr>
        <p:spPr>
          <a:xfrm flipV="1">
            <a:off x="6781680" y="3429000"/>
            <a:ext cx="1219320" cy="457200"/>
          </a:xfrm>
          <a:custGeom>
            <a:avLst/>
            <a:gdLst>
              <a:gd name="textAreaLeft" fmla="*/ 406440 w 1219320"/>
              <a:gd name="textAreaRight" fmla="*/ 1044360 w 121932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flipV="1">
            <a:off x="7956000" y="5157000"/>
            <a:ext cx="533160" cy="762120"/>
          </a:xfrm>
          <a:custGeom>
            <a:avLst/>
            <a:gdLst>
              <a:gd name="textAreaLeft" fmla="*/ -360 w 533160"/>
              <a:gd name="textAreaRight" fmla="*/ 533160 w 533160"/>
              <a:gd name="textAreaTop" fmla="*/ -360 h 762120"/>
              <a:gd name="textAreaBottom" fmla="*/ 76212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708360" y="5661000"/>
            <a:ext cx="685800" cy="304920"/>
          </a:xfrm>
          <a:prstGeom prst="leftArrow">
            <a:avLst>
              <a:gd name="adj1" fmla="val 50000"/>
              <a:gd name="adj2" fmla="val 56228"/>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752480" y="4876920"/>
            <a:ext cx="304920" cy="609480"/>
          </a:xfrm>
          <a:prstGeom prst="upArrow">
            <a:avLst>
              <a:gd name="adj1" fmla="val 50000"/>
              <a:gd name="adj2" fmla="val 4997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00200" y="3352680"/>
            <a:ext cx="1066680" cy="609840"/>
          </a:xfrm>
          <a:custGeom>
            <a:avLst/>
            <a:gdLst>
              <a:gd name="textAreaLeft" fmla="*/ 0 w 1066680"/>
              <a:gd name="textAreaRight" fmla="*/ 1067040 w 106668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547640" y="907920"/>
            <a:ext cx="7288560" cy="199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ea typeface="Simplified Arabic"/>
              </a:rPr>
              <a:t>... إدماج معايير ومبادئ حقوق الإنسان </a:t>
            </a:r>
            <a:r>
              <a:rPr b="1" lang="ar-JO" sz="3200" spc="-1" strike="noStrike" u="sng">
                <a:solidFill>
                  <a:srgbClr val="000000"/>
                </a:solidFill>
                <a:uFillTx/>
                <a:latin typeface="Arial"/>
                <a:cs typeface="Simplified Arabic"/>
              </a:rPr>
              <a:t>في</a:t>
            </a:r>
            <a:r>
              <a:rPr b="1" lang="ar-JO" sz="3200" spc="-1" strike="noStrike">
                <a:solidFill>
                  <a:srgbClr val="000000"/>
                </a:solidFill>
                <a:latin typeface="Arial"/>
                <a:ea typeface="Simplified Arabic"/>
              </a:rPr>
              <a:t> جميع مراحل عملية البرم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68000" y="620640"/>
            <a:ext cx="5761080" cy="71928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معايير حقوق الإنسان</a:t>
            </a:r>
            <a:endParaRPr b="0" lang="en-US" sz="4000" spc="-1" strike="noStrike">
              <a:solidFill>
                <a:srgbClr val="000000"/>
              </a:solidFill>
              <a:latin typeface="Arial"/>
            </a:endParaRPr>
          </a:p>
        </p:txBody>
      </p:sp>
      <p:sp>
        <p:nvSpPr>
          <p:cNvPr id="240" name=""/>
          <p:cNvSpPr/>
          <p:nvPr/>
        </p:nvSpPr>
        <p:spPr>
          <a:xfrm>
            <a:off x="6084720" y="1773360"/>
            <a:ext cx="2880000" cy="439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235080" indent="-235080" algn="r" rtl="1">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JO" sz="2800" spc="-1" strike="noStrike" u="sng">
                <a:solidFill>
                  <a:srgbClr val="000000"/>
                </a:solidFill>
                <a:uFillTx/>
                <a:latin typeface="Arial"/>
                <a:cs typeface="Simplified Arabic"/>
              </a:rPr>
              <a:t>المحتوى المعياري الأدنى للحق</a:t>
            </a:r>
            <a:r>
              <a:rPr b="0" lang="ar-JO" sz="2800" spc="-1" strike="noStrike" u="sng">
                <a:solidFill>
                  <a:srgbClr val="000000"/>
                </a:solidFill>
                <a:uFillTx/>
                <a:latin typeface="Arial"/>
                <a:ea typeface="Simplified Arabic"/>
              </a:rPr>
              <a:t>:</a:t>
            </a:r>
            <a:r>
              <a:rPr b="0" lang="ar-JO" sz="2800" spc="-1" strike="noStrike">
                <a:solidFill>
                  <a:srgbClr val="000000"/>
                </a:solidFill>
                <a:latin typeface="Arial"/>
                <a:ea typeface="Simplified Arabic"/>
              </a:rPr>
              <a:t> هو نوع المطالبات والالتزامات، الذي يتضمنه الحق </a:t>
            </a:r>
            <a:r>
              <a:rPr b="0" i="1" lang="ar-JO" sz="2800" spc="-1" strike="noStrike">
                <a:solidFill>
                  <a:srgbClr val="000000"/>
                </a:solidFill>
                <a:latin typeface="Arial"/>
                <a:cs typeface="Simplified Arabic"/>
              </a:rPr>
              <a:t>كحد أدنى في الممارسة</a:t>
            </a:r>
            <a:r>
              <a:rPr b="0" lang="ar-JO" sz="2800" spc="-1" strike="noStrike">
                <a:solidFill>
                  <a:srgbClr val="000000"/>
                </a:solidFill>
                <a:latin typeface="Arial"/>
                <a:ea typeface="Simplified Arabic"/>
              </a:rPr>
              <a:t>.</a:t>
            </a:r>
            <a:endParaRPr b="0" lang="en-US" sz="2800" spc="-1" strike="noStrike">
              <a:solidFill>
                <a:srgbClr val="000000"/>
              </a:solidFill>
              <a:latin typeface="Arial"/>
            </a:endParaRPr>
          </a:p>
        </p:txBody>
      </p:sp>
      <p:sp>
        <p:nvSpPr>
          <p:cNvPr id="241" name=""/>
          <p:cNvSpPr/>
          <p:nvPr/>
        </p:nvSpPr>
        <p:spPr>
          <a:xfrm>
            <a:off x="324000" y="2060640"/>
            <a:ext cx="5494320" cy="41036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في عملية البرمجة، تُوَجِّه المعاييرُ العملياتِ التالية:</a:t>
            </a:r>
            <a:endParaRPr b="0" lang="en-US" sz="2400" spc="-1" strike="noStrike">
              <a:solidFill>
                <a:srgbClr val="000000"/>
              </a:solidFill>
              <a:latin typeface="Arial"/>
            </a:endParaRPr>
          </a:p>
          <a:p>
            <a:pPr marL="539640" indent="-376200" algn="r" rtl="1">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تشخيص التحديات التي تواجه التنمية بوصفها قضايا حقوق الإنسان (التقييم).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تحليل الأدوار والقدرات لدى أصحاب الحقوق والقائمين بالواجبات.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التعريف بالأهداف الإنمائية. </a:t>
            </a:r>
            <a:endParaRPr b="0" lang="en-US" sz="2400" spc="-1" strike="noStrike">
              <a:solidFill>
                <a:srgbClr val="000000"/>
              </a:solidFill>
              <a:latin typeface="Arial"/>
            </a:endParaRPr>
          </a:p>
          <a:p>
            <a:pPr marL="539640" indent="-376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ea typeface="Simplified Arabic"/>
              </a:rPr>
              <a:t>... صياغة نقاط القياس المرجعية المناظرة والمؤشرات.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61" name=""/>
          <p:cNvSpPr/>
          <p:nvPr/>
        </p:nvSpPr>
        <p:spPr>
          <a:xfrm>
            <a:off x="3733920" y="304920"/>
            <a:ext cx="1523880" cy="990360"/>
          </a:xfrm>
          <a:prstGeom prst="downArrowCallout">
            <a:avLst>
              <a:gd name="adj1" fmla="val 38471"/>
              <a:gd name="adj2" fmla="val 38468"/>
              <a:gd name="adj3" fmla="val 16667"/>
              <a:gd name="adj4" fmla="val 6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048120" y="1295280"/>
            <a:ext cx="2895480" cy="685800"/>
          </a:xfrm>
          <a:custGeom>
            <a:avLst/>
            <a:gdLst>
              <a:gd name="textAreaLeft" fmla="*/ 723960 w 2895480"/>
              <a:gd name="textAreaRight" fmla="*/ 2171880 w 2895480"/>
              <a:gd name="textAreaTop" fmla="*/ 0 h 685800"/>
              <a:gd name="textAreaBottom" fmla="*/ 686160 h 68580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791320" y="1371600"/>
            <a:ext cx="838080" cy="2590920"/>
          </a:xfrm>
          <a:prstGeom prst="downArrow">
            <a:avLst>
              <a:gd name="adj1" fmla="val 50000"/>
              <a:gd name="adj2" fmla="val 7728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362320" y="1371600"/>
            <a:ext cx="838080" cy="2666880"/>
          </a:xfrm>
          <a:prstGeom prst="downArrow">
            <a:avLst>
              <a:gd name="adj1" fmla="val 50000"/>
              <a:gd name="adj2" fmla="val 7955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979640" y="3886200"/>
            <a:ext cx="1677960" cy="1127160"/>
          </a:xfrm>
          <a:prstGeom prst="rightArrow">
            <a:avLst>
              <a:gd name="adj1" fmla="val 50000"/>
              <a:gd name="adj2" fmla="val 3721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334120" y="3886200"/>
            <a:ext cx="1614240" cy="1127160"/>
          </a:xfrm>
          <a:prstGeom prst="leftArrow">
            <a:avLst>
              <a:gd name="adj1" fmla="val 50000"/>
              <a:gd name="adj2" fmla="val 3580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733920" y="4191120"/>
            <a:ext cx="1523880" cy="1600200"/>
          </a:xfrm>
          <a:prstGeom prst="downArrowCallout">
            <a:avLst>
              <a:gd name="adj1" fmla="val 25002"/>
              <a:gd name="adj2" fmla="val 25000"/>
              <a:gd name="adj3" fmla="val 17501"/>
              <a:gd name="adj4" fmla="val 6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809880" y="266760"/>
            <a:ext cx="1371600" cy="1372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ميثاق الأمم المتحدة الإعلان العالمي لحقوق الإنسان</a:t>
            </a:r>
            <a:endParaRPr b="0" lang="en-US" sz="1400" spc="-1" strike="noStrike">
              <a:solidFill>
                <a:srgbClr val="000000"/>
              </a:solidFill>
              <a:latin typeface="Arial"/>
            </a:endParaRPr>
          </a:p>
        </p:txBody>
      </p:sp>
      <p:sp>
        <p:nvSpPr>
          <p:cNvPr id="69" name=""/>
          <p:cNvSpPr/>
          <p:nvPr/>
        </p:nvSpPr>
        <p:spPr>
          <a:xfrm>
            <a:off x="3962520" y="1447920"/>
            <a:ext cx="121896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الحرب الباردة</a:t>
            </a:r>
            <a:endParaRPr b="0" lang="en-US" sz="1600" spc="-1" strike="noStrike">
              <a:solidFill>
                <a:srgbClr val="000000"/>
              </a:solidFill>
              <a:latin typeface="Arial"/>
            </a:endParaRPr>
          </a:p>
        </p:txBody>
      </p:sp>
      <p:sp>
        <p:nvSpPr>
          <p:cNvPr id="70" name=""/>
          <p:cNvSpPr/>
          <p:nvPr/>
        </p:nvSpPr>
        <p:spPr>
          <a:xfrm>
            <a:off x="1619280" y="2349360"/>
            <a:ext cx="2286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6600"/>
                </a:solidFill>
                <a:latin typeface="Arial Narrow"/>
                <a:cs typeface="Arial"/>
              </a:rPr>
              <a:t>التنمية</a:t>
            </a:r>
            <a:endParaRPr b="0" lang="en-US" sz="2800" spc="-1" strike="noStrike">
              <a:solidFill>
                <a:srgbClr val="000000"/>
              </a:solidFill>
              <a:latin typeface="Arial"/>
            </a:endParaRPr>
          </a:p>
        </p:txBody>
      </p:sp>
      <p:sp>
        <p:nvSpPr>
          <p:cNvPr id="71" name=""/>
          <p:cNvSpPr/>
          <p:nvPr/>
        </p:nvSpPr>
        <p:spPr>
          <a:xfrm>
            <a:off x="5095800" y="2362320"/>
            <a:ext cx="22860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6600"/>
                </a:solidFill>
                <a:latin typeface="Arial Narrow"/>
                <a:cs typeface="Arial"/>
              </a:rPr>
              <a:t>حقوق الإنسان</a:t>
            </a:r>
            <a:endParaRPr b="0" lang="en-US" sz="2800" spc="-1" strike="noStrike">
              <a:solidFill>
                <a:srgbClr val="000000"/>
              </a:solidFill>
              <a:latin typeface="Arial"/>
            </a:endParaRPr>
          </a:p>
        </p:txBody>
      </p:sp>
      <p:sp>
        <p:nvSpPr>
          <p:cNvPr id="72" name=""/>
          <p:cNvSpPr/>
          <p:nvPr/>
        </p:nvSpPr>
        <p:spPr>
          <a:xfrm>
            <a:off x="1797120" y="4149720"/>
            <a:ext cx="1406520" cy="631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كوبنهاغن </a:t>
            </a:r>
            <a:endParaRPr b="0" lang="en-US" sz="1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Narrow"/>
                <a:cs typeface="Arial"/>
              </a:rPr>
              <a:t>القاهرة</a:t>
            </a:r>
            <a:endParaRPr b="0" lang="en-US" sz="1400" spc="-1" strike="noStrike">
              <a:solidFill>
                <a:srgbClr val="000000"/>
              </a:solidFill>
              <a:latin typeface="Arial"/>
            </a:endParaRPr>
          </a:p>
        </p:txBody>
      </p:sp>
      <p:sp>
        <p:nvSpPr>
          <p:cNvPr id="73" name=""/>
          <p:cNvSpPr/>
          <p:nvPr/>
        </p:nvSpPr>
        <p:spPr>
          <a:xfrm>
            <a:off x="5562720" y="4218120"/>
            <a:ext cx="1218960" cy="512640"/>
          </a:xfrm>
          <a:prstGeom prst="rect">
            <a:avLst/>
          </a:prstGeom>
          <a:noFill/>
          <a:ln w="0">
            <a:noFill/>
          </a:ln>
        </p:spPr>
        <p:style>
          <a:lnRef idx="0"/>
          <a:fillRef idx="0"/>
          <a:effectRef idx="0"/>
          <a:fontRef idx="minor"/>
        </p:style>
        <p:txBody>
          <a:bodyPr lIns="90000" rIns="90000" tIns="46800" bIns="46800" anchor="t">
            <a:spAutoFit/>
          </a:bodyPr>
          <a:p>
            <a:pPr algn="r" rtl="1">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فينَّا</a:t>
            </a:r>
            <a:endParaRPr b="0" lang="en-US" sz="1600" spc="-1" strike="noStrike">
              <a:solidFill>
                <a:srgbClr val="000000"/>
              </a:solidFill>
              <a:latin typeface="Arial"/>
            </a:endParaRPr>
          </a:p>
          <a:p>
            <a:pPr algn="r" rtl="1">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Narrow"/>
                <a:cs typeface="Arial"/>
              </a:rPr>
              <a:t>بكين</a:t>
            </a:r>
            <a:endParaRPr b="0" lang="en-US" sz="1600" spc="-1" strike="noStrike">
              <a:solidFill>
                <a:srgbClr val="000000"/>
              </a:solidFill>
              <a:latin typeface="Arial"/>
            </a:endParaRPr>
          </a:p>
        </p:txBody>
      </p:sp>
      <p:sp>
        <p:nvSpPr>
          <p:cNvPr id="74" name=""/>
          <p:cNvSpPr/>
          <p:nvPr/>
        </p:nvSpPr>
        <p:spPr>
          <a:xfrm>
            <a:off x="3751200" y="4192560"/>
            <a:ext cx="152424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800000"/>
                </a:solidFill>
                <a:latin typeface="Arial Narrow"/>
                <a:cs typeface="Arial"/>
              </a:rPr>
              <a:t>أجندة (برنامج) عملية إصلاح الأمم المتحدة </a:t>
            </a:r>
            <a:endParaRPr b="0" lang="en-US" sz="2000" spc="-1" strike="noStrike">
              <a:solidFill>
                <a:srgbClr val="000000"/>
              </a:solidFill>
              <a:latin typeface="Arial"/>
            </a:endParaRPr>
          </a:p>
        </p:txBody>
      </p:sp>
      <p:sp>
        <p:nvSpPr>
          <p:cNvPr id="75" name=""/>
          <p:cNvSpPr/>
          <p:nvPr/>
        </p:nvSpPr>
        <p:spPr>
          <a:xfrm>
            <a:off x="5292720" y="4941720"/>
            <a:ext cx="16765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9933"/>
                </a:solidFill>
                <a:latin typeface="Arial Narrow"/>
                <a:ea typeface="Arial"/>
              </a:rPr>
              <a:t>1997/2005</a:t>
            </a:r>
            <a:endParaRPr b="0" lang="en-US" sz="2800" spc="-1" strike="noStrike">
              <a:solidFill>
                <a:srgbClr val="000000"/>
              </a:solidFill>
              <a:latin typeface="Arial"/>
            </a:endParaRPr>
          </a:p>
        </p:txBody>
      </p:sp>
      <p:sp>
        <p:nvSpPr>
          <p:cNvPr id="76" name=""/>
          <p:cNvSpPr/>
          <p:nvPr/>
        </p:nvSpPr>
        <p:spPr>
          <a:xfrm>
            <a:off x="4067280" y="1989000"/>
            <a:ext cx="865080" cy="2160720"/>
          </a:xfrm>
          <a:prstGeom prst="downArrow">
            <a:avLst>
              <a:gd name="adj1" fmla="val 50000"/>
              <a:gd name="adj2" fmla="val 62443"/>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76720" y="2766960"/>
            <a:ext cx="25923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6600"/>
                </a:solidFill>
                <a:latin typeface="Arial"/>
                <a:cs typeface="Arial"/>
              </a:rPr>
              <a:t>السلام والأمن والأعمال الإنسانية</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123640" y="333360"/>
            <a:ext cx="6480360" cy="792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مبادئ حقوق الإنسان</a:t>
            </a:r>
            <a:endParaRPr b="0" lang="en-US" sz="4000" spc="-1" strike="noStrike">
              <a:solidFill>
                <a:srgbClr val="000000"/>
              </a:solidFill>
              <a:latin typeface="Arial"/>
            </a:endParaRPr>
          </a:p>
        </p:txBody>
      </p:sp>
      <p:sp>
        <p:nvSpPr>
          <p:cNvPr id="243" name=""/>
          <p:cNvSpPr/>
          <p:nvPr/>
        </p:nvSpPr>
        <p:spPr>
          <a:xfrm>
            <a:off x="684360" y="1700280"/>
            <a:ext cx="5111640" cy="4537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العالمية وعدم القابلية للتصرف. </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عدم القابلية للتجزئة. </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9900"/>
                </a:solidFill>
                <a:latin typeface="Arial"/>
                <a:cs typeface="Simplified Arabic"/>
              </a:rPr>
              <a:t>الترابطية والتشابكية</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ساواة وعدم التمييز.</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شاركة والشمول.</a:t>
            </a:r>
            <a:endParaRPr b="0" lang="en-US" sz="2800" spc="-1" strike="noStrike">
              <a:solidFill>
                <a:srgbClr val="000000"/>
              </a:solidFill>
              <a:latin typeface="Arial"/>
            </a:endParaRPr>
          </a:p>
          <a:p>
            <a:pPr marL="539640" indent="-274680" algn="r"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مُساءَلة وحُكم القانون. </a:t>
            </a:r>
            <a:endParaRPr b="0" lang="en-US" sz="2800" spc="-1" strike="noStrike">
              <a:solidFill>
                <a:srgbClr val="000000"/>
              </a:solidFill>
              <a:latin typeface="Arial"/>
            </a:endParaRPr>
          </a:p>
        </p:txBody>
      </p:sp>
      <p:pic>
        <p:nvPicPr>
          <p:cNvPr id="244" name="" descr=""/>
          <p:cNvPicPr/>
          <p:nvPr/>
        </p:nvPicPr>
        <p:blipFill>
          <a:blip r:embed="rId1"/>
          <a:stretch/>
        </p:blipFill>
        <p:spPr>
          <a:xfrm>
            <a:off x="6877080" y="3135240"/>
            <a:ext cx="1871640" cy="15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92000" y="259920"/>
            <a:ext cx="6769080" cy="1584360"/>
          </a:xfrm>
          <a:prstGeom prst="rect">
            <a:avLst/>
          </a:prstGeom>
          <a:solidFill>
            <a:srgbClr val="ffffff"/>
          </a:solidFill>
          <a:ln w="0">
            <a:noFill/>
          </a:ln>
        </p:spPr>
        <p:txBody>
          <a:bodyPr lIns="90000" rIns="90000" tIns="46800" bIns="46800" anchor="t">
            <a:noAutofit/>
          </a:bodyPr>
          <a:p>
            <a:pPr indent="0" algn="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لنهج القائم على </a:t>
            </a:r>
            <a:br>
              <a:rPr sz="3200"/>
            </a:br>
            <a:r>
              <a:rPr b="1" lang="ar-JO" sz="3200" spc="-1" strike="noStrike">
                <a:solidFill>
                  <a:srgbClr val="000000"/>
                </a:solidFill>
                <a:latin typeface="Arial"/>
                <a:cs typeface="Simplified Arabic"/>
              </a:rPr>
              <a:t>حقوق الإنسان يتطلَّب حساسية ثقافية أكبر</a:t>
            </a:r>
            <a:endParaRPr b="0" lang="en-US" sz="3200" spc="-1" strike="noStrike">
              <a:solidFill>
                <a:srgbClr val="000000"/>
              </a:solidFill>
              <a:latin typeface="Arial"/>
            </a:endParaRPr>
          </a:p>
        </p:txBody>
      </p:sp>
      <p:sp>
        <p:nvSpPr>
          <p:cNvPr id="246" name="PlaceHolder 2"/>
          <p:cNvSpPr>
            <a:spLocks noGrp="1"/>
          </p:cNvSpPr>
          <p:nvPr>
            <p:ph type="subTitle"/>
          </p:nvPr>
        </p:nvSpPr>
        <p:spPr>
          <a:xfrm>
            <a:off x="684360" y="2060640"/>
            <a:ext cx="7704000" cy="4464000"/>
          </a:xfrm>
          <a:prstGeom prst="rect">
            <a:avLst/>
          </a:prstGeom>
          <a:solidFill>
            <a:srgbClr val="ffffff"/>
          </a:solidFill>
          <a:ln w="0">
            <a:noFill/>
          </a:ln>
        </p:spPr>
        <p:txBody>
          <a:bodyPr lIns="90000" rIns="90000" tIns="46800" bIns="46800" anchor="t">
            <a:noAutofit/>
          </a:bodyPr>
          <a:p>
            <a:pPr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فهم المعتقدات والقيم يُسهِّل تطبيق النهج القائم على حقوق الإنسان. </a:t>
            </a:r>
            <a:endParaRPr b="0" lang="en-US" sz="24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حساسية الثقافية تسمح للمجتمعات المحلية بامتلاك قَدْر أكبر من البرامج.</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غير أنَّ الإدعاءات الثقافية لا يُمكن أن توضع موضع التنفيذ لتبرير انتهاكات حقوق الإنسان.</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قد تكون بعضُ الممارسات الثقافية مطالبَ لحقوق الإنسان</a:t>
            </a:r>
            <a:r>
              <a:rPr b="0" lang="ar-JO" sz="2200" spc="-1" strike="noStrike">
                <a:solidFill>
                  <a:srgbClr val="000000"/>
                </a:solidFill>
                <a:latin typeface="Arial"/>
                <a:ea typeface="Simplified Arabic"/>
              </a:rPr>
              <a:t>. </a:t>
            </a:r>
            <a:endParaRPr b="0" lang="en-US" sz="2200" spc="-1" strike="noStrike">
              <a:solidFill>
                <a:srgbClr val="000000"/>
              </a:solidFill>
              <a:latin typeface="Times New Roman"/>
            </a:endParaRPr>
          </a:p>
          <a:p>
            <a:pPr indent="0" algn="just" rtl="1">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تطلب اتفاقية القضاء على جميع أشكال التمييز ضد المرأة تعديل النماذج الثقافية والممارسات العرفية، حيثما تُسهم تلك النماذج في اللاَّمساواة في النوع الاجتماع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19280" y="404280"/>
            <a:ext cx="5616720" cy="151164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398520" indent="0" algn="just"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9900"/>
                </a:solidFill>
                <a:latin typeface="Arial"/>
                <a:ea typeface="Simplified Arabic"/>
              </a:rPr>
              <a:t>3</a:t>
            </a:r>
            <a:r>
              <a:rPr b="1" lang="ar-JO" sz="2400" spc="-1" strike="noStrike">
                <a:solidFill>
                  <a:srgbClr val="ff9900"/>
                </a:solidFill>
                <a:latin typeface="Arial"/>
                <a:ea typeface="Simplified Arabic"/>
              </a:rPr>
              <a:t>) يُسهم التعاون الإنمائي في تنمية قدرات ”القائمين بالواجبات“ على الوفاء بالتزاماتهم، و/أو في تنمية قدرات ”أصحاب الحقوق“ على المطالبة بحقوقهم. </a:t>
            </a:r>
            <a:endParaRPr b="0" lang="en-US" sz="2400" spc="-1" strike="noStrike">
              <a:solidFill>
                <a:srgbClr val="000000"/>
              </a:solidFill>
              <a:latin typeface="Arial"/>
            </a:endParaRPr>
          </a:p>
        </p:txBody>
      </p:sp>
      <p:sp>
        <p:nvSpPr>
          <p:cNvPr id="248" name=""/>
          <p:cNvSpPr/>
          <p:nvPr/>
        </p:nvSpPr>
        <p:spPr>
          <a:xfrm>
            <a:off x="611280" y="2492280"/>
            <a:ext cx="8281800" cy="403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التركيز على العلاقة بين الأفراد والدولة (المُطالبات والالتزامات). </a:t>
            </a:r>
            <a:endParaRPr b="0" lang="en-US" sz="2800" spc="-1" strike="noStrike">
              <a:solidFill>
                <a:srgbClr val="000000"/>
              </a:solidFill>
              <a:latin typeface="Arial"/>
            </a:endParaRPr>
          </a:p>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نقل عملية التنمية من عملية تقديم / إيصال الخدمات بوصفها بؤرة الاهتمام الأساسي، إلى بناء القدرات على المطالبة بحقوق الإنسان وإحقاقها. </a:t>
            </a:r>
            <a:endParaRPr b="0" lang="en-US" sz="2800" spc="-1" strike="noStrike">
              <a:solidFill>
                <a:srgbClr val="000000"/>
              </a:solidFill>
              <a:latin typeface="Arial"/>
            </a:endParaRPr>
          </a:p>
          <a:p>
            <a:pPr marL="561960" indent="-444600" algn="just" rtl="1">
              <a:lnSpc>
                <a:spcPct val="15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تحتاج الدول إلى القدرات لتقوية الأنظمة الوطنية للحماية وللوفاء بالتزاماتها.</a:t>
            </a:r>
            <a:endParaRPr b="0" lang="en-US" sz="2800" spc="-1" strike="noStrike">
              <a:solidFill>
                <a:srgbClr val="000000"/>
              </a:solidFill>
              <a:latin typeface="Arial"/>
            </a:endParaRPr>
          </a:p>
        </p:txBody>
      </p:sp>
      <p:sp>
        <p:nvSpPr>
          <p:cNvPr id="249" name="PubRRectCallout"/>
          <p:cNvSpPr/>
          <p:nvPr/>
        </p:nvSpPr>
        <p:spPr>
          <a:xfrm>
            <a:off x="7451640" y="549360"/>
            <a:ext cx="1224000" cy="1079280"/>
          </a:xfrm>
          <a:custGeom>
            <a:avLst/>
            <a:gdLst>
              <a:gd name="textAreaLeft" fmla="*/ 7920 w 1224000"/>
              <a:gd name="textAreaRight" fmla="*/ 1213200 w 1224000"/>
              <a:gd name="textAreaTop" fmla="*/ 7200 h 1079280"/>
              <a:gd name="textAreaBottom" fmla="*/ 855000 h 10792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19"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00ff"/>
                </a:solidFill>
                <a:latin typeface="Arial"/>
                <a:cs typeface="Arial"/>
              </a:rPr>
              <a:t>النتي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692360" y="404280"/>
            <a:ext cx="7294320" cy="79236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Simplified Arabic"/>
              </a:rPr>
              <a:t>أصحاب الحقوق والقائمون بالواجبات</a:t>
            </a:r>
            <a:endParaRPr b="0" lang="en-US" sz="4000" spc="-1" strike="noStrike">
              <a:solidFill>
                <a:srgbClr val="000000"/>
              </a:solidFill>
              <a:latin typeface="Arial"/>
            </a:endParaRPr>
          </a:p>
        </p:txBody>
      </p:sp>
      <p:sp>
        <p:nvSpPr>
          <p:cNvPr id="251" name="PlaceHolder 2"/>
          <p:cNvSpPr>
            <a:spLocks noGrp="1"/>
          </p:cNvSpPr>
          <p:nvPr>
            <p:ph/>
          </p:nvPr>
        </p:nvSpPr>
        <p:spPr>
          <a:xfrm>
            <a:off x="4859280" y="1699920"/>
            <a:ext cx="3827520" cy="4321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fontScale="94000"/>
          </a:bodyPr>
          <a:p>
            <a:pPr marL="3222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أصحاب الحقوق: </a:t>
            </a:r>
            <a:endParaRPr b="0" lang="en-US" sz="2400" spc="-1" strike="noStrike">
              <a:solidFill>
                <a:srgbClr val="000000"/>
              </a:solidFill>
              <a:latin typeface="Times New Roman"/>
            </a:endParaRPr>
          </a:p>
          <a:p>
            <a:pPr marL="32220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000000"/>
                </a:solidFill>
                <a:latin typeface="Arial"/>
                <a:ea typeface="Simplified Arabic"/>
              </a:rPr>
              <a:t>567</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595</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652</a:t>
            </a:r>
            <a:r>
              <a:rPr b="1" i="1" lang="ar-JO" sz="2400" spc="-1" strike="noStrike">
                <a:solidFill>
                  <a:srgbClr val="000000"/>
                </a:solidFill>
                <a:latin typeface="Arial"/>
                <a:cs typeface="Simplified Arabic"/>
              </a:rPr>
              <a:t>، </a:t>
            </a:r>
            <a:r>
              <a:rPr b="1" i="1" lang="ar-JO" sz="2400" spc="-1" strike="noStrike">
                <a:solidFill>
                  <a:srgbClr val="000000"/>
                </a:solidFill>
                <a:latin typeface="Arial"/>
                <a:ea typeface="Simplified Arabic"/>
              </a:rPr>
              <a:t>6</a:t>
            </a:r>
            <a:r>
              <a:rPr b="1" i="1" lang="ar-JO" sz="2400" spc="-1" strike="noStrike">
                <a:solidFill>
                  <a:srgbClr val="000000"/>
                </a:solidFill>
                <a:latin typeface="Arial"/>
                <a:ea typeface="Simplified Arabic"/>
              </a:rPr>
              <a:t> شخصاً</a:t>
            </a:r>
            <a:endParaRPr b="0" lang="en-US" sz="2400" spc="-1" strike="noStrike">
              <a:solidFill>
                <a:srgbClr val="000000"/>
              </a:solidFill>
              <a:latin typeface="Times New Roman"/>
            </a:endParaRPr>
          </a:p>
          <a:p>
            <a:pPr marL="32220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322200" algn="just" rtl="1">
              <a:lnSpc>
                <a:spcPct val="15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كل فرد، سواءٌ أكان رجلاً أم امرأةً أم طفلاً، ينتمي إلى أيّ عِرْق أو إلى جماعة إثنية أو إلى حالة اجتماعية.</a:t>
            </a:r>
            <a:endParaRPr b="0" lang="en-US" sz="2400" spc="-1" strike="noStrike">
              <a:solidFill>
                <a:srgbClr val="000000"/>
              </a:solidFill>
              <a:latin typeface="Times New Roman"/>
            </a:endParaRPr>
          </a:p>
          <a:p>
            <a:pPr marL="322200" indent="-322200" algn="just" rtl="1">
              <a:lnSpc>
                <a:spcPct val="15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u="sng">
                <a:solidFill>
                  <a:srgbClr val="000000"/>
                </a:solidFill>
                <a:uFillTx/>
                <a:latin typeface="Arial"/>
                <a:cs typeface="Simplified Arabic"/>
              </a:rPr>
              <a:t>الجماعات إلى حد ما</a:t>
            </a:r>
            <a:r>
              <a:rPr b="0" i="1" lang="ar-JO" sz="2000" spc="-1" strike="noStrike">
                <a:solidFill>
                  <a:srgbClr val="000000"/>
                </a:solidFill>
                <a:latin typeface="Arial"/>
                <a:ea typeface="Simplified Arabic"/>
              </a:rPr>
              <a:t>.</a:t>
            </a:r>
            <a:endParaRPr b="0" lang="en-US" sz="2000" spc="-1" strike="noStrike">
              <a:solidFill>
                <a:srgbClr val="000000"/>
              </a:solidFill>
              <a:latin typeface="Times New Roman"/>
            </a:endParaRPr>
          </a:p>
        </p:txBody>
      </p:sp>
      <p:sp>
        <p:nvSpPr>
          <p:cNvPr id="252" name="PlaceHolder 3"/>
          <p:cNvSpPr>
            <a:spLocks noGrp="1"/>
          </p:cNvSpPr>
          <p:nvPr>
            <p:ph/>
          </p:nvPr>
        </p:nvSpPr>
        <p:spPr>
          <a:xfrm>
            <a:off x="473040" y="2060640"/>
            <a:ext cx="3811680" cy="413712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rmAutofit fontScale="97000"/>
          </a:bodyPr>
          <a:p>
            <a:pPr marL="33264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قائمون بالواجبات: </a:t>
            </a:r>
            <a:endParaRPr b="0" lang="en-US" sz="2000" spc="-1" strike="noStrike">
              <a:solidFill>
                <a:srgbClr val="000000"/>
              </a:solidFill>
              <a:latin typeface="Times New Roman"/>
            </a:endParaRPr>
          </a:p>
          <a:p>
            <a:pPr marL="332640" indent="0" algn="r"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أقل من ذلك بكثير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لدول في المقام الأول.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في بعض الحالات، توجد التزامات محددة على عاتق الأفراد. </a:t>
            </a:r>
            <a:endParaRPr b="0" lang="en-US" sz="2000" spc="-1" strike="noStrike">
              <a:solidFill>
                <a:srgbClr val="000000"/>
              </a:solidFill>
              <a:latin typeface="Times New Roman"/>
            </a:endParaRPr>
          </a:p>
          <a:p>
            <a:pPr marL="332640" indent="-332640" algn="r" rtl="1">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يتحمَّل الأفراد والكيانات الخاصة مسؤوليات عمومية تجاه المجتمع المحلي لاحترام حقوق الآخرين.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63280" y="476280"/>
            <a:ext cx="7201080" cy="792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دور تنمية القدرات</a:t>
            </a:r>
            <a:endParaRPr b="0" lang="en-US" sz="4000" spc="-1" strike="noStrike">
              <a:solidFill>
                <a:srgbClr val="000000"/>
              </a:solidFill>
              <a:latin typeface="Arial"/>
            </a:endParaRPr>
          </a:p>
        </p:txBody>
      </p:sp>
      <p:sp>
        <p:nvSpPr>
          <p:cNvPr id="254" name=""/>
          <p:cNvSpPr/>
          <p:nvPr/>
        </p:nvSpPr>
        <p:spPr>
          <a:xfrm>
            <a:off x="1546200" y="1698480"/>
            <a:ext cx="6553080" cy="489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
          <p:cNvGrpSpPr/>
          <p:nvPr/>
        </p:nvGrpSpPr>
        <p:grpSpPr>
          <a:xfrm>
            <a:off x="2449440" y="3006720"/>
            <a:ext cx="5108760" cy="3355920"/>
            <a:chOff x="2449440" y="3006720"/>
            <a:chExt cx="5108760" cy="3355920"/>
          </a:xfrm>
        </p:grpSpPr>
        <p:sp>
          <p:nvSpPr>
            <p:cNvPr id="256" name=""/>
            <p:cNvSpPr/>
            <p:nvPr/>
          </p:nvSpPr>
          <p:spPr>
            <a:xfrm>
              <a:off x="2449440" y="3006720"/>
              <a:ext cx="5108760" cy="3355920"/>
            </a:xfrm>
            <a:custGeom>
              <a:avLst/>
              <a:gdLst/>
              <a:ahLst/>
              <a:rect l="l" t="t" r="r" b="b"/>
              <a:pathLst>
                <a:path w="3218" h="2114">
                  <a:moveTo>
                    <a:pt x="0" y="904"/>
                  </a:moveTo>
                  <a:lnTo>
                    <a:pt x="1520" y="904"/>
                  </a:lnTo>
                  <a:lnTo>
                    <a:pt x="1520" y="133"/>
                  </a:lnTo>
                  <a:lnTo>
                    <a:pt x="1242" y="133"/>
                  </a:lnTo>
                  <a:lnTo>
                    <a:pt x="1609" y="0"/>
                  </a:lnTo>
                  <a:lnTo>
                    <a:pt x="1976" y="133"/>
                  </a:lnTo>
                  <a:lnTo>
                    <a:pt x="1698" y="133"/>
                  </a:lnTo>
                  <a:lnTo>
                    <a:pt x="1698" y="904"/>
                  </a:lnTo>
                  <a:lnTo>
                    <a:pt x="3218" y="904"/>
                  </a:lnTo>
                  <a:lnTo>
                    <a:pt x="3218" y="2114"/>
                  </a:lnTo>
                  <a:lnTo>
                    <a:pt x="0" y="2114"/>
                  </a:lnTo>
                  <a:lnTo>
                    <a:pt x="0" y="90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449440" y="3006720"/>
              <a:ext cx="5108760" cy="3355920"/>
            </a:xfrm>
            <a:custGeom>
              <a:avLst/>
              <a:gdLst/>
              <a:ahLst/>
              <a:rect l="l" t="t" r="r" b="b"/>
              <a:pathLst>
                <a:path w="3218" h="2114">
                  <a:moveTo>
                    <a:pt x="0" y="904"/>
                  </a:moveTo>
                  <a:lnTo>
                    <a:pt x="1520" y="904"/>
                  </a:lnTo>
                  <a:lnTo>
                    <a:pt x="1520" y="133"/>
                  </a:lnTo>
                  <a:lnTo>
                    <a:pt x="1242" y="133"/>
                  </a:lnTo>
                  <a:lnTo>
                    <a:pt x="1609" y="0"/>
                  </a:lnTo>
                  <a:lnTo>
                    <a:pt x="1976" y="133"/>
                  </a:lnTo>
                  <a:lnTo>
                    <a:pt x="1698" y="133"/>
                  </a:lnTo>
                  <a:lnTo>
                    <a:pt x="1698" y="904"/>
                  </a:lnTo>
                  <a:lnTo>
                    <a:pt x="3218" y="904"/>
                  </a:lnTo>
                  <a:lnTo>
                    <a:pt x="3218" y="2114"/>
                  </a:lnTo>
                  <a:lnTo>
                    <a:pt x="0" y="2114"/>
                  </a:lnTo>
                  <a:lnTo>
                    <a:pt x="0" y="90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2655720" y="4048200"/>
            <a:ext cx="412920" cy="404640"/>
            <a:chOff x="2655720" y="4048200"/>
            <a:chExt cx="412920" cy="404640"/>
          </a:xfrm>
        </p:grpSpPr>
        <p:sp>
          <p:nvSpPr>
            <p:cNvPr id="259" name=""/>
            <p:cNvSpPr/>
            <p:nvPr/>
          </p:nvSpPr>
          <p:spPr>
            <a:xfrm>
              <a:off x="265572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65572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 name=""/>
          <p:cNvGrpSpPr/>
          <p:nvPr/>
        </p:nvGrpSpPr>
        <p:grpSpPr>
          <a:xfrm>
            <a:off x="2036880" y="3238560"/>
            <a:ext cx="1446120" cy="743040"/>
            <a:chOff x="2036880" y="3238560"/>
            <a:chExt cx="1446120" cy="743040"/>
          </a:xfrm>
        </p:grpSpPr>
        <p:sp>
          <p:nvSpPr>
            <p:cNvPr id="262" name=""/>
            <p:cNvSpPr/>
            <p:nvPr/>
          </p:nvSpPr>
          <p:spPr>
            <a:xfrm>
              <a:off x="2036880" y="3238560"/>
              <a:ext cx="1446120" cy="7430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036880" y="3238560"/>
              <a:ext cx="1446120" cy="7430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2124000" y="3357720"/>
            <a:ext cx="1224000" cy="855720"/>
          </a:xfrm>
          <a:prstGeom prst="rect">
            <a:avLst/>
          </a:prstGeom>
          <a:noFill/>
          <a:ln w="0">
            <a:noFill/>
          </a:ln>
        </p:spPr>
        <p:style>
          <a:lnRef idx="0"/>
          <a:fillRef idx="0"/>
          <a:effectRef idx="0"/>
          <a:fontRef idx="minor"/>
        </p:style>
        <p:txBody>
          <a:bodyPr lIns="0" rIns="0" tIns="0" bIns="0" anchor="t">
            <a:spAutoFit/>
          </a:bodyPr>
          <a:p>
            <a:pPr marL="63360" indent="-63360" algn="ctr" rtl="1">
              <a:lnSpc>
                <a:spcPct val="11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Arial"/>
              </a:rPr>
              <a:t>المطالبة بالحقوق وممارستها</a:t>
            </a:r>
            <a:endParaRPr b="0" lang="en-US" sz="1700" spc="-1" strike="noStrike">
              <a:solidFill>
                <a:srgbClr val="000000"/>
              </a:solidFill>
              <a:latin typeface="Arial"/>
            </a:endParaRPr>
          </a:p>
        </p:txBody>
      </p:sp>
      <p:grpSp>
        <p:nvGrpSpPr>
          <p:cNvPr id="265" name=""/>
          <p:cNvGrpSpPr/>
          <p:nvPr/>
        </p:nvGrpSpPr>
        <p:grpSpPr>
          <a:xfrm>
            <a:off x="6526080" y="3238560"/>
            <a:ext cx="1290600" cy="743040"/>
            <a:chOff x="6526080" y="3238560"/>
            <a:chExt cx="1290600" cy="743040"/>
          </a:xfrm>
        </p:grpSpPr>
        <p:sp>
          <p:nvSpPr>
            <p:cNvPr id="266" name=""/>
            <p:cNvSpPr/>
            <p:nvPr/>
          </p:nvSpPr>
          <p:spPr>
            <a:xfrm>
              <a:off x="6526080" y="3238560"/>
              <a:ext cx="1290600" cy="7430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526080" y="3238560"/>
              <a:ext cx="1290600" cy="7430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
          <p:cNvSpPr/>
          <p:nvPr/>
        </p:nvSpPr>
        <p:spPr>
          <a:xfrm>
            <a:off x="6253560" y="3446640"/>
            <a:ext cx="1947240" cy="38232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4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الوفاء</a:t>
            </a:r>
            <a:endParaRPr b="0" lang="en-US" sz="1900" spc="-1" strike="noStrike">
              <a:solidFill>
                <a:srgbClr val="000000"/>
              </a:solidFill>
              <a:latin typeface="Arial"/>
            </a:endParaRPr>
          </a:p>
          <a:p>
            <a:pPr marL="343080" indent="-343080" algn="ctr" rtl="1">
              <a:lnSpc>
                <a:spcPct val="4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بالالتزامات</a:t>
            </a:r>
            <a:endParaRPr b="0" lang="en-US" sz="1900" spc="-1" strike="noStrike">
              <a:solidFill>
                <a:srgbClr val="000000"/>
              </a:solidFill>
              <a:latin typeface="Arial"/>
            </a:endParaRPr>
          </a:p>
        </p:txBody>
      </p:sp>
      <p:grpSp>
        <p:nvGrpSpPr>
          <p:cNvPr id="269" name=""/>
          <p:cNvGrpSpPr/>
          <p:nvPr/>
        </p:nvGrpSpPr>
        <p:grpSpPr>
          <a:xfrm>
            <a:off x="3533760" y="3470400"/>
            <a:ext cx="2889360" cy="288720"/>
            <a:chOff x="3533760" y="3470400"/>
            <a:chExt cx="2889360" cy="288720"/>
          </a:xfrm>
        </p:grpSpPr>
        <p:sp>
          <p:nvSpPr>
            <p:cNvPr id="270" name=""/>
            <p:cNvSpPr/>
            <p:nvPr/>
          </p:nvSpPr>
          <p:spPr>
            <a:xfrm>
              <a:off x="3533760" y="3470400"/>
              <a:ext cx="2889360" cy="288720"/>
            </a:xfrm>
            <a:custGeom>
              <a:avLst/>
              <a:gdLst/>
              <a:ahLst/>
              <a:rect l="l" t="t" r="r" b="b"/>
              <a:pathLst>
                <a:path w="1820" h="182">
                  <a:moveTo>
                    <a:pt x="0" y="91"/>
                  </a:moveTo>
                  <a:lnTo>
                    <a:pt x="364" y="182"/>
                  </a:lnTo>
                  <a:lnTo>
                    <a:pt x="364" y="137"/>
                  </a:lnTo>
                  <a:lnTo>
                    <a:pt x="1456" y="137"/>
                  </a:lnTo>
                  <a:lnTo>
                    <a:pt x="1456" y="182"/>
                  </a:lnTo>
                  <a:lnTo>
                    <a:pt x="1820" y="91"/>
                  </a:lnTo>
                  <a:lnTo>
                    <a:pt x="1456" y="0"/>
                  </a:lnTo>
                  <a:lnTo>
                    <a:pt x="1456" y="46"/>
                  </a:lnTo>
                  <a:lnTo>
                    <a:pt x="364" y="46"/>
                  </a:lnTo>
                  <a:lnTo>
                    <a:pt x="364" y="0"/>
                  </a:lnTo>
                  <a:lnTo>
                    <a:pt x="0" y="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533760" y="3470400"/>
              <a:ext cx="2889360" cy="288720"/>
            </a:xfrm>
            <a:custGeom>
              <a:avLst/>
              <a:gdLst/>
              <a:ahLst/>
              <a:rect l="l" t="t" r="r" b="b"/>
              <a:pathLst>
                <a:path w="1820" h="182">
                  <a:moveTo>
                    <a:pt x="0" y="91"/>
                  </a:moveTo>
                  <a:lnTo>
                    <a:pt x="364" y="182"/>
                  </a:lnTo>
                  <a:lnTo>
                    <a:pt x="364" y="137"/>
                  </a:lnTo>
                  <a:lnTo>
                    <a:pt x="1456" y="137"/>
                  </a:lnTo>
                  <a:lnTo>
                    <a:pt x="1456" y="182"/>
                  </a:lnTo>
                  <a:lnTo>
                    <a:pt x="1820" y="91"/>
                  </a:lnTo>
                  <a:lnTo>
                    <a:pt x="1456" y="0"/>
                  </a:lnTo>
                  <a:lnTo>
                    <a:pt x="1456" y="46"/>
                  </a:lnTo>
                  <a:lnTo>
                    <a:pt x="364" y="46"/>
                  </a:lnTo>
                  <a:lnTo>
                    <a:pt x="364" y="0"/>
                  </a:lnTo>
                  <a:lnTo>
                    <a:pt x="0" y="91"/>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3584520" y="2081160"/>
            <a:ext cx="2631960" cy="744480"/>
            <a:chOff x="3584520" y="2081160"/>
            <a:chExt cx="2631960" cy="744480"/>
          </a:xfrm>
        </p:grpSpPr>
        <p:sp>
          <p:nvSpPr>
            <p:cNvPr id="273" name=""/>
            <p:cNvSpPr/>
            <p:nvPr/>
          </p:nvSpPr>
          <p:spPr>
            <a:xfrm>
              <a:off x="3584520" y="2081160"/>
              <a:ext cx="2631960" cy="7444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584520" y="2081160"/>
              <a:ext cx="2631960" cy="74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
          <p:cNvSpPr/>
          <p:nvPr/>
        </p:nvSpPr>
        <p:spPr>
          <a:xfrm>
            <a:off x="3780000" y="2216160"/>
            <a:ext cx="2304720" cy="960480"/>
          </a:xfrm>
          <a:prstGeom prst="rect">
            <a:avLst/>
          </a:prstGeom>
          <a:noFill/>
          <a:ln w="0">
            <a:noFill/>
          </a:ln>
        </p:spPr>
        <p:style>
          <a:lnRef idx="0"/>
          <a:fillRef idx="0"/>
          <a:effectRef idx="0"/>
          <a:fontRef idx="minor"/>
        </p:style>
        <p:txBody>
          <a:bodyPr lIns="0" rIns="0" tIns="0" bIns="0" anchor="t">
            <a:spAutoFit/>
          </a:bodyPr>
          <a:p>
            <a:pPr marL="343080" indent="-343080" algn="ctr" rtl="1">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إحقاق حقوق الإنسان </a:t>
            </a:r>
            <a:endParaRPr b="0" lang="en-US" sz="1900" spc="-1" strike="noStrike">
              <a:solidFill>
                <a:srgbClr val="000000"/>
              </a:solidFill>
              <a:latin typeface="Arial"/>
            </a:endParaRPr>
          </a:p>
          <a:p>
            <a:pPr marL="343080" indent="-343080" algn="ctr" rtl="1">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Arial"/>
              </a:rPr>
              <a:t>وأهداف التنمية البشرية</a:t>
            </a:r>
            <a:endParaRPr b="0" lang="en-US" sz="1900" spc="-1" strike="noStrike">
              <a:solidFill>
                <a:srgbClr val="000000"/>
              </a:solidFill>
              <a:latin typeface="Arial"/>
            </a:endParaRPr>
          </a:p>
        </p:txBody>
      </p:sp>
      <p:grpSp>
        <p:nvGrpSpPr>
          <p:cNvPr id="276" name=""/>
          <p:cNvGrpSpPr/>
          <p:nvPr/>
        </p:nvGrpSpPr>
        <p:grpSpPr>
          <a:xfrm>
            <a:off x="2868480" y="2600280"/>
            <a:ext cx="509760" cy="488880"/>
            <a:chOff x="2868480" y="2600280"/>
            <a:chExt cx="509760" cy="488880"/>
          </a:xfrm>
        </p:grpSpPr>
        <p:sp>
          <p:nvSpPr>
            <p:cNvPr id="277" name=""/>
            <p:cNvSpPr/>
            <p:nvPr/>
          </p:nvSpPr>
          <p:spPr>
            <a:xfrm>
              <a:off x="2868480" y="2600280"/>
              <a:ext cx="509760" cy="488880"/>
            </a:xfrm>
            <a:custGeom>
              <a:avLst/>
              <a:gdLst/>
              <a:ahLst/>
              <a:rect l="l" t="t" r="r" b="b"/>
              <a:pathLst>
                <a:path w="321" h="308">
                  <a:moveTo>
                    <a:pt x="304" y="179"/>
                  </a:moveTo>
                  <a:lnTo>
                    <a:pt x="276" y="134"/>
                  </a:lnTo>
                  <a:lnTo>
                    <a:pt x="57" y="308"/>
                  </a:lnTo>
                  <a:lnTo>
                    <a:pt x="0" y="218"/>
                  </a:lnTo>
                  <a:lnTo>
                    <a:pt x="219" y="45"/>
                  </a:lnTo>
                  <a:lnTo>
                    <a:pt x="191" y="0"/>
                  </a:lnTo>
                  <a:lnTo>
                    <a:pt x="321" y="31"/>
                  </a:lnTo>
                  <a:lnTo>
                    <a:pt x="304" y="17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868480" y="2600280"/>
              <a:ext cx="509760" cy="488880"/>
            </a:xfrm>
            <a:custGeom>
              <a:avLst/>
              <a:gdLst/>
              <a:ahLst/>
              <a:rect l="l" t="t" r="r" b="b"/>
              <a:pathLst>
                <a:path w="321" h="308">
                  <a:moveTo>
                    <a:pt x="304" y="179"/>
                  </a:moveTo>
                  <a:lnTo>
                    <a:pt x="276" y="134"/>
                  </a:lnTo>
                  <a:lnTo>
                    <a:pt x="57" y="308"/>
                  </a:lnTo>
                  <a:lnTo>
                    <a:pt x="0" y="218"/>
                  </a:lnTo>
                  <a:lnTo>
                    <a:pt x="219" y="45"/>
                  </a:lnTo>
                  <a:lnTo>
                    <a:pt x="191" y="0"/>
                  </a:lnTo>
                  <a:lnTo>
                    <a:pt x="321" y="31"/>
                  </a:lnTo>
                  <a:lnTo>
                    <a:pt x="304" y="179"/>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6372360" y="2657520"/>
            <a:ext cx="507960" cy="488880"/>
            <a:chOff x="6372360" y="2657520"/>
            <a:chExt cx="507960" cy="488880"/>
          </a:xfrm>
        </p:grpSpPr>
        <p:sp>
          <p:nvSpPr>
            <p:cNvPr id="280" name=""/>
            <p:cNvSpPr/>
            <p:nvPr/>
          </p:nvSpPr>
          <p:spPr>
            <a:xfrm>
              <a:off x="6372360" y="2657520"/>
              <a:ext cx="507960" cy="488880"/>
            </a:xfrm>
            <a:custGeom>
              <a:avLst/>
              <a:gdLst/>
              <a:ahLst/>
              <a:rect l="l" t="t" r="r" b="b"/>
              <a:pathLst>
                <a:path w="320" h="308">
                  <a:moveTo>
                    <a:pt x="129" y="0"/>
                  </a:moveTo>
                  <a:lnTo>
                    <a:pt x="101" y="45"/>
                  </a:lnTo>
                  <a:lnTo>
                    <a:pt x="320" y="219"/>
                  </a:lnTo>
                  <a:lnTo>
                    <a:pt x="263" y="308"/>
                  </a:lnTo>
                  <a:lnTo>
                    <a:pt x="44" y="134"/>
                  </a:lnTo>
                  <a:lnTo>
                    <a:pt x="16" y="178"/>
                  </a:lnTo>
                  <a:lnTo>
                    <a:pt x="0" y="31"/>
                  </a:lnTo>
                  <a:lnTo>
                    <a:pt x="129"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72360" y="2657520"/>
              <a:ext cx="507960" cy="488880"/>
            </a:xfrm>
            <a:custGeom>
              <a:avLst/>
              <a:gdLst/>
              <a:ahLst/>
              <a:rect l="l" t="t" r="r" b="b"/>
              <a:pathLst>
                <a:path w="320" h="308">
                  <a:moveTo>
                    <a:pt x="129" y="0"/>
                  </a:moveTo>
                  <a:lnTo>
                    <a:pt x="101" y="45"/>
                  </a:lnTo>
                  <a:lnTo>
                    <a:pt x="320" y="219"/>
                  </a:lnTo>
                  <a:lnTo>
                    <a:pt x="263" y="308"/>
                  </a:lnTo>
                  <a:lnTo>
                    <a:pt x="44" y="134"/>
                  </a:lnTo>
                  <a:lnTo>
                    <a:pt x="16" y="178"/>
                  </a:lnTo>
                  <a:lnTo>
                    <a:pt x="0" y="31"/>
                  </a:lnTo>
                  <a:lnTo>
                    <a:pt x="129"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2264760" y="4616280"/>
            <a:ext cx="5592600" cy="31860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1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cs typeface="Simplified Arabic"/>
              </a:rPr>
              <a:t>تنمية القدرات القائمة على حقوق الإنسان</a:t>
            </a:r>
            <a:endParaRPr b="0" lang="en-US" sz="1900" spc="-1" strike="noStrike">
              <a:solidFill>
                <a:srgbClr val="000000"/>
              </a:solidFill>
              <a:latin typeface="Arial"/>
            </a:endParaRPr>
          </a:p>
        </p:txBody>
      </p:sp>
      <p:grpSp>
        <p:nvGrpSpPr>
          <p:cNvPr id="283" name=""/>
          <p:cNvGrpSpPr/>
          <p:nvPr/>
        </p:nvGrpSpPr>
        <p:grpSpPr>
          <a:xfrm>
            <a:off x="6991200" y="4048200"/>
            <a:ext cx="412920" cy="404640"/>
            <a:chOff x="6991200" y="4048200"/>
            <a:chExt cx="412920" cy="404640"/>
          </a:xfrm>
        </p:grpSpPr>
        <p:sp>
          <p:nvSpPr>
            <p:cNvPr id="284" name=""/>
            <p:cNvSpPr/>
            <p:nvPr/>
          </p:nvSpPr>
          <p:spPr>
            <a:xfrm>
              <a:off x="699120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991200" y="4048200"/>
              <a:ext cx="412920" cy="404640"/>
            </a:xfrm>
            <a:custGeom>
              <a:avLst/>
              <a:gdLst/>
              <a:ahLst/>
              <a:rect l="l" t="t" r="r" b="b"/>
              <a:pathLst>
                <a:path w="260" h="255">
                  <a:moveTo>
                    <a:pt x="0" y="64"/>
                  </a:moveTo>
                  <a:lnTo>
                    <a:pt x="65" y="64"/>
                  </a:lnTo>
                  <a:lnTo>
                    <a:pt x="65" y="255"/>
                  </a:lnTo>
                  <a:lnTo>
                    <a:pt x="195" y="255"/>
                  </a:lnTo>
                  <a:lnTo>
                    <a:pt x="195" y="64"/>
                  </a:lnTo>
                  <a:lnTo>
                    <a:pt x="260" y="64"/>
                  </a:lnTo>
                  <a:lnTo>
                    <a:pt x="130" y="0"/>
                  </a:lnTo>
                  <a:lnTo>
                    <a:pt x="0" y="64"/>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4255920" y="5783400"/>
            <a:ext cx="1341720" cy="290520"/>
            <a:chOff x="4255920" y="5783400"/>
            <a:chExt cx="1341720" cy="290520"/>
          </a:xfrm>
        </p:grpSpPr>
        <p:sp>
          <p:nvSpPr>
            <p:cNvPr id="287" name=""/>
            <p:cNvSpPr/>
            <p:nvPr/>
          </p:nvSpPr>
          <p:spPr>
            <a:xfrm>
              <a:off x="4255920" y="5783400"/>
              <a:ext cx="1341720" cy="290520"/>
            </a:xfrm>
            <a:custGeom>
              <a:avLst/>
              <a:gdLst/>
              <a:ahLst/>
              <a:rect l="l" t="t" r="r" b="b"/>
              <a:pathLst>
                <a:path w="845" h="183">
                  <a:moveTo>
                    <a:pt x="0" y="92"/>
                  </a:moveTo>
                  <a:lnTo>
                    <a:pt x="169" y="183"/>
                  </a:lnTo>
                  <a:lnTo>
                    <a:pt x="169" y="137"/>
                  </a:lnTo>
                  <a:lnTo>
                    <a:pt x="676" y="137"/>
                  </a:lnTo>
                  <a:lnTo>
                    <a:pt x="676" y="183"/>
                  </a:lnTo>
                  <a:lnTo>
                    <a:pt x="845" y="92"/>
                  </a:lnTo>
                  <a:lnTo>
                    <a:pt x="676" y="0"/>
                  </a:lnTo>
                  <a:lnTo>
                    <a:pt x="676" y="46"/>
                  </a:lnTo>
                  <a:lnTo>
                    <a:pt x="169" y="46"/>
                  </a:lnTo>
                  <a:lnTo>
                    <a:pt x="169" y="0"/>
                  </a:lnTo>
                  <a:lnTo>
                    <a:pt x="0" y="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255920" y="5783400"/>
              <a:ext cx="1341720" cy="290520"/>
            </a:xfrm>
            <a:custGeom>
              <a:avLst/>
              <a:gdLst/>
              <a:ahLst/>
              <a:rect l="l" t="t" r="r" b="b"/>
              <a:pathLst>
                <a:path w="845" h="183">
                  <a:moveTo>
                    <a:pt x="0" y="92"/>
                  </a:moveTo>
                  <a:lnTo>
                    <a:pt x="169" y="183"/>
                  </a:lnTo>
                  <a:lnTo>
                    <a:pt x="169" y="137"/>
                  </a:lnTo>
                  <a:lnTo>
                    <a:pt x="676" y="137"/>
                  </a:lnTo>
                  <a:lnTo>
                    <a:pt x="676" y="183"/>
                  </a:lnTo>
                  <a:lnTo>
                    <a:pt x="845" y="92"/>
                  </a:lnTo>
                  <a:lnTo>
                    <a:pt x="676" y="0"/>
                  </a:lnTo>
                  <a:lnTo>
                    <a:pt x="676" y="46"/>
                  </a:lnTo>
                  <a:lnTo>
                    <a:pt x="169" y="46"/>
                  </a:lnTo>
                  <a:lnTo>
                    <a:pt x="169" y="0"/>
                  </a:lnTo>
                  <a:lnTo>
                    <a:pt x="0" y="92"/>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89" name="" descr=""/>
          <p:cNvPicPr/>
          <p:nvPr/>
        </p:nvPicPr>
        <p:blipFill>
          <a:blip r:embed="rId1"/>
          <a:stretch/>
        </p:blipFill>
        <p:spPr>
          <a:xfrm>
            <a:off x="4719600" y="4976640"/>
            <a:ext cx="517680" cy="806760"/>
          </a:xfrm>
          <a:prstGeom prst="rect">
            <a:avLst/>
          </a:prstGeom>
          <a:ln w="0">
            <a:noFill/>
          </a:ln>
        </p:spPr>
      </p:pic>
      <p:sp>
        <p:nvSpPr>
          <p:cNvPr id="290" name=""/>
          <p:cNvSpPr/>
          <p:nvPr/>
        </p:nvSpPr>
        <p:spPr>
          <a:xfrm>
            <a:off x="5751360" y="5726160"/>
            <a:ext cx="1444680" cy="47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99560" y="5856120"/>
            <a:ext cx="2399760" cy="342720"/>
          </a:xfrm>
          <a:prstGeom prst="rect">
            <a:avLst/>
          </a:prstGeom>
          <a:noFill/>
          <a:ln w="0">
            <a:noFill/>
          </a:ln>
        </p:spPr>
        <p:style>
          <a:lnRef idx="0"/>
          <a:fillRef idx="0"/>
          <a:effectRef idx="0"/>
          <a:fontRef idx="minor"/>
        </p:style>
        <p:txBody>
          <a:bodyPr wrap="none" lIns="0" rIns="0" tIns="0" bIns="0" anchor="t">
            <a:spAutoFit/>
          </a:bodyPr>
          <a:p>
            <a:pPr marL="343080" indent="-343080" algn="ctr" rtl="1">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Simplified Arabic"/>
              </a:rPr>
              <a:t>القُدرات اللازمة </a:t>
            </a:r>
            <a:endParaRPr b="0" lang="en-US" sz="1700" spc="-1" strike="noStrike">
              <a:solidFill>
                <a:srgbClr val="000000"/>
              </a:solidFill>
              <a:latin typeface="Arial"/>
            </a:endParaRPr>
          </a:p>
          <a:p>
            <a:pPr marL="343080" indent="-343080" algn="ctr" rtl="1">
              <a:lnSpc>
                <a:spcPct val="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Simplified Arabic"/>
              </a:rPr>
              <a:t>للمساءَلة</a:t>
            </a:r>
            <a:endParaRPr b="0" lang="en-US" sz="1700" spc="-1" strike="noStrike">
              <a:solidFill>
                <a:srgbClr val="000000"/>
              </a:solidFill>
              <a:latin typeface="Arial"/>
            </a:endParaRPr>
          </a:p>
        </p:txBody>
      </p:sp>
      <p:sp>
        <p:nvSpPr>
          <p:cNvPr id="292" name=""/>
          <p:cNvSpPr/>
          <p:nvPr/>
        </p:nvSpPr>
        <p:spPr>
          <a:xfrm>
            <a:off x="2706840" y="5726160"/>
            <a:ext cx="1496880" cy="4744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771640" y="5811840"/>
            <a:ext cx="1162080" cy="622440"/>
          </a:xfrm>
          <a:prstGeom prst="rect">
            <a:avLst/>
          </a:prstGeom>
          <a:noFill/>
          <a:ln w="0">
            <a:noFill/>
          </a:ln>
        </p:spPr>
        <p:style>
          <a:lnRef idx="0"/>
          <a:fillRef idx="0"/>
          <a:effectRef idx="0"/>
          <a:fontRef idx="minor"/>
        </p:style>
        <p:txBody>
          <a:bodyPr lIns="0" rIns="0" tIns="0" bIns="0" anchor="t">
            <a:spAutoFit/>
          </a:bodyPr>
          <a:p>
            <a:pPr algn="ctr" rtl="1">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000000"/>
                </a:solidFill>
                <a:latin typeface="Arial"/>
                <a:cs typeface="Arial"/>
              </a:rPr>
              <a:t>القدرات اللازمة للتمكين</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47280" y="333360"/>
            <a:ext cx="7417080" cy="792000"/>
          </a:xfrm>
          <a:prstGeom prst="rect">
            <a:avLst/>
          </a:prstGeom>
          <a:solidFill>
            <a:srgbClr val="ffffff"/>
          </a:solidFill>
          <a:ln w="0">
            <a:noFill/>
          </a:ln>
          <a:effectLst>
            <a:outerShdw dist="17819" dir="2700000" blurRad="0" rotWithShape="0">
              <a:srgbClr val="808080"/>
            </a:outerShdw>
          </a:effectLst>
        </p:spPr>
        <p:txBody>
          <a:bodyPr lIns="90000" rIns="90000" tIns="46800" bIns="4680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ستخدام النهج القائم على حقوق الإنسان </a:t>
            </a:r>
            <a:br>
              <a:rPr sz="2800"/>
            </a:br>
            <a:r>
              <a:rPr b="1" lang="ar-JO" sz="2800" spc="-1" strike="noStrike">
                <a:solidFill>
                  <a:srgbClr val="000000"/>
                </a:solidFill>
                <a:latin typeface="Arial"/>
                <a:cs typeface="Simplified Arabic"/>
              </a:rPr>
              <a:t>في عملية البرمجة لدى الأمم المتحدة</a:t>
            </a:r>
            <a:endParaRPr b="0" lang="en-US" sz="2800" spc="-1" strike="noStrike">
              <a:solidFill>
                <a:srgbClr val="000000"/>
              </a:solidFill>
              <a:latin typeface="Arial"/>
            </a:endParaRPr>
          </a:p>
        </p:txBody>
      </p:sp>
      <p:sp>
        <p:nvSpPr>
          <p:cNvPr id="295" name=""/>
          <p:cNvSpPr/>
          <p:nvPr/>
        </p:nvSpPr>
        <p:spPr>
          <a:xfrm>
            <a:off x="324000" y="1414440"/>
            <a:ext cx="2090520" cy="1143000"/>
          </a:xfrm>
          <a:custGeom>
            <a:avLst/>
            <a:gdLst>
              <a:gd name="textAreaLeft" fmla="*/ 0 w 2090520"/>
              <a:gd name="textAreaRight" fmla="*/ 2090880 w 2090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تقييم القُطري المشترك</a:t>
            </a:r>
            <a:endParaRPr b="0" lang="en-US" sz="1800" spc="-1" strike="noStrike">
              <a:solidFill>
                <a:srgbClr val="000000"/>
              </a:solidFill>
              <a:latin typeface="Arial"/>
            </a:endParaRPr>
          </a:p>
        </p:txBody>
      </p:sp>
      <p:sp>
        <p:nvSpPr>
          <p:cNvPr id="296" name=""/>
          <p:cNvSpPr/>
          <p:nvPr/>
        </p:nvSpPr>
        <p:spPr>
          <a:xfrm>
            <a:off x="2916360" y="1487520"/>
            <a:ext cx="2070000" cy="1219320"/>
          </a:xfrm>
          <a:custGeom>
            <a:avLst/>
            <a:gdLst>
              <a:gd name="textAreaLeft" fmla="*/ 0 w 2070000"/>
              <a:gd name="textAreaRight" fmla="*/ 2070360 w 2070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إطار الأمم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متحد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للمساعد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إنمائية</a:t>
            </a:r>
            <a:endParaRPr b="0" lang="en-US" sz="1600" spc="-1" strike="noStrike">
              <a:solidFill>
                <a:srgbClr val="000000"/>
              </a:solidFill>
              <a:latin typeface="Arial"/>
            </a:endParaRPr>
          </a:p>
        </p:txBody>
      </p:sp>
      <p:sp>
        <p:nvSpPr>
          <p:cNvPr id="297" name=""/>
          <p:cNvSpPr/>
          <p:nvPr/>
        </p:nvSpPr>
        <p:spPr>
          <a:xfrm>
            <a:off x="521964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برامج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دولة</a:t>
            </a:r>
            <a:endParaRPr b="0" lang="en-US" sz="1800" spc="-1" strike="noStrike">
              <a:solidFill>
                <a:srgbClr val="000000"/>
              </a:solidFill>
              <a:latin typeface="Arial"/>
            </a:endParaRPr>
          </a:p>
        </p:txBody>
      </p:sp>
      <p:sp>
        <p:nvSpPr>
          <p:cNvPr id="298" name=""/>
          <p:cNvSpPr/>
          <p:nvPr/>
        </p:nvSpPr>
        <p:spPr>
          <a:xfrm>
            <a:off x="5148360" y="3429000"/>
            <a:ext cx="1847880" cy="3124080"/>
          </a:xfrm>
          <a:prstGeom prst="flowChartDocument">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القدرات المُعزَّزة لأصحاب الحقوق والقائمين بالواجبات</a:t>
            </a:r>
            <a:endParaRPr b="0" lang="en-US" sz="2400" spc="-1" strike="noStrike">
              <a:solidFill>
                <a:srgbClr val="000000"/>
              </a:solidFill>
              <a:latin typeface="Arial"/>
            </a:endParaRPr>
          </a:p>
        </p:txBody>
      </p:sp>
      <p:sp>
        <p:nvSpPr>
          <p:cNvPr id="299" name=""/>
          <p:cNvSpPr/>
          <p:nvPr/>
        </p:nvSpPr>
        <p:spPr>
          <a:xfrm>
            <a:off x="4859280" y="2708280"/>
            <a:ext cx="223200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نتائج برنامج الدولة</a:t>
            </a:r>
            <a:endParaRPr b="0" lang="en-US" sz="1800" spc="-1" strike="noStrike">
              <a:solidFill>
                <a:srgbClr val="000000"/>
              </a:solidFill>
              <a:latin typeface="Arial"/>
            </a:endParaRPr>
          </a:p>
        </p:txBody>
      </p:sp>
      <p:sp>
        <p:nvSpPr>
          <p:cNvPr id="300" name=""/>
          <p:cNvSpPr/>
          <p:nvPr/>
        </p:nvSpPr>
        <p:spPr>
          <a:xfrm>
            <a:off x="0" y="3500280"/>
            <a:ext cx="2698920" cy="3357720"/>
          </a:xfrm>
          <a:prstGeom prst="flowChartDocumen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إنشاء روابط سَبَبيَّة للحقوق</a:t>
            </a:r>
            <a:endParaRPr b="0" lang="en-US" sz="1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نماذج التمييز وعدم المساواة والإقصاء </a:t>
            </a:r>
            <a:endParaRPr b="0" lang="en-US" sz="19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الفجوات في قدرات أصحاب الحقوق والقائمين بالواجبات</a:t>
            </a:r>
            <a:endParaRPr b="0" lang="en-US" sz="1900" spc="-1" strike="noStrike">
              <a:solidFill>
                <a:srgbClr val="000000"/>
              </a:solidFill>
              <a:latin typeface="Arial"/>
            </a:endParaRPr>
          </a:p>
        </p:txBody>
      </p:sp>
      <p:sp>
        <p:nvSpPr>
          <p:cNvPr id="301" name=""/>
          <p:cNvSpPr/>
          <p:nvPr/>
        </p:nvSpPr>
        <p:spPr>
          <a:xfrm>
            <a:off x="0" y="2565360"/>
            <a:ext cx="2484360" cy="98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حليل تحديات التنمية</a:t>
            </a:r>
            <a:endParaRPr b="0" lang="en-US" sz="1800" spc="-1" strike="noStrike">
              <a:solidFill>
                <a:srgbClr val="000000"/>
              </a:solidFill>
              <a:latin typeface="Arial"/>
            </a:endParaRPr>
          </a:p>
        </p:txBody>
      </p:sp>
      <p:sp>
        <p:nvSpPr>
          <p:cNvPr id="302" name=""/>
          <p:cNvSpPr/>
          <p:nvPr/>
        </p:nvSpPr>
        <p:spPr>
          <a:xfrm>
            <a:off x="2771640" y="3429000"/>
            <a:ext cx="2232000" cy="3124080"/>
          </a:xfrm>
          <a:prstGeom prst="flowChartDocument">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يُسهم أصحابُ الحقوق الذين تم تمكينهم، والقائمون بالواجبات الخاضعون للمساءَلة، في إحقاق حقوق الإنسان</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3" name=""/>
          <p:cNvSpPr/>
          <p:nvPr/>
        </p:nvSpPr>
        <p:spPr>
          <a:xfrm>
            <a:off x="2700360" y="2708280"/>
            <a:ext cx="223344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نتائج إطار عمل الأمم المتحد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للمساعدات الإنمائية</a:t>
            </a:r>
            <a:endParaRPr b="0" lang="en-US" sz="1600" spc="-1" strike="noStrike">
              <a:solidFill>
                <a:srgbClr val="000000"/>
              </a:solidFill>
              <a:latin typeface="Arial"/>
            </a:endParaRPr>
          </a:p>
        </p:txBody>
      </p:sp>
      <p:sp>
        <p:nvSpPr>
          <p:cNvPr id="304" name=""/>
          <p:cNvSpPr/>
          <p:nvPr/>
        </p:nvSpPr>
        <p:spPr>
          <a:xfrm>
            <a:off x="723600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776">
                  <a:alpha val="80392"/>
                </a:srgbClr>
              </a:gs>
              <a:gs pos="100000">
                <a:srgbClr val="cc99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المتابع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والتقييم</a:t>
            </a:r>
            <a:endParaRPr b="0" lang="en-US" sz="1600" spc="-1" strike="noStrike">
              <a:solidFill>
                <a:srgbClr val="000000"/>
              </a:solidFill>
              <a:latin typeface="Arial"/>
            </a:endParaRPr>
          </a:p>
        </p:txBody>
      </p:sp>
      <p:sp>
        <p:nvSpPr>
          <p:cNvPr id="305" name=""/>
          <p:cNvSpPr/>
          <p:nvPr/>
        </p:nvSpPr>
        <p:spPr>
          <a:xfrm>
            <a:off x="7164360" y="2708280"/>
            <a:ext cx="180036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أنظمة المتابعة والتقييم</a:t>
            </a:r>
            <a:endParaRPr b="0" lang="en-US" sz="1600" spc="-1" strike="noStrike">
              <a:solidFill>
                <a:srgbClr val="000000"/>
              </a:solidFill>
              <a:latin typeface="Arial"/>
            </a:endParaRPr>
          </a:p>
        </p:txBody>
      </p:sp>
      <p:sp>
        <p:nvSpPr>
          <p:cNvPr id="306" name=""/>
          <p:cNvSpPr/>
          <p:nvPr/>
        </p:nvSpPr>
        <p:spPr>
          <a:xfrm>
            <a:off x="7093080" y="3429000"/>
            <a:ext cx="2050920" cy="3095640"/>
          </a:xfrm>
          <a:prstGeom prst="flowChartDocument">
            <a:avLst/>
          </a:prstGeom>
          <a:solidFill>
            <a:srgbClr val="660033">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إنشاء آليات عمل لإشراك أصحاب الحقوق والقائمين بالواجبات في متابعة البرنامج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920" y="1413000"/>
            <a:ext cx="6983280" cy="1295280"/>
          </a:xfrm>
          <a:prstGeom prst="rect">
            <a:avLst/>
          </a:prstGeom>
          <a:solidFill>
            <a:srgbClr val="00007a"/>
          </a:solidFill>
          <a:ln w="0">
            <a:noFill/>
          </a:ln>
          <a:effectLst>
            <a:outerShdw dist="107932" dir="2700000" blurRad="0" rotWithShape="0">
              <a:srgbClr val="808080">
                <a:alpha val="50000"/>
              </a:srgbClr>
            </a:outerShdw>
          </a:effectLst>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Arial"/>
              </a:rPr>
              <a:t>ممارسة  تعليمات العمل الجماعي للنهج القائم على حقوق الإنسان</a:t>
            </a:r>
            <a:endParaRPr b="0" lang="en-US" sz="4000" spc="-1" strike="noStrike">
              <a:solidFill>
                <a:srgbClr val="000000"/>
              </a:solidFill>
              <a:latin typeface="Arial"/>
            </a:endParaRPr>
          </a:p>
        </p:txBody>
      </p:sp>
      <p:sp>
        <p:nvSpPr>
          <p:cNvPr id="308" name=""/>
          <p:cNvSpPr/>
          <p:nvPr/>
        </p:nvSpPr>
        <p:spPr>
          <a:xfrm>
            <a:off x="3203640" y="3789360"/>
            <a:ext cx="208764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رابعة</a:t>
            </a:r>
            <a:endParaRPr b="0" lang="en-US" sz="3200" spc="-1" strike="noStrike">
              <a:solidFill>
                <a:srgbClr val="000000"/>
              </a:solidFill>
              <a:latin typeface="Arial"/>
            </a:endParaRPr>
          </a:p>
        </p:txBody>
      </p:sp>
      <p:pic>
        <p:nvPicPr>
          <p:cNvPr id="309" name="" descr=""/>
          <p:cNvPicPr/>
          <p:nvPr/>
        </p:nvPicPr>
        <p:blipFill>
          <a:blip r:embed="rId1"/>
          <a:stretch/>
        </p:blipFill>
        <p:spPr>
          <a:xfrm>
            <a:off x="6877080" y="4005360"/>
            <a:ext cx="2309760" cy="2755800"/>
          </a:xfrm>
          <a:prstGeom prst="rect">
            <a:avLst/>
          </a:prstGeom>
          <a:ln w="0">
            <a:noFill/>
          </a:ln>
        </p:spPr>
      </p:pic>
      <p:sp>
        <p:nvSpPr>
          <p:cNvPr id="310" name=""/>
          <p:cNvSpPr/>
          <p:nvPr/>
        </p:nvSpPr>
        <p:spPr>
          <a:xfrm>
            <a:off x="7093080" y="5362560"/>
            <a:ext cx="1584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47640" y="475920"/>
            <a:ext cx="7056720" cy="108108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بدأ العالمية ومبدأ عدم القابلية للتصرف</a:t>
            </a:r>
            <a:endParaRPr b="0" lang="en-US" sz="3600" spc="-1" strike="noStrike">
              <a:solidFill>
                <a:srgbClr val="000000"/>
              </a:solidFill>
              <a:latin typeface="Arial"/>
            </a:endParaRPr>
          </a:p>
        </p:txBody>
      </p:sp>
      <p:sp>
        <p:nvSpPr>
          <p:cNvPr id="312" name="PlaceHolder 2"/>
          <p:cNvSpPr>
            <a:spLocks noGrp="1"/>
          </p:cNvSpPr>
          <p:nvPr>
            <p:ph/>
          </p:nvPr>
        </p:nvSpPr>
        <p:spPr>
          <a:xfrm>
            <a:off x="1042560" y="3357720"/>
            <a:ext cx="7489800" cy="3024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Arial"/>
                <a:cs typeface="Simplified Arabic"/>
              </a:rPr>
              <a:t>تبعات الأنظمة الوطنية لحماية حقوق الإنسان</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ن تشتمل البرامج والسياسات العامة على ما يلي: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لبيانات المُصنَّفة اللازمة لتحديد حالات الإقصاء والتهميش الصعبة. </a:t>
            </a:r>
            <a:endParaRPr b="0" lang="en-US" sz="2000" spc="-1" strike="noStrike">
              <a:solidFill>
                <a:srgbClr val="000000"/>
              </a:solidFill>
              <a:latin typeface="Times New Roman"/>
            </a:endParaRPr>
          </a:p>
          <a:p>
            <a:pPr marL="609480" indent="-609480" algn="r" rtl="1">
              <a:lnSpc>
                <a:spcPct val="80000"/>
              </a:lnSpc>
              <a:spcBef>
                <a:spcPts val="60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استراتيجيات مُعيَّنة استجابة لهذا العدد من الحالات</a:t>
            </a:r>
            <a:r>
              <a:rPr b="1" lang="ar-JO" sz="2400" spc="-1" strike="noStrike">
                <a:solidFill>
                  <a:srgbClr val="000000"/>
                </a:solidFill>
                <a:latin typeface="Arial"/>
                <a:ea typeface="Simplified Arabic"/>
              </a:rPr>
              <a:t>.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مثال: حملات لقاح شلل الأطفال.</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900000" y="1773360"/>
            <a:ext cx="6842160" cy="12967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مبدأ عالمية حقوق الإنسان يتطلب ما يلي: </a:t>
            </a:r>
            <a:endParaRPr b="0" lang="en-US" sz="2400" spc="-1" strike="noStrike">
              <a:solidFill>
                <a:srgbClr val="000000"/>
              </a:solidFill>
              <a:latin typeface="Arial"/>
            </a:endParaRPr>
          </a:p>
          <a:p>
            <a:pPr marL="609480" indent="-609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ar-JO" sz="2400" spc="-1" strike="noStrike">
                <a:solidFill>
                  <a:srgbClr val="000000"/>
                </a:solidFill>
                <a:latin typeface="Arial"/>
                <a:cs typeface="Arial"/>
              </a:rPr>
              <a:t>عدم إهمال أيّ شخص أو إقصائه من التمتُّع بحقوق الإنسا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63280" y="274680"/>
            <a:ext cx="7056360" cy="14256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Arial"/>
              </a:rPr>
              <a:t>مبدأ عدم القابلية للتجزئة ومبدأ التشابكية </a:t>
            </a:r>
            <a:r>
              <a:rPr b="0" lang="en-US" sz="3600" spc="-1" strike="noStrike">
                <a:solidFill>
                  <a:srgbClr val="ff9900"/>
                </a:solidFill>
                <a:latin typeface="Arial"/>
              </a:rPr>
              <a:t> </a:t>
            </a:r>
            <a:endParaRPr b="0" lang="en-US" sz="3600" spc="-1" strike="noStrike">
              <a:solidFill>
                <a:srgbClr val="000000"/>
              </a:solidFill>
              <a:latin typeface="Arial"/>
            </a:endParaRPr>
          </a:p>
        </p:txBody>
      </p:sp>
      <p:sp>
        <p:nvSpPr>
          <p:cNvPr id="316" name="PlaceHolder 2"/>
          <p:cNvSpPr>
            <a:spLocks noGrp="1"/>
          </p:cNvSpPr>
          <p:nvPr>
            <p:ph/>
          </p:nvPr>
        </p:nvSpPr>
        <p:spPr>
          <a:xfrm>
            <a:off x="539280" y="3500280"/>
            <a:ext cx="8209080" cy="3168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9000"/>
          </a:bodyPr>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Arial"/>
                <a:cs typeface="Simplified Arabic"/>
              </a:rPr>
              <a:t>تبعات الأنظمة الوطنية للحماية</a:t>
            </a:r>
            <a:endParaRPr b="0" lang="en-US" sz="2000" spc="-1" strike="noStrike">
              <a:solidFill>
                <a:srgbClr val="000000"/>
              </a:solidFill>
              <a:latin typeface="Times New Roman"/>
            </a:endParaRPr>
          </a:p>
          <a:p>
            <a:pPr marL="542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أُطرُ العمل القانوني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لا تُعطي امتيازاً لحماية حقوق معيّنة بطريقة تُلحق الضرر بحقوق أخرى.</a:t>
            </a: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يجب أن تكون السياساتُ العام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مبنيةًِ على التحليل الشمولي لمشكلات التنمية، وأن تُقدِّم استجابات أو ردوداً متكاملةً ومتعددة القطاعات.</a:t>
            </a:r>
            <a:endParaRPr b="0" lang="en-US" sz="2000" spc="-1" strike="noStrike">
              <a:solidFill>
                <a:srgbClr val="000000"/>
              </a:solidFill>
              <a:latin typeface="Times New Roman"/>
            </a:endParaRPr>
          </a:p>
          <a:p>
            <a:pPr marL="5421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على مؤسسات الدولة:</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ضمان التنسيق المشترك بين المؤسسات والتنسيق المتعدِّد القطاعات. </a:t>
            </a:r>
            <a:endParaRPr b="0" lang="en-US" sz="2000" spc="-1" strike="noStrike">
              <a:solidFill>
                <a:srgbClr val="000000"/>
              </a:solidFill>
              <a:latin typeface="Times New Roman"/>
            </a:endParaRPr>
          </a:p>
          <a:p>
            <a:pPr marL="542160" indent="-542160" algn="r" rtl="1">
              <a:lnSpc>
                <a:spcPct val="80000"/>
              </a:lnSpc>
              <a:spcBef>
                <a:spcPts val="499"/>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شمول تلك المؤسسات المسؤولة عن الحماية والمتابعة والمساءَلة.</a:t>
            </a:r>
            <a:endParaRPr b="0" lang="en-US" sz="2000" spc="-1" strike="noStrike">
              <a:solidFill>
                <a:srgbClr val="000000"/>
              </a:solidFill>
              <a:latin typeface="Times New Roman"/>
            </a:endParaRPr>
          </a:p>
        </p:txBody>
      </p:sp>
      <p:sp>
        <p:nvSpPr>
          <p:cNvPr id="317"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395280" y="2060640"/>
            <a:ext cx="684216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93000"/>
          </a:bodyPr>
          <a:p>
            <a:pPr marL="566640" indent="-56664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Arial"/>
              </a:rPr>
              <a:t>تتطلب مبادئ حقوق الإنسان: مبدأ عدم القابلية للتجزئة ومبدأ التشابكية، ما يلي: </a:t>
            </a:r>
            <a:endParaRPr b="0" lang="en-US" sz="2400" spc="-1" strike="noStrike">
              <a:solidFill>
                <a:srgbClr val="000000"/>
              </a:solidFill>
              <a:latin typeface="Arial"/>
            </a:endParaRPr>
          </a:p>
          <a:p>
            <a:pPr marL="566640" indent="-56664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ea typeface="Arial"/>
              </a:rPr>
              <a:t>	</a:t>
            </a:r>
            <a:r>
              <a:rPr b="0" lang="ar-JO" sz="2400" spc="-1" strike="noStrike">
                <a:solidFill>
                  <a:srgbClr val="000000"/>
                </a:solidFill>
                <a:latin typeface="Arial"/>
                <a:cs typeface="Arial"/>
              </a:rPr>
              <a:t>الاعتراف المتساوي بالحقوق والحماية المتساوية له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63280" y="274320"/>
            <a:ext cx="7056360" cy="77796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مبدأ المساواة ومبدأ عدم التمييز</a:t>
            </a:r>
            <a:endParaRPr b="0" lang="en-US" sz="3200" spc="-1" strike="noStrike">
              <a:solidFill>
                <a:srgbClr val="000000"/>
              </a:solidFill>
              <a:latin typeface="Arial"/>
            </a:endParaRPr>
          </a:p>
        </p:txBody>
      </p:sp>
      <p:sp>
        <p:nvSpPr>
          <p:cNvPr id="320" name="PlaceHolder 2"/>
          <p:cNvSpPr>
            <a:spLocks noGrp="1"/>
          </p:cNvSpPr>
          <p:nvPr>
            <p:ph/>
          </p:nvPr>
        </p:nvSpPr>
        <p:spPr>
          <a:xfrm>
            <a:off x="395280" y="2565360"/>
            <a:ext cx="8353440" cy="40766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2000"/>
          </a:bodyPr>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تبعات الأنظمة الوطنية للحماية:</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الأُطر القانونية أن:</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لغي التشريعات التمييزية</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فضي إلى تمتّع الجميع بحقوق الإنسان</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أن تضمن المؤسسات العامة:</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مثيل الجماعات المهمَّشة أو المُقصاة من الإدارة العامة ومن هيئات صنع القرار.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وافر إمكانية الوصول إلى الخدمات العامة، وأن تكون تلك الخدمات مراعية للنوع الاجتماعي والعمر والاختلافات الثقافية.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وجود آليات تصويب أوضاع وإنصاف إدارية وقضائية ملائمة.</a:t>
            </a:r>
            <a:endParaRPr b="0" lang="en-US" sz="1800" spc="-1" strike="noStrike">
              <a:solidFill>
                <a:srgbClr val="000000"/>
              </a:solidFill>
              <a:latin typeface="Times New Roman"/>
            </a:endParaRPr>
          </a:p>
          <a:p>
            <a:pPr marL="560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السياسات العامة أن:</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تحدَّى نماذج تخصيص الملكيات وتَركُّز الموارد، مما يؤدي إلى التمييز الهيكلي والإقصاء.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تَّخذ خطوات إيجابية لتقليص التفاوتات الاقتصادية والاجتماعية. </a:t>
            </a:r>
            <a:endParaRPr b="0" lang="en-US" sz="1800" spc="-1" strike="noStrike">
              <a:solidFill>
                <a:srgbClr val="000000"/>
              </a:solidFill>
              <a:latin typeface="Times New Roman"/>
            </a:endParaRPr>
          </a:p>
          <a:p>
            <a:pPr marL="560520" indent="-560520" algn="r" rtl="1">
              <a:lnSpc>
                <a:spcPct val="9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تنهض بالتعليم وترفع وتيرة الوعي العام. </a:t>
            </a:r>
            <a:endParaRPr b="0" lang="en-US" sz="1800" spc="-1" strike="noStrike">
              <a:solidFill>
                <a:srgbClr val="000000"/>
              </a:solidFill>
              <a:latin typeface="Times New Roman"/>
            </a:endParaRPr>
          </a:p>
        </p:txBody>
      </p:sp>
      <p:sp>
        <p:nvSpPr>
          <p:cNvPr id="321" name=""/>
          <p:cNvSpPr/>
          <p:nvPr/>
        </p:nvSpPr>
        <p:spPr>
          <a:xfrm>
            <a:off x="1547640" y="1197000"/>
            <a:ext cx="7128000" cy="115236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Simplified Arabic"/>
              </a:rPr>
              <a:t>تُجبرُ المساواةُ وعدم التمييز الدولَ على القيام بما يلي:</a:t>
            </a:r>
            <a:endParaRPr b="0" lang="en-US" sz="2200" spc="-1" strike="noStrike">
              <a:solidFill>
                <a:srgbClr val="000000"/>
              </a:solidFill>
              <a:latin typeface="Arial"/>
            </a:endParaRPr>
          </a:p>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	</a:t>
            </a:r>
            <a:r>
              <a:rPr b="0" lang="ar-JO" sz="2200" spc="-1" strike="noStrike">
                <a:solidFill>
                  <a:srgbClr val="000000"/>
                </a:solidFill>
                <a:latin typeface="Arial"/>
                <a:cs typeface="Simplified Arabic"/>
              </a:rPr>
              <a:t>استئصال التمييز القانوني والمؤسسي</a:t>
            </a:r>
            <a:endParaRPr b="0" lang="en-US" sz="2200" spc="-1" strike="noStrike">
              <a:solidFill>
                <a:srgbClr val="000000"/>
              </a:solidFill>
              <a:latin typeface="Arial"/>
            </a:endParaRPr>
          </a:p>
          <a:p>
            <a:pPr marL="609480" indent="-6094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ea typeface="Simplified Arabic"/>
              </a:rPr>
              <a:t>	</a:t>
            </a:r>
            <a:r>
              <a:rPr b="0" lang="ar-JO" sz="2200" spc="-1" strike="noStrike">
                <a:solidFill>
                  <a:srgbClr val="000000"/>
                </a:solidFill>
                <a:latin typeface="Arial"/>
                <a:cs typeface="Simplified Arabic"/>
              </a:rPr>
              <a:t>والبُنْيوي (الهيكلي) وذلك الخاص بالعلاقات بين الأشخا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92000" y="274320"/>
            <a:ext cx="6994440" cy="114300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محطات تاريخية بارزة في عملية إصلاح الأمم المتحدة</a:t>
            </a:r>
            <a:endParaRPr b="0" lang="en-US" sz="3600" spc="-1" strike="noStrike">
              <a:solidFill>
                <a:srgbClr val="000000"/>
              </a:solidFill>
              <a:latin typeface="Arial"/>
            </a:endParaRPr>
          </a:p>
        </p:txBody>
      </p:sp>
      <p:sp>
        <p:nvSpPr>
          <p:cNvPr id="79" name="PlaceHolder 2"/>
          <p:cNvSpPr>
            <a:spLocks noGrp="1"/>
          </p:cNvSpPr>
          <p:nvPr>
            <p:ph/>
          </p:nvPr>
        </p:nvSpPr>
        <p:spPr>
          <a:xfrm>
            <a:off x="250920" y="1699920"/>
            <a:ext cx="8447040" cy="4753080"/>
          </a:xfrm>
          <a:prstGeom prst="rect">
            <a:avLst/>
          </a:prstGeom>
          <a:solidFill>
            <a:srgbClr val="ffffff"/>
          </a:solidFill>
          <a:ln w="0">
            <a:noFill/>
          </a:ln>
        </p:spPr>
        <p:txBody>
          <a:bodyPr lIns="90000" rIns="90000" tIns="46800" bIns="46800" anchor="t">
            <a:normAutofit fontScale="85000"/>
          </a:bodyPr>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1993</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المؤتمر العالمي للأمم المتحدة حول حقوق الإنسان</a:t>
            </a:r>
            <a:r>
              <a:rPr b="0" lang="ar-JO" sz="2000" spc="-1" strike="noStrike">
                <a:solidFill>
                  <a:srgbClr val="000000"/>
                </a:solidFill>
                <a:latin typeface="Times New Roman"/>
                <a:ea typeface="Simplified Arabic"/>
              </a:rPr>
              <a:t> - تم إنشاء منصب </a:t>
            </a:r>
            <a:r>
              <a:rPr b="1" lang="ar-JO" sz="2000" spc="-1" strike="noStrike">
                <a:solidFill>
                  <a:srgbClr val="000000"/>
                </a:solidFill>
                <a:latin typeface="Times New Roman"/>
                <a:cs typeface="Simplified Arabic"/>
              </a:rPr>
              <a:t>مفوّض الأمم المتحدة السامي لحقوق الإنسان</a:t>
            </a:r>
            <a:r>
              <a:rPr b="0" lang="ar-JO" sz="2000" spc="-1" strike="noStrike">
                <a:solidFill>
                  <a:srgbClr val="000000"/>
                </a:solidFill>
                <a:latin typeface="Times New Roman"/>
                <a:ea typeface="Simplified Arabic"/>
              </a:rPr>
              <a:t> في ڤينَّا (قرار الجمعية العامة رقم </a:t>
            </a:r>
            <a:r>
              <a:rPr b="0" lang="ar-JO" sz="2000" spc="-1" strike="noStrike">
                <a:solidFill>
                  <a:srgbClr val="000000"/>
                </a:solidFill>
                <a:latin typeface="Times New Roman"/>
                <a:ea typeface="Simplified Arabic"/>
              </a:rPr>
              <a:t>48/141</a:t>
            </a:r>
            <a:r>
              <a:rPr b="0" lang="ar-JO" sz="2000" spc="-1" strike="noStrike">
                <a:solidFill>
                  <a:srgbClr val="000000"/>
                </a:solidFill>
                <a:latin typeface="Times New Roman"/>
                <a:ea typeface="Simplified Arabic"/>
              </a:rPr>
              <a:t>)</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1997</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برنامج الأمين العام لعملية إصلاح الأمم المتحدة</a:t>
            </a:r>
            <a:r>
              <a:rPr b="0" lang="ar-JO" sz="2000" spc="-1" strike="noStrike">
                <a:solidFill>
                  <a:srgbClr val="000000"/>
                </a:solidFill>
                <a:latin typeface="Times New Roman"/>
                <a:ea typeface="Simplified Arabic"/>
              </a:rPr>
              <a:t>: حقوق الإنسان تقع في صُلب عملية تعزيز السلام والأمن والازدهار الاقتصادي والعدالة الاجتماعي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0</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قمة الألفية وإعلان الألفية.</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2</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أجندة (برنامج) الأمين العام لمزيد من التغيير</a:t>
            </a:r>
            <a:r>
              <a:rPr b="0" lang="ar-JO" sz="2000" spc="-1" strike="noStrike">
                <a:solidFill>
                  <a:srgbClr val="000000"/>
                </a:solidFill>
                <a:latin typeface="Times New Roman"/>
                <a:ea typeface="Simplified Arabic"/>
              </a:rPr>
              <a:t>: حقوق الإنسان متطلب أساسي وطيد للتنمي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5</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تقرير الأمين العام عن عملية إصلاح الأمم المتحدة بعنوان ”في جوٍّ من الحرية أفسح“ وثيقة نتائج القمة العالمية:</a:t>
            </a:r>
            <a:r>
              <a:rPr b="0" lang="ar-JO" sz="2000" spc="-1" strike="noStrike">
                <a:solidFill>
                  <a:srgbClr val="000000"/>
                </a:solidFill>
                <a:latin typeface="Times New Roman"/>
                <a:ea typeface="Simplified Arabic"/>
              </a:rPr>
              <a:t> دعم الإدماج الإضافي لحقوق الإنسان على نطاق منظومة الأمم المتحدة. </a:t>
            </a:r>
            <a:endParaRPr b="0" lang="en-US" sz="2000" spc="-1" strike="noStrike">
              <a:solidFill>
                <a:srgbClr val="000000"/>
              </a:solidFill>
              <a:latin typeface="Times New Roman"/>
            </a:endParaRPr>
          </a:p>
          <a:p>
            <a:pPr marL="678600" indent="0" algn="just" rtl="1">
              <a:lnSpc>
                <a:spcPct val="130000"/>
              </a:lnSpc>
              <a:spcBef>
                <a:spcPts val="499"/>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ea typeface="Simplified Arabic"/>
              </a:rPr>
              <a:t>2006</a:t>
            </a:r>
            <a:r>
              <a:rPr b="0" lang="ar-JO" sz="2000" spc="-1" strike="noStrike">
                <a:solidFill>
                  <a:srgbClr val="000000"/>
                </a:solidFill>
                <a:latin typeface="Times New Roman"/>
                <a:ea typeface="Simplified Arabic"/>
              </a:rPr>
              <a:t>	</a:t>
            </a:r>
            <a:r>
              <a:rPr b="0"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r>
              <a:rPr b="1" lang="ar-JO" sz="2000" spc="-1" strike="noStrike">
                <a:solidFill>
                  <a:srgbClr val="000000"/>
                </a:solidFill>
                <a:latin typeface="Times New Roman"/>
                <a:cs typeface="Simplified Arabic"/>
              </a:rPr>
              <a:t>التماسك على نطاق منظومة الأمم المتحدة فيما يتعلَّق بحقوق ملكية المساكن والأراضي (</a:t>
            </a:r>
            <a:r>
              <a:rPr b="1" lang="en-US" sz="1600" spc="-1" strike="noStrike">
                <a:solidFill>
                  <a:srgbClr val="000000"/>
                </a:solidFill>
                <a:latin typeface="Times New Roman"/>
                <a:ea typeface="Simplified Arabic"/>
              </a:rPr>
              <a:t>HLPR</a:t>
            </a:r>
            <a:r>
              <a:rPr b="1" lang="ar-JO" sz="2000" spc="-1" strike="noStrike">
                <a:solidFill>
                  <a:srgbClr val="000000"/>
                </a:solidFill>
                <a:latin typeface="Times New Roman"/>
                <a:ea typeface="Simplified Arabic"/>
              </a:rPr>
              <a:t>)</a:t>
            </a:r>
            <a:r>
              <a:rPr b="0" lang="ar-JO"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marL="678600" indent="0" algn="r" rtl="1">
              <a:lnSpc>
                <a:spcPct val="70000"/>
              </a:lnSpc>
              <a:spcBef>
                <a:spcPts val="499"/>
              </a:spcBef>
              <a:buNone/>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مبدأ المشاركة</a:t>
            </a:r>
            <a:endParaRPr b="0" lang="en-US" sz="3200" spc="-1" strike="noStrike">
              <a:solidFill>
                <a:srgbClr val="000000"/>
              </a:solidFill>
              <a:latin typeface="Arial"/>
            </a:endParaRPr>
          </a:p>
        </p:txBody>
      </p:sp>
      <p:sp>
        <p:nvSpPr>
          <p:cNvPr id="323" name="PlaceHolder 2"/>
          <p:cNvSpPr>
            <a:spLocks noGrp="1"/>
          </p:cNvSpPr>
          <p:nvPr>
            <p:ph/>
          </p:nvPr>
        </p:nvSpPr>
        <p:spPr>
          <a:xfrm>
            <a:off x="1403280" y="2565360"/>
            <a:ext cx="6840720" cy="3960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Arial"/>
                <a:cs typeface="Simplified Arabic"/>
              </a:rPr>
              <a:t>تبعات الأنظمة الوطنية للحماية</a:t>
            </a:r>
            <a:endParaRPr b="0" lang="en-US" sz="1800" spc="-1" strike="noStrike">
              <a:solidFill>
                <a:srgbClr val="000000"/>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أن تُوفِّر السياسات والعمليات والإجراءات ما يلي: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فرص المشاركة في التخطيط والتنم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وصول إلى المعلومات ذات الصل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القدرات للمجموعات المهمشة على صياغة المقترحات. </a:t>
            </a:r>
            <a:endParaRPr b="0" lang="en-US" sz="1800" spc="-1" strike="noStrike">
              <a:solidFill>
                <a:srgbClr val="000000"/>
              </a:solidFill>
              <a:latin typeface="Times New Roman"/>
            </a:endParaRPr>
          </a:p>
          <a:p>
            <a:pPr marL="609480"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جب على آليات العمل المؤسس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أن تكون مستندة إلى المبادئ الديمقراطية. </a:t>
            </a:r>
            <a:endParaRPr b="0" lang="en-US" sz="1800" spc="-1" strike="noStrike">
              <a:solidFill>
                <a:srgbClr val="000000"/>
              </a:solidFill>
              <a:latin typeface="Times New Roman"/>
            </a:endParaRPr>
          </a:p>
          <a:p>
            <a:pPr marL="609480" indent="-609480" algn="r" rtl="1">
              <a:lnSpc>
                <a:spcPct val="80000"/>
              </a:lnSpc>
              <a:spcBef>
                <a:spcPts val="451"/>
              </a:spcBef>
              <a:buClr>
                <a:srgbClr val="fdfdf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أن لا تُعطِّل البُنى الديمقراطية أو التقليدية القائمة.</a:t>
            </a:r>
            <a:endParaRPr b="0" lang="en-US" sz="1800" spc="-1" strike="noStrike">
              <a:solidFill>
                <a:srgbClr val="000000"/>
              </a:solidFill>
              <a:latin typeface="Times New Roman"/>
            </a:endParaRPr>
          </a:p>
          <a:p>
            <a:pPr marL="609480" indent="0" algn="r" rtl="1">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المجتمع المدني أن: </a:t>
            </a:r>
            <a:endParaRPr b="0" lang="en-US" sz="1800" spc="-1" strike="noStrike">
              <a:solidFill>
                <a:srgbClr val="000000"/>
              </a:solidFill>
              <a:latin typeface="Times New Roman"/>
            </a:endParaRPr>
          </a:p>
          <a:p>
            <a:pPr marL="609480" indent="-609480" algn="r" rtl="1">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كون نشيطاًً ومستقلاً وممتلكاً للقدرات .</a:t>
            </a:r>
            <a:endParaRPr b="0" lang="en-US" sz="1800" spc="-1" strike="noStrike">
              <a:solidFill>
                <a:srgbClr val="000000"/>
              </a:solidFill>
              <a:latin typeface="Times New Roman"/>
            </a:endParaRPr>
          </a:p>
          <a:p>
            <a:pPr marL="609480" indent="-609480" algn="r" rtl="1">
              <a:lnSpc>
                <a:spcPct val="12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مثِّل أصوات المجموعات المُهمَّشة والمُقصاة . </a:t>
            </a:r>
            <a:endParaRPr b="0" lang="en-US" sz="1800" spc="-1" strike="noStrike">
              <a:solidFill>
                <a:srgbClr val="000000"/>
              </a:solidFill>
              <a:latin typeface="Times New Roman"/>
            </a:endParaRPr>
          </a:p>
          <a:p>
            <a:pPr marL="609480" indent="-609480" algn="r" rtl="1">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Simplified Arabic"/>
              </a:rPr>
              <a:t>يسيطر على عمليات صنع القرار. </a:t>
            </a:r>
            <a:endParaRPr b="0" lang="en-US" sz="1800" spc="-1" strike="noStrike">
              <a:solidFill>
                <a:srgbClr val="000000"/>
              </a:solidFill>
              <a:latin typeface="Times New Roman"/>
            </a:endParaRPr>
          </a:p>
        </p:txBody>
      </p:sp>
      <p:sp>
        <p:nvSpPr>
          <p:cNvPr id="324" name=""/>
          <p:cNvSpPr/>
          <p:nvPr/>
        </p:nvSpPr>
        <p:spPr>
          <a:xfrm>
            <a:off x="1403280" y="1341360"/>
            <a:ext cx="5689800" cy="100800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86000"/>
          </a:bodyPr>
          <a:p>
            <a:pPr marL="523800" indent="-523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يتطلب مبدأ المشاركة في حقوق الإنسان: </a:t>
            </a:r>
            <a:endParaRPr b="0" lang="en-US" sz="2400" spc="-1" strike="noStrike">
              <a:solidFill>
                <a:srgbClr val="000000"/>
              </a:solidFill>
              <a:latin typeface="Arial"/>
            </a:endParaRPr>
          </a:p>
          <a:p>
            <a:pPr marL="523800" indent="-523800"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SimSun"/>
              </a:rPr>
              <a:t>	</a:t>
            </a:r>
            <a:r>
              <a:rPr b="0" lang="ar-JO" sz="2200" spc="-1" strike="noStrike">
                <a:solidFill>
                  <a:srgbClr val="000000"/>
                </a:solidFill>
                <a:latin typeface="Arial"/>
                <a:cs typeface="Simplified Arabic"/>
              </a:rPr>
              <a:t>المشاركة الحرة والنشيطة والشمولية وذات المعنى.</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a:t>
            </a:r>
            <a:endParaRPr b="0" lang="en-US" sz="4400" spc="-1" strike="noStrike">
              <a:solidFill>
                <a:srgbClr val="000000"/>
              </a:solidFill>
              <a:latin typeface="Arial"/>
            </a:endParaRPr>
          </a:p>
        </p:txBody>
      </p:sp>
      <p:sp>
        <p:nvSpPr>
          <p:cNvPr id="326" name="PlaceHolder 2"/>
          <p:cNvSpPr>
            <a:spLocks noGrp="1"/>
          </p:cNvSpPr>
          <p:nvPr>
            <p:ph/>
          </p:nvPr>
        </p:nvSpPr>
        <p:spPr>
          <a:xfrm>
            <a:off x="1115640" y="3141720"/>
            <a:ext cx="7559640" cy="3527280"/>
          </a:xfrm>
          <a:prstGeom prst="rect">
            <a:avLst/>
          </a:prstGeom>
          <a:solidFill>
            <a:srgbClr val="ffffff"/>
          </a:solidFill>
          <a:ln w="0">
            <a:noFill/>
          </a:ln>
          <a:effectLst>
            <a:outerShdw dist="40186" dir="4303641" blurRad="0" rotWithShape="0">
              <a:srgbClr val="808080"/>
            </a:outerShdw>
          </a:effectLst>
        </p:spPr>
        <p:txBody>
          <a:bodyPr lIns="90000" rIns="90000" tIns="137160" bIns="46800" anchor="t">
            <a:normAutofit fontScale="86000"/>
          </a:bodyPr>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تبعات أنظمة حماية حقوق الإنسان</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5238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جب أن يتم تزويد مؤسسات الدولة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بالموارد الكافية والمسؤوليات والسلطة المستقلة لمراقبة الحكومة بطريقة مُجدية. </a:t>
            </a:r>
            <a:endParaRPr b="0" lang="en-US" sz="20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ea typeface="Simplified Arabic"/>
              </a:rPr>
              <a:t>	</a:t>
            </a:r>
            <a:r>
              <a:rPr b="0" lang="ar-JO" sz="2000" spc="-1" strike="noStrike">
                <a:solidFill>
                  <a:srgbClr val="000000"/>
                </a:solidFill>
                <a:latin typeface="Times New Roman"/>
                <a:cs typeface="Simplified Arabic"/>
              </a:rPr>
              <a:t>مثال : وجود هيئات برلمانية مستقلة لحقوق الإنسان، ومؤسسات وطنية لحقوق الإنسان، وقضاة، ومحاكم، ومستشارين قانونيين. </a:t>
            </a:r>
            <a:endParaRPr b="0" lang="en-US" sz="2000" spc="-1" strike="noStrike">
              <a:solidFill>
                <a:srgbClr val="000000"/>
              </a:solidFill>
              <a:latin typeface="Times New Roman"/>
            </a:endParaRPr>
          </a:p>
          <a:p>
            <a:pPr marL="523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3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على الدولة أن تتعامل مع الأنظمة الوطنية لحقوق الإنسان عن طريق: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وفاء في الوقت المطلوب بالالتزامات الدولية للإبلاغ (إعداد التقارير).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دعوة إلى تطبيق الإجراءات الخاصة وتقديم المعلومات. </a:t>
            </a:r>
            <a:endParaRPr b="0" lang="en-US" sz="2000" spc="-1" strike="noStrike">
              <a:solidFill>
                <a:srgbClr val="000000"/>
              </a:solidFill>
              <a:latin typeface="Times New Roman"/>
            </a:endParaRPr>
          </a:p>
          <a:p>
            <a:pPr marL="523800" indent="-52380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تنفيذ توصيات هيئات المعاهدة والإجراءات الخاصة.</a:t>
            </a:r>
            <a:r>
              <a:rPr b="0" lang="ar-JO"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p:txBody>
      </p:sp>
      <p:sp>
        <p:nvSpPr>
          <p:cNvPr id="327"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611280" y="1628640"/>
            <a:ext cx="684216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طالب مبدأُ المساءَلة ...</a:t>
            </a:r>
            <a:br>
              <a:rPr sz="2400"/>
            </a:br>
            <a:r>
              <a:rPr b="0" lang="ar-JO" sz="2400" spc="-1" strike="noStrike">
                <a:solidFill>
                  <a:srgbClr val="000000"/>
                </a:solidFill>
                <a:latin typeface="Times New Roman"/>
                <a:cs typeface="Simplified Arabic"/>
              </a:rPr>
              <a:t>الدولَ والقائمين بالواجبات الآخرين بأن يكونوا مسؤولين عن مراعاة إحقاق حقوق الإنسا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763280" y="274320"/>
            <a:ext cx="7056360" cy="77796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330" name="PlaceHolder 2"/>
          <p:cNvSpPr>
            <a:spLocks noGrp="1"/>
          </p:cNvSpPr>
          <p:nvPr>
            <p:ph/>
          </p:nvPr>
        </p:nvSpPr>
        <p:spPr>
          <a:xfrm>
            <a:off x="611280" y="3141360"/>
            <a:ext cx="7634160" cy="31669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2000"/>
          </a:bodyPr>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تبعات أنظمة حماية حقوق الإنسان:</a:t>
            </a: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أُطر العمل القانونية أ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كون متوافقة مع أعراف حقوق الإنسا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وجِدَ شروطاً وإجراءات وآليات عمل لأصحاب الحقوق للمطالبة بحقوقهم، وللقائمين بالواجبات للوفاء بالتزاماتهم.</a:t>
            </a:r>
            <a:r>
              <a:rPr b="0" lang="en-US" sz="1800" spc="-1" strike="noStrike">
                <a:solidFill>
                  <a:srgbClr val="000000"/>
                </a:solidFill>
                <a:latin typeface="Times New Roman"/>
                <a:ea typeface="SimSun"/>
              </a:rPr>
              <a:t> </a:t>
            </a: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712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على السياسات العامة أن: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تّخذ خطوات تدريجية للتصدي إلى مواطن الضعف في أنظمة المُساءَلة. </a:t>
            </a:r>
            <a:endParaRPr b="0" lang="en-US" sz="1800" spc="-1" strike="noStrike">
              <a:solidFill>
                <a:srgbClr val="000000"/>
              </a:solidFill>
              <a:latin typeface="Times New Roman"/>
            </a:endParaRPr>
          </a:p>
          <a:p>
            <a:pPr marL="267120" indent="-267120" algn="r" rtl="1">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نفِّذ التزامات الدولة تجاه حقوق الإنسان على المستويات المركزية والإقليمية والمحلية.</a:t>
            </a:r>
            <a:r>
              <a:rPr b="0" lang="ar-JO" sz="1800" spc="-1" strike="noStrike">
                <a:solidFill>
                  <a:srgbClr val="000000"/>
                </a:solidFill>
                <a:latin typeface="Times New Roman"/>
                <a:ea typeface="Simplified Arabic"/>
              </a:rPr>
              <a:t> </a:t>
            </a:r>
            <a:endParaRPr b="0" lang="en-US" sz="1800" spc="-1" strike="noStrike">
              <a:solidFill>
                <a:srgbClr val="000000"/>
              </a:solidFill>
              <a:latin typeface="Times New Roman"/>
            </a:endParaRPr>
          </a:p>
        </p:txBody>
      </p:sp>
      <p:sp>
        <p:nvSpPr>
          <p:cNvPr id="331" name=""/>
          <p:cNvSpPr/>
          <p:nvPr/>
        </p:nvSpPr>
        <p:spPr>
          <a:xfrm>
            <a:off x="539640" y="1413000"/>
            <a:ext cx="6842160" cy="12967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a:bodyPr>
          <a:p>
            <a:pPr marL="609480" indent="-609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تطلب مبدأ المساءَلة ما يلي: </a:t>
            </a:r>
            <a:endParaRPr b="0" lang="en-US" sz="2400" spc="-1" strike="noStrike">
              <a:solidFill>
                <a:srgbClr val="000000"/>
              </a:solidFill>
              <a:latin typeface="Arial"/>
            </a:endParaRPr>
          </a:p>
          <a:p>
            <a:pPr marL="609480" indent="-609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cs typeface="Simplified Arabic"/>
              </a:rPr>
              <a:t>وجود آليات عمل وإجراءات تصويب أوضاع وإنصاف مستقلة وفعَّالة ويمكن الوصول إلي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763280" y="274680"/>
            <a:ext cx="7056360" cy="92232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cs typeface="Arial"/>
              </a:rPr>
              <a:t>مبدأ المساءَلة </a:t>
            </a:r>
            <a:endParaRPr b="0" lang="en-US" sz="4400" spc="-1" strike="noStrike">
              <a:solidFill>
                <a:srgbClr val="000000"/>
              </a:solidFill>
              <a:latin typeface="Arial"/>
            </a:endParaRPr>
          </a:p>
        </p:txBody>
      </p:sp>
      <p:sp>
        <p:nvSpPr>
          <p:cNvPr id="333" name="PlaceHolder 2"/>
          <p:cNvSpPr>
            <a:spLocks noGrp="1"/>
          </p:cNvSpPr>
          <p:nvPr>
            <p:ph/>
          </p:nvPr>
        </p:nvSpPr>
        <p:spPr>
          <a:xfrm>
            <a:off x="1258560" y="3213000"/>
            <a:ext cx="7489800" cy="2952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5000"/>
          </a:bodyPr>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cs typeface="Simplified Arabic"/>
              </a:rPr>
              <a:t>تبعات أنظمة حماية حقوق الإنسان:</a:t>
            </a:r>
            <a:r>
              <a:rPr b="0" lang="en-US"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مجتمعُ المدني الفعَّال المراعي لحساسية الحقوق يجب أن: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رصد ويراقب التزام الدولة بالتزامات حقوق الإنسان فيها.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عبّر بالتفصيل عن هموم المجتمع وأن يُناصر التغيير الإيجابي في المجتمع. </a:t>
            </a:r>
            <a:endParaRPr b="0" lang="en-US" sz="2000" spc="-1" strike="noStrike">
              <a:solidFill>
                <a:srgbClr val="000000"/>
              </a:solidFill>
              <a:latin typeface="Times New Roman"/>
            </a:endParaRPr>
          </a:p>
          <a:p>
            <a:pPr marL="518040" indent="-518040" algn="r" rtl="1">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يقدم إلى الآليات الدولية لحقوق الإنسان المعلومات وتقارير الظل. </a:t>
            </a: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Simplified Arabic"/>
              </a:rPr>
              <a:t>مثال: حملة الحصول على العلاجات المضادة </a:t>
            </a:r>
            <a:r>
              <a:rPr b="0" lang="ar-JO" sz="2000" spc="-1" strike="noStrike">
                <a:solidFill>
                  <a:srgbClr val="000000"/>
                </a:solidFill>
                <a:latin typeface="Times New Roman"/>
                <a:cs typeface="Times New Roman"/>
              </a:rPr>
              <a:t>للڤيروس</a:t>
            </a:r>
            <a:r>
              <a:rPr b="0" lang="ar-JO" sz="2000" spc="-1" strike="noStrike">
                <a:solidFill>
                  <a:srgbClr val="000000"/>
                </a:solidFill>
                <a:latin typeface="Times New Roman"/>
                <a:ea typeface="Simplified Arabic"/>
              </a:rPr>
              <a:t> القهقري في جنوب إفريقيا. </a:t>
            </a:r>
            <a:endParaRPr b="0" lang="en-US" sz="2000" spc="-1" strike="noStrike">
              <a:solidFill>
                <a:srgbClr val="000000"/>
              </a:solidFill>
              <a:latin typeface="Times New Roman"/>
            </a:endParaRPr>
          </a:p>
        </p:txBody>
      </p:sp>
      <p:sp>
        <p:nvSpPr>
          <p:cNvPr id="334" name=""/>
          <p:cNvSpPr/>
          <p:nvPr/>
        </p:nvSpPr>
        <p:spPr>
          <a:xfrm>
            <a:off x="755640" y="5157720"/>
            <a:ext cx="799308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684360" y="1484280"/>
            <a:ext cx="6841800" cy="129708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normAutofit fontScale="96000"/>
          </a:bodyPr>
          <a:p>
            <a:pPr marL="585000" indent="-585000"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يتطلب مبدأ المساءَلة وجود ما يلي: </a:t>
            </a:r>
            <a:br>
              <a:rPr sz="2400"/>
            </a:br>
            <a:r>
              <a:rPr b="0" lang="ar-JO" sz="2400" spc="-1" strike="noStrike">
                <a:solidFill>
                  <a:srgbClr val="000000"/>
                </a:solidFill>
                <a:latin typeface="Times New Roman"/>
                <a:cs typeface="Simplified Arabic"/>
              </a:rPr>
              <a:t>وسائل إعلام حرة مستقلة ومجانية، وجماعات مدافعة عن حقوق الإنسان تكون تمثيلية في طابعها للرجال والنساء والجماعات المُهمَّشة والمُقصا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07640" y="476280"/>
            <a:ext cx="6985080" cy="1319040"/>
          </a:xfrm>
          <a:prstGeom prst="rect">
            <a:avLst/>
          </a:prstGeom>
          <a:solidFill>
            <a:srgbClr val="ffffff"/>
          </a:solid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بُعْدُ النوع الاجتماعي والعُمُر في الأَزَمات</a:t>
            </a:r>
            <a:r>
              <a:rPr b="0" lang="en-US" sz="3600" spc="-1" strike="noStrike">
                <a:solidFill>
                  <a:srgbClr val="000000"/>
                </a:solidFill>
                <a:latin typeface="Arial"/>
                <a:ea typeface="Simplified Arabic"/>
              </a:rPr>
              <a:t> </a:t>
            </a:r>
            <a:r>
              <a:rPr b="0" lang="ar-JO" sz="3600" spc="-1" strike="noStrike">
                <a:solidFill>
                  <a:srgbClr val="000000"/>
                </a:solidFill>
                <a:latin typeface="Arial"/>
                <a:cs typeface="Simplified Arabic"/>
              </a:rPr>
              <a:t>والأوضاع الطارئة</a:t>
            </a:r>
            <a:endParaRPr b="0" lang="en-US" sz="3600" spc="-1" strike="noStrike">
              <a:solidFill>
                <a:srgbClr val="000000"/>
              </a:solidFill>
              <a:latin typeface="Arial"/>
            </a:endParaRPr>
          </a:p>
        </p:txBody>
      </p:sp>
      <p:sp>
        <p:nvSpPr>
          <p:cNvPr id="337" name="PlaceHolder 2"/>
          <p:cNvSpPr>
            <a:spLocks noGrp="1"/>
          </p:cNvSpPr>
          <p:nvPr>
            <p:ph type="subTitle"/>
          </p:nvPr>
        </p:nvSpPr>
        <p:spPr>
          <a:xfrm>
            <a:off x="838080" y="2349000"/>
            <a:ext cx="7391520" cy="4203720"/>
          </a:xfrm>
          <a:prstGeom prst="rect">
            <a:avLst/>
          </a:prstGeom>
          <a:solidFill>
            <a:srgbClr val="ffffff"/>
          </a:solidFill>
          <a:ln w="0">
            <a:noFill/>
          </a:ln>
        </p:spPr>
        <p:txBody>
          <a:bodyPr lIns="90000" rIns="90000" tIns="46800" bIns="46800" anchor="t">
            <a:noAutofit/>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يُمكن أن تُحدث الأَزَماتُ والأوضاع الطارئة آثاراً مختلفة جداً على كل من الرجال والنساء والأطفال. </a:t>
            </a: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وتُشكِّل النساءُ والأطفال دائماً تقريباً أغلبية كبرى من المجموعات السكانية النازحة داخل بلدانها واللاَّجئ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71280" y="1412640"/>
            <a:ext cx="7777080" cy="143964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cs typeface="Arial"/>
              </a:rPr>
              <a:t>ربط الحقوق بالنتائج: </a:t>
            </a:r>
            <a:br>
              <a:rPr sz="4400"/>
            </a:br>
            <a:r>
              <a:rPr b="1" lang="ar-JO" sz="4400" spc="-1" strike="noStrike">
                <a:solidFill>
                  <a:srgbClr val="ffffff"/>
                </a:solidFill>
                <a:latin typeface="Arial"/>
                <a:cs typeface="Arial"/>
              </a:rPr>
              <a:t>نهج ”الخطوة تلو الخطوة“ </a:t>
            </a:r>
            <a:endParaRPr b="0" lang="en-US" sz="4400" spc="-1" strike="noStrike">
              <a:solidFill>
                <a:srgbClr val="000000"/>
              </a:solidFill>
              <a:latin typeface="Arial"/>
            </a:endParaRPr>
          </a:p>
        </p:txBody>
      </p:sp>
      <p:sp>
        <p:nvSpPr>
          <p:cNvPr id="339" name=""/>
          <p:cNvSpPr/>
          <p:nvPr/>
        </p:nvSpPr>
        <p:spPr>
          <a:xfrm>
            <a:off x="2556000" y="4292640"/>
            <a:ext cx="2376360" cy="192276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Arial"/>
              </a:rPr>
              <a:t>الجلسات الخامسة والسادسة والسابعة والثامنة</a:t>
            </a:r>
            <a:endParaRPr b="0" lang="en-US" sz="2400" spc="-1" strike="noStrike">
              <a:solidFill>
                <a:srgbClr val="000000"/>
              </a:solidFill>
              <a:latin typeface="Arial"/>
            </a:endParaRPr>
          </a:p>
        </p:txBody>
      </p:sp>
      <p:pic>
        <p:nvPicPr>
          <p:cNvPr id="340" name="" descr=""/>
          <p:cNvPicPr/>
          <p:nvPr/>
        </p:nvPicPr>
        <p:blipFill>
          <a:blip r:embed="rId1"/>
          <a:stretch/>
        </p:blipFill>
        <p:spPr>
          <a:xfrm>
            <a:off x="6877080" y="4005360"/>
            <a:ext cx="2309760" cy="2755800"/>
          </a:xfrm>
          <a:prstGeom prst="rect">
            <a:avLst/>
          </a:prstGeom>
          <a:ln w="0">
            <a:noFill/>
          </a:ln>
        </p:spPr>
      </p:pic>
      <p:sp>
        <p:nvSpPr>
          <p:cNvPr id="341" name=""/>
          <p:cNvSpPr/>
          <p:nvPr/>
        </p:nvSpPr>
        <p:spPr>
          <a:xfrm>
            <a:off x="7093080" y="5362560"/>
            <a:ext cx="1584360" cy="1189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33"/>
                </a:solidFill>
                <a:latin typeface="Arial"/>
                <a:cs typeface="Arial"/>
              </a:rPr>
              <a:t>الإجراء الثاني: تعلّم حقوق الإنسان مع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47280" y="333360"/>
            <a:ext cx="7417080" cy="792000"/>
          </a:xfrm>
          <a:prstGeom prst="rect">
            <a:avLst/>
          </a:prstGeom>
          <a:solidFill>
            <a:srgbClr val="ffffff"/>
          </a:solidFill>
          <a:ln w="0">
            <a:noFill/>
          </a:ln>
          <a:effectLst>
            <a:outerShdw dist="17819" dir="2700000" blurRad="0" rotWithShape="0">
              <a:srgbClr val="808080"/>
            </a:outerShdw>
          </a:effectLst>
        </p:spPr>
        <p:txBody>
          <a:bodyPr lIns="90000" rIns="90000" tIns="46800" bIns="4680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استخدام النهج القائم على حقوق الإنسان </a:t>
            </a:r>
            <a:br>
              <a:rPr sz="2800"/>
            </a:br>
            <a:r>
              <a:rPr b="1" lang="ar-JO" sz="2800" spc="-1" strike="noStrike">
                <a:solidFill>
                  <a:srgbClr val="000000"/>
                </a:solidFill>
                <a:latin typeface="Arial"/>
                <a:cs typeface="Simplified Arabic"/>
              </a:rPr>
              <a:t>في عملية البرمجة لدى الأمم المتحدة</a:t>
            </a:r>
            <a:endParaRPr b="0" lang="en-US" sz="2800" spc="-1" strike="noStrike">
              <a:solidFill>
                <a:srgbClr val="000000"/>
              </a:solidFill>
              <a:latin typeface="Arial"/>
            </a:endParaRPr>
          </a:p>
        </p:txBody>
      </p:sp>
      <p:sp>
        <p:nvSpPr>
          <p:cNvPr id="343" name=""/>
          <p:cNvSpPr/>
          <p:nvPr/>
        </p:nvSpPr>
        <p:spPr>
          <a:xfrm>
            <a:off x="324000" y="1414440"/>
            <a:ext cx="2090520" cy="1143000"/>
          </a:xfrm>
          <a:custGeom>
            <a:avLst/>
            <a:gdLst>
              <a:gd name="textAreaLeft" fmla="*/ 0 w 2090520"/>
              <a:gd name="textAreaRight" fmla="*/ 2090880 w 2090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تقييم القُطري المشترك</a:t>
            </a:r>
            <a:endParaRPr b="0" lang="en-US" sz="1800" spc="-1" strike="noStrike">
              <a:solidFill>
                <a:srgbClr val="000000"/>
              </a:solidFill>
              <a:latin typeface="Arial"/>
            </a:endParaRPr>
          </a:p>
        </p:txBody>
      </p:sp>
      <p:sp>
        <p:nvSpPr>
          <p:cNvPr id="344" name=""/>
          <p:cNvSpPr/>
          <p:nvPr/>
        </p:nvSpPr>
        <p:spPr>
          <a:xfrm>
            <a:off x="2916360" y="1487520"/>
            <a:ext cx="2070000" cy="1219320"/>
          </a:xfrm>
          <a:custGeom>
            <a:avLst/>
            <a:gdLst>
              <a:gd name="textAreaLeft" fmla="*/ 0 w 2070000"/>
              <a:gd name="textAreaRight" fmla="*/ 2070360 w 2070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إطار الأمم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متحد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للمساعد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660033"/>
                </a:solidFill>
                <a:latin typeface="Tahoma"/>
                <a:cs typeface="Simplified Arabic"/>
              </a:rPr>
              <a:t>الإنمائية</a:t>
            </a:r>
            <a:endParaRPr b="0" lang="en-US" sz="1600" spc="-1" strike="noStrike">
              <a:solidFill>
                <a:srgbClr val="000000"/>
              </a:solidFill>
              <a:latin typeface="Arial"/>
            </a:endParaRPr>
          </a:p>
        </p:txBody>
      </p:sp>
      <p:sp>
        <p:nvSpPr>
          <p:cNvPr id="345" name=""/>
          <p:cNvSpPr/>
          <p:nvPr/>
        </p:nvSpPr>
        <p:spPr>
          <a:xfrm>
            <a:off x="521964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برامج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دولة</a:t>
            </a:r>
            <a:endParaRPr b="0" lang="en-US" sz="1800" spc="-1" strike="noStrike">
              <a:solidFill>
                <a:srgbClr val="000000"/>
              </a:solidFill>
              <a:latin typeface="Arial"/>
            </a:endParaRPr>
          </a:p>
        </p:txBody>
      </p:sp>
      <p:sp>
        <p:nvSpPr>
          <p:cNvPr id="346" name=""/>
          <p:cNvSpPr/>
          <p:nvPr/>
        </p:nvSpPr>
        <p:spPr>
          <a:xfrm>
            <a:off x="5148360" y="3429000"/>
            <a:ext cx="1847880" cy="3124080"/>
          </a:xfrm>
          <a:prstGeom prst="flowChartDocument">
            <a:avLst/>
          </a:prstGeom>
          <a:gradFill rotWithShape="0">
            <a:gsLst>
              <a:gs pos="0">
                <a:srgbClr val="ff33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القدرات المُعزَّزة لأصحاب الحقوق والقائمين بالواجبات</a:t>
            </a:r>
            <a:endParaRPr b="0" lang="en-US" sz="2400" spc="-1" strike="noStrike">
              <a:solidFill>
                <a:srgbClr val="000000"/>
              </a:solidFill>
              <a:latin typeface="Arial"/>
            </a:endParaRPr>
          </a:p>
        </p:txBody>
      </p:sp>
      <p:sp>
        <p:nvSpPr>
          <p:cNvPr id="347" name=""/>
          <p:cNvSpPr/>
          <p:nvPr/>
        </p:nvSpPr>
        <p:spPr>
          <a:xfrm>
            <a:off x="4859280" y="2708280"/>
            <a:ext cx="223200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نتائج برنامج الدولة</a:t>
            </a:r>
            <a:endParaRPr b="0" lang="en-US" sz="1800" spc="-1" strike="noStrike">
              <a:solidFill>
                <a:srgbClr val="000000"/>
              </a:solidFill>
              <a:latin typeface="Arial"/>
            </a:endParaRPr>
          </a:p>
        </p:txBody>
      </p:sp>
      <p:sp>
        <p:nvSpPr>
          <p:cNvPr id="348" name=""/>
          <p:cNvSpPr/>
          <p:nvPr/>
        </p:nvSpPr>
        <p:spPr>
          <a:xfrm>
            <a:off x="0" y="3500280"/>
            <a:ext cx="2698920" cy="3357720"/>
          </a:xfrm>
          <a:prstGeom prst="flowChartDocument">
            <a:avLst/>
          </a:prstGeom>
          <a:solidFill>
            <a:srgbClr val="33cc33"/>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إنشاء روابط سَبَبيَّة للحقوق</a:t>
            </a:r>
            <a:endParaRPr b="0" lang="en-US" sz="1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نماذج التمييز وعدم المساواة والإقصاء </a:t>
            </a:r>
            <a:endParaRPr b="0" lang="en-US" sz="19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ahoma"/>
                <a:cs typeface="Simplified Arabic"/>
              </a:rPr>
              <a:t>تشخيص الفجوات في قدرات أصحاب الحقوق والقائمين بالواجبات</a:t>
            </a:r>
            <a:endParaRPr b="0" lang="en-US" sz="1900" spc="-1" strike="noStrike">
              <a:solidFill>
                <a:srgbClr val="000000"/>
              </a:solidFill>
              <a:latin typeface="Arial"/>
            </a:endParaRPr>
          </a:p>
        </p:txBody>
      </p:sp>
      <p:sp>
        <p:nvSpPr>
          <p:cNvPr id="349" name=""/>
          <p:cNvSpPr/>
          <p:nvPr/>
        </p:nvSpPr>
        <p:spPr>
          <a:xfrm>
            <a:off x="0" y="2565360"/>
            <a:ext cx="2484360" cy="98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حليل تحديات التنمية</a:t>
            </a:r>
            <a:endParaRPr b="0" lang="en-US" sz="1800" spc="-1" strike="noStrike">
              <a:solidFill>
                <a:srgbClr val="000000"/>
              </a:solidFill>
              <a:latin typeface="Arial"/>
            </a:endParaRPr>
          </a:p>
        </p:txBody>
      </p:sp>
      <p:sp>
        <p:nvSpPr>
          <p:cNvPr id="350" name=""/>
          <p:cNvSpPr/>
          <p:nvPr/>
        </p:nvSpPr>
        <p:spPr>
          <a:xfrm>
            <a:off x="2771640" y="3429000"/>
            <a:ext cx="2232000" cy="3124080"/>
          </a:xfrm>
          <a:prstGeom prst="flowChartDocument">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يُسهم أصحابُ الحقوق الذين تم تمكينهم، والقائمون بالواجبات الخاضعون للمساءَلة في إحقاق حقوق الإنسان</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1" name=""/>
          <p:cNvSpPr/>
          <p:nvPr/>
        </p:nvSpPr>
        <p:spPr>
          <a:xfrm>
            <a:off x="2700360" y="2708280"/>
            <a:ext cx="223344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نتائج إطار عمل الأمم المتحد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للمساعدات الإنمائية</a:t>
            </a:r>
            <a:endParaRPr b="0" lang="en-US" sz="1600" spc="-1" strike="noStrike">
              <a:solidFill>
                <a:srgbClr val="000000"/>
              </a:solidFill>
              <a:latin typeface="Arial"/>
            </a:endParaRPr>
          </a:p>
        </p:txBody>
      </p:sp>
      <p:sp>
        <p:nvSpPr>
          <p:cNvPr id="352" name=""/>
          <p:cNvSpPr/>
          <p:nvPr/>
        </p:nvSpPr>
        <p:spPr>
          <a:xfrm>
            <a:off x="7236000" y="1487520"/>
            <a:ext cx="1728720" cy="1219320"/>
          </a:xfrm>
          <a:custGeom>
            <a:avLst/>
            <a:gdLst>
              <a:gd name="textAreaLeft" fmla="*/ 0 w 1728720"/>
              <a:gd name="textAreaRight" fmla="*/ 1729080 w 17287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776">
                  <a:alpha val="80392"/>
                </a:srgbClr>
              </a:gs>
              <a:gs pos="100000">
                <a:srgbClr val="cc99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المتابعة </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ahoma"/>
                <a:cs typeface="Simplified Arabic"/>
              </a:rPr>
              <a:t>والتقييم</a:t>
            </a:r>
            <a:endParaRPr b="0" lang="en-US" sz="1600" spc="-1" strike="noStrike">
              <a:solidFill>
                <a:srgbClr val="000000"/>
              </a:solidFill>
              <a:latin typeface="Arial"/>
            </a:endParaRPr>
          </a:p>
        </p:txBody>
      </p:sp>
      <p:sp>
        <p:nvSpPr>
          <p:cNvPr id="353" name=""/>
          <p:cNvSpPr/>
          <p:nvPr/>
        </p:nvSpPr>
        <p:spPr>
          <a:xfrm>
            <a:off x="7164360" y="2708280"/>
            <a:ext cx="1800360" cy="770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cs typeface="Arial"/>
              </a:rPr>
              <a:t>أنظمة المتابعة والتقييم</a:t>
            </a:r>
            <a:endParaRPr b="0" lang="en-US" sz="1600" spc="-1" strike="noStrike">
              <a:solidFill>
                <a:srgbClr val="000000"/>
              </a:solidFill>
              <a:latin typeface="Arial"/>
            </a:endParaRPr>
          </a:p>
        </p:txBody>
      </p:sp>
      <p:sp>
        <p:nvSpPr>
          <p:cNvPr id="354" name=""/>
          <p:cNvSpPr/>
          <p:nvPr/>
        </p:nvSpPr>
        <p:spPr>
          <a:xfrm>
            <a:off x="7093080" y="3429000"/>
            <a:ext cx="2050920" cy="3095640"/>
          </a:xfrm>
          <a:prstGeom prst="flowChartDocument">
            <a:avLst/>
          </a:prstGeom>
          <a:solidFill>
            <a:srgbClr val="660033">
              <a:alpha val="40000"/>
            </a:srgbClr>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000000"/>
                </a:solidFill>
                <a:latin typeface="Tahoma"/>
                <a:cs typeface="Simplified Arabic"/>
              </a:rPr>
              <a:t>إنشاء آليات عمل لإشراك أصحاب الحقوق والقائمين بالواجبات في متابعة البرنامج</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55" name=""/>
          <p:cNvSpPr/>
          <p:nvPr/>
        </p:nvSpPr>
        <p:spPr>
          <a:xfrm rot="10800000">
            <a:off x="1763280" y="2060280"/>
            <a:ext cx="5450040" cy="424800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rot="10800000">
            <a:off x="2411280" y="3141360"/>
            <a:ext cx="4105440" cy="31208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rot="10800000">
            <a:off x="3132000" y="4220640"/>
            <a:ext cx="2735280" cy="2087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411280" y="2092320"/>
            <a:ext cx="4032360" cy="10072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Simplified Arabic"/>
              </a:rPr>
              <a:t>جمع المعلومات</a:t>
            </a:r>
            <a:r>
              <a:rPr b="0" lang="ar-JO" sz="2000" spc="-1" strike="noStrike">
                <a:solidFill>
                  <a:srgbClr val="000000"/>
                </a:solidFill>
                <a:latin typeface="Arial"/>
                <a:ea typeface="Simplified Arabic"/>
              </a:rPr>
              <a:t> </a:t>
            </a:r>
            <a:br>
              <a:rPr sz="2000"/>
            </a:br>
            <a:r>
              <a:rPr b="0" lang="ar-JO" sz="1600" spc="-1" strike="noStrike">
                <a:solidFill>
                  <a:srgbClr val="000000"/>
                </a:solidFill>
                <a:latin typeface="Arial"/>
                <a:cs typeface="Simplified Arabic"/>
              </a:rPr>
              <a:t>حول المؤشرات، والسياسات والخطط الناتجة عن المسوح، ووثائق الأبحاث والتقارير</a:t>
            </a:r>
            <a:endParaRPr b="0" lang="en-US" sz="1600" spc="-1" strike="noStrike">
              <a:solidFill>
                <a:srgbClr val="000000"/>
              </a:solidFill>
              <a:latin typeface="Arial"/>
            </a:endParaRPr>
          </a:p>
        </p:txBody>
      </p:sp>
      <p:sp>
        <p:nvSpPr>
          <p:cNvPr id="359" name=""/>
          <p:cNvSpPr/>
          <p:nvPr/>
        </p:nvSpPr>
        <p:spPr>
          <a:xfrm>
            <a:off x="3419640" y="3141720"/>
            <a:ext cx="2234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تقييم والتحليل </a:t>
            </a:r>
            <a:endParaRPr b="0" lang="en-US" sz="2400" spc="-1" strike="noStrike">
              <a:solidFill>
                <a:srgbClr val="000000"/>
              </a:solidFill>
              <a:latin typeface="Arial"/>
            </a:endParaRPr>
          </a:p>
        </p:txBody>
      </p:sp>
      <p:sp>
        <p:nvSpPr>
          <p:cNvPr id="360" name=""/>
          <p:cNvSpPr/>
          <p:nvPr/>
        </p:nvSpPr>
        <p:spPr>
          <a:xfrm>
            <a:off x="3492360" y="4437000"/>
            <a:ext cx="1930680" cy="764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ختيار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6600ff"/>
                </a:solidFill>
                <a:latin typeface="Arial"/>
                <a:cs typeface="Arial"/>
              </a:rPr>
              <a:t>مجالات التعاون</a:t>
            </a:r>
            <a:r>
              <a:rPr b="0" lang="en-US" sz="2000" spc="-1" strike="noStrike">
                <a:solidFill>
                  <a:srgbClr val="6600ff"/>
                </a:solidFill>
                <a:latin typeface="Arial"/>
                <a:ea typeface="Arial"/>
              </a:rPr>
              <a:t> </a:t>
            </a:r>
            <a:endParaRPr b="0" lang="en-US" sz="2000" spc="-1" strike="noStrike">
              <a:solidFill>
                <a:srgbClr val="000000"/>
              </a:solidFill>
              <a:latin typeface="Arial"/>
            </a:endParaRPr>
          </a:p>
        </p:txBody>
      </p:sp>
      <p:sp>
        <p:nvSpPr>
          <p:cNvPr id="361" name=""/>
          <p:cNvSpPr/>
          <p:nvPr/>
        </p:nvSpPr>
        <p:spPr>
          <a:xfrm>
            <a:off x="4284720" y="3052800"/>
            <a:ext cx="431640" cy="36036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356000" y="4149720"/>
            <a:ext cx="381240" cy="32688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619280" y="620640"/>
            <a:ext cx="7345440" cy="720720"/>
          </a:xfrm>
          <a:prstGeom prst="rect">
            <a:avLst/>
          </a:prstGeom>
          <a:solidFill>
            <a:srgbClr val="ffffff"/>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rial"/>
              </a:rPr>
              <a:t>متى ينبغي البدء في تطبيق النهج القائم على  حقوق الإنس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727280" y="333360"/>
            <a:ext cx="7237440" cy="936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جمع المعلومات</a:t>
            </a:r>
            <a:endParaRPr b="0" lang="en-US" sz="3200" spc="-1" strike="noStrike">
              <a:solidFill>
                <a:srgbClr val="000000"/>
              </a:solidFill>
              <a:latin typeface="Arial"/>
            </a:endParaRPr>
          </a:p>
        </p:txBody>
      </p:sp>
      <p:sp>
        <p:nvSpPr>
          <p:cNvPr id="365" name="PlaceHolder 2"/>
          <p:cNvSpPr>
            <a:spLocks noGrp="1"/>
          </p:cNvSpPr>
          <p:nvPr>
            <p:ph/>
          </p:nvPr>
        </p:nvSpPr>
        <p:spPr>
          <a:xfrm>
            <a:off x="684000" y="1557000"/>
            <a:ext cx="7993080" cy="4869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ما هي المعلومات المطلوبة: </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في السياقات المدنية والثقافية والاقتصادية والسياسية والاجتماعية. </a:t>
            </a:r>
            <a:endParaRPr b="0" lang="en-US" sz="2400" spc="-1" strike="noStrike">
              <a:solidFill>
                <a:srgbClr val="000000"/>
              </a:solidFill>
              <a:latin typeface="Times New Roman"/>
            </a:endParaRPr>
          </a:p>
          <a:p>
            <a:pPr marL="312120" indent="-312120" algn="r" rtl="1">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علومات </a:t>
            </a:r>
            <a:r>
              <a:rPr b="1" lang="ar-JO" sz="2400" spc="-1" strike="noStrike">
                <a:solidFill>
                  <a:srgbClr val="000000"/>
                </a:solidFill>
                <a:latin typeface="Times New Roman"/>
                <a:cs typeface="Simplified Arabic"/>
              </a:rPr>
              <a:t>المصنَّفة</a:t>
            </a:r>
            <a:r>
              <a:rPr b="0" lang="ar-JO" sz="2400" spc="-1" strike="noStrike">
                <a:solidFill>
                  <a:srgbClr val="000000"/>
                </a:solidFill>
                <a:latin typeface="Times New Roman"/>
                <a:ea typeface="Simplified Arabic"/>
              </a:rPr>
              <a:t> وفقاً للأُسس المعيارية لعدم التمييز. </a:t>
            </a:r>
            <a:endParaRPr b="0" lang="en-US" sz="2400" spc="-1" strike="noStrike">
              <a:solidFill>
                <a:srgbClr val="000000"/>
              </a:solidFill>
              <a:latin typeface="Times New Roman"/>
            </a:endParaRPr>
          </a:p>
          <a:p>
            <a:pPr marL="3121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cs typeface="Simplified Arabic"/>
              </a:rPr>
              <a:t>مثال: معلومات عن الجنس، والعمر، ومعلومات عن المناطق الإثنية، والريفية والحضرية.</a:t>
            </a:r>
            <a:endParaRPr b="0" lang="en-US" sz="2400" spc="-1" strike="noStrike">
              <a:solidFill>
                <a:srgbClr val="000000"/>
              </a:solidFill>
              <a:latin typeface="Times New Roman"/>
            </a:endParaRPr>
          </a:p>
          <a:p>
            <a:pPr marL="31212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مصادر المعلومات: </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اعتماد على المعلومات والتقييمات والتحاليل </a:t>
            </a:r>
            <a:r>
              <a:rPr b="1" lang="ar-JO" sz="2400" spc="-1" strike="noStrike">
                <a:solidFill>
                  <a:srgbClr val="000000"/>
                </a:solidFill>
                <a:latin typeface="Times New Roman"/>
                <a:cs typeface="Simplified Arabic"/>
              </a:rPr>
              <a:t>الوطنية. </a:t>
            </a:r>
            <a:endParaRPr b="0" lang="en-US" sz="2400" spc="-1" strike="noStrike">
              <a:solidFill>
                <a:srgbClr val="000000"/>
              </a:solidFill>
              <a:latin typeface="Times New Roman"/>
            </a:endParaRPr>
          </a:p>
          <a:p>
            <a:pPr marL="312120" indent="-312120" algn="r"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نوّع المصادر بما في ذلك المعلومات المستقاة من الآليات الدولية، والإقليمية والوطنية لحقوق الإنسان.</a:t>
            </a:r>
            <a:endParaRPr b="0" lang="en-US" sz="2400" spc="-1" strike="noStrike">
              <a:solidFill>
                <a:srgbClr val="000000"/>
              </a:solidFill>
              <a:latin typeface="Times New Roman"/>
            </a:endParaRPr>
          </a:p>
          <a:p>
            <a:pPr marL="31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000000"/>
                </a:solidFill>
                <a:uFillTx/>
                <a:latin typeface="Times New Roman"/>
                <a:cs typeface="Simplified Arabic"/>
              </a:rPr>
              <a:t>المعلومات وعملية تحليلها:</a:t>
            </a:r>
            <a:endParaRPr b="0" lang="en-US" sz="2400" spc="-1" strike="noStrike">
              <a:solidFill>
                <a:srgbClr val="000000"/>
              </a:solidFill>
              <a:latin typeface="Times New Roman"/>
            </a:endParaRPr>
          </a:p>
          <a:p>
            <a:pPr marL="312120" indent="-31212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عملية تشاركية وشمولية وتتَّصف بالمساءَلة ومراعاتها للحساسيَّات الثقافي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47280" y="260280"/>
            <a:ext cx="7272360" cy="1008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التقييم</a:t>
            </a:r>
            <a:endParaRPr b="0" lang="en-US" sz="3200" spc="-1" strike="noStrike">
              <a:solidFill>
                <a:srgbClr val="000000"/>
              </a:solidFill>
              <a:latin typeface="Arial"/>
            </a:endParaRPr>
          </a:p>
        </p:txBody>
      </p:sp>
      <p:sp>
        <p:nvSpPr>
          <p:cNvPr id="367" name="PlaceHolder 2"/>
          <p:cNvSpPr>
            <a:spLocks noGrp="1"/>
          </p:cNvSpPr>
          <p:nvPr>
            <p:ph/>
          </p:nvPr>
        </p:nvSpPr>
        <p:spPr>
          <a:xfrm>
            <a:off x="755640" y="1700280"/>
            <a:ext cx="5472000" cy="439272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fontScale="83000"/>
          </a:bodyPr>
          <a:p>
            <a:pPr marL="284400" indent="0" algn="r" rtl="1">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الغاية من التقييم:</a:t>
            </a:r>
            <a:endParaRPr b="0" lang="en-US" sz="1800" spc="-1" strike="noStrike">
              <a:solidFill>
                <a:srgbClr val="000000"/>
              </a:solidFill>
              <a:latin typeface="Times New Roman"/>
            </a:endParaRPr>
          </a:p>
          <a:p>
            <a:pPr marL="284400" indent="-284400" algn="r" rtl="1">
              <a:lnSpc>
                <a:spcPct val="18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تشخيص التحدِّيات الأساسية التي تواجه حقوق الإنسان والتنمية </a:t>
            </a:r>
            <a:r>
              <a:rPr b="1" i="1" lang="ar-JO" sz="1800" spc="-1" strike="noStrike">
                <a:solidFill>
                  <a:srgbClr val="000000"/>
                </a:solidFill>
                <a:latin typeface="Times New Roman"/>
                <a:cs typeface="Simplified Arabic"/>
              </a:rPr>
              <a:t>ماذا يحدث؟ مع من يحدث؟ وأين يحدث؟ </a:t>
            </a:r>
            <a:br>
              <a:rPr sz="1800"/>
            </a:br>
            <a:r>
              <a:rPr b="0" lang="en-GB" sz="1800" spc="-1" strike="noStrike">
                <a:solidFill>
                  <a:srgbClr val="000000"/>
                </a:solidFill>
                <a:latin typeface="Arial"/>
                <a:ea typeface="Simplified Arabic"/>
              </a:rPr>
              <a:t> </a:t>
            </a:r>
            <a:r>
              <a:rPr b="0" lang="ar-JO" sz="1800" spc="-1" strike="noStrike">
                <a:solidFill>
                  <a:srgbClr val="000000"/>
                </a:solidFill>
                <a:latin typeface="Times New Roman"/>
                <a:cs typeface="Simplified Arabic"/>
              </a:rPr>
              <a:t>مثال: تتسرَّبُ فتاتان من كل ثلاث فتيات من السكان الريفيين الأصليين، من المدارس الابتدائية بعد السنة الثانية من التحاقهنّ بها.</a:t>
            </a:r>
            <a:endParaRPr b="0" lang="en-US" sz="1800" spc="-1" strike="noStrike">
              <a:solidFill>
                <a:srgbClr val="000000"/>
              </a:solidFill>
              <a:latin typeface="Times New Roman"/>
            </a:endParaRPr>
          </a:p>
          <a:p>
            <a:pPr marL="284400" indent="0" algn="r" rtl="1">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u="sng">
                <a:solidFill>
                  <a:srgbClr val="000000"/>
                </a:solidFill>
                <a:uFillTx/>
                <a:latin typeface="Times New Roman"/>
                <a:cs typeface="Simplified Arabic"/>
              </a:rPr>
              <a:t>الخصائص المميِّزة لأي تحدٍّ من تحديات التنمية: </a:t>
            </a:r>
            <a:endParaRPr b="0" lang="en-US" sz="1800" spc="-1" strike="noStrike">
              <a:solidFill>
                <a:srgbClr val="000000"/>
              </a:solidFill>
              <a:latin typeface="Times New Roman"/>
            </a:endParaRPr>
          </a:p>
          <a:p>
            <a:pPr marL="284400" indent="-284400" algn="r" rtl="1">
              <a:lnSpc>
                <a:spcPct val="1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التعبير عن التَّحدي كأحد قضايا حقوق الإنسان.</a:t>
            </a:r>
            <a:endParaRPr b="0" lang="en-US" sz="1800" spc="-1" strike="noStrike">
              <a:solidFill>
                <a:srgbClr val="000000"/>
              </a:solidFill>
              <a:latin typeface="Times New Roman"/>
            </a:endParaRPr>
          </a:p>
          <a:p>
            <a:pPr marL="284400" indent="-284400" algn="r" rtl="1">
              <a:lnSpc>
                <a:spcPct val="1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Simplified Arabic"/>
              </a:rPr>
              <a:t>يجب أن يُصاغ التحدِّي بأسلوب مُركَّز على الناس.</a:t>
            </a:r>
            <a:r>
              <a:rPr b="0" lang="ar-JO" sz="1800" spc="-1" strike="noStrike">
                <a:solidFill>
                  <a:srgbClr val="000000"/>
                </a:solidFill>
                <a:latin typeface="Times New Roman"/>
                <a:ea typeface="Simplified Arabic"/>
              </a:rPr>
              <a:t> </a:t>
            </a:r>
            <a:endParaRPr b="0" lang="en-US" sz="1800" spc="-1" strike="noStrike">
              <a:solidFill>
                <a:srgbClr val="000000"/>
              </a:solidFill>
              <a:latin typeface="Times New Roman"/>
            </a:endParaRPr>
          </a:p>
        </p:txBody>
      </p:sp>
      <p:sp>
        <p:nvSpPr>
          <p:cNvPr id="368" name=""/>
          <p:cNvSpPr/>
          <p:nvPr/>
        </p:nvSpPr>
        <p:spPr>
          <a:xfrm>
            <a:off x="6732720" y="4797360"/>
            <a:ext cx="2087280" cy="1511280"/>
          </a:xfrm>
          <a:prstGeom prst="wedgeRectCallout">
            <a:avLst>
              <a:gd name="adj1" fmla="val -64828"/>
              <a:gd name="adj2" fmla="val -1659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حدِّد معايير حقوق الإنسان الواجبة التطبيق (المطالبات والواجبات)</a:t>
            </a:r>
            <a:endParaRPr b="0" lang="en-US" sz="2000" spc="-1" strike="noStrike">
              <a:solidFill>
                <a:srgbClr val="000000"/>
              </a:solidFill>
              <a:latin typeface="Arial"/>
            </a:endParaRPr>
          </a:p>
        </p:txBody>
      </p:sp>
      <p:sp>
        <p:nvSpPr>
          <p:cNvPr id="369" name=""/>
          <p:cNvSpPr/>
          <p:nvPr/>
        </p:nvSpPr>
        <p:spPr>
          <a:xfrm>
            <a:off x="6443640" y="1916280"/>
            <a:ext cx="2449440" cy="1657080"/>
          </a:xfrm>
          <a:prstGeom prst="wedgeRectCallout">
            <a:avLst>
              <a:gd name="adj1" fmla="val -50324"/>
              <a:gd name="adj2" fmla="val 93675"/>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قدِّم الآليات الدولية لحقوق الإنسان قراءةً لتحديات التنمية من منظور حقوق الإنسان.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369"/>
                                        </p:tgtEl>
                                        <p:attrNameLst>
                                          <p:attrName>style.visibility</p:attrName>
                                        </p:attrNameLst>
                                      </p:cBhvr>
                                      <p:to>
                                        <p:strVal val="visible"/>
                                      </p:to>
                                    </p:set>
                                    <p:animEffect filter="box(in)" transition="in">
                                      <p:cBhvr additive="repl">
                                        <p:cTn id="158" dur="500"/>
                                        <p:tgtEl>
                                          <p:spTgt spid="3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368"/>
                                        </p:tgtEl>
                                        <p:attrNameLst>
                                          <p:attrName>style.visibility</p:attrName>
                                        </p:attrNameLst>
                                      </p:cBhvr>
                                      <p:to>
                                        <p:strVal val="visible"/>
                                      </p:to>
                                    </p:set>
                                    <p:animEffect filter="box(in)" transition="in">
                                      <p:cBhvr additive="repl">
                                        <p:cTn id="163"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050560" y="274320"/>
            <a:ext cx="6635880" cy="114300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الروابط الجوهرية/الموضوعية</a:t>
            </a:r>
            <a:endParaRPr b="0" lang="en-US" sz="3600" spc="-1" strike="noStrike">
              <a:solidFill>
                <a:srgbClr val="000000"/>
              </a:solidFill>
              <a:latin typeface="Arial"/>
            </a:endParaRPr>
          </a:p>
        </p:txBody>
      </p:sp>
      <p:sp>
        <p:nvSpPr>
          <p:cNvPr id="81" name="PlaceHolder 2"/>
          <p:cNvSpPr>
            <a:spLocks noGrp="1"/>
          </p:cNvSpPr>
          <p:nvPr>
            <p:ph/>
          </p:nvPr>
        </p:nvSpPr>
        <p:spPr>
          <a:xfrm>
            <a:off x="468360" y="1773000"/>
            <a:ext cx="8229600" cy="4824360"/>
          </a:xfrm>
          <a:prstGeom prst="rect">
            <a:avLst/>
          </a:prstGeom>
          <a:solidFill>
            <a:srgbClr val="ffffff"/>
          </a:solidFill>
          <a:ln w="0">
            <a:noFill/>
          </a:ln>
        </p:spPr>
        <p:txBody>
          <a:bodyPr lIns="90000" rIns="90000" tIns="46800" bIns="46800" anchor="t">
            <a:normAutofit fontScale="94000"/>
          </a:bodyPr>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ea typeface="Simplified Arabic"/>
              </a:rPr>
              <a:t>”حتى إن تمتّع اليافع أو الشابُّ المصاب بمتلازمة نقص المناعة المكتسبة (الإيدز) – الذي لا يستطيع القراءة أو الكتابة، والذي يعيش على شفير الموت جوعاً - بالحق في التصويت لاختيار حكّامه، فهو ليس حُراً بالفعل. وعلى قدم المساواة مع ذلك، فإنه حتى وإن كانت المرأة التي تعيش تحت ظل العنف اليومي – والتي لا تتمتع بحق التعبير عن رأيها في كيفية إدارة دولتها – تكسب من الرزق ما يكفي لإعالتها، فهي ليست حرة بالفعل. </a:t>
            </a:r>
            <a:endParaRPr b="0" lang="en-US" sz="1900" spc="-1" strike="noStrike">
              <a:solidFill>
                <a:srgbClr val="000000"/>
              </a:solidFill>
              <a:latin typeface="Times New Roman"/>
            </a:endParaRPr>
          </a:p>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Times New Roman"/>
                <a:cs typeface="Simplified Arabic"/>
              </a:rPr>
              <a:t>تقرير ”في جوّ من الحرية أفسح“</a:t>
            </a:r>
            <a:r>
              <a:rPr b="0" lang="ar-JO" sz="1900" spc="-1" strike="noStrike">
                <a:solidFill>
                  <a:srgbClr val="000000"/>
                </a:solidFill>
                <a:latin typeface="Times New Roman"/>
                <a:ea typeface="Simplified Arabic"/>
              </a:rPr>
              <a:t> يعني ضمناً أن يتمتع الرجال والنساء في كل مكان بالحق في الخضوع تحت السيطرة بموافقتهم الشخصية، وبمقتضى القانون، في مجتمع يستطيع فيه جميع الأفراد، بحُرِّيَّة ومن دون تمييز أو عقوبة، التعبير عن أنفسهم، وممارسة طقوس العبادة، والانتماء إلى الجمعيات والمنظمات. </a:t>
            </a:r>
            <a:endParaRPr b="0" lang="en-US" sz="1900" spc="-1" strike="noStrike">
              <a:solidFill>
                <a:srgbClr val="000000"/>
              </a:solidFill>
              <a:latin typeface="Times New Roman"/>
            </a:endParaRPr>
          </a:p>
          <a:p>
            <a:pPr indent="0" algn="just"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cs typeface="Simplified Arabic"/>
              </a:rPr>
              <a:t>ويجب كذلك أن يتمتعوا </a:t>
            </a:r>
            <a:r>
              <a:rPr b="1" lang="ar-JO" sz="1900" spc="-1" strike="noStrike">
                <a:solidFill>
                  <a:srgbClr val="000000"/>
                </a:solidFill>
                <a:latin typeface="Times New Roman"/>
                <a:cs typeface="Simplified Arabic"/>
              </a:rPr>
              <a:t>بالحرية من العَوَز والحاجة</a:t>
            </a:r>
            <a:r>
              <a:rPr b="0" lang="ar-JO" sz="1900" spc="-1" strike="noStrike">
                <a:solidFill>
                  <a:srgbClr val="000000"/>
                </a:solidFill>
                <a:latin typeface="Times New Roman"/>
                <a:cs typeface="Simplified Arabic"/>
              </a:rPr>
              <a:t>، لكي تُرْفَع الأحكام بالإعدام بسبب الفقر المُدقع والأمراض المعدية من حياتهم، وأن يتمتعوا </a:t>
            </a:r>
            <a:r>
              <a:rPr b="1" lang="ar-JO" sz="1900" spc="-1" strike="noStrike">
                <a:solidFill>
                  <a:srgbClr val="000000"/>
                </a:solidFill>
                <a:latin typeface="Times New Roman"/>
                <a:cs typeface="Simplified Arabic"/>
              </a:rPr>
              <a:t>بالتحرّر من الخوف</a:t>
            </a:r>
            <a:r>
              <a:rPr b="0" lang="ar-JO" sz="1900" spc="-1" strike="noStrike">
                <a:solidFill>
                  <a:srgbClr val="000000"/>
                </a:solidFill>
                <a:latin typeface="Times New Roman"/>
                <a:cs typeface="Simplified Arabic"/>
              </a:rPr>
              <a:t>، لكي لا يُمزِّق العنف والحرب حياتهم وأسباب عيشهم.“</a:t>
            </a:r>
            <a:endParaRPr b="0" lang="en-US" sz="1900" spc="-1" strike="noStrike">
              <a:solidFill>
                <a:srgbClr val="000000"/>
              </a:solidFill>
              <a:latin typeface="Times New Roman"/>
            </a:endParaRPr>
          </a:p>
          <a:p>
            <a:pPr indent="0" algn="ctr" rtl="1">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Times New Roman"/>
                <a:cs typeface="Simplified Arabic"/>
              </a:rPr>
              <a:t>تقرير الإصلاح ”في جوٍّ من الحرية أفسح“، </a:t>
            </a:r>
            <a:r>
              <a:rPr b="1" lang="ar-JO" sz="1900" spc="-1" strike="noStrike">
                <a:solidFill>
                  <a:srgbClr val="000000"/>
                </a:solidFill>
                <a:latin typeface="Times New Roman"/>
                <a:ea typeface="Simplified Arabic"/>
              </a:rPr>
              <a:t>2005</a:t>
            </a:r>
            <a:endParaRPr b="0" lang="en-US" sz="19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618920" y="549360"/>
            <a:ext cx="7273800" cy="90792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تحليل: </a:t>
            </a:r>
            <a:br>
              <a:rPr sz="2400"/>
            </a:br>
            <a:r>
              <a:rPr b="1" lang="ar-JO" sz="2400" spc="-1" strike="noStrike">
                <a:solidFill>
                  <a:srgbClr val="000000"/>
                </a:solidFill>
                <a:latin typeface="Arial"/>
                <a:cs typeface="Simplified Arabic"/>
              </a:rPr>
              <a:t>التحليل السَّببي (</a:t>
            </a:r>
            <a:r>
              <a:rPr b="1" lang="ar-JO" sz="2400" spc="-1" strike="noStrike">
                <a:solidFill>
                  <a:srgbClr val="000000"/>
                </a:solidFill>
                <a:latin typeface="Arial"/>
                <a:ea typeface="Simplified Arabic"/>
              </a:rPr>
              <a:t>1</a:t>
            </a:r>
            <a:r>
              <a:rPr b="1" lang="ar-JO"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371" name=""/>
          <p:cNvSpPr/>
          <p:nvPr/>
        </p:nvSpPr>
        <p:spPr>
          <a:xfrm>
            <a:off x="755640" y="1916280"/>
            <a:ext cx="7991640" cy="4176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7240" indent="5868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6600ff"/>
                </a:solidFill>
                <a:latin typeface="Arial"/>
                <a:cs typeface="Arial"/>
              </a:rPr>
              <a:t>تشخيص عملية تحليل القضايا الآنية والتحتية والهيكلية لتحديات التنمية</a:t>
            </a:r>
            <a:endParaRPr b="0" lang="en-US" sz="2400" spc="-1" strike="noStrike">
              <a:solidFill>
                <a:srgbClr val="000000"/>
              </a:solidFill>
              <a:latin typeface="Arial"/>
            </a:endParaRPr>
          </a:p>
          <a:p>
            <a:pPr marL="57240" indent="58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	</a:t>
            </a:r>
            <a:endParaRPr b="0" lang="en-US" sz="2000" spc="-1" strike="noStrike">
              <a:solidFill>
                <a:srgbClr val="000000"/>
              </a:solidFill>
              <a:latin typeface="Arial"/>
            </a:endParaRPr>
          </a:p>
          <a:p>
            <a:pPr marL="57240" indent="58680" algn="r" rtl="1">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000000"/>
                </a:solidFill>
                <a:latin typeface="Arial"/>
                <a:cs typeface="Arial"/>
              </a:rPr>
              <a:t>الأدوات</a:t>
            </a:r>
            <a:r>
              <a:rPr b="1" i="1" lang="en-GB" sz="2000" spc="-1" strike="noStrike">
                <a:solidFill>
                  <a:srgbClr val="000000"/>
                </a:solidFill>
                <a:latin typeface="Arial"/>
              </a:rPr>
              <a:t>:</a:t>
            </a:r>
            <a:endParaRPr b="0" lang="en-US" sz="2000" spc="-1" strike="noStrike">
              <a:solidFill>
                <a:srgbClr val="000000"/>
              </a:solidFill>
              <a:latin typeface="Arial"/>
            </a:endParaRPr>
          </a:p>
          <a:p>
            <a:pPr lvl="1" marL="682560" indent="-39204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6600ff"/>
                </a:solidFill>
                <a:latin typeface="Arial"/>
                <a:cs typeface="Arial"/>
              </a:rPr>
              <a:t>تحليلُ شجرة المشكلات</a:t>
            </a:r>
            <a:r>
              <a:rPr b="0" i="1" lang="ar-JO" sz="2400" spc="-1" strike="noStrike">
                <a:solidFill>
                  <a:srgbClr val="6600ff"/>
                </a:solidFill>
                <a:latin typeface="Arial"/>
                <a:ea typeface="Arial"/>
              </a:rPr>
              <a:t> يكشف الأسباب الجذرية لمشكلات حقوق الإنسان (رأسياً)،</a:t>
            </a:r>
            <a:r>
              <a:rPr b="0" lang="ar-JO" sz="2400" spc="-1" strike="noStrike">
                <a:solidFill>
                  <a:srgbClr val="6600ff"/>
                </a:solidFill>
                <a:latin typeface="Arial"/>
                <a:ea typeface="Arial"/>
              </a:rPr>
              <a:t> ويكشف تشابكية الحقوق </a:t>
            </a:r>
            <a:r>
              <a:rPr b="0" i="1" lang="ar-JO" sz="2400" spc="-1" strike="noStrike">
                <a:solidFill>
                  <a:srgbClr val="6600ff"/>
                </a:solidFill>
                <a:latin typeface="Arial"/>
                <a:ea typeface="Arial"/>
              </a:rPr>
              <a:t>(أفقياً ورأسياً)</a:t>
            </a:r>
            <a:r>
              <a:rPr b="0" lang="ar-JO" sz="2400" spc="-1" strike="noStrike">
                <a:solidFill>
                  <a:srgbClr val="6600ff"/>
                </a:solidFill>
                <a:latin typeface="Arial"/>
                <a:ea typeface="Arial"/>
              </a:rPr>
              <a:t>. </a:t>
            </a:r>
            <a:endParaRPr b="0" lang="en-US" sz="2400" spc="-1" strike="noStrike">
              <a:solidFill>
                <a:srgbClr val="000000"/>
              </a:solidFill>
              <a:latin typeface="Arial"/>
            </a:endParaRPr>
          </a:p>
          <a:p>
            <a:pPr lvl="1" marL="682560" indent="-39204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400" spc="-1" strike="noStrike">
                <a:solidFill>
                  <a:srgbClr val="6600ff"/>
                </a:solidFill>
                <a:latin typeface="Arial"/>
                <a:cs typeface="Arial"/>
              </a:rPr>
              <a:t>الأدوات الاختيارية الإضافية </a:t>
            </a:r>
            <a:r>
              <a:rPr b="0" lang="ar-JO" sz="2400" spc="-1" strike="noStrike">
                <a:solidFill>
                  <a:srgbClr val="6600ff"/>
                </a:solidFill>
                <a:latin typeface="Arial"/>
                <a:cs typeface="Arial"/>
              </a:rPr>
              <a:t>لإجراء تحليل</a:t>
            </a:r>
            <a:r>
              <a:rPr b="1" lang="ar-JO" sz="2400" spc="-1" strike="noStrike">
                <a:solidFill>
                  <a:srgbClr val="6600ff"/>
                </a:solidFill>
                <a:latin typeface="Arial"/>
                <a:ea typeface="Arial"/>
              </a:rPr>
              <a:t> </a:t>
            </a:r>
            <a:r>
              <a:rPr b="0" lang="ar-JO" sz="2400" spc="-1" strike="noStrike">
                <a:solidFill>
                  <a:srgbClr val="6600ff"/>
                </a:solidFill>
                <a:latin typeface="Arial"/>
                <a:cs typeface="Arial"/>
              </a:rPr>
              <a:t>عميق في المجالات القانونية والمؤسسية وفي مجالات السياسات والموازنة. </a:t>
            </a:r>
            <a:endParaRPr b="0" lang="en-US" sz="2400" spc="-1" strike="noStrike">
              <a:solidFill>
                <a:srgbClr val="000000"/>
              </a:solidFill>
              <a:latin typeface="Arial"/>
            </a:endParaRPr>
          </a:p>
        </p:txBody>
      </p:sp>
      <p:sp>
        <p:nvSpPr>
          <p:cNvPr id="372" name=""/>
          <p:cNvSpPr/>
          <p:nvPr/>
        </p:nvSpPr>
        <p:spPr>
          <a:xfrm>
            <a:off x="324000" y="5418000"/>
            <a:ext cx="5256000" cy="1106640"/>
          </a:xfrm>
          <a:prstGeom prst="wedgeRectCallout">
            <a:avLst>
              <a:gd name="adj1" fmla="val -1162"/>
              <a:gd name="adj2" fmla="val -81708"/>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37160" bIns="46800" anchor="t">
            <a:noAutofit/>
          </a:bodyPr>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لم تنشأ شجرة المشكلات أصلاًً كأداة للنهج القائم على حقوق الإنسان، ولكنها قد تساعد في تحديد النماذج الأساسية للتمييز والإقصاء وغيرها من الأسباب الجذرية للمشكل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372"/>
                                        </p:tgtEl>
                                        <p:attrNameLst>
                                          <p:attrName>style.visibility</p:attrName>
                                        </p:attrNameLst>
                                      </p:cBhvr>
                                      <p:to>
                                        <p:strVal val="visible"/>
                                      </p:to>
                                    </p:set>
                                    <p:animEffect filter="box(in)" transition="in">
                                      <p:cBhvr additive="repl">
                                        <p:cTn id="170"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373" name=""/>
          <p:cNvGrpSpPr/>
          <p:nvPr/>
        </p:nvGrpSpPr>
        <p:grpSpPr>
          <a:xfrm>
            <a:off x="762120" y="1752480"/>
            <a:ext cx="7772400" cy="4114800"/>
            <a:chOff x="762120" y="1752480"/>
            <a:chExt cx="7772400" cy="4114800"/>
          </a:xfrm>
        </p:grpSpPr>
        <p:cxnSp>
          <p:nvCxnSpPr>
            <p:cNvPr id="374" name="_s799748"/>
            <p:cNvCxnSpPr>
              <a:stCxn id="375" idx="1"/>
              <a:endCxn id="376" idx="2"/>
            </p:cNvCxnSpPr>
            <p:nvPr/>
          </p:nvCxnSpPr>
          <p:spPr>
            <a:xfrm rot="10800000">
              <a:off x="6935040" y="3690360"/>
              <a:ext cx="227880" cy="1935720"/>
            </a:xfrm>
            <a:prstGeom prst="bentConnector2">
              <a:avLst/>
            </a:prstGeom>
            <a:ln w="28440">
              <a:solidFill>
                <a:srgbClr val="000000"/>
              </a:solidFill>
              <a:miter/>
            </a:ln>
          </p:spPr>
        </p:cxnSp>
        <p:cxnSp>
          <p:nvCxnSpPr>
            <p:cNvPr id="377" name="_s799749"/>
            <p:cNvCxnSpPr>
              <a:stCxn id="378" idx="1"/>
              <a:endCxn id="376" idx="2"/>
            </p:cNvCxnSpPr>
            <p:nvPr/>
          </p:nvCxnSpPr>
          <p:spPr>
            <a:xfrm rot="10800000">
              <a:off x="6935040" y="3690360"/>
              <a:ext cx="227880" cy="1210320"/>
            </a:xfrm>
            <a:prstGeom prst="bentConnector2">
              <a:avLst/>
            </a:prstGeom>
            <a:ln w="28440">
              <a:solidFill>
                <a:srgbClr val="000000"/>
              </a:solidFill>
              <a:miter/>
            </a:ln>
          </p:spPr>
        </p:cxnSp>
        <p:cxnSp>
          <p:nvCxnSpPr>
            <p:cNvPr id="379" name="_s799750"/>
            <p:cNvCxnSpPr>
              <a:stCxn id="380" idx="1"/>
              <a:endCxn id="376" idx="2"/>
            </p:cNvCxnSpPr>
            <p:nvPr/>
          </p:nvCxnSpPr>
          <p:spPr>
            <a:xfrm rot="10800000">
              <a:off x="6935040" y="3690360"/>
              <a:ext cx="227880" cy="484920"/>
            </a:xfrm>
            <a:prstGeom prst="bentConnector2">
              <a:avLst/>
            </a:prstGeom>
            <a:ln w="28440">
              <a:solidFill>
                <a:srgbClr val="000000"/>
              </a:solidFill>
              <a:miter/>
            </a:ln>
          </p:spPr>
        </p:cxnSp>
        <p:cxnSp>
          <p:nvCxnSpPr>
            <p:cNvPr id="381" name="_s799751"/>
            <p:cNvCxnSpPr>
              <a:stCxn id="382" idx="1"/>
              <a:endCxn id="383" idx="2"/>
            </p:cNvCxnSpPr>
            <p:nvPr/>
          </p:nvCxnSpPr>
          <p:spPr>
            <a:xfrm rot="10800000">
              <a:off x="5106240" y="3690360"/>
              <a:ext cx="227880" cy="1210320"/>
            </a:xfrm>
            <a:prstGeom prst="bentConnector2">
              <a:avLst/>
            </a:prstGeom>
            <a:ln w="28440">
              <a:solidFill>
                <a:srgbClr val="000000"/>
              </a:solidFill>
              <a:miter/>
            </a:ln>
          </p:spPr>
        </p:cxnSp>
        <p:cxnSp>
          <p:nvCxnSpPr>
            <p:cNvPr id="384" name="_s799752"/>
            <p:cNvCxnSpPr>
              <a:stCxn id="385" idx="1"/>
              <a:endCxn id="383" idx="2"/>
            </p:cNvCxnSpPr>
            <p:nvPr/>
          </p:nvCxnSpPr>
          <p:spPr>
            <a:xfrm rot="10800000">
              <a:off x="5106240" y="3690360"/>
              <a:ext cx="227880" cy="484920"/>
            </a:xfrm>
            <a:prstGeom prst="bentConnector2">
              <a:avLst/>
            </a:prstGeom>
            <a:ln w="28440">
              <a:solidFill>
                <a:srgbClr val="000000"/>
              </a:solidFill>
              <a:miter/>
            </a:ln>
          </p:spPr>
        </p:cxnSp>
        <p:cxnSp>
          <p:nvCxnSpPr>
            <p:cNvPr id="386" name="_s799753"/>
            <p:cNvCxnSpPr>
              <a:stCxn id="387" idx="1"/>
              <a:endCxn id="388" idx="2"/>
            </p:cNvCxnSpPr>
            <p:nvPr/>
          </p:nvCxnSpPr>
          <p:spPr>
            <a:xfrm rot="10800000">
              <a:off x="3277440" y="3690360"/>
              <a:ext cx="227880" cy="1210320"/>
            </a:xfrm>
            <a:prstGeom prst="bentConnector2">
              <a:avLst/>
            </a:prstGeom>
            <a:ln w="28440">
              <a:solidFill>
                <a:srgbClr val="000000"/>
              </a:solidFill>
              <a:miter/>
            </a:ln>
          </p:spPr>
        </p:cxnSp>
        <p:cxnSp>
          <p:nvCxnSpPr>
            <p:cNvPr id="389" name="_s799754"/>
            <p:cNvCxnSpPr>
              <a:stCxn id="390" idx="1"/>
              <a:endCxn id="388" idx="2"/>
            </p:cNvCxnSpPr>
            <p:nvPr/>
          </p:nvCxnSpPr>
          <p:spPr>
            <a:xfrm rot="10800000">
              <a:off x="3277440" y="3690360"/>
              <a:ext cx="227880" cy="484920"/>
            </a:xfrm>
            <a:prstGeom prst="bentConnector2">
              <a:avLst/>
            </a:prstGeom>
            <a:ln w="28440">
              <a:solidFill>
                <a:srgbClr val="000000"/>
              </a:solidFill>
              <a:miter/>
            </a:ln>
          </p:spPr>
        </p:cxnSp>
        <p:cxnSp>
          <p:nvCxnSpPr>
            <p:cNvPr id="391" name="_s799755"/>
            <p:cNvCxnSpPr>
              <a:stCxn id="392" idx="1"/>
              <a:endCxn id="393" idx="2"/>
            </p:cNvCxnSpPr>
            <p:nvPr/>
          </p:nvCxnSpPr>
          <p:spPr>
            <a:xfrm rot="10800000">
              <a:off x="1448640" y="3690360"/>
              <a:ext cx="227880" cy="1210320"/>
            </a:xfrm>
            <a:prstGeom prst="bentConnector2">
              <a:avLst/>
            </a:prstGeom>
            <a:ln w="28440">
              <a:solidFill>
                <a:srgbClr val="000000"/>
              </a:solidFill>
              <a:miter/>
            </a:ln>
          </p:spPr>
        </p:cxnSp>
        <p:cxnSp>
          <p:nvCxnSpPr>
            <p:cNvPr id="394" name="_s799756"/>
            <p:cNvCxnSpPr>
              <a:stCxn id="395" idx="1"/>
              <a:endCxn id="393" idx="2"/>
            </p:cNvCxnSpPr>
            <p:nvPr/>
          </p:nvCxnSpPr>
          <p:spPr>
            <a:xfrm rot="10800000">
              <a:off x="1448640" y="3690360"/>
              <a:ext cx="227880" cy="484920"/>
            </a:xfrm>
            <a:prstGeom prst="bentConnector2">
              <a:avLst/>
            </a:prstGeom>
            <a:ln w="28440">
              <a:solidFill>
                <a:srgbClr val="000000"/>
              </a:solidFill>
              <a:miter/>
            </a:ln>
          </p:spPr>
        </p:cxnSp>
        <p:cxnSp>
          <p:nvCxnSpPr>
            <p:cNvPr id="396" name="_s799757"/>
            <p:cNvCxnSpPr>
              <a:stCxn id="376" idx="0"/>
              <a:endCxn id="397" idx="2"/>
            </p:cNvCxnSpPr>
            <p:nvPr/>
          </p:nvCxnSpPr>
          <p:spPr>
            <a:xfrm flipV="1" rot="16200000">
              <a:off x="6356520" y="2627280"/>
              <a:ext cx="243720" cy="915120"/>
            </a:xfrm>
            <a:prstGeom prst="bentConnector3">
              <a:avLst>
                <a:gd name="adj1" fmla="val 47041"/>
              </a:avLst>
            </a:prstGeom>
            <a:ln w="28440">
              <a:solidFill>
                <a:srgbClr val="000000"/>
              </a:solidFill>
              <a:miter/>
            </a:ln>
          </p:spPr>
        </p:cxnSp>
        <p:cxnSp>
          <p:nvCxnSpPr>
            <p:cNvPr id="398" name="_s799758"/>
            <p:cNvCxnSpPr>
              <a:stCxn id="383" idx="0"/>
              <a:endCxn id="397" idx="2"/>
            </p:cNvCxnSpPr>
            <p:nvPr/>
          </p:nvCxnSpPr>
          <p:spPr>
            <a:xfrm flipH="1" flipV="1" rot="5400000">
              <a:off x="5442480" y="2627640"/>
              <a:ext cx="243720" cy="915120"/>
            </a:xfrm>
            <a:prstGeom prst="bentConnector3">
              <a:avLst>
                <a:gd name="adj1" fmla="val 47041"/>
              </a:avLst>
            </a:prstGeom>
            <a:ln w="28440">
              <a:solidFill>
                <a:srgbClr val="000000"/>
              </a:solidFill>
              <a:miter/>
            </a:ln>
          </p:spPr>
        </p:cxnSp>
        <p:cxnSp>
          <p:nvCxnSpPr>
            <p:cNvPr id="399" name="_s799759"/>
            <p:cNvCxnSpPr>
              <a:stCxn id="388" idx="0"/>
              <a:endCxn id="400" idx="2"/>
            </p:cNvCxnSpPr>
            <p:nvPr/>
          </p:nvCxnSpPr>
          <p:spPr>
            <a:xfrm flipV="1" rot="16200000">
              <a:off x="2698920" y="2627280"/>
              <a:ext cx="243720" cy="915120"/>
            </a:xfrm>
            <a:prstGeom prst="bentConnector3">
              <a:avLst>
                <a:gd name="adj1" fmla="val 47041"/>
              </a:avLst>
            </a:prstGeom>
            <a:ln w="28440">
              <a:solidFill>
                <a:srgbClr val="000000"/>
              </a:solidFill>
              <a:miter/>
            </a:ln>
          </p:spPr>
        </p:cxnSp>
        <p:cxnSp>
          <p:nvCxnSpPr>
            <p:cNvPr id="401" name="_s799760"/>
            <p:cNvCxnSpPr>
              <a:stCxn id="393" idx="0"/>
              <a:endCxn id="400" idx="2"/>
            </p:cNvCxnSpPr>
            <p:nvPr/>
          </p:nvCxnSpPr>
          <p:spPr>
            <a:xfrm flipH="1" flipV="1" rot="5400000">
              <a:off x="1784880" y="2627640"/>
              <a:ext cx="243720" cy="915120"/>
            </a:xfrm>
            <a:prstGeom prst="bentConnector3">
              <a:avLst>
                <a:gd name="adj1" fmla="val 47041"/>
              </a:avLst>
            </a:prstGeom>
            <a:ln w="28440">
              <a:solidFill>
                <a:srgbClr val="000000"/>
              </a:solidFill>
              <a:miter/>
            </a:ln>
          </p:spPr>
        </p:cxnSp>
        <p:cxnSp>
          <p:nvCxnSpPr>
            <p:cNvPr id="402" name="_s799761"/>
            <p:cNvCxnSpPr>
              <a:stCxn id="397" idx="0"/>
              <a:endCxn id="403" idx="2"/>
            </p:cNvCxnSpPr>
            <p:nvPr/>
          </p:nvCxnSpPr>
          <p:spPr>
            <a:xfrm flipV="1" rot="16200000">
              <a:off x="4984920" y="1442880"/>
              <a:ext cx="243720" cy="1829520"/>
            </a:xfrm>
            <a:prstGeom prst="bentConnector3">
              <a:avLst>
                <a:gd name="adj1" fmla="val 47041"/>
              </a:avLst>
            </a:prstGeom>
            <a:ln w="28440">
              <a:solidFill>
                <a:srgbClr val="000000"/>
              </a:solidFill>
              <a:miter/>
            </a:ln>
          </p:spPr>
        </p:cxnSp>
        <p:cxnSp>
          <p:nvCxnSpPr>
            <p:cNvPr id="404" name="_s799762"/>
            <p:cNvCxnSpPr>
              <a:stCxn id="400" idx="0"/>
              <a:endCxn id="403" idx="2"/>
            </p:cNvCxnSpPr>
            <p:nvPr/>
          </p:nvCxnSpPr>
          <p:spPr>
            <a:xfrm flipH="1" flipV="1" rot="5400000">
              <a:off x="3156480" y="1443240"/>
              <a:ext cx="243720" cy="1829520"/>
            </a:xfrm>
            <a:prstGeom prst="bentConnector3">
              <a:avLst>
                <a:gd name="adj1" fmla="val 47041"/>
              </a:avLst>
            </a:prstGeom>
            <a:ln w="28440">
              <a:solidFill>
                <a:srgbClr val="000000"/>
              </a:solidFill>
              <a:miter/>
            </a:ln>
          </p:spPr>
        </p:cxnSp>
        <p:sp>
          <p:nvSpPr>
            <p:cNvPr id="403" name="_s799763"/>
            <p:cNvSpPr/>
            <p:nvPr/>
          </p:nvSpPr>
          <p:spPr>
            <a:xfrm>
              <a:off x="2905200" y="1752480"/>
              <a:ext cx="2573280" cy="4842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ظهور المشكلة</a:t>
              </a:r>
              <a:endParaRPr b="0" lang="en-US" sz="1300" spc="-1" strike="noStrike">
                <a:solidFill>
                  <a:srgbClr val="000000"/>
                </a:solidFill>
                <a:latin typeface="Arial"/>
              </a:endParaRPr>
            </a:p>
          </p:txBody>
        </p:sp>
        <p:sp>
          <p:nvSpPr>
            <p:cNvPr id="400" name="_s799764"/>
            <p:cNvSpPr/>
            <p:nvPr/>
          </p:nvSpPr>
          <p:spPr>
            <a:xfrm>
              <a:off x="1676520" y="2479680"/>
              <a:ext cx="1373040" cy="4842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آنية</a:t>
              </a:r>
              <a:endParaRPr b="0" lang="en-US" sz="1300" spc="-1" strike="noStrike">
                <a:solidFill>
                  <a:srgbClr val="000000"/>
                </a:solidFill>
                <a:latin typeface="Arial"/>
              </a:endParaRPr>
            </a:p>
          </p:txBody>
        </p:sp>
        <p:sp>
          <p:nvSpPr>
            <p:cNvPr id="397" name="_s799765"/>
            <p:cNvSpPr/>
            <p:nvPr/>
          </p:nvSpPr>
          <p:spPr>
            <a:xfrm>
              <a:off x="5334120" y="2479680"/>
              <a:ext cx="1373040" cy="48420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آنية</a:t>
              </a:r>
              <a:endParaRPr b="0" lang="en-US" sz="1300" spc="-1" strike="noStrike">
                <a:solidFill>
                  <a:srgbClr val="000000"/>
                </a:solidFill>
                <a:latin typeface="Arial"/>
              </a:endParaRPr>
            </a:p>
          </p:txBody>
        </p:sp>
        <p:sp>
          <p:nvSpPr>
            <p:cNvPr id="393" name="_s799766"/>
            <p:cNvSpPr/>
            <p:nvPr/>
          </p:nvSpPr>
          <p:spPr>
            <a:xfrm>
              <a:off x="7621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88" name="_s799767"/>
            <p:cNvSpPr/>
            <p:nvPr/>
          </p:nvSpPr>
          <p:spPr>
            <a:xfrm>
              <a:off x="25909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83" name="_s799768"/>
            <p:cNvSpPr/>
            <p:nvPr/>
          </p:nvSpPr>
          <p:spPr>
            <a:xfrm>
              <a:off x="44197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76" name="_s799769"/>
            <p:cNvSpPr/>
            <p:nvPr/>
          </p:nvSpPr>
          <p:spPr>
            <a:xfrm>
              <a:off x="6248520" y="3206880"/>
              <a:ext cx="1373040" cy="48420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تحتية</a:t>
              </a:r>
              <a:endParaRPr b="0" lang="en-US" sz="1300" spc="-1" strike="noStrike">
                <a:solidFill>
                  <a:srgbClr val="000000"/>
                </a:solidFill>
                <a:latin typeface="Arial"/>
              </a:endParaRPr>
            </a:p>
          </p:txBody>
        </p:sp>
        <p:sp>
          <p:nvSpPr>
            <p:cNvPr id="395" name="_s799770"/>
            <p:cNvSpPr/>
            <p:nvPr/>
          </p:nvSpPr>
          <p:spPr>
            <a:xfrm>
              <a:off x="16765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92" name="_s799771"/>
            <p:cNvSpPr/>
            <p:nvPr/>
          </p:nvSpPr>
          <p:spPr>
            <a:xfrm>
              <a:off x="16765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90" name="_s799772"/>
            <p:cNvSpPr/>
            <p:nvPr/>
          </p:nvSpPr>
          <p:spPr>
            <a:xfrm>
              <a:off x="35053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6600" rIns="666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7" name="_s799773"/>
            <p:cNvSpPr/>
            <p:nvPr/>
          </p:nvSpPr>
          <p:spPr>
            <a:xfrm>
              <a:off x="35053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5" name="_s799774"/>
            <p:cNvSpPr/>
            <p:nvPr/>
          </p:nvSpPr>
          <p:spPr>
            <a:xfrm>
              <a:off x="53341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2" name="_s799775"/>
            <p:cNvSpPr/>
            <p:nvPr/>
          </p:nvSpPr>
          <p:spPr>
            <a:xfrm>
              <a:off x="53341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80" name="_s799776"/>
            <p:cNvSpPr/>
            <p:nvPr/>
          </p:nvSpPr>
          <p:spPr>
            <a:xfrm>
              <a:off x="7162920" y="3933720"/>
              <a:ext cx="1371600" cy="48276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78" name="_s799777"/>
            <p:cNvSpPr/>
            <p:nvPr/>
          </p:nvSpPr>
          <p:spPr>
            <a:xfrm>
              <a:off x="7162920" y="4659480"/>
              <a:ext cx="1371600" cy="4824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80640" rIns="8064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Times New Roman"/>
                </a:rPr>
                <a:t>الجذرية</a:t>
              </a:r>
              <a:endParaRPr b="0" lang="en-US" sz="1300" spc="-1" strike="noStrike">
                <a:solidFill>
                  <a:srgbClr val="000000"/>
                </a:solidFill>
                <a:latin typeface="Arial"/>
              </a:endParaRPr>
            </a:p>
          </p:txBody>
        </p:sp>
        <p:sp>
          <p:nvSpPr>
            <p:cNvPr id="375" name="_s799778"/>
            <p:cNvSpPr/>
            <p:nvPr/>
          </p:nvSpPr>
          <p:spPr>
            <a:xfrm>
              <a:off x="7162920" y="5384880"/>
              <a:ext cx="1371600" cy="48240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80640" rIns="8064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148680" y="5516640"/>
            <a:ext cx="116208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أسباب</a:t>
            </a:r>
            <a:endParaRPr b="0" lang="en-US" sz="2000" spc="-1" strike="noStrike">
              <a:solidFill>
                <a:srgbClr val="000000"/>
              </a:solidFill>
              <a:latin typeface="Arial"/>
            </a:endParaRPr>
          </a:p>
        </p:txBody>
      </p:sp>
      <p:sp>
        <p:nvSpPr>
          <p:cNvPr id="406" name=""/>
          <p:cNvSpPr/>
          <p:nvPr/>
        </p:nvSpPr>
        <p:spPr>
          <a:xfrm>
            <a:off x="250920" y="2421000"/>
            <a:ext cx="720720" cy="703800"/>
          </a:xfrm>
          <a:prstGeom prst="rect">
            <a:avLst/>
          </a:prstGeom>
          <a:solidFill>
            <a:srgbClr val="6666ff"/>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آثار</a:t>
            </a:r>
            <a:endParaRPr b="0" lang="en-US" sz="2000" spc="-1" strike="noStrike">
              <a:solidFill>
                <a:srgbClr val="000000"/>
              </a:solidFill>
              <a:latin typeface="Arial"/>
            </a:endParaRPr>
          </a:p>
        </p:txBody>
      </p:sp>
      <p:sp>
        <p:nvSpPr>
          <p:cNvPr id="407" name=""/>
          <p:cNvSpPr/>
          <p:nvPr/>
        </p:nvSpPr>
        <p:spPr>
          <a:xfrm>
            <a:off x="304920" y="2971800"/>
            <a:ext cx="304560" cy="2514600"/>
          </a:xfrm>
          <a:prstGeom prst="upArrow">
            <a:avLst>
              <a:gd name="adj1" fmla="val 50000"/>
              <a:gd name="adj2" fmla="val 206413"/>
            </a:avLst>
          </a:prstGeom>
          <a:solidFill>
            <a:srgbClr val="ccecff"/>
          </a:solidFill>
          <a:ln w="9360">
            <a:solidFill>
              <a:srgbClr val="000000"/>
            </a:solidFill>
            <a:miter/>
          </a:ln>
          <a:effectLst>
            <a:outerShdw dist="107932" dir="18900000" blurRad="0" rotWithShape="0">
              <a:srgbClr val="ccecff">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8" name="PlaceHolder 1"/>
          <p:cNvSpPr>
            <a:spLocks noGrp="1"/>
          </p:cNvSpPr>
          <p:nvPr>
            <p:ph type="title"/>
          </p:nvPr>
        </p:nvSpPr>
        <p:spPr>
          <a:xfrm>
            <a:off x="1619280" y="764640"/>
            <a:ext cx="6983280" cy="7210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cs typeface="Arial"/>
              </a:rPr>
              <a:t>شجرة المشكلات</a:t>
            </a:r>
            <a:endParaRPr b="0" lang="en-US" sz="4000" spc="-1" strike="noStrike">
              <a:solidFill>
                <a:srgbClr val="000000"/>
              </a:solidFill>
              <a:latin typeface="Arial"/>
            </a:endParaRPr>
          </a:p>
        </p:txBody>
      </p:sp>
      <p:sp>
        <p:nvSpPr>
          <p:cNvPr id="409" name=""/>
          <p:cNvSpPr/>
          <p:nvPr/>
        </p:nvSpPr>
        <p:spPr>
          <a:xfrm>
            <a:off x="5940360" y="3716280"/>
            <a:ext cx="2879640" cy="2592360"/>
          </a:xfrm>
          <a:prstGeom prst="wedgeRectCallout">
            <a:avLst>
              <a:gd name="adj1" fmla="val -44212"/>
              <a:gd name="adj2" fmla="val -89375"/>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شجرة المشكلات هي أداة لبناء التوافق في الآراء والمشاركة، لأنها تسمح بالاتفاق مع أصحاب الحقوق والقائمين بالواجبات على التحديات والأسباب الجذرية الأساسية للتنم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409"/>
                                        </p:tgtEl>
                                        <p:attrNameLst>
                                          <p:attrName>style.visibility</p:attrName>
                                        </p:attrNameLst>
                                      </p:cBhvr>
                                      <p:to>
                                        <p:strVal val="visible"/>
                                      </p:to>
                                    </p:set>
                                    <p:animEffect filter="box(in)" transition="in">
                                      <p:cBhvr additive="repl">
                                        <p:cTn id="17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pSp>
        <p:nvGrpSpPr>
          <p:cNvPr id="410" name=""/>
          <p:cNvGrpSpPr/>
          <p:nvPr/>
        </p:nvGrpSpPr>
        <p:grpSpPr>
          <a:xfrm>
            <a:off x="838080" y="1600200"/>
            <a:ext cx="5867640" cy="3048120"/>
            <a:chOff x="838080" y="1600200"/>
            <a:chExt cx="5867640" cy="3048120"/>
          </a:xfrm>
        </p:grpSpPr>
        <p:grpSp>
          <p:nvGrpSpPr>
            <p:cNvPr id="411" name=""/>
            <p:cNvGrpSpPr/>
            <p:nvPr/>
          </p:nvGrpSpPr>
          <p:grpSpPr>
            <a:xfrm>
              <a:off x="838080" y="1600200"/>
              <a:ext cx="5867640" cy="3048120"/>
              <a:chOff x="838080" y="1600200"/>
              <a:chExt cx="5867640" cy="3048120"/>
            </a:xfrm>
          </p:grpSpPr>
          <p:sp>
            <p:nvSpPr>
              <p:cNvPr id="412" name=""/>
              <p:cNvSpPr/>
              <p:nvPr/>
            </p:nvSpPr>
            <p:spPr>
              <a:xfrm>
                <a:off x="2895480" y="22860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752480" y="22860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895480" y="2971800"/>
                <a:ext cx="83844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1752480" y="29718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429000" y="36576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362320" y="36576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1295280" y="36576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886200" y="43434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895480" y="4343400"/>
                <a:ext cx="83844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828800" y="4343400"/>
                <a:ext cx="838080" cy="304920"/>
              </a:xfrm>
              <a:prstGeom prst="rect">
                <a:avLst/>
              </a:prstGeom>
              <a:solidFill>
                <a:srgbClr val="00ff00"/>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838080" y="4343400"/>
                <a:ext cx="838440" cy="3049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2362320" y="1600200"/>
                <a:ext cx="8380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24" name=""/>
              <p:cNvCxnSpPr>
                <a:stCxn id="413" idx="0"/>
                <a:endCxn id="423" idx="2"/>
              </p:cNvCxnSpPr>
              <p:nvPr/>
            </p:nvCxnSpPr>
            <p:spPr>
              <a:xfrm flipV="1">
                <a:off x="2171520" y="1904760"/>
                <a:ext cx="610200" cy="381600"/>
              </a:xfrm>
              <a:prstGeom prst="straightConnector1">
                <a:avLst/>
              </a:prstGeom>
              <a:ln w="9360">
                <a:solidFill>
                  <a:srgbClr val="000000"/>
                </a:solidFill>
                <a:miter/>
                <a:tailEnd len="med" type="triangle" w="med"/>
              </a:ln>
            </p:spPr>
          </p:cxnSp>
          <p:cxnSp>
            <p:nvCxnSpPr>
              <p:cNvPr id="425" name=""/>
              <p:cNvCxnSpPr>
                <a:stCxn id="412" idx="0"/>
                <a:endCxn id="423" idx="2"/>
              </p:cNvCxnSpPr>
              <p:nvPr/>
            </p:nvCxnSpPr>
            <p:spPr>
              <a:xfrm flipH="1" flipV="1">
                <a:off x="2781000" y="1904760"/>
                <a:ext cx="534240" cy="381600"/>
              </a:xfrm>
              <a:prstGeom prst="straightConnector1">
                <a:avLst/>
              </a:prstGeom>
              <a:ln w="9360">
                <a:solidFill>
                  <a:srgbClr val="000000"/>
                </a:solidFill>
                <a:miter/>
                <a:tailEnd len="med" type="triangle" w="med"/>
              </a:ln>
            </p:spPr>
          </p:cxnSp>
          <p:cxnSp>
            <p:nvCxnSpPr>
              <p:cNvPr id="426" name=""/>
              <p:cNvCxnSpPr>
                <a:stCxn id="415" idx="0"/>
                <a:endCxn id="413" idx="2"/>
              </p:cNvCxnSpPr>
              <p:nvPr/>
            </p:nvCxnSpPr>
            <p:spPr>
              <a:xfrm flipV="1">
                <a:off x="2171520" y="2590560"/>
                <a:ext cx="1080" cy="381600"/>
              </a:xfrm>
              <a:prstGeom prst="straightConnector1">
                <a:avLst/>
              </a:prstGeom>
              <a:ln w="9360">
                <a:solidFill>
                  <a:srgbClr val="000000"/>
                </a:solidFill>
                <a:miter/>
                <a:tailEnd len="med" type="triangle" w="med"/>
              </a:ln>
            </p:spPr>
          </p:cxnSp>
          <p:cxnSp>
            <p:nvCxnSpPr>
              <p:cNvPr id="427" name=""/>
              <p:cNvCxnSpPr>
                <a:stCxn id="415" idx="0"/>
                <a:endCxn id="412" idx="2"/>
              </p:cNvCxnSpPr>
              <p:nvPr/>
            </p:nvCxnSpPr>
            <p:spPr>
              <a:xfrm flipV="1">
                <a:off x="2171520" y="2590560"/>
                <a:ext cx="1143720" cy="381600"/>
              </a:xfrm>
              <a:prstGeom prst="straightConnector1">
                <a:avLst/>
              </a:prstGeom>
              <a:ln w="9360">
                <a:solidFill>
                  <a:srgbClr val="000000"/>
                </a:solidFill>
                <a:miter/>
                <a:tailEnd len="med" type="triangle" w="med"/>
              </a:ln>
            </p:spPr>
          </p:cxnSp>
          <p:cxnSp>
            <p:nvCxnSpPr>
              <p:cNvPr id="428" name=""/>
              <p:cNvCxnSpPr>
                <a:stCxn id="414" idx="0"/>
                <a:endCxn id="412" idx="2"/>
              </p:cNvCxnSpPr>
              <p:nvPr/>
            </p:nvCxnSpPr>
            <p:spPr>
              <a:xfrm flipV="1">
                <a:off x="3314520" y="2590560"/>
                <a:ext cx="1080" cy="381600"/>
              </a:xfrm>
              <a:prstGeom prst="straightConnector1">
                <a:avLst/>
              </a:prstGeom>
              <a:ln w="9360">
                <a:solidFill>
                  <a:srgbClr val="000000"/>
                </a:solidFill>
                <a:miter/>
                <a:tailEnd len="med" type="triangle" w="med"/>
              </a:ln>
            </p:spPr>
          </p:cxnSp>
          <p:cxnSp>
            <p:nvCxnSpPr>
              <p:cNvPr id="429" name=""/>
              <p:cNvCxnSpPr>
                <a:stCxn id="418" idx="0"/>
                <a:endCxn id="415" idx="2"/>
              </p:cNvCxnSpPr>
              <p:nvPr/>
            </p:nvCxnSpPr>
            <p:spPr>
              <a:xfrm flipV="1">
                <a:off x="1714680" y="3276360"/>
                <a:ext cx="457920" cy="381600"/>
              </a:xfrm>
              <a:prstGeom prst="straightConnector1">
                <a:avLst/>
              </a:prstGeom>
              <a:ln w="9360">
                <a:solidFill>
                  <a:srgbClr val="000000"/>
                </a:solidFill>
                <a:miter/>
                <a:tailEnd len="med" type="triangle" w="med"/>
              </a:ln>
            </p:spPr>
          </p:cxnSp>
          <p:cxnSp>
            <p:nvCxnSpPr>
              <p:cNvPr id="430" name=""/>
              <p:cNvCxnSpPr>
                <a:stCxn id="422" idx="0"/>
                <a:endCxn id="418" idx="2"/>
              </p:cNvCxnSpPr>
              <p:nvPr/>
            </p:nvCxnSpPr>
            <p:spPr>
              <a:xfrm flipV="1">
                <a:off x="1257480" y="3962160"/>
                <a:ext cx="457920" cy="381600"/>
              </a:xfrm>
              <a:prstGeom prst="straightConnector1">
                <a:avLst/>
              </a:prstGeom>
              <a:ln w="9360">
                <a:solidFill>
                  <a:srgbClr val="000000"/>
                </a:solidFill>
                <a:miter/>
                <a:tailEnd len="med" type="triangle" w="med"/>
              </a:ln>
            </p:spPr>
          </p:cxnSp>
          <p:cxnSp>
            <p:nvCxnSpPr>
              <p:cNvPr id="431" name=""/>
              <p:cNvCxnSpPr>
                <a:stCxn id="421" idx="0"/>
                <a:endCxn id="418" idx="2"/>
              </p:cNvCxnSpPr>
              <p:nvPr/>
            </p:nvCxnSpPr>
            <p:spPr>
              <a:xfrm flipH="1" flipV="1">
                <a:off x="1713960" y="3962160"/>
                <a:ext cx="533880" cy="381600"/>
              </a:xfrm>
              <a:prstGeom prst="straightConnector1">
                <a:avLst/>
              </a:prstGeom>
              <a:ln w="9360">
                <a:solidFill>
                  <a:srgbClr val="000000"/>
                </a:solidFill>
                <a:miter/>
                <a:tailEnd len="med" type="triangle" w="med"/>
              </a:ln>
            </p:spPr>
          </p:cxnSp>
          <p:sp>
            <p:nvSpPr>
              <p:cNvPr id="432" name=""/>
              <p:cNvSpPr/>
              <p:nvPr/>
            </p:nvSpPr>
            <p:spPr>
              <a:xfrm>
                <a:off x="4495680" y="1600200"/>
                <a:ext cx="838440" cy="30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5867280" y="36576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962520" y="22860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952880" y="29718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886200" y="29718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4876920" y="36576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867280" y="4343400"/>
                <a:ext cx="83844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876920" y="43434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0" name=""/>
              <p:cNvCxnSpPr>
                <a:stCxn id="436" idx="0"/>
                <a:endCxn id="434" idx="2"/>
              </p:cNvCxnSpPr>
              <p:nvPr/>
            </p:nvCxnSpPr>
            <p:spPr>
              <a:xfrm flipV="1">
                <a:off x="4305240" y="2590560"/>
                <a:ext cx="76680" cy="381600"/>
              </a:xfrm>
              <a:prstGeom prst="straightConnector1">
                <a:avLst/>
              </a:prstGeom>
              <a:ln w="9360">
                <a:solidFill>
                  <a:srgbClr val="000000"/>
                </a:solidFill>
                <a:miter/>
                <a:tailEnd len="med" type="triangle" w="med"/>
              </a:ln>
            </p:spPr>
          </p:cxnSp>
          <p:cxnSp>
            <p:nvCxnSpPr>
              <p:cNvPr id="441" name=""/>
              <p:cNvCxnSpPr>
                <a:stCxn id="435" idx="0"/>
                <a:endCxn id="442" idx="2"/>
              </p:cNvCxnSpPr>
              <p:nvPr/>
            </p:nvCxnSpPr>
            <p:spPr>
              <a:xfrm flipV="1">
                <a:off x="5371920" y="2590560"/>
                <a:ext cx="76680" cy="381600"/>
              </a:xfrm>
              <a:prstGeom prst="straightConnector1">
                <a:avLst/>
              </a:prstGeom>
              <a:ln w="9360">
                <a:solidFill>
                  <a:srgbClr val="000000"/>
                </a:solidFill>
                <a:miter/>
                <a:tailEnd len="med" type="triangle" w="med"/>
              </a:ln>
            </p:spPr>
          </p:cxnSp>
          <p:cxnSp>
            <p:nvCxnSpPr>
              <p:cNvPr id="443" name=""/>
              <p:cNvCxnSpPr>
                <a:endCxn id="434" idx="2"/>
              </p:cNvCxnSpPr>
              <p:nvPr/>
            </p:nvCxnSpPr>
            <p:spPr>
              <a:xfrm flipV="1">
                <a:off x="3314520" y="2590560"/>
                <a:ext cx="1067400" cy="381600"/>
              </a:xfrm>
              <a:prstGeom prst="straightConnector1">
                <a:avLst/>
              </a:prstGeom>
              <a:ln w="9360">
                <a:solidFill>
                  <a:srgbClr val="000000"/>
                </a:solidFill>
                <a:miter/>
                <a:tailEnd len="med" type="triangle" w="med"/>
              </a:ln>
            </p:spPr>
          </p:cxnSp>
          <p:cxnSp>
            <p:nvCxnSpPr>
              <p:cNvPr id="444" name=""/>
              <p:cNvCxnSpPr>
                <a:stCxn id="434" idx="0"/>
                <a:endCxn id="432" idx="2"/>
              </p:cNvCxnSpPr>
              <p:nvPr/>
            </p:nvCxnSpPr>
            <p:spPr>
              <a:xfrm flipV="1">
                <a:off x="4381560" y="1904760"/>
                <a:ext cx="534240" cy="381600"/>
              </a:xfrm>
              <a:prstGeom prst="straightConnector1">
                <a:avLst/>
              </a:prstGeom>
              <a:ln w="9360">
                <a:solidFill>
                  <a:srgbClr val="000000"/>
                </a:solidFill>
                <a:miter/>
                <a:tailEnd len="med" type="triangle" w="med"/>
              </a:ln>
            </p:spPr>
          </p:cxnSp>
          <p:cxnSp>
            <p:nvCxnSpPr>
              <p:cNvPr id="445" name=""/>
              <p:cNvCxnSpPr/>
              <p:nvPr/>
            </p:nvCxnSpPr>
            <p:spPr>
              <a:xfrm flipV="1">
                <a:off x="2781360" y="3276360"/>
                <a:ext cx="534240" cy="381600"/>
              </a:xfrm>
              <a:prstGeom prst="straightConnector1">
                <a:avLst/>
              </a:prstGeom>
              <a:ln w="9360">
                <a:solidFill>
                  <a:srgbClr val="000000"/>
                </a:solidFill>
                <a:miter/>
                <a:tailEnd len="med" type="triangle" w="med"/>
              </a:ln>
            </p:spPr>
          </p:cxnSp>
          <p:cxnSp>
            <p:nvCxnSpPr>
              <p:cNvPr id="446" name=""/>
              <p:cNvCxnSpPr/>
              <p:nvPr/>
            </p:nvCxnSpPr>
            <p:spPr>
              <a:xfrm flipH="1" flipV="1">
                <a:off x="3314160" y="3276360"/>
                <a:ext cx="533880" cy="381600"/>
              </a:xfrm>
              <a:prstGeom prst="straightConnector1">
                <a:avLst/>
              </a:prstGeom>
              <a:ln w="9360">
                <a:solidFill>
                  <a:srgbClr val="000000"/>
                </a:solidFill>
                <a:miter/>
                <a:tailEnd len="med" type="triangle" w="med"/>
              </a:ln>
            </p:spPr>
          </p:cxnSp>
          <p:cxnSp>
            <p:nvCxnSpPr>
              <p:cNvPr id="447" name=""/>
              <p:cNvCxnSpPr>
                <a:endCxn id="436" idx="2"/>
              </p:cNvCxnSpPr>
              <p:nvPr/>
            </p:nvCxnSpPr>
            <p:spPr>
              <a:xfrm flipV="1">
                <a:off x="3848040" y="3276360"/>
                <a:ext cx="457920" cy="381600"/>
              </a:xfrm>
              <a:prstGeom prst="straightConnector1">
                <a:avLst/>
              </a:prstGeom>
              <a:ln w="9360">
                <a:solidFill>
                  <a:srgbClr val="000000"/>
                </a:solidFill>
                <a:miter/>
                <a:tailEnd len="med" type="triangle" w="med"/>
              </a:ln>
            </p:spPr>
          </p:cxnSp>
          <p:cxnSp>
            <p:nvCxnSpPr>
              <p:cNvPr id="448" name=""/>
              <p:cNvCxnSpPr>
                <a:stCxn id="442" idx="0"/>
                <a:endCxn id="432" idx="2"/>
              </p:cNvCxnSpPr>
              <p:nvPr/>
            </p:nvCxnSpPr>
            <p:spPr>
              <a:xfrm flipH="1" flipV="1">
                <a:off x="4914360" y="1904760"/>
                <a:ext cx="533880" cy="381600"/>
              </a:xfrm>
              <a:prstGeom prst="straightConnector1">
                <a:avLst/>
              </a:prstGeom>
              <a:ln w="9360">
                <a:solidFill>
                  <a:srgbClr val="000000"/>
                </a:solidFill>
                <a:miter/>
                <a:tailEnd len="med" type="triangle" w="med"/>
              </a:ln>
            </p:spPr>
          </p:cxnSp>
          <p:cxnSp>
            <p:nvCxnSpPr>
              <p:cNvPr id="449" name=""/>
              <p:cNvCxnSpPr/>
              <p:nvPr/>
            </p:nvCxnSpPr>
            <p:spPr>
              <a:xfrm flipV="1">
                <a:off x="2247840" y="3962160"/>
                <a:ext cx="534240" cy="381600"/>
              </a:xfrm>
              <a:prstGeom prst="straightConnector1">
                <a:avLst/>
              </a:prstGeom>
              <a:ln w="9360">
                <a:solidFill>
                  <a:srgbClr val="000000"/>
                </a:solidFill>
                <a:miter/>
                <a:tailEnd len="med" type="triangle" w="med"/>
              </a:ln>
            </p:spPr>
          </p:cxnSp>
          <p:cxnSp>
            <p:nvCxnSpPr>
              <p:cNvPr id="450" name=""/>
              <p:cNvCxnSpPr/>
              <p:nvPr/>
            </p:nvCxnSpPr>
            <p:spPr>
              <a:xfrm flipH="1" flipV="1">
                <a:off x="2781000" y="3962160"/>
                <a:ext cx="534240" cy="381600"/>
              </a:xfrm>
              <a:prstGeom prst="straightConnector1">
                <a:avLst/>
              </a:prstGeom>
              <a:ln w="9360">
                <a:solidFill>
                  <a:srgbClr val="000000"/>
                </a:solidFill>
                <a:miter/>
                <a:tailEnd len="med" type="triangle" w="med"/>
              </a:ln>
            </p:spPr>
          </p:cxnSp>
          <p:cxnSp>
            <p:nvCxnSpPr>
              <p:cNvPr id="451" name=""/>
              <p:cNvCxnSpPr/>
              <p:nvPr/>
            </p:nvCxnSpPr>
            <p:spPr>
              <a:xfrm flipH="1" flipV="1">
                <a:off x="3847680" y="3962160"/>
                <a:ext cx="457920" cy="381600"/>
              </a:xfrm>
              <a:prstGeom prst="straightConnector1">
                <a:avLst/>
              </a:prstGeom>
              <a:ln w="9360">
                <a:solidFill>
                  <a:srgbClr val="000000"/>
                </a:solidFill>
                <a:miter/>
                <a:tailEnd len="med" type="triangle" w="med"/>
              </a:ln>
            </p:spPr>
          </p:cxnSp>
          <p:sp>
            <p:nvSpPr>
              <p:cNvPr id="442" name=""/>
              <p:cNvSpPr/>
              <p:nvPr/>
            </p:nvSpPr>
            <p:spPr>
              <a:xfrm>
                <a:off x="5029200" y="2286000"/>
                <a:ext cx="838080" cy="30492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52" name=""/>
              <p:cNvCxnSpPr>
                <a:endCxn id="437" idx="2"/>
              </p:cNvCxnSpPr>
              <p:nvPr/>
            </p:nvCxnSpPr>
            <p:spPr>
              <a:xfrm flipV="1">
                <a:off x="4305240" y="3962160"/>
                <a:ext cx="991440" cy="381600"/>
              </a:xfrm>
              <a:prstGeom prst="straightConnector1">
                <a:avLst/>
              </a:prstGeom>
              <a:ln w="9360">
                <a:solidFill>
                  <a:srgbClr val="000000"/>
                </a:solidFill>
                <a:miter/>
                <a:tailEnd len="med" type="triangle" w="med"/>
              </a:ln>
            </p:spPr>
          </p:cxnSp>
          <p:cxnSp>
            <p:nvCxnSpPr>
              <p:cNvPr id="453" name=""/>
              <p:cNvCxnSpPr>
                <a:stCxn id="439" idx="0"/>
                <a:endCxn id="437" idx="2"/>
              </p:cNvCxnSpPr>
              <p:nvPr/>
            </p:nvCxnSpPr>
            <p:spPr>
              <a:xfrm flipV="1">
                <a:off x="5295600" y="3962160"/>
                <a:ext cx="1080" cy="381600"/>
              </a:xfrm>
              <a:prstGeom prst="straightConnector1">
                <a:avLst/>
              </a:prstGeom>
              <a:ln w="9360">
                <a:solidFill>
                  <a:srgbClr val="000000"/>
                </a:solidFill>
                <a:miter/>
                <a:tailEnd len="med" type="triangle" w="med"/>
              </a:ln>
            </p:spPr>
          </p:cxnSp>
          <p:cxnSp>
            <p:nvCxnSpPr>
              <p:cNvPr id="454" name=""/>
              <p:cNvCxnSpPr>
                <a:stCxn id="438" idx="0"/>
                <a:endCxn id="433" idx="2"/>
              </p:cNvCxnSpPr>
              <p:nvPr/>
            </p:nvCxnSpPr>
            <p:spPr>
              <a:xfrm flipV="1">
                <a:off x="6286320" y="3962160"/>
                <a:ext cx="1080" cy="381600"/>
              </a:xfrm>
              <a:prstGeom prst="straightConnector1">
                <a:avLst/>
              </a:prstGeom>
              <a:ln w="9360">
                <a:solidFill>
                  <a:srgbClr val="000000"/>
                </a:solidFill>
                <a:miter/>
                <a:tailEnd len="med" type="triangle" w="med"/>
              </a:ln>
            </p:spPr>
          </p:cxnSp>
          <p:cxnSp>
            <p:nvCxnSpPr>
              <p:cNvPr id="455" name=""/>
              <p:cNvCxnSpPr>
                <a:stCxn id="433" idx="0"/>
                <a:endCxn id="435" idx="2"/>
              </p:cNvCxnSpPr>
              <p:nvPr/>
            </p:nvCxnSpPr>
            <p:spPr>
              <a:xfrm flipH="1" flipV="1">
                <a:off x="5371920" y="3276360"/>
                <a:ext cx="915120" cy="381600"/>
              </a:xfrm>
              <a:prstGeom prst="straightConnector1">
                <a:avLst/>
              </a:prstGeom>
              <a:ln w="9360">
                <a:solidFill>
                  <a:srgbClr val="000000"/>
                </a:solidFill>
                <a:miter/>
                <a:tailEnd len="med" type="triangle" w="med"/>
              </a:ln>
            </p:spPr>
          </p:cxnSp>
          <p:cxnSp>
            <p:nvCxnSpPr>
              <p:cNvPr id="456" name=""/>
              <p:cNvCxnSpPr>
                <a:stCxn id="437" idx="0"/>
                <a:endCxn id="435" idx="2"/>
              </p:cNvCxnSpPr>
              <p:nvPr/>
            </p:nvCxnSpPr>
            <p:spPr>
              <a:xfrm flipV="1">
                <a:off x="5295960" y="3276360"/>
                <a:ext cx="76680" cy="381600"/>
              </a:xfrm>
              <a:prstGeom prst="straightConnector1">
                <a:avLst/>
              </a:prstGeom>
              <a:ln w="9360">
                <a:solidFill>
                  <a:srgbClr val="000000"/>
                </a:solidFill>
                <a:miter/>
                <a:tailEnd len="med" type="triangle" w="med"/>
              </a:ln>
            </p:spPr>
          </p:cxnSp>
        </p:grpSp>
        <p:cxnSp>
          <p:nvCxnSpPr>
            <p:cNvPr id="457" name=""/>
            <p:cNvCxnSpPr>
              <a:stCxn id="417" idx="0"/>
              <a:endCxn id="414" idx="2"/>
            </p:cNvCxnSpPr>
            <p:nvPr/>
          </p:nvCxnSpPr>
          <p:spPr>
            <a:xfrm flipV="1">
              <a:off x="2781360" y="3276360"/>
              <a:ext cx="534240" cy="381600"/>
            </a:xfrm>
            <a:prstGeom prst="straightConnector1">
              <a:avLst/>
            </a:prstGeom>
            <a:ln w="9360">
              <a:solidFill>
                <a:srgbClr val="000000"/>
              </a:solidFill>
              <a:miter/>
              <a:tailEnd len="med" type="triangle" w="med"/>
            </a:ln>
          </p:spPr>
        </p:cxnSp>
        <p:cxnSp>
          <p:nvCxnSpPr>
            <p:cNvPr id="458" name=""/>
            <p:cNvCxnSpPr>
              <a:stCxn id="416" idx="0"/>
              <a:endCxn id="414" idx="2"/>
            </p:cNvCxnSpPr>
            <p:nvPr/>
          </p:nvCxnSpPr>
          <p:spPr>
            <a:xfrm flipH="1" flipV="1">
              <a:off x="3314160" y="3276360"/>
              <a:ext cx="533880" cy="381600"/>
            </a:xfrm>
            <a:prstGeom prst="straightConnector1">
              <a:avLst/>
            </a:prstGeom>
            <a:ln w="9360">
              <a:solidFill>
                <a:srgbClr val="000000"/>
              </a:solidFill>
              <a:miter/>
              <a:tailEnd len="med" type="triangle" w="med"/>
            </a:ln>
          </p:spPr>
        </p:cxnSp>
        <p:cxnSp>
          <p:nvCxnSpPr>
            <p:cNvPr id="459" name=""/>
            <p:cNvCxnSpPr>
              <a:stCxn id="421" idx="0"/>
              <a:endCxn id="417" idx="2"/>
            </p:cNvCxnSpPr>
            <p:nvPr/>
          </p:nvCxnSpPr>
          <p:spPr>
            <a:xfrm flipV="1">
              <a:off x="2247840" y="3962160"/>
              <a:ext cx="534240" cy="381600"/>
            </a:xfrm>
            <a:prstGeom prst="straightConnector1">
              <a:avLst/>
            </a:prstGeom>
            <a:ln w="9360">
              <a:solidFill>
                <a:srgbClr val="000000"/>
              </a:solidFill>
              <a:miter/>
              <a:tailEnd len="med" type="triangle" w="med"/>
            </a:ln>
          </p:spPr>
        </p:cxnSp>
        <p:cxnSp>
          <p:nvCxnSpPr>
            <p:cNvPr id="460" name=""/>
            <p:cNvCxnSpPr>
              <a:stCxn id="420" idx="0"/>
              <a:endCxn id="417" idx="2"/>
            </p:cNvCxnSpPr>
            <p:nvPr/>
          </p:nvCxnSpPr>
          <p:spPr>
            <a:xfrm flipH="1" flipV="1">
              <a:off x="2781000" y="3962160"/>
              <a:ext cx="534240" cy="381600"/>
            </a:xfrm>
            <a:prstGeom prst="straightConnector1">
              <a:avLst/>
            </a:prstGeom>
            <a:ln w="9360">
              <a:solidFill>
                <a:srgbClr val="000000"/>
              </a:solidFill>
              <a:miter/>
              <a:tailEnd len="med" type="triangle" w="med"/>
            </a:ln>
          </p:spPr>
        </p:cxnSp>
        <p:cxnSp>
          <p:nvCxnSpPr>
            <p:cNvPr id="461" name=""/>
            <p:cNvCxnSpPr>
              <a:stCxn id="419" idx="0"/>
              <a:endCxn id="416" idx="2"/>
            </p:cNvCxnSpPr>
            <p:nvPr/>
          </p:nvCxnSpPr>
          <p:spPr>
            <a:xfrm flipH="1" flipV="1">
              <a:off x="3847680" y="3962160"/>
              <a:ext cx="457920" cy="381600"/>
            </a:xfrm>
            <a:prstGeom prst="straightConnector1">
              <a:avLst/>
            </a:prstGeom>
            <a:ln w="9360">
              <a:solidFill>
                <a:srgbClr val="000000"/>
              </a:solidFill>
              <a:miter/>
              <a:tailEnd len="med" type="triangle" w="med"/>
            </a:ln>
          </p:spPr>
        </p:cxnSp>
      </p:grpSp>
      <p:grpSp>
        <p:nvGrpSpPr>
          <p:cNvPr id="462" name=""/>
          <p:cNvGrpSpPr/>
          <p:nvPr/>
        </p:nvGrpSpPr>
        <p:grpSpPr>
          <a:xfrm>
            <a:off x="6858000" y="2286000"/>
            <a:ext cx="1828800" cy="2362320"/>
            <a:chOff x="6858000" y="2286000"/>
            <a:chExt cx="1828800" cy="2362320"/>
          </a:xfrm>
        </p:grpSpPr>
        <p:sp>
          <p:nvSpPr>
            <p:cNvPr id="463" name=""/>
            <p:cNvSpPr/>
            <p:nvPr/>
          </p:nvSpPr>
          <p:spPr>
            <a:xfrm>
              <a:off x="6858000" y="228600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آنية</a:t>
              </a:r>
              <a:endParaRPr b="0" lang="en-US" sz="1600" spc="-1" strike="noStrike">
                <a:solidFill>
                  <a:srgbClr val="000000"/>
                </a:solidFill>
                <a:latin typeface="Arial"/>
              </a:endParaRPr>
            </a:p>
          </p:txBody>
        </p:sp>
        <p:sp>
          <p:nvSpPr>
            <p:cNvPr id="464" name=""/>
            <p:cNvSpPr/>
            <p:nvPr/>
          </p:nvSpPr>
          <p:spPr>
            <a:xfrm>
              <a:off x="6858000" y="312408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تحتية</a:t>
              </a:r>
              <a:endParaRPr b="0" lang="en-US" sz="1600" spc="-1" strike="noStrike">
                <a:solidFill>
                  <a:srgbClr val="000000"/>
                </a:solidFill>
                <a:latin typeface="Arial"/>
              </a:endParaRPr>
            </a:p>
          </p:txBody>
        </p:sp>
        <p:sp>
          <p:nvSpPr>
            <p:cNvPr id="465" name=""/>
            <p:cNvSpPr/>
            <p:nvPr/>
          </p:nvSpPr>
          <p:spPr>
            <a:xfrm>
              <a:off x="6934320" y="4343400"/>
              <a:ext cx="1752480" cy="30492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Times New Roman"/>
                  <a:cs typeface="Times New Roman"/>
                </a:rPr>
                <a:t>الأسباب الجذرية</a:t>
              </a:r>
              <a:endParaRPr b="0" lang="en-US" sz="1600" spc="-1" strike="noStrike">
                <a:solidFill>
                  <a:srgbClr val="000000"/>
                </a:solidFill>
                <a:latin typeface="Arial"/>
              </a:endParaRPr>
            </a:p>
          </p:txBody>
        </p:sp>
      </p:grpSp>
      <p:sp>
        <p:nvSpPr>
          <p:cNvPr id="466" name=""/>
          <p:cNvSpPr/>
          <p:nvPr/>
        </p:nvSpPr>
        <p:spPr>
          <a:xfrm>
            <a:off x="1547640" y="836640"/>
            <a:ext cx="2611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Times New Roman"/>
              </a:rPr>
              <a:t>المشكلة الثانية: تعليم الفتيات</a:t>
            </a:r>
            <a:endParaRPr b="0" lang="en-US" sz="2000" spc="-1" strike="noStrike">
              <a:solidFill>
                <a:srgbClr val="000000"/>
              </a:solidFill>
              <a:latin typeface="Arial"/>
            </a:endParaRPr>
          </a:p>
        </p:txBody>
      </p:sp>
      <p:sp>
        <p:nvSpPr>
          <p:cNvPr id="467" name=""/>
          <p:cNvSpPr/>
          <p:nvPr/>
        </p:nvSpPr>
        <p:spPr>
          <a:xfrm>
            <a:off x="4572000" y="836640"/>
            <a:ext cx="41767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مشكلة الأولى: فيروس نقص المناعة المكتسبة/الإيدز</a:t>
            </a:r>
            <a:endParaRPr b="0" lang="en-US" sz="1800" spc="-1" strike="noStrike">
              <a:solidFill>
                <a:srgbClr val="000000"/>
              </a:solidFill>
              <a:latin typeface="Arial"/>
            </a:endParaRPr>
          </a:p>
        </p:txBody>
      </p:sp>
      <p:grpSp>
        <p:nvGrpSpPr>
          <p:cNvPr id="468" name=""/>
          <p:cNvGrpSpPr/>
          <p:nvPr/>
        </p:nvGrpSpPr>
        <p:grpSpPr>
          <a:xfrm>
            <a:off x="1447560" y="2438280"/>
            <a:ext cx="3581640" cy="3276720"/>
            <a:chOff x="1447560" y="2438280"/>
            <a:chExt cx="3581640" cy="3276720"/>
          </a:xfrm>
        </p:grpSpPr>
        <p:grpSp>
          <p:nvGrpSpPr>
            <p:cNvPr id="469" name=""/>
            <p:cNvGrpSpPr/>
            <p:nvPr/>
          </p:nvGrpSpPr>
          <p:grpSpPr>
            <a:xfrm>
              <a:off x="1447560" y="2438280"/>
              <a:ext cx="3581640" cy="2286000"/>
              <a:chOff x="1447560" y="2438280"/>
              <a:chExt cx="3581640" cy="2286000"/>
            </a:xfrm>
          </p:grpSpPr>
          <p:sp>
            <p:nvSpPr>
              <p:cNvPr id="470" name=""/>
              <p:cNvSpPr/>
              <p:nvPr/>
            </p:nvSpPr>
            <p:spPr>
              <a:xfrm flipH="1">
                <a:off x="1447560" y="2438280"/>
                <a:ext cx="190476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523880" y="4724280"/>
                <a:ext cx="350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352680" y="2438280"/>
                <a:ext cx="167652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1600200" y="4952880"/>
              <a:ext cx="3352680" cy="762120"/>
            </a:xfrm>
            <a:prstGeom prst="rect">
              <a:avLst/>
            </a:prstGeom>
            <a:solidFill>
              <a:srgbClr val="00ff00"/>
            </a:solidFill>
            <a:ln w="9360">
              <a:solidFill>
                <a:srgbClr val="008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مجال المشكلة الأساس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تمييز في النوع الاجتماعي</a:t>
              </a:r>
              <a:endParaRPr b="0" lang="en-US" sz="2000" spc="-1" strike="noStrike">
                <a:solidFill>
                  <a:srgbClr val="000000"/>
                </a:solidFill>
                <a:latin typeface="Arial"/>
              </a:endParaRPr>
            </a:p>
          </p:txBody>
        </p:sp>
      </p:grpSp>
      <p:sp>
        <p:nvSpPr>
          <p:cNvPr id="2" name="PlaceHolder 1"/>
          <p:cNvSpPr>
            <a:spLocks noGrp="1"/>
          </p:cNvSpPr>
          <p:nvPr>
            <p:ph type="ftr" idx="2"/>
          </p:nvPr>
        </p:nvSpPr>
        <p:spPr/>
        <p:txBody>
          <a:bodyPr/>
          <a:p>
            <a:r>
              <a:t>81</a:t>
            </a: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74" name=""/>
          <p:cNvSpPr/>
          <p:nvPr/>
        </p:nvSpPr>
        <p:spPr>
          <a:xfrm>
            <a:off x="900000" y="1916280"/>
            <a:ext cx="7056720" cy="4597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Tahoma"/>
                <a:cs typeface="Simplified Arabic"/>
              </a:rPr>
              <a:t>أحد تحديات التنمية / عدم إحقاق الحقوق</a:t>
            </a:r>
            <a:endParaRPr b="0" lang="en-US" sz="2400" spc="-1" strike="noStrike">
              <a:solidFill>
                <a:srgbClr val="000000"/>
              </a:solidFill>
              <a:latin typeface="Arial"/>
            </a:endParaRPr>
          </a:p>
        </p:txBody>
      </p:sp>
      <p:grpSp>
        <p:nvGrpSpPr>
          <p:cNvPr id="475" name=""/>
          <p:cNvGrpSpPr/>
          <p:nvPr/>
        </p:nvGrpSpPr>
        <p:grpSpPr>
          <a:xfrm>
            <a:off x="990720" y="2438280"/>
            <a:ext cx="6629400" cy="3505320"/>
            <a:chOff x="990720" y="2438280"/>
            <a:chExt cx="6629400" cy="3505320"/>
          </a:xfrm>
        </p:grpSpPr>
        <p:sp>
          <p:nvSpPr>
            <p:cNvPr id="476" name=""/>
            <p:cNvSpPr/>
            <p:nvPr/>
          </p:nvSpPr>
          <p:spPr>
            <a:xfrm>
              <a:off x="1371600" y="5029200"/>
              <a:ext cx="5943600" cy="73008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t">
              <a:spAutoFit/>
            </a:bodyPr>
            <a:p>
              <a:pPr algn="ct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أسباب الهيكلية/الأساسية</a:t>
              </a:r>
              <a:endParaRPr b="0" lang="en-US" sz="1800" spc="-1" strike="noStrike">
                <a:solidFill>
                  <a:srgbClr val="000000"/>
                </a:solidFill>
                <a:latin typeface="Arial"/>
              </a:endParaRPr>
            </a:p>
            <a:p>
              <a:pPr algn="ct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ea typeface="Simplified Arabic"/>
                </a:rPr>
                <a:t>”المجتمع، السياسات، الموارد“</a:t>
              </a:r>
              <a:endParaRPr b="0" lang="en-US" sz="1800" spc="-1" strike="noStrike">
                <a:solidFill>
                  <a:srgbClr val="000000"/>
                </a:solidFill>
                <a:latin typeface="Arial"/>
              </a:endParaRPr>
            </a:p>
          </p:txBody>
        </p:sp>
        <p:sp>
          <p:nvSpPr>
            <p:cNvPr id="477" name=""/>
            <p:cNvSpPr/>
            <p:nvPr/>
          </p:nvSpPr>
          <p:spPr>
            <a:xfrm>
              <a:off x="1600200" y="3809880"/>
              <a:ext cx="5638680" cy="7401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ahoma"/>
                  <a:cs typeface="Simplified Arabic"/>
                </a:rPr>
                <a:t>الأسباب التحتية</a:t>
              </a:r>
              <a:endParaRPr b="0" lang="en-US" sz="2000" spc="-1" strike="noStrike">
                <a:solidFill>
                  <a:srgbClr val="000000"/>
                </a:solidFill>
                <a:latin typeface="Arial"/>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ahoma"/>
                  <a:ea typeface="Simplified Arabic"/>
                </a:rPr>
                <a:t>”الخدمات، إمكانية الوصول، الممارسات“</a:t>
              </a:r>
              <a:endParaRPr b="0" lang="en-US" sz="2000" spc="-1" strike="noStrike">
                <a:solidFill>
                  <a:srgbClr val="000000"/>
                </a:solidFill>
                <a:latin typeface="Arial"/>
              </a:endParaRPr>
            </a:p>
          </p:txBody>
        </p:sp>
        <p:sp>
          <p:nvSpPr>
            <p:cNvPr id="478" name=""/>
            <p:cNvSpPr/>
            <p:nvPr/>
          </p:nvSpPr>
          <p:spPr>
            <a:xfrm>
              <a:off x="1523880" y="2590920"/>
              <a:ext cx="5562720" cy="785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cs typeface="Simplified Arabic"/>
                </a:rPr>
                <a:t>الأسباب الآنية</a:t>
              </a:r>
              <a:endParaRPr b="0" lang="en-US" sz="1800" spc="-1" strike="noStrike">
                <a:solidFill>
                  <a:srgbClr val="000000"/>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ahoma"/>
                  <a:ea typeface="Simplified Arabic"/>
                </a:rPr>
                <a:t>”الوضع، والتأثيرات المباشرة“</a:t>
              </a:r>
              <a:endParaRPr b="0" lang="en-US" sz="1800" spc="-1" strike="noStrike">
                <a:solidFill>
                  <a:srgbClr val="000000"/>
                </a:solidFill>
                <a:latin typeface="Arial"/>
              </a:endParaRPr>
            </a:p>
          </p:txBody>
        </p:sp>
        <p:sp>
          <p:nvSpPr>
            <p:cNvPr id="479" name=""/>
            <p:cNvSpPr/>
            <p:nvPr/>
          </p:nvSpPr>
          <p:spPr>
            <a:xfrm>
              <a:off x="990720" y="2438280"/>
              <a:ext cx="1039680" cy="3505320"/>
            </a:xfrm>
            <a:prstGeom prst="upArrow">
              <a:avLst>
                <a:gd name="adj1" fmla="val 50000"/>
                <a:gd name="adj2" fmla="val 84288"/>
              </a:avLst>
            </a:prstGeom>
            <a:gradFill rotWithShape="0">
              <a:gsLst>
                <a:gs pos="0">
                  <a:srgbClr val="6699ff"/>
                </a:gs>
                <a:gs pos="100000">
                  <a:srgbClr val="cc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580080" y="2438280"/>
              <a:ext cx="1040040" cy="3505320"/>
            </a:xfrm>
            <a:prstGeom prst="upArrow">
              <a:avLst>
                <a:gd name="adj1" fmla="val 50000"/>
                <a:gd name="adj2" fmla="val 84259"/>
              </a:avLst>
            </a:prstGeom>
            <a:gradFill rotWithShape="0">
              <a:gsLst>
                <a:gs pos="0">
                  <a:srgbClr val="6699ff"/>
                </a:gs>
                <a:gs pos="100000">
                  <a:srgbClr val="ccff6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1" name=""/>
          <p:cNvSpPr/>
          <p:nvPr/>
        </p:nvSpPr>
        <p:spPr>
          <a:xfrm>
            <a:off x="1619280" y="404640"/>
            <a:ext cx="594360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imes New Roman"/>
                <a:cs typeface="Times New Roman"/>
              </a:rPr>
              <a:t>التحليل السَّببي : ”لماذا“؟</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74</a:t>
            </a: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475"/>
                                        </p:tgtEl>
                                        <p:attrNameLst>
                                          <p:attrName>style.visibility</p:attrName>
                                        </p:attrNameLst>
                                      </p:cBhvr>
                                      <p:to>
                                        <p:strVal val="visible"/>
                                      </p:to>
                                    </p:set>
                                    <p:anim calcmode="lin" valueType="num">
                                      <p:cBhvr additive="base">
                                        <p:cTn id="190" dur="500" fill="hold"/>
                                        <p:tgtEl>
                                          <p:spTgt spid="475"/>
                                        </p:tgtEl>
                                        <p:attrNameLst>
                                          <p:attrName>ppt_x</p:attrName>
                                        </p:attrNameLst>
                                      </p:cBhvr>
                                      <p:tavLst>
                                        <p:tav tm="0">
                                          <p:val>
                                            <p:strVal val="#ppt_x"/>
                                          </p:val>
                                        </p:tav>
                                        <p:tav tm="100000">
                                          <p:val>
                                            <p:strVal val="#ppt_x"/>
                                          </p:val>
                                        </p:tav>
                                      </p:tavLst>
                                    </p:anim>
                                    <p:anim calcmode="lin" valueType="num">
                                      <p:cBhvr additive="base">
                                        <p:cTn id="191"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050920" y="228240"/>
            <a:ext cx="6553440" cy="111276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تعليمات جماعية: </a:t>
            </a:r>
            <a:br>
              <a:rPr sz="3200"/>
            </a:br>
            <a:r>
              <a:rPr b="1" lang="ar-JO" sz="3200" spc="-1" strike="noStrike">
                <a:solidFill>
                  <a:srgbClr val="000000"/>
                </a:solidFill>
                <a:latin typeface="Arial"/>
                <a:cs typeface="Arial"/>
              </a:rPr>
              <a:t>التحليل السَّببي/ شجرة المشكلات</a:t>
            </a:r>
            <a:r>
              <a:rPr b="0" lang="ar-JO" sz="3200" spc="-1" strike="noStrike">
                <a:solidFill>
                  <a:srgbClr val="000000"/>
                </a:solidFill>
                <a:latin typeface="Arial"/>
              </a:rPr>
              <a:t> </a:t>
            </a:r>
            <a:endParaRPr b="0" lang="en-US" sz="3200" spc="-1" strike="noStrike">
              <a:solidFill>
                <a:srgbClr val="000000"/>
              </a:solidFill>
              <a:latin typeface="Arial"/>
            </a:endParaRPr>
          </a:p>
        </p:txBody>
      </p:sp>
      <p:sp>
        <p:nvSpPr>
          <p:cNvPr id="483" name="PlaceHolder 2"/>
          <p:cNvSpPr>
            <a:spLocks noGrp="1"/>
          </p:cNvSpPr>
          <p:nvPr>
            <p:ph/>
          </p:nvPr>
        </p:nvSpPr>
        <p:spPr>
          <a:xfrm>
            <a:off x="611280" y="1844640"/>
            <a:ext cx="7634160" cy="4648320"/>
          </a:xfrm>
          <a:prstGeom prst="rect">
            <a:avLst/>
          </a:prstGeom>
          <a:solidFill>
            <a:srgbClr val="ffffff"/>
          </a:solidFill>
          <a:ln w="0">
            <a:noFill/>
          </a:ln>
        </p:spPr>
        <p:txBody>
          <a:bodyPr lIns="90000" rIns="90000" tIns="46800" bIns="46800" anchor="t">
            <a:normAutofit/>
          </a:bodyPr>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ختار كل مجموعة هدفاً واحداً من الأهداف الإنمائية للألفية.</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حدِّد المجموعة تحدياً واحداً للتنمية، أو ظاهرة واحدة للمشكلة التي تواجه التنمية. </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ناقش المجموعة وتُحدِّد الأسباب الآنية والتحتية والجذرية للمشكلة. </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بني/ترسم شجرة مشكلات.</a:t>
            </a:r>
            <a:endParaRPr b="0" lang="en-US" sz="2400" spc="-1" strike="noStrike">
              <a:solidFill>
                <a:srgbClr val="000000"/>
              </a:solidFill>
              <a:latin typeface="Times New Roman"/>
            </a:endParaRPr>
          </a:p>
          <a:p>
            <a:pPr marL="343080" indent="-343080" algn="just" rtl="1">
              <a:lnSpc>
                <a:spcPct val="11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ختار سلسلة واحدة من شجرة المشكلات وتُحدِّد الحقوق التي لم يتم إحقاقها. </a:t>
            </a:r>
            <a:endParaRPr b="0" lang="en-US" sz="2400" spc="-1" strike="noStrike">
              <a:solidFill>
                <a:srgbClr val="000000"/>
              </a:solidFill>
              <a:latin typeface="Times New Roman"/>
            </a:endParaRPr>
          </a:p>
        </p:txBody>
      </p:sp>
      <p:sp>
        <p:nvSpPr>
          <p:cNvPr id="484" name=""/>
          <p:cNvSpPr/>
          <p:nvPr/>
        </p:nvSpPr>
        <p:spPr>
          <a:xfrm>
            <a:off x="2484360" y="5130720"/>
            <a:ext cx="3527640" cy="1322640"/>
          </a:xfrm>
          <a:prstGeom prst="wedgeRoundRectCallout">
            <a:avLst>
              <a:gd name="adj1" fmla="val -1171"/>
              <a:gd name="adj2" fmla="val -5101"/>
              <a:gd name="adj3" fmla="val 1666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سوف تُرشِّح كلُّ مجموعة نوعاً اجتماعياً واحداً (ذكراً أو أنثى)، وبطلاً واحداً للنزا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85" name=""/>
          <p:cNvSpPr/>
          <p:nvPr/>
        </p:nvSpPr>
        <p:spPr>
          <a:xfrm>
            <a:off x="1332000" y="1989000"/>
            <a:ext cx="3889440" cy="3672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465120" indent="-290520" algn="r" rtl="1">
              <a:lnSpc>
                <a:spcPct val="7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أصحاب الحقوق</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نْ هُمْ أصحاب الحقوق؟ </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ا هي مطالباتهم؟ </a:t>
            </a:r>
            <a:endParaRPr b="0" lang="en-US" sz="2400" spc="-1" strike="noStrike">
              <a:solidFill>
                <a:srgbClr val="000000"/>
              </a:solidFill>
              <a:latin typeface="Arial"/>
            </a:endParaRPr>
          </a:p>
          <a:p>
            <a:pPr marL="465120" indent="-290520" algn="r" rtl="1">
              <a:lnSpc>
                <a:spcPct val="12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5120" indent="-290520" algn="r" rtl="1">
              <a:lnSpc>
                <a:spcPct val="7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قائمون بالواجبات</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نْ هُمْ القائمون بالواجبات؟ </a:t>
            </a:r>
            <a:endParaRPr b="0" lang="en-US" sz="2400" spc="-1" strike="noStrike">
              <a:solidFill>
                <a:srgbClr val="000000"/>
              </a:solidFill>
              <a:latin typeface="Arial"/>
            </a:endParaRPr>
          </a:p>
          <a:p>
            <a:pPr lvl="1" marL="973080" indent="-23328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ما هي واجباتهم؟ </a:t>
            </a:r>
            <a:endParaRPr b="0" lang="en-US" sz="2400" spc="-1" strike="noStrike">
              <a:solidFill>
                <a:srgbClr val="000000"/>
              </a:solidFill>
              <a:latin typeface="Arial"/>
            </a:endParaRPr>
          </a:p>
        </p:txBody>
      </p:sp>
      <p:sp>
        <p:nvSpPr>
          <p:cNvPr id="486" name="PlaceHolder 1"/>
          <p:cNvSpPr>
            <a:spLocks noGrp="1"/>
          </p:cNvSpPr>
          <p:nvPr>
            <p:ph type="title"/>
          </p:nvPr>
        </p:nvSpPr>
        <p:spPr>
          <a:xfrm>
            <a:off x="1547280" y="259920"/>
            <a:ext cx="7272360" cy="1197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Simplified Arabic"/>
              </a:rPr>
              <a:t>استخدام النهج القائم على حقوق الإنسان في التحليل:</a:t>
            </a:r>
            <a:br>
              <a:rPr sz="3200"/>
            </a:br>
            <a:r>
              <a:rPr b="1" lang="ar-JO" sz="2800" spc="-1" strike="noStrike">
                <a:solidFill>
                  <a:srgbClr val="000000"/>
                </a:solidFill>
                <a:latin typeface="Arial"/>
                <a:cs typeface="Simplified Arabic"/>
              </a:rPr>
              <a:t>تحليل نماذج الأدوار (</a:t>
            </a:r>
            <a:r>
              <a:rPr b="1" lang="ar-JO" sz="2800" spc="-1" strike="noStrike">
                <a:solidFill>
                  <a:srgbClr val="000000"/>
                </a:solidFill>
                <a:latin typeface="Arial"/>
                <a:ea typeface="Simplified Arabic"/>
              </a:rPr>
              <a:t>2</a:t>
            </a:r>
            <a:r>
              <a:rPr b="1" lang="ar-JO" sz="2800" spc="-1" strike="noStrike">
                <a:solidFill>
                  <a:srgbClr val="000000"/>
                </a:solidFill>
                <a:latin typeface="Arial"/>
                <a:ea typeface="Simplified Arabic"/>
              </a:rPr>
              <a:t>)</a:t>
            </a:r>
            <a:r>
              <a:rPr b="1" lang="en-US" sz="3600" spc="-1" strike="noStrike">
                <a:solidFill>
                  <a:srgbClr val="000000"/>
                </a:solidFill>
                <a:latin typeface="Arial"/>
                <a:ea typeface="Simplified Arabic"/>
              </a:rPr>
              <a:t> </a:t>
            </a:r>
            <a:endParaRPr b="0" lang="en-US" sz="3600" spc="-1" strike="noStrike">
              <a:solidFill>
                <a:srgbClr val="000000"/>
              </a:solidFill>
              <a:latin typeface="Arial"/>
            </a:endParaRPr>
          </a:p>
        </p:txBody>
      </p:sp>
      <p:sp>
        <p:nvSpPr>
          <p:cNvPr id="487" name=""/>
          <p:cNvSpPr/>
          <p:nvPr/>
        </p:nvSpPr>
        <p:spPr>
          <a:xfrm flipH="1">
            <a:off x="9395640" y="2276640"/>
            <a:ext cx="71640" cy="439236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724360" y="1989000"/>
            <a:ext cx="3059280" cy="1224000"/>
          </a:xfrm>
          <a:prstGeom prst="wedgeRectCallout">
            <a:avLst>
              <a:gd name="adj1" fmla="val -57837"/>
              <a:gd name="adj2" fmla="val 69194"/>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Arial"/>
              </a:rPr>
              <a:t>راجع ما تنص عليه معايير حقوق الإنسان بالنسبة إلى أصحاب الحقوق وواجباتهم</a:t>
            </a:r>
            <a:r>
              <a:rPr b="1" lang="en-US" sz="2000" spc="-1" strike="noStrike">
                <a:solidFill>
                  <a:srgbClr val="6600ff"/>
                </a:solidFill>
                <a:latin typeface="Arial"/>
                <a:ea typeface="Arial"/>
              </a:rPr>
              <a:t> </a:t>
            </a:r>
            <a:endParaRPr b="0" lang="en-US" sz="2000" spc="-1" strike="noStrike">
              <a:solidFill>
                <a:srgbClr val="000000"/>
              </a:solidFill>
              <a:latin typeface="Arial"/>
            </a:endParaRPr>
          </a:p>
        </p:txBody>
      </p:sp>
      <p:sp>
        <p:nvSpPr>
          <p:cNvPr id="489" name=""/>
          <p:cNvSpPr/>
          <p:nvPr/>
        </p:nvSpPr>
        <p:spPr>
          <a:xfrm>
            <a:off x="5580000" y="3716280"/>
            <a:ext cx="3313080" cy="1800360"/>
          </a:xfrm>
          <a:prstGeom prst="wedgeRoundRectCallout">
            <a:avLst>
              <a:gd name="adj1" fmla="val -53259"/>
              <a:gd name="adj2" fmla="val -57231"/>
              <a:gd name="adj3" fmla="val 1666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Arial"/>
              </a:rPr>
              <a:t>راجع أيضاً ماهية الأدوار المتوقَّعة من كلٍّ من أصحاب الحقوق والقائمين بالواجبات في القوانين والإجراءات والسياسات الوطنية</a:t>
            </a:r>
            <a:r>
              <a:rPr b="1" lang="en-US" sz="2000" spc="-1" strike="noStrike">
                <a:solidFill>
                  <a:srgbClr val="6600ff"/>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488"/>
                                        </p:tgtEl>
                                        <p:attrNameLst>
                                          <p:attrName>style.visibility</p:attrName>
                                        </p:attrNameLst>
                                      </p:cBhvr>
                                      <p:to>
                                        <p:strVal val="visible"/>
                                      </p:to>
                                    </p:set>
                                    <p:animEffect filter="box(in)" transition="in">
                                      <p:cBhvr additive="repl">
                                        <p:cTn id="198" dur="500"/>
                                        <p:tgtEl>
                                          <p:spTgt spid="48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489"/>
                                        </p:tgtEl>
                                        <p:attrNameLst>
                                          <p:attrName>style.visibility</p:attrName>
                                        </p:attrNameLst>
                                      </p:cBhvr>
                                      <p:to>
                                        <p:strVal val="visible"/>
                                      </p:to>
                                    </p:set>
                                    <p:animEffect filter="box(in)" transition="in">
                                      <p:cBhvr additive="repl">
                                        <p:cTn id="203"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0" name=""/>
          <p:cNvSpPr/>
          <p:nvPr/>
        </p:nvSpPr>
        <p:spPr>
          <a:xfrm flipH="1">
            <a:off x="-324720" y="2205000"/>
            <a:ext cx="71640" cy="367200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1547280" y="259920"/>
            <a:ext cx="7417080" cy="1197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ستخدام النهج القائم على حقوق الإنسان في التحليل: </a:t>
            </a:r>
            <a:br>
              <a:rPr sz="3200"/>
            </a:br>
            <a:r>
              <a:rPr b="1" lang="ar-JO" sz="3200" spc="-1" strike="noStrike">
                <a:solidFill>
                  <a:srgbClr val="000000"/>
                </a:solidFill>
                <a:latin typeface="Arial"/>
                <a:cs typeface="Arial"/>
              </a:rPr>
              <a:t>تحليل الفجوات في القدرات (</a:t>
            </a:r>
            <a:r>
              <a:rPr b="1" lang="ar-JO" sz="3200" spc="-1" strike="noStrike">
                <a:solidFill>
                  <a:srgbClr val="000000"/>
                </a:solidFill>
                <a:latin typeface="Arial"/>
                <a:ea typeface="Arial"/>
              </a:rPr>
              <a:t>3</a:t>
            </a:r>
            <a:r>
              <a:rPr b="1" lang="ar-JO"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492" name=""/>
          <p:cNvSpPr/>
          <p:nvPr/>
        </p:nvSpPr>
        <p:spPr>
          <a:xfrm>
            <a:off x="684360" y="1916280"/>
            <a:ext cx="4105080" cy="4392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636480" indent="-371520"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فجوات في القدرات</a:t>
            </a:r>
            <a:r>
              <a:rPr b="1" lang="ar-JO" sz="2400" spc="-1" strike="noStrike">
                <a:solidFill>
                  <a:srgbClr val="6600ff"/>
                </a:solidFill>
                <a:latin typeface="Arial"/>
                <a:ea typeface="Arial"/>
              </a:rPr>
              <a:t>: </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معرفة.</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مسؤولية / الدافعية / القيادة.</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سلطة. </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إمكانية الوصول إلى الموارد والسيطرة عليها.</a:t>
            </a:r>
            <a:endParaRPr b="0" lang="en-US" sz="2400" spc="-1" strike="noStrike">
              <a:solidFill>
                <a:srgbClr val="000000"/>
              </a:solidFill>
              <a:latin typeface="Arial"/>
            </a:endParaRPr>
          </a:p>
          <a:p>
            <a:pPr marL="636480" indent="-371520" algn="r" rtl="1">
              <a:lnSpc>
                <a:spcPct val="11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Arial"/>
              </a:rPr>
              <a:t>الفجوات في الأنظمة الوطنية لحماية حقوق الإنسان.</a:t>
            </a:r>
            <a:endParaRPr b="0" lang="en-US" sz="2400" spc="-1" strike="noStrike">
              <a:solidFill>
                <a:srgbClr val="000000"/>
              </a:solidFill>
              <a:latin typeface="Arial"/>
            </a:endParaRPr>
          </a:p>
        </p:txBody>
      </p:sp>
      <p:sp>
        <p:nvSpPr>
          <p:cNvPr id="493" name=""/>
          <p:cNvSpPr/>
          <p:nvPr/>
        </p:nvSpPr>
        <p:spPr>
          <a:xfrm>
            <a:off x="5148360" y="2637000"/>
            <a:ext cx="3744720" cy="1439640"/>
          </a:xfrm>
          <a:prstGeom prst="wedgeRectCallout">
            <a:avLst>
              <a:gd name="adj1" fmla="val -60680"/>
              <a:gd name="adj2" fmla="val -84837"/>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تنمية القدرات ليست عملية فنية فحسب، بل هي عملية تستلزم التغيير السياسي والمجتمعي والقانوني والمؤسسي أيضاً. </a:t>
            </a:r>
            <a:endParaRPr b="0" lang="en-US" sz="2000" spc="-1" strike="noStrike">
              <a:solidFill>
                <a:srgbClr val="000000"/>
              </a:solidFill>
              <a:latin typeface="Arial"/>
            </a:endParaRPr>
          </a:p>
        </p:txBody>
      </p:sp>
      <p:sp>
        <p:nvSpPr>
          <p:cNvPr id="494" name=""/>
          <p:cNvSpPr/>
          <p:nvPr/>
        </p:nvSpPr>
        <p:spPr>
          <a:xfrm>
            <a:off x="5148360" y="4941720"/>
            <a:ext cx="3671640" cy="1008360"/>
          </a:xfrm>
          <a:prstGeom prst="wedgeRectCallout">
            <a:avLst>
              <a:gd name="adj1" fmla="val -12384"/>
              <a:gd name="adj2" fmla="val 47009"/>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4680" algn="just" rtl="1">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6600ff"/>
                </a:solidFill>
                <a:latin typeface="Arial"/>
                <a:cs typeface="Simplified Arabic"/>
              </a:rPr>
              <a:t>تستطيع هيئات المعاهدة والإجراءات الخاصة تحديد الفجوات في القدر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493"/>
                                        </p:tgtEl>
                                        <p:attrNameLst>
                                          <p:attrName>style.visibility</p:attrName>
                                        </p:attrNameLst>
                                      </p:cBhvr>
                                      <p:to>
                                        <p:strVal val="visible"/>
                                      </p:to>
                                    </p:set>
                                    <p:animEffect filter="box(in)" transition="in">
                                      <p:cBhvr additive="repl">
                                        <p:cTn id="210" dur="500"/>
                                        <p:tgtEl>
                                          <p:spTgt spid="49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494"/>
                                        </p:tgtEl>
                                        <p:attrNameLst>
                                          <p:attrName>style.visibility</p:attrName>
                                        </p:attrNameLst>
                                      </p:cBhvr>
                                      <p:to>
                                        <p:strVal val="visible"/>
                                      </p:to>
                                    </p:set>
                                    <p:animEffect filter="box(in)" transition="in">
                                      <p:cBhvr additive="repl">
                                        <p:cTn id="215"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547280" y="404280"/>
            <a:ext cx="719316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تعليمات جماعية: </a:t>
            </a:r>
            <a:br>
              <a:rPr sz="2800"/>
            </a:br>
            <a:r>
              <a:rPr b="1" lang="ar-JO" sz="2800" spc="-1" strike="noStrike">
                <a:solidFill>
                  <a:srgbClr val="000000"/>
                </a:solidFill>
                <a:latin typeface="Arial"/>
                <a:cs typeface="Simplified Arabic"/>
              </a:rPr>
              <a:t>تحليل الفجوات في القدرات والأدوار</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96" name="PlaceHolder 2"/>
          <p:cNvSpPr>
            <a:spLocks noGrp="1"/>
          </p:cNvSpPr>
          <p:nvPr>
            <p:ph/>
          </p:nvPr>
        </p:nvSpPr>
        <p:spPr>
          <a:xfrm>
            <a:off x="611280" y="2205000"/>
            <a:ext cx="7416720" cy="3888000"/>
          </a:xfrm>
          <a:prstGeom prst="rect">
            <a:avLst/>
          </a:prstGeom>
          <a:solidFill>
            <a:srgbClr val="ffffff"/>
          </a:solidFill>
          <a:ln w="0">
            <a:noFill/>
          </a:ln>
        </p:spPr>
        <p:txBody>
          <a:bodyPr lIns="90000" rIns="90000" tIns="46800" bIns="46800" anchor="t">
            <a:normAutofit fontScale="94000"/>
          </a:bodyPr>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استخدم السلسلة السَّببية ذاتها التي حدَّدْتَ لها الحقوق التي لم يتم إحقاقها. </a:t>
            </a:r>
            <a:endParaRPr b="0" lang="en-US" sz="2800" spc="-1" strike="noStrike">
              <a:solidFill>
                <a:srgbClr val="000000"/>
              </a:solidFill>
              <a:latin typeface="Times New Roman"/>
            </a:endParaRPr>
          </a:p>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حدِّد أصحاب الحقوق والقائمين بالواجبات وأدوارهم ومسؤولياتهم. </a:t>
            </a:r>
            <a:endParaRPr b="0" lang="en-US" sz="2800" spc="-1" strike="noStrike">
              <a:solidFill>
                <a:srgbClr val="000000"/>
              </a:solidFill>
              <a:latin typeface="Times New Roman"/>
            </a:endParaRPr>
          </a:p>
          <a:p>
            <a:pPr marL="322200" indent="-322200" algn="just" rtl="1">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Simplified Arabic"/>
              </a:rPr>
              <a:t>حدِّد العناصر ذات العلاقة بفجوات القدرات، واكتبها على ورق لوحة قلابة (باستخدام نموذج الجدو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836360" y="259920"/>
            <a:ext cx="6480360" cy="114300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ختيار مجالات التعاون – التحليل الاستراتيجي</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98" name="PlaceHolder 2"/>
          <p:cNvSpPr>
            <a:spLocks noGrp="1"/>
          </p:cNvSpPr>
          <p:nvPr>
            <p:ph/>
          </p:nvPr>
        </p:nvSpPr>
        <p:spPr>
          <a:xfrm>
            <a:off x="755640" y="1988640"/>
            <a:ext cx="7632720" cy="4535640"/>
          </a:xfrm>
          <a:prstGeom prst="rect">
            <a:avLst/>
          </a:prstGeom>
          <a:solidFill>
            <a:srgbClr val="ffffff"/>
          </a:solidFill>
          <a:ln w="0">
            <a:noFill/>
          </a:ln>
          <a:effectLst>
            <a:outerShdw dist="40186" dir="4303641" blurRad="0" rotWithShape="0">
              <a:srgbClr val="808080"/>
            </a:outerShdw>
          </a:effectLst>
        </p:spPr>
        <p:txBody>
          <a:bodyPr lIns="90000" rIns="90000" tIns="46800" bIns="46800" anchor="t">
            <a:normAutofit/>
          </a:bodyPr>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000000"/>
                </a:solidFill>
                <a:uFillTx/>
                <a:latin typeface="Times New Roman"/>
                <a:cs typeface="Simplified Arabic"/>
              </a:rPr>
              <a:t>تحليل الميزة التنافسية للأمم المتحدة:</a:t>
            </a:r>
            <a:r>
              <a:rPr b="0" lang="ar-JO" sz="2800" spc="-1" strike="noStrike">
                <a:solidFill>
                  <a:srgbClr val="000000"/>
                </a:solidFill>
                <a:latin typeface="Times New Roman"/>
                <a:ea typeface="Simplified Arabic"/>
              </a:rPr>
              <a:t> </a:t>
            </a:r>
            <a:endParaRPr b="0" lang="en-US" sz="28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تقديم الخدمات مباشرة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تأييد والحشد الاجتماعي</a:t>
            </a:r>
            <a:endParaRPr b="0" lang="en-US" sz="24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علومات والوعي.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تدريب والتعليم</a:t>
            </a:r>
            <a:endParaRPr b="0" lang="en-US" sz="2400" spc="-1" strike="noStrike">
              <a:solidFill>
                <a:srgbClr val="000000"/>
              </a:solidFill>
              <a:latin typeface="Times New Roman"/>
            </a:endParaRPr>
          </a:p>
          <a:p>
            <a:pPr marL="343080" indent="-34308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Simplified Arabic"/>
              </a:rPr>
              <a:t>المتابعة والملاحظة.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2400" spc="-1" strike="noStrike">
                <a:solidFill>
                  <a:srgbClr val="000000"/>
                </a:solidFill>
                <a:latin typeface="Times New Roman"/>
                <a:ea typeface="Simplified Arabic"/>
              </a:rPr>
              <a:t> </a:t>
            </a:r>
            <a:r>
              <a:rPr b="0" lang="ar-JO" sz="1800" spc="-1" strike="noStrike">
                <a:solidFill>
                  <a:srgbClr val="000000"/>
                </a:solidFill>
                <a:latin typeface="Wingdings"/>
                <a:ea typeface="Wingdings"/>
              </a:rPr>
              <a:t></a:t>
            </a:r>
            <a:r>
              <a:rPr b="0" lang="ar-JO" sz="2400" spc="-1" strike="noStrike">
                <a:solidFill>
                  <a:srgbClr val="000000"/>
                </a:solidFill>
                <a:latin typeface="Times New Roman"/>
                <a:ea typeface="Simplified Arabic"/>
              </a:rPr>
              <a:t> السياسة والإرشاد القانوني </a:t>
            </a:r>
            <a:endParaRPr b="0" lang="en-US" sz="2400" spc="-1" strike="noStrike">
              <a:solidFill>
                <a:srgbClr val="000000"/>
              </a:solidFill>
              <a:latin typeface="Times New Roman"/>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000000"/>
                </a:solidFill>
                <a:uFillTx/>
                <a:latin typeface="Times New Roman"/>
                <a:cs typeface="Simplified Arabic"/>
              </a:rPr>
              <a:t>تحليل الشراكة: </a:t>
            </a:r>
            <a:endParaRPr b="0" lang="en-US" sz="2800" spc="-1" strike="noStrike">
              <a:solidFill>
                <a:srgbClr val="000000"/>
              </a:solidFill>
              <a:latin typeface="Times New Roman"/>
            </a:endParaRPr>
          </a:p>
          <a:p>
            <a:pPr marL="34308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ar-JO" sz="2000" spc="-1" strike="noStrike">
                <a:solidFill>
                  <a:srgbClr val="000000"/>
                </a:solidFill>
                <a:latin typeface="Times New Roman"/>
                <a:cs typeface="Simplified Arabic"/>
              </a:rPr>
              <a:t>يُوسِّع النهجُ القائم على حقوق الإنسان طيفَ الشركاء، بمن فيهم أولئك الذين ينتمون إلى الأنظمة الوطنية لحماية حقوق الإنسان.</a:t>
            </a:r>
            <a:endParaRPr b="0" lang="en-US" sz="2000" spc="-1" strike="noStrike">
              <a:solidFill>
                <a:srgbClr val="000000"/>
              </a:solidFill>
              <a:latin typeface="Times New Roman"/>
            </a:endParaRPr>
          </a:p>
        </p:txBody>
      </p:sp>
      <p:sp>
        <p:nvSpPr>
          <p:cNvPr id="499" name=""/>
          <p:cNvSpPr/>
          <p:nvPr/>
        </p:nvSpPr>
        <p:spPr>
          <a:xfrm>
            <a:off x="250920" y="1413000"/>
            <a:ext cx="2520720" cy="1081080"/>
          </a:xfrm>
          <a:prstGeom prst="wedgeRectCallout">
            <a:avLst>
              <a:gd name="adj1" fmla="val 67949"/>
              <a:gd name="adj2" fmla="val 7217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6600ff"/>
                </a:solidFill>
                <a:latin typeface="Arial"/>
                <a:cs typeface="Simplified Arabic"/>
              </a:rPr>
              <a:t>يُعزِّز النهج القائم على حقوق الإنسان التحوّل في الممارسة من تقديم الخدمات مباشرة إلى تنمية القدر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499"/>
                                        </p:tgtEl>
                                        <p:attrNameLst>
                                          <p:attrName>style.visibility</p:attrName>
                                        </p:attrNameLst>
                                      </p:cBhvr>
                                      <p:to>
                                        <p:strVal val="visible"/>
                                      </p:to>
                                    </p:set>
                                    <p:animEffect filter="box(in)" transition="in">
                                      <p:cBhvr additive="repl">
                                        <p:cTn id="222"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00" name=""/>
          <p:cNvSpPr/>
          <p:nvPr/>
        </p:nvSpPr>
        <p:spPr>
          <a:xfrm>
            <a:off x="539640" y="2060640"/>
            <a:ext cx="8280360" cy="3744720"/>
          </a:xfrm>
          <a:custGeom>
            <a:avLst/>
            <a:gdLst>
              <a:gd name="textAreaLeft" fmla="*/ 0 w 8280360"/>
              <a:gd name="textAreaRight" fmla="*/ 8280720 w 8280360"/>
              <a:gd name="textAreaTop" fmla="*/ 0 h 3744720"/>
              <a:gd name="textAreaBottom" fmla="*/ 3745080 h 374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5364000" y="2205000"/>
            <a:ext cx="129564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5435640" y="314172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435640" y="400536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435640" y="5229360"/>
            <a:ext cx="1295280" cy="503280"/>
          </a:xfrm>
          <a:prstGeom prst="ellips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PlaceHolder 1"/>
          <p:cNvSpPr>
            <a:spLocks noGrp="1"/>
          </p:cNvSpPr>
          <p:nvPr>
            <p:ph type="title"/>
          </p:nvPr>
        </p:nvSpPr>
        <p:spPr>
          <a:xfrm>
            <a:off x="1584000" y="692280"/>
            <a:ext cx="7559640" cy="1224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ial"/>
              </a:rPr>
              <a:t>استخدام النهج القائم على حقوق الإنسان في التخطيط للبرامج المستندة إلى النتائج</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06" name=""/>
          <p:cNvSpPr/>
          <p:nvPr/>
        </p:nvSpPr>
        <p:spPr>
          <a:xfrm>
            <a:off x="826920" y="2190600"/>
            <a:ext cx="5689800" cy="3672000"/>
          </a:xfrm>
          <a:prstGeom prst="rect">
            <a:avLst/>
          </a:prstGeom>
          <a:noFill/>
          <a:ln w="0">
            <a:noFill/>
          </a:ln>
        </p:spPr>
        <p:style>
          <a:lnRef idx="0"/>
          <a:fillRef idx="0"/>
          <a:effectRef idx="0"/>
          <a:fontRef idx="minor"/>
        </p:style>
        <p:txBody>
          <a:bodyPr lIns="90000" rIns="90000" tIns="46800" bIns="46800" anchor="t">
            <a:noAutofit/>
          </a:bodyPr>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أثر</a:t>
            </a:r>
            <a:r>
              <a:rPr b="0" lang="en-GB" sz="1600" spc="-1" strike="noStrike">
                <a:solidFill>
                  <a:srgbClr val="000000"/>
                </a:solidFill>
                <a:latin typeface="Arial"/>
                <a:ea typeface="Simplified Arabic"/>
              </a:rPr>
              <a:t>:</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إحقاق حقوق الإنسان كما هو منصوص عليها في الأدوات الدولية. </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      ↑</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نتيجة</a:t>
            </a:r>
            <a:r>
              <a:rPr b="1"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زيادة مستوى أداء أصحاب الحقوق والقائمين بالواجبات.</a:t>
            </a:r>
            <a:r>
              <a:rPr b="0" lang="en-US" sz="2400" spc="-1" strike="noStrike">
                <a:solidFill>
                  <a:srgbClr val="000000"/>
                </a:solidFill>
                <a:latin typeface="Times New Roman"/>
                <a:ea typeface="Simplified Arabic"/>
              </a:rPr>
              <a:t> </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      ↑</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مُخرجات</a:t>
            </a:r>
            <a:r>
              <a:rPr b="1"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إسهامك الملموس في تنمية قدرات أصحاب الحقوق والقائمين بالواجبات والأنظمة الوطنية لحماية حقوق الإنسان.</a:t>
            </a:r>
            <a:endParaRPr b="0" lang="en-US" sz="2400" spc="-1" strike="noStrike">
              <a:solidFill>
                <a:srgbClr val="000000"/>
              </a:solidFill>
              <a:latin typeface="Arial"/>
            </a:endParaRPr>
          </a:p>
          <a:p>
            <a:pPr marL="1262160" indent="-1262160" algn="just" rtl="1">
              <a:lnSpc>
                <a:spcPct val="4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Simplified Arabic"/>
              </a:rPr>
              <a:t>   </a:t>
            </a:r>
            <a:r>
              <a:rPr b="0" lang="en-GB" sz="2000" spc="-1" strike="noStrike">
                <a:solidFill>
                  <a:srgbClr val="000000"/>
                </a:solidFill>
                <a:latin typeface="Arial"/>
                <a:ea typeface="Simplified Arabic"/>
              </a:rPr>
              <a:t>↑</a:t>
            </a:r>
            <a:endParaRPr b="0" lang="en-US" sz="2000" spc="-1" strike="noStrike">
              <a:solidFill>
                <a:srgbClr val="000000"/>
              </a:solidFill>
              <a:latin typeface="Arial"/>
            </a:endParaRPr>
          </a:p>
          <a:p>
            <a:pPr marL="1262160" indent="-1262160" algn="just"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Arial"/>
                <a:ea typeface="Simplified Arabic"/>
              </a:rPr>
              <a:t>  العملية</a:t>
            </a:r>
            <a:r>
              <a:rPr b="1" lang="en-GB" sz="1600" spc="-1" strike="noStrike">
                <a:solidFill>
                  <a:srgbClr val="000000"/>
                </a:solidFill>
                <a:latin typeface="Arial"/>
                <a:ea typeface="Simplified Arabic"/>
              </a:rPr>
              <a:t>:</a:t>
            </a:r>
            <a:r>
              <a:rPr b="0" lang="en-GB" sz="1600" spc="-1" strike="noStrike">
                <a:solidFill>
                  <a:srgbClr val="000000"/>
                </a:solidFill>
                <a:latin typeface="Arial"/>
                <a:ea typeface="Simplified Arabic"/>
              </a:rPr>
              <a:t>	</a:t>
            </a:r>
            <a:r>
              <a:rPr b="0" lang="en-GB" sz="1600" spc="-1" strike="noStrike">
                <a:solidFill>
                  <a:srgbClr val="000000"/>
                </a:solidFill>
                <a:latin typeface="Arial"/>
                <a:ea typeface="Simplified Arabic"/>
              </a:rPr>
              <a:t> </a:t>
            </a:r>
            <a:r>
              <a:rPr b="0" lang="ar-JO" sz="2400" spc="-1" strike="noStrike">
                <a:solidFill>
                  <a:srgbClr val="000000"/>
                </a:solidFill>
                <a:latin typeface="Times New Roman"/>
                <a:cs typeface="Simplified Arabic"/>
              </a:rPr>
              <a:t>الاسترشاد بمبادئ حقوق الإنسان.</a:t>
            </a:r>
            <a:endParaRPr b="0" lang="en-US" sz="2400" spc="-1" strike="noStrike">
              <a:solidFill>
                <a:srgbClr val="000000"/>
              </a:solidFill>
              <a:latin typeface="Arial"/>
            </a:endParaRPr>
          </a:p>
        </p:txBody>
      </p:sp>
      <p:sp>
        <p:nvSpPr>
          <p:cNvPr id="507" name=""/>
          <p:cNvSpPr/>
          <p:nvPr/>
        </p:nvSpPr>
        <p:spPr>
          <a:xfrm>
            <a:off x="179280" y="6021360"/>
            <a:ext cx="3600720" cy="649440"/>
          </a:xfrm>
          <a:prstGeom prst="wedgeRectCallout">
            <a:avLst>
              <a:gd name="adj1" fmla="val 75087"/>
              <a:gd name="adj2" fmla="val -35083"/>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6600ff"/>
                </a:solidFill>
                <a:latin typeface="Arial"/>
                <a:cs typeface="Simplified Arabic"/>
              </a:rPr>
              <a:t>تستطيع هيئات المعاهدة والإجراءات الخاصة تحديد الأعمال المعيَّنة اللازمة لتنمية القدر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507"/>
                                        </p:tgtEl>
                                        <p:attrNameLst>
                                          <p:attrName>style.visibility</p:attrName>
                                        </p:attrNameLst>
                                      </p:cBhvr>
                                      <p:to>
                                        <p:strVal val="visible"/>
                                      </p:to>
                                    </p:set>
                                    <p:animEffect filter="box(in)" transition="in">
                                      <p:cBhvr additive="repl">
                                        <p:cTn id="229"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859280" y="1773000"/>
            <a:ext cx="3889440" cy="41036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cs typeface="Arial"/>
              </a:rPr>
              <a:t>التنمية البشرية ...</a:t>
            </a:r>
            <a:br>
              <a:rPr sz="3200"/>
            </a:br>
            <a:br>
              <a:rPr sz="1200"/>
            </a:br>
            <a:r>
              <a:rPr b="0" lang="ar-JO" sz="2400" spc="-1" strike="noStrike">
                <a:solidFill>
                  <a:srgbClr val="000000"/>
                </a:solidFill>
                <a:latin typeface="Arial"/>
                <a:cs typeface="Simplified Arabic"/>
              </a:rPr>
              <a:t>هي عملية تعزيز </a:t>
            </a:r>
            <a:r>
              <a:rPr b="1" lang="ar-JO" sz="2400" spc="-1" strike="noStrike">
                <a:solidFill>
                  <a:srgbClr val="000000"/>
                </a:solidFill>
                <a:latin typeface="Arial"/>
                <a:cs typeface="Simplified Arabic"/>
              </a:rPr>
              <a:t>قدرات الناس</a:t>
            </a:r>
            <a:r>
              <a:rPr b="0" lang="ar-JO" sz="2400" spc="-1" strike="noStrike">
                <a:solidFill>
                  <a:srgbClr val="000000"/>
                </a:solidFill>
                <a:latin typeface="Arial"/>
                <a:ea typeface="Simplified Arabic"/>
              </a:rPr>
              <a:t> على توسيع خياراتهم وفرصهم، لكي يستطيع كل شخص منهم أن ينعم </a:t>
            </a:r>
            <a:r>
              <a:rPr b="1" lang="ar-JO" sz="2400" spc="-1" strike="noStrike">
                <a:solidFill>
                  <a:srgbClr val="000000"/>
                </a:solidFill>
                <a:latin typeface="Arial"/>
                <a:cs typeface="Simplified Arabic"/>
              </a:rPr>
              <a:t>بحياة ملؤها الاحترام والقيمة.</a:t>
            </a:r>
            <a:r>
              <a:rPr b="0" lang="ar-JO" sz="2400" spc="-1" strike="noStrike">
                <a:solidFill>
                  <a:srgbClr val="000000"/>
                </a:solidFill>
                <a:latin typeface="Arial"/>
                <a:ea typeface="Simplified Arabic"/>
              </a:rPr>
              <a:t> </a:t>
            </a:r>
            <a:br>
              <a:rPr sz="2400"/>
            </a:br>
            <a:br>
              <a:rPr sz="2400"/>
            </a:br>
            <a:r>
              <a:rPr b="0" lang="ar-JO" sz="2400" spc="-1" strike="noStrike">
                <a:solidFill>
                  <a:srgbClr val="000000"/>
                </a:solidFill>
                <a:latin typeface="Arial"/>
                <a:cs typeface="Simplified Arabic"/>
              </a:rPr>
              <a:t>وتحتاج الحرية والكرامة إلى الضمانات القانونية لحقوق الإنسان لتجنب تعرّضها للتهديد.</a:t>
            </a:r>
            <a:endParaRPr b="0" lang="en-US" sz="2400" spc="-1" strike="noStrike">
              <a:solidFill>
                <a:srgbClr val="000000"/>
              </a:solidFill>
              <a:latin typeface="Arial"/>
            </a:endParaRPr>
          </a:p>
        </p:txBody>
      </p:sp>
      <p:sp>
        <p:nvSpPr>
          <p:cNvPr id="83" name=""/>
          <p:cNvSpPr/>
          <p:nvPr/>
        </p:nvSpPr>
        <p:spPr>
          <a:xfrm>
            <a:off x="2195640" y="549360"/>
            <a:ext cx="604836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84" name=""/>
          <p:cNvSpPr/>
          <p:nvPr/>
        </p:nvSpPr>
        <p:spPr>
          <a:xfrm>
            <a:off x="468360" y="2781360"/>
            <a:ext cx="4174920" cy="3816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ea typeface="Arial"/>
              </a:rPr>
              <a:t>... وحقوق الإنسان...</a:t>
            </a:r>
            <a:br>
              <a:rPr sz="2800"/>
            </a:br>
            <a:r>
              <a:rPr b="0" lang="ar-JO" sz="2400" spc="-1" strike="noStrike">
                <a:solidFill>
                  <a:srgbClr val="000000"/>
                </a:solidFill>
                <a:latin typeface="Arial"/>
                <a:cs typeface="Simplified Arabic"/>
              </a:rPr>
              <a:t>لجميع الناس </a:t>
            </a:r>
            <a:r>
              <a:rPr b="1" lang="ar-JO" sz="2400" spc="-1" strike="noStrike">
                <a:solidFill>
                  <a:srgbClr val="000000"/>
                </a:solidFill>
                <a:latin typeface="Arial"/>
                <a:cs typeface="Simplified Arabic"/>
              </a:rPr>
              <a:t>مطالبات </a:t>
            </a:r>
            <a:r>
              <a:rPr b="0" lang="ar-JO" sz="2400" spc="-1" strike="noStrike">
                <a:solidFill>
                  <a:srgbClr val="000000"/>
                </a:solidFill>
                <a:latin typeface="Arial"/>
                <a:cs typeface="Simplified Arabic"/>
              </a:rPr>
              <a:t>بعمل ترتيبات اجتماعية تُوفِّر لهم الحماية من حالات الإساءة والحرمان الأكثر سوءاً،</a:t>
            </a:r>
            <a:r>
              <a:rPr b="1" lang="ar-JO" sz="2400" spc="-1" strike="noStrike">
                <a:solidFill>
                  <a:srgbClr val="000000"/>
                </a:solidFill>
                <a:latin typeface="Arial"/>
                <a:ea typeface="Simplified Arabic"/>
              </a:rPr>
              <a:t> وتؤمِّن لهم حرية العيش بكرامة. </a:t>
            </a:r>
            <a:br>
              <a:rPr sz="2400"/>
            </a:br>
            <a:br>
              <a:rPr sz="2400"/>
            </a:br>
            <a:r>
              <a:rPr b="0" lang="ar-JO" sz="2400" spc="-1" strike="noStrike">
                <a:solidFill>
                  <a:srgbClr val="000000"/>
                </a:solidFill>
                <a:latin typeface="Arial"/>
                <a:cs typeface="Simplified Arabic"/>
              </a:rPr>
              <a:t>يتطلب إحقاق حقوق الإنسان وجود قدرات تستطيع التنمية أن تجعلها أمراً ممكناً.</a:t>
            </a:r>
            <a:r>
              <a:rPr b="0" lang="ar-JO" sz="2000" spc="-1" strike="noStrike">
                <a:solidFill>
                  <a:srgbClr val="000000"/>
                </a:solidFill>
                <a:latin typeface="Arial"/>
                <a:ea typeface="Arial"/>
              </a:rPr>
              <a:t> </a:t>
            </a:r>
            <a:endParaRPr b="0"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aphicFrame>
        <p:nvGraphicFramePr>
          <p:cNvPr id="508" name=""/>
          <p:cNvGraphicFramePr/>
          <p:nvPr/>
        </p:nvGraphicFramePr>
        <p:xfrm>
          <a:off x="1547640" y="404640"/>
          <a:ext cx="7417080" cy="5651640"/>
        </p:xfrm>
        <a:graphic>
          <a:graphicData uri="http://schemas.openxmlformats.org/drawingml/2006/table">
            <a:tbl>
              <a:tblPr/>
              <a:tblGrid>
                <a:gridCol w="1079640"/>
                <a:gridCol w="4392720"/>
                <a:gridCol w="1944720"/>
              </a:tblGrid>
              <a:tr h="1293480">
                <a:tc>
                  <a:txBody>
                    <a:bodyPr lIns="90000" rIns="90000" tIns="46800" bIns="46800" anchor="ctr">
                      <a:noAutofit/>
                    </a:bodyPr>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د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cs typeface="Arial"/>
                        </a:rPr>
                        <a:t>صياغة النهج القائم على حقوق الإنسا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Times New Roman"/>
                        </a:rPr>
                        <a:t>مصفوفة إطار  الأمم المتحدة للمساعدات الإنمائي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99576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 – </a:t>
                      </a:r>
                      <a:r>
                        <a:rPr b="0" lang="ar-JO" sz="1600" spc="-1" strike="noStrike">
                          <a:solidFill>
                            <a:srgbClr val="000000"/>
                          </a:solidFill>
                          <a:latin typeface="Arial"/>
                          <a:ea typeface="Simplified Arabic"/>
                        </a:rPr>
                        <a:t>20</a:t>
                      </a:r>
                      <a:r>
                        <a:rPr b="0" lang="ar-JO" sz="1600" spc="-1" strike="noStrike">
                          <a:solidFill>
                            <a:srgbClr val="000000"/>
                          </a:solidFill>
                          <a:latin typeface="Arial"/>
                          <a:ea typeface="Simplified Arabic"/>
                        </a:rPr>
                        <a:t> عام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التمتع الكامل بالحقوق: </a:t>
                      </a:r>
                      <a:endParaRPr b="0" lang="en-US" sz="1600" spc="-1" strike="noStrike">
                        <a:solidFill>
                          <a:srgbClr val="000000"/>
                        </a:solidFill>
                        <a:latin typeface="Arial"/>
                      </a:endParaRPr>
                    </a:p>
                    <a:p>
                      <a:pPr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تغييرات مستدامة وإيجابية في حياة الرجال والنساء والأطفا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الأولويات الوطني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4</a:t>
                      </a:r>
                      <a:r>
                        <a:rPr b="0" lang="ar-JO" sz="1600" spc="-1" strike="noStrike">
                          <a:solidFill>
                            <a:srgbClr val="000000"/>
                          </a:solidFill>
                          <a:latin typeface="Arial"/>
                          <a:ea typeface="Simplified Arabic"/>
                        </a:rPr>
                        <a:t> أعوام – </a:t>
                      </a: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زيادة أداء أصحاب الحقوق للمطالبة بحقوقهم والقائمين بالواجبات للوفاء بالتزاماتهم.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نتائج إطار عمل الأمم المتحدة للمساعدات الإنمائي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7436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2</a:t>
                      </a:r>
                      <a:r>
                        <a:rPr b="0" lang="ar-JO" sz="1600" spc="-1" strike="noStrike">
                          <a:solidFill>
                            <a:srgbClr val="000000"/>
                          </a:solidFill>
                          <a:latin typeface="Arial"/>
                          <a:ea typeface="Simplified Arabic"/>
                        </a:rPr>
                        <a:t> عامان – </a:t>
                      </a:r>
                      <a:r>
                        <a:rPr b="0" lang="ar-JO" sz="1600" spc="-1" strike="noStrike">
                          <a:solidFill>
                            <a:srgbClr val="000000"/>
                          </a:solidFill>
                          <a:latin typeface="Arial"/>
                          <a:ea typeface="Simplified Arabic"/>
                        </a:rPr>
                        <a:t>5</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1</a:t>
                      </a:r>
                      <a:r>
                        <a:rPr b="0" lang="ar-JO" sz="1600" spc="-1" strike="noStrike">
                          <a:solidFill>
                            <a:srgbClr val="000000"/>
                          </a:solidFill>
                          <a:latin typeface="Arial"/>
                          <a:ea typeface="Simplified Arabic"/>
                        </a:rPr>
                        <a:t>- تنمية قدرات القائمين بالواجبات للوفاء بالتزاماتهم. </a:t>
                      </a:r>
                      <a:endParaRPr b="0" lang="en-US" sz="1600" spc="-1" strike="noStrike">
                        <a:solidFill>
                          <a:srgbClr val="000000"/>
                        </a:solidFill>
                        <a:latin typeface="Arial"/>
                      </a:endParaRPr>
                    </a:p>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2</a:t>
                      </a:r>
                      <a:r>
                        <a:rPr b="0" lang="ar-JO" sz="1600" spc="-1" strike="noStrike">
                          <a:solidFill>
                            <a:srgbClr val="000000"/>
                          </a:solidFill>
                          <a:latin typeface="Arial"/>
                          <a:ea typeface="Simplified Arabic"/>
                        </a:rPr>
                        <a:t>- تنمية قدرات أصحاب الحقوق للمطالبة بحقوقهم. </a:t>
                      </a:r>
                      <a:endParaRPr b="0" lang="en-US" sz="1600" spc="-1" strike="noStrike">
                        <a:solidFill>
                          <a:srgbClr val="000000"/>
                        </a:solidFill>
                        <a:latin typeface="Arial"/>
                      </a:endParaRPr>
                    </a:p>
                    <a:p>
                      <a:pPr marL="347760" indent="-34776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ea typeface="Simplified Arabic"/>
                        </a:rPr>
                        <a:t>3</a:t>
                      </a:r>
                      <a:r>
                        <a:rPr b="0" lang="ar-JO" sz="1600" spc="-1" strike="noStrike">
                          <a:solidFill>
                            <a:srgbClr val="000000"/>
                          </a:solidFill>
                          <a:latin typeface="Arial"/>
                          <a:ea typeface="Simplified Arabic"/>
                        </a:rPr>
                        <a:t>- الإصلاحات القانونية والسياساتية والمؤسسي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نتائج برنامج الدولة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9480">
                <a:tc>
                  <a:txBody>
                    <a:bodyPr lIns="90000" rIns="90000" tIns="46800" bIns="46800" anchor="t">
                      <a:no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عام واحد – </a:t>
                      </a:r>
                      <a:r>
                        <a:rPr b="0" lang="ar-JO" sz="1600" spc="-1" strike="noStrike">
                          <a:solidFill>
                            <a:srgbClr val="000000"/>
                          </a:solidFill>
                          <a:latin typeface="Arial"/>
                          <a:ea typeface="Simplified Arabic"/>
                        </a:rPr>
                        <a:t>4</a:t>
                      </a:r>
                      <a:r>
                        <a:rPr b="0" lang="ar-JO" sz="1600" spc="-1" strike="noStrike">
                          <a:solidFill>
                            <a:srgbClr val="000000"/>
                          </a:solidFill>
                          <a:latin typeface="Arial"/>
                          <a:ea typeface="Simplified Arabic"/>
                        </a:rPr>
                        <a:t> أعوا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Arial"/>
                          <a:cs typeface="Simplified Arabic"/>
                        </a:rPr>
                        <a:t>المهمَّات المُنجزة، والخدمات، وأدوات المناصرة وكسب التأييد التي يقدّمها البرنامج لأصحاب الحقوق والقائمين بالواجبات.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9900"/>
                          </a:solidFill>
                          <a:latin typeface="Arial"/>
                          <a:cs typeface="Simplified Arabic"/>
                        </a:rPr>
                        <a:t>مخرجات (نواتج) برنامج الدول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9" name=""/>
          <p:cNvSpPr/>
          <p:nvPr/>
        </p:nvSpPr>
        <p:spPr>
          <a:xfrm>
            <a:off x="491976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582560" y="259920"/>
            <a:ext cx="7561440" cy="1366920"/>
          </a:xfrm>
          <a:prstGeom prst="rect">
            <a:avLst/>
          </a:prstGeom>
          <a:solidFill>
            <a:srgbClr val="ffffff"/>
          </a:solidFill>
          <a:ln w="0">
            <a:noFill/>
          </a:ln>
        </p:spPr>
        <p:txBody>
          <a:bodyPr lIns="90000" rIns="90000" tIns="46800" bIns="46800" anchor="t">
            <a:noAutofit/>
          </a:bodyPr>
          <a:p>
            <a:pPr marL="3985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Arial"/>
                <a:cs typeface="Simplified Arabic"/>
              </a:rPr>
              <a:t>تعليمات جماعية: </a:t>
            </a:r>
            <a:br>
              <a:rPr sz="4400"/>
            </a:br>
            <a:r>
              <a:rPr b="1" lang="ar-JO" sz="4400" spc="-1" strike="noStrike">
                <a:solidFill>
                  <a:srgbClr val="000000"/>
                </a:solidFill>
                <a:latin typeface="Arial"/>
                <a:cs typeface="Simplified Arabic"/>
              </a:rPr>
              <a:t>تصميم التدخلات الاستراتيجية</a:t>
            </a:r>
            <a:endParaRPr b="0" lang="en-US" sz="4400" spc="-1" strike="noStrike">
              <a:solidFill>
                <a:srgbClr val="000000"/>
              </a:solidFill>
              <a:latin typeface="Arial"/>
            </a:endParaRPr>
          </a:p>
        </p:txBody>
      </p:sp>
      <p:sp>
        <p:nvSpPr>
          <p:cNvPr id="511" name="PlaceHolder 2"/>
          <p:cNvSpPr>
            <a:spLocks noGrp="1"/>
          </p:cNvSpPr>
          <p:nvPr>
            <p:ph/>
          </p:nvPr>
        </p:nvSpPr>
        <p:spPr>
          <a:xfrm>
            <a:off x="610920" y="2492280"/>
            <a:ext cx="7848360" cy="3600720"/>
          </a:xfrm>
          <a:prstGeom prst="rect">
            <a:avLst/>
          </a:prstGeom>
          <a:solidFill>
            <a:srgbClr val="ffffff"/>
          </a:solidFill>
          <a:ln w="0">
            <a:noFill/>
          </a:ln>
        </p:spPr>
        <p:txBody>
          <a:bodyPr lIns="90000" rIns="90000" tIns="46800" bIns="46800" anchor="t">
            <a:normAutofit fontScale="89000"/>
          </a:bodyPr>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lgn="just" rtl="1">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ادرس موضوع أصحاب الحقوق والقائمين بالواجبات المشاركين، والفجوات في القدرات، التي تم تحديدها. </a:t>
            </a:r>
            <a:endParaRPr b="0" lang="en-US" sz="3200" spc="-1" strike="noStrike">
              <a:solidFill>
                <a:srgbClr val="000000"/>
              </a:solidFill>
              <a:latin typeface="Times New Roman"/>
            </a:endParaRPr>
          </a:p>
          <a:p>
            <a:pPr marL="305280" indent="-305280" algn="just" rtl="1">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ناقش ووافق على التدخلات التي قد تُحدث تغييراً إيجابياً على صعيد إحقاق الحقوق (على مستوى النتائج والمخرجات).</a:t>
            </a:r>
            <a:r>
              <a:rPr b="0" lang="en-US" sz="3200" spc="-1" strike="noStrike">
                <a:solidFill>
                  <a:srgbClr val="000000"/>
                </a:solidFill>
                <a:latin typeface="Times New Roman"/>
                <a:ea typeface="Simplified Arabic"/>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692360" y="189000"/>
            <a:ext cx="6912000" cy="5760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متابعة والتقييم</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13" name=""/>
          <p:cNvSpPr/>
          <p:nvPr/>
        </p:nvSpPr>
        <p:spPr>
          <a:xfrm>
            <a:off x="2124000" y="1628640"/>
            <a:ext cx="6480360" cy="46818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68440" indent="-28440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ما الذي يُفترض قياسه؟</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أداء البرنامج </a:t>
            </a:r>
            <a:r>
              <a:rPr b="0" lang="ar-JO" sz="2400" spc="-1" strike="noStrike">
                <a:solidFill>
                  <a:srgbClr val="6600ff"/>
                </a:solidFill>
                <a:latin typeface="Arial"/>
                <a:ea typeface="Simplified Arabic"/>
              </a:rPr>
              <a:t>(أثره، ونتائجه، ومخرجاته).</a:t>
            </a:r>
            <a:r>
              <a:rPr b="1" lang="en-US" sz="2400" spc="-1" strike="noStrike">
                <a:solidFill>
                  <a:srgbClr val="6600ff"/>
                </a:solidFill>
                <a:latin typeface="Arial"/>
                <a:ea typeface="Simplified Arabic"/>
              </a:rPr>
              <a:t> </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عملية البرنامج</a:t>
            </a:r>
            <a:r>
              <a:rPr b="0" lang="ar-JO" sz="2400" spc="-1" strike="noStrike">
                <a:solidFill>
                  <a:srgbClr val="6600ff"/>
                </a:solidFill>
                <a:latin typeface="Arial"/>
                <a:ea typeface="Simplified Arabic"/>
              </a:rPr>
              <a:t>: المشاركة والمساءَلة وعدم التمييز.</a:t>
            </a:r>
            <a:endParaRPr b="0" lang="en-US" sz="2400" spc="-1" strike="noStrike">
              <a:solidFill>
                <a:srgbClr val="000000"/>
              </a:solidFill>
              <a:latin typeface="Arial"/>
            </a:endParaRPr>
          </a:p>
          <a:p>
            <a:pPr marL="568440" indent="-284400" algn="r" rtl="1">
              <a:lnSpc>
                <a:spcPct val="150000"/>
              </a:lnSpc>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6600ff"/>
                </a:solidFill>
                <a:latin typeface="Arial"/>
                <a:cs typeface="Simplified Arabic"/>
              </a:rPr>
              <a:t>سياق البرنامج:</a:t>
            </a:r>
            <a:r>
              <a:rPr b="0" lang="ar-JO" sz="2400" spc="-1" strike="noStrike">
                <a:solidFill>
                  <a:srgbClr val="6600ff"/>
                </a:solidFill>
                <a:latin typeface="Arial"/>
                <a:ea typeface="Simplified Arabic"/>
              </a:rPr>
              <a:t>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وجود القوانين والسياسات والآليات المؤسسية.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جهود القائمين بالواجبات للوفاء بالتزاماتهم. </a:t>
            </a:r>
            <a:endParaRPr b="0" lang="en-US" sz="2400" spc="-1" strike="noStrike">
              <a:solidFill>
                <a:srgbClr val="000000"/>
              </a:solidFill>
              <a:latin typeface="Arial"/>
            </a:endParaRPr>
          </a:p>
          <a:p>
            <a:pPr lvl="1" marL="1089000" indent="-406440" algn="r" rtl="1">
              <a:lnSpc>
                <a:spcPct val="70000"/>
              </a:lnSpc>
              <a:spcBef>
                <a:spcPts val="1500"/>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cs typeface="Simplified Arabic"/>
              </a:rPr>
              <a:t>التفاوت بين أصحاب الحقوق في التمتُّع بالحقوق.</a:t>
            </a:r>
            <a:endParaRPr b="0" lang="en-US" sz="2400" spc="-1" strike="noStrike">
              <a:solidFill>
                <a:srgbClr val="000000"/>
              </a:solidFill>
              <a:latin typeface="Arial"/>
            </a:endParaRPr>
          </a:p>
          <a:p>
            <a:pPr marL="56844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4" name="" descr=""/>
          <p:cNvPicPr/>
          <p:nvPr/>
        </p:nvPicPr>
        <p:blipFill>
          <a:blip r:embed="rId1"/>
          <a:stretch/>
        </p:blipFill>
        <p:spPr>
          <a:xfrm>
            <a:off x="0" y="2637000"/>
            <a:ext cx="2374920" cy="2050920"/>
          </a:xfrm>
          <a:prstGeom prst="rect">
            <a:avLst/>
          </a:prstGeom>
          <a:ln w="0">
            <a:noFill/>
          </a:ln>
        </p:spPr>
      </p:pic>
      <p:sp>
        <p:nvSpPr>
          <p:cNvPr id="515" name=""/>
          <p:cNvSpPr/>
          <p:nvPr/>
        </p:nvSpPr>
        <p:spPr>
          <a:xfrm>
            <a:off x="0" y="1125360"/>
            <a:ext cx="2411280" cy="1584360"/>
          </a:xfrm>
          <a:prstGeom prst="wedgeRectCallout">
            <a:avLst>
              <a:gd name="adj1" fmla="val 52962"/>
              <a:gd name="adj2" fmla="val 6092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ff"/>
                </a:solidFill>
                <a:latin typeface="Arial"/>
                <a:ea typeface="Arial"/>
              </a:rPr>
              <a:t>	</a:t>
            </a:r>
            <a:r>
              <a:rPr b="1" lang="ar-JO" sz="2400" spc="-1" strike="noStrike">
                <a:solidFill>
                  <a:srgbClr val="6600ff"/>
                </a:solidFill>
                <a:latin typeface="Arial"/>
                <a:cs typeface="Arial"/>
              </a:rPr>
              <a:t>بناء على المطالبات والالتزامات في معايير حقوق الإنسان</a:t>
            </a:r>
            <a:r>
              <a:rPr b="1" lang="en-US" sz="2400" spc="-1" strike="noStrike">
                <a:solidFill>
                  <a:srgbClr val="6600ff"/>
                </a:solidFill>
                <a:latin typeface="Arial"/>
                <a:ea typeface="Arial"/>
              </a:rPr>
              <a:t> </a:t>
            </a:r>
            <a:endParaRPr b="0" lang="en-US" sz="2400" spc="-1" strike="noStrike">
              <a:solidFill>
                <a:srgbClr val="000000"/>
              </a:solidFill>
              <a:latin typeface="Arial"/>
            </a:endParaRPr>
          </a:p>
        </p:txBody>
      </p:sp>
      <p:sp>
        <p:nvSpPr>
          <p:cNvPr id="516" name=""/>
          <p:cNvSpPr/>
          <p:nvPr/>
        </p:nvSpPr>
        <p:spPr>
          <a:xfrm>
            <a:off x="7020000" y="907920"/>
            <a:ext cx="1944720" cy="1081080"/>
          </a:xfrm>
          <a:prstGeom prst="wedgeRectCallout">
            <a:avLst>
              <a:gd name="adj1" fmla="val 23305"/>
              <a:gd name="adj2" fmla="val 123421"/>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بناء على مبادئ حقوق الإنسان</a:t>
            </a:r>
            <a:r>
              <a:rPr b="1" lang="en-US" sz="2000" spc="-1" strike="noStrike">
                <a:solidFill>
                  <a:srgbClr val="6600ff"/>
                </a:solidFill>
                <a:latin typeface="Arial"/>
                <a:ea typeface="Simplified Arabic"/>
              </a:rPr>
              <a:t> </a:t>
            </a:r>
            <a:endParaRPr b="0" lang="en-US" sz="2000" spc="-1" strike="noStrike">
              <a:solidFill>
                <a:srgbClr val="000000"/>
              </a:solidFill>
              <a:latin typeface="Arial"/>
            </a:endParaRPr>
          </a:p>
        </p:txBody>
      </p:sp>
      <p:sp>
        <p:nvSpPr>
          <p:cNvPr id="517" name=""/>
          <p:cNvSpPr/>
          <p:nvPr/>
        </p:nvSpPr>
        <p:spPr>
          <a:xfrm>
            <a:off x="0" y="4869000"/>
            <a:ext cx="2627280" cy="1800000"/>
          </a:xfrm>
          <a:prstGeom prst="wedgeRectCallout">
            <a:avLst>
              <a:gd name="adj1" fmla="val 55861"/>
              <a:gd name="adj2" fmla="val -71694"/>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بمقتضى النهج القائم على حقوق الإنسان، فإن متابعة السياق تتساوى في الأهمية مع متابعة أداء البرنامج والعمل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515"/>
                                        </p:tgtEl>
                                        <p:attrNameLst>
                                          <p:attrName>style.visibility</p:attrName>
                                        </p:attrNameLst>
                                      </p:cBhvr>
                                      <p:to>
                                        <p:strVal val="visible"/>
                                      </p:to>
                                    </p:set>
                                    <p:animEffect filter="box(in)" transition="in">
                                      <p:cBhvr additive="repl">
                                        <p:cTn id="236" dur="500"/>
                                        <p:tgtEl>
                                          <p:spTgt spid="51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516"/>
                                        </p:tgtEl>
                                        <p:attrNameLst>
                                          <p:attrName>style.visibility</p:attrName>
                                        </p:attrNameLst>
                                      </p:cBhvr>
                                      <p:to>
                                        <p:strVal val="visible"/>
                                      </p:to>
                                    </p:set>
                                    <p:animEffect filter="box(in)" transition="in">
                                      <p:cBhvr additive="repl">
                                        <p:cTn id="241" dur="500"/>
                                        <p:tgtEl>
                                          <p:spTgt spid="51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517"/>
                                        </p:tgtEl>
                                        <p:attrNameLst>
                                          <p:attrName>style.visibility</p:attrName>
                                        </p:attrNameLst>
                                      </p:cBhvr>
                                      <p:to>
                                        <p:strVal val="visible"/>
                                      </p:to>
                                    </p:set>
                                    <p:animEffect filter="box(in)" transition="in">
                                      <p:cBhvr additive="repl">
                                        <p:cTn id="246"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834920" y="549360"/>
            <a:ext cx="6624360" cy="55080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ستخدام النهج القائم على حقوق الإنسان في المتابعة والتقييم</a:t>
            </a:r>
            <a:endParaRPr b="0" lang="en-US" sz="2400" spc="-1" strike="noStrike">
              <a:solidFill>
                <a:srgbClr val="000000"/>
              </a:solidFill>
              <a:latin typeface="Arial"/>
            </a:endParaRPr>
          </a:p>
        </p:txBody>
      </p:sp>
      <p:sp>
        <p:nvSpPr>
          <p:cNvPr id="519" name=""/>
          <p:cNvSpPr/>
          <p:nvPr/>
        </p:nvSpPr>
        <p:spPr>
          <a:xfrm>
            <a:off x="468360" y="2133720"/>
            <a:ext cx="8064360" cy="3456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507960" indent="-243000"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cs typeface="Simplified Arabic"/>
              </a:rPr>
              <a:t>طريقة القياس:</a:t>
            </a:r>
            <a:endParaRPr b="0" lang="en-US" sz="2800" spc="-1" strike="noStrike">
              <a:solidFill>
                <a:srgbClr val="000000"/>
              </a:solidFill>
              <a:latin typeface="Arial"/>
            </a:endParaRPr>
          </a:p>
          <a:p>
            <a:pPr marL="507960" indent="-2430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حدِّد أصحاب الحقوق والقائمين بالواجبات الذين سيُسهمون في عملية المتابعة والتقييم:</a:t>
            </a:r>
            <a:endParaRPr b="0" lang="en-US" sz="2000" spc="-1" strike="noStrike">
              <a:solidFill>
                <a:srgbClr val="000000"/>
              </a:solidFill>
              <a:latin typeface="Arial"/>
            </a:endParaRPr>
          </a:p>
          <a:p>
            <a:pPr lvl="1" marL="973080" indent="-253800" algn="r" rtl="1">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إما بوصفهم مقدِّمو معلومات</a:t>
            </a:r>
            <a:r>
              <a:rPr b="0" lang="ar-JO" sz="2000" spc="-1" strike="noStrike">
                <a:solidFill>
                  <a:srgbClr val="000000"/>
                </a:solidFill>
                <a:latin typeface="Arial"/>
                <a:cs typeface="Simplified Arabic"/>
              </a:rPr>
              <a:t>، مثل وزراء الوزارات الخدمية/القطاعية. </a:t>
            </a:r>
            <a:endParaRPr b="0" lang="en-US" sz="2000" spc="-1" strike="noStrike">
              <a:solidFill>
                <a:srgbClr val="000000"/>
              </a:solidFill>
              <a:latin typeface="Arial"/>
            </a:endParaRPr>
          </a:p>
          <a:p>
            <a:pPr lvl="1" marL="973080" indent="-253800" algn="r" rtl="1">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cs typeface="Simplified Arabic"/>
              </a:rPr>
              <a:t>وإما بوصفهم مفسِّرو معلومات مستقلون</a:t>
            </a:r>
            <a:r>
              <a:rPr b="0" lang="ar-JO" sz="2000" spc="-1" strike="noStrike">
                <a:solidFill>
                  <a:srgbClr val="000000"/>
                </a:solidFill>
                <a:latin typeface="Arial"/>
                <a:cs typeface="Simplified Arabic"/>
              </a:rPr>
              <a:t>، مثل المؤسسات الوطنية لحقوق الإنسان.</a:t>
            </a:r>
            <a:endParaRPr b="0" lang="en-US" sz="2000" spc="-1" strike="noStrike">
              <a:solidFill>
                <a:srgbClr val="000000"/>
              </a:solidFill>
              <a:latin typeface="Arial"/>
            </a:endParaRPr>
          </a:p>
          <a:p>
            <a:pPr marL="507960" indent="-243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plified Arabic"/>
              </a:rPr>
              <a:t> </a:t>
            </a:r>
            <a:endParaRPr b="0" lang="en-US" sz="9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جمعهم معاً في عملية تشاركية.</a:t>
            </a:r>
            <a:endParaRPr b="0" lang="en-US" sz="2000" spc="-1" strike="noStrike">
              <a:solidFill>
                <a:srgbClr val="000000"/>
              </a:solidFill>
              <a:latin typeface="Arial"/>
            </a:endParaRPr>
          </a:p>
          <a:p>
            <a:pPr marL="507960" indent="-243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7960" indent="-243000" algn="r" rtl="1">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اضمن إمكانية الوصول إلى المعلومات والبيانات المتوافرة عن البرنامج.</a:t>
            </a:r>
            <a:endParaRPr b="0" lang="en-US" sz="2000" spc="-1" strike="noStrike">
              <a:solidFill>
                <a:srgbClr val="000000"/>
              </a:solidFill>
              <a:latin typeface="Arial"/>
            </a:endParaRPr>
          </a:p>
        </p:txBody>
      </p:sp>
      <p:sp>
        <p:nvSpPr>
          <p:cNvPr id="520" name=""/>
          <p:cNvSpPr/>
          <p:nvPr/>
        </p:nvSpPr>
        <p:spPr>
          <a:xfrm>
            <a:off x="0" y="5707080"/>
            <a:ext cx="3024360" cy="1150920"/>
          </a:xfrm>
          <a:prstGeom prst="wedgeRectCallout">
            <a:avLst>
              <a:gd name="adj1" fmla="val -6537"/>
              <a:gd name="adj2" fmla="val -121032"/>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6600ff"/>
                </a:solidFill>
                <a:latin typeface="Arial"/>
                <a:cs typeface="Simplified Arabic"/>
              </a:rPr>
              <a:t>يدعو النهج القائم على حقوق الإنسان إلى استخدام آليات المشاركة والمساءَلة عن البرام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520"/>
                                        </p:tgtEl>
                                        <p:attrNameLst>
                                          <p:attrName>style.visibility</p:attrName>
                                        </p:attrNameLst>
                                      </p:cBhvr>
                                      <p:to>
                                        <p:strVal val="visible"/>
                                      </p:to>
                                    </p:set>
                                    <p:animEffect filter="box(in)" transition="in">
                                      <p:cBhvr additive="repl">
                                        <p:cTn id="253"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050920" y="333000"/>
            <a:ext cx="6408720" cy="1143000"/>
          </a:xfrm>
          <a:prstGeom prst="rect">
            <a:avLst/>
          </a:prstGeom>
          <a:solidFill>
            <a:srgbClr val="ffffff"/>
          </a:solid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Arial"/>
              </a:rPr>
              <a:t>تعليمات جماعية: المتابعة والتقييم</a:t>
            </a:r>
            <a:endParaRPr b="0" lang="en-US" sz="3600" spc="-1" strike="noStrike">
              <a:solidFill>
                <a:srgbClr val="000000"/>
              </a:solidFill>
              <a:latin typeface="Arial"/>
            </a:endParaRPr>
          </a:p>
        </p:txBody>
      </p:sp>
      <p:sp>
        <p:nvSpPr>
          <p:cNvPr id="522" name="PlaceHolder 2"/>
          <p:cNvSpPr>
            <a:spLocks noGrp="1"/>
          </p:cNvSpPr>
          <p:nvPr>
            <p:ph/>
          </p:nvPr>
        </p:nvSpPr>
        <p:spPr>
          <a:xfrm>
            <a:off x="1115640" y="2205000"/>
            <a:ext cx="6635880" cy="3849840"/>
          </a:xfrm>
          <a:prstGeom prst="rect">
            <a:avLst/>
          </a:prstGeom>
          <a:solidFill>
            <a:srgbClr val="ffffff"/>
          </a:solidFill>
          <a:ln w="0">
            <a:noFill/>
          </a:ln>
        </p:spPr>
        <p:txBody>
          <a:bodyPr lIns="90000" rIns="90000" tIns="46800" bIns="46800" anchor="t">
            <a:normAutofit fontScale="97000"/>
          </a:bodyPr>
          <a:p>
            <a:pPr marL="332640" indent="-332640" algn="just" rtl="1">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يجب أن توجّه مبادئ ومعايير حقوق الإنسان عمليتي المتابعة والتقييم. </a:t>
            </a:r>
            <a:endParaRPr b="0" lang="en-US" sz="3600" spc="-1" strike="noStrike">
              <a:solidFill>
                <a:srgbClr val="000000"/>
              </a:solidFill>
              <a:latin typeface="Times New Roman"/>
            </a:endParaRPr>
          </a:p>
          <a:p>
            <a:pPr marL="332640" indent="0" algn="just" rtl="1">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2640" indent="-332640" algn="just" rtl="1">
              <a:lnSpc>
                <a:spcPct val="11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cs typeface="Simplified Arabic"/>
              </a:rPr>
              <a:t>راجع سلسلة نتائج مجموعتك وناقش تبعات العبارة أعلاه.</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287360" y="259920"/>
            <a:ext cx="7778880" cy="1143000"/>
          </a:xfrm>
          <a:prstGeom prst="rect">
            <a:avLst/>
          </a:prstGeom>
          <a:noFill/>
          <a:ln w="0">
            <a:noFill/>
          </a:ln>
        </p:spPr>
        <p:txBody>
          <a:bodyPr lIns="90000" rIns="90000" tIns="46800" bIns="46800" anchor="ctr">
            <a:noAutofit/>
          </a:bodyPr>
          <a:p>
            <a:pPr indent="0" algn="r" rtl="1">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Arial"/>
              </a:rPr>
              <a:t>استخدام النهج القائم على حقوق الإنسان في أُطر البرمجة لدى </a:t>
            </a:r>
            <a:br>
              <a:rPr sz="2400"/>
            </a:br>
            <a:r>
              <a:rPr b="1" lang="ar-JO" sz="2400" spc="-1" strike="noStrike">
                <a:solidFill>
                  <a:srgbClr val="000000"/>
                </a:solidFill>
                <a:latin typeface="Arial"/>
                <a:cs typeface="Arial"/>
              </a:rPr>
              <a:t>الأمم المتحدة: خطط العمل الإنساني المشتركة وعملية النداءات الموحدة</a:t>
            </a:r>
            <a:endParaRPr b="0" lang="en-US" sz="2400" spc="-1" strike="noStrike">
              <a:solidFill>
                <a:srgbClr val="000000"/>
              </a:solidFill>
              <a:latin typeface="Arial"/>
            </a:endParaRPr>
          </a:p>
        </p:txBody>
      </p:sp>
      <p:sp>
        <p:nvSpPr>
          <p:cNvPr id="524" name="PlaceHolder 2"/>
          <p:cNvSpPr>
            <a:spLocks noGrp="1"/>
          </p:cNvSpPr>
          <p:nvPr>
            <p:ph/>
          </p:nvPr>
        </p:nvSpPr>
        <p:spPr>
          <a:xfrm>
            <a:off x="457200" y="2133360"/>
            <a:ext cx="8229600" cy="4267080"/>
          </a:xfrm>
          <a:prstGeom prst="rect">
            <a:avLst/>
          </a:prstGeom>
          <a:solidFill>
            <a:srgbClr val="ffffff"/>
          </a:solidFill>
          <a:ln w="0">
            <a:noFill/>
          </a:ln>
        </p:spPr>
        <p:txBody>
          <a:bodyPr lIns="90000" rIns="90000" tIns="46800" bIns="46800" anchor="t">
            <a:normAutofit fontScale="97000"/>
          </a:bodyPr>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تسمح خطة العمل الإنساني المشتركة بتحقيق التوافق الزمني بين برامج الأمم المتحدة. </a:t>
            </a:r>
            <a:endParaRPr b="0" lang="en-US" sz="3200" spc="-1" strike="noStrike">
              <a:solidFill>
                <a:srgbClr val="000000"/>
              </a:solidFill>
              <a:latin typeface="Times New Roman"/>
            </a:endParaRPr>
          </a:p>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عملية النداءات الموحَّدة هي أداة لتنسيق عمليات التخطيط والتنفيذ والمتابعة. </a:t>
            </a:r>
            <a:endParaRPr b="0" lang="en-US" sz="3200" spc="-1" strike="noStrike">
              <a:solidFill>
                <a:srgbClr val="000000"/>
              </a:solidFill>
              <a:latin typeface="Times New Roman"/>
            </a:endParaRPr>
          </a:p>
          <a:p>
            <a:pPr marL="332640" indent="-332640" algn="just" rtl="1">
              <a:lnSpc>
                <a:spcPct val="12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Simplified Arabic"/>
              </a:rPr>
              <a:t>حقوق الإنسان والمبادئ الإنسانية تُساعد في تركيز الأعمال ذات الأولوية على الأشخاص الأشدِّ حاج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899640" y="1557360"/>
            <a:ext cx="7704360" cy="100800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Simplified Arabic"/>
              </a:rPr>
              <a:t>دعم فرق الأمم المتحدة القُطرية</a:t>
            </a:r>
            <a:endParaRPr b="0" lang="en-US" sz="4400" spc="-1" strike="noStrike">
              <a:solidFill>
                <a:srgbClr val="000000"/>
              </a:solidFill>
              <a:latin typeface="Arial"/>
            </a:endParaRPr>
          </a:p>
        </p:txBody>
      </p:sp>
      <p:sp>
        <p:nvSpPr>
          <p:cNvPr id="526" name=""/>
          <p:cNvSpPr/>
          <p:nvPr/>
        </p:nvSpPr>
        <p:spPr>
          <a:xfrm>
            <a:off x="2771640" y="3645000"/>
            <a:ext cx="216072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تاسعة</a:t>
            </a:r>
            <a:endParaRPr b="0" lang="en-US" sz="3200" spc="-1" strike="noStrike">
              <a:solidFill>
                <a:srgbClr val="000000"/>
              </a:solidFill>
              <a:latin typeface="Arial"/>
            </a:endParaRPr>
          </a:p>
        </p:txBody>
      </p:sp>
      <p:pic>
        <p:nvPicPr>
          <p:cNvPr id="527" name="" descr=""/>
          <p:cNvPicPr/>
          <p:nvPr/>
        </p:nvPicPr>
        <p:blipFill>
          <a:blip r:embed="rId1"/>
          <a:stretch/>
        </p:blipFill>
        <p:spPr>
          <a:xfrm>
            <a:off x="6877080" y="4005360"/>
            <a:ext cx="2309760" cy="2755800"/>
          </a:xfrm>
          <a:prstGeom prst="rect">
            <a:avLst/>
          </a:prstGeom>
          <a:ln w="0">
            <a:noFill/>
          </a:ln>
        </p:spPr>
      </p:pic>
      <p:sp>
        <p:nvSpPr>
          <p:cNvPr id="528" name=""/>
          <p:cNvSpPr/>
          <p:nvPr/>
        </p:nvSpPr>
        <p:spPr>
          <a:xfrm>
            <a:off x="7093080" y="5362560"/>
            <a:ext cx="1584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000" spc="-1" strike="noStrike">
                <a:solidFill>
                  <a:srgbClr val="ff6600"/>
                </a:solidFill>
                <a:latin typeface="Comic Sans MS"/>
                <a:cs typeface="Arial"/>
              </a:rPr>
              <a:t>الإجراء الثاني: تعلّم حقوق الإنسان مع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29" name=""/>
          <p:cNvSpPr/>
          <p:nvPr/>
        </p:nvSpPr>
        <p:spPr>
          <a:xfrm>
            <a:off x="2268360" y="0"/>
            <a:ext cx="48960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9933"/>
                </a:solidFill>
                <a:latin typeface="Comic Sans MS"/>
                <a:cs typeface="Simplified Arabic"/>
              </a:rPr>
              <a:t>دور فريق الأمم المتحدة القطري</a:t>
            </a:r>
            <a:endParaRPr b="0" lang="en-US" sz="2800" spc="-1" strike="noStrike">
              <a:solidFill>
                <a:srgbClr val="000000"/>
              </a:solidFill>
              <a:latin typeface="Arial"/>
            </a:endParaRPr>
          </a:p>
        </p:txBody>
      </p:sp>
      <p:grpSp>
        <p:nvGrpSpPr>
          <p:cNvPr id="530" name=""/>
          <p:cNvGrpSpPr/>
          <p:nvPr/>
        </p:nvGrpSpPr>
        <p:grpSpPr>
          <a:xfrm>
            <a:off x="304920" y="609480"/>
            <a:ext cx="1752480" cy="2286000"/>
            <a:chOff x="304920" y="609480"/>
            <a:chExt cx="1752480" cy="2286000"/>
          </a:xfrm>
        </p:grpSpPr>
        <p:sp>
          <p:nvSpPr>
            <p:cNvPr id="531" name=""/>
            <p:cNvSpPr/>
            <p:nvPr/>
          </p:nvSpPr>
          <p:spPr>
            <a:xfrm>
              <a:off x="762120" y="609480"/>
              <a:ext cx="685800" cy="609840"/>
            </a:xfrm>
            <a:prstGeom prst="smileyFace">
              <a:avLst>
                <a:gd name="adj" fmla="val 366"/>
              </a:avLst>
            </a:prstGeom>
            <a:solidFill>
              <a:srgbClr val="ffff99"/>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04920" y="1219320"/>
              <a:ext cx="1752480" cy="1676160"/>
            </a:xfrm>
            <a:custGeom>
              <a:avLst/>
              <a:gdLst/>
              <a:ahLst/>
              <a:rect l="l" t="t" r="r" b="b"/>
              <a:pathLst>
                <a:path w="1073" h="1003">
                  <a:moveTo>
                    <a:pt x="402" y="9"/>
                  </a:moveTo>
                  <a:cubicBezTo>
                    <a:pt x="445" y="181"/>
                    <a:pt x="300" y="137"/>
                    <a:pt x="164" y="143"/>
                  </a:cubicBezTo>
                  <a:cubicBezTo>
                    <a:pt x="129" y="151"/>
                    <a:pt x="108" y="157"/>
                    <a:pt x="78" y="179"/>
                  </a:cubicBezTo>
                  <a:cubicBezTo>
                    <a:pt x="53" y="226"/>
                    <a:pt x="16" y="260"/>
                    <a:pt x="0" y="314"/>
                  </a:cubicBezTo>
                  <a:cubicBezTo>
                    <a:pt x="23" y="392"/>
                    <a:pt x="78" y="408"/>
                    <a:pt x="141" y="423"/>
                  </a:cubicBezTo>
                  <a:cubicBezTo>
                    <a:pt x="197" y="415"/>
                    <a:pt x="240" y="402"/>
                    <a:pt x="296" y="414"/>
                  </a:cubicBezTo>
                  <a:cubicBezTo>
                    <a:pt x="340" y="445"/>
                    <a:pt x="330" y="495"/>
                    <a:pt x="320" y="550"/>
                  </a:cubicBezTo>
                  <a:cubicBezTo>
                    <a:pt x="309" y="610"/>
                    <a:pt x="294" y="670"/>
                    <a:pt x="281" y="731"/>
                  </a:cubicBezTo>
                  <a:cubicBezTo>
                    <a:pt x="287" y="837"/>
                    <a:pt x="268" y="964"/>
                    <a:pt x="374" y="1001"/>
                  </a:cubicBezTo>
                  <a:cubicBezTo>
                    <a:pt x="399" y="997"/>
                    <a:pt x="445" y="1001"/>
                    <a:pt x="468" y="974"/>
                  </a:cubicBezTo>
                  <a:cubicBezTo>
                    <a:pt x="474" y="967"/>
                    <a:pt x="471" y="954"/>
                    <a:pt x="476" y="947"/>
                  </a:cubicBezTo>
                  <a:cubicBezTo>
                    <a:pt x="482" y="939"/>
                    <a:pt x="491" y="935"/>
                    <a:pt x="499" y="929"/>
                  </a:cubicBezTo>
                  <a:cubicBezTo>
                    <a:pt x="526" y="838"/>
                    <a:pt x="480" y="979"/>
                    <a:pt x="530" y="874"/>
                  </a:cubicBezTo>
                  <a:cubicBezTo>
                    <a:pt x="545" y="842"/>
                    <a:pt x="554" y="794"/>
                    <a:pt x="561" y="757"/>
                  </a:cubicBezTo>
                  <a:cubicBezTo>
                    <a:pt x="564" y="691"/>
                    <a:pt x="569" y="624"/>
                    <a:pt x="569" y="558"/>
                  </a:cubicBezTo>
                  <a:cubicBezTo>
                    <a:pt x="569" y="533"/>
                    <a:pt x="540" y="486"/>
                    <a:pt x="561" y="486"/>
                  </a:cubicBezTo>
                  <a:cubicBezTo>
                    <a:pt x="566" y="486"/>
                    <a:pt x="592" y="632"/>
                    <a:pt x="593" y="640"/>
                  </a:cubicBezTo>
                  <a:cubicBezTo>
                    <a:pt x="579" y="795"/>
                    <a:pt x="569" y="797"/>
                    <a:pt x="585" y="929"/>
                  </a:cubicBezTo>
                  <a:cubicBezTo>
                    <a:pt x="587" y="947"/>
                    <a:pt x="587" y="972"/>
                    <a:pt x="600" y="983"/>
                  </a:cubicBezTo>
                  <a:cubicBezTo>
                    <a:pt x="613" y="995"/>
                    <a:pt x="647" y="1001"/>
                    <a:pt x="647" y="1001"/>
                  </a:cubicBezTo>
                  <a:cubicBezTo>
                    <a:pt x="691" y="998"/>
                    <a:pt x="736" y="1003"/>
                    <a:pt x="780" y="993"/>
                  </a:cubicBezTo>
                  <a:cubicBezTo>
                    <a:pt x="791" y="990"/>
                    <a:pt x="796" y="975"/>
                    <a:pt x="803" y="965"/>
                  </a:cubicBezTo>
                  <a:cubicBezTo>
                    <a:pt x="832" y="924"/>
                    <a:pt x="852" y="879"/>
                    <a:pt x="865" y="829"/>
                  </a:cubicBezTo>
                  <a:cubicBezTo>
                    <a:pt x="862" y="761"/>
                    <a:pt x="866" y="608"/>
                    <a:pt x="826" y="540"/>
                  </a:cubicBezTo>
                  <a:cubicBezTo>
                    <a:pt x="816" y="499"/>
                    <a:pt x="783" y="463"/>
                    <a:pt x="756" y="431"/>
                  </a:cubicBezTo>
                  <a:cubicBezTo>
                    <a:pt x="743" y="390"/>
                    <a:pt x="713" y="386"/>
                    <a:pt x="756" y="369"/>
                  </a:cubicBezTo>
                  <a:cubicBezTo>
                    <a:pt x="797" y="385"/>
                    <a:pt x="838" y="389"/>
                    <a:pt x="881" y="395"/>
                  </a:cubicBezTo>
                  <a:cubicBezTo>
                    <a:pt x="953" y="424"/>
                    <a:pt x="1019" y="400"/>
                    <a:pt x="1068" y="341"/>
                  </a:cubicBezTo>
                  <a:cubicBezTo>
                    <a:pt x="1058" y="239"/>
                    <a:pt x="1073" y="282"/>
                    <a:pt x="1029" y="206"/>
                  </a:cubicBezTo>
                  <a:cubicBezTo>
                    <a:pt x="1018" y="188"/>
                    <a:pt x="1000" y="176"/>
                    <a:pt x="982" y="169"/>
                  </a:cubicBezTo>
                  <a:cubicBezTo>
                    <a:pt x="966" y="164"/>
                    <a:pt x="935" y="152"/>
                    <a:pt x="935" y="152"/>
                  </a:cubicBezTo>
                  <a:cubicBezTo>
                    <a:pt x="871" y="100"/>
                    <a:pt x="745" y="109"/>
                    <a:pt x="663" y="97"/>
                  </a:cubicBezTo>
                  <a:cubicBezTo>
                    <a:pt x="637" y="94"/>
                    <a:pt x="607" y="103"/>
                    <a:pt x="585" y="88"/>
                  </a:cubicBezTo>
                  <a:cubicBezTo>
                    <a:pt x="574" y="80"/>
                    <a:pt x="585" y="9"/>
                    <a:pt x="567" y="0"/>
                  </a:cubicBezTo>
                </a:path>
              </a:pathLst>
            </a:custGeom>
            <a:solidFill>
              <a:srgbClr val="ffff99"/>
            </a:solidFill>
            <a:ln w="38160">
              <a:solidFill>
                <a:srgbClr val="0000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533" name=""/>
          <p:cNvSpPr/>
          <p:nvPr/>
        </p:nvSpPr>
        <p:spPr>
          <a:xfrm>
            <a:off x="457200" y="2971800"/>
            <a:ext cx="1600200" cy="591480"/>
          </a:xfrm>
          <a:prstGeom prst="rect">
            <a:avLst/>
          </a:prstGeom>
          <a:solidFill>
            <a:srgbClr val="ffff99"/>
          </a:solidFill>
          <a:ln w="0">
            <a:noFill/>
          </a:ln>
        </p:spPr>
        <p:style>
          <a:lnRef idx="0"/>
          <a:fillRef idx="0"/>
          <a:effectRef idx="0"/>
          <a:fontRef idx="minor"/>
        </p:style>
        <p:txBody>
          <a:bodyPr lIns="72720" rIns="72720" tIns="36360" bIns="36360" anchor="t">
            <a:spAutoFit/>
          </a:bodyPr>
          <a:p>
            <a:pPr algn="ctr" rtl="1">
              <a:lnSpc>
                <a:spcPct val="100000"/>
              </a:lnSpc>
              <a:spcBef>
                <a:spcPts val="1063"/>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1700" spc="-1" strike="noStrike">
                <a:solidFill>
                  <a:srgbClr val="0066ff"/>
                </a:solidFill>
                <a:latin typeface="Impact"/>
                <a:cs typeface="Arial"/>
              </a:rPr>
              <a:t>القائمون بالواجبات</a:t>
            </a:r>
            <a:endParaRPr b="0" lang="en-US" sz="1700" spc="-1" strike="noStrike">
              <a:solidFill>
                <a:srgbClr val="000000"/>
              </a:solidFill>
              <a:latin typeface="Arial"/>
            </a:endParaRPr>
          </a:p>
        </p:txBody>
      </p:sp>
      <p:grpSp>
        <p:nvGrpSpPr>
          <p:cNvPr id="534" name=""/>
          <p:cNvGrpSpPr/>
          <p:nvPr/>
        </p:nvGrpSpPr>
        <p:grpSpPr>
          <a:xfrm>
            <a:off x="7238880" y="685800"/>
            <a:ext cx="1752840" cy="2171880"/>
            <a:chOff x="7238880" y="685800"/>
            <a:chExt cx="1752840" cy="2171880"/>
          </a:xfrm>
        </p:grpSpPr>
        <p:sp>
          <p:nvSpPr>
            <p:cNvPr id="535" name=""/>
            <p:cNvSpPr/>
            <p:nvPr/>
          </p:nvSpPr>
          <p:spPr>
            <a:xfrm>
              <a:off x="7772400" y="685800"/>
              <a:ext cx="685800" cy="609480"/>
            </a:xfrm>
            <a:prstGeom prst="smileyFace">
              <a:avLst>
                <a:gd name="adj" fmla="val 9282"/>
              </a:avLst>
            </a:prstGeom>
            <a:solidFill>
              <a:srgbClr val="ffff99"/>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7238880" y="1295280"/>
              <a:ext cx="1752840" cy="1562400"/>
            </a:xfrm>
            <a:custGeom>
              <a:avLst/>
              <a:gdLst/>
              <a:ahLst/>
              <a:rect l="l" t="t" r="r" b="b"/>
              <a:pathLst>
                <a:path w="1104" h="1027">
                  <a:moveTo>
                    <a:pt x="472" y="0"/>
                  </a:moveTo>
                  <a:cubicBezTo>
                    <a:pt x="473" y="14"/>
                    <a:pt x="491" y="61"/>
                    <a:pt x="481" y="75"/>
                  </a:cubicBezTo>
                  <a:cubicBezTo>
                    <a:pt x="471" y="89"/>
                    <a:pt x="433" y="81"/>
                    <a:pt x="411" y="84"/>
                  </a:cubicBezTo>
                  <a:cubicBezTo>
                    <a:pt x="389" y="87"/>
                    <a:pt x="390" y="89"/>
                    <a:pt x="349" y="91"/>
                  </a:cubicBezTo>
                  <a:cubicBezTo>
                    <a:pt x="309" y="93"/>
                    <a:pt x="222" y="88"/>
                    <a:pt x="168" y="94"/>
                  </a:cubicBezTo>
                  <a:cubicBezTo>
                    <a:pt x="115" y="101"/>
                    <a:pt x="60" y="112"/>
                    <a:pt x="32" y="130"/>
                  </a:cubicBezTo>
                  <a:cubicBezTo>
                    <a:pt x="4" y="147"/>
                    <a:pt x="2" y="175"/>
                    <a:pt x="1" y="198"/>
                  </a:cubicBezTo>
                  <a:cubicBezTo>
                    <a:pt x="0" y="222"/>
                    <a:pt x="1" y="251"/>
                    <a:pt x="24" y="275"/>
                  </a:cubicBezTo>
                  <a:cubicBezTo>
                    <a:pt x="47" y="299"/>
                    <a:pt x="106" y="332"/>
                    <a:pt x="140" y="344"/>
                  </a:cubicBezTo>
                  <a:cubicBezTo>
                    <a:pt x="174" y="355"/>
                    <a:pt x="201" y="348"/>
                    <a:pt x="225" y="344"/>
                  </a:cubicBezTo>
                  <a:cubicBezTo>
                    <a:pt x="250" y="340"/>
                    <a:pt x="268" y="315"/>
                    <a:pt x="287" y="321"/>
                  </a:cubicBezTo>
                  <a:cubicBezTo>
                    <a:pt x="307" y="326"/>
                    <a:pt x="349" y="319"/>
                    <a:pt x="343" y="377"/>
                  </a:cubicBezTo>
                  <a:cubicBezTo>
                    <a:pt x="336" y="435"/>
                    <a:pt x="261" y="579"/>
                    <a:pt x="244" y="670"/>
                  </a:cubicBezTo>
                  <a:cubicBezTo>
                    <a:pt x="227" y="761"/>
                    <a:pt x="227" y="868"/>
                    <a:pt x="241" y="925"/>
                  </a:cubicBezTo>
                  <a:cubicBezTo>
                    <a:pt x="254" y="980"/>
                    <a:pt x="280" y="1007"/>
                    <a:pt x="325" y="1006"/>
                  </a:cubicBezTo>
                  <a:cubicBezTo>
                    <a:pt x="372" y="1005"/>
                    <a:pt x="473" y="1007"/>
                    <a:pt x="518" y="918"/>
                  </a:cubicBezTo>
                  <a:cubicBezTo>
                    <a:pt x="559" y="829"/>
                    <a:pt x="563" y="527"/>
                    <a:pt x="579" y="473"/>
                  </a:cubicBezTo>
                  <a:cubicBezTo>
                    <a:pt x="593" y="419"/>
                    <a:pt x="602" y="560"/>
                    <a:pt x="608" y="595"/>
                  </a:cubicBezTo>
                  <a:cubicBezTo>
                    <a:pt x="612" y="629"/>
                    <a:pt x="608" y="660"/>
                    <a:pt x="608" y="685"/>
                  </a:cubicBezTo>
                  <a:cubicBezTo>
                    <a:pt x="608" y="711"/>
                    <a:pt x="603" y="695"/>
                    <a:pt x="608" y="745"/>
                  </a:cubicBezTo>
                  <a:cubicBezTo>
                    <a:pt x="611" y="796"/>
                    <a:pt x="603" y="940"/>
                    <a:pt x="627" y="984"/>
                  </a:cubicBezTo>
                  <a:cubicBezTo>
                    <a:pt x="650" y="1027"/>
                    <a:pt x="713" y="1009"/>
                    <a:pt x="748" y="1006"/>
                  </a:cubicBezTo>
                  <a:cubicBezTo>
                    <a:pt x="782" y="1003"/>
                    <a:pt x="809" y="1015"/>
                    <a:pt x="833" y="965"/>
                  </a:cubicBezTo>
                  <a:cubicBezTo>
                    <a:pt x="857" y="915"/>
                    <a:pt x="885" y="775"/>
                    <a:pt x="894" y="708"/>
                  </a:cubicBezTo>
                  <a:cubicBezTo>
                    <a:pt x="903" y="641"/>
                    <a:pt x="903" y="617"/>
                    <a:pt x="885" y="564"/>
                  </a:cubicBezTo>
                  <a:cubicBezTo>
                    <a:pt x="869" y="512"/>
                    <a:pt x="807" y="434"/>
                    <a:pt x="791" y="391"/>
                  </a:cubicBezTo>
                  <a:cubicBezTo>
                    <a:pt x="775" y="348"/>
                    <a:pt x="777" y="323"/>
                    <a:pt x="791" y="309"/>
                  </a:cubicBezTo>
                  <a:cubicBezTo>
                    <a:pt x="804" y="296"/>
                    <a:pt x="849" y="311"/>
                    <a:pt x="875" y="309"/>
                  </a:cubicBezTo>
                  <a:cubicBezTo>
                    <a:pt x="901" y="307"/>
                    <a:pt x="913" y="305"/>
                    <a:pt x="945" y="298"/>
                  </a:cubicBezTo>
                  <a:cubicBezTo>
                    <a:pt x="977" y="291"/>
                    <a:pt x="1043" y="283"/>
                    <a:pt x="1069" y="267"/>
                  </a:cubicBezTo>
                  <a:cubicBezTo>
                    <a:pt x="1095" y="251"/>
                    <a:pt x="1104" y="222"/>
                    <a:pt x="1100" y="198"/>
                  </a:cubicBezTo>
                  <a:cubicBezTo>
                    <a:pt x="1096" y="175"/>
                    <a:pt x="1076" y="141"/>
                    <a:pt x="1046" y="122"/>
                  </a:cubicBezTo>
                  <a:cubicBezTo>
                    <a:pt x="1016" y="103"/>
                    <a:pt x="986" y="89"/>
                    <a:pt x="922" y="82"/>
                  </a:cubicBezTo>
                  <a:cubicBezTo>
                    <a:pt x="858" y="75"/>
                    <a:pt x="711" y="96"/>
                    <a:pt x="661" y="82"/>
                  </a:cubicBezTo>
                  <a:cubicBezTo>
                    <a:pt x="611" y="68"/>
                    <a:pt x="632" y="17"/>
                    <a:pt x="624" y="0"/>
                  </a:cubicBezTo>
                </a:path>
              </a:pathLst>
            </a:custGeom>
            <a:solidFill>
              <a:srgbClr val="ffff99"/>
            </a:solidFill>
            <a:ln w="381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537" name=""/>
          <p:cNvSpPr/>
          <p:nvPr/>
        </p:nvSpPr>
        <p:spPr>
          <a:xfrm>
            <a:off x="7391520" y="2971800"/>
            <a:ext cx="1676160" cy="591480"/>
          </a:xfrm>
          <a:prstGeom prst="rect">
            <a:avLst/>
          </a:prstGeom>
          <a:solidFill>
            <a:srgbClr val="ffff99"/>
          </a:solidFill>
          <a:ln w="0">
            <a:noFill/>
          </a:ln>
        </p:spPr>
        <p:style>
          <a:lnRef idx="0"/>
          <a:fillRef idx="0"/>
          <a:effectRef idx="0"/>
          <a:fontRef idx="minor"/>
        </p:style>
        <p:txBody>
          <a:bodyPr lIns="72720" rIns="72720" tIns="36360" bIns="36360" anchor="t">
            <a:spAutoFit/>
          </a:bodyPr>
          <a:p>
            <a:pPr algn="ctr" rtl="1">
              <a:lnSpc>
                <a:spcPct val="100000"/>
              </a:lnSpc>
              <a:spcBef>
                <a:spcPts val="1063"/>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1700" spc="-1" strike="noStrike">
                <a:solidFill>
                  <a:srgbClr val="0066ff"/>
                </a:solidFill>
                <a:latin typeface="Impact"/>
                <a:cs typeface="Arial"/>
              </a:rPr>
              <a:t>أصحاب الحقوق</a:t>
            </a:r>
            <a:endParaRPr b="0" lang="en-US" sz="1700" spc="-1" strike="noStrike">
              <a:solidFill>
                <a:srgbClr val="000000"/>
              </a:solidFill>
              <a:latin typeface="Arial"/>
            </a:endParaRPr>
          </a:p>
        </p:txBody>
      </p:sp>
      <p:grpSp>
        <p:nvGrpSpPr>
          <p:cNvPr id="538" name=""/>
          <p:cNvGrpSpPr/>
          <p:nvPr/>
        </p:nvGrpSpPr>
        <p:grpSpPr>
          <a:xfrm>
            <a:off x="3962520" y="1523880"/>
            <a:ext cx="457200" cy="685800"/>
            <a:chOff x="3962520" y="1523880"/>
            <a:chExt cx="457200" cy="685800"/>
          </a:xfrm>
        </p:grpSpPr>
        <p:sp>
          <p:nvSpPr>
            <p:cNvPr id="539" name=""/>
            <p:cNvSpPr/>
            <p:nvPr/>
          </p:nvSpPr>
          <p:spPr>
            <a:xfrm>
              <a:off x="4114800" y="1523880"/>
              <a:ext cx="152280" cy="152640"/>
            </a:xfrm>
            <a:prstGeom prst="smileyFace">
              <a:avLst>
                <a:gd name="adj" fmla="val 9282"/>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3962520" y="1676520"/>
              <a:ext cx="457200" cy="533160"/>
            </a:xfrm>
            <a:custGeom>
              <a:avLst/>
              <a:gdLst/>
              <a:ahLst/>
              <a:rect l="l" t="t" r="r" b="b"/>
              <a:pathLst>
                <a:path w="1256" h="1115">
                  <a:moveTo>
                    <a:pt x="551" y="0"/>
                  </a:moveTo>
                  <a:cubicBezTo>
                    <a:pt x="546" y="14"/>
                    <a:pt x="531" y="69"/>
                    <a:pt x="519" y="92"/>
                  </a:cubicBezTo>
                  <a:cubicBezTo>
                    <a:pt x="507" y="115"/>
                    <a:pt x="521" y="130"/>
                    <a:pt x="478" y="136"/>
                  </a:cubicBezTo>
                  <a:cubicBezTo>
                    <a:pt x="435" y="141"/>
                    <a:pt x="320" y="125"/>
                    <a:pt x="262" y="125"/>
                  </a:cubicBezTo>
                  <a:cubicBezTo>
                    <a:pt x="202" y="125"/>
                    <a:pt x="166" y="128"/>
                    <a:pt x="126" y="136"/>
                  </a:cubicBezTo>
                  <a:cubicBezTo>
                    <a:pt x="86" y="144"/>
                    <a:pt x="40" y="157"/>
                    <a:pt x="20" y="176"/>
                  </a:cubicBezTo>
                  <a:cubicBezTo>
                    <a:pt x="0" y="195"/>
                    <a:pt x="0" y="219"/>
                    <a:pt x="4" y="248"/>
                  </a:cubicBezTo>
                  <a:cubicBezTo>
                    <a:pt x="8" y="277"/>
                    <a:pt x="9" y="333"/>
                    <a:pt x="44" y="353"/>
                  </a:cubicBezTo>
                  <a:cubicBezTo>
                    <a:pt x="79" y="373"/>
                    <a:pt x="168" y="367"/>
                    <a:pt x="212" y="368"/>
                  </a:cubicBezTo>
                  <a:cubicBezTo>
                    <a:pt x="256" y="369"/>
                    <a:pt x="282" y="362"/>
                    <a:pt x="311" y="360"/>
                  </a:cubicBezTo>
                  <a:cubicBezTo>
                    <a:pt x="340" y="358"/>
                    <a:pt x="364" y="342"/>
                    <a:pt x="385" y="353"/>
                  </a:cubicBezTo>
                  <a:cubicBezTo>
                    <a:pt x="405" y="364"/>
                    <a:pt x="441" y="361"/>
                    <a:pt x="433" y="425"/>
                  </a:cubicBezTo>
                  <a:cubicBezTo>
                    <a:pt x="425" y="489"/>
                    <a:pt x="353" y="639"/>
                    <a:pt x="336" y="736"/>
                  </a:cubicBezTo>
                  <a:cubicBezTo>
                    <a:pt x="320" y="833"/>
                    <a:pt x="320" y="947"/>
                    <a:pt x="333" y="1006"/>
                  </a:cubicBezTo>
                  <a:cubicBezTo>
                    <a:pt x="346" y="1065"/>
                    <a:pt x="371" y="1094"/>
                    <a:pt x="416" y="1093"/>
                  </a:cubicBezTo>
                  <a:cubicBezTo>
                    <a:pt x="461" y="1092"/>
                    <a:pt x="561" y="1094"/>
                    <a:pt x="604" y="999"/>
                  </a:cubicBezTo>
                  <a:cubicBezTo>
                    <a:pt x="645" y="905"/>
                    <a:pt x="649" y="584"/>
                    <a:pt x="664" y="527"/>
                  </a:cubicBezTo>
                  <a:cubicBezTo>
                    <a:pt x="678" y="470"/>
                    <a:pt x="687" y="619"/>
                    <a:pt x="692" y="656"/>
                  </a:cubicBezTo>
                  <a:cubicBezTo>
                    <a:pt x="696" y="693"/>
                    <a:pt x="692" y="725"/>
                    <a:pt x="692" y="752"/>
                  </a:cubicBezTo>
                  <a:cubicBezTo>
                    <a:pt x="692" y="779"/>
                    <a:pt x="688" y="763"/>
                    <a:pt x="692" y="816"/>
                  </a:cubicBezTo>
                  <a:cubicBezTo>
                    <a:pt x="695" y="869"/>
                    <a:pt x="688" y="1023"/>
                    <a:pt x="711" y="1069"/>
                  </a:cubicBezTo>
                  <a:cubicBezTo>
                    <a:pt x="734" y="1115"/>
                    <a:pt x="796" y="1096"/>
                    <a:pt x="830" y="1093"/>
                  </a:cubicBezTo>
                  <a:cubicBezTo>
                    <a:pt x="863" y="1090"/>
                    <a:pt x="889" y="1102"/>
                    <a:pt x="913" y="1049"/>
                  </a:cubicBezTo>
                  <a:cubicBezTo>
                    <a:pt x="937" y="996"/>
                    <a:pt x="964" y="847"/>
                    <a:pt x="973" y="776"/>
                  </a:cubicBezTo>
                  <a:cubicBezTo>
                    <a:pt x="981" y="705"/>
                    <a:pt x="981" y="680"/>
                    <a:pt x="964" y="624"/>
                  </a:cubicBezTo>
                  <a:cubicBezTo>
                    <a:pt x="948" y="568"/>
                    <a:pt x="887" y="485"/>
                    <a:pt x="871" y="440"/>
                  </a:cubicBezTo>
                  <a:cubicBezTo>
                    <a:pt x="856" y="395"/>
                    <a:pt x="858" y="367"/>
                    <a:pt x="871" y="353"/>
                  </a:cubicBezTo>
                  <a:cubicBezTo>
                    <a:pt x="885" y="339"/>
                    <a:pt x="926" y="351"/>
                    <a:pt x="954" y="353"/>
                  </a:cubicBezTo>
                  <a:cubicBezTo>
                    <a:pt x="981" y="355"/>
                    <a:pt x="992" y="372"/>
                    <a:pt x="1038" y="364"/>
                  </a:cubicBezTo>
                  <a:cubicBezTo>
                    <a:pt x="1082" y="356"/>
                    <a:pt x="1192" y="337"/>
                    <a:pt x="1224" y="310"/>
                  </a:cubicBezTo>
                  <a:cubicBezTo>
                    <a:pt x="1256" y="283"/>
                    <a:pt x="1242" y="229"/>
                    <a:pt x="1228" y="200"/>
                  </a:cubicBezTo>
                  <a:cubicBezTo>
                    <a:pt x="1214" y="171"/>
                    <a:pt x="1178" y="148"/>
                    <a:pt x="1138" y="136"/>
                  </a:cubicBezTo>
                  <a:cubicBezTo>
                    <a:pt x="1098" y="124"/>
                    <a:pt x="1039" y="131"/>
                    <a:pt x="989" y="128"/>
                  </a:cubicBezTo>
                  <a:cubicBezTo>
                    <a:pt x="940" y="125"/>
                    <a:pt x="879" y="140"/>
                    <a:pt x="840" y="120"/>
                  </a:cubicBezTo>
                  <a:cubicBezTo>
                    <a:pt x="802" y="100"/>
                    <a:pt x="775" y="31"/>
                    <a:pt x="758" y="8"/>
                  </a:cubicBezTo>
                </a:path>
              </a:pathLst>
            </a:custGeom>
            <a:solidFill>
              <a:srgbClr val="ffff99"/>
            </a:solidFill>
            <a:ln w="25560">
              <a:solidFill>
                <a:srgbClr val="0000ff"/>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541" name=""/>
          <p:cNvSpPr/>
          <p:nvPr/>
        </p:nvSpPr>
        <p:spPr>
          <a:xfrm>
            <a:off x="4500720" y="1989000"/>
            <a:ext cx="1339560" cy="39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000066"/>
                </a:solidFill>
                <a:latin typeface="Impact"/>
                <a:cs typeface="Arial"/>
              </a:rPr>
              <a:t>منظمات المجتمع المدني</a:t>
            </a:r>
            <a:endParaRPr b="0" lang="en-US" sz="1000" spc="-1" strike="noStrike">
              <a:solidFill>
                <a:srgbClr val="000000"/>
              </a:solidFill>
              <a:latin typeface="Arial"/>
            </a:endParaRPr>
          </a:p>
        </p:txBody>
      </p:sp>
      <p:sp>
        <p:nvSpPr>
          <p:cNvPr id="542" name=""/>
          <p:cNvSpPr/>
          <p:nvPr/>
        </p:nvSpPr>
        <p:spPr>
          <a:xfrm>
            <a:off x="1835280" y="1066680"/>
            <a:ext cx="1368360" cy="1796760"/>
          </a:xfrm>
          <a:prstGeom prst="rect">
            <a:avLst/>
          </a:prstGeom>
          <a:noFill/>
          <a:ln w="0">
            <a:noFill/>
          </a:ln>
        </p:spPr>
        <p:style>
          <a:lnRef idx="0"/>
          <a:fillRef idx="0"/>
          <a:effectRef idx="0"/>
          <a:fontRef idx="minor"/>
        </p:style>
        <p:txBody>
          <a:bodyPr lIns="72720" rIns="72720" tIns="36360" bIns="36360" anchor="t">
            <a:spAutoFit/>
          </a:bodyPr>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ea typeface="Arial"/>
              </a:rPr>
              <a:t> القوانين</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سياسات</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خدمات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بيانات المتابعة</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8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وسائل العلاجية</a:t>
            </a:r>
            <a:endParaRPr b="0" lang="en-US" sz="1400" spc="-1" strike="noStrike">
              <a:solidFill>
                <a:srgbClr val="000000"/>
              </a:solidFill>
              <a:latin typeface="Arial"/>
            </a:endParaRPr>
          </a:p>
        </p:txBody>
      </p:sp>
      <p:sp>
        <p:nvSpPr>
          <p:cNvPr id="543" name=""/>
          <p:cNvSpPr/>
          <p:nvPr/>
        </p:nvSpPr>
        <p:spPr>
          <a:xfrm>
            <a:off x="5257800" y="990720"/>
            <a:ext cx="2209680" cy="2223000"/>
          </a:xfrm>
          <a:prstGeom prst="rect">
            <a:avLst/>
          </a:prstGeom>
          <a:noFill/>
          <a:ln w="0">
            <a:noFill/>
          </a:ln>
        </p:spPr>
        <p:style>
          <a:lnRef idx="0"/>
          <a:fillRef idx="0"/>
          <a:effectRef idx="0"/>
          <a:fontRef idx="minor"/>
        </p:style>
        <p:txBody>
          <a:bodyPr lIns="72720" rIns="72720" tIns="36360" bIns="36360" anchor="t">
            <a:spAutoFit/>
          </a:bodyPr>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علومات والتعليم / التثقيف</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شاركة</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تنظيم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متابعة </a:t>
            </a:r>
            <a:endParaRPr b="0" lang="en-US" sz="1400" spc="-1" strike="noStrike">
              <a:solidFill>
                <a:srgbClr val="000000"/>
              </a:solidFill>
              <a:latin typeface="Arial"/>
            </a:endParaRPr>
          </a:p>
          <a:p>
            <a:pPr marL="174600" indent="-174600" algn="r" rtl="1">
              <a:lnSpc>
                <a:spcPct val="100000"/>
              </a:lnSpc>
              <a:spcBef>
                <a:spcPts val="876"/>
              </a:spcBef>
              <a:buClr>
                <a:srgbClr val="ff0000"/>
              </a:buClr>
              <a:buSzPct val="160000"/>
              <a:buFont typeface="Impact"/>
              <a:buChar char="•"/>
              <a:tabLst>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ar-JO" sz="1400" spc="-1" strike="noStrike">
                <a:solidFill>
                  <a:srgbClr val="000000"/>
                </a:solidFill>
                <a:latin typeface="Impact"/>
                <a:cs typeface="Arial"/>
              </a:rPr>
              <a:t>الوصول إلى الوسائل العلاجية (الإدارية والقضائية)</a:t>
            </a:r>
            <a:endParaRPr b="0" lang="en-US" sz="1400" spc="-1" strike="noStrike">
              <a:solidFill>
                <a:srgbClr val="000000"/>
              </a:solidFill>
              <a:latin typeface="Arial"/>
            </a:endParaRPr>
          </a:p>
        </p:txBody>
      </p:sp>
      <p:sp>
        <p:nvSpPr>
          <p:cNvPr id="544" name=""/>
          <p:cNvSpPr/>
          <p:nvPr/>
        </p:nvSpPr>
        <p:spPr>
          <a:xfrm>
            <a:off x="3186000" y="1387440"/>
            <a:ext cx="205740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352680" y="1066680"/>
            <a:ext cx="1828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القيام بالواجبات</a:t>
            </a:r>
            <a:endParaRPr b="0" lang="en-US" sz="1800" spc="-1" strike="noStrike">
              <a:solidFill>
                <a:srgbClr val="000000"/>
              </a:solidFill>
              <a:latin typeface="Arial"/>
            </a:endParaRPr>
          </a:p>
        </p:txBody>
      </p:sp>
      <p:sp>
        <p:nvSpPr>
          <p:cNvPr id="546" name=""/>
          <p:cNvSpPr/>
          <p:nvPr/>
        </p:nvSpPr>
        <p:spPr>
          <a:xfrm flipH="1">
            <a:off x="3123720" y="2590920"/>
            <a:ext cx="205740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352680" y="2286000"/>
            <a:ext cx="175284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Arial"/>
                <a:cs typeface="Arial"/>
              </a:rPr>
              <a:t>المطالبة بالحقوق</a:t>
            </a:r>
            <a:endParaRPr b="0" lang="en-US" sz="1400" spc="-1" strike="noStrike">
              <a:solidFill>
                <a:srgbClr val="000000"/>
              </a:solidFill>
              <a:latin typeface="Arial"/>
            </a:endParaRPr>
          </a:p>
        </p:txBody>
      </p:sp>
      <p:sp>
        <p:nvSpPr>
          <p:cNvPr id="548" name=""/>
          <p:cNvSpPr/>
          <p:nvPr/>
        </p:nvSpPr>
        <p:spPr>
          <a:xfrm>
            <a:off x="533520" y="5837400"/>
            <a:ext cx="6095880" cy="438840"/>
          </a:xfrm>
          <a:prstGeom prst="rect">
            <a:avLst/>
          </a:prstGeom>
          <a:noFill/>
          <a:ln w="28440">
            <a:solidFill>
              <a:srgbClr val="0000ff"/>
            </a:solidFill>
            <a:miter/>
          </a:ln>
        </p:spPr>
        <p:style>
          <a:lnRef idx="0"/>
          <a:fillRef idx="0"/>
          <a:effectRef idx="0"/>
          <a:fontRef idx="minor"/>
        </p:style>
        <p:txBody>
          <a:bodyPr lIns="72720" rIns="72720" tIns="36360" bIns="36360" anchor="t">
            <a:spAutoFit/>
          </a:bodyPr>
          <a:p>
            <a:pPr algn="ctr" rtl="1">
              <a:lnSpc>
                <a:spcPct val="100000"/>
              </a:lnSpc>
              <a:spcBef>
                <a:spcPts val="1500"/>
              </a:spcBef>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1" lang="ar-JO" sz="2400" spc="-1" strike="noStrike">
                <a:solidFill>
                  <a:srgbClr val="ff0000"/>
                </a:solidFill>
                <a:latin typeface="Impact"/>
                <a:cs typeface="Simplified Arabic"/>
              </a:rPr>
              <a:t>دعم فريق الأمم المتحدة القُطري</a:t>
            </a:r>
            <a:endParaRPr b="0" lang="en-US" sz="2400" spc="-1" strike="noStrike">
              <a:solidFill>
                <a:srgbClr val="000000"/>
              </a:solidFill>
              <a:latin typeface="Arial"/>
            </a:endParaRPr>
          </a:p>
        </p:txBody>
      </p:sp>
      <p:sp>
        <p:nvSpPr>
          <p:cNvPr id="549" name=""/>
          <p:cNvSpPr/>
          <p:nvPr/>
        </p:nvSpPr>
        <p:spPr>
          <a:xfrm flipH="1" flipV="1">
            <a:off x="533160" y="3580920"/>
            <a:ext cx="685800" cy="2210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rot="4363800">
            <a:off x="-573840" y="4327200"/>
            <a:ext cx="26733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قوانين والسياسات، المساعدة الفنية</a:t>
            </a:r>
            <a:endParaRPr b="0" lang="en-US" sz="2000" spc="-1" strike="noStrike">
              <a:solidFill>
                <a:srgbClr val="000000"/>
              </a:solidFill>
              <a:latin typeface="Arial"/>
            </a:endParaRPr>
          </a:p>
        </p:txBody>
      </p:sp>
      <p:sp>
        <p:nvSpPr>
          <p:cNvPr id="551" name=""/>
          <p:cNvSpPr/>
          <p:nvPr/>
        </p:nvSpPr>
        <p:spPr>
          <a:xfrm flipH="1" flipV="1">
            <a:off x="1371240" y="3657240"/>
            <a:ext cx="685800" cy="2057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rot="4363800">
            <a:off x="555120" y="4419720"/>
            <a:ext cx="26683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تقديم الخدمات</a:t>
            </a:r>
            <a:endParaRPr b="0" lang="en-US" sz="2000" spc="-1" strike="noStrike">
              <a:solidFill>
                <a:srgbClr val="000000"/>
              </a:solidFill>
              <a:latin typeface="Arial"/>
            </a:endParaRPr>
          </a:p>
        </p:txBody>
      </p:sp>
      <p:sp>
        <p:nvSpPr>
          <p:cNvPr id="553" name=""/>
          <p:cNvSpPr/>
          <p:nvPr/>
        </p:nvSpPr>
        <p:spPr>
          <a:xfrm flipH="1" flipV="1">
            <a:off x="4114800" y="3733560"/>
            <a:ext cx="77760" cy="1981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V="1" rot="15241200">
            <a:off x="1570320" y="4423680"/>
            <a:ext cx="22845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مناصرة وكسب التأييد</a:t>
            </a:r>
            <a:endParaRPr b="0" lang="en-US" sz="2000" spc="-1" strike="noStrike">
              <a:solidFill>
                <a:srgbClr val="000000"/>
              </a:solidFill>
              <a:latin typeface="Arial"/>
            </a:endParaRPr>
          </a:p>
        </p:txBody>
      </p:sp>
      <p:sp>
        <p:nvSpPr>
          <p:cNvPr id="555" name=""/>
          <p:cNvSpPr/>
          <p:nvPr/>
        </p:nvSpPr>
        <p:spPr>
          <a:xfrm flipV="1">
            <a:off x="4800600" y="3657240"/>
            <a:ext cx="2514600" cy="2057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V="1" rot="8404200">
            <a:off x="4416840" y="4323240"/>
            <a:ext cx="33224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المعلومات، والمشاركة، </a:t>
            </a:r>
            <a:endParaRPr b="0" lang="en-US" sz="2000" spc="-1" strike="noStrike">
              <a:solidFill>
                <a:srgbClr val="000000"/>
              </a:solidFill>
              <a:latin typeface="Arial"/>
            </a:endParaRPr>
          </a:p>
          <a:p>
            <a:pPr algn="r" rtl="1">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ar-JO" sz="2000" spc="-1" strike="noStrike">
                <a:solidFill>
                  <a:srgbClr val="000000"/>
                </a:solidFill>
                <a:latin typeface="Arial"/>
                <a:cs typeface="Arial"/>
              </a:rPr>
              <a:t>والتنظيم، والمتابعة</a:t>
            </a:r>
            <a:endParaRPr b="0" lang="en-US" sz="2000" spc="-1" strike="noStrike">
              <a:solidFill>
                <a:srgbClr val="000000"/>
              </a:solidFill>
              <a:latin typeface="Arial"/>
            </a:endParaRPr>
          </a:p>
        </p:txBody>
      </p:sp>
      <p:sp>
        <p:nvSpPr>
          <p:cNvPr id="557" name=""/>
          <p:cNvSpPr/>
          <p:nvPr/>
        </p:nvSpPr>
        <p:spPr>
          <a:xfrm flipH="1" flipV="1">
            <a:off x="2374920" y="3673440"/>
            <a:ext cx="534960" cy="2059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5400000">
            <a:off x="3917880" y="1800000"/>
            <a:ext cx="546120" cy="2286000"/>
          </a:xfrm>
          <a:prstGeom prst="rect">
            <a:avLst/>
          </a:prstGeom>
          <a:solidFill>
            <a:srgbClr val="ccecff"/>
          </a:solidFill>
          <a:ln w="0">
            <a:noFill/>
          </a:ln>
        </p:spPr>
        <p:style>
          <a:lnRef idx="0"/>
          <a:fillRef idx="0"/>
          <a:effectRef idx="0"/>
          <a:fontRef idx="minor"/>
        </p:style>
        <p:txBody>
          <a:bodyPr lIns="90000" rIns="90000" tIns="46800" bIns="46800" anchor="t" vert="eaVert" rot="10800000">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66"/>
                </a:solidFill>
                <a:latin typeface="Arial Narrow"/>
                <a:cs typeface="Arial"/>
              </a:rPr>
              <a:t>تنمية القدر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692000" y="475920"/>
            <a:ext cx="7124760" cy="865080"/>
          </a:xfrm>
          <a:prstGeom prst="rect">
            <a:avLst/>
          </a:prstGeom>
          <a:solidFill>
            <a:srgbClr val="ffffff"/>
          </a:solidFill>
          <a:ln w="0">
            <a:noFill/>
          </a:ln>
          <a:effectLst>
            <a:outerShdw dist="40186" dir="4303641"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cs typeface="Simplified Arabic"/>
              </a:rPr>
              <a:t>الدعم المتوافر لفرق الأمم المتحدة القُطرية</a:t>
            </a:r>
            <a:endParaRPr b="0" lang="en-US" sz="3600" spc="-1" strike="noStrike">
              <a:solidFill>
                <a:srgbClr val="000000"/>
              </a:solidFill>
              <a:latin typeface="Arial"/>
            </a:endParaRPr>
          </a:p>
        </p:txBody>
      </p:sp>
      <p:sp>
        <p:nvSpPr>
          <p:cNvPr id="560" name=""/>
          <p:cNvSpPr/>
          <p:nvPr/>
        </p:nvSpPr>
        <p:spPr>
          <a:xfrm>
            <a:off x="539640" y="1773360"/>
            <a:ext cx="8209080" cy="4443120"/>
          </a:xfrm>
          <a:prstGeom prst="rect">
            <a:avLst/>
          </a:prstGeom>
          <a:solidFill>
            <a:srgbClr val="ffffff"/>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برنامج العمل الثاني</a:t>
            </a:r>
            <a:endParaRPr b="0" lang="en-US" sz="2400" spc="-1" strike="noStrike">
              <a:solidFill>
                <a:srgbClr val="000000"/>
              </a:solidFill>
              <a:latin typeface="Arial"/>
            </a:endParaRPr>
          </a:p>
          <a:p>
            <a:pPr marL="231840" indent="33120" algn="r" rtl="1">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بناء القدرات، إعداد البرنامج المشترك، الأنظمة الوطنية لحقوق الإنسان، الآليات الدولية لحقوق الإنسان.</a:t>
            </a:r>
            <a:endParaRPr b="0" lang="en-US" sz="2000" spc="-1" strike="noStrike">
              <a:solidFill>
                <a:srgbClr val="000000"/>
              </a:solidFill>
              <a:latin typeface="Arial"/>
            </a:endParaRPr>
          </a:p>
          <a:p>
            <a:pPr marL="231840" indent="33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مكتب المفوض السامي لحقوق الإنسان</a:t>
            </a:r>
            <a:endParaRPr b="0" lang="en-US" sz="2400" spc="-1" strike="noStrike">
              <a:solidFill>
                <a:srgbClr val="000000"/>
              </a:solidFill>
              <a:latin typeface="Arial"/>
            </a:endParaRPr>
          </a:p>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هيئات المعاهدة، لمحات موجزة عن الدول، مستشارو حقوق الإنسان.</a:t>
            </a:r>
            <a:endParaRPr b="0" lang="en-US" sz="2000" spc="-1" strike="noStrike">
              <a:solidFill>
                <a:srgbClr val="000000"/>
              </a:solidFill>
              <a:latin typeface="Arial"/>
            </a:endParaRPr>
          </a:p>
          <a:p>
            <a:pPr marL="231840" indent="3312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3312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الوكالات</a:t>
            </a:r>
            <a:endParaRPr b="0" lang="en-US" sz="2400" spc="-1" strike="noStrike">
              <a:solidFill>
                <a:srgbClr val="000000"/>
              </a:solidFill>
              <a:latin typeface="Arial"/>
            </a:endParaRPr>
          </a:p>
          <a:p>
            <a:pPr marL="231840" indent="33120" algn="r" rtl="1">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Simplified Arabic"/>
              </a:rPr>
              <a:t>عملت عدة وكالات على إعداد السياسات والمبادئ التوجيهية والموارد لتوجيه الموظفين في تطبيق النهج المستند إلى حقوق الإنسان.</a:t>
            </a:r>
            <a:endParaRPr b="0" lang="en-US" sz="2000" spc="-1" strike="noStrike">
              <a:solidFill>
                <a:srgbClr val="000000"/>
              </a:solidFill>
              <a:latin typeface="Arial"/>
            </a:endParaRPr>
          </a:p>
          <a:p>
            <a:pPr marL="231840" indent="331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050920" y="1125000"/>
            <a:ext cx="5618160" cy="151308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Arial"/>
                <a:cs typeface="Simplified Arabic"/>
              </a:rPr>
              <a:t>الخطوات التالية: الاستراتيجيات والتخطيط للعمل</a:t>
            </a:r>
            <a:endParaRPr b="0" lang="en-US" sz="4000" spc="-1" strike="noStrike">
              <a:solidFill>
                <a:srgbClr val="000000"/>
              </a:solidFill>
              <a:latin typeface="Arial"/>
            </a:endParaRPr>
          </a:p>
        </p:txBody>
      </p:sp>
      <p:sp>
        <p:nvSpPr>
          <p:cNvPr id="562" name=""/>
          <p:cNvSpPr/>
          <p:nvPr/>
        </p:nvSpPr>
        <p:spPr>
          <a:xfrm>
            <a:off x="2771640" y="3645000"/>
            <a:ext cx="230508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عاشرة</a:t>
            </a:r>
            <a:endParaRPr b="0" lang="en-US" sz="3200" spc="-1" strike="noStrike">
              <a:solidFill>
                <a:srgbClr val="000000"/>
              </a:solidFill>
              <a:latin typeface="Arial"/>
            </a:endParaRPr>
          </a:p>
        </p:txBody>
      </p:sp>
      <p:pic>
        <p:nvPicPr>
          <p:cNvPr id="563" name="" descr=""/>
          <p:cNvPicPr/>
          <p:nvPr/>
        </p:nvPicPr>
        <p:blipFill>
          <a:blip r:embed="rId1"/>
          <a:stretch/>
        </p:blipFill>
        <p:spPr>
          <a:xfrm>
            <a:off x="6877080" y="4005360"/>
            <a:ext cx="2309760" cy="2755800"/>
          </a:xfrm>
          <a:prstGeom prst="rect">
            <a:avLst/>
          </a:prstGeom>
          <a:ln w="0">
            <a:noFill/>
          </a:ln>
        </p:spPr>
      </p:pic>
      <p:sp>
        <p:nvSpPr>
          <p:cNvPr id="564" name=""/>
          <p:cNvSpPr/>
          <p:nvPr/>
        </p:nvSpPr>
        <p:spPr>
          <a:xfrm>
            <a:off x="7093080" y="5362560"/>
            <a:ext cx="1584360" cy="1261440"/>
          </a:xfrm>
          <a:prstGeom prst="rect">
            <a:avLst/>
          </a:prstGeom>
          <a:noFill/>
          <a:ln w="0">
            <a:noFill/>
          </a:ln>
        </p:spPr>
        <p:style>
          <a:lnRef idx="0"/>
          <a:fillRef idx="0"/>
          <a:effectRef idx="0"/>
          <a:fontRef idx="minor"/>
        </p:style>
        <p:txBody>
          <a:bodyPr lIns="90000" rIns="90000" tIns="46800" bIns="46800" anchor="t">
            <a:spAutoFit/>
          </a:bodyPr>
          <a:p>
            <a:pPr algn="r" rtl="1">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600" spc="-1" strike="noStrike">
                <a:solidFill>
                  <a:srgbClr val="ff6600"/>
                </a:solidFill>
                <a:latin typeface="Comic Sans MS"/>
                <a:cs typeface="Arial"/>
              </a:rPr>
              <a:t>الإجراء الثاني: تعلّم حقوق الغ،سان مع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859280" y="1844640"/>
            <a:ext cx="3889440" cy="273528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cs typeface="Simplified Arabic"/>
              </a:rPr>
              <a:t>إدماج النوع الاجتماعي ...</a:t>
            </a:r>
            <a:br>
              <a:rPr sz="1000"/>
            </a:br>
            <a:r>
              <a:rPr b="0" lang="ar-JO" sz="1800" spc="-1" strike="noStrike">
                <a:solidFill>
                  <a:srgbClr val="000000"/>
                </a:solidFill>
                <a:latin typeface="Arial"/>
                <a:cs typeface="Simplified Arabic"/>
              </a:rPr>
              <a:t>يُقيِّم تبعات تنفيذ أية أعمال مخطط لها على كل من المرأة والرجل، ويجعل بواعث قلق المرأة والرجل واهتماماتهم جزءاً لا يتجزأ من جميع مراحل عملية البرمجة. </a:t>
            </a:r>
            <a:br>
              <a:rPr sz="1800"/>
            </a:br>
            <a:br>
              <a:rPr sz="1800"/>
            </a:br>
            <a:r>
              <a:rPr b="0" lang="ar-JO" sz="1800" spc="-1" strike="noStrike">
                <a:solidFill>
                  <a:srgbClr val="000000"/>
                </a:solidFill>
                <a:latin typeface="Arial"/>
                <a:cs typeface="Simplified Arabic"/>
              </a:rPr>
              <a:t>الهدف النهائي هو المساواة في النوع الاجتماعي.</a:t>
            </a:r>
            <a:endParaRPr b="0" lang="en-US" sz="1800" spc="-1" strike="noStrike">
              <a:solidFill>
                <a:srgbClr val="000000"/>
              </a:solidFill>
              <a:latin typeface="Arial"/>
            </a:endParaRPr>
          </a:p>
        </p:txBody>
      </p:sp>
      <p:sp>
        <p:nvSpPr>
          <p:cNvPr id="86" name=""/>
          <p:cNvSpPr/>
          <p:nvPr/>
        </p:nvSpPr>
        <p:spPr>
          <a:xfrm>
            <a:off x="1763640" y="549360"/>
            <a:ext cx="648036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87" name=""/>
          <p:cNvSpPr/>
          <p:nvPr/>
        </p:nvSpPr>
        <p:spPr>
          <a:xfrm>
            <a:off x="250920" y="2276640"/>
            <a:ext cx="4394160" cy="40320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177840" indent="-177840"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00"/>
                </a:solidFill>
                <a:latin typeface="Arial"/>
                <a:ea typeface="Simplified Arabic"/>
              </a:rPr>
              <a:t>... والحقوق الإنسانية للمرأة ...</a:t>
            </a:r>
            <a:br>
              <a:rPr sz="1900"/>
            </a:br>
            <a:r>
              <a:rPr b="0" lang="ar-JO" sz="1900" spc="-1" strike="noStrike">
                <a:solidFill>
                  <a:srgbClr val="000000"/>
                </a:solidFill>
                <a:latin typeface="Arial"/>
                <a:ea typeface="Simplified Arabic"/>
              </a:rPr>
              <a:t>-  المطالبة القانونية بعدم التمييز.</a:t>
            </a:r>
            <a:br>
              <a:rPr sz="1900"/>
            </a:br>
            <a:r>
              <a:rPr b="0" lang="ar-JO" sz="1900" spc="-1" strike="noStrike">
                <a:solidFill>
                  <a:srgbClr val="000000"/>
                </a:solidFill>
                <a:latin typeface="Arial"/>
                <a:ea typeface="Simplified Arabic"/>
              </a:rPr>
              <a:t>-  اتفاقية القضاء على جميع أشكال التمييز ضد المرأة هي واحدة من المعاهدات الأساسية لحقوق الإنسان الدولية. </a:t>
            </a:r>
            <a:br>
              <a:rPr sz="1900"/>
            </a:br>
            <a:r>
              <a:rPr b="0" lang="ar-JO" sz="1900" spc="-1" strike="noStrike">
                <a:solidFill>
                  <a:srgbClr val="000000"/>
                </a:solidFill>
                <a:latin typeface="Arial"/>
                <a:ea typeface="Simplified Arabic"/>
              </a:rPr>
              <a:t>-  الحقوق الإنسانية للمرأة أمر مركزي في تطبيق النهج القائم على حقوق الإنسان. </a:t>
            </a:r>
            <a:br>
              <a:rPr sz="1900"/>
            </a:br>
            <a:r>
              <a:rPr b="0" lang="ar-JO" sz="1900" spc="-1" strike="noStrike">
                <a:solidFill>
                  <a:srgbClr val="000000"/>
                </a:solidFill>
                <a:latin typeface="Arial"/>
                <a:ea typeface="Simplified Arabic"/>
              </a:rPr>
              <a:t>-  الهدف الأساسي من ذلك هو تحقيق المساواة في النوع الاجتماعي، وإدراك حقوق الإنسان جميعها بشكل متساوٍ بين المرأة والرجل. </a:t>
            </a:r>
            <a:endParaRPr b="0" lang="en-US" sz="19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graphicFrame>
        <p:nvGraphicFramePr>
          <p:cNvPr id="565" name=""/>
          <p:cNvGraphicFramePr/>
          <p:nvPr/>
        </p:nvGraphicFramePr>
        <p:xfrm>
          <a:off x="468360" y="1600200"/>
          <a:ext cx="8218440" cy="4502160"/>
        </p:xfrm>
        <a:graphic>
          <a:graphicData uri="http://schemas.openxmlformats.org/drawingml/2006/table">
            <a:tbl>
              <a:tblPr/>
              <a:tblGrid>
                <a:gridCol w="2732040"/>
                <a:gridCol w="3376440"/>
                <a:gridCol w="2109960"/>
              </a:tblGrid>
              <a:tr h="825480">
                <a:tc gridSpan="3">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cs typeface="Simplified Arabic"/>
                        </a:rPr>
                        <a:t>خطة عمل فريق الأمم المتحدة القُطري بشأن النهج القائم على حقوق الإنس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إطار الزمن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المسؤول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Times New Roman"/>
                          <a:cs typeface="Simplified Arabic"/>
                        </a:rPr>
                        <a:t>نقطة القياس المرجعية/النشا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6" name=""/>
          <p:cNvSpPr/>
          <p:nvPr/>
        </p:nvSpPr>
        <p:spPr>
          <a:xfrm>
            <a:off x="2195640" y="476280"/>
            <a:ext cx="5976720" cy="720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cs typeface="Arial"/>
              </a:rPr>
              <a:t>نموذج مقترح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979280" y="980640"/>
            <a:ext cx="5977080" cy="1584360"/>
          </a:xfrm>
          <a:prstGeom prst="rect">
            <a:avLst/>
          </a:prstGeom>
          <a:solidFill>
            <a:srgbClr val="000080"/>
          </a:solidFill>
          <a:ln w="0">
            <a:noFill/>
          </a:ln>
          <a:effectLst>
            <a:outerShdw dist="107932" dir="2700000" blurRad="0" rotWithShape="0">
              <a:srgbClr val="808080">
                <a:alpha val="5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Arial"/>
                <a:cs typeface="Arial"/>
              </a:rPr>
              <a:t>اختتام فعاليات ورشة العمل والتقييمات</a:t>
            </a:r>
            <a:endParaRPr b="0" lang="en-US" sz="4400" spc="-1" strike="noStrike">
              <a:solidFill>
                <a:srgbClr val="000000"/>
              </a:solidFill>
              <a:latin typeface="Arial"/>
            </a:endParaRPr>
          </a:p>
        </p:txBody>
      </p:sp>
      <p:sp>
        <p:nvSpPr>
          <p:cNvPr id="568" name=""/>
          <p:cNvSpPr/>
          <p:nvPr/>
        </p:nvSpPr>
        <p:spPr>
          <a:xfrm>
            <a:off x="1547640" y="3789360"/>
            <a:ext cx="3168720" cy="10688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Arial"/>
              </a:rPr>
              <a:t>الجلسة الحادية عشرة</a:t>
            </a:r>
            <a:endParaRPr b="0" lang="en-US" sz="3200" spc="-1" strike="noStrike">
              <a:solidFill>
                <a:srgbClr val="000000"/>
              </a:solidFill>
              <a:latin typeface="Arial"/>
            </a:endParaRPr>
          </a:p>
        </p:txBody>
      </p:sp>
      <p:pic>
        <p:nvPicPr>
          <p:cNvPr id="569" name="" descr=""/>
          <p:cNvPicPr/>
          <p:nvPr/>
        </p:nvPicPr>
        <p:blipFill>
          <a:blip r:embed="rId1"/>
          <a:stretch/>
        </p:blipFill>
        <p:spPr>
          <a:xfrm>
            <a:off x="6877080" y="4005360"/>
            <a:ext cx="2309760" cy="2755800"/>
          </a:xfrm>
          <a:prstGeom prst="rect">
            <a:avLst/>
          </a:prstGeom>
          <a:ln w="0">
            <a:noFill/>
          </a:ln>
        </p:spPr>
      </p:pic>
      <p:sp>
        <p:nvSpPr>
          <p:cNvPr id="570" name=""/>
          <p:cNvSpPr/>
          <p:nvPr/>
        </p:nvSpPr>
        <p:spPr>
          <a:xfrm>
            <a:off x="7093080" y="5362560"/>
            <a:ext cx="1584360" cy="1163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6877080" y="4005360"/>
            <a:ext cx="2309760" cy="2755800"/>
          </a:xfrm>
          <a:prstGeom prst="rect">
            <a:avLst/>
          </a:prstGeom>
          <a:ln w="0">
            <a:noFill/>
          </a:ln>
        </p:spPr>
      </p:pic>
      <p:sp>
        <p:nvSpPr>
          <p:cNvPr id="572" name=""/>
          <p:cNvSpPr/>
          <p:nvPr/>
        </p:nvSpPr>
        <p:spPr>
          <a:xfrm>
            <a:off x="1835280" y="1916280"/>
            <a:ext cx="5113080" cy="2016000"/>
          </a:xfrm>
          <a:prstGeom prst="rect">
            <a:avLst/>
          </a:prstGeom>
          <a:solidFill>
            <a:srgbClr val="000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JO" sz="4800" spc="-1" strike="noStrike">
                <a:solidFill>
                  <a:srgbClr val="ff9900"/>
                </a:solidFill>
                <a:latin typeface="Arial"/>
                <a:cs typeface="Simplified Arabic"/>
              </a:rPr>
              <a:t>شكراً لكم</a:t>
            </a:r>
            <a:endParaRPr b="0" lang="en-US" sz="4800" spc="-1" strike="noStrike">
              <a:solidFill>
                <a:srgbClr val="000000"/>
              </a:solidFill>
              <a:latin typeface="Arial"/>
            </a:endParaRPr>
          </a:p>
        </p:txBody>
      </p:sp>
      <p:sp>
        <p:nvSpPr>
          <p:cNvPr id="573" name=""/>
          <p:cNvSpPr/>
          <p:nvPr/>
        </p:nvSpPr>
        <p:spPr>
          <a:xfrm>
            <a:off x="7093080" y="5362560"/>
            <a:ext cx="1584360" cy="11631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1800" spc="-1" strike="noStrike">
                <a:solidFill>
                  <a:srgbClr val="ff6600"/>
                </a:solidFill>
                <a:latin typeface="Comic Sans MS"/>
                <a:cs typeface="Arial"/>
              </a:rPr>
              <a:t>الإجراء الثاني: تعلّم حقوق الإنسان مع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efe"/>
            </a:gs>
            <a:gs pos="100000">
              <a:srgbClr val="cc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003640" y="2205000"/>
            <a:ext cx="3889440" cy="345600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indent="0" algn="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JO" sz="2400" spc="-1" strike="noStrike">
                <a:solidFill>
                  <a:srgbClr val="000000"/>
                </a:solidFill>
                <a:latin typeface="Arial"/>
                <a:cs typeface="Simplified Arabic"/>
              </a:rPr>
              <a:t>القانون الإنساني ... </a:t>
            </a:r>
            <a:br>
              <a:rPr sz="2400"/>
            </a:br>
            <a:r>
              <a:rPr b="0" lang="ar-JO" sz="2400" spc="-1" strike="noStrike">
                <a:solidFill>
                  <a:srgbClr val="000000"/>
                </a:solidFill>
                <a:latin typeface="Arial"/>
                <a:cs typeface="Simplified Arabic"/>
              </a:rPr>
              <a:t>يُطبَّقُُ في الأوضاع الدولية وغير الدولية للنزاعات المسلحة. </a:t>
            </a:r>
            <a:br>
              <a:rPr sz="2400"/>
            </a:br>
            <a:br>
              <a:rPr sz="1400"/>
            </a:br>
            <a:r>
              <a:rPr b="0" lang="ar-JO" sz="2400" spc="-1" strike="noStrike">
                <a:solidFill>
                  <a:srgbClr val="000000"/>
                </a:solidFill>
                <a:latin typeface="Arial"/>
                <a:cs typeface="Simplified Arabic"/>
              </a:rPr>
              <a:t>وغايته هي الحدّ من آثار الحرب على الناس وعلى الأشياء. </a:t>
            </a:r>
            <a:br>
              <a:rPr sz="1400"/>
            </a:br>
            <a:endParaRPr b="0" lang="en-US" sz="2400" spc="-1" strike="noStrike">
              <a:solidFill>
                <a:srgbClr val="000000"/>
              </a:solidFill>
              <a:latin typeface="Arial"/>
            </a:endParaRPr>
          </a:p>
        </p:txBody>
      </p:sp>
      <p:sp>
        <p:nvSpPr>
          <p:cNvPr id="89" name=""/>
          <p:cNvSpPr/>
          <p:nvPr/>
        </p:nvSpPr>
        <p:spPr>
          <a:xfrm>
            <a:off x="1692360" y="549360"/>
            <a:ext cx="6551640" cy="934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Arial"/>
                <a:cs typeface="Arial"/>
              </a:rPr>
              <a:t>الروابط بين ...</a:t>
            </a:r>
            <a:endParaRPr b="0" lang="en-US" sz="4000" spc="-1" strike="noStrike">
              <a:solidFill>
                <a:srgbClr val="000000"/>
              </a:solidFill>
              <a:latin typeface="Arial"/>
            </a:endParaRPr>
          </a:p>
        </p:txBody>
      </p:sp>
      <p:sp>
        <p:nvSpPr>
          <p:cNvPr id="90" name=""/>
          <p:cNvSpPr/>
          <p:nvPr/>
        </p:nvSpPr>
        <p:spPr>
          <a:xfrm>
            <a:off x="611280" y="3141720"/>
            <a:ext cx="4174920" cy="2951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ea typeface="Simplified Arabic"/>
              </a:rPr>
              <a:t>... وحقوق الإنسان ...</a:t>
            </a:r>
            <a:br>
              <a:rPr sz="2000"/>
            </a:br>
            <a:br>
              <a:rPr sz="2000"/>
            </a:br>
            <a:r>
              <a:rPr b="0" lang="ar-JO" sz="2000" spc="-1" strike="noStrike">
                <a:solidFill>
                  <a:srgbClr val="000000"/>
                </a:solidFill>
                <a:latin typeface="Arial"/>
                <a:cs typeface="Simplified Arabic"/>
              </a:rPr>
              <a:t>تُطبَّق في أي وضع بما في ذلك أوضاع النزاعات المسلحة. </a:t>
            </a:r>
            <a:br>
              <a:rPr sz="2000"/>
            </a:br>
            <a:br>
              <a:rPr sz="2000"/>
            </a:br>
            <a:r>
              <a:rPr b="0" lang="ar-JO" sz="2000" spc="-1" strike="noStrike">
                <a:solidFill>
                  <a:srgbClr val="000000"/>
                </a:solidFill>
                <a:latin typeface="Arial"/>
                <a:cs typeface="Simplified Arabic"/>
              </a:rPr>
              <a:t>وكل منهما (القانون الإنساني وحقوق الإنسان) يهدف إلى حماية كرامة الإنسان في جميع الظروف.</a:t>
            </a:r>
            <a:br>
              <a:rPr sz="2000"/>
            </a:b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14:19:21Z</dcterms:created>
  <dc:creator>amorim</dc:creator>
  <dc:description/>
  <dc:language>en-US</dc:language>
  <cp:lastModifiedBy>msafieldin</cp:lastModifiedBy>
  <dcterms:modified xsi:type="dcterms:W3CDTF">2008-07-03T23:21:16Z</dcterms:modified>
  <cp:revision>594</cp:revision>
  <dc:subject/>
  <dc:title>Slide 1</dc:title>
</cp:coreProperties>
</file>